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6.gif" ContentType="image/gif"/>
  <Override PartName="/ppt/media/image24.wmf" ContentType="image/x-wmf"/>
  <Override PartName="/ppt/media/image28.gif" ContentType="image/gif"/>
  <Override PartName="/ppt/media/image21.wmf" ContentType="image/x-wmf"/>
  <Override PartName="/ppt/media/image19.gif" ContentType="image/gif"/>
  <Override PartName="/ppt/media/image15.wmf" ContentType="image/x-wmf"/>
  <Override PartName="/ppt/media/image18.gif" ContentType="image/gif"/>
  <Override PartName="/ppt/media/image16.wmf" ContentType="image/x-wmf"/>
  <Override PartName="/ppt/media/image14.gif" ContentType="image/gif"/>
  <Override PartName="/ppt/media/image1.jpeg" ContentType="image/jpeg"/>
  <Override PartName="/ppt/media/image25.wmf" ContentType="image/x-wmf"/>
  <Override PartName="/ppt/media/image29.gif" ContentType="image/gif"/>
  <Override PartName="/ppt/media/image36.jpeg" ContentType="image/jpeg"/>
  <Override PartName="/ppt/media/image9.jpeg" ContentType="image/jpeg"/>
  <Override PartName="/ppt/media/image23.wmf" ContentType="image/x-wmf"/>
  <Override PartName="/ppt/media/image12.wmf" ContentType="image/x-wmf"/>
  <Override PartName="/ppt/media/image30.wmf" ContentType="image/x-wmf"/>
  <Override PartName="/ppt/media/image33.wmf" ContentType="image/x-wmf"/>
  <Override PartName="/ppt/media/image11.jpeg" ContentType="image/jpeg"/>
  <Override PartName="/ppt/media/image31.gif" ContentType="image/gif"/>
  <Override PartName="/ppt/media/image17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7.jpeg" ContentType="image/jpeg"/>
  <Override PartName="/ppt/media/image3.jpeg" ContentType="image/jpeg"/>
  <Override PartName="/ppt/media/image41.png" ContentType="image/png"/>
  <Override PartName="/ppt/media/image39.png" ContentType="image/png"/>
  <Override PartName="/ppt/media/image43.jpeg" ContentType="image/jpeg"/>
  <Override PartName="/ppt/media/image44.wmf" ContentType="image/x-wmf"/>
  <Override PartName="/ppt/media/image38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5.jpeg" ContentType="image/jpeg"/>
  <Override PartName="/ppt/media/image20.wmf" ContentType="image/x-wmf"/>
  <Override PartName="/ppt/media/image13.gif" ContentType="image/gif"/>
  <Override PartName="/ppt/media/image40.png" ContentType="image/png"/>
  <Override PartName="/ppt/media/image4.jpeg" ContentType="image/jpeg"/>
  <Override PartName="/ppt/media/image22.gif" ContentType="image/gif"/>
  <Override PartName="/ppt/media/image2.wmf" ContentType="image/x-wmf"/>
  <Override PartName="/ppt/media/image6.gif" ContentType="image/gif"/>
  <Override PartName="/ppt/media/image3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B2DD-CAFD-490E-B41A-07294D562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3C4A-9A05-4DD4-8CD9-42D3132B4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B884-66E9-4B23-A31D-614D6BCCA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1AA5-CD22-45DB-B881-A52A526FA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C7CB9-2B99-49F3-A395-973679AF7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D37FF-0850-4405-AA52-4AB8C2F17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832C1-8307-4FCF-9D4E-AE4FCBB3D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37047-B88B-4937-9EC6-250F18187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54D5C-0D99-4B95-BC94-2269D2E5B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04E6F-D8AF-40F4-826D-597BEC710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76893-3500-4724-AD2C-A8014BE0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D46A-5455-4290-8B86-399CE523B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31D7C-19A1-43E7-9CE6-1DF3F13E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95DC6-AB92-4F4B-8B77-D1DF6B14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DF624-3B37-44D7-A9EE-0840C36AE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9F9A3-673B-4CD0-B94D-F74256FE7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2273C-B115-4359-87B8-36BD0C5EE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8160-585B-4399-BF9A-B3452F800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E939-5443-4D96-B686-E5552B4DE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1705-A122-4912-909F-9957D2988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F076-61E2-469C-A6F7-65CD1B4CA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2E6A-63D4-4915-B913-75CD598F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0E0E-B454-49E4-9709-BB773D6F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5C41-8CB5-430D-8BCF-A5160274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65CD6-BF78-48D3-928F-FC7723C322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FFC4B-93FE-482A-A1D7-D920FE1E05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image" Target="../media/image30.wmf"/><Relationship Id="rId5" Type="http://schemas.openxmlformats.org/officeDocument/2006/relationships/image" Target="../media/image31.gif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gif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500" spc="-1" strike="noStrike">
                <a:solidFill>
                  <a:srgbClr val="336666"/>
                </a:solidFill>
                <a:latin typeface="Arial Black"/>
              </a:rPr>
              <a:t>ФИЗИКА</a:t>
            </a:r>
            <a:endParaRPr b="0" i="1" lang="en-US" sz="55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9880" y="5715000"/>
            <a:ext cx="5029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наука о природе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286000" y="1752480"/>
            <a:ext cx="44704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Атомные явления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Взрывы атомных бомб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Работа атомных реакторов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Процессы, происходящие внутри звезд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943600" y="3962520"/>
            <a:ext cx="244800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Главная задача физик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2120" y="1979640"/>
            <a:ext cx="7696080" cy="30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Открыть законы, которые связывают между собой различные физические явления, происходящие в природе, найти связь и причины явлений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248520" y="3809880"/>
            <a:ext cx="2325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Подумай!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Если выпустить из рук тяжелый предмет, то…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Если цветок не поливать, то…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Если сверкнула молния, то…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 rot="21367800">
            <a:off x="228600" y="914400"/>
            <a:ext cx="677880" cy="3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Физические термины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2120" y="2801520"/>
            <a:ext cx="7696080" cy="31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 u="sng">
                <a:solidFill>
                  <a:srgbClr val="99cc00"/>
                </a:solidFill>
                <a:uFillTx/>
                <a:latin typeface="Arial"/>
                <a:hlinkClick r:id="rId1" action="ppaction://hlinksldjump"/>
              </a:rPr>
              <a:t>Физическое тело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2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Материя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Физическое тело – 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предметы, которые нас окружают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886200" y="4572000"/>
            <a:ext cx="1905120" cy="12794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6095880" y="2209680"/>
            <a:ext cx="2038320" cy="13543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304920" y="533520"/>
            <a:ext cx="912600" cy="12762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1523880" y="2133720"/>
            <a:ext cx="1136880" cy="16254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 flipH="1">
            <a:off x="1371600" y="4724280"/>
            <a:ext cx="1944720" cy="1305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6172200" y="4724280"/>
            <a:ext cx="2209680" cy="12859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7"/>
          <a:stretch/>
        </p:blipFill>
        <p:spPr>
          <a:xfrm flipH="1">
            <a:off x="3809520" y="2362320"/>
            <a:ext cx="908280" cy="99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0"/>
                            </p:stCondLst>
                            <p:childTnLst>
                              <p:par>
                                <p:cTn id="19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Материя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Вещество – то из чего состоит физическое тело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Поле – особый вид материи, который обнаруживается по его действию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Как ученые изучают физические явления?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02920" y="2665080"/>
            <a:ext cx="70549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Наблюдения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Опыты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705720" y="2133720"/>
            <a:ext cx="2074680" cy="19396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733920" y="3429000"/>
            <a:ext cx="24112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НАБЛЮДЕНИЯ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1741320" cy="19512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2438280" y="2133720"/>
            <a:ext cx="1509840" cy="22096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517680" y="41148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Аристо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03320" y="4419720"/>
            <a:ext cx="12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Архим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106600" y="4876920"/>
            <a:ext cx="8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Гер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070040" y="548640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Птолем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4572000" y="2209680"/>
            <a:ext cx="1758960" cy="21891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6705720" y="2895480"/>
            <a:ext cx="18810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ОПЫТЫ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934320" y="1905120"/>
            <a:ext cx="1942920" cy="20984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33520" y="1981080"/>
            <a:ext cx="1866960" cy="19512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2666880" y="1905120"/>
            <a:ext cx="1832040" cy="20937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rcRect l="2630" t="1798" r="4606" b="3463"/>
          <a:stretch/>
        </p:blipFill>
        <p:spPr>
          <a:xfrm>
            <a:off x="4876920" y="2057400"/>
            <a:ext cx="1758960" cy="21337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12000" y="457200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Рене Дека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24560" y="44956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Блез Паска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65400" y="4495680"/>
            <a:ext cx="19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Эванджели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Торричел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102800" y="4572000"/>
            <a:ext cx="168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Галиле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мы можем видеть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происходят по желанию человек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происходят в природе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38520" y="330120"/>
            <a:ext cx="673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66"/>
                </a:solidFill>
                <a:latin typeface="Tahoma"/>
              </a:rPr>
              <a:t>Физические явления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66"/>
                </a:solidFill>
                <a:latin typeface="Tahoma"/>
              </a:rPr>
              <a:t>это изменения, котор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876920" y="2895480"/>
            <a:ext cx="3309840" cy="3129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3628800" cy="28180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rcRect l="0" t="27292" r="0" b="7094"/>
          <a:stretch/>
        </p:blipFill>
        <p:spPr>
          <a:xfrm>
            <a:off x="990720" y="3276720"/>
            <a:ext cx="3076560" cy="32004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rcRect l="11599" t="0" r="10323" b="12894"/>
          <a:stretch/>
        </p:blipFill>
        <p:spPr>
          <a:xfrm>
            <a:off x="2133720" y="3733920"/>
            <a:ext cx="4343400" cy="26748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 flipH="1">
            <a:off x="6019560" y="8380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2590920" y="457200"/>
            <a:ext cx="350496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xit" presetID="22" presetSubtype="8">
                                  <p:stCondLst>
                                    <p:cond delay="20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22" presetSubtype="2">
                                  <p:stCondLst>
                                    <p:cond delay="20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80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" nodeType="afterEffect" fill="hold" presetClass="exit" presetID="22" presetSubtype="8">
                                  <p:stCondLst>
                                    <p:cond delay="20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22" presetSubtype="2">
                                  <p:stCondLst>
                                    <p:cond delay="20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0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800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1000"/>
                            </p:stCondLst>
                            <p:childTnLst>
                              <p:par>
                                <p:cTn id="40" nodeType="afterEffect" fill="hold" presetClass="exit" presetID="2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1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4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6666"/>
                </a:solidFill>
                <a:latin typeface="Arial Black"/>
              </a:rPr>
              <a:t>Что из перечисленного является физическим телом ?</a:t>
            </a:r>
            <a:endParaRPr b="0" lang="en-US" sz="25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Тетрадь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Воздух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Бумаг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Вода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Какое из слов обозначает вещество?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Капля воды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Земля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Железо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Айсберг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Домашнее задание.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§ 1 – 3, ответить на вопросы в конце параграфов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Написать сочинение «Зачем нужно изучать физику»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781680" y="3967200"/>
            <a:ext cx="1903680" cy="18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Физические явления – </a:t>
            </a:r>
            <a:r>
              <a:rPr b="0" lang="en-US" sz="1900" spc="-1" strike="noStrike">
                <a:solidFill>
                  <a:srgbClr val="336666"/>
                </a:solidFill>
                <a:latin typeface="Arial Black"/>
              </a:rPr>
              <a:t>изменения, происходящие в природе</a:t>
            </a:r>
            <a:endParaRPr b="0" lang="en-US" sz="19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0" t="10383" r="0" b="7692"/>
          <a:stretch/>
        </p:blipFill>
        <p:spPr>
          <a:xfrm>
            <a:off x="1219320" y="1752480"/>
            <a:ext cx="3440160" cy="2121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648320" y="1752480"/>
            <a:ext cx="3278160" cy="2097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353040" cy="22366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4648320" y="3886200"/>
            <a:ext cx="327636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6000"/>
                            </p:stCondLst>
                            <p:childTnLst>
                              <p:par>
                                <p:cTn id="7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Физические явления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99cc00"/>
                </a:solidFill>
                <a:uFillTx/>
                <a:latin typeface="Arial"/>
                <a:hlinkClick r:id="rId1" action="ppaction://hlinksldjump"/>
              </a:rPr>
              <a:t>Механические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99cc00"/>
                </a:solidFill>
                <a:uFillTx/>
                <a:latin typeface="Arial"/>
                <a:hlinkClick r:id="rId2" action="ppaction://hlinksldjump"/>
              </a:rPr>
              <a:t>Электрические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99cc00"/>
                </a:solidFill>
                <a:uFillTx/>
                <a:latin typeface="Arial"/>
                <a:hlinkClick r:id="rId3" action="ppaction://hlinksldjump"/>
              </a:rPr>
              <a:t>Магнитные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99cc00"/>
                </a:solidFill>
                <a:uFillTx/>
                <a:latin typeface="Arial"/>
                <a:hlinkClick r:id="rId4" action="ppaction://hlinksldjump"/>
              </a:rPr>
              <a:t>Оптические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99cc00"/>
                </a:solidFill>
                <a:uFillTx/>
                <a:latin typeface="Arial"/>
                <a:hlinkClick r:id="rId5" action="ppaction://hlinksldjump"/>
              </a:rPr>
              <a:t>Тепловые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99cc00"/>
                </a:solidFill>
                <a:uFillTx/>
                <a:latin typeface="Arial"/>
                <a:hlinkClick r:id="rId6" action="ppaction://hlinksldjump"/>
              </a:rPr>
              <a:t>Атомные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000"/>
                            </p:stCondLst>
                            <p:childTnLst>
                              <p:par>
                                <p:cTn id="9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6000"/>
                            </p:stCondLst>
                            <p:childTnLst>
                              <p:par>
                                <p:cTn id="9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8000"/>
                            </p:stCondLst>
                            <p:childTnLst>
                              <p:par>
                                <p:cTn id="10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Механические явления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Движение самолетов и автомобилей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Обращение Земли вокруг Солнца и спутников вокруг Земли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Качание маятник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400800" y="3352680"/>
            <a:ext cx="2503440" cy="2600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362320" y="4648320"/>
            <a:ext cx="2209680" cy="11206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9528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Электрические явления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Электрический ток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Притяжение и отталкивание наэлектризованных тел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257800" y="2590920"/>
            <a:ext cx="3538440" cy="33447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60948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Магнитные явления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Действие магнитов на железо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Влияние Земли на стрелку компас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Магнитное взаимодействие токов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 flipH="1" rot="2869800">
            <a:off x="442800" y="4281120"/>
            <a:ext cx="1295640" cy="12668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257800" y="3865680"/>
            <a:ext cx="304812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Оптические явления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Распространение света в различных средах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Отражение света от зеркал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Свечение различных источников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504720" cy="12189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019920" y="3733920"/>
            <a:ext cx="2895480" cy="2286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733920" y="4419720"/>
            <a:ext cx="1681200" cy="1224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533520" y="4038480"/>
            <a:ext cx="227304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24444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Тепловые явления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5130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Таяние льд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Кипение воды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Образование снег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Действие электронагревательных приборов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695160" cy="13618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62680" y="3581280"/>
            <a:ext cx="193536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w</cp:lastModifiedBy>
  <dcterms:modified xsi:type="dcterms:W3CDTF">2009-10-31T16:51:05Z</dcterms:modified>
  <cp:revision>6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