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6.gif" ContentType="image/gif"/>
  <Override PartName="/ppt/media/image24.wmf" ContentType="image/x-wmf"/>
  <Override PartName="/ppt/media/image28.gif" ContentType="image/gif"/>
  <Override PartName="/ppt/media/image21.wmf" ContentType="image/x-wmf"/>
  <Override PartName="/ppt/media/image19.gif" ContentType="image/gif"/>
  <Override PartName="/ppt/media/image15.wmf" ContentType="image/x-wmf"/>
  <Override PartName="/ppt/media/image18.gif" ContentType="image/gif"/>
  <Override PartName="/ppt/media/image16.wmf" ContentType="image/x-wmf"/>
  <Override PartName="/ppt/media/image14.gif" ContentType="image/gif"/>
  <Override PartName="/ppt/media/image1.jpeg" ContentType="image/jpeg"/>
  <Override PartName="/ppt/media/image25.wmf" ContentType="image/x-wmf"/>
  <Override PartName="/ppt/media/image29.gif" ContentType="image/gif"/>
  <Override PartName="/ppt/media/image36.jpeg" ContentType="image/jpeg"/>
  <Override PartName="/ppt/media/image9.jpeg" ContentType="image/jpeg"/>
  <Override PartName="/ppt/media/image23.wmf" ContentType="image/x-wmf"/>
  <Override PartName="/ppt/media/image12.wmf" ContentType="image/x-wmf"/>
  <Override PartName="/ppt/media/image30.wmf" ContentType="image/x-wmf"/>
  <Override PartName="/ppt/media/image33.wmf" ContentType="image/x-wmf"/>
  <Override PartName="/ppt/media/image11.jpeg" ContentType="image/jpeg"/>
  <Override PartName="/ppt/media/image31.gif" ContentType="image/gif"/>
  <Override PartName="/ppt/media/image17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7.jpeg" ContentType="image/jpeg"/>
  <Override PartName="/ppt/media/image3.jpeg" ContentType="image/jpeg"/>
  <Override PartName="/ppt/media/image41.png" ContentType="image/png"/>
  <Override PartName="/ppt/media/image39.png" ContentType="image/png"/>
  <Override PartName="/ppt/media/image43.jpeg" ContentType="image/jpeg"/>
  <Override PartName="/ppt/media/image44.wmf" ContentType="image/x-wmf"/>
  <Override PartName="/ppt/media/image38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5.jpeg" ContentType="image/jpeg"/>
  <Override PartName="/ppt/media/image20.wmf" ContentType="image/x-wmf"/>
  <Override PartName="/ppt/media/image13.gif" ContentType="image/gif"/>
  <Override PartName="/ppt/media/image40.png" ContentType="image/png"/>
  <Override PartName="/ppt/media/image4.jpeg" ContentType="image/jpeg"/>
  <Override PartName="/ppt/media/image22.gif" ContentType="image/gif"/>
  <Override PartName="/ppt/media/image2.wmf" ContentType="image/x-wmf"/>
  <Override PartName="/ppt/media/image6.gif" ContentType="image/gif"/>
  <Override PartName="/ppt/media/image3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2737-0A59-4D0B-9B1C-070806BC1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62FF-A983-43D6-B4B8-C1144ACC6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3C03-33FB-4FC8-8004-8F8AE04F8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26B1-726D-4BA3-9BA6-30EE5ED48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5B1E1-3FE1-4234-868A-A0D2C9F74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7596E-9986-401A-9756-07B32E3DA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D754B-5E19-4177-8B12-D9199324D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0BF3F-6456-49CF-BCD4-55EA9B832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9B33F-D9A2-4139-95E0-002C1AE5E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F9395-D257-4F4D-A89D-C4B406EDA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211DA-60D8-4C12-A9A8-B0E67911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C635-6462-465E-ACA9-FBB68E283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3F121-D7ED-4A03-887F-82FBA7FF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10A5E-0DC8-4285-8236-098D3191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C9ACF-F3A5-44B5-8226-3497F0D1D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E776E-9719-44B2-94D7-EFF88E301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984CD-6315-4EC6-A1C8-D4BDFFF38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50BE-6F32-4699-B3C4-9BF53C740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344D-80A6-4E81-B69F-257E7DF81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63C3-087E-4ECF-BD3E-C9CF04045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6196-ED41-4E1C-9984-C435CF71C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9493-B86A-4AE0-9351-0A7153FF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CE68-0274-48F5-A9A0-2E30799B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F8CC-D36B-4EC3-BA62-46A6C775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9AD66-87EA-47B7-AAD2-92AD12D021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144E6-C17F-4E22-8F9C-AACAE1EBE9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image" Target="../media/image30.wmf"/><Relationship Id="rId5" Type="http://schemas.openxmlformats.org/officeDocument/2006/relationships/image" Target="../media/image31.gif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gif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500" spc="-1" strike="noStrike">
                <a:solidFill>
                  <a:srgbClr val="336666"/>
                </a:solidFill>
                <a:latin typeface="Arial Black"/>
              </a:rPr>
              <a:t>ФИЗИКА</a:t>
            </a:r>
            <a:endParaRPr b="0" i="1" lang="en-US" sz="55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9880" y="5715000"/>
            <a:ext cx="5029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наука о природе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286000" y="1752480"/>
            <a:ext cx="44704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Атомные явления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Взрывы атомных бомб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Работа атомных реакторов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Процессы, происходящие внутри звезд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943600" y="3962520"/>
            <a:ext cx="244800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Главная задача физик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2120" y="1979640"/>
            <a:ext cx="7696080" cy="30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Открыть законы, которые связывают между собой различные физические явления, происходящие в природе, найти связь и причины явлений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248520" y="3809880"/>
            <a:ext cx="2325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Подумай!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Если выпустить из рук тяжелый предмет, то…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Если цветок не поливать, то…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Если сверкнула молния, то…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 rot="21367800">
            <a:off x="228600" y="914400"/>
            <a:ext cx="677880" cy="3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Физические термины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2120" y="2801520"/>
            <a:ext cx="7696080" cy="31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 u="sng">
                <a:solidFill>
                  <a:srgbClr val="99cc00"/>
                </a:solidFill>
                <a:uFillTx/>
                <a:latin typeface="Arial"/>
                <a:hlinkClick r:id="rId1" action="ppaction://hlinksldjump"/>
              </a:rPr>
              <a:t>Физическое тело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2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Материя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Физическое тело – 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предметы, которые нас окружают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886200" y="4572000"/>
            <a:ext cx="1905120" cy="12794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6095880" y="2209680"/>
            <a:ext cx="2038320" cy="13543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304920" y="533520"/>
            <a:ext cx="912600" cy="12762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1523880" y="2133720"/>
            <a:ext cx="1136880" cy="16254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 flipH="1">
            <a:off x="1371600" y="4724280"/>
            <a:ext cx="1944720" cy="1305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6172200" y="4724280"/>
            <a:ext cx="2209680" cy="12859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7"/>
          <a:stretch/>
        </p:blipFill>
        <p:spPr>
          <a:xfrm flipH="1">
            <a:off x="3809520" y="2362320"/>
            <a:ext cx="908280" cy="99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0"/>
                            </p:stCondLst>
                            <p:childTnLst>
                              <p:par>
                                <p:cTn id="19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Материя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Вещество – то из чего состоит физическое тело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Поле – особый вид материи, который обнаруживается по его действию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Как ученые изучают физические явления?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02920" y="2665080"/>
            <a:ext cx="70549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Наблюдения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Опыты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705720" y="2133720"/>
            <a:ext cx="2074680" cy="19396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733920" y="3429000"/>
            <a:ext cx="24112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НАБЛЮДЕНИЯ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1741320" cy="19512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2438280" y="2133720"/>
            <a:ext cx="1509840" cy="22096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517680" y="41148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Аристо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03320" y="4419720"/>
            <a:ext cx="12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Архим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106600" y="4876920"/>
            <a:ext cx="8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Гер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070040" y="548640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Птолем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4572000" y="2209680"/>
            <a:ext cx="1758960" cy="21891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6705720" y="2895480"/>
            <a:ext cx="18810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ОПЫТЫ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934320" y="1905120"/>
            <a:ext cx="1942920" cy="20984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33520" y="1981080"/>
            <a:ext cx="1866960" cy="19512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2666880" y="1905120"/>
            <a:ext cx="1832040" cy="20937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rcRect l="2630" t="1798" r="4606" b="3463"/>
          <a:stretch/>
        </p:blipFill>
        <p:spPr>
          <a:xfrm>
            <a:off x="4876920" y="2057400"/>
            <a:ext cx="1758960" cy="21337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12000" y="457200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Рене Дека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24560" y="44956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Блез Паска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65400" y="4495680"/>
            <a:ext cx="19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Эванджели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Торричел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102800" y="4572000"/>
            <a:ext cx="168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Галиле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мы можем видеть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происходят по желанию человек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происходят в природе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38520" y="330120"/>
            <a:ext cx="673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66"/>
                </a:solidFill>
                <a:latin typeface="Tahoma"/>
              </a:rPr>
              <a:t>Физические явления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66"/>
                </a:solidFill>
                <a:latin typeface="Tahoma"/>
              </a:rPr>
              <a:t>это изменения, котор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876920" y="2895480"/>
            <a:ext cx="3309840" cy="3129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3628800" cy="28180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rcRect l="0" t="27292" r="0" b="7094"/>
          <a:stretch/>
        </p:blipFill>
        <p:spPr>
          <a:xfrm>
            <a:off x="990720" y="3276720"/>
            <a:ext cx="3076560" cy="32004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rcRect l="11599" t="0" r="10323" b="12894"/>
          <a:stretch/>
        </p:blipFill>
        <p:spPr>
          <a:xfrm>
            <a:off x="2133720" y="3733920"/>
            <a:ext cx="4343400" cy="26748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 flipH="1">
            <a:off x="6019560" y="8380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2590920" y="457200"/>
            <a:ext cx="350496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xit" presetID="22" presetSubtype="8">
                                  <p:stCondLst>
                                    <p:cond delay="20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22" presetSubtype="2">
                                  <p:stCondLst>
                                    <p:cond delay="20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80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" nodeType="afterEffect" fill="hold" presetClass="exit" presetID="22" presetSubtype="8">
                                  <p:stCondLst>
                                    <p:cond delay="20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22" presetSubtype="2">
                                  <p:stCondLst>
                                    <p:cond delay="20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0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800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1000"/>
                            </p:stCondLst>
                            <p:childTnLst>
                              <p:par>
                                <p:cTn id="40" nodeType="afterEffect" fill="hold" presetClass="exit" presetID="2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1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4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6666"/>
                </a:solidFill>
                <a:latin typeface="Arial Black"/>
              </a:rPr>
              <a:t>Что из перечисленного является физическим телом ?</a:t>
            </a:r>
            <a:endParaRPr b="0" lang="en-US" sz="25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Тетрадь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Воздух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Бумаг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Вода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Какое из слов обозначает вещество?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Капля воды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Земля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Железо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Айсберг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Домашнее задание.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§ 1 – 3, ответить на вопросы в конце параграфов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Написать сочинение «Зачем нужно изучать физику»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781680" y="3967200"/>
            <a:ext cx="1903680" cy="18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Физические явления – </a:t>
            </a:r>
            <a:r>
              <a:rPr b="0" lang="en-US" sz="1900" spc="-1" strike="noStrike">
                <a:solidFill>
                  <a:srgbClr val="336666"/>
                </a:solidFill>
                <a:latin typeface="Arial Black"/>
              </a:rPr>
              <a:t>изменения, происходящие в природе</a:t>
            </a:r>
            <a:endParaRPr b="0" lang="en-US" sz="19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0" t="10383" r="0" b="7692"/>
          <a:stretch/>
        </p:blipFill>
        <p:spPr>
          <a:xfrm>
            <a:off x="1219320" y="1752480"/>
            <a:ext cx="3440160" cy="2121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648320" y="1752480"/>
            <a:ext cx="3278160" cy="2097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353040" cy="22366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4648320" y="3886200"/>
            <a:ext cx="327636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6000"/>
                            </p:stCondLst>
                            <p:childTnLst>
                              <p:par>
                                <p:cTn id="7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Физические явления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99cc00"/>
                </a:solidFill>
                <a:uFillTx/>
                <a:latin typeface="Arial"/>
                <a:hlinkClick r:id="rId1" action="ppaction://hlinksldjump"/>
              </a:rPr>
              <a:t>Механические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99cc00"/>
                </a:solidFill>
                <a:uFillTx/>
                <a:latin typeface="Arial"/>
                <a:hlinkClick r:id="rId2" action="ppaction://hlinksldjump"/>
              </a:rPr>
              <a:t>Электрические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99cc00"/>
                </a:solidFill>
                <a:uFillTx/>
                <a:latin typeface="Arial"/>
                <a:hlinkClick r:id="rId3" action="ppaction://hlinksldjump"/>
              </a:rPr>
              <a:t>Магнитные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99cc00"/>
                </a:solidFill>
                <a:uFillTx/>
                <a:latin typeface="Arial"/>
                <a:hlinkClick r:id="rId4" action="ppaction://hlinksldjump"/>
              </a:rPr>
              <a:t>Оптические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99cc00"/>
                </a:solidFill>
                <a:uFillTx/>
                <a:latin typeface="Arial"/>
                <a:hlinkClick r:id="rId5" action="ppaction://hlinksldjump"/>
              </a:rPr>
              <a:t>Тепловые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99cc00"/>
                </a:solidFill>
                <a:uFillTx/>
                <a:latin typeface="Arial"/>
                <a:hlinkClick r:id="rId6" action="ppaction://hlinksldjump"/>
              </a:rPr>
              <a:t>Атомные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000"/>
                            </p:stCondLst>
                            <p:childTnLst>
                              <p:par>
                                <p:cTn id="9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6000"/>
                            </p:stCondLst>
                            <p:childTnLst>
                              <p:par>
                                <p:cTn id="9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8000"/>
                            </p:stCondLst>
                            <p:childTnLst>
                              <p:par>
                                <p:cTn id="10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Механические явления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Движение самолетов и автомобилей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Обращение Земли вокруг Солнца и спутников вокруг Земли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Качание маятник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400800" y="3352680"/>
            <a:ext cx="2503440" cy="2600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362320" y="4648320"/>
            <a:ext cx="2209680" cy="11206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9528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Электрические явления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Электрический ток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Притяжение и отталкивание наэлектризованных тел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257800" y="2590920"/>
            <a:ext cx="3538440" cy="33447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60948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Магнитные явления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Действие магнитов на железо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Влияние Земли на стрелку компас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Магнитное взаимодействие токов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 flipH="1" rot="2869800">
            <a:off x="442800" y="4281120"/>
            <a:ext cx="1295640" cy="12668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257800" y="3865680"/>
            <a:ext cx="304812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Оптические явления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Распространение света в различных средах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Отражение света от зеркал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Свечение различных источников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504720" cy="12189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019920" y="3733920"/>
            <a:ext cx="2895480" cy="2286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733920" y="4419720"/>
            <a:ext cx="1681200" cy="1224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533520" y="4038480"/>
            <a:ext cx="227304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24444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Тепловые явления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5130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Таяние льд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Кипение воды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Образование снег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Действие электронагревательных приборов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695160" cy="13618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62680" y="3581280"/>
            <a:ext cx="193536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w</cp:lastModifiedBy>
  <dcterms:modified xsi:type="dcterms:W3CDTF">2009-10-31T16:51:05Z</dcterms:modified>
  <cp:revision>6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