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4.wmf" ContentType="image/x-wmf"/>
  <Override PartName="/ppt/media/image28.gif" ContentType="image/gif"/>
  <Override PartName="/ppt/media/image21.wmf" ContentType="image/x-wmf"/>
  <Override PartName="/ppt/media/image19.gif" ContentType="image/gif"/>
  <Override PartName="/ppt/media/image15.wmf" ContentType="image/x-wmf"/>
  <Override PartName="/ppt/media/image18.gif" ContentType="image/gif"/>
  <Override PartName="/ppt/media/image16.wmf" ContentType="image/x-wmf"/>
  <Override PartName="/ppt/media/image14.gif" ContentType="image/gif"/>
  <Override PartName="/ppt/media/image1.jpeg" ContentType="image/jpeg"/>
  <Override PartName="/ppt/media/image25.wmf" ContentType="image/x-wmf"/>
  <Override PartName="/ppt/media/image29.gif" ContentType="image/gif"/>
  <Override PartName="/ppt/media/image36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30.wmf" ContentType="image/x-wmf"/>
  <Override PartName="/ppt/media/image33.wmf" ContentType="image/x-wmf"/>
  <Override PartName="/ppt/media/image11.jpeg" ContentType="image/jpeg"/>
  <Override PartName="/ppt/media/image31.gif" ContentType="image/gif"/>
  <Override PartName="/ppt/media/image17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7.jpeg" ContentType="image/jpeg"/>
  <Override PartName="/ppt/media/image3.jpeg" ContentType="image/jpeg"/>
  <Override PartName="/ppt/media/image41.png" ContentType="image/png"/>
  <Override PartName="/ppt/media/image39.png" ContentType="image/png"/>
  <Override PartName="/ppt/media/image43.jpeg" ContentType="image/jpeg"/>
  <Override PartName="/ppt/media/image44.wmf" ContentType="image/x-wmf"/>
  <Override PartName="/ppt/media/image38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20.wmf" ContentType="image/x-wmf"/>
  <Override PartName="/ppt/media/image13.gif" ContentType="image/gif"/>
  <Override PartName="/ppt/media/image40.png" ContentType="image/png"/>
  <Override PartName="/ppt/media/image4.jpeg" ContentType="image/jpeg"/>
  <Override PartName="/ppt/media/image22.gif" ContentType="image/gif"/>
  <Override PartName="/ppt/media/image2.wmf" ContentType="image/x-wmf"/>
  <Override PartName="/ppt/media/image6.gif" ContentType="image/gif"/>
  <Override PartName="/ppt/media/image3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468-21BC-4B4C-8AFB-82C9700E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C09-C296-48EC-B304-522EBFC6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D7E-82AE-4CE1-8D88-EA95DA4C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D8E-F0CE-4271-AE2E-40C52F0D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C3B0-B14B-4095-B733-A2FF8C23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9C5B-0793-411D-B890-4F11C12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FF1-D6F5-47A5-A40B-A729C1D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4FC9-1458-4042-B423-F02891D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3C72-C903-4BE0-94D4-2E873898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435D-03EF-47D7-AFAE-767146E3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02F5-E3A1-419C-841F-61A887B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A2F-9FCF-4E6A-9274-5A8E5750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DA5-ED9E-402E-B34D-3EF4FDC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8B98-B1A4-4EE1-8781-6D29B507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5171-C9D6-4AF7-913C-A3414616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6B1D-CFDE-46FD-A984-0BF916DD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A83D-368A-4A7E-BBEA-EEEC79BA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846-0F5A-4BD2-8E3C-AFD38F8C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F97-B559-423B-9465-93779DC8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5EF-2F1D-404E-9C7A-02FE3CD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DC2-5F79-4650-BA06-FDE1BEF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96E-FEE3-44F9-BA38-407B9CE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289-B60C-4C77-AD80-5817480A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A17-BC9F-4FCA-A8BA-9132931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E2B-AE36-4B94-9E25-A36C92A2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44F3-1901-46AD-9728-8FD3F0751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gi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336666"/>
                </a:solidFill>
                <a:latin typeface="Arial Black"/>
              </a:rPr>
              <a:t>ФИЗИКА</a:t>
            </a:r>
            <a:endParaRPr b="0" i="1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ука о природ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175248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Атом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зрывы атомных бом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бота атомных реакт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цессы, происходящие внутри звез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448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Главная задача физи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79640"/>
            <a:ext cx="7696080" cy="30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крыть законы, которые связывают между собой различные физические явления, происходящие в природе, найти связь и причины явлени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325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одумай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выпустить из рук тяжелый предмет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цветок не поливать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Если сверкнула молния, то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1367800">
            <a:off x="228600" y="914400"/>
            <a:ext cx="6778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801520"/>
            <a:ext cx="769608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Физическое тело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Матер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ое тело –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предметы, которые нас окружают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86200" y="457200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095880" y="2209680"/>
            <a:ext cx="2038320" cy="1354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533520"/>
            <a:ext cx="91260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523880" y="2133720"/>
            <a:ext cx="1136880" cy="162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 flipH="1">
            <a:off x="1371600" y="4724280"/>
            <a:ext cx="1944720" cy="1305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220968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 flipH="1">
            <a:off x="3809520" y="2362320"/>
            <a:ext cx="90828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терия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ещество – то из чего состоит физическое тел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ле – особый вид материи, который обнаруживается по его действию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 ученые изучают физические явления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2920" y="2665080"/>
            <a:ext cx="7054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ыт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2074680" cy="1939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33920" y="3429000"/>
            <a:ext cx="2411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НАБЛЮД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741320" cy="195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38280" y="2133720"/>
            <a:ext cx="150984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7680" y="41148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03320" y="4419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6600" y="487692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70040" y="54864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толе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1758960" cy="2189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705720" y="2895480"/>
            <a:ext cx="18810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ЫТ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42920" cy="2098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1866960" cy="1951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832040" cy="2093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rcRect l="2630" t="1798" r="4606" b="3463"/>
          <a:stretch/>
        </p:blipFill>
        <p:spPr>
          <a:xfrm>
            <a:off x="4876920" y="2057400"/>
            <a:ext cx="175896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2000" y="45720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ене Де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24560" y="449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лез Паск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5400" y="44956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вандже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рричел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02800" y="457200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ы можем виде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по желанию челове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исходят в природ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8520" y="33012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Физические явления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Tahoma"/>
              </a:rPr>
              <a:t>это изменения, котор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3309840" cy="3129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628800" cy="281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27292" r="0" b="7094"/>
          <a:stretch/>
        </p:blipFill>
        <p:spPr>
          <a:xfrm>
            <a:off x="990720" y="3276720"/>
            <a:ext cx="307656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rcRect l="11599" t="0" r="10323" b="12894"/>
          <a:stretch/>
        </p:blipFill>
        <p:spPr>
          <a:xfrm>
            <a:off x="2133720" y="3733920"/>
            <a:ext cx="4343400" cy="26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 flipH="1">
            <a:off x="6019560" y="838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590920" y="45720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" nodeType="after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0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6666"/>
                </a:solidFill>
                <a:latin typeface="Arial Black"/>
              </a:rPr>
              <a:t>Что из перечисленного является физическим телом ?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ое из слов обозначает вещество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пля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Айсберг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§ 1 – 3, ответить на вопросы в конце параграф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писать сочинение «Зачем нужно изучать физику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781680" y="3967200"/>
            <a:ext cx="1903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Физические явления – 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изменения, происходящие в природе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0383" r="0" b="7692"/>
          <a:stretch/>
        </p:blipFill>
        <p:spPr>
          <a:xfrm>
            <a:off x="1219320" y="1752480"/>
            <a:ext cx="344016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278160" cy="209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353040" cy="223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648320" y="3886200"/>
            <a:ext cx="327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Физ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1" action="ppaction://hlinksldjump"/>
              </a:rPr>
              <a:t>Механ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2" action="ppaction://hlinksldjump"/>
              </a:rPr>
              <a:t>Электр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3" action="ppaction://hlinksldjump"/>
              </a:rPr>
              <a:t>Магнит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4" action="ppaction://hlinksldjump"/>
              </a:rPr>
              <a:t>Опт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5" action="ppaction://hlinksldjump"/>
              </a:rPr>
              <a:t>Теплов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cc00"/>
                </a:solidFill>
                <a:uFillTx/>
                <a:latin typeface="Arial"/>
                <a:hlinkClick r:id="rId6" action="ppaction://hlinksldjump"/>
              </a:rPr>
              <a:t>Атомны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ехан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вижение самолетов и автомобил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щение Земли вокруг Солнца и спутников вокруг Земл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ачание маятн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503440" cy="260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2209680" cy="112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Электр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тяжение и отталкивание наэлектризованных те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38440" cy="334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Магнитн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магнитов на желез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лияние Земли на стрелку компас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Магнитное взаимодействие т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 rot="2869800">
            <a:off x="442800" y="42811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3865680"/>
            <a:ext cx="30481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птически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спространение света в различных сред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ражение света от зерка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вечение различных источн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5047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9920" y="373392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441972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33520" y="4038480"/>
            <a:ext cx="22730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Тепловые явл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13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аяние льд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разование снег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йствие электронагревательных прибор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95160" cy="1361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62680" y="3581280"/>
            <a:ext cx="1935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w</cp:lastModifiedBy>
  <dcterms:modified xsi:type="dcterms:W3CDTF">2009-10-31T16:51:05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