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94C-E6EA-4A3A-92D4-B6119621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55D5-4256-4EBC-BDFF-BCDD9C0B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281C-123B-4140-A6D0-103B6C3B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F121-AF8A-407B-A8E9-51043C3E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24C4-8684-4E35-803D-9923AEB7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5D9A-55EA-48F0-87FE-45D2D0FE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E72B-32BE-4195-89D9-74C2A201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14C2-FF98-4405-8C9B-06B16B49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138F-2F62-42B4-9C12-EC26AF64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3874-41E7-4ECB-ADE4-11AE3527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1661-9CA8-4B98-8AA1-83F0A556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395-B037-41E2-B86F-59DF44C3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F1AB-8FA1-4BE3-A3C3-F3241753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0BDC-74AB-4DEA-892D-E251E7B9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E736-B81D-4272-BA90-C4F81CE1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1C6F-37D6-45AA-B10A-1873C9A3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5E6A-C277-4307-A82C-5D90DCE4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604-835C-4817-A8B2-73F15BCB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9408-E0AC-4998-87A9-20B1C265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D41-03A7-464A-B4AE-229A9D14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5AC8-7EDF-400B-BC5E-E4087F20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8B6F-99B3-47D8-97DB-FFCFCA06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CA0-32FF-4722-8D76-0C7D3C26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9EE-B5AA-420D-9D45-BC34595A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AF39-755F-404F-84E1-1F87F273712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2B24-8732-4DF6-A464-C31CBB1A4A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Monotype Corsiva"/>
              </a:rPr>
              <a:t>Тема урока</a:t>
            </a:r>
            <a:br>
              <a:rPr sz="6600"/>
            </a:br>
            <a:r>
              <a:rPr b="0" lang="ru-RU" sz="6600" spc="-1" strike="noStrike">
                <a:solidFill>
                  <a:srgbClr val="ffcc00"/>
                </a:solidFill>
                <a:latin typeface="Monotype Corsiva"/>
              </a:rPr>
              <a:t>Валентность и степень окисления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кла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483920"/>
            <a:ext cx="7621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ите валентность элементов  по структурной форму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сите значение валентности элементов в табли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Валентность              Степень окис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епень окисл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тепень окисления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(с.о.)- это условный заряд, который мог бы возникнуть на атоме при условии, что все общие электронные пары смещены к более электроотрицательному элемент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412920"/>
            <a:ext cx="8385120" cy="113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равнение понятий валентность 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и степень окислени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176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алентность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I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II, I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I, III,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59280" y="2060640"/>
            <a:ext cx="3960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епень окис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+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+2, +4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 ? ? ?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9800" y="-360"/>
            <a:ext cx="75121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равила определения степеней окисле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свободных атомов и у простых вещест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ЕПЕНЬ ОКИСЛЕНИЯ  равна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Металлы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о всех соединениях имею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ПОЛОЖИТЕЛЬНУЮ С.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соединениях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ислород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меет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.О.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кром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,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 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соединениях с неметаллами у водорода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.О.+1,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с металлами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соединениях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сумма всех С.О. равна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0160" y="372600"/>
            <a:ext cx="76392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b7"/>
                </a:solidFill>
                <a:uFillTx/>
                <a:latin typeface="Arial Black"/>
              </a:rPr>
              <a:t>Проверка задания 3 стр.55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 Ва</a:t>
            </a:r>
            <a:r>
              <a:rPr b="1" lang="ru-RU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AI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 К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ff"/>
                </a:solidFill>
                <a:latin typeface="Arial"/>
              </a:rPr>
              <a:t>+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,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+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+3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 baseline="30000">
                <a:solidFill>
                  <a:srgbClr val="0000ff"/>
                </a:solidFill>
                <a:latin typeface="Arial"/>
              </a:rPr>
              <a:t>+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Ba</a:t>
            </a:r>
            <a:r>
              <a:rPr b="1" lang="ru-RU" sz="3600" spc="-1" strike="noStrike" baseline="30000">
                <a:solidFill>
                  <a:srgbClr val="0000ff"/>
                </a:solidFill>
                <a:latin typeface="Arial"/>
              </a:rPr>
              <a:t>+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,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1" lang="ru-RU" sz="3600" spc="-1" strike="noStrike" baseline="30000">
                <a:solidFill>
                  <a:srgbClr val="0000ff"/>
                </a:solidFill>
                <a:latin typeface="Arial"/>
              </a:rPr>
              <a:t>+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S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ru-RU" sz="3600" spc="-1" strike="noStrike" baseline="30000">
                <a:solidFill>
                  <a:srgbClr val="ffcc00"/>
                </a:solidFill>
                <a:latin typeface="Arial"/>
              </a:rPr>
              <a:t>-2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К 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3600" spc="-1" strike="noStrike" baseline="30000">
                <a:solidFill>
                  <a:srgbClr val="ffcc00"/>
                </a:solidFill>
                <a:latin typeface="Arial"/>
              </a:rPr>
              <a:t>-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uSO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600" spc="-1" strike="noStrike" baseline="30000">
                <a:solidFill>
                  <a:srgbClr val="ffcc00"/>
                </a:solidFill>
                <a:latin typeface="Arial"/>
              </a:rPr>
              <a:t>-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aO</a:t>
            </a:r>
            <a:r>
              <a:rPr b="1" lang="ru-RU" sz="3600" spc="-1" strike="noStrike" baseline="30000">
                <a:solidFill>
                  <a:srgbClr val="ffcc00"/>
                </a:solidFill>
                <a:latin typeface="Arial"/>
              </a:rPr>
              <a:t>-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ru-RU" sz="3600" spc="-1" strike="noStrike" baseline="30000">
                <a:solidFill>
                  <a:srgbClr val="ffcc00"/>
                </a:solidFill>
                <a:latin typeface="Arial"/>
              </a:rPr>
              <a:t>-2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+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КН</a:t>
            </a:r>
            <a:r>
              <a:rPr b="1" lang="ru-RU" sz="36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, КОН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+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+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,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+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пределение степени окисления элементов в соединениях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3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х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6000" spc="-1" strike="noStrike" baseline="-25000">
                <a:solidFill>
                  <a:srgbClr val="ffffff"/>
                </a:solidFill>
                <a:latin typeface="Arial"/>
              </a:rPr>
              <a:t> 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(+3)*1 + 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х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 *3  = 0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+3 = - 3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Х = 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3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6000" spc="-1" strike="noStrike" baseline="-25000">
                <a:solidFill>
                  <a:srgbClr val="ffffff"/>
                </a:solidFill>
                <a:latin typeface="Arial"/>
              </a:rPr>
              <a:t> 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чи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. выяснить,  от чего зависит состав сложных веществ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.что необходимо знать, чтобы составить формулы вещест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став сложных веществ зависит от строения атомов, образующих вещества и возможности образовывать различные связ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Чтобы составить формулу вещества надо знать валентность или степень окисления эле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7 стр.86-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№5, №6, №7 стр.55 (тетрадь с печатной осново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* №5 (составить структурные формул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551960" y="1494000"/>
            <a:ext cx="6126840" cy="3170880"/>
            <a:chOff x="1551960" y="1494000"/>
            <a:chExt cx="6126840" cy="3170880"/>
          </a:xfrm>
        </p:grpSpPr>
        <p:cxnSp>
          <p:nvCxnSpPr>
            <p:cNvPr id="101" name="_s7181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554080" y="1773720"/>
              <a:ext cx="229680" cy="21088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7180"/>
            <p:cNvCxnSpPr>
              <a:stCxn id="105" idx="0"/>
              <a:endCxn id="103" idx="2"/>
            </p:cNvCxnSpPr>
            <p:nvPr/>
          </p:nvCxnSpPr>
          <p:spPr>
            <a:xfrm flipV="1" rot="16200000">
              <a:off x="4500360" y="2827440"/>
              <a:ext cx="229680" cy="18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6" name="_s7179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3447000" y="1775520"/>
              <a:ext cx="229680" cy="21060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" name="_s7175"/>
            <p:cNvSpPr/>
            <p:nvPr/>
          </p:nvSpPr>
          <p:spPr>
            <a:xfrm>
              <a:off x="2210040" y="1494000"/>
              <a:ext cx="4808880" cy="1220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66"/>
                  </a:solidFill>
                  <a:latin typeface="Times New Roman"/>
                </a:rPr>
                <a:t>Формы существова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660066"/>
                  </a:solidFill>
                  <a:latin typeface="Times New Roman"/>
                </a:rPr>
                <a:t>химического элемент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_s7176"/>
            <p:cNvSpPr/>
            <p:nvPr/>
          </p:nvSpPr>
          <p:spPr>
            <a:xfrm>
              <a:off x="1551960" y="2943360"/>
              <a:ext cx="1913400" cy="1650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Свободные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атомы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_s7177"/>
            <p:cNvSpPr/>
            <p:nvPr/>
          </p:nvSpPr>
          <p:spPr>
            <a:xfrm>
              <a:off x="3694680" y="2943360"/>
              <a:ext cx="1841400" cy="17215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Просты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вещества</a:t>
              </a:r>
              <a:r>
                <a:rPr b="1" i="1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_s7178"/>
            <p:cNvSpPr/>
            <p:nvPr/>
          </p:nvSpPr>
          <p:spPr>
            <a:xfrm>
              <a:off x="5765400" y="2943360"/>
              <a:ext cx="1913400" cy="1650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Сложны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вещества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9800" y="478080"/>
            <a:ext cx="7637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476360" y="1700280"/>
            <a:ext cx="5640120" cy="3276720"/>
            <a:chOff x="1476360" y="1700280"/>
            <a:chExt cx="5640120" cy="3276720"/>
          </a:xfrm>
        </p:grpSpPr>
        <p:cxnSp>
          <p:nvCxnSpPr>
            <p:cNvPr id="110" name="_s11270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5039280" y="2299680"/>
              <a:ext cx="553320" cy="1848600"/>
            </a:xfrm>
            <a:prstGeom prst="bentConnector3">
              <a:avLst>
                <a:gd name="adj1" fmla="val 206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1"/>
            <p:cNvCxnSpPr/>
            <p:nvPr/>
          </p:nvCxnSpPr>
          <p:spPr>
            <a:xfrm flipH="1" flipV="1" rot="5400000">
              <a:off x="4223160" y="3202560"/>
              <a:ext cx="194400" cy="72000"/>
            </a:xfrm>
            <a:prstGeom prst="bentConnector3">
              <a:avLst>
                <a:gd name="adj1" fmla="val 499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1272"/>
            <p:cNvCxnSpPr>
              <a:stCxn id="115" idx="0"/>
              <a:endCxn id="112" idx="2"/>
            </p:cNvCxnSpPr>
            <p:nvPr/>
          </p:nvCxnSpPr>
          <p:spPr>
            <a:xfrm flipH="1" flipV="1" rot="5400000">
              <a:off x="3090240" y="2198160"/>
              <a:ext cx="553320" cy="2051640"/>
            </a:xfrm>
            <a:prstGeom prst="bentConnector3">
              <a:avLst>
                <a:gd name="adj1" fmla="val 206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3"/>
            <p:cNvSpPr/>
            <p:nvPr/>
          </p:nvSpPr>
          <p:spPr>
            <a:xfrm>
              <a:off x="2195280" y="1700280"/>
              <a:ext cx="4392720" cy="1247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0066"/>
                  </a:solidFill>
                  <a:latin typeface="Times New Roman"/>
                </a:rPr>
                <a:t>Формы существования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660066"/>
                  </a:solidFill>
                  <a:latin typeface="Times New Roman"/>
                </a:rPr>
                <a:t>химического элемента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_s11274"/>
            <p:cNvSpPr/>
            <p:nvPr/>
          </p:nvSpPr>
          <p:spPr>
            <a:xfrm>
              <a:off x="1476360" y="3500640"/>
              <a:ext cx="1728720" cy="14763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660066"/>
                  </a:solidFill>
                  <a:latin typeface="Times New Roman"/>
                </a:rPr>
                <a:t>С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_s11275"/>
            <p:cNvSpPr/>
            <p:nvPr/>
          </p:nvSpPr>
          <p:spPr>
            <a:xfrm>
              <a:off x="3492360" y="3500640"/>
              <a:ext cx="1655640" cy="14763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Алмаз,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графит</a:t>
              </a:r>
              <a:r>
                <a:rPr b="1" i="1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_s11276"/>
            <p:cNvSpPr/>
            <p:nvPr/>
          </p:nvSpPr>
          <p:spPr>
            <a:xfrm>
              <a:off x="5364000" y="3500640"/>
              <a:ext cx="1752480" cy="14763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0066"/>
                  </a:solidFill>
                  <a:latin typeface="Times New Roman"/>
                </a:rPr>
                <a:t>СО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0066"/>
                  </a:solidFill>
                  <a:latin typeface="Times New Roman"/>
                </a:rPr>
                <a:t>СО</a:t>
              </a:r>
              <a:r>
                <a:rPr b="1" lang="ru-RU" sz="3200" spc="-1" strike="noStrike" baseline="-25000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3240" y="652680"/>
            <a:ext cx="763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з атомов мир создавала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Природа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Два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атома лёгких взяла </a:t>
            </a:r>
            <a:r>
              <a:rPr b="1" i="1" lang="ru-RU" sz="4000" spc="-1" strike="noStrike">
                <a:solidFill>
                  <a:srgbClr val="6600cc"/>
                </a:solidFill>
                <a:latin typeface="Arial"/>
              </a:rPr>
              <a:t>водород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ибавила атом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дин кислород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 получилась частица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56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5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Почему такой состав имеет молекула  воды?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чи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. выяснить,  от чего зависит состав сложных веществ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.что необходимо знать, чтобы составить формулы вещест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амостоятельная рабо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ставьт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схемы строения атомов водорода и кислород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схему образования химической связи в молекуле вод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) структурную формулу молекулы 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Как называется способность атомов образовывать связи с другими атома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Какие электроны называются валентны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От чего зависит образование связей в молекулах вещест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связей, в которых атом может принимать участие в молекуле называетс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алент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лентные электроны расположены на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нешне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энергетическом уров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бразовании связей участвуют электроны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нешнего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я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еспаренны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электр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4-25T18:30:08Z</dcterms:modified>
  <cp:revision>27</cp:revision>
  <dc:subject/>
  <dc:title>PowerPoint Presentation</dc:title>
</cp:coreProperties>
</file>