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40C-80DF-47D0-899A-27FFF870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159-493F-453C-A657-7E44E5B3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E41-AB62-46BB-858E-BEF5E4D5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A9E-6862-42C3-ADFB-C3D87557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62AF-4800-463B-85BC-9596DB4D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ED27-BAE1-4B83-B953-83B2F8CF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6376-36DB-41AF-9F4E-B64123A6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C45E-72E4-4CD7-A84A-F95A0C60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5A3F-A9F6-4D58-BE03-01BDD48E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03F1-8859-410C-A12F-A93E0A4F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A5CA-B2C5-4FD4-97DD-27D0D811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BFD-F3F7-4D32-94CB-51E72859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84BD-24EC-4F0A-A061-214337EE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779F-F56F-4A23-9DC3-CC65531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EEC8-783C-45F7-901D-CC8A611D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6D2D-7595-442F-AA55-24AB7239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AE04-E1D9-4606-8F41-8CE9FA2A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37A-D641-4C1A-8F0E-6FC50670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38E-9184-4CEF-9808-C8A3D335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80C-5098-4B2F-93D4-25CCE617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20E-0B80-4641-B11A-4C01644B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B91-3DC8-40CF-B6FD-C1C6F1D7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530-2DAD-4431-BF99-216C573C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46A1-04D2-44BF-95C7-CF60BB2E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3649-1C3E-4A91-B455-21AC6D942C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72BD-A9C2-483C-8848-065FBD21C4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Monotype Corsiva"/>
              </a:rPr>
              <a:t>Тема урока</a:t>
            </a:r>
            <a:br>
              <a:rPr sz="6600"/>
            </a:br>
            <a:r>
              <a:rPr b="0" lang="ru-RU" sz="6600" spc="-1" strike="noStrike">
                <a:solidFill>
                  <a:srgbClr val="ffcc00"/>
                </a:solidFill>
                <a:latin typeface="Monotype Corsiva"/>
              </a:rPr>
              <a:t>Валентность и степень окисления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483920"/>
            <a:ext cx="7621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валентность элементов  по структурной форму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ите значение валентности элементов в табли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алентность              Степень окис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епень окисл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(с.о.)- это условный заряд, который мог бы возникнуть на атоме при условии, что все общие электронные пары смещены к более электроотрицательному элемен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412920"/>
            <a:ext cx="8385120" cy="113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Сравнение понятий валентность 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и степень окислен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417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алентност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II, I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I, III,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59280" y="2060640"/>
            <a:ext cx="3960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епень окис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+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+2, +4</a:t>
            </a: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? ? ? ?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9800" y="-360"/>
            <a:ext cx="75121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авила определения степеней окисле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свободных атомов и у простых вещест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ЕПЕНЬ ОКИСЛЕНИЯ  равна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еталлы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о всех соединениях имею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ПОЛОЖИТЕЛЬНУЮ С.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оединениях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ислоро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меет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.О.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ром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 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оединениях с неметаллами у водород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.О.+1,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с металлами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оединениях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сумма всех С.О. равна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0160" y="372600"/>
            <a:ext cx="76392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Проверка задания 3 стр.55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Ва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AI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К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+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+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Ba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</a:rPr>
              <a:t>+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К 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SO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aO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ru-RU" sz="3600" spc="-1" strike="noStrike" baseline="30000">
                <a:solidFill>
                  <a:srgbClr val="ffcc00"/>
                </a:solidFill>
                <a:latin typeface="Arial"/>
              </a:rPr>
              <a:t>-2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КН</a:t>
            </a:r>
            <a:r>
              <a:rPr b="1" lang="ru-RU" sz="36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, КОН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 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ff0066"/>
                </a:solidFill>
                <a:latin typeface="Arial"/>
              </a:rPr>
              <a:t>-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660066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Определение степени окисления элементов в соединениях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3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х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(+3)*1 + 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х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 *3  = 0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+3 = - 3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Х = 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3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6000" spc="-1" strike="noStrike" baseline="-25000">
                <a:solidFill>
                  <a:srgbClr val="ffffff"/>
                </a:solidFill>
                <a:latin typeface="Arial"/>
              </a:rPr>
              <a:t>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 выяснить,  от чего зависит состав сложных веществ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.что необходимо знать, чтобы составить формулы вещест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став сложных веществ зависит от строения атомов, образующих вещества и возможности образовывать различны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Чтобы составить формулу вещества надо знать валентность или степень окисления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омашнее зад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стр.86-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№5, №6, №7 стр.55 (тетрадь с печатной основ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* №5 (составить структурные формул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551960" y="1494000"/>
            <a:ext cx="6126840" cy="3170880"/>
            <a:chOff x="1551960" y="1494000"/>
            <a:chExt cx="6126840" cy="3170880"/>
          </a:xfrm>
        </p:grpSpPr>
        <p:cxnSp>
          <p:nvCxnSpPr>
            <p:cNvPr id="101" name="_s7181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554080" y="1773720"/>
              <a:ext cx="229680" cy="21088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7180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4500360" y="2827440"/>
              <a:ext cx="229680" cy="18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7179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447000" y="1775520"/>
              <a:ext cx="229680" cy="210600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7175"/>
            <p:cNvSpPr/>
            <p:nvPr/>
          </p:nvSpPr>
          <p:spPr>
            <a:xfrm>
              <a:off x="2210040" y="1494000"/>
              <a:ext cx="4808880" cy="12200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Формы существова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660066"/>
                  </a:solidFill>
                  <a:latin typeface="Times New Roman"/>
                </a:rPr>
                <a:t>химического элемент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_s7176"/>
            <p:cNvSpPr/>
            <p:nvPr/>
          </p:nvSpPr>
          <p:spPr>
            <a:xfrm>
              <a:off x="1551960" y="2943360"/>
              <a:ext cx="1913400" cy="1650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Свободные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атомы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_s7177"/>
            <p:cNvSpPr/>
            <p:nvPr/>
          </p:nvSpPr>
          <p:spPr>
            <a:xfrm>
              <a:off x="3694680" y="2943360"/>
              <a:ext cx="1841400" cy="1721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Просты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вещества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_s7178"/>
            <p:cNvSpPr/>
            <p:nvPr/>
          </p:nvSpPr>
          <p:spPr>
            <a:xfrm>
              <a:off x="5765400" y="2943360"/>
              <a:ext cx="1913400" cy="1650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Сложные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660066"/>
                  </a:solidFill>
                  <a:latin typeface="Times New Roman"/>
                </a:rPr>
                <a:t>вещества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9800" y="478080"/>
            <a:ext cx="7637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76360" y="1700280"/>
            <a:ext cx="5640120" cy="3276720"/>
            <a:chOff x="1476360" y="1700280"/>
            <a:chExt cx="5640120" cy="3276720"/>
          </a:xfrm>
        </p:grpSpPr>
        <p:cxnSp>
          <p:nvCxnSpPr>
            <p:cNvPr id="110" name="_s11270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039280" y="2299680"/>
              <a:ext cx="553320" cy="1848600"/>
            </a:xfrm>
            <a:prstGeom prst="bentConnector3">
              <a:avLst>
                <a:gd name="adj1" fmla="val 206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1"/>
            <p:cNvCxnSpPr/>
            <p:nvPr/>
          </p:nvCxnSpPr>
          <p:spPr>
            <a:xfrm flipH="1" flipV="1" rot="5400000">
              <a:off x="4223160" y="3202560"/>
              <a:ext cx="194400" cy="72000"/>
            </a:xfrm>
            <a:prstGeom prst="bentConnector3">
              <a:avLst>
                <a:gd name="adj1" fmla="val 49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1272"/>
            <p:cNvCxnSpPr>
              <a:stCxn id="115" idx="0"/>
              <a:endCxn id="112" idx="2"/>
            </p:cNvCxnSpPr>
            <p:nvPr/>
          </p:nvCxnSpPr>
          <p:spPr>
            <a:xfrm flipH="1" flipV="1" rot="5400000">
              <a:off x="3090240" y="2198160"/>
              <a:ext cx="553320" cy="2051640"/>
            </a:xfrm>
            <a:prstGeom prst="bentConnector3">
              <a:avLst>
                <a:gd name="adj1" fmla="val 2063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3"/>
            <p:cNvSpPr/>
            <p:nvPr/>
          </p:nvSpPr>
          <p:spPr>
            <a:xfrm>
              <a:off x="2195280" y="1700280"/>
              <a:ext cx="4392720" cy="12477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Формы существования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химического элемента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11274"/>
            <p:cNvSpPr/>
            <p:nvPr/>
          </p:nvSpPr>
          <p:spPr>
            <a:xfrm>
              <a:off x="1476360" y="3500640"/>
              <a:ext cx="1728720" cy="1476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660066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_s11275"/>
            <p:cNvSpPr/>
            <p:nvPr/>
          </p:nvSpPr>
          <p:spPr>
            <a:xfrm>
              <a:off x="3492360" y="3500640"/>
              <a:ext cx="1655640" cy="1476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Алмаз,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60066"/>
                  </a:solidFill>
                  <a:latin typeface="Times New Roman"/>
                </a:rPr>
                <a:t>графит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_s11276"/>
            <p:cNvSpPr/>
            <p:nvPr/>
          </p:nvSpPr>
          <p:spPr>
            <a:xfrm>
              <a:off x="5364000" y="3500640"/>
              <a:ext cx="1752480" cy="1476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СО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0066"/>
                  </a:solidFill>
                  <a:latin typeface="Times New Roman"/>
                </a:rPr>
                <a:t>СО</a:t>
              </a:r>
              <a:r>
                <a:rPr b="1" lang="ru-RU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3240" y="652680"/>
            <a:ext cx="763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 атомов мир создавала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ирода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Два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атома лёгких взяла </a:t>
            </a:r>
            <a:r>
              <a:rPr b="1" i="1" lang="ru-RU" sz="4000" spc="-1" strike="noStrike">
                <a:solidFill>
                  <a:srgbClr val="6600cc"/>
                </a:solidFill>
                <a:latin typeface="Arial"/>
              </a:rPr>
              <a:t>водоро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ибавила атом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дин кислоро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получилась частица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564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Почему такой состав имеет молекула  воды?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 выяснить,  от чего зависит состав сложных веществ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.что необходимо знать, чтобы составить формулы вещест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мостоятельная раб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ставьт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схемы строения атомов водорода и кислоро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) схему образования химической связи в молекуле вод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структурную формулу молекулы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Как называется способность атомов образовывать связи с другими атом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Какие электроны называются валент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От чего зависит образование связей в молекулах вещест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о связей, в которых атом может принимать участие в молекуле называ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алент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лентные электроны расположены на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нешне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нергетическом уров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бразовании связей участвуют электроны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нешнего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я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спаренны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электро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25T18:30:08Z</dcterms:modified>
  <cp:revision>27</cp:revision>
  <dc:subject/>
  <dc:title>PowerPoint Presentation</dc:title>
</cp:coreProperties>
</file>