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BD76-35F1-4B54-88AB-5CECF9AFF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057E-66F9-4E65-88E6-14150C1E6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420B-D057-442E-9EBC-CC3BDF603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24B1-ABF3-4552-8A6E-D1FD8AA87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E5E3B-E778-4AE0-9A77-2B4BD379E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4BA86-0EC9-42BF-96F8-5DC67786A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68459-94DE-45F9-BD87-035C07765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D8483-5A99-4509-B559-DA6291C29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D6B6C-0A7C-4C9A-A875-6D9E3CDCB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AF5AB-7590-4381-9697-09EE4677C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03EDC-626F-4654-84B7-4AAEF99E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7A2F-D7EE-4B55-95D5-340A40AE1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DEBDC-CD9E-4046-98A0-0780C90C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5F1F6-2D1A-48FD-BFC8-972909E6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07D89-8DE7-4C4C-90C0-2CB0AFC6C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EB368-02D7-4A2C-B51E-6DDD16251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32F63-5571-4857-9BB9-9D59D0A52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BD56-AAA6-462F-BF5D-0CBC8A285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52F0-EA8A-434C-926B-8108CB7C1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B695-8CA0-4A1E-901C-31D14FB4C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0DD7-C8D4-4F76-A288-C88BCA29F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76B3-DF22-404A-B4E8-7B5C1420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D997-8AB8-401F-948A-BEFCB425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5720-A73F-4796-BBBF-F0EC11F0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24BB3-717E-428A-976F-C1DC034F95C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63F5D-C967-4CCC-9876-735976E040A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ffff"/>
                </a:solidFill>
                <a:latin typeface="Monotype Corsiva"/>
              </a:rPr>
              <a:t>Тема урока</a:t>
            </a:r>
            <a:br>
              <a:rPr sz="6600"/>
            </a:br>
            <a:r>
              <a:rPr b="0" lang="ru-RU" sz="6600" spc="-1" strike="noStrike">
                <a:solidFill>
                  <a:srgbClr val="ffcc00"/>
                </a:solidFill>
                <a:latin typeface="Monotype Corsiva"/>
              </a:rPr>
              <a:t>Валентность и степень окисления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4800"/>
            </a:br>
            <a:br>
              <a:rPr sz="4800"/>
            </a:br>
            <a:br>
              <a:rPr sz="4800"/>
            </a:b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32000" y="4797360"/>
            <a:ext cx="640080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8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клас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-2430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483920"/>
            <a:ext cx="76215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ределите валентность элементов  по структурной формул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несите значение валентности элементов в таблиц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Валентность              Степень окисл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тепень окисле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тепень окисления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(с.о.)- это условный заряд, который мог бы возникнуть на атоме при условии, что все общие электронные пары смещены к более электроотрицательному элемент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5760" y="412920"/>
            <a:ext cx="8385120" cy="113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Сравнение понятий валентность </a:t>
            </a:r>
            <a:br>
              <a:rPr sz="3200"/>
            </a:b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и степень окисления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4176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алентность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  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I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I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а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I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II, I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I, III, 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V</a:t>
            </a: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V</a:t>
            </a: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59280" y="2060640"/>
            <a:ext cx="39607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тепень окисл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+1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-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а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+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+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+2, +4</a:t>
            </a: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,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-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I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? ? ? ?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9800" y="-360"/>
            <a:ext cx="751212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Правила определения степеней окисления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569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 свободных атомов и у простых веществ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ТЕПЕНЬ ОКИСЛЕНИЯ  равна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Металлы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во всех соединениях имеют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ПОЛОЖИТЕЛЬНУЮ С.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соединениях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кислород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имеет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.О.-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кроме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,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 О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соединениях с неметаллами у водорода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.О.+1,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 с металлами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-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соединениях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сумма всех С.О. равна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0160" y="372600"/>
            <a:ext cx="763920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b7"/>
                </a:solidFill>
                <a:uFillTx/>
                <a:latin typeface="Arial Black"/>
              </a:rPr>
              <a:t>Проверка задания 3 стр.55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777240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ru-RU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6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,  Ва</a:t>
            </a:r>
            <a:r>
              <a:rPr b="1" lang="ru-RU" sz="36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ru-RU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6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36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AI</a:t>
            </a:r>
            <a:r>
              <a:rPr b="1" lang="en-US" sz="36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u</a:t>
            </a:r>
            <a:r>
              <a:rPr b="1" lang="en-US" sz="36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36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2. К</a:t>
            </a:r>
            <a:r>
              <a:rPr b="1" lang="ru-RU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600" spc="-1" strike="noStrike" baseline="30000">
                <a:solidFill>
                  <a:srgbClr val="0000ff"/>
                </a:solidFill>
                <a:latin typeface="Arial"/>
              </a:rPr>
              <a:t>+1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,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a</a:t>
            </a:r>
            <a:r>
              <a:rPr b="1" lang="en-US" sz="3600" spc="-1" strike="noStrike" baseline="30000">
                <a:solidFill>
                  <a:srgbClr val="0000ff"/>
                </a:solidFill>
                <a:latin typeface="Arial"/>
              </a:rPr>
              <a:t>+2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3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l</a:t>
            </a:r>
            <a:r>
              <a:rPr b="1" lang="en-US" sz="3600" spc="-1" strike="noStrike" baseline="30000">
                <a:solidFill>
                  <a:srgbClr val="0000ff"/>
                </a:solidFill>
                <a:latin typeface="Arial"/>
              </a:rPr>
              <a:t>+3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</a:rPr>
              <a:t>3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baseline="-25000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i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3600" spc="-1" strike="noStrike" baseline="30000">
                <a:solidFill>
                  <a:srgbClr val="0000ff"/>
                </a:solidFill>
                <a:latin typeface="Arial"/>
              </a:rPr>
              <a:t>+1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Ba</a:t>
            </a:r>
            <a:r>
              <a:rPr b="1" lang="ru-RU" sz="3600" spc="-1" strike="noStrike" baseline="30000">
                <a:solidFill>
                  <a:srgbClr val="0000ff"/>
                </a:solidFill>
                <a:latin typeface="Arial"/>
              </a:rPr>
              <a:t>+2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</a:rPr>
              <a:t>4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,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g</a:t>
            </a:r>
            <a:r>
              <a:rPr b="1" lang="ru-RU" sz="3600" spc="-1" strike="noStrike" baseline="30000">
                <a:solidFill>
                  <a:srgbClr val="0000ff"/>
                </a:solidFill>
                <a:latin typeface="Arial"/>
              </a:rPr>
              <a:t>+2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(S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</a:rPr>
              <a:t>4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. Н</a:t>
            </a:r>
            <a:r>
              <a:rPr b="1" lang="ru-RU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ru-RU" sz="3600" spc="-1" strike="noStrike" baseline="30000">
                <a:solidFill>
                  <a:srgbClr val="ffcc00"/>
                </a:solidFill>
                <a:latin typeface="Arial"/>
              </a:rPr>
              <a:t>-2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3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, К </a:t>
            </a:r>
            <a:r>
              <a:rPr b="1" lang="ru-RU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ru-RU" sz="3600" spc="-1" strike="noStrike" baseline="30000">
                <a:solidFill>
                  <a:srgbClr val="ffcc00"/>
                </a:solidFill>
                <a:latin typeface="Arial"/>
              </a:rPr>
              <a:t>-2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uSO</a:t>
            </a:r>
            <a:r>
              <a:rPr b="1" lang="ru-RU" sz="3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ru-RU" sz="3600" spc="-1" strike="noStrike" baseline="30000">
                <a:solidFill>
                  <a:srgbClr val="ffcc00"/>
                </a:solidFill>
                <a:latin typeface="Arial"/>
              </a:rPr>
              <a:t>-2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aO</a:t>
            </a:r>
            <a:r>
              <a:rPr b="1" lang="ru-RU" sz="3600" spc="-1" strike="noStrike" baseline="30000">
                <a:solidFill>
                  <a:srgbClr val="ffcc00"/>
                </a:solidFill>
                <a:latin typeface="Arial"/>
              </a:rPr>
              <a:t>-2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ru-RU" sz="3600" spc="-1" strike="noStrike" baseline="30000">
                <a:solidFill>
                  <a:srgbClr val="ffcc00"/>
                </a:solidFill>
                <a:latin typeface="Arial"/>
              </a:rPr>
              <a:t>-2</a:t>
            </a:r>
            <a:r>
              <a:rPr b="1" lang="ru-RU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ru-RU" sz="3600" spc="-1" strike="noStrike" baseline="30000">
                <a:solidFill>
                  <a:srgbClr val="660066"/>
                </a:solidFill>
                <a:latin typeface="Arial"/>
              </a:rPr>
              <a:t>+1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, КН</a:t>
            </a:r>
            <a:r>
              <a:rPr b="1" lang="ru-RU" sz="3600" spc="-1" strike="noStrike" baseline="30000">
                <a:solidFill>
                  <a:srgbClr val="ff0066"/>
                </a:solidFill>
                <a:latin typeface="Arial"/>
              </a:rPr>
              <a:t>-1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, КОН</a:t>
            </a:r>
            <a:r>
              <a:rPr b="1" lang="ru-RU" sz="3600" spc="-1" strike="noStrike" baseline="30000">
                <a:solidFill>
                  <a:srgbClr val="660066"/>
                </a:solidFill>
                <a:latin typeface="Arial"/>
              </a:rPr>
              <a:t>+1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a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 </a:t>
            </a:r>
            <a:r>
              <a:rPr b="1" lang="ru-RU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600" spc="-1" strike="noStrike" baseline="30000">
                <a:solidFill>
                  <a:srgbClr val="ff0066"/>
                </a:solidFill>
                <a:latin typeface="Arial"/>
              </a:rPr>
              <a:t>-1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ru-RU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600" spc="-1" strike="noStrike" baseline="30000">
                <a:solidFill>
                  <a:srgbClr val="660066"/>
                </a:solidFill>
                <a:latin typeface="Arial"/>
              </a:rPr>
              <a:t>+1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,</a:t>
            </a:r>
            <a:r>
              <a:rPr b="1" lang="ru-RU" sz="3600" spc="-1" strike="noStrike" baseline="-25000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ru-RU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3600" spc="-1" strike="noStrike" baseline="30000">
                <a:solidFill>
                  <a:srgbClr val="660066"/>
                </a:solidFill>
                <a:latin typeface="Arial"/>
              </a:rPr>
              <a:t>+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Определение степени окисления элементов в соединениях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+3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х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</a:t>
            </a: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6000" spc="-1" strike="noStrike" baseline="-25000">
                <a:solidFill>
                  <a:srgbClr val="ffffff"/>
                </a:solidFill>
                <a:latin typeface="Arial"/>
              </a:rPr>
              <a:t> 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</a:rPr>
              <a:t>(+3)*1 + 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Arial"/>
              </a:rPr>
              <a:t>х</a:t>
            </a:r>
            <a:r>
              <a:rPr b="1" lang="ru-RU" sz="3600" spc="-1" strike="noStrike" baseline="-25000">
                <a:solidFill>
                  <a:srgbClr val="ffffff"/>
                </a:solidFill>
                <a:latin typeface="Arial"/>
              </a:rPr>
              <a:t> *3  = 0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baseline="-25000">
                <a:solidFill>
                  <a:srgbClr val="ffffff"/>
                </a:solidFill>
                <a:latin typeface="Arial"/>
              </a:rPr>
              <a:t>+3 = - 3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Arial"/>
              </a:rPr>
              <a:t>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baseline="-25000">
                <a:solidFill>
                  <a:srgbClr val="ff0000"/>
                </a:solidFill>
                <a:latin typeface="Arial"/>
              </a:rPr>
              <a:t>Х = -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baseline="-25000">
                <a:solidFill>
                  <a:srgbClr val="ff0000"/>
                </a:solidFill>
                <a:latin typeface="Arial"/>
              </a:rPr>
              <a:t>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+3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6000" spc="-1" strike="noStrike" baseline="-25000">
                <a:solidFill>
                  <a:srgbClr val="ffffff"/>
                </a:solidFill>
                <a:latin typeface="Arial"/>
              </a:rPr>
              <a:t> 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Задачи урока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1. выяснить,  от чего зависит состав сложных веществ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2.что необходимо знать, чтобы составить формулы веществ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ыводы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Состав сложных веществ зависит от строения атомов, образующих вещества и возможности образовывать различные связ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Чтобы составить формулу вещества надо знать валентность или степень окисления элемен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Домашнее зада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§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7 стр.86-8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№5, №6, №7 стр.55 (тетрадь с печатной основой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* №5 (составить структурные формулы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1551960" y="1494000"/>
            <a:ext cx="6126840" cy="3170880"/>
            <a:chOff x="1551960" y="1494000"/>
            <a:chExt cx="6126840" cy="3170880"/>
          </a:xfrm>
        </p:grpSpPr>
        <p:cxnSp>
          <p:nvCxnSpPr>
            <p:cNvPr id="101" name="_s7181"/>
            <p:cNvCxnSpPr>
              <a:stCxn id="102" idx="0"/>
              <a:endCxn id="103" idx="2"/>
            </p:cNvCxnSpPr>
            <p:nvPr/>
          </p:nvCxnSpPr>
          <p:spPr>
            <a:xfrm flipV="1" rot="16200000">
              <a:off x="5554080" y="1773720"/>
              <a:ext cx="229680" cy="210888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4" name="_s7180"/>
            <p:cNvCxnSpPr>
              <a:stCxn id="105" idx="0"/>
              <a:endCxn id="103" idx="2"/>
            </p:cNvCxnSpPr>
            <p:nvPr/>
          </p:nvCxnSpPr>
          <p:spPr>
            <a:xfrm flipV="1" rot="16200000">
              <a:off x="4500360" y="2827440"/>
              <a:ext cx="229680" cy="180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6" name="_s7179"/>
            <p:cNvCxnSpPr>
              <a:stCxn id="107" idx="0"/>
              <a:endCxn id="103" idx="2"/>
            </p:cNvCxnSpPr>
            <p:nvPr/>
          </p:nvCxnSpPr>
          <p:spPr>
            <a:xfrm flipH="1" flipV="1" rot="5400000">
              <a:off x="3447000" y="1775520"/>
              <a:ext cx="229680" cy="210600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3" name="_s7175"/>
            <p:cNvSpPr/>
            <p:nvPr/>
          </p:nvSpPr>
          <p:spPr>
            <a:xfrm>
              <a:off x="2210040" y="1494000"/>
              <a:ext cx="4808880" cy="122004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66"/>
                  </a:solidFill>
                  <a:latin typeface="Times New Roman"/>
                </a:rPr>
                <a:t>Формы существовани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66"/>
                  </a:solidFill>
                  <a:latin typeface="Times New Roman"/>
                </a:rPr>
                <a:t> </a:t>
              </a:r>
              <a:r>
                <a:rPr b="1" lang="ru-RU" sz="2400" spc="-1" strike="noStrike">
                  <a:solidFill>
                    <a:srgbClr val="660066"/>
                  </a:solidFill>
                  <a:latin typeface="Times New Roman"/>
                </a:rPr>
                <a:t>химического элемент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_s7176"/>
            <p:cNvSpPr/>
            <p:nvPr/>
          </p:nvSpPr>
          <p:spPr>
            <a:xfrm>
              <a:off x="1551960" y="2943360"/>
              <a:ext cx="1913400" cy="165024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660066"/>
                  </a:solidFill>
                  <a:latin typeface="Times New Roman"/>
                </a:rPr>
                <a:t>Свободные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660066"/>
                  </a:solidFill>
                  <a:latin typeface="Times New Roman"/>
                </a:rPr>
                <a:t>атомы</a:t>
              </a: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_s7177"/>
            <p:cNvSpPr/>
            <p:nvPr/>
          </p:nvSpPr>
          <p:spPr>
            <a:xfrm>
              <a:off x="3694680" y="2943360"/>
              <a:ext cx="1841400" cy="172152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660066"/>
                  </a:solidFill>
                  <a:latin typeface="Times New Roman"/>
                </a:rPr>
                <a:t>Просты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660066"/>
                  </a:solidFill>
                  <a:latin typeface="Times New Roman"/>
                </a:rPr>
                <a:t> </a:t>
              </a:r>
              <a:r>
                <a:rPr b="1" i="1" lang="ru-RU" sz="2400" spc="-1" strike="noStrike">
                  <a:solidFill>
                    <a:srgbClr val="660066"/>
                  </a:solidFill>
                  <a:latin typeface="Times New Roman"/>
                </a:rPr>
                <a:t>вещества</a:t>
              </a:r>
              <a:r>
                <a:rPr b="1" i="1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_s7178"/>
            <p:cNvSpPr/>
            <p:nvPr/>
          </p:nvSpPr>
          <p:spPr>
            <a:xfrm>
              <a:off x="5765400" y="2943360"/>
              <a:ext cx="1913400" cy="165024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660066"/>
                  </a:solidFill>
                  <a:latin typeface="Times New Roman"/>
                </a:rPr>
                <a:t>Сложны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660066"/>
                  </a:solidFill>
                  <a:latin typeface="Times New Roman"/>
                </a:rPr>
                <a:t> </a:t>
              </a:r>
              <a:r>
                <a:rPr b="1" i="1" lang="ru-RU" sz="2400" spc="-1" strike="noStrike">
                  <a:solidFill>
                    <a:srgbClr val="660066"/>
                  </a:solidFill>
                  <a:latin typeface="Times New Roman"/>
                </a:rPr>
                <a:t>вещества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9800" y="478080"/>
            <a:ext cx="7637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b7"/>
              </a:solidFill>
              <a:latin typeface="Arial Black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476360" y="1700280"/>
            <a:ext cx="5640120" cy="3276720"/>
            <a:chOff x="1476360" y="1700280"/>
            <a:chExt cx="5640120" cy="3276720"/>
          </a:xfrm>
        </p:grpSpPr>
        <p:cxnSp>
          <p:nvCxnSpPr>
            <p:cNvPr id="110" name="_s11270"/>
            <p:cNvCxnSpPr>
              <a:stCxn id="111" idx="0"/>
              <a:endCxn id="112" idx="2"/>
            </p:cNvCxnSpPr>
            <p:nvPr/>
          </p:nvCxnSpPr>
          <p:spPr>
            <a:xfrm flipV="1" rot="16200000">
              <a:off x="5039280" y="2299680"/>
              <a:ext cx="553320" cy="1848600"/>
            </a:xfrm>
            <a:prstGeom prst="bentConnector3">
              <a:avLst>
                <a:gd name="adj1" fmla="val 2063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1"/>
            <p:cNvCxnSpPr/>
            <p:nvPr/>
          </p:nvCxnSpPr>
          <p:spPr>
            <a:xfrm flipH="1" flipV="1" rot="5400000">
              <a:off x="4223160" y="3202560"/>
              <a:ext cx="194400" cy="72000"/>
            </a:xfrm>
            <a:prstGeom prst="bentConnector3">
              <a:avLst>
                <a:gd name="adj1" fmla="val 4990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4" name="_s11272"/>
            <p:cNvCxnSpPr>
              <a:stCxn id="115" idx="0"/>
              <a:endCxn id="112" idx="2"/>
            </p:cNvCxnSpPr>
            <p:nvPr/>
          </p:nvCxnSpPr>
          <p:spPr>
            <a:xfrm flipH="1" flipV="1" rot="5400000">
              <a:off x="3090240" y="2198160"/>
              <a:ext cx="553320" cy="2051640"/>
            </a:xfrm>
            <a:prstGeom prst="bentConnector3">
              <a:avLst>
                <a:gd name="adj1" fmla="val 20638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3"/>
            <p:cNvSpPr/>
            <p:nvPr/>
          </p:nvSpPr>
          <p:spPr>
            <a:xfrm>
              <a:off x="2195280" y="1700280"/>
              <a:ext cx="4392720" cy="1247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660066"/>
                  </a:solidFill>
                  <a:latin typeface="Times New Roman"/>
                </a:rPr>
                <a:t>Формы существования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660066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660066"/>
                  </a:solidFill>
                  <a:latin typeface="Times New Roman"/>
                </a:rPr>
                <a:t>химического элемента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_s11274"/>
            <p:cNvSpPr/>
            <p:nvPr/>
          </p:nvSpPr>
          <p:spPr>
            <a:xfrm>
              <a:off x="1476360" y="3500640"/>
              <a:ext cx="1728720" cy="14763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660066"/>
                  </a:solidFill>
                  <a:latin typeface="Times New Roman"/>
                </a:rPr>
                <a:t>С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_s11275"/>
            <p:cNvSpPr/>
            <p:nvPr/>
          </p:nvSpPr>
          <p:spPr>
            <a:xfrm>
              <a:off x="3492360" y="3500640"/>
              <a:ext cx="1655640" cy="14763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660066"/>
                  </a:solidFill>
                  <a:latin typeface="Times New Roman"/>
                </a:rPr>
                <a:t>Алмаз,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660066"/>
                  </a:solidFill>
                  <a:latin typeface="Times New Roman"/>
                </a:rPr>
                <a:t>графит</a:t>
              </a:r>
              <a:r>
                <a:rPr b="1" i="1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_s11276"/>
            <p:cNvSpPr/>
            <p:nvPr/>
          </p:nvSpPr>
          <p:spPr>
            <a:xfrm>
              <a:off x="5364000" y="3500640"/>
              <a:ext cx="1752480" cy="14763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660066"/>
                  </a:solidFill>
                  <a:latin typeface="Times New Roman"/>
                </a:rPr>
                <a:t>СО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660066"/>
                  </a:solidFill>
                  <a:latin typeface="Times New Roman"/>
                </a:rPr>
                <a:t>СО</a:t>
              </a:r>
              <a:r>
                <a:rPr b="1" lang="ru-RU" sz="3200" spc="-1" strike="noStrike" baseline="-25000">
                  <a:solidFill>
                    <a:srgbClr val="660066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03240" y="652680"/>
            <a:ext cx="7631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Из атомов мир создавала </a:t>
            </a: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Природа</a:t>
            </a: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Arial"/>
              </a:rPr>
              <a:t>Два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атома лёгких взяла </a:t>
            </a:r>
            <a:r>
              <a:rPr b="1" i="1" lang="ru-RU" sz="4000" spc="-1" strike="noStrike">
                <a:solidFill>
                  <a:srgbClr val="6600cc"/>
                </a:solidFill>
                <a:latin typeface="Arial"/>
              </a:rPr>
              <a:t>водород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рибавила атом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один кислород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И получилась частица 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2564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1" lang="ru-RU" sz="5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ffff"/>
                </a:solidFill>
                <a:uFillTx/>
                <a:latin typeface="Arial"/>
              </a:rPr>
              <a:t>Почему такой состав имеет молекула  воды?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Задачи урока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1. выяснить,  от чего зависит состав сложных веществ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2.что необходимо знать, чтобы составить формулы веществ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амостоятельная работ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Составьт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) схемы строения атомов водорода и кислород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) схему образования химической связи в молекуле вод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) структурную формулу молекулы вод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Как называется способность атомов образовывать связи с другими атомам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Какие электроны называются валентным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От чего зависит образование связей в молекулах веществ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ывод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исло связей, в которых атом может принимать участие в молекуле называется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валентность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алентные электроны расположены на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внешнем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энергетическом уровн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образовании связей участвуют электроны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внешнего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лоя и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еспаренны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электро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0-04-25T18:30:08Z</dcterms:modified>
  <cp:revision>27</cp:revision>
  <dc:subject/>
  <dc:title>PowerPoint Presentation</dc:title>
</cp:coreProperties>
</file>