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applause.wav" ContentType="audio/x-wav"/>
  <Override PartName="/ppt/media/chimes.wav" ContentType="audio/x-wav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3B42-A7C9-4F32-A76B-B9F114B2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8598-C9B7-4392-B598-309171CA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2D1-E251-4912-BE41-FDCDF6A6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2113-48D4-430D-BE38-C04B42DD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27C-0093-45E8-84A9-96F32F6A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150-D393-4138-9C30-55CBDC90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48C-4976-4BB5-B482-BF36C890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BE4C-0EBD-4B33-AC32-DA7F0BAD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6679-249B-4E08-9FA1-036A281D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550-87B9-48E4-8451-624A70E0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DB4-8B39-4D98-8526-43B0F51A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861-7EF4-49E9-B5C4-27333EE9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4F27-661C-4B74-A052-A4DC953F3D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Линейные  уравнения</a:t>
            </a:r>
            <a:br>
              <a:rPr sz="4400"/>
            </a:b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ax=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9"/>
          <p:cNvSpPr/>
          <p:nvPr/>
        </p:nvSpPr>
        <p:spPr>
          <a:xfrm>
            <a:off x="395280" y="4365720"/>
            <a:ext cx="439272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Курсов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я математики школы №88 Калинин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коловой Нины Андрее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0" descr="j0300912"/>
          <p:cNvPicPr/>
          <p:nvPr/>
        </p:nvPicPr>
        <p:blipFill>
          <a:blip r:embed="rId2"/>
          <a:stretch/>
        </p:blipFill>
        <p:spPr>
          <a:xfrm>
            <a:off x="5003640" y="2259000"/>
            <a:ext cx="4140360" cy="39258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31">
            <a:hlinkClick r:id="" action="ppaction://hlinkshowjump?jump=nextslide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3794"/>
                </a:moveTo>
                <a:lnTo>
                  <a:pt x="23400" y="10800"/>
                </a:lnTo>
                <a:lnTo>
                  <a:pt x="9387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84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84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8"/>
          <p:cNvSpPr txBox="1"/>
          <p:nvPr/>
        </p:nvSpPr>
        <p:spPr>
          <a:xfrm>
            <a:off x="1116000" y="1484280"/>
            <a:ext cx="6696000" cy="18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2" name="Picture 9" descr="клоун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1835280" y="393372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905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Оглавление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Решение урав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Алгоритм решения урав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Это познава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Укажи правильное ре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>
            <a:hlinkClick r:id="" action="ppaction://hlinkshowjump?jump=nextslide"/>
          </p:cNvPr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3794"/>
                </a:moveTo>
                <a:lnTo>
                  <a:pt x="24482" y="10800"/>
                </a:lnTo>
                <a:lnTo>
                  <a:pt x="1046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ешение уравнени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=2x+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39640" y="48690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тем из обеих частей уравнения по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снимем с обеих чашек весов по 2 яблока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356000" y="3789360"/>
            <a:ext cx="432000" cy="936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1116000" y="3789360"/>
            <a:ext cx="66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2"/>
          <p:cNvGrpSpPr/>
          <p:nvPr/>
        </p:nvGrpSpPr>
        <p:grpSpPr>
          <a:xfrm>
            <a:off x="5471640" y="2854080"/>
            <a:ext cx="772560" cy="960480"/>
            <a:chOff x="5471640" y="2854080"/>
            <a:chExt cx="772560" cy="960480"/>
          </a:xfrm>
        </p:grpSpPr>
        <p:grpSp>
          <p:nvGrpSpPr>
            <p:cNvPr id="54" name="Group 41"/>
            <p:cNvGrpSpPr/>
            <p:nvPr/>
          </p:nvGrpSpPr>
          <p:grpSpPr>
            <a:xfrm>
              <a:off x="5471640" y="2854080"/>
              <a:ext cx="772560" cy="960480"/>
              <a:chOff x="5471640" y="2854080"/>
              <a:chExt cx="772560" cy="960480"/>
            </a:xfrm>
          </p:grpSpPr>
          <p:sp>
            <p:nvSpPr>
              <p:cNvPr id="55" name="Oval 42"/>
              <p:cNvSpPr/>
              <p:nvPr/>
            </p:nvSpPr>
            <p:spPr>
              <a:xfrm rot="267000">
                <a:off x="549828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AutoShape 43"/>
              <p:cNvSpPr/>
              <p:nvPr/>
            </p:nvSpPr>
            <p:spPr>
              <a:xfrm flipV="1" rot="266400">
                <a:off x="589032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Text Box 51"/>
            <p:cNvSpPr/>
            <p:nvPr/>
          </p:nvSpPr>
          <p:spPr>
            <a:xfrm rot="267000">
              <a:off x="563976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53"/>
          <p:cNvGrpSpPr/>
          <p:nvPr/>
        </p:nvGrpSpPr>
        <p:grpSpPr>
          <a:xfrm>
            <a:off x="4679640" y="2854080"/>
            <a:ext cx="772560" cy="960480"/>
            <a:chOff x="4679640" y="2854080"/>
            <a:chExt cx="772560" cy="960480"/>
          </a:xfrm>
        </p:grpSpPr>
        <p:grpSp>
          <p:nvGrpSpPr>
            <p:cNvPr id="59" name="Group 54"/>
            <p:cNvGrpSpPr/>
            <p:nvPr/>
          </p:nvGrpSpPr>
          <p:grpSpPr>
            <a:xfrm>
              <a:off x="4679640" y="2854080"/>
              <a:ext cx="772560" cy="960480"/>
              <a:chOff x="4679640" y="2854080"/>
              <a:chExt cx="772560" cy="960480"/>
            </a:xfrm>
          </p:grpSpPr>
          <p:sp>
            <p:nvSpPr>
              <p:cNvPr id="60" name="Oval 55"/>
              <p:cNvSpPr/>
              <p:nvPr/>
            </p:nvSpPr>
            <p:spPr>
              <a:xfrm rot="267000">
                <a:off x="470628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AutoShape 56"/>
              <p:cNvSpPr/>
              <p:nvPr/>
            </p:nvSpPr>
            <p:spPr>
              <a:xfrm flipV="1" rot="266400">
                <a:off x="509832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Text Box 57"/>
            <p:cNvSpPr/>
            <p:nvPr/>
          </p:nvSpPr>
          <p:spPr>
            <a:xfrm rot="267000">
              <a:off x="484776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58"/>
          <p:cNvGrpSpPr/>
          <p:nvPr/>
        </p:nvGrpSpPr>
        <p:grpSpPr>
          <a:xfrm>
            <a:off x="2665080" y="2206080"/>
            <a:ext cx="772560" cy="960120"/>
            <a:chOff x="2665080" y="2206080"/>
            <a:chExt cx="772560" cy="960120"/>
          </a:xfrm>
        </p:grpSpPr>
        <p:grpSp>
          <p:nvGrpSpPr>
            <p:cNvPr id="64" name="Group 59"/>
            <p:cNvGrpSpPr/>
            <p:nvPr/>
          </p:nvGrpSpPr>
          <p:grpSpPr>
            <a:xfrm>
              <a:off x="2665080" y="2206080"/>
              <a:ext cx="772560" cy="960120"/>
              <a:chOff x="2665080" y="2206080"/>
              <a:chExt cx="772560" cy="960120"/>
            </a:xfrm>
          </p:grpSpPr>
          <p:sp>
            <p:nvSpPr>
              <p:cNvPr id="65" name="Oval 60"/>
              <p:cNvSpPr/>
              <p:nvPr/>
            </p:nvSpPr>
            <p:spPr>
              <a:xfrm rot="267000">
                <a:off x="2691720" y="2420280"/>
                <a:ext cx="718920" cy="71892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AutoShape 61"/>
              <p:cNvSpPr/>
              <p:nvPr/>
            </p:nvSpPr>
            <p:spPr>
              <a:xfrm flipV="1" rot="266400">
                <a:off x="3083760" y="2208240"/>
                <a:ext cx="70920" cy="28692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 Box 62"/>
            <p:cNvSpPr/>
            <p:nvPr/>
          </p:nvSpPr>
          <p:spPr>
            <a:xfrm rot="267000">
              <a:off x="2833200" y="2493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63"/>
          <p:cNvGrpSpPr/>
          <p:nvPr/>
        </p:nvGrpSpPr>
        <p:grpSpPr>
          <a:xfrm>
            <a:off x="1944360" y="2206080"/>
            <a:ext cx="772560" cy="960120"/>
            <a:chOff x="1944360" y="2206080"/>
            <a:chExt cx="772560" cy="960120"/>
          </a:xfrm>
        </p:grpSpPr>
        <p:grpSp>
          <p:nvGrpSpPr>
            <p:cNvPr id="69" name="Group 64"/>
            <p:cNvGrpSpPr/>
            <p:nvPr/>
          </p:nvGrpSpPr>
          <p:grpSpPr>
            <a:xfrm>
              <a:off x="1944360" y="2206080"/>
              <a:ext cx="772560" cy="960120"/>
              <a:chOff x="1944360" y="2206080"/>
              <a:chExt cx="772560" cy="960120"/>
            </a:xfrm>
          </p:grpSpPr>
          <p:sp>
            <p:nvSpPr>
              <p:cNvPr id="70" name="Oval 65"/>
              <p:cNvSpPr/>
              <p:nvPr/>
            </p:nvSpPr>
            <p:spPr>
              <a:xfrm rot="267000">
                <a:off x="1971000" y="2420280"/>
                <a:ext cx="718920" cy="71892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66"/>
              <p:cNvSpPr/>
              <p:nvPr/>
            </p:nvSpPr>
            <p:spPr>
              <a:xfrm flipV="1" rot="266400">
                <a:off x="2363040" y="2208240"/>
                <a:ext cx="70920" cy="28692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Text Box 67"/>
            <p:cNvSpPr/>
            <p:nvPr/>
          </p:nvSpPr>
          <p:spPr>
            <a:xfrm rot="267000">
              <a:off x="2112480" y="2493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68"/>
          <p:cNvGrpSpPr/>
          <p:nvPr/>
        </p:nvGrpSpPr>
        <p:grpSpPr>
          <a:xfrm>
            <a:off x="3024000" y="2854080"/>
            <a:ext cx="772560" cy="960480"/>
            <a:chOff x="3024000" y="2854080"/>
            <a:chExt cx="772560" cy="960480"/>
          </a:xfrm>
        </p:grpSpPr>
        <p:grpSp>
          <p:nvGrpSpPr>
            <p:cNvPr id="74" name="Group 69"/>
            <p:cNvGrpSpPr/>
            <p:nvPr/>
          </p:nvGrpSpPr>
          <p:grpSpPr>
            <a:xfrm>
              <a:off x="3024000" y="2854080"/>
              <a:ext cx="772560" cy="960480"/>
              <a:chOff x="3024000" y="2854080"/>
              <a:chExt cx="772560" cy="960480"/>
            </a:xfrm>
          </p:grpSpPr>
          <p:sp>
            <p:nvSpPr>
              <p:cNvPr id="75" name="Oval 70"/>
              <p:cNvSpPr/>
              <p:nvPr/>
            </p:nvSpPr>
            <p:spPr>
              <a:xfrm rot="267000">
                <a:off x="305064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AutoShape 71"/>
              <p:cNvSpPr/>
              <p:nvPr/>
            </p:nvSpPr>
            <p:spPr>
              <a:xfrm flipV="1" rot="266400">
                <a:off x="344268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72"/>
            <p:cNvSpPr/>
            <p:nvPr/>
          </p:nvSpPr>
          <p:spPr>
            <a:xfrm rot="267000">
              <a:off x="319212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73"/>
          <p:cNvGrpSpPr/>
          <p:nvPr/>
        </p:nvGrpSpPr>
        <p:grpSpPr>
          <a:xfrm>
            <a:off x="2233080" y="2854080"/>
            <a:ext cx="772560" cy="960480"/>
            <a:chOff x="2233080" y="2854080"/>
            <a:chExt cx="772560" cy="960480"/>
          </a:xfrm>
        </p:grpSpPr>
        <p:grpSp>
          <p:nvGrpSpPr>
            <p:cNvPr id="79" name="Group 74"/>
            <p:cNvGrpSpPr/>
            <p:nvPr/>
          </p:nvGrpSpPr>
          <p:grpSpPr>
            <a:xfrm>
              <a:off x="2233080" y="2854080"/>
              <a:ext cx="772560" cy="960480"/>
              <a:chOff x="2233080" y="2854080"/>
              <a:chExt cx="772560" cy="960480"/>
            </a:xfrm>
          </p:grpSpPr>
          <p:sp>
            <p:nvSpPr>
              <p:cNvPr id="80" name="Oval 75"/>
              <p:cNvSpPr/>
              <p:nvPr/>
            </p:nvSpPr>
            <p:spPr>
              <a:xfrm rot="267000">
                <a:off x="225972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76"/>
              <p:cNvSpPr/>
              <p:nvPr/>
            </p:nvSpPr>
            <p:spPr>
              <a:xfrm flipV="1" rot="266400">
                <a:off x="265176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77"/>
            <p:cNvSpPr/>
            <p:nvPr/>
          </p:nvSpPr>
          <p:spPr>
            <a:xfrm rot="267000">
              <a:off x="240120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78"/>
          <p:cNvGrpSpPr/>
          <p:nvPr/>
        </p:nvGrpSpPr>
        <p:grpSpPr>
          <a:xfrm>
            <a:off x="1441080" y="2854080"/>
            <a:ext cx="772560" cy="960480"/>
            <a:chOff x="1441080" y="2854080"/>
            <a:chExt cx="772560" cy="960480"/>
          </a:xfrm>
        </p:grpSpPr>
        <p:grpSp>
          <p:nvGrpSpPr>
            <p:cNvPr id="84" name="Group 79"/>
            <p:cNvGrpSpPr/>
            <p:nvPr/>
          </p:nvGrpSpPr>
          <p:grpSpPr>
            <a:xfrm>
              <a:off x="1441080" y="2854080"/>
              <a:ext cx="772560" cy="960480"/>
              <a:chOff x="1441080" y="2854080"/>
              <a:chExt cx="772560" cy="960480"/>
            </a:xfrm>
          </p:grpSpPr>
          <p:sp>
            <p:nvSpPr>
              <p:cNvPr id="85" name="Oval 80"/>
              <p:cNvSpPr/>
              <p:nvPr/>
            </p:nvSpPr>
            <p:spPr>
              <a:xfrm rot="267000">
                <a:off x="146772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81"/>
              <p:cNvSpPr/>
              <p:nvPr/>
            </p:nvSpPr>
            <p:spPr>
              <a:xfrm flipV="1" rot="266400">
                <a:off x="185976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Text Box 82"/>
            <p:cNvSpPr/>
            <p:nvPr/>
          </p:nvSpPr>
          <p:spPr>
            <a:xfrm rot="267000">
              <a:off x="160920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AutoShape 83"/>
          <p:cNvSpPr/>
          <p:nvPr/>
        </p:nvSpPr>
        <p:spPr>
          <a:xfrm rot="10800000">
            <a:off x="6300360" y="2852640"/>
            <a:ext cx="1295640" cy="935280"/>
          </a:xfrm>
          <a:custGeom>
            <a:avLst/>
            <a:gdLst>
              <a:gd name="textAreaLeft" fmla="*/ 270000 w 1295640"/>
              <a:gd name="textAreaRight" fmla="*/ 1026000 w 1295640"/>
              <a:gd name="textAreaTop" fmla="*/ 194760 h 935280"/>
              <a:gd name="textAreaBottom" fmla="*/ 74052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4"/>
          <p:cNvSpPr/>
          <p:nvPr/>
        </p:nvSpPr>
        <p:spPr>
          <a:xfrm>
            <a:off x="6659640" y="31417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5">
            <a:hlinkClick r:id="" action="ppaction://hlinkshowjump?jump=nextslide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3794"/>
                </a:moveTo>
                <a:lnTo>
                  <a:pt x="23400" y="10800"/>
                </a:lnTo>
                <a:lnTo>
                  <a:pt x="9387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учи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=2x+6-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=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537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0000"/>
                </a:solidFill>
                <a:uFillTx/>
                <a:latin typeface="Verdana"/>
              </a:rPr>
              <a:t>X=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4356000" y="3789360"/>
            <a:ext cx="432000" cy="936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116000" y="3789360"/>
            <a:ext cx="66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7"/>
          <p:cNvGrpSpPr/>
          <p:nvPr/>
        </p:nvGrpSpPr>
        <p:grpSpPr>
          <a:xfrm>
            <a:off x="3024000" y="2854080"/>
            <a:ext cx="772560" cy="960480"/>
            <a:chOff x="3024000" y="2854080"/>
            <a:chExt cx="772560" cy="960480"/>
          </a:xfrm>
        </p:grpSpPr>
        <p:grpSp>
          <p:nvGrpSpPr>
            <p:cNvPr id="96" name="Group 28"/>
            <p:cNvGrpSpPr/>
            <p:nvPr/>
          </p:nvGrpSpPr>
          <p:grpSpPr>
            <a:xfrm>
              <a:off x="3024000" y="2854080"/>
              <a:ext cx="772560" cy="960480"/>
              <a:chOff x="3024000" y="2854080"/>
              <a:chExt cx="772560" cy="960480"/>
            </a:xfrm>
          </p:grpSpPr>
          <p:sp>
            <p:nvSpPr>
              <p:cNvPr id="97" name="Oval 29"/>
              <p:cNvSpPr/>
              <p:nvPr/>
            </p:nvSpPr>
            <p:spPr>
              <a:xfrm rot="267000">
                <a:off x="305064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30"/>
              <p:cNvSpPr/>
              <p:nvPr/>
            </p:nvSpPr>
            <p:spPr>
              <a:xfrm flipV="1" rot="266400">
                <a:off x="344268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Text Box 31"/>
            <p:cNvSpPr/>
            <p:nvPr/>
          </p:nvSpPr>
          <p:spPr>
            <a:xfrm rot="267000">
              <a:off x="319212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2233080" y="2854080"/>
            <a:ext cx="772560" cy="960480"/>
            <a:chOff x="2233080" y="2854080"/>
            <a:chExt cx="772560" cy="960480"/>
          </a:xfrm>
        </p:grpSpPr>
        <p:grpSp>
          <p:nvGrpSpPr>
            <p:cNvPr id="101" name="Group 33"/>
            <p:cNvGrpSpPr/>
            <p:nvPr/>
          </p:nvGrpSpPr>
          <p:grpSpPr>
            <a:xfrm>
              <a:off x="2233080" y="2854080"/>
              <a:ext cx="772560" cy="960480"/>
              <a:chOff x="2233080" y="2854080"/>
              <a:chExt cx="772560" cy="960480"/>
            </a:xfrm>
          </p:grpSpPr>
          <p:sp>
            <p:nvSpPr>
              <p:cNvPr id="102" name="Oval 34"/>
              <p:cNvSpPr/>
              <p:nvPr/>
            </p:nvSpPr>
            <p:spPr>
              <a:xfrm rot="267000">
                <a:off x="225972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35"/>
              <p:cNvSpPr/>
              <p:nvPr/>
            </p:nvSpPr>
            <p:spPr>
              <a:xfrm flipV="1" rot="266400">
                <a:off x="265176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 Box 36"/>
            <p:cNvSpPr/>
            <p:nvPr/>
          </p:nvSpPr>
          <p:spPr>
            <a:xfrm rot="267000">
              <a:off x="240120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7"/>
          <p:cNvGrpSpPr/>
          <p:nvPr/>
        </p:nvGrpSpPr>
        <p:grpSpPr>
          <a:xfrm>
            <a:off x="1441080" y="2854080"/>
            <a:ext cx="772560" cy="960480"/>
            <a:chOff x="1441080" y="2854080"/>
            <a:chExt cx="772560" cy="960480"/>
          </a:xfrm>
        </p:grpSpPr>
        <p:grpSp>
          <p:nvGrpSpPr>
            <p:cNvPr id="106" name="Group 38"/>
            <p:cNvGrpSpPr/>
            <p:nvPr/>
          </p:nvGrpSpPr>
          <p:grpSpPr>
            <a:xfrm>
              <a:off x="1441080" y="2854080"/>
              <a:ext cx="772560" cy="960480"/>
              <a:chOff x="1441080" y="2854080"/>
              <a:chExt cx="772560" cy="960480"/>
            </a:xfrm>
          </p:grpSpPr>
          <p:sp>
            <p:nvSpPr>
              <p:cNvPr id="107" name="Oval 39"/>
              <p:cNvSpPr/>
              <p:nvPr/>
            </p:nvSpPr>
            <p:spPr>
              <a:xfrm rot="267000">
                <a:off x="146772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40"/>
              <p:cNvSpPr/>
              <p:nvPr/>
            </p:nvSpPr>
            <p:spPr>
              <a:xfrm flipV="1" rot="266400">
                <a:off x="185976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Text Box 41"/>
            <p:cNvSpPr/>
            <p:nvPr/>
          </p:nvSpPr>
          <p:spPr>
            <a:xfrm rot="267000">
              <a:off x="160920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AutoShape 42"/>
          <p:cNvSpPr/>
          <p:nvPr/>
        </p:nvSpPr>
        <p:spPr>
          <a:xfrm rot="10800000">
            <a:off x="6300360" y="2852640"/>
            <a:ext cx="1295640" cy="935280"/>
          </a:xfrm>
          <a:custGeom>
            <a:avLst/>
            <a:gdLst>
              <a:gd name="textAreaLeft" fmla="*/ 270000 w 1295640"/>
              <a:gd name="textAreaRight" fmla="*/ 1026000 w 1295640"/>
              <a:gd name="textAreaTop" fmla="*/ 194760 h 935280"/>
              <a:gd name="textAreaBottom" fmla="*/ 74052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6659640" y="31417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4">
            <a:hlinkClick r:id="rId1" action="ppaction://hlinksldjump"/>
          </p:cNvPr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7493"/>
                </a:moveTo>
                <a:lnTo>
                  <a:pt x="15107" y="7493"/>
                </a:lnTo>
                <a:lnTo>
                  <a:pt x="15107" y="12828"/>
                </a:lnTo>
                <a:cubicBezTo>
                  <a:pt x="15107" y="13751"/>
                  <a:pt x="15908" y="14482"/>
                  <a:pt x="16943" y="14482"/>
                </a:cubicBezTo>
                <a:lnTo>
                  <a:pt x="18606" y="14482"/>
                </a:lnTo>
                <a:cubicBezTo>
                  <a:pt x="19642" y="14482"/>
                  <a:pt x="20442" y="13751"/>
                  <a:pt x="20442" y="12828"/>
                </a:cubicBezTo>
                <a:lnTo>
                  <a:pt x="20442" y="7493"/>
                </a:lnTo>
                <a:lnTo>
                  <a:pt x="18606" y="7493"/>
                </a:lnTo>
                <a:lnTo>
                  <a:pt x="22113" y="3985"/>
                </a:lnTo>
                <a:lnTo>
                  <a:pt x="25786" y="7493"/>
                </a:lnTo>
                <a:lnTo>
                  <a:pt x="23950" y="7493"/>
                </a:lnTo>
                <a:lnTo>
                  <a:pt x="23950" y="12828"/>
                </a:lnTo>
                <a:cubicBezTo>
                  <a:pt x="23950" y="15596"/>
                  <a:pt x="21374" y="18155"/>
                  <a:pt x="18606" y="18155"/>
                </a:cubicBezTo>
                <a:lnTo>
                  <a:pt x="16943" y="18155"/>
                </a:lnTo>
                <a:cubicBezTo>
                  <a:pt x="14176" y="18155"/>
                  <a:pt x="11599" y="15596"/>
                  <a:pt x="11599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5">
            <a:hlinkClick r:id="" action="ppaction://hlinkshowjump?jump=nextslide"/>
          </p:cNvPr>
          <p:cNvSpPr/>
          <p:nvPr/>
        </p:nvSpPr>
        <p:spPr>
          <a:xfrm>
            <a:off x="795672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лгоритм решения урав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x+21=2x+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носим все слагаемые, содержащ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известные в левую часть уравнения, 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вестные слагаемые в правую, 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тивоположным знак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6x+21=2x+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3851280" y="50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 rot="10800000">
            <a:off x="1979640" y="4653000"/>
            <a:ext cx="3240000" cy="358560"/>
          </a:xfrm>
          <a:custGeom>
            <a:avLst/>
            <a:gdLst>
              <a:gd name="textAreaLeft" fmla="*/ 567000 w 3240000"/>
              <a:gd name="textAreaRight" fmla="*/ 2349000 w 3240000"/>
              <a:gd name="textAreaTop" fmla="*/ 47880 h 358560"/>
              <a:gd name="textAreaBottom" fmla="*/ 31068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3924360" y="5589720"/>
            <a:ext cx="2665440" cy="433080"/>
          </a:xfrm>
          <a:custGeom>
            <a:avLst/>
            <a:gdLst>
              <a:gd name="textAreaLeft" fmla="*/ 466200 w 2665440"/>
              <a:gd name="textAreaRight" fmla="*/ 1932480 w 2665440"/>
              <a:gd name="textAreaTop" fmla="*/ 57960 h 433080"/>
              <a:gd name="textAreaBottom" fmla="*/ 37512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5005800" y="6021360"/>
            <a:ext cx="6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1908000" y="4221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4">
            <a:hlinkClick r:id="" action="ppaction://hlinkshowjump?jump=nextslide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3794"/>
                </a:moveTo>
                <a:lnTo>
                  <a:pt x="26801" y="10800"/>
                </a:lnTo>
                <a:lnTo>
                  <a:pt x="127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иводим подобные слагае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 - 2x = 13 –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бе части уравнения делим на кооффициент при неизвест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= - 8   :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ходим корень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 =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5003640" y="328464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7493"/>
                </a:moveTo>
                <a:lnTo>
                  <a:pt x="15107" y="7493"/>
                </a:lnTo>
                <a:lnTo>
                  <a:pt x="15107" y="12828"/>
                </a:lnTo>
                <a:cubicBezTo>
                  <a:pt x="15107" y="13751"/>
                  <a:pt x="15908" y="14482"/>
                  <a:pt x="16943" y="14482"/>
                </a:cubicBezTo>
                <a:lnTo>
                  <a:pt x="18606" y="14482"/>
                </a:lnTo>
                <a:cubicBezTo>
                  <a:pt x="19642" y="14482"/>
                  <a:pt x="20442" y="13751"/>
                  <a:pt x="20442" y="12828"/>
                </a:cubicBezTo>
                <a:lnTo>
                  <a:pt x="20442" y="7493"/>
                </a:lnTo>
                <a:lnTo>
                  <a:pt x="18606" y="7493"/>
                </a:lnTo>
                <a:lnTo>
                  <a:pt x="22113" y="3985"/>
                </a:lnTo>
                <a:lnTo>
                  <a:pt x="25786" y="7493"/>
                </a:lnTo>
                <a:lnTo>
                  <a:pt x="23950" y="7493"/>
                </a:lnTo>
                <a:lnTo>
                  <a:pt x="23950" y="12828"/>
                </a:lnTo>
                <a:cubicBezTo>
                  <a:pt x="23950" y="15596"/>
                  <a:pt x="21374" y="18155"/>
                  <a:pt x="18606" y="18155"/>
                </a:cubicBezTo>
                <a:lnTo>
                  <a:pt x="16943" y="18155"/>
                </a:lnTo>
                <a:cubicBezTo>
                  <a:pt x="14176" y="18155"/>
                  <a:pt x="11599" y="15596"/>
                  <a:pt x="11599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>
            <a:hlinkClick r:id="" action="ppaction://hlinkshowjump?jump=nextslide"/>
          </p:cNvPr>
          <p:cNvSpPr/>
          <p:nvPr/>
        </p:nvSpPr>
        <p:spPr>
          <a:xfrm>
            <a:off x="8028000" y="6524640"/>
            <a:ext cx="576360" cy="3333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28" y="1400"/>
                </a:lnTo>
                <a:lnTo>
                  <a:pt x="1400" y="140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28" y="20200"/>
                </a:lnTo>
                <a:lnTo>
                  <a:pt x="35928" y="140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28" y="2020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28" h="21600">
                <a:moveTo>
                  <a:pt x="11658" y="3794"/>
                </a:moveTo>
                <a:lnTo>
                  <a:pt x="25671" y="10800"/>
                </a:lnTo>
                <a:lnTo>
                  <a:pt x="1165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Это познавательно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59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ложенный способ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я является прие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“</a:t>
            </a:r>
            <a:r>
              <a:rPr b="1" i="1" lang="ru-RU" sz="2800" spc="-1" strike="noStrike">
                <a:solidFill>
                  <a:srgbClr val="000000"/>
                </a:solidFill>
                <a:latin typeface="바탕"/>
              </a:rPr>
              <a:t>восполнения и противопоставления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-Хорез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абское название эт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-джеб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я АЛГЕБ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Al-Chwarizmi"/>
          <p:cNvPicPr/>
          <p:nvPr/>
        </p:nvPicPr>
        <p:blipFill>
          <a:blip r:embed="rId2"/>
          <a:stretch/>
        </p:blipFill>
        <p:spPr>
          <a:xfrm>
            <a:off x="6372360" y="1700280"/>
            <a:ext cx="2546280" cy="3449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6156360" y="5157720"/>
            <a:ext cx="24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Verdana"/>
              </a:rPr>
              <a:t>Аль-Хорезми – арабский ученый (825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8569440" y="6453360"/>
            <a:ext cx="574560" cy="404640"/>
          </a:xfrm>
          <a:custGeom>
            <a:avLst/>
            <a:gdLst>
              <a:gd name="textAreaLeft" fmla="*/ 25920 w 574560"/>
              <a:gd name="textAreaRight" fmla="*/ 548640 w 57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62" h="21600">
                <a:moveTo>
                  <a:pt x="0" y="0"/>
                </a:moveTo>
                <a:lnTo>
                  <a:pt x="30662" y="0"/>
                </a:lnTo>
                <a:lnTo>
                  <a:pt x="30662" y="21600"/>
                </a:lnTo>
                <a:lnTo>
                  <a:pt x="0" y="21600"/>
                </a:lnTo>
                <a:close/>
              </a:path>
              <a:path fill="lightenLess" w="30662" h="21600">
                <a:moveTo>
                  <a:pt x="0" y="0"/>
                </a:moveTo>
                <a:lnTo>
                  <a:pt x="30662" y="0"/>
                </a:lnTo>
                <a:lnTo>
                  <a:pt x="29262" y="1400"/>
                </a:lnTo>
                <a:lnTo>
                  <a:pt x="1400" y="1400"/>
                </a:lnTo>
                <a:close/>
              </a:path>
              <a:path fill="darken" w="30662" h="21600">
                <a:moveTo>
                  <a:pt x="30662" y="0"/>
                </a:moveTo>
                <a:lnTo>
                  <a:pt x="30662" y="21600"/>
                </a:lnTo>
                <a:lnTo>
                  <a:pt x="29262" y="20200"/>
                </a:lnTo>
                <a:lnTo>
                  <a:pt x="29262" y="1400"/>
                </a:lnTo>
                <a:close/>
              </a:path>
              <a:path fill="darkenLess" w="30662" h="21600">
                <a:moveTo>
                  <a:pt x="30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62" y="20200"/>
                </a:lnTo>
                <a:close/>
              </a:path>
              <a:path fill="lighten" w="30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62" h="21600">
                <a:moveTo>
                  <a:pt x="8325" y="7493"/>
                </a:moveTo>
                <a:lnTo>
                  <a:pt x="11832" y="7493"/>
                </a:lnTo>
                <a:lnTo>
                  <a:pt x="11832" y="12828"/>
                </a:lnTo>
                <a:cubicBezTo>
                  <a:pt x="11832" y="13751"/>
                  <a:pt x="12633" y="14482"/>
                  <a:pt x="13669" y="14482"/>
                </a:cubicBezTo>
                <a:lnTo>
                  <a:pt x="15331" y="14482"/>
                </a:lnTo>
                <a:cubicBezTo>
                  <a:pt x="16367" y="14482"/>
                  <a:pt x="17168" y="13751"/>
                  <a:pt x="17168" y="12828"/>
                </a:cubicBezTo>
                <a:lnTo>
                  <a:pt x="17168" y="7493"/>
                </a:lnTo>
                <a:lnTo>
                  <a:pt x="15331" y="7493"/>
                </a:lnTo>
                <a:lnTo>
                  <a:pt x="18839" y="3985"/>
                </a:lnTo>
                <a:lnTo>
                  <a:pt x="22512" y="7493"/>
                </a:lnTo>
                <a:lnTo>
                  <a:pt x="20675" y="7493"/>
                </a:lnTo>
                <a:lnTo>
                  <a:pt x="20675" y="12828"/>
                </a:lnTo>
                <a:cubicBezTo>
                  <a:pt x="20675" y="15596"/>
                  <a:pt x="18099" y="18155"/>
                  <a:pt x="15331" y="18155"/>
                </a:cubicBezTo>
                <a:lnTo>
                  <a:pt x="13669" y="18155"/>
                </a:lnTo>
                <a:cubicBezTo>
                  <a:pt x="10901" y="18155"/>
                  <a:pt x="8325" y="15596"/>
                  <a:pt x="8325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>
            <a:hlinkClick r:id="" action="ppaction://hlinkshowjump?jump=nextslide"/>
          </p:cNvPr>
          <p:cNvSpPr/>
          <p:nvPr/>
        </p:nvSpPr>
        <p:spPr>
          <a:xfrm>
            <a:off x="8028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13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кажи правильное ре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 -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427640" y="2421000"/>
            <a:ext cx="73080" cy="3600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95280" y="2997360"/>
            <a:ext cx="3743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 – 3 z =1 +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2 z = 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 = - 6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716360" y="2924280"/>
            <a:ext cx="38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 – 3 z = 1 -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2 z = -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 = 5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7493"/>
                </a:moveTo>
                <a:lnTo>
                  <a:pt x="11670" y="7493"/>
                </a:lnTo>
                <a:lnTo>
                  <a:pt x="11670" y="12828"/>
                </a:lnTo>
                <a:cubicBezTo>
                  <a:pt x="11670" y="13751"/>
                  <a:pt x="12471" y="14482"/>
                  <a:pt x="13507" y="14482"/>
                </a:cubicBezTo>
                <a:lnTo>
                  <a:pt x="15169" y="14482"/>
                </a:lnTo>
                <a:cubicBezTo>
                  <a:pt x="16205" y="14482"/>
                  <a:pt x="17005" y="13751"/>
                  <a:pt x="17005" y="12828"/>
                </a:cubicBezTo>
                <a:lnTo>
                  <a:pt x="17005" y="7493"/>
                </a:lnTo>
                <a:lnTo>
                  <a:pt x="15169" y="7493"/>
                </a:lnTo>
                <a:lnTo>
                  <a:pt x="18677" y="3985"/>
                </a:lnTo>
                <a:lnTo>
                  <a:pt x="22349" y="7493"/>
                </a:lnTo>
                <a:lnTo>
                  <a:pt x="20513" y="7493"/>
                </a:lnTo>
                <a:lnTo>
                  <a:pt x="20513" y="12828"/>
                </a:lnTo>
                <a:cubicBezTo>
                  <a:pt x="20513" y="15596"/>
                  <a:pt x="17937" y="18155"/>
                  <a:pt x="15169" y="18155"/>
                </a:cubicBezTo>
                <a:lnTo>
                  <a:pt x="13507" y="18155"/>
                </a:lnTo>
                <a:cubicBezTo>
                  <a:pt x="10739" y="18155"/>
                  <a:pt x="8162" y="15596"/>
                  <a:pt x="8162" y="12828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7"/>
          <p:cNvSpPr txBox="1"/>
          <p:nvPr/>
        </p:nvSpPr>
        <p:spPr>
          <a:xfrm>
            <a:off x="1187280" y="1700280"/>
            <a:ext cx="676944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55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7008" dir="2216091" blurRad="0" rotWithShape="0">
                    <a:srgbClr val="ff6600"/>
                  </a:outerShdw>
                </a:effectLst>
                <a:latin typeface="Arial"/>
              </a:rPr>
              <a:t>подум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7008" dir="2216091" blurRad="0" rotWithShape="0">
                  <a:srgbClr val="ff66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Picture 11" descr="ребенок"/>
          <p:cNvPicPr/>
          <p:nvPr/>
        </p:nvPicPr>
        <p:blipFill>
          <a:blip r:embed="rId1"/>
          <a:stretch/>
        </p:blipFill>
        <p:spPr>
          <a:xfrm>
            <a:off x="3419640" y="3284640"/>
            <a:ext cx="3103560" cy="233496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2">
            <a:hlinkClick r:id="" action="ppaction://hlinkshowjump?jump=previous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7493"/>
                </a:moveTo>
                <a:lnTo>
                  <a:pt x="14760" y="7493"/>
                </a:lnTo>
                <a:lnTo>
                  <a:pt x="14760" y="12828"/>
                </a:lnTo>
                <a:cubicBezTo>
                  <a:pt x="14760" y="13751"/>
                  <a:pt x="15561" y="14482"/>
                  <a:pt x="16597" y="14482"/>
                </a:cubicBezTo>
                <a:lnTo>
                  <a:pt x="18259" y="14482"/>
                </a:lnTo>
                <a:cubicBezTo>
                  <a:pt x="19295" y="14482"/>
                  <a:pt x="20096" y="13751"/>
                  <a:pt x="20096" y="12828"/>
                </a:cubicBezTo>
                <a:lnTo>
                  <a:pt x="20096" y="7493"/>
                </a:lnTo>
                <a:lnTo>
                  <a:pt x="18259" y="7493"/>
                </a:lnTo>
                <a:lnTo>
                  <a:pt x="21767" y="3985"/>
                </a:lnTo>
                <a:lnTo>
                  <a:pt x="25440" y="7493"/>
                </a:lnTo>
                <a:lnTo>
                  <a:pt x="23603" y="7493"/>
                </a:lnTo>
                <a:lnTo>
                  <a:pt x="23603" y="12828"/>
                </a:lnTo>
                <a:cubicBezTo>
                  <a:pt x="23603" y="15596"/>
                  <a:pt x="21027" y="18155"/>
                  <a:pt x="18259" y="18155"/>
                </a:cubicBezTo>
                <a:lnTo>
                  <a:pt x="16597" y="18155"/>
                </a:lnTo>
                <a:cubicBezTo>
                  <a:pt x="13829" y="18155"/>
                  <a:pt x="11253" y="15596"/>
                  <a:pt x="11253" y="12828"/>
                </a:cubicBez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2:38:24Z</dcterms:created>
  <dc:creator>X</dc:creator>
  <dc:description/>
  <dc:language>en-US</dc:language>
  <cp:lastModifiedBy>Коля</cp:lastModifiedBy>
  <dcterms:modified xsi:type="dcterms:W3CDTF">2013-03-26T17:13:53Z</dcterms:modified>
  <cp:revision>77</cp:revision>
  <dc:subject/>
  <dc:title>Решение линейных уравнений</dc:title>
</cp:coreProperties>
</file>