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applause.wav" ContentType="audio/x-wav"/>
  <Override PartName="/ppt/media/chimes.wav" ContentType="audio/x-wav"/>
  <Override PartName="/ppt/media/image4.gif" ContentType="image/gif"/>
  <Override PartName="/ppt/media/image5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5E894-25A8-4070-8136-AA1698149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87E53-0EC4-44EE-9D08-3D9BE3225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CAB81-27D4-4D2E-A483-4B1219FF8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C36F3-7AC7-4A1C-B8E8-8EC88A2A0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FFD7E-0460-4087-9504-9615E6AF4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BF6B9-38E1-4F70-85C9-6C79DBE33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5F311-23DF-4CB4-86C0-B9FBEB7CE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EDFE3-A795-4CB1-99FE-B596F05C8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EDBBC-7282-41C3-982E-5B4D52B87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F81B5-3A48-4F45-BD00-E42A24C5E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A0EE4-31FD-4E44-B839-DE55C2DC2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4A886-7E17-4844-81FB-EA424C7F7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90447-FA1F-4068-B731-48499A1D7D7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5.xml"/><Relationship Id="rId3" Type="http://schemas.openxmlformats.org/officeDocument/2006/relationships/slide" Target="slide7.xml"/><Relationship Id="rId4" Type="http://schemas.openxmlformats.org/officeDocument/2006/relationships/slide" Target="slide8.xml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8930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00"/>
                </a:solidFill>
                <a:latin typeface="Arial"/>
              </a:rPr>
              <a:t>Линейные  уравнения</a:t>
            </a:r>
            <a:br>
              <a:rPr sz="4400"/>
            </a:b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ax=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29"/>
          <p:cNvSpPr/>
          <p:nvPr/>
        </p:nvSpPr>
        <p:spPr>
          <a:xfrm>
            <a:off x="395280" y="4365720"/>
            <a:ext cx="4392720" cy="19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00"/>
                </a:solidFill>
                <a:latin typeface="Arial"/>
              </a:rPr>
              <a:t>Курсовая рабо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ителя математики школы №88 Калининского райо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Соколовой Нины Андреев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30" descr="j0300912"/>
          <p:cNvPicPr/>
          <p:nvPr/>
        </p:nvPicPr>
        <p:blipFill>
          <a:blip r:embed="rId2"/>
          <a:stretch/>
        </p:blipFill>
        <p:spPr>
          <a:xfrm>
            <a:off x="5003640" y="2259000"/>
            <a:ext cx="4140360" cy="3925800"/>
          </a:xfrm>
          <a:prstGeom prst="rect">
            <a:avLst/>
          </a:prstGeom>
          <a:ln w="0">
            <a:noFill/>
          </a:ln>
        </p:spPr>
      </p:pic>
      <p:sp>
        <p:nvSpPr>
          <p:cNvPr id="44" name="AutoShape 31">
            <a:hlinkClick r:id="" action="ppaction://hlinkshowjump?jump=nextslide"/>
          </p:cNvPr>
          <p:cNvSpPr/>
          <p:nvPr/>
        </p:nvSpPr>
        <p:spPr>
          <a:xfrm>
            <a:off x="8748720" y="6597720"/>
            <a:ext cx="395280" cy="260280"/>
          </a:xfrm>
          <a:custGeom>
            <a:avLst/>
            <a:gdLst>
              <a:gd name="textAreaLeft" fmla="*/ 16560 w 395280"/>
              <a:gd name="textAreaRight" fmla="*/ 378720 w 395280"/>
              <a:gd name="textAreaTop" fmla="*/ 16560 h 260280"/>
              <a:gd name="textAreaBottom" fmla="*/ 243720 h 260280"/>
            </a:gdLst>
            <a:ahLst/>
            <a:rect l="textAreaLeft" t="textAreaTop" r="textAreaRight" b="textAreaBottom"/>
            <a:pathLst>
              <a:path w="32788" h="21600">
                <a:moveTo>
                  <a:pt x="0" y="0"/>
                </a:moveTo>
                <a:lnTo>
                  <a:pt x="32788" y="0"/>
                </a:lnTo>
                <a:lnTo>
                  <a:pt x="32788" y="21600"/>
                </a:lnTo>
                <a:lnTo>
                  <a:pt x="0" y="21600"/>
                </a:lnTo>
                <a:close/>
              </a:path>
              <a:path fill="lightenLess" w="32788" h="21600">
                <a:moveTo>
                  <a:pt x="0" y="0"/>
                </a:moveTo>
                <a:lnTo>
                  <a:pt x="32788" y="0"/>
                </a:lnTo>
                <a:lnTo>
                  <a:pt x="31388" y="1400"/>
                </a:lnTo>
                <a:lnTo>
                  <a:pt x="1400" y="1400"/>
                </a:lnTo>
                <a:close/>
              </a:path>
              <a:path fill="darken" w="32788" h="21600">
                <a:moveTo>
                  <a:pt x="32788" y="0"/>
                </a:moveTo>
                <a:lnTo>
                  <a:pt x="32788" y="21600"/>
                </a:lnTo>
                <a:lnTo>
                  <a:pt x="31388" y="20200"/>
                </a:lnTo>
                <a:lnTo>
                  <a:pt x="31388" y="1400"/>
                </a:lnTo>
                <a:close/>
              </a:path>
              <a:path fill="darkenLess" w="32788" h="21600">
                <a:moveTo>
                  <a:pt x="327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388" y="20200"/>
                </a:lnTo>
                <a:close/>
              </a:path>
              <a:path fill="lighten" w="327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788" h="21600">
                <a:moveTo>
                  <a:pt x="9387" y="3794"/>
                </a:moveTo>
                <a:lnTo>
                  <a:pt x="23400" y="10800"/>
                </a:lnTo>
                <a:lnTo>
                  <a:pt x="9387" y="17806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cc"/>
                                </p:to>
                              </p:animCl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3840"/>
                            </p:stCondLst>
                            <p:childTnLst>
                              <p:par>
                                <p:cTn id="1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5840"/>
                            </p:stCondLst>
                            <p:childTnLst>
                              <p:par>
                                <p:cTn id="1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WordArt 8"/>
          <p:cNvSpPr txBox="1"/>
          <p:nvPr/>
        </p:nvSpPr>
        <p:spPr>
          <a:xfrm>
            <a:off x="1116000" y="1484280"/>
            <a:ext cx="6696000" cy="1882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молодец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142" name="Picture 9" descr="клоун">
            <a:hlinkClick r:id="" action="ppaction://hlinkshowjump?jump=endshow"/>
          </p:cNvPr>
          <p:cNvPicPr/>
          <p:nvPr/>
        </p:nvPicPr>
        <p:blipFill>
          <a:blip r:embed="rId1"/>
          <a:stretch/>
        </p:blipFill>
        <p:spPr>
          <a:xfrm>
            <a:off x="1835280" y="3933720"/>
            <a:ext cx="1904760" cy="190512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00"/>
            </a:gs>
            <a:gs pos="100000">
              <a:srgbClr val="ff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905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99"/>
                </a:solidFill>
                <a:latin typeface="Arial"/>
              </a:rPr>
              <a:t>Оглавление: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1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Решение уравнен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0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Алгоритм решения уравнен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00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Это познавательн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ru-RU" sz="44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Укажи правильное реш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4">
            <a:hlinkClick r:id="" action="ppaction://hlinkshowjump?jump=nextslide"/>
          </p:cNvPr>
          <p:cNvSpPr/>
          <p:nvPr/>
        </p:nvSpPr>
        <p:spPr>
          <a:xfrm>
            <a:off x="8604360" y="6524640"/>
            <a:ext cx="539640" cy="333360"/>
          </a:xfrm>
          <a:custGeom>
            <a:avLst/>
            <a:gdLst>
              <a:gd name="textAreaLeft" fmla="*/ 21600 w 539640"/>
              <a:gd name="textAreaRight" fmla="*/ 518040 w 53964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34951" h="21600">
                <a:moveTo>
                  <a:pt x="0" y="0"/>
                </a:moveTo>
                <a:lnTo>
                  <a:pt x="34951" y="0"/>
                </a:lnTo>
                <a:lnTo>
                  <a:pt x="34951" y="21600"/>
                </a:lnTo>
                <a:lnTo>
                  <a:pt x="0" y="21600"/>
                </a:lnTo>
                <a:close/>
              </a:path>
              <a:path fill="lightenLess" w="34951" h="21600">
                <a:moveTo>
                  <a:pt x="0" y="0"/>
                </a:moveTo>
                <a:lnTo>
                  <a:pt x="34951" y="0"/>
                </a:lnTo>
                <a:lnTo>
                  <a:pt x="33551" y="1400"/>
                </a:lnTo>
                <a:lnTo>
                  <a:pt x="1400" y="1400"/>
                </a:lnTo>
                <a:close/>
              </a:path>
              <a:path fill="darken" w="34951" h="21600">
                <a:moveTo>
                  <a:pt x="34951" y="0"/>
                </a:moveTo>
                <a:lnTo>
                  <a:pt x="34951" y="21600"/>
                </a:lnTo>
                <a:lnTo>
                  <a:pt x="33551" y="20200"/>
                </a:lnTo>
                <a:lnTo>
                  <a:pt x="33551" y="1400"/>
                </a:lnTo>
                <a:close/>
              </a:path>
              <a:path fill="darkenLess" w="34951" h="21600">
                <a:moveTo>
                  <a:pt x="349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551" y="20200"/>
                </a:lnTo>
                <a:close/>
              </a:path>
              <a:path fill="lighten" w="349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951" h="21600">
                <a:moveTo>
                  <a:pt x="10469" y="3794"/>
                </a:moveTo>
                <a:lnTo>
                  <a:pt x="24482" y="10800"/>
                </a:lnTo>
                <a:lnTo>
                  <a:pt x="10469" y="17806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Решение уравнений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x=2x+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539640" y="4869000"/>
            <a:ext cx="7848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чтем из обеих частей уравнения по 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 снимем с обеих чашек весов по 2 яблока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6"/>
          <p:cNvSpPr/>
          <p:nvPr/>
        </p:nvSpPr>
        <p:spPr>
          <a:xfrm>
            <a:off x="4356000" y="3789360"/>
            <a:ext cx="432000" cy="93672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16"/>
          <p:cNvSpPr/>
          <p:nvPr/>
        </p:nvSpPr>
        <p:spPr>
          <a:xfrm>
            <a:off x="1116000" y="3789360"/>
            <a:ext cx="6624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52"/>
          <p:cNvGrpSpPr/>
          <p:nvPr/>
        </p:nvGrpSpPr>
        <p:grpSpPr>
          <a:xfrm>
            <a:off x="5471640" y="2854080"/>
            <a:ext cx="772560" cy="960480"/>
            <a:chOff x="5471640" y="2854080"/>
            <a:chExt cx="772560" cy="960480"/>
          </a:xfrm>
        </p:grpSpPr>
        <p:grpSp>
          <p:nvGrpSpPr>
            <p:cNvPr id="54" name="Group 41"/>
            <p:cNvGrpSpPr/>
            <p:nvPr/>
          </p:nvGrpSpPr>
          <p:grpSpPr>
            <a:xfrm>
              <a:off x="5471640" y="2854080"/>
              <a:ext cx="772560" cy="960480"/>
              <a:chOff x="5471640" y="2854080"/>
              <a:chExt cx="772560" cy="960480"/>
            </a:xfrm>
          </p:grpSpPr>
          <p:sp>
            <p:nvSpPr>
              <p:cNvPr id="55" name="Oval 42"/>
              <p:cNvSpPr/>
              <p:nvPr/>
            </p:nvSpPr>
            <p:spPr>
              <a:xfrm rot="267000">
                <a:off x="5498280" y="3068280"/>
                <a:ext cx="718920" cy="719280"/>
              </a:xfrm>
              <a:prstGeom prst="ellipse">
                <a:avLst/>
              </a:prstGeom>
              <a:gradFill rotWithShape="0">
                <a:gsLst>
                  <a:gs pos="0">
                    <a:srgbClr val="cc0000"/>
                  </a:gs>
                  <a:gs pos="100000">
                    <a:srgbClr val="ffff99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AutoShape 43"/>
              <p:cNvSpPr/>
              <p:nvPr/>
            </p:nvSpPr>
            <p:spPr>
              <a:xfrm flipV="1" rot="266400">
                <a:off x="5890320" y="2855880"/>
                <a:ext cx="70920" cy="287280"/>
              </a:xfrm>
              <a:prstGeom prst="rtTriangl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440" bIns="46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Text Box 51"/>
            <p:cNvSpPr/>
            <p:nvPr/>
          </p:nvSpPr>
          <p:spPr>
            <a:xfrm rot="267000">
              <a:off x="5639760" y="3141000"/>
              <a:ext cx="432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600" spc="-1" strike="noStrike">
                  <a:solidFill>
                    <a:srgbClr val="990000"/>
                  </a:solidFill>
                  <a:latin typeface="Times New Roman"/>
                </a:rPr>
                <a:t>х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" name="Group 53"/>
          <p:cNvGrpSpPr/>
          <p:nvPr/>
        </p:nvGrpSpPr>
        <p:grpSpPr>
          <a:xfrm>
            <a:off x="4679640" y="2854080"/>
            <a:ext cx="772560" cy="960480"/>
            <a:chOff x="4679640" y="2854080"/>
            <a:chExt cx="772560" cy="960480"/>
          </a:xfrm>
        </p:grpSpPr>
        <p:grpSp>
          <p:nvGrpSpPr>
            <p:cNvPr id="59" name="Group 54"/>
            <p:cNvGrpSpPr/>
            <p:nvPr/>
          </p:nvGrpSpPr>
          <p:grpSpPr>
            <a:xfrm>
              <a:off x="4679640" y="2854080"/>
              <a:ext cx="772560" cy="960480"/>
              <a:chOff x="4679640" y="2854080"/>
              <a:chExt cx="772560" cy="960480"/>
            </a:xfrm>
          </p:grpSpPr>
          <p:sp>
            <p:nvSpPr>
              <p:cNvPr id="60" name="Oval 55"/>
              <p:cNvSpPr/>
              <p:nvPr/>
            </p:nvSpPr>
            <p:spPr>
              <a:xfrm rot="267000">
                <a:off x="4706280" y="3068280"/>
                <a:ext cx="718920" cy="719280"/>
              </a:xfrm>
              <a:prstGeom prst="ellipse">
                <a:avLst/>
              </a:prstGeom>
              <a:gradFill rotWithShape="0">
                <a:gsLst>
                  <a:gs pos="0">
                    <a:srgbClr val="cc0000"/>
                  </a:gs>
                  <a:gs pos="100000">
                    <a:srgbClr val="ffff99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AutoShape 56"/>
              <p:cNvSpPr/>
              <p:nvPr/>
            </p:nvSpPr>
            <p:spPr>
              <a:xfrm flipV="1" rot="266400">
                <a:off x="5098320" y="2855880"/>
                <a:ext cx="70920" cy="287280"/>
              </a:xfrm>
              <a:prstGeom prst="rtTriangl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440" bIns="46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" name="Text Box 57"/>
            <p:cNvSpPr/>
            <p:nvPr/>
          </p:nvSpPr>
          <p:spPr>
            <a:xfrm rot="267000">
              <a:off x="4847760" y="3141000"/>
              <a:ext cx="432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600" spc="-1" strike="noStrike">
                  <a:solidFill>
                    <a:srgbClr val="990000"/>
                  </a:solidFill>
                  <a:latin typeface="Times New Roman"/>
                </a:rPr>
                <a:t>х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Group 58"/>
          <p:cNvGrpSpPr/>
          <p:nvPr/>
        </p:nvGrpSpPr>
        <p:grpSpPr>
          <a:xfrm>
            <a:off x="2665080" y="2206080"/>
            <a:ext cx="772560" cy="960120"/>
            <a:chOff x="2665080" y="2206080"/>
            <a:chExt cx="772560" cy="960120"/>
          </a:xfrm>
        </p:grpSpPr>
        <p:grpSp>
          <p:nvGrpSpPr>
            <p:cNvPr id="64" name="Group 59"/>
            <p:cNvGrpSpPr/>
            <p:nvPr/>
          </p:nvGrpSpPr>
          <p:grpSpPr>
            <a:xfrm>
              <a:off x="2665080" y="2206080"/>
              <a:ext cx="772560" cy="960120"/>
              <a:chOff x="2665080" y="2206080"/>
              <a:chExt cx="772560" cy="960120"/>
            </a:xfrm>
          </p:grpSpPr>
          <p:sp>
            <p:nvSpPr>
              <p:cNvPr id="65" name="Oval 60"/>
              <p:cNvSpPr/>
              <p:nvPr/>
            </p:nvSpPr>
            <p:spPr>
              <a:xfrm rot="267000">
                <a:off x="2691720" y="2420280"/>
                <a:ext cx="718920" cy="718920"/>
              </a:xfrm>
              <a:prstGeom prst="ellipse">
                <a:avLst/>
              </a:prstGeom>
              <a:gradFill rotWithShape="0">
                <a:gsLst>
                  <a:gs pos="0">
                    <a:srgbClr val="cc0000"/>
                  </a:gs>
                  <a:gs pos="100000">
                    <a:srgbClr val="ffff99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AutoShape 61"/>
              <p:cNvSpPr/>
              <p:nvPr/>
            </p:nvSpPr>
            <p:spPr>
              <a:xfrm flipV="1" rot="266400">
                <a:off x="3083760" y="2208240"/>
                <a:ext cx="70920" cy="286920"/>
              </a:xfrm>
              <a:prstGeom prst="rtTriangl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080" bIns="46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7" name="Text Box 62"/>
            <p:cNvSpPr/>
            <p:nvPr/>
          </p:nvSpPr>
          <p:spPr>
            <a:xfrm rot="267000">
              <a:off x="2833200" y="2493000"/>
              <a:ext cx="432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600" spc="-1" strike="noStrike">
                  <a:solidFill>
                    <a:srgbClr val="990000"/>
                  </a:solidFill>
                  <a:latin typeface="Times New Roman"/>
                </a:rPr>
                <a:t>х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" name="Group 63"/>
          <p:cNvGrpSpPr/>
          <p:nvPr/>
        </p:nvGrpSpPr>
        <p:grpSpPr>
          <a:xfrm>
            <a:off x="1944360" y="2206080"/>
            <a:ext cx="772560" cy="960120"/>
            <a:chOff x="1944360" y="2206080"/>
            <a:chExt cx="772560" cy="960120"/>
          </a:xfrm>
        </p:grpSpPr>
        <p:grpSp>
          <p:nvGrpSpPr>
            <p:cNvPr id="69" name="Group 64"/>
            <p:cNvGrpSpPr/>
            <p:nvPr/>
          </p:nvGrpSpPr>
          <p:grpSpPr>
            <a:xfrm>
              <a:off x="1944360" y="2206080"/>
              <a:ext cx="772560" cy="960120"/>
              <a:chOff x="1944360" y="2206080"/>
              <a:chExt cx="772560" cy="960120"/>
            </a:xfrm>
          </p:grpSpPr>
          <p:sp>
            <p:nvSpPr>
              <p:cNvPr id="70" name="Oval 65"/>
              <p:cNvSpPr/>
              <p:nvPr/>
            </p:nvSpPr>
            <p:spPr>
              <a:xfrm rot="267000">
                <a:off x="1971000" y="2420280"/>
                <a:ext cx="718920" cy="718920"/>
              </a:xfrm>
              <a:prstGeom prst="ellipse">
                <a:avLst/>
              </a:prstGeom>
              <a:gradFill rotWithShape="0">
                <a:gsLst>
                  <a:gs pos="0">
                    <a:srgbClr val="cc0000"/>
                  </a:gs>
                  <a:gs pos="100000">
                    <a:srgbClr val="ffff99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AutoShape 66"/>
              <p:cNvSpPr/>
              <p:nvPr/>
            </p:nvSpPr>
            <p:spPr>
              <a:xfrm flipV="1" rot="266400">
                <a:off x="2363040" y="2208240"/>
                <a:ext cx="70920" cy="286920"/>
              </a:xfrm>
              <a:prstGeom prst="rtTriangl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080" bIns="46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2" name="Text Box 67"/>
            <p:cNvSpPr/>
            <p:nvPr/>
          </p:nvSpPr>
          <p:spPr>
            <a:xfrm rot="267000">
              <a:off x="2112480" y="2493000"/>
              <a:ext cx="432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600" spc="-1" strike="noStrike">
                  <a:solidFill>
                    <a:srgbClr val="990000"/>
                  </a:solidFill>
                  <a:latin typeface="Times New Roman"/>
                </a:rPr>
                <a:t>х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Group 68"/>
          <p:cNvGrpSpPr/>
          <p:nvPr/>
        </p:nvGrpSpPr>
        <p:grpSpPr>
          <a:xfrm>
            <a:off x="3024000" y="2854080"/>
            <a:ext cx="772560" cy="960480"/>
            <a:chOff x="3024000" y="2854080"/>
            <a:chExt cx="772560" cy="960480"/>
          </a:xfrm>
        </p:grpSpPr>
        <p:grpSp>
          <p:nvGrpSpPr>
            <p:cNvPr id="74" name="Group 69"/>
            <p:cNvGrpSpPr/>
            <p:nvPr/>
          </p:nvGrpSpPr>
          <p:grpSpPr>
            <a:xfrm>
              <a:off x="3024000" y="2854080"/>
              <a:ext cx="772560" cy="960480"/>
              <a:chOff x="3024000" y="2854080"/>
              <a:chExt cx="772560" cy="960480"/>
            </a:xfrm>
          </p:grpSpPr>
          <p:sp>
            <p:nvSpPr>
              <p:cNvPr id="75" name="Oval 70"/>
              <p:cNvSpPr/>
              <p:nvPr/>
            </p:nvSpPr>
            <p:spPr>
              <a:xfrm rot="267000">
                <a:off x="3050640" y="3068280"/>
                <a:ext cx="718920" cy="719280"/>
              </a:xfrm>
              <a:prstGeom prst="ellipse">
                <a:avLst/>
              </a:prstGeom>
              <a:gradFill rotWithShape="0">
                <a:gsLst>
                  <a:gs pos="0">
                    <a:srgbClr val="cc0000"/>
                  </a:gs>
                  <a:gs pos="100000">
                    <a:srgbClr val="ffff99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AutoShape 71"/>
              <p:cNvSpPr/>
              <p:nvPr/>
            </p:nvSpPr>
            <p:spPr>
              <a:xfrm flipV="1" rot="266400">
                <a:off x="3442680" y="2855880"/>
                <a:ext cx="70920" cy="287280"/>
              </a:xfrm>
              <a:prstGeom prst="rtTriangl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440" bIns="46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" name="Text Box 72"/>
            <p:cNvSpPr/>
            <p:nvPr/>
          </p:nvSpPr>
          <p:spPr>
            <a:xfrm rot="267000">
              <a:off x="3192120" y="3141000"/>
              <a:ext cx="432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600" spc="-1" strike="noStrike">
                  <a:solidFill>
                    <a:srgbClr val="990000"/>
                  </a:solidFill>
                  <a:latin typeface="Times New Roman"/>
                </a:rPr>
                <a:t>х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Group 73"/>
          <p:cNvGrpSpPr/>
          <p:nvPr/>
        </p:nvGrpSpPr>
        <p:grpSpPr>
          <a:xfrm>
            <a:off x="2233080" y="2854080"/>
            <a:ext cx="772560" cy="960480"/>
            <a:chOff x="2233080" y="2854080"/>
            <a:chExt cx="772560" cy="960480"/>
          </a:xfrm>
        </p:grpSpPr>
        <p:grpSp>
          <p:nvGrpSpPr>
            <p:cNvPr id="79" name="Group 74"/>
            <p:cNvGrpSpPr/>
            <p:nvPr/>
          </p:nvGrpSpPr>
          <p:grpSpPr>
            <a:xfrm>
              <a:off x="2233080" y="2854080"/>
              <a:ext cx="772560" cy="960480"/>
              <a:chOff x="2233080" y="2854080"/>
              <a:chExt cx="772560" cy="960480"/>
            </a:xfrm>
          </p:grpSpPr>
          <p:sp>
            <p:nvSpPr>
              <p:cNvPr id="80" name="Oval 75"/>
              <p:cNvSpPr/>
              <p:nvPr/>
            </p:nvSpPr>
            <p:spPr>
              <a:xfrm rot="267000">
                <a:off x="2259720" y="3068280"/>
                <a:ext cx="718920" cy="719280"/>
              </a:xfrm>
              <a:prstGeom prst="ellipse">
                <a:avLst/>
              </a:prstGeom>
              <a:gradFill rotWithShape="0">
                <a:gsLst>
                  <a:gs pos="0">
                    <a:srgbClr val="cc0000"/>
                  </a:gs>
                  <a:gs pos="100000">
                    <a:srgbClr val="ffff99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AutoShape 76"/>
              <p:cNvSpPr/>
              <p:nvPr/>
            </p:nvSpPr>
            <p:spPr>
              <a:xfrm flipV="1" rot="266400">
                <a:off x="2651760" y="2855880"/>
                <a:ext cx="70920" cy="287280"/>
              </a:xfrm>
              <a:prstGeom prst="rtTriangl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440" bIns="46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" name="Text Box 77"/>
            <p:cNvSpPr/>
            <p:nvPr/>
          </p:nvSpPr>
          <p:spPr>
            <a:xfrm rot="267000">
              <a:off x="2401200" y="3141000"/>
              <a:ext cx="432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600" spc="-1" strike="noStrike">
                  <a:solidFill>
                    <a:srgbClr val="990000"/>
                  </a:solidFill>
                  <a:latin typeface="Times New Roman"/>
                </a:rPr>
                <a:t>х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" name="Group 78"/>
          <p:cNvGrpSpPr/>
          <p:nvPr/>
        </p:nvGrpSpPr>
        <p:grpSpPr>
          <a:xfrm>
            <a:off x="1441080" y="2854080"/>
            <a:ext cx="772560" cy="960480"/>
            <a:chOff x="1441080" y="2854080"/>
            <a:chExt cx="772560" cy="960480"/>
          </a:xfrm>
        </p:grpSpPr>
        <p:grpSp>
          <p:nvGrpSpPr>
            <p:cNvPr id="84" name="Group 79"/>
            <p:cNvGrpSpPr/>
            <p:nvPr/>
          </p:nvGrpSpPr>
          <p:grpSpPr>
            <a:xfrm>
              <a:off x="1441080" y="2854080"/>
              <a:ext cx="772560" cy="960480"/>
              <a:chOff x="1441080" y="2854080"/>
              <a:chExt cx="772560" cy="960480"/>
            </a:xfrm>
          </p:grpSpPr>
          <p:sp>
            <p:nvSpPr>
              <p:cNvPr id="85" name="Oval 80"/>
              <p:cNvSpPr/>
              <p:nvPr/>
            </p:nvSpPr>
            <p:spPr>
              <a:xfrm rot="267000">
                <a:off x="1467720" y="3068280"/>
                <a:ext cx="718920" cy="719280"/>
              </a:xfrm>
              <a:prstGeom prst="ellipse">
                <a:avLst/>
              </a:prstGeom>
              <a:gradFill rotWithShape="0">
                <a:gsLst>
                  <a:gs pos="0">
                    <a:srgbClr val="cc0000"/>
                  </a:gs>
                  <a:gs pos="100000">
                    <a:srgbClr val="ffff99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AutoShape 81"/>
              <p:cNvSpPr/>
              <p:nvPr/>
            </p:nvSpPr>
            <p:spPr>
              <a:xfrm flipV="1" rot="266400">
                <a:off x="1859760" y="2855880"/>
                <a:ext cx="70920" cy="287280"/>
              </a:xfrm>
              <a:prstGeom prst="rtTriangl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440" bIns="46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" name="Text Box 82"/>
            <p:cNvSpPr/>
            <p:nvPr/>
          </p:nvSpPr>
          <p:spPr>
            <a:xfrm rot="267000">
              <a:off x="1609200" y="3141000"/>
              <a:ext cx="432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600" spc="-1" strike="noStrike">
                  <a:solidFill>
                    <a:srgbClr val="990000"/>
                  </a:solidFill>
                  <a:latin typeface="Times New Roman"/>
                </a:rPr>
                <a:t>х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" name="AutoShape 83"/>
          <p:cNvSpPr/>
          <p:nvPr/>
        </p:nvSpPr>
        <p:spPr>
          <a:xfrm rot="10800000">
            <a:off x="6300360" y="2852640"/>
            <a:ext cx="1295640" cy="935280"/>
          </a:xfrm>
          <a:custGeom>
            <a:avLst/>
            <a:gdLst>
              <a:gd name="textAreaLeft" fmla="*/ 270000 w 1295640"/>
              <a:gd name="textAreaRight" fmla="*/ 1026000 w 1295640"/>
              <a:gd name="textAreaTop" fmla="*/ 194760 h 935280"/>
              <a:gd name="textAreaBottom" fmla="*/ 740520 h 93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80808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84"/>
          <p:cNvSpPr/>
          <p:nvPr/>
        </p:nvSpPr>
        <p:spPr>
          <a:xfrm>
            <a:off x="6659640" y="3141720"/>
            <a:ext cx="64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6 к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85">
            <a:hlinkClick r:id="" action="ppaction://hlinkshowjump?jump=nextslide"/>
          </p:cNvPr>
          <p:cNvSpPr/>
          <p:nvPr/>
        </p:nvSpPr>
        <p:spPr>
          <a:xfrm>
            <a:off x="8748720" y="6597720"/>
            <a:ext cx="395280" cy="260280"/>
          </a:xfrm>
          <a:custGeom>
            <a:avLst/>
            <a:gdLst>
              <a:gd name="textAreaLeft" fmla="*/ 16560 w 395280"/>
              <a:gd name="textAreaRight" fmla="*/ 378720 w 395280"/>
              <a:gd name="textAreaTop" fmla="*/ 16560 h 260280"/>
              <a:gd name="textAreaBottom" fmla="*/ 243720 h 260280"/>
            </a:gdLst>
            <a:ahLst/>
            <a:rect l="textAreaLeft" t="textAreaTop" r="textAreaRight" b="textAreaBottom"/>
            <a:pathLst>
              <a:path w="32788" h="21600">
                <a:moveTo>
                  <a:pt x="0" y="0"/>
                </a:moveTo>
                <a:lnTo>
                  <a:pt x="32788" y="0"/>
                </a:lnTo>
                <a:lnTo>
                  <a:pt x="32788" y="21600"/>
                </a:lnTo>
                <a:lnTo>
                  <a:pt x="0" y="21600"/>
                </a:lnTo>
                <a:close/>
              </a:path>
              <a:path fill="lightenLess" w="32788" h="21600">
                <a:moveTo>
                  <a:pt x="0" y="0"/>
                </a:moveTo>
                <a:lnTo>
                  <a:pt x="32788" y="0"/>
                </a:lnTo>
                <a:lnTo>
                  <a:pt x="31388" y="1400"/>
                </a:lnTo>
                <a:lnTo>
                  <a:pt x="1400" y="1400"/>
                </a:lnTo>
                <a:close/>
              </a:path>
              <a:path fill="darken" w="32788" h="21600">
                <a:moveTo>
                  <a:pt x="32788" y="0"/>
                </a:moveTo>
                <a:lnTo>
                  <a:pt x="32788" y="21600"/>
                </a:lnTo>
                <a:lnTo>
                  <a:pt x="31388" y="20200"/>
                </a:lnTo>
                <a:lnTo>
                  <a:pt x="31388" y="1400"/>
                </a:lnTo>
                <a:close/>
              </a:path>
              <a:path fill="darkenLess" w="32788" h="21600">
                <a:moveTo>
                  <a:pt x="327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388" y="20200"/>
                </a:lnTo>
                <a:close/>
              </a:path>
              <a:path fill="lighten" w="327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788" h="21600">
                <a:moveTo>
                  <a:pt x="9387" y="3794"/>
                </a:moveTo>
                <a:lnTo>
                  <a:pt x="23400" y="10800"/>
                </a:lnTo>
                <a:lnTo>
                  <a:pt x="9387" y="17806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3" dur="5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7" dur="10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10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1" dur="10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10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395280" y="33300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олучим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5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-2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x=2x+6-2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x=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0" y="53737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cc0000"/>
                </a:solidFill>
                <a:uFillTx/>
                <a:latin typeface="Verdana"/>
              </a:rPr>
              <a:t>X=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5"/>
          <p:cNvSpPr/>
          <p:nvPr/>
        </p:nvSpPr>
        <p:spPr>
          <a:xfrm>
            <a:off x="4356000" y="3789360"/>
            <a:ext cx="432000" cy="93672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6"/>
          <p:cNvSpPr/>
          <p:nvPr/>
        </p:nvSpPr>
        <p:spPr>
          <a:xfrm>
            <a:off x="1116000" y="3789360"/>
            <a:ext cx="6624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Group 27"/>
          <p:cNvGrpSpPr/>
          <p:nvPr/>
        </p:nvGrpSpPr>
        <p:grpSpPr>
          <a:xfrm>
            <a:off x="3024000" y="2854080"/>
            <a:ext cx="772560" cy="960480"/>
            <a:chOff x="3024000" y="2854080"/>
            <a:chExt cx="772560" cy="960480"/>
          </a:xfrm>
        </p:grpSpPr>
        <p:grpSp>
          <p:nvGrpSpPr>
            <p:cNvPr id="96" name="Group 28"/>
            <p:cNvGrpSpPr/>
            <p:nvPr/>
          </p:nvGrpSpPr>
          <p:grpSpPr>
            <a:xfrm>
              <a:off x="3024000" y="2854080"/>
              <a:ext cx="772560" cy="960480"/>
              <a:chOff x="3024000" y="2854080"/>
              <a:chExt cx="772560" cy="960480"/>
            </a:xfrm>
          </p:grpSpPr>
          <p:sp>
            <p:nvSpPr>
              <p:cNvPr id="97" name="Oval 29"/>
              <p:cNvSpPr/>
              <p:nvPr/>
            </p:nvSpPr>
            <p:spPr>
              <a:xfrm rot="267000">
                <a:off x="3050640" y="3068280"/>
                <a:ext cx="718920" cy="719280"/>
              </a:xfrm>
              <a:prstGeom prst="ellipse">
                <a:avLst/>
              </a:prstGeom>
              <a:gradFill rotWithShape="0">
                <a:gsLst>
                  <a:gs pos="0">
                    <a:srgbClr val="cc0000"/>
                  </a:gs>
                  <a:gs pos="100000">
                    <a:srgbClr val="ffff99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AutoShape 30"/>
              <p:cNvSpPr/>
              <p:nvPr/>
            </p:nvSpPr>
            <p:spPr>
              <a:xfrm flipV="1" rot="266400">
                <a:off x="3442680" y="2855880"/>
                <a:ext cx="70920" cy="287280"/>
              </a:xfrm>
              <a:prstGeom prst="rtTriangl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440" bIns="46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9" name="Text Box 31"/>
            <p:cNvSpPr/>
            <p:nvPr/>
          </p:nvSpPr>
          <p:spPr>
            <a:xfrm rot="267000">
              <a:off x="3192120" y="3141000"/>
              <a:ext cx="432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600" spc="-1" strike="noStrike">
                  <a:solidFill>
                    <a:srgbClr val="990000"/>
                  </a:solidFill>
                  <a:latin typeface="Times New Roman"/>
                </a:rPr>
                <a:t>х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Group 32"/>
          <p:cNvGrpSpPr/>
          <p:nvPr/>
        </p:nvGrpSpPr>
        <p:grpSpPr>
          <a:xfrm>
            <a:off x="2233080" y="2854080"/>
            <a:ext cx="772560" cy="960480"/>
            <a:chOff x="2233080" y="2854080"/>
            <a:chExt cx="772560" cy="960480"/>
          </a:xfrm>
        </p:grpSpPr>
        <p:grpSp>
          <p:nvGrpSpPr>
            <p:cNvPr id="101" name="Group 33"/>
            <p:cNvGrpSpPr/>
            <p:nvPr/>
          </p:nvGrpSpPr>
          <p:grpSpPr>
            <a:xfrm>
              <a:off x="2233080" y="2854080"/>
              <a:ext cx="772560" cy="960480"/>
              <a:chOff x="2233080" y="2854080"/>
              <a:chExt cx="772560" cy="960480"/>
            </a:xfrm>
          </p:grpSpPr>
          <p:sp>
            <p:nvSpPr>
              <p:cNvPr id="102" name="Oval 34"/>
              <p:cNvSpPr/>
              <p:nvPr/>
            </p:nvSpPr>
            <p:spPr>
              <a:xfrm rot="267000">
                <a:off x="2259720" y="3068280"/>
                <a:ext cx="718920" cy="719280"/>
              </a:xfrm>
              <a:prstGeom prst="ellipse">
                <a:avLst/>
              </a:prstGeom>
              <a:gradFill rotWithShape="0">
                <a:gsLst>
                  <a:gs pos="0">
                    <a:srgbClr val="cc0000"/>
                  </a:gs>
                  <a:gs pos="100000">
                    <a:srgbClr val="ffff99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AutoShape 35"/>
              <p:cNvSpPr/>
              <p:nvPr/>
            </p:nvSpPr>
            <p:spPr>
              <a:xfrm flipV="1" rot="266400">
                <a:off x="2651760" y="2855880"/>
                <a:ext cx="70920" cy="287280"/>
              </a:xfrm>
              <a:prstGeom prst="rtTriangl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440" bIns="46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4" name="Text Box 36"/>
            <p:cNvSpPr/>
            <p:nvPr/>
          </p:nvSpPr>
          <p:spPr>
            <a:xfrm rot="267000">
              <a:off x="2401200" y="3141000"/>
              <a:ext cx="432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600" spc="-1" strike="noStrike">
                  <a:solidFill>
                    <a:srgbClr val="990000"/>
                  </a:solidFill>
                  <a:latin typeface="Times New Roman"/>
                </a:rPr>
                <a:t>х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Group 37"/>
          <p:cNvGrpSpPr/>
          <p:nvPr/>
        </p:nvGrpSpPr>
        <p:grpSpPr>
          <a:xfrm>
            <a:off x="1441080" y="2854080"/>
            <a:ext cx="772560" cy="960480"/>
            <a:chOff x="1441080" y="2854080"/>
            <a:chExt cx="772560" cy="960480"/>
          </a:xfrm>
        </p:grpSpPr>
        <p:grpSp>
          <p:nvGrpSpPr>
            <p:cNvPr id="106" name="Group 38"/>
            <p:cNvGrpSpPr/>
            <p:nvPr/>
          </p:nvGrpSpPr>
          <p:grpSpPr>
            <a:xfrm>
              <a:off x="1441080" y="2854080"/>
              <a:ext cx="772560" cy="960480"/>
              <a:chOff x="1441080" y="2854080"/>
              <a:chExt cx="772560" cy="960480"/>
            </a:xfrm>
          </p:grpSpPr>
          <p:sp>
            <p:nvSpPr>
              <p:cNvPr id="107" name="Oval 39"/>
              <p:cNvSpPr/>
              <p:nvPr/>
            </p:nvSpPr>
            <p:spPr>
              <a:xfrm rot="267000">
                <a:off x="1467720" y="3068280"/>
                <a:ext cx="718920" cy="719280"/>
              </a:xfrm>
              <a:prstGeom prst="ellipse">
                <a:avLst/>
              </a:prstGeom>
              <a:gradFill rotWithShape="0">
                <a:gsLst>
                  <a:gs pos="0">
                    <a:srgbClr val="cc0000"/>
                  </a:gs>
                  <a:gs pos="100000">
                    <a:srgbClr val="ffff99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AutoShape 40"/>
              <p:cNvSpPr/>
              <p:nvPr/>
            </p:nvSpPr>
            <p:spPr>
              <a:xfrm flipV="1" rot="266400">
                <a:off x="1859760" y="2855880"/>
                <a:ext cx="70920" cy="287280"/>
              </a:xfrm>
              <a:prstGeom prst="rtTriangl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440" bIns="46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9" name="Text Box 41"/>
            <p:cNvSpPr/>
            <p:nvPr/>
          </p:nvSpPr>
          <p:spPr>
            <a:xfrm rot="267000">
              <a:off x="1609200" y="3141000"/>
              <a:ext cx="432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600" spc="-1" strike="noStrike">
                  <a:solidFill>
                    <a:srgbClr val="990000"/>
                  </a:solidFill>
                  <a:latin typeface="Times New Roman"/>
                </a:rPr>
                <a:t>х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" name="AutoShape 42"/>
          <p:cNvSpPr/>
          <p:nvPr/>
        </p:nvSpPr>
        <p:spPr>
          <a:xfrm rot="10800000">
            <a:off x="6300360" y="2852640"/>
            <a:ext cx="1295640" cy="935280"/>
          </a:xfrm>
          <a:custGeom>
            <a:avLst/>
            <a:gdLst>
              <a:gd name="textAreaLeft" fmla="*/ 270000 w 1295640"/>
              <a:gd name="textAreaRight" fmla="*/ 1026000 w 1295640"/>
              <a:gd name="textAreaTop" fmla="*/ 194760 h 935280"/>
              <a:gd name="textAreaBottom" fmla="*/ 740520 h 93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80808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43"/>
          <p:cNvSpPr/>
          <p:nvPr/>
        </p:nvSpPr>
        <p:spPr>
          <a:xfrm>
            <a:off x="6659640" y="3141720"/>
            <a:ext cx="64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6 к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44">
            <a:hlinkClick r:id="rId1" action="ppaction://hlinksldjump"/>
          </p:cNvPr>
          <p:cNvSpPr/>
          <p:nvPr/>
        </p:nvSpPr>
        <p:spPr>
          <a:xfrm>
            <a:off x="8569440" y="6524640"/>
            <a:ext cx="574560" cy="333360"/>
          </a:xfrm>
          <a:custGeom>
            <a:avLst/>
            <a:gdLst>
              <a:gd name="textAreaLeft" fmla="*/ 21600 w 574560"/>
              <a:gd name="textAreaRight" fmla="*/ 552960 w 5745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37212" h="21600">
                <a:moveTo>
                  <a:pt x="0" y="0"/>
                </a:moveTo>
                <a:lnTo>
                  <a:pt x="37212" y="0"/>
                </a:lnTo>
                <a:lnTo>
                  <a:pt x="37212" y="21600"/>
                </a:lnTo>
                <a:lnTo>
                  <a:pt x="0" y="21600"/>
                </a:lnTo>
                <a:close/>
              </a:path>
              <a:path fill="lightenLess" w="37212" h="21600">
                <a:moveTo>
                  <a:pt x="0" y="0"/>
                </a:moveTo>
                <a:lnTo>
                  <a:pt x="37212" y="0"/>
                </a:lnTo>
                <a:lnTo>
                  <a:pt x="35812" y="1400"/>
                </a:lnTo>
                <a:lnTo>
                  <a:pt x="1400" y="1400"/>
                </a:lnTo>
                <a:close/>
              </a:path>
              <a:path fill="darken" w="37212" h="21600">
                <a:moveTo>
                  <a:pt x="37212" y="0"/>
                </a:moveTo>
                <a:lnTo>
                  <a:pt x="37212" y="21600"/>
                </a:lnTo>
                <a:lnTo>
                  <a:pt x="35812" y="20200"/>
                </a:lnTo>
                <a:lnTo>
                  <a:pt x="35812" y="1400"/>
                </a:lnTo>
                <a:close/>
              </a:path>
              <a:path fill="darkenLess" w="37212" h="21600">
                <a:moveTo>
                  <a:pt x="372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812" y="20200"/>
                </a:lnTo>
                <a:close/>
              </a:path>
              <a:path fill="lighten" w="372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212" h="21600">
                <a:moveTo>
                  <a:pt x="11599" y="7493"/>
                </a:moveTo>
                <a:lnTo>
                  <a:pt x="15107" y="7493"/>
                </a:lnTo>
                <a:lnTo>
                  <a:pt x="15107" y="12828"/>
                </a:lnTo>
                <a:cubicBezTo>
                  <a:pt x="15107" y="13751"/>
                  <a:pt x="15908" y="14482"/>
                  <a:pt x="16943" y="14482"/>
                </a:cubicBezTo>
                <a:lnTo>
                  <a:pt x="18606" y="14482"/>
                </a:lnTo>
                <a:cubicBezTo>
                  <a:pt x="19642" y="14482"/>
                  <a:pt x="20442" y="13751"/>
                  <a:pt x="20442" y="12828"/>
                </a:cubicBezTo>
                <a:lnTo>
                  <a:pt x="20442" y="7493"/>
                </a:lnTo>
                <a:lnTo>
                  <a:pt x="18606" y="7493"/>
                </a:lnTo>
                <a:lnTo>
                  <a:pt x="22113" y="3985"/>
                </a:lnTo>
                <a:lnTo>
                  <a:pt x="25786" y="7493"/>
                </a:lnTo>
                <a:lnTo>
                  <a:pt x="23950" y="7493"/>
                </a:lnTo>
                <a:lnTo>
                  <a:pt x="23950" y="12828"/>
                </a:lnTo>
                <a:cubicBezTo>
                  <a:pt x="23950" y="15596"/>
                  <a:pt x="21374" y="18155"/>
                  <a:pt x="18606" y="18155"/>
                </a:cubicBezTo>
                <a:lnTo>
                  <a:pt x="16943" y="18155"/>
                </a:lnTo>
                <a:cubicBezTo>
                  <a:pt x="14176" y="18155"/>
                  <a:pt x="11599" y="15596"/>
                  <a:pt x="11599" y="12828"/>
                </a:cubicBez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45">
            <a:hlinkClick r:id="" action="ppaction://hlinkshowjump?jump=nextslide"/>
          </p:cNvPr>
          <p:cNvSpPr/>
          <p:nvPr/>
        </p:nvSpPr>
        <p:spPr>
          <a:xfrm>
            <a:off x="7956720" y="6524640"/>
            <a:ext cx="647640" cy="333360"/>
          </a:xfrm>
          <a:custGeom>
            <a:avLst/>
            <a:gdLst>
              <a:gd name="textAreaLeft" fmla="*/ 21600 w 647640"/>
              <a:gd name="textAreaRight" fmla="*/ 626040 w 64764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41942" h="21600">
                <a:moveTo>
                  <a:pt x="0" y="0"/>
                </a:moveTo>
                <a:lnTo>
                  <a:pt x="41942" y="0"/>
                </a:lnTo>
                <a:lnTo>
                  <a:pt x="41942" y="21600"/>
                </a:lnTo>
                <a:lnTo>
                  <a:pt x="0" y="21600"/>
                </a:lnTo>
                <a:close/>
              </a:path>
              <a:path fill="lightenLess" w="41942" h="21600">
                <a:moveTo>
                  <a:pt x="0" y="0"/>
                </a:moveTo>
                <a:lnTo>
                  <a:pt x="41942" y="0"/>
                </a:lnTo>
                <a:lnTo>
                  <a:pt x="40542" y="1400"/>
                </a:lnTo>
                <a:lnTo>
                  <a:pt x="1400" y="1400"/>
                </a:lnTo>
                <a:close/>
              </a:path>
              <a:path fill="darken" w="41942" h="21600">
                <a:moveTo>
                  <a:pt x="41942" y="0"/>
                </a:moveTo>
                <a:lnTo>
                  <a:pt x="41942" y="21600"/>
                </a:lnTo>
                <a:lnTo>
                  <a:pt x="40542" y="20200"/>
                </a:lnTo>
                <a:lnTo>
                  <a:pt x="40542" y="1400"/>
                </a:lnTo>
                <a:close/>
              </a:path>
              <a:path fill="darkenLess" w="41942" h="21600">
                <a:moveTo>
                  <a:pt x="419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0542" y="20200"/>
                </a:lnTo>
                <a:close/>
              </a:path>
              <a:path fill="lighten" w="419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942" h="21600">
                <a:moveTo>
                  <a:pt x="13964" y="3794"/>
                </a:moveTo>
                <a:lnTo>
                  <a:pt x="27977" y="10800"/>
                </a:lnTo>
                <a:lnTo>
                  <a:pt x="13964" y="17806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00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Алгоритм решения уравн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506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6x+21=2x+1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ереносим все слагаемые, содержащ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неизвестные в левую часть уравнения, 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известные слагаемые в правую, с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отивоположным знаком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6x+21=2x+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4"/>
          <p:cNvSpPr/>
          <p:nvPr/>
        </p:nvSpPr>
        <p:spPr>
          <a:xfrm>
            <a:off x="3851280" y="5084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8"/>
          <p:cNvSpPr/>
          <p:nvPr/>
        </p:nvSpPr>
        <p:spPr>
          <a:xfrm rot="10800000">
            <a:off x="1979640" y="4653000"/>
            <a:ext cx="3240000" cy="358560"/>
          </a:xfrm>
          <a:custGeom>
            <a:avLst/>
            <a:gdLst>
              <a:gd name="textAreaLeft" fmla="*/ 567000 w 3240000"/>
              <a:gd name="textAreaRight" fmla="*/ 2349000 w 3240000"/>
              <a:gd name="textAreaTop" fmla="*/ 47880 h 358560"/>
              <a:gd name="textAreaBottom" fmla="*/ 310680 h 35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11"/>
          <p:cNvSpPr/>
          <p:nvPr/>
        </p:nvSpPr>
        <p:spPr>
          <a:xfrm>
            <a:off x="3924360" y="5589720"/>
            <a:ext cx="2665440" cy="433080"/>
          </a:xfrm>
          <a:custGeom>
            <a:avLst/>
            <a:gdLst>
              <a:gd name="textAreaLeft" fmla="*/ 466200 w 2665440"/>
              <a:gd name="textAreaRight" fmla="*/ 1932480 w 2665440"/>
              <a:gd name="textAreaTop" fmla="*/ 57960 h 433080"/>
              <a:gd name="textAreaBottom" fmla="*/ 375120 h 433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12"/>
          <p:cNvSpPr/>
          <p:nvPr/>
        </p:nvSpPr>
        <p:spPr>
          <a:xfrm>
            <a:off x="5005800" y="6021360"/>
            <a:ext cx="62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13"/>
          <p:cNvSpPr/>
          <p:nvPr/>
        </p:nvSpPr>
        <p:spPr>
          <a:xfrm>
            <a:off x="1908000" y="4221000"/>
            <a:ext cx="7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14">
            <a:hlinkClick r:id="" action="ppaction://hlinkshowjump?jump=nextslide"/>
          </p:cNvPr>
          <p:cNvSpPr/>
          <p:nvPr/>
        </p:nvSpPr>
        <p:spPr>
          <a:xfrm>
            <a:off x="8532720" y="6524640"/>
            <a:ext cx="611280" cy="333360"/>
          </a:xfrm>
          <a:custGeom>
            <a:avLst/>
            <a:gdLst>
              <a:gd name="textAreaLeft" fmla="*/ 21600 w 611280"/>
              <a:gd name="textAreaRight" fmla="*/ 589680 w 61128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39588" h="21600">
                <a:moveTo>
                  <a:pt x="0" y="0"/>
                </a:moveTo>
                <a:lnTo>
                  <a:pt x="39588" y="0"/>
                </a:lnTo>
                <a:lnTo>
                  <a:pt x="39588" y="21600"/>
                </a:lnTo>
                <a:lnTo>
                  <a:pt x="0" y="21600"/>
                </a:lnTo>
                <a:close/>
              </a:path>
              <a:path fill="lightenLess" w="39588" h="21600">
                <a:moveTo>
                  <a:pt x="0" y="0"/>
                </a:moveTo>
                <a:lnTo>
                  <a:pt x="39588" y="0"/>
                </a:lnTo>
                <a:lnTo>
                  <a:pt x="38188" y="1400"/>
                </a:lnTo>
                <a:lnTo>
                  <a:pt x="1400" y="1400"/>
                </a:lnTo>
                <a:close/>
              </a:path>
              <a:path fill="darken" w="39588" h="21600">
                <a:moveTo>
                  <a:pt x="39588" y="0"/>
                </a:moveTo>
                <a:lnTo>
                  <a:pt x="39588" y="21600"/>
                </a:lnTo>
                <a:lnTo>
                  <a:pt x="38188" y="20200"/>
                </a:lnTo>
                <a:lnTo>
                  <a:pt x="38188" y="1400"/>
                </a:lnTo>
                <a:close/>
              </a:path>
              <a:path fill="darkenLess" w="39588" h="21600">
                <a:moveTo>
                  <a:pt x="395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88" y="20200"/>
                </a:lnTo>
                <a:close/>
              </a:path>
              <a:path fill="lighten" w="395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88" h="21600">
                <a:moveTo>
                  <a:pt x="12788" y="3794"/>
                </a:moveTo>
                <a:lnTo>
                  <a:pt x="26801" y="10800"/>
                </a:lnTo>
                <a:lnTo>
                  <a:pt x="12788" y="17806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7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68360" y="907920"/>
            <a:ext cx="822960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Приводим подобные слагаем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x - 2x = 13 – 2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 Обе части уравнения делим на кооффициент при неизвестн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0000"/>
                </a:solidFill>
                <a:latin typeface="Arial"/>
              </a:rPr>
              <a:t>4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x= - 8   : </a:t>
            </a: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ходим корень уравн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X = -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5"/>
          <p:cNvSpPr/>
          <p:nvPr/>
        </p:nvSpPr>
        <p:spPr>
          <a:xfrm>
            <a:off x="5003640" y="3284640"/>
            <a:ext cx="0" cy="57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6"/>
          <p:cNvSpPr/>
          <p:nvPr/>
        </p:nvSpPr>
        <p:spPr>
          <a:xfrm>
            <a:off x="8569440" y="6524640"/>
            <a:ext cx="574560" cy="333360"/>
          </a:xfrm>
          <a:custGeom>
            <a:avLst/>
            <a:gdLst>
              <a:gd name="textAreaLeft" fmla="*/ 21600 w 574560"/>
              <a:gd name="textAreaRight" fmla="*/ 552960 w 5745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37212" h="21600">
                <a:moveTo>
                  <a:pt x="0" y="0"/>
                </a:moveTo>
                <a:lnTo>
                  <a:pt x="37212" y="0"/>
                </a:lnTo>
                <a:lnTo>
                  <a:pt x="37212" y="21600"/>
                </a:lnTo>
                <a:lnTo>
                  <a:pt x="0" y="21600"/>
                </a:lnTo>
                <a:close/>
              </a:path>
              <a:path fill="lightenLess" w="37212" h="21600">
                <a:moveTo>
                  <a:pt x="0" y="0"/>
                </a:moveTo>
                <a:lnTo>
                  <a:pt x="37212" y="0"/>
                </a:lnTo>
                <a:lnTo>
                  <a:pt x="35812" y="1400"/>
                </a:lnTo>
                <a:lnTo>
                  <a:pt x="1400" y="1400"/>
                </a:lnTo>
                <a:close/>
              </a:path>
              <a:path fill="darken" w="37212" h="21600">
                <a:moveTo>
                  <a:pt x="37212" y="0"/>
                </a:moveTo>
                <a:lnTo>
                  <a:pt x="37212" y="21600"/>
                </a:lnTo>
                <a:lnTo>
                  <a:pt x="35812" y="20200"/>
                </a:lnTo>
                <a:lnTo>
                  <a:pt x="35812" y="1400"/>
                </a:lnTo>
                <a:close/>
              </a:path>
              <a:path fill="darkenLess" w="37212" h="21600">
                <a:moveTo>
                  <a:pt x="372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812" y="20200"/>
                </a:lnTo>
                <a:close/>
              </a:path>
              <a:path fill="lighten" w="372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212" h="21600">
                <a:moveTo>
                  <a:pt x="11599" y="7493"/>
                </a:moveTo>
                <a:lnTo>
                  <a:pt x="15107" y="7493"/>
                </a:lnTo>
                <a:lnTo>
                  <a:pt x="15107" y="12828"/>
                </a:lnTo>
                <a:cubicBezTo>
                  <a:pt x="15107" y="13751"/>
                  <a:pt x="15908" y="14482"/>
                  <a:pt x="16943" y="14482"/>
                </a:cubicBezTo>
                <a:lnTo>
                  <a:pt x="18606" y="14482"/>
                </a:lnTo>
                <a:cubicBezTo>
                  <a:pt x="19642" y="14482"/>
                  <a:pt x="20442" y="13751"/>
                  <a:pt x="20442" y="12828"/>
                </a:cubicBezTo>
                <a:lnTo>
                  <a:pt x="20442" y="7493"/>
                </a:lnTo>
                <a:lnTo>
                  <a:pt x="18606" y="7493"/>
                </a:lnTo>
                <a:lnTo>
                  <a:pt x="22113" y="3985"/>
                </a:lnTo>
                <a:lnTo>
                  <a:pt x="25786" y="7493"/>
                </a:lnTo>
                <a:lnTo>
                  <a:pt x="23950" y="7493"/>
                </a:lnTo>
                <a:lnTo>
                  <a:pt x="23950" y="12828"/>
                </a:lnTo>
                <a:cubicBezTo>
                  <a:pt x="23950" y="15596"/>
                  <a:pt x="21374" y="18155"/>
                  <a:pt x="18606" y="18155"/>
                </a:cubicBezTo>
                <a:lnTo>
                  <a:pt x="16943" y="18155"/>
                </a:lnTo>
                <a:cubicBezTo>
                  <a:pt x="14176" y="18155"/>
                  <a:pt x="11599" y="15596"/>
                  <a:pt x="11599" y="12828"/>
                </a:cubicBez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7">
            <a:hlinkClick r:id="" action="ppaction://hlinkshowjump?jump=nextslide"/>
          </p:cNvPr>
          <p:cNvSpPr/>
          <p:nvPr/>
        </p:nvSpPr>
        <p:spPr>
          <a:xfrm>
            <a:off x="8028000" y="6524640"/>
            <a:ext cx="576360" cy="333360"/>
          </a:xfrm>
          <a:custGeom>
            <a:avLst/>
            <a:gdLst>
              <a:gd name="textAreaLeft" fmla="*/ 21600 w 576360"/>
              <a:gd name="textAreaRight" fmla="*/ 554760 w 5763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37328" h="21600">
                <a:moveTo>
                  <a:pt x="0" y="0"/>
                </a:moveTo>
                <a:lnTo>
                  <a:pt x="37328" y="0"/>
                </a:lnTo>
                <a:lnTo>
                  <a:pt x="37328" y="21600"/>
                </a:lnTo>
                <a:lnTo>
                  <a:pt x="0" y="21600"/>
                </a:lnTo>
                <a:close/>
              </a:path>
              <a:path fill="lightenLess" w="37328" h="21600">
                <a:moveTo>
                  <a:pt x="0" y="0"/>
                </a:moveTo>
                <a:lnTo>
                  <a:pt x="37328" y="0"/>
                </a:lnTo>
                <a:lnTo>
                  <a:pt x="35928" y="1400"/>
                </a:lnTo>
                <a:lnTo>
                  <a:pt x="1400" y="1400"/>
                </a:lnTo>
                <a:close/>
              </a:path>
              <a:path fill="darken" w="37328" h="21600">
                <a:moveTo>
                  <a:pt x="37328" y="0"/>
                </a:moveTo>
                <a:lnTo>
                  <a:pt x="37328" y="21600"/>
                </a:lnTo>
                <a:lnTo>
                  <a:pt x="35928" y="20200"/>
                </a:lnTo>
                <a:lnTo>
                  <a:pt x="35928" y="1400"/>
                </a:lnTo>
                <a:close/>
              </a:path>
              <a:path fill="darkenLess" w="37328" h="21600">
                <a:moveTo>
                  <a:pt x="373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928" y="20200"/>
                </a:lnTo>
                <a:close/>
              </a:path>
              <a:path fill="lighten" w="373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328" h="21600">
                <a:moveTo>
                  <a:pt x="11658" y="3794"/>
                </a:moveTo>
                <a:lnTo>
                  <a:pt x="25671" y="10800"/>
                </a:lnTo>
                <a:lnTo>
                  <a:pt x="11658" y="17806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0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2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20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20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7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20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8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200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8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2000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1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Verdana"/>
              </a:rPr>
              <a:t>Это познавательно 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590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зложенный способ реш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равнения является прием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바탕"/>
              </a:rPr>
              <a:t>“</a:t>
            </a:r>
            <a:r>
              <a:rPr b="1" i="1" lang="ru-RU" sz="2800" spc="-1" strike="noStrike">
                <a:solidFill>
                  <a:srgbClr val="000000"/>
                </a:solidFill>
                <a:latin typeface="바탕"/>
              </a:rPr>
              <a:t>восполнения и противопоставления</a:t>
            </a:r>
            <a:r>
              <a:rPr b="1" lang="en-US" sz="3200" spc="-1" strike="noStrike">
                <a:solidFill>
                  <a:srgbClr val="000000"/>
                </a:solidFill>
                <a:latin typeface="바탕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л-Хорез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рабское название это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авила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л-джебр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дал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мя АЛГЕБ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4" descr="Al-Chwarizmi"/>
          <p:cNvPicPr/>
          <p:nvPr/>
        </p:nvPicPr>
        <p:blipFill>
          <a:blip r:embed="rId2"/>
          <a:stretch/>
        </p:blipFill>
        <p:spPr>
          <a:xfrm>
            <a:off x="6372360" y="1700280"/>
            <a:ext cx="2546280" cy="344952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6"/>
          <p:cNvSpPr/>
          <p:nvPr/>
        </p:nvSpPr>
        <p:spPr>
          <a:xfrm>
            <a:off x="6156360" y="5157720"/>
            <a:ext cx="2448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cc3300"/>
                </a:solidFill>
                <a:latin typeface="Verdana"/>
              </a:rPr>
              <a:t>Аль-Хорезми – арабский ученый (825 г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7"/>
          <p:cNvSpPr/>
          <p:nvPr/>
        </p:nvSpPr>
        <p:spPr>
          <a:xfrm>
            <a:off x="8569440" y="6453360"/>
            <a:ext cx="574560" cy="404640"/>
          </a:xfrm>
          <a:custGeom>
            <a:avLst/>
            <a:gdLst>
              <a:gd name="textAreaLeft" fmla="*/ 25920 w 574560"/>
              <a:gd name="textAreaRight" fmla="*/ 548640 w 5745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0662" h="21600">
                <a:moveTo>
                  <a:pt x="0" y="0"/>
                </a:moveTo>
                <a:lnTo>
                  <a:pt x="30662" y="0"/>
                </a:lnTo>
                <a:lnTo>
                  <a:pt x="30662" y="21600"/>
                </a:lnTo>
                <a:lnTo>
                  <a:pt x="0" y="21600"/>
                </a:lnTo>
                <a:close/>
              </a:path>
              <a:path fill="lightenLess" w="30662" h="21600">
                <a:moveTo>
                  <a:pt x="0" y="0"/>
                </a:moveTo>
                <a:lnTo>
                  <a:pt x="30662" y="0"/>
                </a:lnTo>
                <a:lnTo>
                  <a:pt x="29262" y="1400"/>
                </a:lnTo>
                <a:lnTo>
                  <a:pt x="1400" y="1400"/>
                </a:lnTo>
                <a:close/>
              </a:path>
              <a:path fill="darken" w="30662" h="21600">
                <a:moveTo>
                  <a:pt x="30662" y="0"/>
                </a:moveTo>
                <a:lnTo>
                  <a:pt x="30662" y="21600"/>
                </a:lnTo>
                <a:lnTo>
                  <a:pt x="29262" y="20200"/>
                </a:lnTo>
                <a:lnTo>
                  <a:pt x="29262" y="1400"/>
                </a:lnTo>
                <a:close/>
              </a:path>
              <a:path fill="darkenLess" w="30662" h="21600">
                <a:moveTo>
                  <a:pt x="306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262" y="20200"/>
                </a:lnTo>
                <a:close/>
              </a:path>
              <a:path fill="lighten" w="306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662" h="21600">
                <a:moveTo>
                  <a:pt x="8325" y="7493"/>
                </a:moveTo>
                <a:lnTo>
                  <a:pt x="11832" y="7493"/>
                </a:lnTo>
                <a:lnTo>
                  <a:pt x="11832" y="12828"/>
                </a:lnTo>
                <a:cubicBezTo>
                  <a:pt x="11832" y="13751"/>
                  <a:pt x="12633" y="14482"/>
                  <a:pt x="13669" y="14482"/>
                </a:cubicBezTo>
                <a:lnTo>
                  <a:pt x="15331" y="14482"/>
                </a:lnTo>
                <a:cubicBezTo>
                  <a:pt x="16367" y="14482"/>
                  <a:pt x="17168" y="13751"/>
                  <a:pt x="17168" y="12828"/>
                </a:cubicBezTo>
                <a:lnTo>
                  <a:pt x="17168" y="7493"/>
                </a:lnTo>
                <a:lnTo>
                  <a:pt x="15331" y="7493"/>
                </a:lnTo>
                <a:lnTo>
                  <a:pt x="18839" y="3985"/>
                </a:lnTo>
                <a:lnTo>
                  <a:pt x="22512" y="7493"/>
                </a:lnTo>
                <a:lnTo>
                  <a:pt x="20675" y="7493"/>
                </a:lnTo>
                <a:lnTo>
                  <a:pt x="20675" y="12828"/>
                </a:lnTo>
                <a:cubicBezTo>
                  <a:pt x="20675" y="15596"/>
                  <a:pt x="18099" y="18155"/>
                  <a:pt x="15331" y="18155"/>
                </a:cubicBezTo>
                <a:lnTo>
                  <a:pt x="13669" y="18155"/>
                </a:lnTo>
                <a:cubicBezTo>
                  <a:pt x="10901" y="18155"/>
                  <a:pt x="8325" y="15596"/>
                  <a:pt x="8325" y="12828"/>
                </a:cubicBez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8">
            <a:hlinkClick r:id="" action="ppaction://hlinkshowjump?jump=nextslide"/>
          </p:cNvPr>
          <p:cNvSpPr/>
          <p:nvPr/>
        </p:nvSpPr>
        <p:spPr>
          <a:xfrm>
            <a:off x="8028000" y="6453360"/>
            <a:ext cx="576360" cy="404640"/>
          </a:xfrm>
          <a:custGeom>
            <a:avLst/>
            <a:gdLst>
              <a:gd name="textAreaLeft" fmla="*/ 25920 w 576360"/>
              <a:gd name="textAreaRight" fmla="*/ 550440 w 576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0758" h="21600">
                <a:moveTo>
                  <a:pt x="0" y="0"/>
                </a:moveTo>
                <a:lnTo>
                  <a:pt x="30758" y="0"/>
                </a:lnTo>
                <a:lnTo>
                  <a:pt x="30758" y="21600"/>
                </a:lnTo>
                <a:lnTo>
                  <a:pt x="0" y="21600"/>
                </a:lnTo>
                <a:close/>
              </a:path>
              <a:path fill="lightenLess" w="30758" h="21600">
                <a:moveTo>
                  <a:pt x="0" y="0"/>
                </a:moveTo>
                <a:lnTo>
                  <a:pt x="30758" y="0"/>
                </a:lnTo>
                <a:lnTo>
                  <a:pt x="29358" y="1400"/>
                </a:lnTo>
                <a:lnTo>
                  <a:pt x="1400" y="1400"/>
                </a:lnTo>
                <a:close/>
              </a:path>
              <a:path fill="darken" w="30758" h="21600">
                <a:moveTo>
                  <a:pt x="30758" y="0"/>
                </a:moveTo>
                <a:lnTo>
                  <a:pt x="30758" y="21600"/>
                </a:lnTo>
                <a:lnTo>
                  <a:pt x="29358" y="20200"/>
                </a:lnTo>
                <a:lnTo>
                  <a:pt x="29358" y="1400"/>
                </a:lnTo>
                <a:close/>
              </a:path>
              <a:path fill="darkenLess" w="30758" h="21600">
                <a:moveTo>
                  <a:pt x="307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358" y="20200"/>
                </a:lnTo>
                <a:close/>
              </a:path>
              <a:path fill="lighten" w="307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758" h="21600">
                <a:moveTo>
                  <a:pt x="8373" y="3794"/>
                </a:moveTo>
                <a:lnTo>
                  <a:pt x="22386" y="10800"/>
                </a:lnTo>
                <a:lnTo>
                  <a:pt x="8373" y="17806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0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8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2600"/>
                            </p:stCondLst>
                            <p:childTnLst>
                              <p:par>
                                <p:cTn id="106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4250"/>
                            </p:stCondLst>
                            <p:childTnLst>
                              <p:par>
                                <p:cTn id="112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6300"/>
                            </p:stCondLst>
                            <p:childTnLst>
                              <p:par>
                                <p:cTn id="118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7300"/>
                            </p:stCondLst>
                            <p:childTnLst>
                              <p:par>
                                <p:cTn id="124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8800"/>
                            </p:stCondLst>
                            <p:childTnLst>
                              <p:par>
                                <p:cTn id="130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10300"/>
                            </p:stCondLst>
                            <p:childTnLst>
                              <p:par>
                                <p:cTn id="136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Укажи правильное реш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z -1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4"/>
          <p:cNvSpPr/>
          <p:nvPr/>
        </p:nvSpPr>
        <p:spPr>
          <a:xfrm>
            <a:off x="4427640" y="2421000"/>
            <a:ext cx="73080" cy="360036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7"/>
          <p:cNvSpPr/>
          <p:nvPr/>
        </p:nvSpPr>
        <p:spPr>
          <a:xfrm>
            <a:off x="395280" y="2997360"/>
            <a:ext cx="374328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 – 3 z =1 +1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- 2 z = 13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 = - 6,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8"/>
          <p:cNvSpPr/>
          <p:nvPr/>
        </p:nvSpPr>
        <p:spPr>
          <a:xfrm>
            <a:off x="4716360" y="2924280"/>
            <a:ext cx="388800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 – 3 z = 1 - 1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- 2 z = - 1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 = 5,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9"/>
          <p:cNvSpPr/>
          <p:nvPr/>
        </p:nvSpPr>
        <p:spPr>
          <a:xfrm>
            <a:off x="8675640" y="6524640"/>
            <a:ext cx="468360" cy="333360"/>
          </a:xfrm>
          <a:custGeom>
            <a:avLst/>
            <a:gdLst>
              <a:gd name="textAreaLeft" fmla="*/ 21600 w 468360"/>
              <a:gd name="textAreaRight" fmla="*/ 446760 w 4683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30338" h="21600">
                <a:moveTo>
                  <a:pt x="0" y="0"/>
                </a:moveTo>
                <a:lnTo>
                  <a:pt x="30338" y="0"/>
                </a:lnTo>
                <a:lnTo>
                  <a:pt x="30338" y="21600"/>
                </a:lnTo>
                <a:lnTo>
                  <a:pt x="0" y="21600"/>
                </a:lnTo>
                <a:close/>
              </a:path>
              <a:path fill="lightenLess" w="30338" h="21600">
                <a:moveTo>
                  <a:pt x="0" y="0"/>
                </a:moveTo>
                <a:lnTo>
                  <a:pt x="30338" y="0"/>
                </a:lnTo>
                <a:lnTo>
                  <a:pt x="28938" y="1400"/>
                </a:lnTo>
                <a:lnTo>
                  <a:pt x="1400" y="1400"/>
                </a:lnTo>
                <a:close/>
              </a:path>
              <a:path fill="darken" w="30338" h="21600">
                <a:moveTo>
                  <a:pt x="30338" y="0"/>
                </a:moveTo>
                <a:lnTo>
                  <a:pt x="30338" y="21600"/>
                </a:lnTo>
                <a:lnTo>
                  <a:pt x="28938" y="20200"/>
                </a:lnTo>
                <a:lnTo>
                  <a:pt x="28938" y="1400"/>
                </a:lnTo>
                <a:close/>
              </a:path>
              <a:path fill="darkenLess" w="30338" h="21600">
                <a:moveTo>
                  <a:pt x="303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938" y="20200"/>
                </a:lnTo>
                <a:close/>
              </a:path>
              <a:path fill="lighten" w="303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338" h="21600">
                <a:moveTo>
                  <a:pt x="8162" y="7493"/>
                </a:moveTo>
                <a:lnTo>
                  <a:pt x="11670" y="7493"/>
                </a:lnTo>
                <a:lnTo>
                  <a:pt x="11670" y="12828"/>
                </a:lnTo>
                <a:cubicBezTo>
                  <a:pt x="11670" y="13751"/>
                  <a:pt x="12471" y="14482"/>
                  <a:pt x="13507" y="14482"/>
                </a:cubicBezTo>
                <a:lnTo>
                  <a:pt x="15169" y="14482"/>
                </a:lnTo>
                <a:cubicBezTo>
                  <a:pt x="16205" y="14482"/>
                  <a:pt x="17005" y="13751"/>
                  <a:pt x="17005" y="12828"/>
                </a:cubicBezTo>
                <a:lnTo>
                  <a:pt x="17005" y="7493"/>
                </a:lnTo>
                <a:lnTo>
                  <a:pt x="15169" y="7493"/>
                </a:lnTo>
                <a:lnTo>
                  <a:pt x="18677" y="3985"/>
                </a:lnTo>
                <a:lnTo>
                  <a:pt x="22349" y="7493"/>
                </a:lnTo>
                <a:lnTo>
                  <a:pt x="20513" y="7493"/>
                </a:lnTo>
                <a:lnTo>
                  <a:pt x="20513" y="12828"/>
                </a:lnTo>
                <a:cubicBezTo>
                  <a:pt x="20513" y="15596"/>
                  <a:pt x="17937" y="18155"/>
                  <a:pt x="15169" y="18155"/>
                </a:cubicBezTo>
                <a:lnTo>
                  <a:pt x="13507" y="18155"/>
                </a:lnTo>
                <a:cubicBezTo>
                  <a:pt x="10739" y="18155"/>
                  <a:pt x="8162" y="15596"/>
                  <a:pt x="8162" y="12828"/>
                </a:cubicBez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WordArt 7"/>
          <p:cNvSpPr txBox="1"/>
          <p:nvPr/>
        </p:nvSpPr>
        <p:spPr>
          <a:xfrm>
            <a:off x="1187280" y="1700280"/>
            <a:ext cx="6769440" cy="15127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995532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27008" dir="2216091" blurRad="0" rotWithShape="0">
                    <a:srgbClr val="ff6600"/>
                  </a:outerShdw>
                </a:effectLst>
                <a:latin typeface="Arial"/>
              </a:rPr>
              <a:t>подума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27008" dir="2216091" blurRad="0" rotWithShape="0">
                  <a:srgbClr val="ff6600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39" name="Picture 11" descr="ребенок"/>
          <p:cNvPicPr/>
          <p:nvPr/>
        </p:nvPicPr>
        <p:blipFill>
          <a:blip r:embed="rId1"/>
          <a:stretch/>
        </p:blipFill>
        <p:spPr>
          <a:xfrm>
            <a:off x="3419640" y="3284640"/>
            <a:ext cx="3103560" cy="2334960"/>
          </a:xfrm>
          <a:prstGeom prst="rect">
            <a:avLst/>
          </a:prstGeom>
          <a:ln w="0">
            <a:noFill/>
          </a:ln>
        </p:spPr>
      </p:pic>
      <p:sp>
        <p:nvSpPr>
          <p:cNvPr id="140" name="AutoShape 12">
            <a:hlinkClick r:id="" action="ppaction://hlinkshowjump?jump=previousslide"/>
          </p:cNvPr>
          <p:cNvSpPr/>
          <p:nvPr/>
        </p:nvSpPr>
        <p:spPr>
          <a:xfrm>
            <a:off x="8459640" y="6453360"/>
            <a:ext cx="684360" cy="404640"/>
          </a:xfrm>
          <a:custGeom>
            <a:avLst/>
            <a:gdLst>
              <a:gd name="textAreaLeft" fmla="*/ 25920 w 684360"/>
              <a:gd name="textAreaRight" fmla="*/ 658440 w 684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6518" h="21600">
                <a:moveTo>
                  <a:pt x="0" y="0"/>
                </a:moveTo>
                <a:lnTo>
                  <a:pt x="36518" y="0"/>
                </a:lnTo>
                <a:lnTo>
                  <a:pt x="36518" y="21600"/>
                </a:lnTo>
                <a:lnTo>
                  <a:pt x="0" y="21600"/>
                </a:lnTo>
                <a:close/>
              </a:path>
              <a:path fill="lightenLess" w="36518" h="21600">
                <a:moveTo>
                  <a:pt x="0" y="0"/>
                </a:moveTo>
                <a:lnTo>
                  <a:pt x="36518" y="0"/>
                </a:lnTo>
                <a:lnTo>
                  <a:pt x="35118" y="1400"/>
                </a:lnTo>
                <a:lnTo>
                  <a:pt x="1400" y="1400"/>
                </a:lnTo>
                <a:close/>
              </a:path>
              <a:path fill="darken" w="36518" h="21600">
                <a:moveTo>
                  <a:pt x="36518" y="0"/>
                </a:moveTo>
                <a:lnTo>
                  <a:pt x="36518" y="21600"/>
                </a:lnTo>
                <a:lnTo>
                  <a:pt x="35118" y="20200"/>
                </a:lnTo>
                <a:lnTo>
                  <a:pt x="35118" y="1400"/>
                </a:lnTo>
                <a:close/>
              </a:path>
              <a:path fill="darkenLess" w="36518" h="21600">
                <a:moveTo>
                  <a:pt x="365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118" y="20200"/>
                </a:lnTo>
                <a:close/>
              </a:path>
              <a:path fill="lighten" w="365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518" h="21600">
                <a:moveTo>
                  <a:pt x="11253" y="7493"/>
                </a:moveTo>
                <a:lnTo>
                  <a:pt x="14760" y="7493"/>
                </a:lnTo>
                <a:lnTo>
                  <a:pt x="14760" y="12828"/>
                </a:lnTo>
                <a:cubicBezTo>
                  <a:pt x="14760" y="13751"/>
                  <a:pt x="15561" y="14482"/>
                  <a:pt x="16597" y="14482"/>
                </a:cubicBezTo>
                <a:lnTo>
                  <a:pt x="18259" y="14482"/>
                </a:lnTo>
                <a:cubicBezTo>
                  <a:pt x="19295" y="14482"/>
                  <a:pt x="20096" y="13751"/>
                  <a:pt x="20096" y="12828"/>
                </a:cubicBezTo>
                <a:lnTo>
                  <a:pt x="20096" y="7493"/>
                </a:lnTo>
                <a:lnTo>
                  <a:pt x="18259" y="7493"/>
                </a:lnTo>
                <a:lnTo>
                  <a:pt x="21767" y="3985"/>
                </a:lnTo>
                <a:lnTo>
                  <a:pt x="25440" y="7493"/>
                </a:lnTo>
                <a:lnTo>
                  <a:pt x="23603" y="7493"/>
                </a:lnTo>
                <a:lnTo>
                  <a:pt x="23603" y="12828"/>
                </a:lnTo>
                <a:cubicBezTo>
                  <a:pt x="23603" y="15596"/>
                  <a:pt x="21027" y="18155"/>
                  <a:pt x="18259" y="18155"/>
                </a:cubicBezTo>
                <a:lnTo>
                  <a:pt x="16597" y="18155"/>
                </a:lnTo>
                <a:cubicBezTo>
                  <a:pt x="13829" y="18155"/>
                  <a:pt x="11253" y="15596"/>
                  <a:pt x="11253" y="12828"/>
                </a:cubicBez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7T12:38:24Z</dcterms:created>
  <dc:creator>X</dc:creator>
  <dc:description/>
  <dc:language>en-US</dc:language>
  <cp:lastModifiedBy>Коля</cp:lastModifiedBy>
  <dcterms:modified xsi:type="dcterms:W3CDTF">2013-03-26T17:13:53Z</dcterms:modified>
  <cp:revision>77</cp:revision>
  <dc:subject/>
  <dc:title>Решение линейных уравнений</dc:title>
</cp:coreProperties>
</file>