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applause.wav" ContentType="audio/x-wav"/>
  <Override PartName="/ppt/media/chimes.wav" ContentType="audio/x-wav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930-E01D-4FBF-AAF1-9C1479A0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F4B-A71D-481C-8812-5F8FC3B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FFE-FD43-48E0-9A12-2B88D9E4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E94-E44A-4B1C-8854-4FB64C9A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5A3-71A3-4ACC-ADA4-1D591DDD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0F7-B04A-44CF-B546-B2C1C9B2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DD6-9B89-44C6-8563-E926D1B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6D0-5054-4546-B611-9B084CA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6E6-9DAF-40E2-8485-A23839C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2F-CCE6-4F3E-8155-180D1AC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37D-2B7E-4D55-941C-F6C7F95A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6F3-4D66-4C0D-BD64-17E0561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D7C5-0016-4969-9E6F-5D54D174E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нейные  уравнения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x=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395280" y="4365720"/>
            <a:ext cx="4392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Курс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математики школы №88 Калин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оловой Нины Андре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0" descr="j0300912"/>
          <p:cNvPicPr/>
          <p:nvPr/>
        </p:nvPicPr>
        <p:blipFill>
          <a:blip r:embed="rId2"/>
          <a:stretch/>
        </p:blipFill>
        <p:spPr>
          <a:xfrm>
            <a:off x="5003640" y="2259000"/>
            <a:ext cx="4140360" cy="3925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1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8"/>
          <p:cNvSpPr txBox="1"/>
          <p:nvPr/>
        </p:nvSpPr>
        <p:spPr>
          <a:xfrm>
            <a:off x="1116000" y="1484280"/>
            <a:ext cx="66960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2" name="Picture 9" descr="клоун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1835280" y="39337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05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Оглавление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лгоритм решения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то познава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кажи правильно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ешение уравнен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4869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тем из обеих частей уравнения по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нимем с обеих чашек весов по 2 яблок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2"/>
          <p:cNvGrpSpPr/>
          <p:nvPr/>
        </p:nvGrpSpPr>
        <p:grpSpPr>
          <a:xfrm>
            <a:off x="5471640" y="2854080"/>
            <a:ext cx="772560" cy="960480"/>
            <a:chOff x="5471640" y="2854080"/>
            <a:chExt cx="772560" cy="960480"/>
          </a:xfrm>
        </p:grpSpPr>
        <p:grpSp>
          <p:nvGrpSpPr>
            <p:cNvPr id="54" name="Group 41"/>
            <p:cNvGrpSpPr/>
            <p:nvPr/>
          </p:nvGrpSpPr>
          <p:grpSpPr>
            <a:xfrm>
              <a:off x="5471640" y="2854080"/>
              <a:ext cx="772560" cy="960480"/>
              <a:chOff x="5471640" y="2854080"/>
              <a:chExt cx="772560" cy="960480"/>
            </a:xfrm>
          </p:grpSpPr>
          <p:sp>
            <p:nvSpPr>
              <p:cNvPr id="55" name="Oval 42"/>
              <p:cNvSpPr/>
              <p:nvPr/>
            </p:nvSpPr>
            <p:spPr>
              <a:xfrm rot="267000">
                <a:off x="5498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43"/>
              <p:cNvSpPr/>
              <p:nvPr/>
            </p:nvSpPr>
            <p:spPr>
              <a:xfrm flipV="1" rot="266400">
                <a:off x="5890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51"/>
            <p:cNvSpPr/>
            <p:nvPr/>
          </p:nvSpPr>
          <p:spPr>
            <a:xfrm rot="267000">
              <a:off x="5639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53"/>
          <p:cNvGrpSpPr/>
          <p:nvPr/>
        </p:nvGrpSpPr>
        <p:grpSpPr>
          <a:xfrm>
            <a:off x="4679640" y="2854080"/>
            <a:ext cx="772560" cy="960480"/>
            <a:chOff x="4679640" y="2854080"/>
            <a:chExt cx="772560" cy="960480"/>
          </a:xfrm>
        </p:grpSpPr>
        <p:grpSp>
          <p:nvGrpSpPr>
            <p:cNvPr id="59" name="Group 54"/>
            <p:cNvGrpSpPr/>
            <p:nvPr/>
          </p:nvGrpSpPr>
          <p:grpSpPr>
            <a:xfrm>
              <a:off x="4679640" y="2854080"/>
              <a:ext cx="772560" cy="960480"/>
              <a:chOff x="4679640" y="2854080"/>
              <a:chExt cx="772560" cy="960480"/>
            </a:xfrm>
          </p:grpSpPr>
          <p:sp>
            <p:nvSpPr>
              <p:cNvPr id="60" name="Oval 55"/>
              <p:cNvSpPr/>
              <p:nvPr/>
            </p:nvSpPr>
            <p:spPr>
              <a:xfrm rot="267000">
                <a:off x="4706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6"/>
              <p:cNvSpPr/>
              <p:nvPr/>
            </p:nvSpPr>
            <p:spPr>
              <a:xfrm flipV="1" rot="266400">
                <a:off x="5098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57"/>
            <p:cNvSpPr/>
            <p:nvPr/>
          </p:nvSpPr>
          <p:spPr>
            <a:xfrm rot="267000">
              <a:off x="4847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2665080" y="2206080"/>
            <a:ext cx="772560" cy="960120"/>
            <a:chOff x="2665080" y="2206080"/>
            <a:chExt cx="772560" cy="960120"/>
          </a:xfrm>
        </p:grpSpPr>
        <p:grpSp>
          <p:nvGrpSpPr>
            <p:cNvPr id="64" name="Group 59"/>
            <p:cNvGrpSpPr/>
            <p:nvPr/>
          </p:nvGrpSpPr>
          <p:grpSpPr>
            <a:xfrm>
              <a:off x="2665080" y="2206080"/>
              <a:ext cx="772560" cy="960120"/>
              <a:chOff x="2665080" y="2206080"/>
              <a:chExt cx="772560" cy="960120"/>
            </a:xfrm>
          </p:grpSpPr>
          <p:sp>
            <p:nvSpPr>
              <p:cNvPr id="65" name="Oval 60"/>
              <p:cNvSpPr/>
              <p:nvPr/>
            </p:nvSpPr>
            <p:spPr>
              <a:xfrm rot="267000">
                <a:off x="269172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61"/>
              <p:cNvSpPr/>
              <p:nvPr/>
            </p:nvSpPr>
            <p:spPr>
              <a:xfrm flipV="1" rot="266400">
                <a:off x="308376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62"/>
            <p:cNvSpPr/>
            <p:nvPr/>
          </p:nvSpPr>
          <p:spPr>
            <a:xfrm rot="267000">
              <a:off x="283320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3"/>
          <p:cNvGrpSpPr/>
          <p:nvPr/>
        </p:nvGrpSpPr>
        <p:grpSpPr>
          <a:xfrm>
            <a:off x="1944360" y="2206080"/>
            <a:ext cx="772560" cy="960120"/>
            <a:chOff x="1944360" y="2206080"/>
            <a:chExt cx="772560" cy="960120"/>
          </a:xfrm>
        </p:grpSpPr>
        <p:grpSp>
          <p:nvGrpSpPr>
            <p:cNvPr id="69" name="Group 64"/>
            <p:cNvGrpSpPr/>
            <p:nvPr/>
          </p:nvGrpSpPr>
          <p:grpSpPr>
            <a:xfrm>
              <a:off x="1944360" y="2206080"/>
              <a:ext cx="772560" cy="960120"/>
              <a:chOff x="1944360" y="2206080"/>
              <a:chExt cx="772560" cy="960120"/>
            </a:xfrm>
          </p:grpSpPr>
          <p:sp>
            <p:nvSpPr>
              <p:cNvPr id="70" name="Oval 65"/>
              <p:cNvSpPr/>
              <p:nvPr/>
            </p:nvSpPr>
            <p:spPr>
              <a:xfrm rot="267000">
                <a:off x="197100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66"/>
              <p:cNvSpPr/>
              <p:nvPr/>
            </p:nvSpPr>
            <p:spPr>
              <a:xfrm flipV="1" rot="266400">
                <a:off x="236304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67"/>
            <p:cNvSpPr/>
            <p:nvPr/>
          </p:nvSpPr>
          <p:spPr>
            <a:xfrm rot="267000">
              <a:off x="211248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8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74" name="Group 69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75" name="Oval 70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71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72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73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79" name="Group 74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80" name="Oval 75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76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77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8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84" name="Group 79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85" name="Oval 80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81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82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83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4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5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уч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-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Verdana"/>
              </a:rPr>
              <a:t>X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7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96" name="Group 28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97" name="Oval 29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0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 Box 31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101" name="Group 33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102" name="Oval 34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35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7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106" name="Group 38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107" name="Oval 39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40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41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42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4">
            <a:hlinkClick r:id="rId1" action="ppaction://hlinksldjump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5">
            <a:hlinkClick r:id="" action="ppaction://hlinkshowjump?jump=nextslide"/>
          </p:cNvPr>
          <p:cNvSpPr/>
          <p:nvPr/>
        </p:nvSpPr>
        <p:spPr>
          <a:xfrm>
            <a:off x="795672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лгоритм решения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носим все слагаемые, содержащ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известные в левую часть уравнения,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е слагаемые в правую, 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ивоположным зна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85128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 rot="10800000">
            <a:off x="1979640" y="4653000"/>
            <a:ext cx="3240000" cy="35856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924360" y="5589720"/>
            <a:ext cx="2665440" cy="433080"/>
          </a:xfrm>
          <a:custGeom>
            <a:avLst/>
            <a:gdLst>
              <a:gd name="textAreaLeft" fmla="*/ 466200 w 2665440"/>
              <a:gd name="textAreaRight" fmla="*/ 1932480 w 266544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005800" y="6021360"/>
            <a:ext cx="6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908000" y="4221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водим подобные слаг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 2x = 13 –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е части уравнения делим на кооффициент при неизвест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= - 8   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м корень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=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003640" y="328464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>
            <a:hlinkClick r:id="" action="ppaction://hlinkshowjump?jump=nextslide"/>
          </p:cNvPr>
          <p:cNvSpPr/>
          <p:nvPr/>
        </p:nvSpPr>
        <p:spPr>
          <a:xfrm>
            <a:off x="802800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3794"/>
                </a:moveTo>
                <a:lnTo>
                  <a:pt x="25671" y="10800"/>
                </a:lnTo>
                <a:lnTo>
                  <a:pt x="1165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Это познавательно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ный способ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является прие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восполнения и противопоставления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Хорез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абское название э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джеб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АЛГ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-Chwarizmi"/>
          <p:cNvPicPr/>
          <p:nvPr/>
        </p:nvPicPr>
        <p:blipFill>
          <a:blip r:embed="rId2"/>
          <a:stretch/>
        </p:blipFill>
        <p:spPr>
          <a:xfrm>
            <a:off x="6372360" y="1700280"/>
            <a:ext cx="2546280" cy="3449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156360" y="515772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Verdana"/>
              </a:rPr>
              <a:t>Аль-Хорезми – арабский ученый (82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856944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7493"/>
                </a:moveTo>
                <a:lnTo>
                  <a:pt x="11832" y="7493"/>
                </a:lnTo>
                <a:lnTo>
                  <a:pt x="11832" y="12828"/>
                </a:lnTo>
                <a:cubicBezTo>
                  <a:pt x="11832" y="13751"/>
                  <a:pt x="12633" y="14482"/>
                  <a:pt x="13669" y="14482"/>
                </a:cubicBezTo>
                <a:lnTo>
                  <a:pt x="15331" y="14482"/>
                </a:lnTo>
                <a:cubicBezTo>
                  <a:pt x="16367" y="14482"/>
                  <a:pt x="17168" y="13751"/>
                  <a:pt x="17168" y="12828"/>
                </a:cubicBezTo>
                <a:lnTo>
                  <a:pt x="17168" y="7493"/>
                </a:lnTo>
                <a:lnTo>
                  <a:pt x="15331" y="7493"/>
                </a:lnTo>
                <a:lnTo>
                  <a:pt x="18839" y="3985"/>
                </a:lnTo>
                <a:lnTo>
                  <a:pt x="22512" y="7493"/>
                </a:lnTo>
                <a:lnTo>
                  <a:pt x="20675" y="7493"/>
                </a:lnTo>
                <a:lnTo>
                  <a:pt x="20675" y="12828"/>
                </a:lnTo>
                <a:cubicBezTo>
                  <a:pt x="20675" y="15596"/>
                  <a:pt x="18099" y="18155"/>
                  <a:pt x="15331" y="18155"/>
                </a:cubicBezTo>
                <a:lnTo>
                  <a:pt x="13669" y="18155"/>
                </a:lnTo>
                <a:cubicBezTo>
                  <a:pt x="10901" y="18155"/>
                  <a:pt x="8325" y="15596"/>
                  <a:pt x="8325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>
            <a:hlinkClick r:id="" action="ppaction://hlinkshowjump?jump=nextslide"/>
          </p:cNvPr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 правильное 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427640" y="2421000"/>
            <a:ext cx="73080" cy="360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5280" y="2997360"/>
            <a:ext cx="374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1 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- 6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716360" y="292428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 1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-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5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7493"/>
                </a:moveTo>
                <a:lnTo>
                  <a:pt x="11670" y="7493"/>
                </a:lnTo>
                <a:lnTo>
                  <a:pt x="11670" y="12828"/>
                </a:lnTo>
                <a:cubicBezTo>
                  <a:pt x="11670" y="13751"/>
                  <a:pt x="12471" y="14482"/>
                  <a:pt x="13507" y="14482"/>
                </a:cubicBezTo>
                <a:lnTo>
                  <a:pt x="15169" y="14482"/>
                </a:lnTo>
                <a:cubicBezTo>
                  <a:pt x="16205" y="14482"/>
                  <a:pt x="17005" y="13751"/>
                  <a:pt x="17005" y="12828"/>
                </a:cubicBezTo>
                <a:lnTo>
                  <a:pt x="17005" y="7493"/>
                </a:lnTo>
                <a:lnTo>
                  <a:pt x="15169" y="7493"/>
                </a:lnTo>
                <a:lnTo>
                  <a:pt x="18677" y="3985"/>
                </a:lnTo>
                <a:lnTo>
                  <a:pt x="22349" y="7493"/>
                </a:lnTo>
                <a:lnTo>
                  <a:pt x="20513" y="7493"/>
                </a:lnTo>
                <a:lnTo>
                  <a:pt x="20513" y="12828"/>
                </a:lnTo>
                <a:cubicBezTo>
                  <a:pt x="20513" y="15596"/>
                  <a:pt x="17937" y="18155"/>
                  <a:pt x="15169" y="18155"/>
                </a:cubicBezTo>
                <a:lnTo>
                  <a:pt x="13507" y="18155"/>
                </a:lnTo>
                <a:cubicBezTo>
                  <a:pt x="10739" y="18155"/>
                  <a:pt x="8162" y="15596"/>
                  <a:pt x="8162" y="1282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1187280" y="1700280"/>
            <a:ext cx="676944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55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7008" dir="2216091" blurRad="0" rotWithShape="0">
                    <a:srgbClr val="ff6600"/>
                  </a:outerShdw>
                </a:effectLst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7008" dir="2216091" blurRad="0" rotWithShape="0">
                  <a:srgbClr val="ff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11" descr="ребенок"/>
          <p:cNvPicPr/>
          <p:nvPr/>
        </p:nvPicPr>
        <p:blipFill>
          <a:blip r:embed="rId1"/>
          <a:stretch/>
        </p:blipFill>
        <p:spPr>
          <a:xfrm>
            <a:off x="3419640" y="3284640"/>
            <a:ext cx="3103560" cy="23349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2">
            <a:hlinkClick r:id="" action="ppaction://hlinkshowjump?jump=previous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7493"/>
                </a:moveTo>
                <a:lnTo>
                  <a:pt x="14760" y="7493"/>
                </a:lnTo>
                <a:lnTo>
                  <a:pt x="14760" y="12828"/>
                </a:lnTo>
                <a:cubicBezTo>
                  <a:pt x="14760" y="13751"/>
                  <a:pt x="15561" y="14482"/>
                  <a:pt x="16597" y="14482"/>
                </a:cubicBezTo>
                <a:lnTo>
                  <a:pt x="18259" y="14482"/>
                </a:lnTo>
                <a:cubicBezTo>
                  <a:pt x="19295" y="14482"/>
                  <a:pt x="20096" y="13751"/>
                  <a:pt x="20096" y="12828"/>
                </a:cubicBezTo>
                <a:lnTo>
                  <a:pt x="20096" y="7493"/>
                </a:lnTo>
                <a:lnTo>
                  <a:pt x="18259" y="7493"/>
                </a:lnTo>
                <a:lnTo>
                  <a:pt x="21767" y="3985"/>
                </a:lnTo>
                <a:lnTo>
                  <a:pt x="25440" y="7493"/>
                </a:lnTo>
                <a:lnTo>
                  <a:pt x="23603" y="7493"/>
                </a:lnTo>
                <a:lnTo>
                  <a:pt x="23603" y="12828"/>
                </a:lnTo>
                <a:cubicBezTo>
                  <a:pt x="23603" y="15596"/>
                  <a:pt x="21027" y="18155"/>
                  <a:pt x="18259" y="18155"/>
                </a:cubicBezTo>
                <a:lnTo>
                  <a:pt x="16597" y="18155"/>
                </a:lnTo>
                <a:cubicBezTo>
                  <a:pt x="13829" y="18155"/>
                  <a:pt x="11253" y="15596"/>
                  <a:pt x="11253" y="12828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38:24Z</dcterms:created>
  <dc:creator>X</dc:creator>
  <dc:description/>
  <dc:language>en-US</dc:language>
  <cp:lastModifiedBy>Коля</cp:lastModifiedBy>
  <dcterms:modified xsi:type="dcterms:W3CDTF">2013-03-26T17:13:53Z</dcterms:modified>
  <cp:revision>77</cp:revision>
  <dc:subject/>
  <dc:title>Решение линейных уравнений</dc:title>
</cp:coreProperties>
</file>