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657A-BE23-42FC-B68B-77BE8EAA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3897-F4C3-48CD-9C66-3CB153FC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4F4D-E1E8-4225-9603-B283B2BB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8AE2-B29E-457D-8252-0FED0BB6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1B90-7722-4CF9-85EE-DAAE9AB9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BB0B-393E-48ED-B4C7-55EF85B1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01C5-2922-40C5-90BD-71061B5F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C165-00F1-4D23-9E36-49E96D23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03E3-94D9-4F81-B0AD-0B34E35C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6C09-D9C0-4D9A-8532-B4BAFACE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2AA8-1982-4920-B667-6152541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8ED4-1E17-41A0-913B-A41A8D7D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FBA7-E501-4EF1-8AB3-D278ED70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3034-5EBC-4D35-ABD2-9068EB70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75C-1D1C-4B95-84BC-2490C6BB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62CC-199A-401D-9D8E-90D6AE8A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CF72-15EF-4D3B-B35B-F6A1F95B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E5CC-A6F0-4A39-A17F-5CD3A3E0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F43E-4DD1-472A-BCCF-B3F2AD02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CF0A-6A77-46AC-9F4B-B59EC6B7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E9ED-566D-4A2B-836E-BF9E9B98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F857-1564-4916-96C1-D242D28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B688-3D0B-4801-9F75-82F1141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EC95-4BD5-4187-8300-AE8FC7D6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86EB-C25C-4E37-9581-3C037A231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ED1E-3629-4814-BB87-792E876182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28464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КТО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ТАКОЙ НАСТОЯЩИЙ </a:t>
            </a: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ДЕД МОРОЗ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1081080" cy="1381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1368360" cy="12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90600" y="115920"/>
            <a:ext cx="4762800" cy="309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ШО Х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39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95400"/>
            <a:ext cx="6667200" cy="666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Garamond"/>
              </a:rPr>
              <a:t>САНТА КЛАУ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46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СВЯТОЙ НИКОЛА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26436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ЙОЛУПУК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32280" y="2776680"/>
            <a:ext cx="1279440" cy="1304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886e0"/>
                </a:solidFill>
                <a:latin typeface="Garamond"/>
              </a:rPr>
              <a:t>БАББО НАТАЛ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1579680"/>
            <a:ext cx="5400720" cy="454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Garamond"/>
              </a:rPr>
              <a:t>НОЭЛЬ БАБ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76440"/>
            <a:ext cx="5473440" cy="4535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ИНТЕР КЛАА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6624720" cy="4511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МИКУЛА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2:40:33Z</dcterms:created>
  <dc:creator>User</dc:creator>
  <dc:description/>
  <dc:language>en-US</dc:language>
  <cp:lastModifiedBy>User</cp:lastModifiedBy>
  <dcterms:modified xsi:type="dcterms:W3CDTF">2008-12-13T00:01:12Z</dcterms:modified>
  <cp:revision>3</cp:revision>
  <dc:subject/>
  <dc:title>«КТО ТАКОЙ НАСТОЯЩИЙ ДЕД МОРОЗ?»</dc:title>
</cp:coreProperties>
</file>