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173E-CC14-49B0-B2EB-7B7BAB9B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5968-AEC6-4A9E-A756-253ADCD4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2CEA-BD46-4C8A-B2AF-77890235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621F-26B6-4E1E-8069-6BD468C5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C733-4A28-4288-9909-5E63D8B3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17E4-F037-4115-B967-6F3978D7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6D87-F3CE-4417-BEBB-DE522703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4011-0C34-451D-A754-CE70B1EC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81C7-D643-4E0E-8E32-BE7F526D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1E71-A654-44AB-8F37-362B3138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AB52-C911-4306-9991-A02954EF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4B20-C8AC-4DEF-A309-7B4648DD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DD5E-8888-4948-B0EC-EA40DA4E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B542-836C-4007-A618-DA974F7F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FC16-663D-47A0-94DF-AF14832B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718A-96B4-40CB-9BF4-1140EE6A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C1EC-818C-4AEC-BC61-E68C2481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A794-A8A1-423C-A984-C27150B9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179D-2461-498D-9497-CA491F6D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FB85-20B5-4477-A9D4-2632A91E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DF47D-E347-46BA-8120-BC5C9136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BB09-E865-48DC-875F-137FA71E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7C5F-FB9C-41A7-A6B4-0135917C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A808-8B70-4A45-BE0E-7ECA1DE2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8F67-CD6D-4E92-9B76-45F255E73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96D7-7414-471A-95B0-C6BAE299BC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28464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КТО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ТАКОЙ НАСТОЯЩИЙ </a:t>
            </a: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ДЕД МОРОЗ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1081080" cy="1381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368360" cy="12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90600" y="115920"/>
            <a:ext cx="4762800" cy="309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ШО ХИ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39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38400" y="95400"/>
            <a:ext cx="6667200" cy="666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Garamond"/>
              </a:rPr>
              <a:t>САНТА КЛАУ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446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СВЯТОЙ НИКОЛА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ЙОЛУПУК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32280" y="2776680"/>
            <a:ext cx="1279440" cy="130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БАББО НАТАЛ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1579680"/>
            <a:ext cx="5400720" cy="454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Garamond"/>
              </a:rPr>
              <a:t>НОЭЛЬ БАБ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35280" y="1576440"/>
            <a:ext cx="5473440" cy="4535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ИНТЕР КЛАА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6624720" cy="4511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МИКУЛА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6360" cy="453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2:40:33Z</dcterms:created>
  <dc:creator>User</dc:creator>
  <dc:description/>
  <dc:language>en-US</dc:language>
  <cp:lastModifiedBy>User</cp:lastModifiedBy>
  <dcterms:modified xsi:type="dcterms:W3CDTF">2008-12-13T00:01:12Z</dcterms:modified>
  <cp:revision>3</cp:revision>
  <dc:subject/>
  <dc:title>«КТО ТАКОЙ НАСТОЯЩИЙ ДЕД МОРОЗ?»</dc:title>
</cp:coreProperties>
</file>