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4627-1315-4C9D-B8DF-8CC9A41A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8DC2-5CFF-4203-AA9F-E6998157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34E8-0BC1-472C-9570-39BFD828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C562-7D1B-4A72-B3D7-F4169B50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FCA7-601A-4CB5-A739-77D12E36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5362-4547-48CE-AEBA-E6B87F6B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BE9C-9817-40A4-AA1F-E4E04A57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FE7F-9258-4096-9B03-75C66168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DD04-41A3-4419-9691-ADF84B5E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E1A1-0DB9-4292-B1A2-9F9B515E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9D93-C444-4A37-B275-FC8A734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F3C1-A366-4D41-B195-2B888DDF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2757-312A-4BBB-8CDE-9CAB70AC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EAFF-1688-4610-8CE0-E8A873C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4E97-5196-4542-AE1E-9B64D507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292A-FFDD-45C8-B97A-E898FF9D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93D4-F2D0-4619-9236-BF2554D3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68F9-4835-4455-B79F-36A78F6F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138B-E6DC-4B61-95CE-329A6FD3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C81A-E922-4115-988F-B81535EB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6107-C997-4D92-AE41-A73492DF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B812-A4D4-4AA6-87F1-3AC4AEE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A81C-EF21-4029-BA02-6EA60F95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E12A-30A1-45F8-BCC0-23B0AD6D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E84E-AAAF-4887-8E1F-B37DA226C9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B7E4-1453-43E1-A7B5-9942860B9E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28464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КТО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ТАКОЙ НАСТОЯЩИЙ </a:t>
            </a: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ДЕД МОРОЗ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1081080" cy="1381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368360" cy="12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90600" y="115920"/>
            <a:ext cx="4762800" cy="309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ШО ХИ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39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38400" y="95400"/>
            <a:ext cx="6667200" cy="666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Garamond"/>
              </a:rPr>
              <a:t>САНТА КЛАУ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446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СВЯТОЙ НИКОЛА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ЙОЛУПУК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32280" y="2776680"/>
            <a:ext cx="1279440" cy="130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БАББО НАТАЛ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1579680"/>
            <a:ext cx="5400720" cy="454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Garamond"/>
              </a:rPr>
              <a:t>НОЭЛЬ БАБ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35280" y="1576440"/>
            <a:ext cx="5473440" cy="4535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ИНТЕР КЛАА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6624720" cy="4511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МИКУЛА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6360" cy="453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2:40:33Z</dcterms:created>
  <dc:creator>User</dc:creator>
  <dc:description/>
  <dc:language>en-US</dc:language>
  <cp:lastModifiedBy>User</cp:lastModifiedBy>
  <dcterms:modified xsi:type="dcterms:W3CDTF">2008-12-13T00:01:12Z</dcterms:modified>
  <cp:revision>3</cp:revision>
  <dc:subject/>
  <dc:title>«КТО ТАКОЙ НАСТОЯЩИЙ ДЕД МОРОЗ?»</dc:title>
</cp:coreProperties>
</file>