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F7D-0635-41A4-A3C6-69900CD2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A70-798C-41B4-BFF1-7CDD1D63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7E2-3523-46DF-A990-17B34B70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A532-BEC2-4E8A-AAAA-4A5E53BB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BA5C-38AF-4C88-AB2D-DC9E3D1B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5F43-61A6-41E2-BA53-12813955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6A66-B915-45FC-9A5C-A294B1B9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3261-F73C-4BFA-8460-0CFD0147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C001-DF66-465C-83D6-AD0B75D3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9C63-9E9E-4F06-99DB-18A51CBC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589F-6ABF-4E94-BF68-8C51D86F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994-D9FD-41B0-9289-406754B1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7B6E-8972-4D0D-B5F8-8C5F68A6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AEA0-C704-4C2B-BBD1-6CD4CA49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7972-CD02-463F-B25D-EA3A4EB7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CABE-E0B9-410A-9848-1640175E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EF3F-1095-4542-815D-227B0D46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602-A9C3-4290-A18B-BEEFB3C0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F2F-F37A-4874-95B5-473C7080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937-738B-4A32-9EF5-395F6641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C24-9CC6-49D0-B94A-33C5F689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53B-2AF3-47A1-9ABA-73AE06F8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8CA-FBB6-4632-952B-5BFD0BFA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40A-903A-4E65-80B9-27960A4D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011A-AA05-4F1C-9407-F1FD19294C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A14B-31C4-4EE0-92A7-4C84D312B8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ti.amd.com/" TargetMode="External"/><Relationship Id="rId2" Type="http://schemas.openxmlformats.org/officeDocument/2006/relationships/hyperlink" Target="http://www.nvidia.ru/page/home.html" TargetMode="External"/><Relationship Id="rId3" Type="http://schemas.openxmlformats.org/officeDocument/2006/relationships/hyperlink" Target="http://www.nvidia.ru/page/workstation.htm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2;&#1077;&#1085;&#1090;&#1088;&#1072;&#1083;&#1100;&#1085;&#1099;&#1081;_&#1087;&#1088;&#1086;&#1094;&#1077;&#1089;&#1089;&#1086;&#1088;" TargetMode="External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91;&#1092;&#1077;&#1088;" TargetMode="Externa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: Шавензов Ден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7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У ЦО №1861 «Загорь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система охла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дназначена для сохранения температурного режима видеопроцессора и видеопамяти в допустимых предел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Leave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94600" y="5805360"/>
            <a:ext cx="844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cc00"/>
                </a:solidFill>
                <a:uFillTx/>
                <a:latin typeface="Tahoma"/>
              </a:rPr>
              <a:t>ХАРАКТЕРИСТИК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ирина шины памя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личество видео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астоты ядра и памя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хпроце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кстурная и пиксельная скорость заполн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воды кар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6" descr="1998 - Генератор зл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5661000"/>
            <a:ext cx="9651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Tahoma"/>
              </a:rPr>
              <a:t>ПРОИЗВОДИТЕЛ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ahoma"/>
              </a:rPr>
              <a:t>Основные производи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ATI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NVidia|NVIDIA Corpo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ahoma"/>
              </a:rPr>
              <a:t>Специализирова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Nvidia Quadro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atrox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3D Lab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ahoma"/>
              </a:rPr>
              <a:t>Другие производите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3df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S3 Graphic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XGI Technology In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31_2192"/>
          <p:cNvPicPr/>
          <p:nvPr/>
        </p:nvPicPr>
        <p:blipFill>
          <a:blip r:embed="rId4"/>
          <a:stretch/>
        </p:blipFill>
        <p:spPr>
          <a:xfrm>
            <a:off x="8101080" y="5807160"/>
            <a:ext cx="836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Tahoma"/>
              </a:rPr>
              <a:t>Цены на 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3816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Radeo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X195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256Мб,16х со 169 до 189 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Radeon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X165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128Мб,8х со 119 до 129 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image"/>
          <p:cNvPicPr/>
          <p:nvPr/>
        </p:nvPicPr>
        <p:blipFill>
          <a:blip r:embed="rId1"/>
          <a:stretch/>
        </p:blipFill>
        <p:spPr>
          <a:xfrm>
            <a:off x="4788000" y="1989000"/>
            <a:ext cx="3760560" cy="25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over"/>
          <p:cNvPicPr/>
          <p:nvPr/>
        </p:nvPicPr>
        <p:blipFill>
          <a:blip r:embed="rId2"/>
          <a:stretch/>
        </p:blipFill>
        <p:spPr>
          <a:xfrm>
            <a:off x="8028000" y="5661000"/>
            <a:ext cx="8794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00"/>
                </a:solidFill>
                <a:uFillTx/>
                <a:latin typeface="Tahoma"/>
              </a:rPr>
              <a:t>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209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это устройств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ерез которое сигналы изображения выводятся на монитор (или другое  устройство визуального представления изображения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00"/>
                </a:solidFill>
                <a:uFillTx/>
                <a:latin typeface="Tahoma"/>
              </a:rPr>
              <a:t>Видеокар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6" descr="Geforce_4200"/>
          <p:cNvPicPr/>
          <p:nvPr/>
        </p:nvPicPr>
        <p:blipFill>
          <a:blip r:embed="rId1"/>
          <a:stretch/>
        </p:blipFill>
        <p:spPr>
          <a:xfrm>
            <a:off x="3067200" y="1989000"/>
            <a:ext cx="607680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205000"/>
            <a:ext cx="616932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Устройств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3" action="ppaction://hlinksldjump"/>
              </a:rPr>
              <a:t>Характерист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4" action="ppaction://hlinksldjump"/>
              </a:rPr>
              <a:t>Производите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  <a:hlinkClick r:id="rId5" action="ppaction://hlinksldjump"/>
              </a:rPr>
              <a:t>Це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3059280" y="3141720"/>
            <a:ext cx="403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00"/>
                </a:solidFill>
                <a:uFillTx/>
                <a:latin typeface="Tahoma"/>
              </a:rPr>
              <a:t>КОНЕЦ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Tahoma"/>
              </a:rPr>
              <a:t>Устройства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 action="ppaction://hlinksldjump"/>
              </a:rPr>
              <a:t>графический процесс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видеоконтроллер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3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4" action="ppaction://hlinksldjump"/>
              </a:rPr>
              <a:t>видеопамять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5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6" action="ppaction://hlinksldjump"/>
              </a:rPr>
              <a:t>цифро-аналоговый преобразователь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7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8" action="ppaction://hlinksldjump"/>
              </a:rPr>
              <a:t>видео-ПЗУ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9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0" action="ppaction://hlinksldjump"/>
              </a:rPr>
              <a:t>система охлаждения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1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24" descr="Leaves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88480" y="5877000"/>
            <a:ext cx="752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animClr clrSpc="rgb">
                                      <p:cBhvr>
                                        <p:cTn id="1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ff"/>
                                      </p:to>
                                    </p:animClr>
                                    <p:set>
                                      <p:cBhvr>
                                        <p:cTn id="1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66"/>
                                      </p:to>
                                    </p:animClr>
                                    <p:animClr clrSpc="rgb"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66"/>
                                      </p:to>
                                    </p:animClr>
                                    <p:set>
                                      <p:cBhvr>
                                        <p:cTn id="1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animClr clrSpc="rgb"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99"/>
                                      </p:to>
                                    </p:animClr>
                                    <p:set>
                                      <p:cBhvr>
                                        <p:cTn id="1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1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графический процессо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занимается расчётами выводимого изображения, освобождая от этой обязанности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центральный процессор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 производит расчёты для обработки команд трёхмерной графики. Является основой графической платы, именно от него зависят быстродействие и возможности всего устрой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Energy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5950080"/>
            <a:ext cx="73800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деоконтроллер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твечает за формирование изображения в видеопамяти, даёт команды RAMDAC на формирование сигналов развёртки для монитора и осуществляет обработку запросов центрального процессо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Fading Field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47240" y="5950080"/>
            <a:ext cx="73476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деопамять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ыполняет роль кадрового 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буфер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 в котором хранится изображение, генерируемое и постоянно изменяемое графическим процессором и выводимое на экран монитора (или нескольких мониторов). В видеопамяти хранятся также промежуточные невидимые на экране элементы изображения и другие данны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Silver Crysta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6080" y="5950080"/>
            <a:ext cx="71748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цифро-аналоговый преобразовател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лужит для преобразования изображения, формируемого видеоконтроллером, в уровни интенсивности цвета, подаваемые на аналоговый монитор. Возможный диапазон цветности изображения определяется только параметрами RAMDA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Energy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5870520"/>
            <a:ext cx="8096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део-ПЗУ 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стоянное запоминающее устройство, в которое записаны видео-BIOS, экранные шрифты, служебные таблицы и т. п. ПЗУ не используется видеоконтроллером напрямую — к нему обращается только центральный процессор. Хранящийся в ПЗУ видео-BIOS обеспечивает инициализацию и работу видеокарты до загрузки основной операционной системы, а также содержит системные данные, которые могут читаться и интерпретироваться видеодрайвером в процессе рабо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Ligh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44000" y="5950080"/>
            <a:ext cx="78084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1:29Z</dcterms:created>
  <dc:creator>user</dc:creator>
  <dc:description/>
  <dc:language>en-US</dc:language>
  <cp:lastModifiedBy>Коля</cp:lastModifiedBy>
  <dcterms:modified xsi:type="dcterms:W3CDTF">2013-07-16T13:56:17Z</dcterms:modified>
  <cp:revision>8</cp:revision>
  <dc:subject/>
  <dc:title>Видеокарты</dc:title>
</cp:coreProperties>
</file>