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E5C-DA24-4403-A35B-C9B0412E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AA4-DB97-488B-8494-2D2E163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9CD-161E-4642-A27E-2364C9FF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030-F70C-43FB-86FA-67D16966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C747-001B-4863-AC1D-70AABA53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46DD-C763-4763-96F8-E2FB129F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853F-2296-4743-8373-018979EC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6918-F4DF-4796-A25C-66F00584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4FE6-E0C3-4907-BF28-BC59526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1DC9-B9E7-421C-86F0-0C3E58B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1F1D-984D-41FD-B0BA-349A301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948-7F0B-48F6-9137-5BEBA101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E118-F586-45BF-804C-6A2739AB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BFC9-C9DA-413A-980E-899E130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C5CC-5A50-4E30-9DDF-443BA46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C47-94BA-4BC0-8051-1B8FE9D4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6DB-F3B1-4F8D-94F2-D38B4702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7F6-D529-4B94-B939-6363230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517-0787-4D83-94BE-A1E0B184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4BA-B7FB-47BD-8E43-11351DF2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94F-B325-4463-808C-C693C64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A69-83DE-4F08-8FBD-F685E1E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BD2-DAA2-4B42-B44B-D91C195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19E-486A-4B93-A9DD-52553EAD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3BD-0142-486A-8A88-2112BA4778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CD5F-5C91-4632-B4CF-3BCD3204A1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i.amd.com/" TargetMode="External"/><Relationship Id="rId2" Type="http://schemas.openxmlformats.org/officeDocument/2006/relationships/hyperlink" Target="http://www.nvidia.ru/page/home.html" TargetMode="External"/><Relationship Id="rId3" Type="http://schemas.openxmlformats.org/officeDocument/2006/relationships/hyperlink" Target="http://www.nvidia.ru/page/workstation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5;&#1090;&#1088;&#1072;&#1083;&#1100;&#1085;&#1099;&#1081;_&#1087;&#1088;&#1086;&#1094;&#1077;&#1089;&#1089;&#1086;&#1088;" TargetMode="Externa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91;&#1092;&#1077;&#1088;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: Шавензов Ден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7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У ЦО №1861 «Загорь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истема охла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назначена для сохранения температурного режима видеопроцессора и видеопамяти в допустимых предел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Leave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94600" y="5805360"/>
            <a:ext cx="844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cc00"/>
                </a:solidFill>
                <a:uFillTx/>
                <a:latin typeface="Tahoma"/>
              </a:rPr>
              <a:t>ХАРАКТЕРИС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ирина шины памя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личество видео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астоты ядра и памя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хпроце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кстурная и пиксельная скорость заполн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воды кар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1998 - Генератор зл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661000"/>
            <a:ext cx="9651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ПРОИЗВОДИТЕЛ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Основные произв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TI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NVidia|NVIDIA Corpo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Специализирова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Nvidia Quadro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atrox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D Lab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Другие произв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df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S3 Graphic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XGI Technology In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31_2192"/>
          <p:cNvPicPr/>
          <p:nvPr/>
        </p:nvPicPr>
        <p:blipFill>
          <a:blip r:embed="rId4"/>
          <a:stretch/>
        </p:blipFill>
        <p:spPr>
          <a:xfrm>
            <a:off x="8101080" y="580716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Цены на 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3816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Rade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X195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56Мб,16х со 169 до 189 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Rade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X165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128Мб,8х со 119 до 129 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image"/>
          <p:cNvPicPr/>
          <p:nvPr/>
        </p:nvPicPr>
        <p:blipFill>
          <a:blip r:embed="rId1"/>
          <a:stretch/>
        </p:blipFill>
        <p:spPr>
          <a:xfrm>
            <a:off x="4788000" y="1989000"/>
            <a:ext cx="3760560" cy="25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over"/>
          <p:cNvPicPr/>
          <p:nvPr/>
        </p:nvPicPr>
        <p:blipFill>
          <a:blip r:embed="rId2"/>
          <a:stretch/>
        </p:blipFill>
        <p:spPr>
          <a:xfrm>
            <a:off x="8028000" y="5661000"/>
            <a:ext cx="879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это устрой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ерез которое сигналы изображения выводятся на монитор (или другое  устройство визуального представления изображ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6" descr="Geforce_4200"/>
          <p:cNvPicPr/>
          <p:nvPr/>
        </p:nvPicPr>
        <p:blipFill>
          <a:blip r:embed="rId1"/>
          <a:stretch/>
        </p:blipFill>
        <p:spPr>
          <a:xfrm>
            <a:off x="3067200" y="1989000"/>
            <a:ext cx="60768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61693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Устрой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3" action="ppaction://hlinksldjump"/>
              </a:rPr>
              <a:t>Характерис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4" action="ppaction://hlinksldjump"/>
              </a:rPr>
              <a:t>Производит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5" action="ppaction://hlinksldjump"/>
              </a:rPr>
              <a:t>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3059280" y="314172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КОН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Устройства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графический процесс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видеоконтроллер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4" action="ppaction://hlinksldjump"/>
              </a:rPr>
              <a:t>видеопамять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6" action="ppaction://hlinksldjump"/>
              </a:rPr>
              <a:t>цифро-аналоговый преобразователь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7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8" action="ppaction://hlinksldjump"/>
              </a:rPr>
              <a:t>видео-ПЗУ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9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0" action="ppaction://hlinksldjump"/>
              </a:rPr>
              <a:t>система охлаждения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1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4" descr="Leaves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88480" y="5877000"/>
            <a:ext cx="752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animClr clrSpc="rgb">
                                      <p:cBhvr>
                                        <p:cTn id="1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1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  <p:set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графический процессо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занимается расчётами выводимого изображения, освобождая от этой обязанност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центральный процессор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производит расчёты для обработки команд трёхмерной графики. Является основой графической платы, именно от него зависят быстродействие и возможности всего устрой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Energ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50080"/>
            <a:ext cx="73800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контроллер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твечает за формирование изображения в видеопамяти, даёт команды RAMDAC на формирование сигналов развёртки для монитора и осуществляет обработку запросов центрального процессо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Fading Field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7240" y="5950080"/>
            <a:ext cx="73476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память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яет роль кадрового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буфер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в котором хранится изображение, генерируемое и постоянно изменяемое графическим процессором и выводимое на экран монитора (или нескольких мониторов). В видеопамяти хранятся также промежуточные невидимые на экране элементы изображения и другие данн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Silver Cryst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6080" y="5950080"/>
            <a:ext cx="7174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цифро-аналоговый преобразовател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лужит для преобразования изображения, формируемого видеоконтроллером, в уровни интенсивности цвета, подаваемые на аналоговый монитор. Возможный диапазон цветности изображения определяется только параметрами RAMDA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Energ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5870520"/>
            <a:ext cx="80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-ПЗУ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стоянное запоминающее устройство, в которое записаны видео-BIOS, экранные шрифты, служебные таблицы и т. п. ПЗУ не используется видеоконтроллером напрямую — к нему обращается только центральный процессор. Хранящийся в ПЗУ видео-BIOS обеспечивает инициализацию и работу видеокарты до загрузки основной операционной системы, а также содержит системные данные, которые могут читаться и интерпретироваться видеодрайвером в процессе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L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4000" y="5950080"/>
            <a:ext cx="7808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1:29Z</dcterms:created>
  <dc:creator>user</dc:creator>
  <dc:description/>
  <dc:language>en-US</dc:language>
  <cp:lastModifiedBy>Коля</cp:lastModifiedBy>
  <dcterms:modified xsi:type="dcterms:W3CDTF">2013-07-16T13:56:17Z</dcterms:modified>
  <cp:revision>8</cp:revision>
  <dc:subject/>
  <dc:title>Видеокарты</dc:title>
</cp:coreProperties>
</file>