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CD39-573A-49E4-BC37-E6F5C9C7E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BD58-7400-494D-A0C6-D00D49F1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E2AA-1A15-4F8F-9621-0540EB110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7250-55AF-41CB-94C6-5E5ECB2F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99C8-1895-4312-9EAE-C7D70BA0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897A-29CE-4856-8FC8-BB153068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27A1-76F4-4410-9802-C279412F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45A9-4176-4E41-85FE-87064191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801F-D3EE-40FD-B5F9-E7E15E0C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4C8F-5A59-4CC8-B37A-67042890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2312-016A-4ABE-A578-2C5DC436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50F0-16AE-4185-AAFA-8E6BCFF9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8E1B-84E8-4F0C-AA74-56C5F85D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82FE-399C-4B15-A1AE-39B6D411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19D6-1978-4416-B4DA-F63068E9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7C2F-263E-4F89-9BBB-2344049A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7114-DDED-4874-BE9D-42C22531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CE56-0557-49CC-8D3E-DB785C15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23DE-B0DB-4492-B855-3323207B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EA35-E6FA-4E10-A953-146242FF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A5B6-E486-4DB9-AA10-06B65242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5CCF-4886-4230-84F4-FE95151D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2315-14BB-456A-B788-97963908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F6BC-0AA6-4A68-99F4-78F6C52E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6BFC-DDF6-4ED9-8372-E2E3981540D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680F-7E1B-4BC4-BE91-25A5323A74F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ti.amd.com/" TargetMode="External"/><Relationship Id="rId2" Type="http://schemas.openxmlformats.org/officeDocument/2006/relationships/hyperlink" Target="http://www.nvidia.ru/page/home.html" TargetMode="External"/><Relationship Id="rId3" Type="http://schemas.openxmlformats.org/officeDocument/2006/relationships/hyperlink" Target="http://www.nvidia.ru/page/workstation.html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0.xml"/><Relationship Id="rId12" Type="http://schemas.openxmlformats.org/officeDocument/2006/relationships/slide" Target="slide3.xml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2;&#1077;&#1085;&#1090;&#1088;&#1072;&#1083;&#1100;&#1085;&#1099;&#1081;_&#1087;&#1088;&#1086;&#1094;&#1077;&#1089;&#1089;&#1086;&#1088;" TargetMode="External"/><Relationship Id="rId2" Type="http://schemas.openxmlformats.org/officeDocument/2006/relationships/slide" Target="slide4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91;&#1092;&#1077;&#1088;" TargetMode="External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Видеокар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: Шавензов Дени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007 г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У ЦО №1861 «Загорье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система охла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редназначена для сохранения температурного режима видеопроцессора и видеопамяти в допустимых предела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Leaves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94600" y="5805360"/>
            <a:ext cx="8445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cc00"/>
                </a:solidFill>
                <a:uFillTx/>
                <a:latin typeface="Tahoma"/>
              </a:rPr>
              <a:t>ХАРАКТЕРИСТИ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ширина шины памят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оличество видеопамя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частоты ядра и памят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ехпроцес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екстурная и пиксельная скорость заполне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ыводы карт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6" descr="1998 - Генератор зл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5661000"/>
            <a:ext cx="96516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aeaea"/>
                </a:solidFill>
                <a:uFillTx/>
                <a:latin typeface="Tahoma"/>
              </a:rPr>
              <a:t>ПРОИЗВОДИТЕЛ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71280" y="1916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Tahoma"/>
              </a:rPr>
              <a:t>Основные производите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ATI Technolog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NVidia|NVIDIA Corpor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Tahoma"/>
              </a:rPr>
              <a:t>Специализирова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Nvidia Quadro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Matrox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3D Labs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Tahoma"/>
              </a:rPr>
              <a:t>Другие производите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3df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S3 Graphic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XGI Technology Inc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4" descr="31_2192"/>
          <p:cNvPicPr/>
          <p:nvPr/>
        </p:nvPicPr>
        <p:blipFill>
          <a:blip r:embed="rId4"/>
          <a:stretch/>
        </p:blipFill>
        <p:spPr>
          <a:xfrm>
            <a:off x="8101080" y="5807160"/>
            <a:ext cx="83664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aeaea"/>
                </a:solidFill>
                <a:uFillTx/>
                <a:latin typeface="Tahoma"/>
              </a:rPr>
              <a:t>Цены на видеокар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99640" y="1915920"/>
            <a:ext cx="38163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Radeon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X1950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256Мб,16х со 169 до 189 евр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Radeon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X1650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128Мб,8х со 119 до 129 евр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7" descr="image"/>
          <p:cNvPicPr/>
          <p:nvPr/>
        </p:nvPicPr>
        <p:blipFill>
          <a:blip r:embed="rId1"/>
          <a:stretch/>
        </p:blipFill>
        <p:spPr>
          <a:xfrm>
            <a:off x="4788000" y="1989000"/>
            <a:ext cx="3760560" cy="2529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cover"/>
          <p:cNvPicPr/>
          <p:nvPr/>
        </p:nvPicPr>
        <p:blipFill>
          <a:blip r:embed="rId2"/>
          <a:stretch/>
        </p:blipFill>
        <p:spPr>
          <a:xfrm>
            <a:off x="8028000" y="5661000"/>
            <a:ext cx="87948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cc00"/>
                </a:solidFill>
                <a:uFillTx/>
                <a:latin typeface="Tahoma"/>
              </a:rPr>
              <a:t>Видеокар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20908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это устройств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через которое сигналы изображения выводятся на монитор (или другое  устройство визуального представления изображения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cc00"/>
                </a:solidFill>
                <a:uFillTx/>
                <a:latin typeface="Tahoma"/>
              </a:rPr>
              <a:t>Видеокар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4" name="Picture 6" descr="Geforce_4200"/>
          <p:cNvPicPr/>
          <p:nvPr/>
        </p:nvPicPr>
        <p:blipFill>
          <a:blip r:embed="rId1"/>
          <a:stretch/>
        </p:blipFill>
        <p:spPr>
          <a:xfrm>
            <a:off x="3067200" y="1989000"/>
            <a:ext cx="607680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2205000"/>
            <a:ext cx="616932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cc"/>
                </a:solidFill>
                <a:uFillTx/>
                <a:latin typeface="Tahoma"/>
                <a:hlinkClick r:id="rId2" action="ppaction://hlinksldjump"/>
              </a:rPr>
              <a:t>Устройств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cc"/>
                </a:solidFill>
                <a:uFillTx/>
                <a:latin typeface="Tahoma"/>
                <a:hlinkClick r:id="rId3" action="ppaction://hlinksldjump"/>
              </a:rPr>
              <a:t>Характеристи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cc"/>
                </a:solidFill>
                <a:uFillTx/>
                <a:latin typeface="Tahoma"/>
                <a:hlinkClick r:id="rId4" action="ppaction://hlinksldjump"/>
              </a:rPr>
              <a:t>Производител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cc"/>
                </a:solidFill>
                <a:uFillTx/>
                <a:latin typeface="Tahoma"/>
                <a:hlinkClick r:id="rId5" action="ppaction://hlinksldjump"/>
              </a:rPr>
              <a:t>Цен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33"/>
          <p:cNvSpPr/>
          <p:nvPr/>
        </p:nvSpPr>
        <p:spPr>
          <a:xfrm>
            <a:off x="3059280" y="3141720"/>
            <a:ext cx="403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00"/>
                </a:solidFill>
                <a:uFillTx/>
                <a:latin typeface="Tahoma"/>
              </a:rPr>
              <a:t>КОНЕЦ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6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9900"/>
                </a:solidFill>
                <a:uFillTx/>
                <a:latin typeface="Tahoma"/>
              </a:rPr>
              <a:t>Устройства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1" action="ppaction://hlinksldjump"/>
              </a:rPr>
              <a:t>графический процесс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2" action="ppaction://hlinksldjump"/>
              </a:rPr>
              <a:t>видеоконтроллер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3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4" action="ppaction://hlinksldjump"/>
              </a:rPr>
              <a:t>видеопамять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5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6" action="ppaction://hlinksldjump"/>
              </a:rPr>
              <a:t>цифро-аналоговый преобразователь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7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8" action="ppaction://hlinksldjump"/>
              </a:rPr>
              <a:t>видео-ПЗУ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9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10" action="ppaction://hlinksldjump"/>
              </a:rPr>
              <a:t>система охлаждения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11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24" descr="Leaves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8088480" y="5877000"/>
            <a:ext cx="75240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ccff"/>
                                      </p:to>
                                    </p:animClr>
                                    <p:animClr clrSpc="rgb">
                                      <p:cBhvr>
                                        <p:cTn id="1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ff"/>
                                      </p:to>
                                    </p:animClr>
                                    <p:set>
                                      <p:cBhvr>
                                        <p:cTn id="1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1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13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66"/>
                                      </p:to>
                                    </p:animClr>
                                    <p:animClr clrSpc="rgb">
                                      <p:cBhvr>
                                        <p:cTn id="14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66"/>
                                      </p:to>
                                    </p:animClr>
                                    <p:set>
                                      <p:cBhvr>
                                        <p:cTn id="14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99"/>
                                      </p:to>
                                    </p:animClr>
                                    <p:animClr clrSpc="rgb">
                                      <p:cBhvr>
                                        <p:cTn id="1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99"/>
                                      </p:to>
                                    </p:animClr>
                                    <p:set>
                                      <p:cBhvr>
                                        <p:cTn id="1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animClr clrSpc="rgb">
                                      <p:cBhvr>
                                        <p:cTn id="17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7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графический процессор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занимается расчётами выводимого изображения, освобождая от этой обязанности 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центральный процессор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, производит расчёты для обработки команд трёхмерной графики. Является основой графической платы, именно от него зависят быстродействие и возможности всего устройств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Energy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44000" y="5950080"/>
            <a:ext cx="738000" cy="75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видеоконтроллер</a:t>
            </a:r>
            <a:r>
              <a:rPr b="1" lang="ru-RU" sz="4400" spc="-1" strike="noStrike" u="sng">
                <a:solidFill>
                  <a:srgbClr val="ff3300"/>
                </a:solidFill>
                <a:uFillTx/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отвечает за формирование изображения в видеопамяти, даёт команды RAMDAC на формирование сигналов развёртки для монитора и осуществляет обработку запросов центрального процессор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Fading Fields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47240" y="5950080"/>
            <a:ext cx="734760" cy="75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видеопамять</a:t>
            </a:r>
            <a:r>
              <a:rPr b="1" lang="ru-RU" sz="4400" spc="-1" strike="noStrike" u="sng">
                <a:solidFill>
                  <a:srgbClr val="ff3300"/>
                </a:solidFill>
                <a:uFillTx/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ыполняет роль кадрового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буфера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, в котором хранится изображение, генерируемое и постоянно изменяемое графическим процессором и выводимое на экран монитора (или нескольких мониторов). В видеопамяти хранятся также промежуточные невидимые на экране элементы изображения и другие данны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5" descr="Silver Crystal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6080" y="5950080"/>
            <a:ext cx="71748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цифро-аналоговый преобразователь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лужит для преобразования изображения, формируемого видеоконтроллером, в уровни интенсивности цвета, подаваемые на аналоговый монитор. Возможный диапазон цветности изображения определяется только параметрами RAMDA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4" descr="Energ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5870520"/>
            <a:ext cx="8096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видео-ПЗУ 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стоянное запоминающее устройство, в которое записаны видео-BIOS, экранные шрифты, служебные таблицы и т. п. ПЗУ не используется видеоконтроллером напрямую — к нему обращается только центральный процессор. Хранящийся в ПЗУ видео-BIOS обеспечивает инициализацию и работу видеокарты до загрузки основной операционной системы, а также содержит системные данные, которые могут читаться и интерпретироваться видеодрайвером в процессе работ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6" descr="Light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44000" y="5950080"/>
            <a:ext cx="78084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14:41:29Z</dcterms:created>
  <dc:creator>user</dc:creator>
  <dc:description/>
  <dc:language>en-US</dc:language>
  <cp:lastModifiedBy>Коля</cp:lastModifiedBy>
  <dcterms:modified xsi:type="dcterms:W3CDTF">2013-07-16T13:56:17Z</dcterms:modified>
  <cp:revision>8</cp:revision>
  <dc:subject/>
  <dc:title>Видеокарты</dc:title>
</cp:coreProperties>
</file>