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7B6A-29C5-4803-B934-59BADFF50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FA14-009F-49D5-AD1F-B97CFD410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2A72-90C9-4BCE-9717-251552C88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741A-D455-4E6A-B85F-A0A864166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DC3B-1683-4CCF-954C-6A897498A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BAED-C78F-4213-B49B-31F5A1CFD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2CE1-111E-49D7-8752-DFC80AD8D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B186-819A-457F-B3FE-DA5AD22A8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5CDE-A888-4F0D-B737-F8158B1B6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9FDC-8C7A-44B0-94A1-5137402B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57EC-1279-4431-B639-0D23A377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4A64-B86D-4849-A93A-7A0789F4A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6C83E-2443-4DF4-90D1-E7E3381DAE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c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Тема урока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00000" y="2637000"/>
            <a:ext cx="7345440" cy="1441440"/>
          </a:xfrm>
          <a:prstGeom prst="rect">
            <a:avLst/>
          </a:prstGeom>
          <a:solidFill>
            <a:srgbClr val="ebecb2"/>
          </a:solidFill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Реки  в  прир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и на географических   карта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0" y="2379600"/>
            <a:ext cx="4572000" cy="16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"/>
          <p:cNvSpPr/>
          <p:nvPr/>
        </p:nvSpPr>
        <p:spPr>
          <a:xfrm>
            <a:off x="4572000" y="5659920"/>
            <a:ext cx="442764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alibri"/>
                <a:ea typeface="Times New Roman"/>
              </a:rPr>
              <a:t>Автор: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Иванова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Calibri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Л.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Calibri"/>
              </a:rPr>
              <a:t> И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.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Calibri"/>
              </a:rPr>
              <a:t>, учитель географии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Calibri"/>
              </a:rPr>
              <a:t>МБОУ СОШ № 16  г. Владими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c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solidFill>
            <a:srgbClr val="ebecb2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Речная долина</a:t>
            </a: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   узкое, вытянутое  в длину, извилистое углубление, образованное работой стекающей по руслу в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26920" y="1484280"/>
            <a:ext cx="4538880" cy="1079640"/>
          </a:xfrm>
          <a:prstGeom prst="rightArrow">
            <a:avLst>
              <a:gd name="adj1" fmla="val 50000"/>
              <a:gd name="adj2" fmla="val 105102"/>
            </a:avLst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42920" y="115920"/>
            <a:ext cx="503280" cy="3510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50920" y="260280"/>
            <a:ext cx="8642160" cy="6191280"/>
          </a:xfrm>
          <a:prstGeom prst="rect">
            <a:avLst/>
          </a:prstGeom>
          <a:solidFill>
            <a:srgbClr val="ebecb2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3392640"/>
            <a:ext cx="1512720" cy="252360"/>
          </a:xfrm>
          <a:custGeom>
            <a:avLst/>
            <a:gdLst/>
            <a:ahLst/>
            <a:rect l="l" t="t" r="r" b="b"/>
            <a:pathLst>
              <a:path w="953" h="159">
                <a:moveTo>
                  <a:pt x="0" y="23"/>
                </a:moveTo>
                <a:cubicBezTo>
                  <a:pt x="283" y="11"/>
                  <a:pt x="567" y="0"/>
                  <a:pt x="726" y="23"/>
                </a:cubicBezTo>
                <a:cubicBezTo>
                  <a:pt x="885" y="46"/>
                  <a:pt x="919" y="102"/>
                  <a:pt x="953" y="1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3640" y="3645000"/>
            <a:ext cx="287280" cy="504720"/>
          </a:xfrm>
          <a:custGeom>
            <a:avLst/>
            <a:gdLst/>
            <a:ahLst/>
            <a:rect l="l" t="t" r="r" b="b"/>
            <a:pathLst>
              <a:path w="211" h="408">
                <a:moveTo>
                  <a:pt x="0" y="0"/>
                </a:moveTo>
                <a:cubicBezTo>
                  <a:pt x="75" y="102"/>
                  <a:pt x="151" y="204"/>
                  <a:pt x="181" y="272"/>
                </a:cubicBezTo>
                <a:cubicBezTo>
                  <a:pt x="211" y="340"/>
                  <a:pt x="196" y="374"/>
                  <a:pt x="181" y="4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79640" y="4149720"/>
            <a:ext cx="684360" cy="682560"/>
          </a:xfrm>
          <a:custGeom>
            <a:avLst/>
            <a:gdLst/>
            <a:ahLst/>
            <a:rect l="l" t="t" r="r" b="b"/>
            <a:pathLst>
              <a:path w="431" h="430">
                <a:moveTo>
                  <a:pt x="22" y="0"/>
                </a:moveTo>
                <a:cubicBezTo>
                  <a:pt x="11" y="147"/>
                  <a:pt x="0" y="294"/>
                  <a:pt x="68" y="362"/>
                </a:cubicBezTo>
                <a:cubicBezTo>
                  <a:pt x="136" y="430"/>
                  <a:pt x="283" y="419"/>
                  <a:pt x="431" y="4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627280" y="4772160"/>
            <a:ext cx="2592360" cy="685800"/>
          </a:xfrm>
          <a:custGeom>
            <a:avLst/>
            <a:gdLst/>
            <a:ahLst/>
            <a:rect l="l" t="t" r="r" b="b"/>
            <a:pathLst>
              <a:path w="1633" h="432">
                <a:moveTo>
                  <a:pt x="0" y="16"/>
                </a:moveTo>
                <a:cubicBezTo>
                  <a:pt x="499" y="8"/>
                  <a:pt x="998" y="0"/>
                  <a:pt x="1225" y="61"/>
                </a:cubicBezTo>
                <a:cubicBezTo>
                  <a:pt x="1452" y="122"/>
                  <a:pt x="1293" y="326"/>
                  <a:pt x="1361" y="379"/>
                </a:cubicBezTo>
                <a:cubicBezTo>
                  <a:pt x="1429" y="432"/>
                  <a:pt x="1531" y="405"/>
                  <a:pt x="1633" y="37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172120" y="4784760"/>
            <a:ext cx="1200240" cy="588960"/>
          </a:xfrm>
          <a:custGeom>
            <a:avLst/>
            <a:gdLst/>
            <a:ahLst/>
            <a:rect l="l" t="t" r="r" b="b"/>
            <a:pathLst>
              <a:path w="756" h="371">
                <a:moveTo>
                  <a:pt x="30" y="371"/>
                </a:moveTo>
                <a:cubicBezTo>
                  <a:pt x="15" y="238"/>
                  <a:pt x="0" y="106"/>
                  <a:pt x="121" y="53"/>
                </a:cubicBezTo>
                <a:cubicBezTo>
                  <a:pt x="242" y="0"/>
                  <a:pt x="499" y="26"/>
                  <a:pt x="756" y="5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45080" y="5516640"/>
            <a:ext cx="79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рус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6520" y="494172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пой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518520" y="494172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пой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670520" y="494172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ерра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8027640" y="3789000"/>
            <a:ext cx="360360" cy="1222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7740360" y="4508640"/>
            <a:ext cx="647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476360" y="234936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300720" y="3284640"/>
            <a:ext cx="2592360" cy="1584360"/>
          </a:xfrm>
          <a:custGeom>
            <a:avLst/>
            <a:gdLst/>
            <a:ahLst/>
            <a:rect l="l" t="t" r="r" b="b"/>
            <a:pathLst>
              <a:path w="1633" h="998">
                <a:moveTo>
                  <a:pt x="0" y="998"/>
                </a:moveTo>
                <a:cubicBezTo>
                  <a:pt x="287" y="979"/>
                  <a:pt x="574" y="960"/>
                  <a:pt x="725" y="907"/>
                </a:cubicBezTo>
                <a:cubicBezTo>
                  <a:pt x="876" y="854"/>
                  <a:pt x="847" y="726"/>
                  <a:pt x="907" y="681"/>
                </a:cubicBezTo>
                <a:cubicBezTo>
                  <a:pt x="967" y="636"/>
                  <a:pt x="1058" y="726"/>
                  <a:pt x="1088" y="635"/>
                </a:cubicBezTo>
                <a:cubicBezTo>
                  <a:pt x="1118" y="544"/>
                  <a:pt x="997" y="242"/>
                  <a:pt x="1088" y="136"/>
                </a:cubicBezTo>
                <a:cubicBezTo>
                  <a:pt x="1179" y="30"/>
                  <a:pt x="1542" y="30"/>
                  <a:pt x="1633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172360" y="234936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76360" y="2492280"/>
            <a:ext cx="669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97800" y="2060640"/>
            <a:ext cx="176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чная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2920" y="115920"/>
            <a:ext cx="503280" cy="3510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c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1915920"/>
            <a:ext cx="8229600" cy="11430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Речной бассейн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это участок земной поверхности, с которого вся вода стекает в реку </a:t>
            </a: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Водораздел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9640" y="4508640"/>
            <a:ext cx="8207640" cy="1150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это граница, разделяющая сосед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речные бассей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115920"/>
            <a:ext cx="503280" cy="3510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3374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42920" y="115920"/>
            <a:ext cx="503280" cy="3510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c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becb2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Речная система</a:t>
            </a:r>
            <a:r>
              <a:rPr b="0" i="1" lang="en-US" sz="4400" spc="-1" strike="noStrike">
                <a:solidFill>
                  <a:srgbClr val="ffff99"/>
                </a:solidFill>
                <a:latin typeface="Arial"/>
              </a:rPr>
              <a:t>      </a:t>
            </a: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главна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река со всеми приток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276640"/>
            <a:ext cx="5398920" cy="1079280"/>
          </a:xfrm>
          <a:prstGeom prst="rightArrow">
            <a:avLst>
              <a:gd name="adj1" fmla="val 50000"/>
              <a:gd name="adj2" fmla="val 125058"/>
            </a:avLst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9280" y="115920"/>
            <a:ext cx="503280" cy="3510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c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Равнинная р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71640" y="1700280"/>
            <a:ext cx="7416720" cy="46083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53080" y="189000"/>
            <a:ext cx="4338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50920" y="189000"/>
            <a:ext cx="503280" cy="3510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c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Горная р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7777440" cy="51656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50920" y="189000"/>
            <a:ext cx="503280" cy="3510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c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5435640" y="549360"/>
            <a:ext cx="2087640" cy="431640"/>
          </a:xfrm>
          <a:prstGeom prst="rect">
            <a:avLst/>
          </a:prstGeom>
          <a:solidFill>
            <a:srgbClr val="ccffcc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Равнинная р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92360" y="549360"/>
            <a:ext cx="2087640" cy="431640"/>
          </a:xfrm>
          <a:prstGeom prst="rect">
            <a:avLst/>
          </a:prstGeom>
          <a:solidFill>
            <a:srgbClr val="33ccff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Горная р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258920" y="1916280"/>
            <a:ext cx="2952720" cy="863280"/>
          </a:xfrm>
          <a:prstGeom prst="rect">
            <a:avLst/>
          </a:prstGeom>
          <a:solidFill>
            <a:srgbClr val="33ccff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большая разница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высоте меж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истоком и усть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003640" y="1916280"/>
            <a:ext cx="2953080" cy="8632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небольшая разница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высоте меж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истоком и усть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56000" y="3429000"/>
            <a:ext cx="2447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332000" y="3284640"/>
            <a:ext cx="2809800" cy="649080"/>
          </a:xfrm>
          <a:prstGeom prst="rect">
            <a:avLst/>
          </a:prstGeom>
          <a:solidFill>
            <a:srgbClr val="33ccff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большая скор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те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076720" y="3284640"/>
            <a:ext cx="2810160" cy="6490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небольшая скор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те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692360" y="4437000"/>
            <a:ext cx="2087640" cy="432000"/>
          </a:xfrm>
          <a:prstGeom prst="rect">
            <a:avLst/>
          </a:prstGeom>
          <a:solidFill>
            <a:srgbClr val="33ccff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река разруш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4437000"/>
            <a:ext cx="2087640" cy="432000"/>
          </a:xfrm>
          <a:prstGeom prst="rect">
            <a:avLst/>
          </a:prstGeom>
          <a:solidFill>
            <a:srgbClr val="ccffcc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река нанос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58920" y="5445000"/>
            <a:ext cx="2879640" cy="792360"/>
          </a:xfrm>
          <a:prstGeom prst="rect">
            <a:avLst/>
          </a:prstGeom>
          <a:solidFill>
            <a:srgbClr val="33ccff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узкая, глубок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речная дол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076720" y="5445000"/>
            <a:ext cx="2880000" cy="792360"/>
          </a:xfrm>
          <a:prstGeom prst="rect">
            <a:avLst/>
          </a:prstGeom>
          <a:solidFill>
            <a:srgbClr val="ccffcc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широкая, неглубок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речная дол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556000" y="1197000"/>
            <a:ext cx="358560" cy="431640"/>
          </a:xfrm>
          <a:prstGeom prst="downArrow">
            <a:avLst>
              <a:gd name="adj1" fmla="val 50000"/>
              <a:gd name="adj2" fmla="val 30095"/>
            </a:avLst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300720" y="1197000"/>
            <a:ext cx="358920" cy="431640"/>
          </a:xfrm>
          <a:prstGeom prst="downArrow">
            <a:avLst>
              <a:gd name="adj1" fmla="val 50000"/>
              <a:gd name="adj2" fmla="val 30065"/>
            </a:avLst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556000" y="2781360"/>
            <a:ext cx="358560" cy="431640"/>
          </a:xfrm>
          <a:prstGeom prst="downArrow">
            <a:avLst>
              <a:gd name="adj1" fmla="val 50000"/>
              <a:gd name="adj2" fmla="val 30095"/>
            </a:avLst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556000" y="3933720"/>
            <a:ext cx="358560" cy="432000"/>
          </a:xfrm>
          <a:prstGeom prst="downArrow">
            <a:avLst>
              <a:gd name="adj1" fmla="val 50000"/>
              <a:gd name="adj2" fmla="val 30120"/>
            </a:avLst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56000" y="4941720"/>
            <a:ext cx="358560" cy="432000"/>
          </a:xfrm>
          <a:prstGeom prst="downArrow">
            <a:avLst>
              <a:gd name="adj1" fmla="val 50000"/>
              <a:gd name="adj2" fmla="val 30120"/>
            </a:avLst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00720" y="2781360"/>
            <a:ext cx="358920" cy="431640"/>
          </a:xfrm>
          <a:prstGeom prst="downArrow">
            <a:avLst>
              <a:gd name="adj1" fmla="val 50000"/>
              <a:gd name="adj2" fmla="val 30065"/>
            </a:avLst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300720" y="3933720"/>
            <a:ext cx="358920" cy="432000"/>
          </a:xfrm>
          <a:prstGeom prst="downArrow">
            <a:avLst>
              <a:gd name="adj1" fmla="val 50000"/>
              <a:gd name="adj2" fmla="val 30090"/>
            </a:avLst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00720" y="4941720"/>
            <a:ext cx="358920" cy="432000"/>
          </a:xfrm>
          <a:prstGeom prst="downArrow">
            <a:avLst>
              <a:gd name="adj1" fmla="val 50000"/>
              <a:gd name="adj2" fmla="val 30090"/>
            </a:avLst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42920" y="115920"/>
            <a:ext cx="503280" cy="3510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c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Задание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на проверку зн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becb2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такое исток, устье, приток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такое речная система? Из каких частей она состои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айте определение термина « Речная система», перечислите ее составные ч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42920" y="115920"/>
            <a:ext cx="503280" cy="3510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wheel spokes="8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c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Задания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на  проверку ум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solidFill>
            <a:srgbClr val="ebecb2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ведите примеры левых и правых притоков Волги, Оби, Енисея, Ле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Задание на знание номенклатуры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кажите на карте( от истока до устья) следующие реки: Волга, Енисей, Амазонка, Нил, Хуанхэ, Обь, Лена, Миссисипи, Дон, Днеп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42920" y="115920"/>
            <a:ext cx="503280" cy="3510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1194480"/>
            <a:ext cx="8569080" cy="5580360"/>
          </a:xfrm>
          <a:prstGeom prst="rect">
            <a:avLst/>
          </a:prstGeom>
          <a:solidFill>
            <a:srgbClr val="ebe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Сформировать </a:t>
            </a:r>
            <a:r>
              <a:rPr b="0" i="1" lang="ru-RU" sz="3600" spc="-1" strike="noStrike">
                <a:solidFill>
                  <a:srgbClr val="333399"/>
                </a:solidFill>
                <a:latin typeface="Arial"/>
              </a:rPr>
              <a:t>представление о реке,  ее   частях, частях речной системы и долины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научиться определять</a:t>
            </a:r>
            <a:r>
              <a:rPr b="0" i="1" lang="ru-RU" sz="3600" spc="-1" strike="noStrike">
                <a:solidFill>
                  <a:srgbClr val="333399"/>
                </a:solidFill>
                <a:latin typeface="Arial"/>
              </a:rPr>
              <a:t> левые и правые притоки, притоки  </a:t>
            </a:r>
            <a:r>
              <a:rPr b="0" i="1" lang="en-US" sz="3600" spc="-1" strike="noStrike">
                <a:solidFill>
                  <a:srgbClr val="333399"/>
                </a:solidFill>
                <a:latin typeface="Arial"/>
              </a:rPr>
              <a:t>I</a:t>
            </a:r>
            <a:r>
              <a:rPr b="0" i="1" lang="ru-RU" sz="3600" spc="-1" strike="noStrike">
                <a:solidFill>
                  <a:srgbClr val="333399"/>
                </a:solidFill>
                <a:latin typeface="Arial"/>
              </a:rPr>
              <a:t> ,  </a:t>
            </a:r>
            <a:r>
              <a:rPr b="0" i="1" lang="en-US" sz="3600" spc="-1" strike="noStrike">
                <a:solidFill>
                  <a:srgbClr val="333399"/>
                </a:solidFill>
                <a:latin typeface="Arial"/>
              </a:rPr>
              <a:t>II </a:t>
            </a:r>
            <a:r>
              <a:rPr b="0" i="1" lang="ru-RU" sz="3600" spc="-1" strike="noStrike">
                <a:solidFill>
                  <a:srgbClr val="333399"/>
                </a:solidFill>
                <a:latin typeface="Arial"/>
              </a:rPr>
              <a:t> и т. д. порядка; географическое положение реки; к бассейнам каких океанов относится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воспитывать</a:t>
            </a:r>
            <a:r>
              <a:rPr b="0" i="1" lang="ru-RU" sz="3600" spc="-1" strike="noStrike">
                <a:solidFill>
                  <a:srgbClr val="333399"/>
                </a:solidFill>
                <a:latin typeface="Arial"/>
              </a:rPr>
              <a:t> любовь к рекам, видеть их красот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260280"/>
            <a:ext cx="8713800" cy="1224000"/>
          </a:xfrm>
          <a:prstGeom prst="downArrowCallout">
            <a:avLst>
              <a:gd name="adj1" fmla="val -138862"/>
              <a:gd name="adj2" fmla="val 177978"/>
              <a:gd name="adj3" fmla="val 21764"/>
              <a:gd name="adj4" fmla="val 6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42920" y="115920"/>
            <a:ext cx="503280" cy="3510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wheel spokes="8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c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becb2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араграф №41;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просы, художественные высказывания о ре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нец у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9280" y="260280"/>
            <a:ext cx="503280" cy="3510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17080" cy="69134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95280" y="275760"/>
            <a:ext cx="367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РЕКА ВОРСКЛА – ПРИТОК ДНЕП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2920" y="115920"/>
            <a:ext cx="503280" cy="3510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c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0" y="602136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9280" y="404640"/>
            <a:ext cx="8713800" cy="1224000"/>
          </a:xfrm>
          <a:prstGeom prst="downArrowCallout">
            <a:avLst>
              <a:gd name="adj1" fmla="val -138862"/>
              <a:gd name="adj2" fmla="val 177978"/>
              <a:gd name="adj3" fmla="val 21764"/>
              <a:gd name="adj4" fmla="val 6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Р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71640" y="2060640"/>
            <a:ext cx="7129440" cy="4032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835280" y="2708280"/>
            <a:ext cx="5616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ff"/>
                </a:solidFill>
                <a:latin typeface="Arial"/>
              </a:rPr>
              <a:t>Поток воды, текущий в выработанном им углублении.  Это углубление называется руслом ре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2920" y="115920"/>
            <a:ext cx="503280" cy="3510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c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Река состоит из истока, русла, усть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2920" y="115920"/>
            <a:ext cx="503280" cy="3510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447040" cy="6408720"/>
          </a:xfrm>
          <a:prstGeom prst="rect">
            <a:avLst/>
          </a:prstGeom>
          <a:solidFill>
            <a:srgbClr val="ebecb2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Исток</a:t>
            </a:r>
            <a:r>
              <a:rPr b="0" i="1" lang="en-US" sz="4000" spc="-1" strike="noStrike">
                <a:solidFill>
                  <a:srgbClr val="333399"/>
                </a:solidFill>
                <a:latin typeface="Arial"/>
              </a:rPr>
              <a:t>     начало ре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Русло</a:t>
            </a:r>
            <a:r>
              <a:rPr b="0" i="1" lang="en-US" sz="4000" spc="-1" strike="noStrike">
                <a:solidFill>
                  <a:srgbClr val="333399"/>
                </a:solidFill>
                <a:latin typeface="Arial"/>
              </a:rPr>
              <a:t>     самая низкая ча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333399"/>
                </a:solidFill>
                <a:latin typeface="Arial"/>
              </a:rPr>
              <a:t>речной  долины, по которо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3399"/>
                </a:solidFill>
                <a:latin typeface="Arial"/>
              </a:rPr>
              <a:t>происходит сток в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Устье</a:t>
            </a:r>
            <a:r>
              <a:rPr b="0" i="1" lang="en-US" sz="4000" spc="-1" strike="noStrike">
                <a:solidFill>
                  <a:srgbClr val="333399"/>
                </a:solidFill>
                <a:latin typeface="Arial"/>
              </a:rPr>
              <a:t>     место впадения          потока (реки, ручья) в другую реку, море, озеро, океа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76720" y="119700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4360" y="765000"/>
            <a:ext cx="2303280" cy="792360"/>
          </a:xfrm>
          <a:prstGeom prst="rightArrow">
            <a:avLst>
              <a:gd name="adj1" fmla="val 50000"/>
              <a:gd name="adj2" fmla="val 7267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692280"/>
            <a:ext cx="2232000" cy="865080"/>
          </a:xfrm>
          <a:prstGeom prst="rightArrow">
            <a:avLst>
              <a:gd name="adj1" fmla="val 50000"/>
              <a:gd name="adj2" fmla="val 6450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4360" y="692280"/>
            <a:ext cx="2232000" cy="1079280"/>
          </a:xfrm>
          <a:prstGeom prst="rightArrow">
            <a:avLst>
              <a:gd name="adj1" fmla="val 50000"/>
              <a:gd name="adj2" fmla="val 51701"/>
            </a:avLst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2205000"/>
            <a:ext cx="2232000" cy="1079640"/>
          </a:xfrm>
          <a:prstGeom prst="rightArrow">
            <a:avLst>
              <a:gd name="adj1" fmla="val 50000"/>
              <a:gd name="adj2" fmla="val 51684"/>
            </a:avLst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11280" y="4365720"/>
            <a:ext cx="2232000" cy="1079280"/>
          </a:xfrm>
          <a:prstGeom prst="rightArrow">
            <a:avLst>
              <a:gd name="adj1" fmla="val 50000"/>
              <a:gd name="adj2" fmla="val 51701"/>
            </a:avLst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8000" y="115920"/>
            <a:ext cx="503280" cy="3510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10"/>
          <p:cNvSpPr/>
          <p:nvPr/>
        </p:nvSpPr>
        <p:spPr>
          <a:xfrm>
            <a:off x="3419640" y="191628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Озе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1"/>
          <p:cNvSpPr/>
          <p:nvPr/>
        </p:nvSpPr>
        <p:spPr>
          <a:xfrm>
            <a:off x="4356000" y="2852640"/>
            <a:ext cx="144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Боло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2"/>
          <p:cNvSpPr/>
          <p:nvPr/>
        </p:nvSpPr>
        <p:spPr>
          <a:xfrm>
            <a:off x="3348000" y="4292640"/>
            <a:ext cx="158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Лед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3059280" y="5516640"/>
            <a:ext cx="273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Родни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источ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17"/>
          <p:cNvSpPr txBox="1"/>
          <p:nvPr/>
        </p:nvSpPr>
        <p:spPr>
          <a:xfrm>
            <a:off x="1908000" y="260280"/>
            <a:ext cx="489744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стоки реки</a:t>
            </a:r>
            <a:endParaRPr b="0" lang="en-US" sz="18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2" name="Picture 18" descr="28"/>
          <p:cNvPicPr/>
          <p:nvPr/>
        </p:nvPicPr>
        <p:blipFill>
          <a:blip r:embed="rId1"/>
          <a:srcRect l="0" t="3450" r="0" b="0"/>
          <a:stretch/>
        </p:blipFill>
        <p:spPr>
          <a:xfrm>
            <a:off x="179280" y="1413000"/>
            <a:ext cx="3168720" cy="256212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  <p:pic>
        <p:nvPicPr>
          <p:cNvPr id="73" name="Picture 19" descr="boloto"/>
          <p:cNvPicPr/>
          <p:nvPr/>
        </p:nvPicPr>
        <p:blipFill>
          <a:blip r:embed="rId2"/>
          <a:stretch/>
        </p:blipFill>
        <p:spPr>
          <a:xfrm>
            <a:off x="5796000" y="1413000"/>
            <a:ext cx="3168720" cy="253656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  <p:pic>
        <p:nvPicPr>
          <p:cNvPr id="74" name="Picture 20" descr="родник"/>
          <p:cNvPicPr/>
          <p:nvPr/>
        </p:nvPicPr>
        <p:blipFill>
          <a:blip r:embed="rId3"/>
          <a:srcRect l="29588" t="28876" r="31356" b="22969"/>
          <a:stretch/>
        </p:blipFill>
        <p:spPr>
          <a:xfrm>
            <a:off x="5796000" y="4149720"/>
            <a:ext cx="3168720" cy="252108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  <p:pic>
        <p:nvPicPr>
          <p:cNvPr id="75" name="Picture 21" descr="f4afbb310ae0914541ab146c19e17dce_big"/>
          <p:cNvPicPr/>
          <p:nvPr/>
        </p:nvPicPr>
        <p:blipFill>
          <a:blip r:embed="rId4"/>
          <a:srcRect l="13787" t="8010" r="0" b="0"/>
          <a:stretch/>
        </p:blipFill>
        <p:spPr>
          <a:xfrm>
            <a:off x="179280" y="4149720"/>
            <a:ext cx="3168720" cy="253692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  <p:sp>
        <p:nvSpPr>
          <p:cNvPr id="76" name=""/>
          <p:cNvSpPr/>
          <p:nvPr/>
        </p:nvSpPr>
        <p:spPr>
          <a:xfrm>
            <a:off x="250920" y="260280"/>
            <a:ext cx="503280" cy="3510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wheel spokes="8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0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0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6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80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c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9280" y="404640"/>
            <a:ext cx="8713800" cy="1224000"/>
          </a:xfrm>
          <a:prstGeom prst="downArrowCallout">
            <a:avLst>
              <a:gd name="adj1" fmla="val -138862"/>
              <a:gd name="adj2" fmla="val 177978"/>
              <a:gd name="adj3" fmla="val 21764"/>
              <a:gd name="adj4" fmla="val 6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Пой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71640" y="2060640"/>
            <a:ext cx="7129440" cy="4032360"/>
          </a:xfrm>
          <a:prstGeom prst="roundRect">
            <a:avLst>
              <a:gd name="adj" fmla="val 16667"/>
            </a:avLst>
          </a:prstGeom>
          <a:solidFill>
            <a:srgbClr val="ebec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403280" y="3068640"/>
            <a:ext cx="64087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ff"/>
                </a:solidFill>
                <a:latin typeface="Arial"/>
              </a:rPr>
              <a:t>Нижняя часть речной долины, регулярно заливаемая в половодь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8000" y="115920"/>
            <a:ext cx="503280" cy="3510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c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24000" y="836640"/>
            <a:ext cx="1441440" cy="431640"/>
          </a:xfrm>
          <a:prstGeom prst="rect">
            <a:avLst/>
          </a:prstGeom>
          <a:solidFill>
            <a:srgbClr val="33ccff"/>
          </a:solidFill>
          <a:ln w="158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ОЗЕ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189000"/>
            <a:ext cx="1441440" cy="431640"/>
          </a:xfrm>
          <a:prstGeom prst="rect">
            <a:avLst/>
          </a:prstGeom>
          <a:solidFill>
            <a:srgbClr val="99cc00"/>
          </a:solidFill>
          <a:ln w="158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БОЛ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89000"/>
            <a:ext cx="1441440" cy="431640"/>
          </a:xfrm>
          <a:prstGeom prst="rect">
            <a:avLst/>
          </a:prstGeom>
          <a:solidFill>
            <a:srgbClr val="ccffcc"/>
          </a:solidFill>
          <a:ln w="158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РОД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451640" y="189000"/>
            <a:ext cx="1441440" cy="431640"/>
          </a:xfrm>
          <a:prstGeom prst="rect">
            <a:avLst/>
          </a:prstGeom>
          <a:solidFill>
            <a:srgbClr val="ccffff"/>
          </a:solidFill>
          <a:ln w="158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ЛЕД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48360" y="1197000"/>
            <a:ext cx="1441440" cy="431640"/>
          </a:xfrm>
          <a:prstGeom prst="rect">
            <a:avLst/>
          </a:prstGeom>
          <a:solidFill>
            <a:srgbClr val="00ffff"/>
          </a:solidFill>
          <a:ln w="158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ИС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12000" y="62064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659640" y="620640"/>
            <a:ext cx="151272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59280" y="620640"/>
            <a:ext cx="2017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35280" y="1052640"/>
            <a:ext cx="32414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859280" y="1700280"/>
            <a:ext cx="865080" cy="865080"/>
          </a:xfrm>
          <a:custGeom>
            <a:avLst/>
            <a:gdLst/>
            <a:ahLst/>
            <a:rect l="l" t="t" r="r" b="b"/>
            <a:pathLst>
              <a:path w="545" h="545">
                <a:moveTo>
                  <a:pt x="545" y="0"/>
                </a:moveTo>
                <a:cubicBezTo>
                  <a:pt x="545" y="91"/>
                  <a:pt x="545" y="182"/>
                  <a:pt x="454" y="273"/>
                </a:cubicBezTo>
                <a:cubicBezTo>
                  <a:pt x="363" y="364"/>
                  <a:pt x="68" y="500"/>
                  <a:pt x="0" y="5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627280" y="1268280"/>
            <a:ext cx="2232000" cy="1297080"/>
          </a:xfrm>
          <a:custGeom>
            <a:avLst/>
            <a:gdLst/>
            <a:ahLst/>
            <a:rect l="l" t="t" r="r" b="b"/>
            <a:pathLst>
              <a:path w="1406" h="817">
                <a:moveTo>
                  <a:pt x="0" y="0"/>
                </a:moveTo>
                <a:cubicBezTo>
                  <a:pt x="75" y="0"/>
                  <a:pt x="151" y="0"/>
                  <a:pt x="227" y="91"/>
                </a:cubicBezTo>
                <a:cubicBezTo>
                  <a:pt x="303" y="182"/>
                  <a:pt x="258" y="424"/>
                  <a:pt x="454" y="545"/>
                </a:cubicBezTo>
                <a:cubicBezTo>
                  <a:pt x="650" y="666"/>
                  <a:pt x="1028" y="741"/>
                  <a:pt x="1406" y="81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11280" y="1484280"/>
            <a:ext cx="2232000" cy="1297080"/>
          </a:xfrm>
          <a:custGeom>
            <a:avLst/>
            <a:gdLst/>
            <a:ahLst/>
            <a:rect l="l" t="t" r="r" b="b"/>
            <a:pathLst>
              <a:path w="1406" h="817">
                <a:moveTo>
                  <a:pt x="0" y="0"/>
                </a:moveTo>
                <a:cubicBezTo>
                  <a:pt x="75" y="0"/>
                  <a:pt x="151" y="0"/>
                  <a:pt x="227" y="91"/>
                </a:cubicBezTo>
                <a:cubicBezTo>
                  <a:pt x="303" y="182"/>
                  <a:pt x="258" y="424"/>
                  <a:pt x="454" y="545"/>
                </a:cubicBezTo>
                <a:cubicBezTo>
                  <a:pt x="650" y="666"/>
                  <a:pt x="1028" y="741"/>
                  <a:pt x="1406" y="81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16360" y="1700280"/>
            <a:ext cx="1524240" cy="1512720"/>
          </a:xfrm>
          <a:custGeom>
            <a:avLst/>
            <a:gdLst/>
            <a:ahLst/>
            <a:rect l="l" t="t" r="r" b="b"/>
            <a:pathLst>
              <a:path w="960" h="953">
                <a:moveTo>
                  <a:pt x="862" y="0"/>
                </a:moveTo>
                <a:cubicBezTo>
                  <a:pt x="911" y="79"/>
                  <a:pt x="960" y="159"/>
                  <a:pt x="816" y="318"/>
                </a:cubicBezTo>
                <a:cubicBezTo>
                  <a:pt x="672" y="477"/>
                  <a:pt x="136" y="847"/>
                  <a:pt x="0" y="95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59280" y="2781360"/>
            <a:ext cx="1584000" cy="360360"/>
          </a:xfrm>
          <a:custGeom>
            <a:avLst/>
            <a:gdLst/>
            <a:ahLst/>
            <a:rect l="l" t="t" r="r" b="b"/>
            <a:pathLst>
              <a:path w="998" h="227">
                <a:moveTo>
                  <a:pt x="998" y="0"/>
                </a:moveTo>
                <a:cubicBezTo>
                  <a:pt x="899" y="71"/>
                  <a:pt x="801" y="143"/>
                  <a:pt x="635" y="181"/>
                </a:cubicBezTo>
                <a:cubicBezTo>
                  <a:pt x="469" y="219"/>
                  <a:pt x="98" y="219"/>
                  <a:pt x="0" y="22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32000" y="3213000"/>
            <a:ext cx="1584360" cy="360360"/>
          </a:xfrm>
          <a:custGeom>
            <a:avLst/>
            <a:gdLst/>
            <a:ahLst/>
            <a:rect l="l" t="t" r="r" b="b"/>
            <a:pathLst>
              <a:path w="998" h="227">
                <a:moveTo>
                  <a:pt x="998" y="0"/>
                </a:moveTo>
                <a:cubicBezTo>
                  <a:pt x="899" y="71"/>
                  <a:pt x="801" y="143"/>
                  <a:pt x="635" y="181"/>
                </a:cubicBezTo>
                <a:cubicBezTo>
                  <a:pt x="469" y="219"/>
                  <a:pt x="98" y="219"/>
                  <a:pt x="0" y="22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71640" y="3573360"/>
            <a:ext cx="360360" cy="287280"/>
          </a:xfrm>
          <a:custGeom>
            <a:avLst/>
            <a:gdLst/>
            <a:ahLst/>
            <a:rect l="l" t="t" r="r" b="b"/>
            <a:pathLst>
              <a:path w="227" h="181">
                <a:moveTo>
                  <a:pt x="227" y="0"/>
                </a:moveTo>
                <a:cubicBezTo>
                  <a:pt x="178" y="7"/>
                  <a:pt x="129" y="15"/>
                  <a:pt x="91" y="45"/>
                </a:cubicBezTo>
                <a:cubicBezTo>
                  <a:pt x="53" y="75"/>
                  <a:pt x="15" y="158"/>
                  <a:pt x="0" y="1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3860640"/>
            <a:ext cx="142920" cy="505080"/>
          </a:xfrm>
          <a:custGeom>
            <a:avLst/>
            <a:gdLst/>
            <a:ahLst/>
            <a:rect l="l" t="t" r="r" b="b"/>
            <a:pathLst>
              <a:path w="90" h="318">
                <a:moveTo>
                  <a:pt x="45" y="0"/>
                </a:moveTo>
                <a:cubicBezTo>
                  <a:pt x="22" y="45"/>
                  <a:pt x="0" y="91"/>
                  <a:pt x="0" y="136"/>
                </a:cubicBezTo>
                <a:cubicBezTo>
                  <a:pt x="0" y="181"/>
                  <a:pt x="30" y="242"/>
                  <a:pt x="45" y="272"/>
                </a:cubicBezTo>
                <a:cubicBezTo>
                  <a:pt x="60" y="302"/>
                  <a:pt x="75" y="310"/>
                  <a:pt x="90" y="31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3141720"/>
            <a:ext cx="432000" cy="216000"/>
          </a:xfrm>
          <a:custGeom>
            <a:avLst/>
            <a:gdLst/>
            <a:ahLst/>
            <a:rect l="l" t="t" r="r" b="b"/>
            <a:pathLst>
              <a:path w="272" h="136">
                <a:moveTo>
                  <a:pt x="272" y="0"/>
                </a:moveTo>
                <a:cubicBezTo>
                  <a:pt x="204" y="11"/>
                  <a:pt x="136" y="22"/>
                  <a:pt x="91" y="45"/>
                </a:cubicBezTo>
                <a:cubicBezTo>
                  <a:pt x="46" y="68"/>
                  <a:pt x="15" y="113"/>
                  <a:pt x="0" y="1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80000" y="1773360"/>
            <a:ext cx="324000" cy="576000"/>
          </a:xfrm>
          <a:custGeom>
            <a:avLst/>
            <a:gdLst/>
            <a:ahLst/>
            <a:rect l="l" t="t" r="r" b="b"/>
            <a:pathLst>
              <a:path w="204" h="363">
                <a:moveTo>
                  <a:pt x="181" y="0"/>
                </a:moveTo>
                <a:cubicBezTo>
                  <a:pt x="192" y="64"/>
                  <a:pt x="204" y="128"/>
                  <a:pt x="181" y="181"/>
                </a:cubicBezTo>
                <a:cubicBezTo>
                  <a:pt x="158" y="234"/>
                  <a:pt x="75" y="287"/>
                  <a:pt x="45" y="317"/>
                </a:cubicBezTo>
                <a:cubicBezTo>
                  <a:pt x="15" y="347"/>
                  <a:pt x="7" y="355"/>
                  <a:pt x="0" y="36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508720" y="2349360"/>
            <a:ext cx="7128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987640" y="1916280"/>
            <a:ext cx="504720" cy="433080"/>
          </a:xfrm>
          <a:custGeom>
            <a:avLst/>
            <a:gdLst/>
            <a:ahLst/>
            <a:rect l="l" t="t" r="r" b="b"/>
            <a:pathLst>
              <a:path w="318" h="273">
                <a:moveTo>
                  <a:pt x="0" y="0"/>
                </a:moveTo>
                <a:cubicBezTo>
                  <a:pt x="19" y="46"/>
                  <a:pt x="38" y="92"/>
                  <a:pt x="91" y="137"/>
                </a:cubicBezTo>
                <a:cubicBezTo>
                  <a:pt x="144" y="182"/>
                  <a:pt x="231" y="227"/>
                  <a:pt x="318" y="2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92360" y="2349360"/>
            <a:ext cx="14472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56000" y="3357720"/>
            <a:ext cx="647640" cy="502920"/>
          </a:xfrm>
          <a:custGeom>
            <a:avLst/>
            <a:gdLst/>
            <a:ahLst/>
            <a:rect l="l" t="t" r="r" b="b"/>
            <a:pathLst>
              <a:path w="408" h="317">
                <a:moveTo>
                  <a:pt x="408" y="0"/>
                </a:moveTo>
                <a:cubicBezTo>
                  <a:pt x="306" y="18"/>
                  <a:pt x="204" y="37"/>
                  <a:pt x="136" y="90"/>
                </a:cubicBezTo>
                <a:cubicBezTo>
                  <a:pt x="68" y="143"/>
                  <a:pt x="23" y="279"/>
                  <a:pt x="0" y="31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484000" y="3860640"/>
            <a:ext cx="7164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79640" y="3357720"/>
            <a:ext cx="647640" cy="647640"/>
          </a:xfrm>
          <a:custGeom>
            <a:avLst/>
            <a:gdLst/>
            <a:ahLst/>
            <a:rect l="l" t="t" r="r" b="b"/>
            <a:pathLst>
              <a:path w="408" h="408">
                <a:moveTo>
                  <a:pt x="408" y="0"/>
                </a:moveTo>
                <a:cubicBezTo>
                  <a:pt x="329" y="124"/>
                  <a:pt x="250" y="249"/>
                  <a:pt x="182" y="317"/>
                </a:cubicBezTo>
                <a:cubicBezTo>
                  <a:pt x="114" y="385"/>
                  <a:pt x="30" y="393"/>
                  <a:pt x="0" y="4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4642920" y="2924280"/>
            <a:ext cx="792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64720" y="270756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усло реки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95640" y="19162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57080" y="1915560"/>
            <a:ext cx="204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ток 1 поряд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79640" y="2565360"/>
            <a:ext cx="1441440" cy="432000"/>
          </a:xfrm>
          <a:prstGeom prst="rect">
            <a:avLst/>
          </a:prstGeom>
          <a:solidFill>
            <a:srgbClr val="339966"/>
          </a:solidFill>
          <a:ln w="158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ДО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80000" y="3645000"/>
            <a:ext cx="1441440" cy="431640"/>
          </a:xfrm>
          <a:prstGeom prst="rect">
            <a:avLst/>
          </a:prstGeom>
          <a:solidFill>
            <a:srgbClr val="339966"/>
          </a:solidFill>
          <a:ln w="158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ПОЙ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03280" y="4581360"/>
            <a:ext cx="1441440" cy="432000"/>
          </a:xfrm>
          <a:prstGeom prst="rect">
            <a:avLst/>
          </a:prstGeom>
          <a:solidFill>
            <a:srgbClr val="00ffff"/>
          </a:solidFill>
          <a:ln w="158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УСТ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43280" y="4653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843280" y="494172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59280" y="4292640"/>
            <a:ext cx="1441440" cy="431640"/>
          </a:xfrm>
          <a:prstGeom prst="rect">
            <a:avLst/>
          </a:prstGeom>
          <a:solidFill>
            <a:srgbClr val="33ccff"/>
          </a:solidFill>
          <a:ln w="158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ДЕЛЬ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59280" y="4869000"/>
            <a:ext cx="1441440" cy="431640"/>
          </a:xfrm>
          <a:prstGeom prst="rect">
            <a:avLst/>
          </a:prstGeom>
          <a:solidFill>
            <a:srgbClr val="33ccff"/>
          </a:solidFill>
          <a:ln w="158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ЭСТУАР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19280" y="501336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971640" y="501336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35280" y="5013360"/>
            <a:ext cx="72072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050920" y="5013360"/>
            <a:ext cx="237672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87280" y="5950080"/>
            <a:ext cx="863640" cy="431640"/>
          </a:xfrm>
          <a:prstGeom prst="rect">
            <a:avLst/>
          </a:prstGeom>
          <a:solidFill>
            <a:srgbClr val="33ccff"/>
          </a:solidFill>
          <a:ln w="158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МО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5516640"/>
            <a:ext cx="863640" cy="431640"/>
          </a:xfrm>
          <a:prstGeom prst="rect">
            <a:avLst/>
          </a:prstGeom>
          <a:solidFill>
            <a:srgbClr val="33ccff"/>
          </a:solidFill>
          <a:ln w="158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ОЗЕ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195640" y="5950080"/>
            <a:ext cx="1728720" cy="431640"/>
          </a:xfrm>
          <a:prstGeom prst="rect">
            <a:avLst/>
          </a:prstGeom>
          <a:solidFill>
            <a:srgbClr val="33ccff"/>
          </a:solidFill>
          <a:ln w="158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ДРУГАЯ Р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40360" y="6093000"/>
            <a:ext cx="1008000" cy="431640"/>
          </a:xfrm>
          <a:prstGeom prst="rect">
            <a:avLst/>
          </a:prstGeom>
          <a:solidFill>
            <a:srgbClr val="33ccff"/>
          </a:solidFill>
          <a:ln w="158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ОКЕ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692360" y="4005360"/>
            <a:ext cx="287280" cy="71280"/>
          </a:xfrm>
          <a:custGeom>
            <a:avLst/>
            <a:gdLst/>
            <a:ahLst/>
            <a:rect l="l" t="t" r="r" b="b"/>
            <a:pathLst>
              <a:path w="181" h="45">
                <a:moveTo>
                  <a:pt x="181" y="0"/>
                </a:moveTo>
                <a:cubicBezTo>
                  <a:pt x="105" y="19"/>
                  <a:pt x="30" y="38"/>
                  <a:pt x="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2920" y="115920"/>
            <a:ext cx="503280" cy="3510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7T08:20:31Z</dcterms:created>
  <dc:creator>Lanser Client</dc:creator>
  <dc:description/>
  <dc:language>en-US</dc:language>
  <cp:lastModifiedBy>Владелец</cp:lastModifiedBy>
  <dcterms:modified xsi:type="dcterms:W3CDTF">2012-09-18T07:13:06Z</dcterms:modified>
  <cp:revision>48</cp:revision>
  <dc:subject/>
  <dc:title>Тема: Реки. Части реки. Речная система </dc:title>
</cp:coreProperties>
</file>