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671-717F-4A63-B6F6-285282A4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85D-DECE-46D6-903C-79ACE270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9F4-04B4-4903-882F-A8F43ABE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133-812A-4D04-8482-D29E79F4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8E6-9DF2-4362-A5D0-6F54BC62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124-8B54-4809-A039-F42E58FB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23A-6F98-4519-A29D-19BAA311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DF7-5F4B-4F35-B718-EB1217CD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714-612B-4F0C-9521-DA7ECEE7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98E-72CA-4B14-9E23-3808C79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4DF-1016-4B89-A3BE-BC1DD4E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62D-C568-4ABD-9AF1-6B8C3CE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C8F2-C9CF-48D4-84FC-4C42B359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Тема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2637000"/>
            <a:ext cx="7345440" cy="144144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ки  в 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 на географических   кар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379600"/>
            <a:ext cx="4572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4572000" y="5659920"/>
            <a:ext cx="4427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  <a:ea typeface="Times New Roman"/>
              </a:rPr>
              <a:t>Автор: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Иванов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Calibri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Calibri"/>
              </a:rPr>
              <a:t> И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Calibri"/>
              </a:rPr>
              <a:t>, учитель географ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Calibri"/>
              </a:rPr>
              <a:t>МБОУ СОШ № 16  г.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ечная долина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   узкое, вытянутое  в длину, извилистое углубление, образованное работой стекающей по руслу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484280"/>
            <a:ext cx="4538880" cy="1079640"/>
          </a:xfrm>
          <a:prstGeom prst="rightArrow">
            <a:avLst>
              <a:gd name="adj1" fmla="val 50000"/>
              <a:gd name="adj2" fmla="val 105102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260280"/>
            <a:ext cx="8642160" cy="6191280"/>
          </a:xfrm>
          <a:prstGeom prst="rect">
            <a:avLst/>
          </a:prstGeom>
          <a:solidFill>
            <a:srgbClr val="ebecb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392640"/>
            <a:ext cx="1512720" cy="252360"/>
          </a:xfrm>
          <a:custGeom>
            <a:avLst/>
            <a:gdLst/>
            <a:ahLst/>
            <a:rect l="l" t="t" r="r" b="b"/>
            <a:pathLst>
              <a:path w="953" h="159">
                <a:moveTo>
                  <a:pt x="0" y="23"/>
                </a:moveTo>
                <a:cubicBezTo>
                  <a:pt x="283" y="11"/>
                  <a:pt x="567" y="0"/>
                  <a:pt x="726" y="23"/>
                </a:cubicBezTo>
                <a:cubicBezTo>
                  <a:pt x="885" y="46"/>
                  <a:pt x="919" y="102"/>
                  <a:pt x="953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645000"/>
            <a:ext cx="287280" cy="504720"/>
          </a:xfrm>
          <a:custGeom>
            <a:avLst/>
            <a:gdLst/>
            <a:ahLst/>
            <a:rect l="l" t="t" r="r" b="b"/>
            <a:pathLst>
              <a:path w="211" h="408">
                <a:moveTo>
                  <a:pt x="0" y="0"/>
                </a:moveTo>
                <a:cubicBezTo>
                  <a:pt x="75" y="102"/>
                  <a:pt x="151" y="204"/>
                  <a:pt x="181" y="272"/>
                </a:cubicBezTo>
                <a:cubicBezTo>
                  <a:pt x="211" y="340"/>
                  <a:pt x="196" y="374"/>
                  <a:pt x="181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4149720"/>
            <a:ext cx="684360" cy="682560"/>
          </a:xfrm>
          <a:custGeom>
            <a:avLst/>
            <a:gdLst/>
            <a:ahLst/>
            <a:rect l="l" t="t" r="r" b="b"/>
            <a:pathLst>
              <a:path w="431" h="430">
                <a:moveTo>
                  <a:pt x="22" y="0"/>
                </a:moveTo>
                <a:cubicBezTo>
                  <a:pt x="11" y="147"/>
                  <a:pt x="0" y="294"/>
                  <a:pt x="68" y="362"/>
                </a:cubicBezTo>
                <a:cubicBezTo>
                  <a:pt x="136" y="430"/>
                  <a:pt x="283" y="419"/>
                  <a:pt x="431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772160"/>
            <a:ext cx="2592360" cy="685800"/>
          </a:xfrm>
          <a:custGeom>
            <a:avLst/>
            <a:gdLst/>
            <a:ahLst/>
            <a:rect l="l" t="t" r="r" b="b"/>
            <a:pathLst>
              <a:path w="1633" h="432">
                <a:moveTo>
                  <a:pt x="0" y="16"/>
                </a:moveTo>
                <a:cubicBezTo>
                  <a:pt x="499" y="8"/>
                  <a:pt x="998" y="0"/>
                  <a:pt x="1225" y="61"/>
                </a:cubicBezTo>
                <a:cubicBezTo>
                  <a:pt x="1452" y="122"/>
                  <a:pt x="1293" y="326"/>
                  <a:pt x="1361" y="379"/>
                </a:cubicBezTo>
                <a:cubicBezTo>
                  <a:pt x="1429" y="432"/>
                  <a:pt x="1531" y="405"/>
                  <a:pt x="1633" y="3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72120" y="4784760"/>
            <a:ext cx="1200240" cy="588960"/>
          </a:xfrm>
          <a:custGeom>
            <a:avLst/>
            <a:gdLst/>
            <a:ahLst/>
            <a:rect l="l" t="t" r="r" b="b"/>
            <a:pathLst>
              <a:path w="756" h="371">
                <a:moveTo>
                  <a:pt x="30" y="371"/>
                </a:moveTo>
                <a:cubicBezTo>
                  <a:pt x="15" y="238"/>
                  <a:pt x="0" y="106"/>
                  <a:pt x="121" y="53"/>
                </a:cubicBezTo>
                <a:cubicBezTo>
                  <a:pt x="242" y="0"/>
                  <a:pt x="499" y="26"/>
                  <a:pt x="756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5080" y="551664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ус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6520" y="49417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8520" y="49417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70520" y="49417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р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8027640" y="3789000"/>
            <a:ext cx="360360" cy="12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740360" y="4508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234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3284640"/>
            <a:ext cx="2592360" cy="1584360"/>
          </a:xfrm>
          <a:custGeom>
            <a:avLst/>
            <a:gdLst/>
            <a:ahLst/>
            <a:rect l="l" t="t" r="r" b="b"/>
            <a:pathLst>
              <a:path w="1633" h="998">
                <a:moveTo>
                  <a:pt x="0" y="998"/>
                </a:moveTo>
                <a:cubicBezTo>
                  <a:pt x="287" y="979"/>
                  <a:pt x="574" y="960"/>
                  <a:pt x="725" y="907"/>
                </a:cubicBezTo>
                <a:cubicBezTo>
                  <a:pt x="876" y="854"/>
                  <a:pt x="847" y="726"/>
                  <a:pt x="907" y="681"/>
                </a:cubicBezTo>
                <a:cubicBezTo>
                  <a:pt x="967" y="636"/>
                  <a:pt x="1058" y="726"/>
                  <a:pt x="1088" y="635"/>
                </a:cubicBezTo>
                <a:cubicBezTo>
                  <a:pt x="1118" y="544"/>
                  <a:pt x="997" y="242"/>
                  <a:pt x="1088" y="136"/>
                </a:cubicBezTo>
                <a:cubicBezTo>
                  <a:pt x="1179" y="30"/>
                  <a:pt x="1542" y="30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72360" y="234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249228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7800" y="206064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чна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ечной бассейн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это участок земной поверхности, с которого вся вода стекает в реку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одораздел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4508640"/>
            <a:ext cx="8207640" cy="115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это граница, разделяющая сосед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речные бассе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ечная система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глав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река со всеми прито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276640"/>
            <a:ext cx="5398920" cy="1079280"/>
          </a:xfrm>
          <a:prstGeom prst="rightArrow">
            <a:avLst>
              <a:gd name="adj1" fmla="val 50000"/>
              <a:gd name="adj2" fmla="val 125058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внинная 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3080" y="189000"/>
            <a:ext cx="433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8900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Горная 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777440" cy="516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920" y="18900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35640" y="549360"/>
            <a:ext cx="2087640" cy="431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внинн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549360"/>
            <a:ext cx="2087640" cy="43164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рн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1916280"/>
            <a:ext cx="2952720" cy="86328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ольшая разниц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соте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стоком и усть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1916280"/>
            <a:ext cx="2953080" cy="863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большая разниц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соте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стоком и усть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429000"/>
            <a:ext cx="244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3284640"/>
            <a:ext cx="2809800" cy="64908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ольша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3284640"/>
            <a:ext cx="2810160" cy="649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больша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4437000"/>
            <a:ext cx="2087640" cy="432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ка разру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4437000"/>
            <a:ext cx="2087640" cy="43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ка нано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5445000"/>
            <a:ext cx="2879640" cy="792360"/>
          </a:xfrm>
          <a:prstGeom prst="rect">
            <a:avLst/>
          </a:prstGeom>
          <a:solidFill>
            <a:srgbClr val="33cc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зкая, глубо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чная д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5445000"/>
            <a:ext cx="288000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широкая, неглубо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чная д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119700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119700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278136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3933720"/>
            <a:ext cx="358560" cy="432000"/>
          </a:xfrm>
          <a:prstGeom prst="downArrow">
            <a:avLst>
              <a:gd name="adj1" fmla="val 50000"/>
              <a:gd name="adj2" fmla="val 3012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4941720"/>
            <a:ext cx="358560" cy="432000"/>
          </a:xfrm>
          <a:prstGeom prst="downArrow">
            <a:avLst>
              <a:gd name="adj1" fmla="val 50000"/>
              <a:gd name="adj2" fmla="val 3012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278136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0720" y="393372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94172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дание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проверку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исток, устье, приток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речная система? Из каких частей она состо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пределение термина « Речная система», перечислите ее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дания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 проверку у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едите примеры левых и правых притоков Волги, Оби, Енисея, 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дание на знание номенклатур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жите на карте( от истока до устья) следующие реки: Волга, Енисей, Амазонка, Нил, Хуанхэ, Обь, Лена, Миссисипи, Дон, Дне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94480"/>
            <a:ext cx="8569080" cy="558036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формировать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представление о реке,  ее   частях, частях речной системы и долины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учиться определять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левые и правые притоки, притоки 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, 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и т. д. порядка; географическое положение реки; к бассейнам каких океанов относит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 любовь к рекам, видеть их красо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8713800" cy="1224000"/>
          </a:xfrm>
          <a:prstGeom prst="downArrowCallout">
            <a:avLst>
              <a:gd name="adj1" fmla="val -138862"/>
              <a:gd name="adj2" fmla="val 177978"/>
              <a:gd name="adj3" fmla="val 21764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граф №41;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, художественные высказывания о ре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ец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6028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1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75760"/>
            <a:ext cx="36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КА ВОРСКЛА – ПРИТОК ДНЕП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0" y="6021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13800" cy="1224000"/>
          </a:xfrm>
          <a:prstGeom prst="downArrowCallout">
            <a:avLst>
              <a:gd name="adj1" fmla="val -138862"/>
              <a:gd name="adj2" fmla="val 177978"/>
              <a:gd name="adj3" fmla="val 21764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2060640"/>
            <a:ext cx="7129440" cy="403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708280"/>
            <a:ext cx="56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Поток воды, текущий в выработанном им углублении.  Это углубление называется руслом р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ека состоит из истока, русла, ус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47040" cy="6408720"/>
          </a:xfrm>
          <a:prstGeom prst="rect">
            <a:avLst/>
          </a:prstGeom>
          <a:solidFill>
            <a:srgbClr val="ebec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Исток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    начало р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ло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    самая низкая ча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речной  долины, по кот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происходит сток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Устье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    место впадения          потока (реки, ручья) в другую реку, море, озеро, оке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1197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765000"/>
            <a:ext cx="2303280" cy="792360"/>
          </a:xfrm>
          <a:prstGeom prst="rightArrow">
            <a:avLst>
              <a:gd name="adj1" fmla="val 50000"/>
              <a:gd name="adj2" fmla="val 726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92280"/>
            <a:ext cx="2232000" cy="865080"/>
          </a:xfrm>
          <a:prstGeom prst="rightArrow">
            <a:avLst>
              <a:gd name="adj1" fmla="val 50000"/>
              <a:gd name="adj2" fmla="val 6450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692280"/>
            <a:ext cx="2232000" cy="1079280"/>
          </a:xfrm>
          <a:prstGeom prst="rightArrow">
            <a:avLst>
              <a:gd name="adj1" fmla="val 50000"/>
              <a:gd name="adj2" fmla="val 51701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205000"/>
            <a:ext cx="2232000" cy="1079640"/>
          </a:xfrm>
          <a:prstGeom prst="rightArrow">
            <a:avLst>
              <a:gd name="adj1" fmla="val 50000"/>
              <a:gd name="adj2" fmla="val 51684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365720"/>
            <a:ext cx="2232000" cy="1079280"/>
          </a:xfrm>
          <a:prstGeom prst="rightArrow">
            <a:avLst>
              <a:gd name="adj1" fmla="val 50000"/>
              <a:gd name="adj2" fmla="val 51701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"/>
          <p:cNvSpPr/>
          <p:nvPr/>
        </p:nvSpPr>
        <p:spPr>
          <a:xfrm>
            <a:off x="3419640" y="191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356000" y="285264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Б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348000" y="429264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Ле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59280" y="5516640"/>
            <a:ext cx="27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Род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исто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7"/>
          <p:cNvSpPr txBox="1"/>
          <p:nvPr/>
        </p:nvSpPr>
        <p:spPr>
          <a:xfrm>
            <a:off x="1908000" y="260280"/>
            <a:ext cx="489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ки реки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Picture 18" descr="28"/>
          <p:cNvPicPr/>
          <p:nvPr/>
        </p:nvPicPr>
        <p:blipFill>
          <a:blip r:embed="rId1"/>
          <a:srcRect l="0" t="3450" r="0" b="0"/>
          <a:stretch/>
        </p:blipFill>
        <p:spPr>
          <a:xfrm>
            <a:off x="179280" y="1413000"/>
            <a:ext cx="3168720" cy="25621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73" name="Picture 19" descr="boloto"/>
          <p:cNvPicPr/>
          <p:nvPr/>
        </p:nvPicPr>
        <p:blipFill>
          <a:blip r:embed="rId2"/>
          <a:stretch/>
        </p:blipFill>
        <p:spPr>
          <a:xfrm>
            <a:off x="5796000" y="1413000"/>
            <a:ext cx="3168720" cy="25365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74" name="Picture 20" descr="родник"/>
          <p:cNvPicPr/>
          <p:nvPr/>
        </p:nvPicPr>
        <p:blipFill>
          <a:blip r:embed="rId3"/>
          <a:srcRect l="29588" t="28876" r="31356" b="22969"/>
          <a:stretch/>
        </p:blipFill>
        <p:spPr>
          <a:xfrm>
            <a:off x="5796000" y="4149720"/>
            <a:ext cx="3168720" cy="25210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75" name="Picture 21" descr="f4afbb310ae0914541ab146c19e17dce_big"/>
          <p:cNvPicPr/>
          <p:nvPr/>
        </p:nvPicPr>
        <p:blipFill>
          <a:blip r:embed="rId4"/>
          <a:srcRect l="13787" t="8010" r="0" b="0"/>
          <a:stretch/>
        </p:blipFill>
        <p:spPr>
          <a:xfrm>
            <a:off x="179280" y="4149720"/>
            <a:ext cx="3168720" cy="25369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50920" y="26028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404640"/>
            <a:ext cx="8713800" cy="1224000"/>
          </a:xfrm>
          <a:prstGeom prst="downArrowCallout">
            <a:avLst>
              <a:gd name="adj1" fmla="val -138862"/>
              <a:gd name="adj2" fmla="val 177978"/>
              <a:gd name="adj3" fmla="val 21764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й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060640"/>
            <a:ext cx="7129440" cy="4032360"/>
          </a:xfrm>
          <a:prstGeom prst="roundRect">
            <a:avLst>
              <a:gd name="adj" fmla="val 16667"/>
            </a:avLst>
          </a:prstGeom>
          <a:solidFill>
            <a:srgbClr val="eb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3068640"/>
            <a:ext cx="64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Нижняя часть речной долины, регулярно заливаемая в половодь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836640"/>
            <a:ext cx="14414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89000"/>
            <a:ext cx="1441440" cy="431640"/>
          </a:xfrm>
          <a:prstGeom prst="rect">
            <a:avLst/>
          </a:prstGeom>
          <a:solidFill>
            <a:srgbClr val="99cc00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Б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89000"/>
            <a:ext cx="1441440" cy="431640"/>
          </a:xfrm>
          <a:prstGeom prst="rect">
            <a:avLst/>
          </a:prstGeom>
          <a:solidFill>
            <a:srgbClr val="ccffcc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89000"/>
            <a:ext cx="1441440" cy="431640"/>
          </a:xfrm>
          <a:prstGeom prst="rect">
            <a:avLst/>
          </a:prstGeom>
          <a:solidFill>
            <a:srgbClr val="ccff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1197000"/>
            <a:ext cx="1441440" cy="431640"/>
          </a:xfrm>
          <a:prstGeom prst="rect">
            <a:avLst/>
          </a:prstGeom>
          <a:solidFill>
            <a:srgbClr val="00ff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62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659640" y="62064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620640"/>
            <a:ext cx="201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1052640"/>
            <a:ext cx="32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1700280"/>
            <a:ext cx="865080" cy="865080"/>
          </a:xfrm>
          <a:custGeom>
            <a:avLst/>
            <a:gdLst/>
            <a:ahLst/>
            <a:rect l="l" t="t" r="r" b="b"/>
            <a:pathLst>
              <a:path w="545" h="545">
                <a:moveTo>
                  <a:pt x="545" y="0"/>
                </a:moveTo>
                <a:cubicBezTo>
                  <a:pt x="545" y="91"/>
                  <a:pt x="545" y="182"/>
                  <a:pt x="454" y="273"/>
                </a:cubicBezTo>
                <a:cubicBezTo>
                  <a:pt x="363" y="364"/>
                  <a:pt x="68" y="500"/>
                  <a:pt x="0" y="5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1268280"/>
            <a:ext cx="2232000" cy="1297080"/>
          </a:xfrm>
          <a:custGeom>
            <a:avLst/>
            <a:gdLst/>
            <a:ahLst/>
            <a:rect l="l" t="t" r="r" b="b"/>
            <a:pathLst>
              <a:path w="1406" h="817">
                <a:moveTo>
                  <a:pt x="0" y="0"/>
                </a:moveTo>
                <a:cubicBezTo>
                  <a:pt x="75" y="0"/>
                  <a:pt x="151" y="0"/>
                  <a:pt x="227" y="91"/>
                </a:cubicBezTo>
                <a:cubicBezTo>
                  <a:pt x="303" y="182"/>
                  <a:pt x="258" y="424"/>
                  <a:pt x="454" y="545"/>
                </a:cubicBezTo>
                <a:cubicBezTo>
                  <a:pt x="650" y="666"/>
                  <a:pt x="1028" y="741"/>
                  <a:pt x="1406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1484280"/>
            <a:ext cx="2232000" cy="1297080"/>
          </a:xfrm>
          <a:custGeom>
            <a:avLst/>
            <a:gdLst/>
            <a:ahLst/>
            <a:rect l="l" t="t" r="r" b="b"/>
            <a:pathLst>
              <a:path w="1406" h="817">
                <a:moveTo>
                  <a:pt x="0" y="0"/>
                </a:moveTo>
                <a:cubicBezTo>
                  <a:pt x="75" y="0"/>
                  <a:pt x="151" y="0"/>
                  <a:pt x="227" y="91"/>
                </a:cubicBezTo>
                <a:cubicBezTo>
                  <a:pt x="303" y="182"/>
                  <a:pt x="258" y="424"/>
                  <a:pt x="454" y="545"/>
                </a:cubicBezTo>
                <a:cubicBezTo>
                  <a:pt x="650" y="666"/>
                  <a:pt x="1028" y="741"/>
                  <a:pt x="1406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1700280"/>
            <a:ext cx="1524240" cy="1512720"/>
          </a:xfrm>
          <a:custGeom>
            <a:avLst/>
            <a:gdLst/>
            <a:ahLst/>
            <a:rect l="l" t="t" r="r" b="b"/>
            <a:pathLst>
              <a:path w="960" h="953">
                <a:moveTo>
                  <a:pt x="862" y="0"/>
                </a:moveTo>
                <a:cubicBezTo>
                  <a:pt x="911" y="79"/>
                  <a:pt x="960" y="159"/>
                  <a:pt x="816" y="318"/>
                </a:cubicBezTo>
                <a:cubicBezTo>
                  <a:pt x="672" y="477"/>
                  <a:pt x="136" y="847"/>
                  <a:pt x="0" y="9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781360"/>
            <a:ext cx="1584000" cy="360360"/>
          </a:xfrm>
          <a:custGeom>
            <a:avLst/>
            <a:gdLst/>
            <a:ahLst/>
            <a:rect l="l" t="t" r="r" b="b"/>
            <a:pathLst>
              <a:path w="998" h="227">
                <a:moveTo>
                  <a:pt x="998" y="0"/>
                </a:moveTo>
                <a:cubicBezTo>
                  <a:pt x="899" y="71"/>
                  <a:pt x="801" y="143"/>
                  <a:pt x="635" y="181"/>
                </a:cubicBezTo>
                <a:cubicBezTo>
                  <a:pt x="469" y="219"/>
                  <a:pt x="98" y="219"/>
                  <a:pt x="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213000"/>
            <a:ext cx="1584360" cy="360360"/>
          </a:xfrm>
          <a:custGeom>
            <a:avLst/>
            <a:gdLst/>
            <a:ahLst/>
            <a:rect l="l" t="t" r="r" b="b"/>
            <a:pathLst>
              <a:path w="998" h="227">
                <a:moveTo>
                  <a:pt x="998" y="0"/>
                </a:moveTo>
                <a:cubicBezTo>
                  <a:pt x="899" y="71"/>
                  <a:pt x="801" y="143"/>
                  <a:pt x="635" y="181"/>
                </a:cubicBezTo>
                <a:cubicBezTo>
                  <a:pt x="469" y="219"/>
                  <a:pt x="98" y="219"/>
                  <a:pt x="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3573360"/>
            <a:ext cx="360360" cy="287280"/>
          </a:xfrm>
          <a:custGeom>
            <a:avLst/>
            <a:gdLst/>
            <a:ahLst/>
            <a:rect l="l" t="t" r="r" b="b"/>
            <a:pathLst>
              <a:path w="227" h="181">
                <a:moveTo>
                  <a:pt x="227" y="0"/>
                </a:moveTo>
                <a:cubicBezTo>
                  <a:pt x="178" y="7"/>
                  <a:pt x="129" y="15"/>
                  <a:pt x="91" y="45"/>
                </a:cubicBezTo>
                <a:cubicBezTo>
                  <a:pt x="53" y="75"/>
                  <a:pt x="15" y="158"/>
                  <a:pt x="0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3860640"/>
            <a:ext cx="142920" cy="505080"/>
          </a:xfrm>
          <a:custGeom>
            <a:avLst/>
            <a:gdLst/>
            <a:ahLst/>
            <a:rect l="l" t="t" r="r" b="b"/>
            <a:pathLst>
              <a:path w="90" h="318">
                <a:moveTo>
                  <a:pt x="45" y="0"/>
                </a:moveTo>
                <a:cubicBezTo>
                  <a:pt x="22" y="45"/>
                  <a:pt x="0" y="91"/>
                  <a:pt x="0" y="136"/>
                </a:cubicBezTo>
                <a:cubicBezTo>
                  <a:pt x="0" y="181"/>
                  <a:pt x="30" y="242"/>
                  <a:pt x="45" y="272"/>
                </a:cubicBezTo>
                <a:cubicBezTo>
                  <a:pt x="60" y="302"/>
                  <a:pt x="75" y="310"/>
                  <a:pt x="90" y="3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3141720"/>
            <a:ext cx="432000" cy="216000"/>
          </a:xfrm>
          <a:custGeom>
            <a:avLst/>
            <a:gdLst/>
            <a:ahLst/>
            <a:rect l="l" t="t" r="r" b="b"/>
            <a:pathLst>
              <a:path w="272" h="136">
                <a:moveTo>
                  <a:pt x="272" y="0"/>
                </a:moveTo>
                <a:cubicBezTo>
                  <a:pt x="204" y="11"/>
                  <a:pt x="136" y="22"/>
                  <a:pt x="91" y="45"/>
                </a:cubicBezTo>
                <a:cubicBezTo>
                  <a:pt x="46" y="68"/>
                  <a:pt x="15" y="113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1773360"/>
            <a:ext cx="324000" cy="576000"/>
          </a:xfrm>
          <a:custGeom>
            <a:avLst/>
            <a:gdLst/>
            <a:ahLst/>
            <a:rect l="l" t="t" r="r" b="b"/>
            <a:pathLst>
              <a:path w="204" h="363">
                <a:moveTo>
                  <a:pt x="181" y="0"/>
                </a:moveTo>
                <a:cubicBezTo>
                  <a:pt x="192" y="64"/>
                  <a:pt x="204" y="128"/>
                  <a:pt x="181" y="181"/>
                </a:cubicBezTo>
                <a:cubicBezTo>
                  <a:pt x="158" y="234"/>
                  <a:pt x="75" y="287"/>
                  <a:pt x="45" y="317"/>
                </a:cubicBezTo>
                <a:cubicBezTo>
                  <a:pt x="15" y="347"/>
                  <a:pt x="7" y="355"/>
                  <a:pt x="0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08720" y="234936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1916280"/>
            <a:ext cx="504720" cy="433080"/>
          </a:xfrm>
          <a:custGeom>
            <a:avLst/>
            <a:gdLst/>
            <a:ahLst/>
            <a:rect l="l" t="t" r="r" b="b"/>
            <a:pathLst>
              <a:path w="318" h="273">
                <a:moveTo>
                  <a:pt x="0" y="0"/>
                </a:moveTo>
                <a:cubicBezTo>
                  <a:pt x="19" y="46"/>
                  <a:pt x="38" y="92"/>
                  <a:pt x="91" y="137"/>
                </a:cubicBezTo>
                <a:cubicBezTo>
                  <a:pt x="144" y="182"/>
                  <a:pt x="231" y="227"/>
                  <a:pt x="31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2349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357720"/>
            <a:ext cx="647640" cy="50292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408" y="0"/>
                </a:moveTo>
                <a:cubicBezTo>
                  <a:pt x="306" y="18"/>
                  <a:pt x="204" y="37"/>
                  <a:pt x="136" y="90"/>
                </a:cubicBezTo>
                <a:cubicBezTo>
                  <a:pt x="68" y="143"/>
                  <a:pt x="23" y="279"/>
                  <a:pt x="0" y="3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84000" y="386064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335772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408" y="0"/>
                </a:moveTo>
                <a:cubicBezTo>
                  <a:pt x="329" y="124"/>
                  <a:pt x="250" y="249"/>
                  <a:pt x="182" y="317"/>
                </a:cubicBezTo>
                <a:cubicBezTo>
                  <a:pt x="114" y="385"/>
                  <a:pt x="30" y="393"/>
                  <a:pt x="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642920" y="2924280"/>
            <a:ext cx="79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720" y="2707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1916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7080" y="19155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ток 1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2565360"/>
            <a:ext cx="1441440" cy="432000"/>
          </a:xfrm>
          <a:prstGeom prst="rect">
            <a:avLst/>
          </a:prstGeom>
          <a:solidFill>
            <a:srgbClr val="339966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3645000"/>
            <a:ext cx="1441440" cy="431640"/>
          </a:xfrm>
          <a:prstGeom prst="rect">
            <a:avLst/>
          </a:prstGeom>
          <a:solidFill>
            <a:srgbClr val="339966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581360"/>
            <a:ext cx="1441440" cy="432000"/>
          </a:xfrm>
          <a:prstGeom prst="rect">
            <a:avLst/>
          </a:prstGeom>
          <a:solidFill>
            <a:srgbClr val="00ff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9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4292640"/>
            <a:ext cx="14414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ЕЛЬ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4869000"/>
            <a:ext cx="14414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СТУ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5013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1640" y="501336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501336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5013360"/>
            <a:ext cx="237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950080"/>
            <a:ext cx="8636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516640"/>
            <a:ext cx="86364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5950080"/>
            <a:ext cx="172872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РУГ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6093000"/>
            <a:ext cx="1008000" cy="431640"/>
          </a:xfrm>
          <a:prstGeom prst="rect">
            <a:avLst/>
          </a:prstGeom>
          <a:solidFill>
            <a:srgbClr val="33cc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4005360"/>
            <a:ext cx="287280" cy="71280"/>
          </a:xfrm>
          <a:custGeom>
            <a:avLst/>
            <a:gdLst/>
            <a:ahLst/>
            <a:rect l="l" t="t" r="r" b="b"/>
            <a:pathLst>
              <a:path w="181" h="45">
                <a:moveTo>
                  <a:pt x="181" y="0"/>
                </a:moveTo>
                <a:cubicBezTo>
                  <a:pt x="105" y="19"/>
                  <a:pt x="30" y="38"/>
                  <a:pt x="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115920"/>
            <a:ext cx="503280" cy="35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8:20:31Z</dcterms:created>
  <dc:creator>Lanser Client</dc:creator>
  <dc:description/>
  <dc:language>en-US</dc:language>
  <cp:lastModifiedBy>Владелец</cp:lastModifiedBy>
  <dcterms:modified xsi:type="dcterms:W3CDTF">2012-09-18T07:13:06Z</dcterms:modified>
  <cp:revision>48</cp:revision>
  <dc:subject/>
  <dc:title>Тема: Реки. Части реки. Речная система </dc:title>
</cp:coreProperties>
</file>