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672-CBC1-48A5-859D-91AFB611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813-53CD-4305-9FC7-A81EC306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705-5947-486C-83AC-71C4107B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FF8-CD48-4EBC-9052-7EB8592B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49FA-5D1B-4D13-A287-23FCCC0B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0735-21B4-487D-8FEE-B94F626A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57DE-45F0-41DD-9A34-511E60F8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E6BA-6B34-4BAC-B3D9-986AE303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6253-94B4-4AE5-90C5-5FE4EB61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8621-495D-48E7-A997-4B7B64FC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5220-39D2-47F1-AF04-F0C6B2F9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3DA-A7AB-44E9-BE6F-BE58BEC3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736E-3ABC-4105-858D-8DD96D53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FFDF-790A-46A5-80E7-65DEC05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1045-0468-411C-B99B-CE490815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66DF-9323-4509-B566-F56A1E30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3A3D-0495-497D-9558-B668CC63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83F65-246A-42DB-8EC0-A971F96A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AC9C-7AE4-461C-9420-5F0ACAAB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9088-06AA-459B-A5E0-510E3780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E05F-5B2B-454D-A095-7BDA6A63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8BA5-E1C6-47D8-94F1-54AFA3A0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A62-9603-4715-8501-4480CBF8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5811-D7FE-4611-9918-A9B3B632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B628F-10CB-4B68-AC80-DE38CC34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91FD6-CAF8-4A7B-B1B4-040E7BC3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5CB8-0660-47F3-8D27-BBB5B316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8E788-A62A-40DC-A723-F7C599F9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8965-AF82-4053-9113-59E8506D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A5FE-6386-42E7-812E-9A29ADF0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40E1B-2BCE-46C7-9C8A-F74872AD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D38D2-E29D-4C9A-96E6-FB27E7F1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06D0-6F96-4C94-9E8D-7BF6791C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710-B54B-4FDF-B20E-337EF100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2DAA7-B237-48D0-9162-9A8846AB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9201E-B5CD-44C2-A6C8-BFEA0605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F8BC-811F-4734-8D8F-5FCAD582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FAC3F-A8B2-469A-8852-BB75EA19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52F9-D1F2-497B-9B5E-D7F4ACCF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B042E-68AD-4035-899C-985923EB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B665-8F23-4721-AF55-32155241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EA65C-A002-420B-A174-5485C996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80F54-6A37-4BF3-AB73-9DE35373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EFD-992B-421D-9DF8-27CE1197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0DC-CA5F-4551-9B28-D33AD798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287-8B70-42BA-9FA7-8A914200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B22-04E0-4887-9D20-A7AAFD03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516-5C75-4A1A-9E99-DABF082E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D87B-C26F-4989-9285-7769AB55F29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012C-4608-4EB8-AC92-D3CEA76BD8C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A534-52DA-4AC9-813C-561B9641140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ACD5-350A-4CA4-9744-E32C9E7E937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17520" y="1365120"/>
            <a:ext cx="894888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28840" y="471492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втор – Широкова Л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итель  информати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ОУ лицей № 4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ород Костро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преде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21427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емантическая моде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это модель знаний в форме графа, в основе которой лежит идея о том, что любые знания можно представить в виде совокупности объектов (понятий) и связей (отношений) между ними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G:\2011_конкурс_дидактические_материалы\рисунки\101293.gif"/>
          <p:cNvPicPr/>
          <p:nvPr/>
        </p:nvPicPr>
        <p:blipFill>
          <a:blip r:embed="rId1"/>
          <a:stretch/>
        </p:blipFill>
        <p:spPr>
          <a:xfrm>
            <a:off x="3786120" y="4214880"/>
            <a:ext cx="40197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ример: представим в виде графа связи в предложении «Однажды в студеную зимнюю пору я из лесу вышел»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Овал 4"/>
          <p:cNvSpPr/>
          <p:nvPr/>
        </p:nvSpPr>
        <p:spPr>
          <a:xfrm>
            <a:off x="1500120" y="58579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зимню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Овал 5"/>
          <p:cNvSpPr/>
          <p:nvPr/>
        </p:nvSpPr>
        <p:spPr>
          <a:xfrm>
            <a:off x="5143680" y="56437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пор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Овал 6"/>
          <p:cNvSpPr/>
          <p:nvPr/>
        </p:nvSpPr>
        <p:spPr>
          <a:xfrm>
            <a:off x="500040" y="45007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 студеную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Овал 7"/>
          <p:cNvSpPr/>
          <p:nvPr/>
        </p:nvSpPr>
        <p:spPr>
          <a:xfrm>
            <a:off x="6000840" y="442908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днажд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Овал 8"/>
          <p:cNvSpPr/>
          <p:nvPr/>
        </p:nvSpPr>
        <p:spPr>
          <a:xfrm>
            <a:off x="3500280" y="2428920"/>
            <a:ext cx="264348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ыше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Овал 9"/>
          <p:cNvSpPr/>
          <p:nvPr/>
        </p:nvSpPr>
        <p:spPr>
          <a:xfrm>
            <a:off x="1428840" y="328608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Овал 10"/>
          <p:cNvSpPr/>
          <p:nvPr/>
        </p:nvSpPr>
        <p:spPr>
          <a:xfrm>
            <a:off x="6143760" y="314316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з лес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8" name="Прямая со стрелкой 12"/>
          <p:cNvCxnSpPr>
            <a:stCxn id="205" idx="6"/>
            <a:endCxn id="207" idx="0"/>
          </p:cNvCxnSpPr>
          <p:nvPr/>
        </p:nvCxnSpPr>
        <p:spPr>
          <a:xfrm>
            <a:off x="6143400" y="2786040"/>
            <a:ext cx="1323000" cy="3578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Прямая со стрелкой 16"/>
          <p:cNvCxnSpPr>
            <a:stCxn id="205" idx="5"/>
            <a:endCxn id="204" idx="1"/>
          </p:cNvCxnSpPr>
          <p:nvPr/>
        </p:nvCxnSpPr>
        <p:spPr>
          <a:xfrm>
            <a:off x="5755320" y="3038400"/>
            <a:ext cx="632520" cy="1496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10" name="Прямая со стрелкой 24"/>
          <p:cNvCxnSpPr>
            <a:stCxn id="206" idx="0"/>
            <a:endCxn id="205" idx="2"/>
          </p:cNvCxnSpPr>
          <p:nvPr/>
        </p:nvCxnSpPr>
        <p:spPr>
          <a:xfrm flipV="1">
            <a:off x="2748600" y="2785320"/>
            <a:ext cx="751320" cy="5007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1" name="Прямая со стрелкой 33"/>
          <p:cNvCxnSpPr>
            <a:stCxn id="205" idx="4"/>
            <a:endCxn id="202" idx="1"/>
          </p:cNvCxnSpPr>
          <p:nvPr/>
        </p:nvCxnSpPr>
        <p:spPr>
          <a:xfrm>
            <a:off x="4822920" y="3142800"/>
            <a:ext cx="708480" cy="26060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2" name="Прямая со стрелкой 38"/>
          <p:cNvCxnSpPr>
            <a:stCxn id="202" idx="2"/>
            <a:endCxn id="201" idx="6"/>
          </p:cNvCxnSpPr>
          <p:nvPr/>
        </p:nvCxnSpPr>
        <p:spPr>
          <a:xfrm flipH="1">
            <a:off x="4142520" y="5999760"/>
            <a:ext cx="1001160" cy="2149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3" name="Прямая со стрелкой 45"/>
          <p:cNvCxnSpPr>
            <a:endCxn id="203" idx="6"/>
          </p:cNvCxnSpPr>
          <p:nvPr/>
        </p:nvCxnSpPr>
        <p:spPr>
          <a:xfrm flipH="1" flipV="1">
            <a:off x="3142440" y="4857480"/>
            <a:ext cx="2143800" cy="10008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4" name="TextBox 46"/>
          <p:cNvSpPr/>
          <p:nvPr/>
        </p:nvSpPr>
        <p:spPr>
          <a:xfrm>
            <a:off x="6715080" y="26431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куд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47"/>
          <p:cNvSpPr/>
          <p:nvPr/>
        </p:nvSpPr>
        <p:spPr>
          <a:xfrm>
            <a:off x="1785960" y="27147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то сделал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TextBox 48"/>
          <p:cNvSpPr/>
          <p:nvPr/>
        </p:nvSpPr>
        <p:spPr>
          <a:xfrm>
            <a:off x="3071880" y="30002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49"/>
          <p:cNvSpPr/>
          <p:nvPr/>
        </p:nvSpPr>
        <p:spPr>
          <a:xfrm>
            <a:off x="6286680" y="392904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50"/>
          <p:cNvSpPr/>
          <p:nvPr/>
        </p:nvSpPr>
        <p:spPr>
          <a:xfrm>
            <a:off x="5429160" y="51436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51"/>
          <p:cNvSpPr/>
          <p:nvPr/>
        </p:nvSpPr>
        <p:spPr>
          <a:xfrm>
            <a:off x="4143240" y="5072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акую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52"/>
          <p:cNvSpPr/>
          <p:nvPr/>
        </p:nvSpPr>
        <p:spPr>
          <a:xfrm>
            <a:off x="3643200" y="5643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акую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АНАЛИЗ ЗАПУТАННЫХ СИТУАЦИ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71360" y="1857240"/>
            <a:ext cx="62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11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Боксеры с твердою походкой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Не моют пол зубною щеткой.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то моет пол зубною щеткой,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от наделен душою кроткой.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то пол мыть щеткой не желает,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уровым нравом обладает.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уровый нрав у тех бывает,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то книжек вовсе не читает.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Фосс враг и книжек и газет,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тветь, боксер он или нет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111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3" descr="C:\Documents and Settings\Администратор\Local Settings\Temporary Internet Files\Content.IE5\74V6G0AC\MC900324494[1].wmf"/>
          <p:cNvPicPr/>
          <p:nvPr/>
        </p:nvPicPr>
        <p:blipFill>
          <a:blip r:embed="rId1"/>
          <a:stretch/>
        </p:blipFill>
        <p:spPr>
          <a:xfrm>
            <a:off x="7000920" y="4643280"/>
            <a:ext cx="1735200" cy="18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</a:rPr>
              <a:t>Фосс – боксер или н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Овал 4"/>
          <p:cNvSpPr/>
          <p:nvPr/>
        </p:nvSpPr>
        <p:spPr>
          <a:xfrm>
            <a:off x="357120" y="185724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Боксё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Овал 5"/>
          <p:cNvSpPr/>
          <p:nvPr/>
        </p:nvSpPr>
        <p:spPr>
          <a:xfrm>
            <a:off x="2428920" y="1285920"/>
            <a:ext cx="307188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оет пол зубною щетк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Овал 6"/>
          <p:cNvSpPr/>
          <p:nvPr/>
        </p:nvSpPr>
        <p:spPr>
          <a:xfrm>
            <a:off x="5929200" y="1285920"/>
            <a:ext cx="292896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меет  кроткую  душ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Овал 7"/>
          <p:cNvSpPr/>
          <p:nvPr/>
        </p:nvSpPr>
        <p:spPr>
          <a:xfrm>
            <a:off x="2786040" y="2428920"/>
            <a:ext cx="307188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моет пол зубною щётк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Овал 8"/>
          <p:cNvSpPr/>
          <p:nvPr/>
        </p:nvSpPr>
        <p:spPr>
          <a:xfrm>
            <a:off x="6286680" y="2428920"/>
            <a:ext cx="2643120" cy="7142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имеет суровый нра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Овал 9"/>
          <p:cNvSpPr/>
          <p:nvPr/>
        </p:nvSpPr>
        <p:spPr>
          <a:xfrm>
            <a:off x="5357880" y="3286080"/>
            <a:ext cx="264312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 читает кни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1" name="Прямая со стрелкой 11"/>
          <p:cNvCxnSpPr>
            <a:stCxn id="225" idx="6"/>
            <a:endCxn id="228" idx="1"/>
          </p:cNvCxnSpPr>
          <p:nvPr/>
        </p:nvCxnSpPr>
        <p:spPr>
          <a:xfrm>
            <a:off x="2999880" y="2214720"/>
            <a:ext cx="235800" cy="3196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Прямая со стрелкой 13"/>
          <p:cNvCxnSpPr>
            <a:stCxn id="226" idx="6"/>
            <a:endCxn id="227" idx="2"/>
          </p:cNvCxnSpPr>
          <p:nvPr/>
        </p:nvCxnSpPr>
        <p:spPr>
          <a:xfrm>
            <a:off x="5500800" y="1643040"/>
            <a:ext cx="429120" cy="21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3" name="Прямая со стрелкой 15"/>
          <p:cNvCxnSpPr>
            <a:stCxn id="228" idx="6"/>
            <a:endCxn id="229" idx="2"/>
          </p:cNvCxnSpPr>
          <p:nvPr/>
        </p:nvCxnSpPr>
        <p:spPr>
          <a:xfrm>
            <a:off x="5857560" y="2786040"/>
            <a:ext cx="429480" cy="216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34" name="Прямая со стрелкой 17"/>
          <p:cNvCxnSpPr>
            <a:stCxn id="230" idx="0"/>
            <a:endCxn id="229" idx="4"/>
          </p:cNvCxnSpPr>
          <p:nvPr/>
        </p:nvCxnSpPr>
        <p:spPr>
          <a:xfrm flipV="1">
            <a:off x="6680160" y="3142440"/>
            <a:ext cx="929520" cy="14364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grpSp>
        <p:nvGrpSpPr>
          <p:cNvPr id="235" name="Скругленный прямоугольник 19"/>
          <p:cNvGrpSpPr/>
          <p:nvPr/>
        </p:nvGrpSpPr>
        <p:grpSpPr>
          <a:xfrm>
            <a:off x="426960" y="3035160"/>
            <a:ext cx="1932120" cy="1219320"/>
            <a:chOff x="426960" y="3035160"/>
            <a:chExt cx="1932120" cy="1219320"/>
          </a:xfrm>
        </p:grpSpPr>
        <p:pic>
          <p:nvPicPr>
            <p:cNvPr id="236" name="Скругленный прямоугольник 19" descr=""/>
            <p:cNvPicPr/>
            <p:nvPr/>
          </p:nvPicPr>
          <p:blipFill>
            <a:blip r:embed="rId1"/>
            <a:stretch/>
          </p:blipFill>
          <p:spPr>
            <a:xfrm>
              <a:off x="426960" y="3035160"/>
              <a:ext cx="19321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52600" y="3124080"/>
              <a:ext cx="16808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не читает книг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8" name="Скругленный прямоугольник 20"/>
          <p:cNvGrpSpPr/>
          <p:nvPr/>
        </p:nvGrpSpPr>
        <p:grpSpPr>
          <a:xfrm>
            <a:off x="2498760" y="3749760"/>
            <a:ext cx="1933560" cy="1218960"/>
            <a:chOff x="2498760" y="3749760"/>
            <a:chExt cx="1933560" cy="1218960"/>
          </a:xfrm>
        </p:grpSpPr>
        <p:pic>
          <p:nvPicPr>
            <p:cNvPr id="239" name="Скругленный 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98760" y="3749760"/>
              <a:ext cx="19335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624040" y="3838680"/>
              <a:ext cx="16812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имеет суровый нрав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1" name="Скругленный прямоугольник 21"/>
          <p:cNvGrpSpPr/>
          <p:nvPr/>
        </p:nvGrpSpPr>
        <p:grpSpPr>
          <a:xfrm>
            <a:off x="4425840" y="4535640"/>
            <a:ext cx="1981440" cy="1218960"/>
            <a:chOff x="4425840" y="4535640"/>
            <a:chExt cx="1981440" cy="1218960"/>
          </a:xfrm>
        </p:grpSpPr>
        <p:pic>
          <p:nvPicPr>
            <p:cNvPr id="242" name="Скругленный 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4425840" y="4535640"/>
              <a:ext cx="19814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552920" y="4624560"/>
              <a:ext cx="16812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не моет пол зубною щеткой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4" name="Скругленный прямоугольник 31"/>
          <p:cNvGrpSpPr/>
          <p:nvPr/>
        </p:nvGrpSpPr>
        <p:grpSpPr>
          <a:xfrm>
            <a:off x="6357960" y="5108400"/>
            <a:ext cx="2219400" cy="1219320"/>
            <a:chOff x="6357960" y="5108400"/>
            <a:chExt cx="2219400" cy="1219320"/>
          </a:xfrm>
        </p:grpSpPr>
        <p:pic>
          <p:nvPicPr>
            <p:cNvPr id="245" name="Скругленный прямоугольник 31" descr=""/>
            <p:cNvPicPr/>
            <p:nvPr/>
          </p:nvPicPr>
          <p:blipFill>
            <a:blip r:embed="rId4"/>
            <a:stretch/>
          </p:blipFill>
          <p:spPr>
            <a:xfrm>
              <a:off x="6357960" y="5108400"/>
              <a:ext cx="2219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481800" y="5195880"/>
              <a:ext cx="19670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nstantia"/>
                </a:rPr>
                <a:t>Фосс – боксёр!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7" name="Стрелка вправо 32"/>
          <p:cNvSpPr/>
          <p:nvPr/>
        </p:nvSpPr>
        <p:spPr>
          <a:xfrm>
            <a:off x="1000080" y="4286160"/>
            <a:ext cx="1214640" cy="3571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Стрелка вправо 33"/>
          <p:cNvSpPr/>
          <p:nvPr/>
        </p:nvSpPr>
        <p:spPr>
          <a:xfrm>
            <a:off x="2857680" y="5000760"/>
            <a:ext cx="1214280" cy="3571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Стрелка вправо 34"/>
          <p:cNvSpPr/>
          <p:nvPr/>
        </p:nvSpPr>
        <p:spPr>
          <a:xfrm>
            <a:off x="4786200" y="5786280"/>
            <a:ext cx="1214640" cy="357480"/>
          </a:xfrm>
          <a:prstGeom prst="rightArrow">
            <a:avLst>
              <a:gd name="adj1" fmla="val 50000"/>
              <a:gd name="adj2" fmla="val 4996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стройте семантическую сеть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7840" indent="-358920" algn="just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 мельника было три сына. Мельник оставил наследство. Оно состояло из мельницы, осла и кота. Старший сын взял мельницу. Средний сын взял посла. Младшему сыну дали кота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47840" indent="-358920" algn="just">
              <a:spcBef>
                <a:spcPts val="60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447840" indent="-358920" algn="just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рия работает в дневную смену. Сергей работает в вечернюю смену. Борис работает в вечернюю смену. Валентина работает в вечернюю смену. Два служащих знают друг друга, если они работают в одну смен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2" descr="C:\Documents and Settings\Администратор\Local Settings\Temporary Internet Files\Content.IE5\T2G1BYRV\MC900436209[1].png"/>
          <p:cNvPicPr/>
          <p:nvPr/>
        </p:nvPicPr>
        <p:blipFill>
          <a:blip r:embed="rId1"/>
          <a:stretch/>
        </p:blipFill>
        <p:spPr>
          <a:xfrm>
            <a:off x="7500960" y="4714920"/>
            <a:ext cx="129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истемы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388800" indent="-38880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Будем считать, что система "Урок" состоит из следующих элементов: ученик, учитель, учебник, тетрадь, классный журнал, классная доска, мел, парта, учительский стол, классная комната. Построить семантическую сеть, в которой вершинами будут перечисленные объекты, а дугами - отношения между ними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388800" indent="-38880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Будем считать, что система "Хлебный магазин" состоит из следующих элементов: хлеб, продавец, покупатель, прилавок, автомобиль, шофер, грузчик, деньги, чек. Построить семантическую сеть, в которой вершинами будут перечисленные объекты, а дугами - отношения между ними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388800" indent="-388800">
              <a:lnSpc>
                <a:spcPct val="8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редставьте в виде семантической сети схему питания для системы, состоящей из следующих организмов: трава, кролики, волки, травоядные насекомые, воробьи, ястребы, жуки-навозники. 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Выгнутая влево стрелка 3"/>
          <p:cNvSpPr/>
          <p:nvPr/>
        </p:nvSpPr>
        <p:spPr>
          <a:xfrm>
            <a:off x="4143240" y="5357880"/>
            <a:ext cx="571680" cy="928800"/>
          </a:xfrm>
          <a:custGeom>
            <a:avLst/>
            <a:gdLst>
              <a:gd name="textAreaLeft" fmla="*/ 76320 w 571680"/>
              <a:gd name="textAreaRight" fmla="*/ 495360 w 571680"/>
              <a:gd name="textAreaTop" fmla="*/ 178560 h 928800"/>
              <a:gd name="textAreaBottom" fmla="*/ 67896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632"/>
                </a:lnTo>
                <a:arcTo wR="21600" hR="8308" stAng="10800000" swAng="-3367515"/>
                <a:lnTo>
                  <a:pt x="16200" y="21336"/>
                </a:lnTo>
                <a:lnTo>
                  <a:pt x="21600" y="18277"/>
                </a:lnTo>
                <a:lnTo>
                  <a:pt x="16200" y="14690"/>
                </a:lnTo>
                <a:lnTo>
                  <a:pt x="16200" y="16351"/>
                </a:lnTo>
                <a:arcTo wR="21600" hR="8308" stAng="7432485" swAng="3098094"/>
                <a:lnTo>
                  <a:pt x="437" y="9969"/>
                </a:lnTo>
                <a:arcTo wR="21600" hR="8308" stAng="-10530580" swAng="5130580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69420"/>
                <a:lnTo>
                  <a:pt x="437" y="9969"/>
                </a:lnTo>
                <a:arcTo wR="21600" hR="8308" stAng="-10530580" swAng="513058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Выгнутая влево стрелка 4"/>
          <p:cNvSpPr/>
          <p:nvPr/>
        </p:nvSpPr>
        <p:spPr>
          <a:xfrm rot="10800000">
            <a:off x="4929120" y="5286240"/>
            <a:ext cx="571680" cy="928800"/>
          </a:xfrm>
          <a:custGeom>
            <a:avLst/>
            <a:gdLst>
              <a:gd name="textAreaLeft" fmla="*/ 76320 w 571680"/>
              <a:gd name="textAreaRight" fmla="*/ 495360 w 571680"/>
              <a:gd name="textAreaTop" fmla="*/ 178560 h 928800"/>
              <a:gd name="textAreaBottom" fmla="*/ 67896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632"/>
                </a:lnTo>
                <a:arcTo wR="21600" hR="8308" stAng="10800000" swAng="-3367515"/>
                <a:lnTo>
                  <a:pt x="16200" y="21336"/>
                </a:lnTo>
                <a:lnTo>
                  <a:pt x="21600" y="18277"/>
                </a:lnTo>
                <a:lnTo>
                  <a:pt x="16200" y="14690"/>
                </a:lnTo>
                <a:lnTo>
                  <a:pt x="16200" y="16351"/>
                </a:lnTo>
                <a:arcTo wR="21600" hR="8308" stAng="7432485" swAng="3098094"/>
                <a:lnTo>
                  <a:pt x="437" y="9969"/>
                </a:lnTo>
                <a:arcTo wR="21600" hR="8308" stAng="-10530580" swAng="5130580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69420"/>
                <a:lnTo>
                  <a:pt x="437" y="9969"/>
                </a:lnTo>
                <a:arcTo wR="21600" hR="8308" stAng="-10530580" swAng="513058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Широкоплеч ли мистер Фосс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8760" y="1357200"/>
            <a:ext cx="65865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ирокоплечие мужчи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ют, садясь за руль маш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ужчины с узкими плечами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адясь за руль, молчат, как камен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, кто за руль садятся с пенье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отличаются терпень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, кто в машине молчаливы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ывают очень терпелив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рпенье тем дано с избытко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то чинит домики улитк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б домик починить улитк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лей варят на электроплит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сс не выносит запах кле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н сразу падает, бледне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шу ответить на вопрос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1074600" indent="504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ирокоплеч ли мистер Фосс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Picture 2" descr="C:\Documents and Settings\Администратор\Local Settings\Temporary Internet Files\Content.IE5\88VK701Z\MC900290884[1].wmf"/>
          <p:cNvPicPr/>
          <p:nvPr/>
        </p:nvPicPr>
        <p:blipFill>
          <a:blip r:embed="rId1"/>
          <a:stretch/>
        </p:blipFill>
        <p:spPr>
          <a:xfrm>
            <a:off x="6286680" y="3786120"/>
            <a:ext cx="22874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кого цвета хвост Барбос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аки с рыжими хвост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бе овсянку варят с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м, чьи хвосты стального цвета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позволяют делать эт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то варит сам себе овсянку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улять выходит спозаранк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, кто гулять выходят рано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терпят фальши и обман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 добродушный у Барбо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на сорок он смотрит кос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н видит: норовят соро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воробьев списать уроки!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ажите — проще нет вопроса! —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98480" indent="1116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го цвета хвост Барбос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2" descr="C:\Documents and Settings\Администратор\Local Settings\Temporary Internet Files\Content.IE5\88VK701Z\MM900205361[1].gif"/>
          <p:cNvPicPr/>
          <p:nvPr/>
        </p:nvPicPr>
        <p:blipFill>
          <a:blip r:embed="rId1"/>
          <a:stretch/>
        </p:blipFill>
        <p:spPr>
          <a:xfrm>
            <a:off x="500040" y="5072040"/>
            <a:ext cx="1492200" cy="1352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C:\Documents and Settings\Администратор\Local Settings\Temporary Internet Files\Content.IE5\74V6G0AC\MC900330513[1].wmf"/>
          <p:cNvPicPr/>
          <p:nvPr/>
        </p:nvPicPr>
        <p:blipFill>
          <a:blip r:embed="rId2"/>
          <a:stretch/>
        </p:blipFill>
        <p:spPr>
          <a:xfrm>
            <a:off x="6572160" y="3857760"/>
            <a:ext cx="229392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20:21:06Z</dcterms:created>
  <dc:creator>Любовь</dc:creator>
  <dc:description/>
  <dc:language>en-US</dc:language>
  <cp:lastModifiedBy>Любовь</cp:lastModifiedBy>
  <dcterms:modified xsi:type="dcterms:W3CDTF">2011-11-16T15:23:04Z</dcterms:modified>
  <cp:revision>7</cp:revision>
  <dc:subject/>
  <dc:title>Семантическая модель</dc:title>
</cp:coreProperties>
</file>