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4.gif" ContentType="image/gif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2DFB-6F05-4F52-B1FB-9189F64F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12B-AF2A-42D1-9EED-16E953F1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958-FC69-4474-A132-BB7E8317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98B-7F3C-4866-80DC-B9959222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0166-70A0-49B1-8E47-806F18B5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F799-20FD-4459-BD48-FD003621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2651-3C31-4F64-AA67-3EED19FC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809A-172F-4715-8032-3D18B54F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FF4B-60D3-4415-A1EB-7DC71AD4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848E-C8C1-4247-8E94-C966BB37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5B59-D5CD-400B-968D-82FDF299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4935-3E8B-4C03-9124-A4AFDF7D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0764-3403-41D4-AA27-2CAF2846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43B0-8BA2-4486-987C-3D9DF622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6274-1537-4F20-B81A-53ADEF48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84BE-81AC-4C04-8B7C-5E0A92B8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712E-70BB-4BF1-8F98-946CFC37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021D7-8D32-4861-B17B-576F6175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281F9-4807-4BE4-A394-3BF585FB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9B359-8B57-4B49-81C8-DF51CF80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03367-DB19-419B-86EF-0664035C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3B8D1-5890-4A49-98C3-8451F874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8B4D-0CB8-49B5-9888-ED0AE683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3D66-1D83-43D9-8CAF-4F11DF3C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5317E-AD6C-4DC8-B916-F7F9C830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A96E9-86AC-4C54-8362-2FB6DC15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8E7D7-FD9A-46A9-B980-E9CEE8C8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81DA8-4725-49C1-B84D-2E820BBB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B45EB-3162-490F-8A7C-D03179C9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96F3A-D984-4173-B78E-36327A6F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FA0BD-A1E8-4B1F-9ECA-EE20948D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D90D2-B8F8-4169-A72B-CF5492C6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F2EB5-B4BB-4D75-8931-AF2D2C4A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509E-CD72-4D63-A026-ACD0688B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17790-C1AB-450C-A939-A9003F40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26965-1A74-4DB8-9CD8-4D5D869D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71EBA-918E-445C-A7FF-06D675A4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69D62-4CA2-4779-9DD4-54AAE08F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911F8-6F1D-4EDC-AA38-41ACC443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FCDF6-16B7-4163-8AD2-39E7B280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E5161-37C1-4285-97C0-4B744D9A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A5488-A556-4D0F-B709-9B322BF5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FE61F-F5DD-4B36-BC15-17A874D6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73C-C931-4001-BEA1-0EB09E25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B31-9CDF-46B5-A6AC-AFC47BFB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4326-5EE2-46D4-883D-D804E5CC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AF6-DA02-4946-B0EF-5592743A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C200-AE30-4244-8790-8020CF28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3436-A231-40A5-827A-665B340C340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91C7-AF02-46BA-A0CA-6CC5D62D872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1E26-344C-44FA-A472-ABBB5D57C78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4FE2-4C9D-49AB-B568-F77ACCDB363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17520" y="1365120"/>
            <a:ext cx="8948880" cy="1895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28840" y="4714920"/>
            <a:ext cx="6400800" cy="1495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Автор – Широкова Л.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читель  информатик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ОУ лицей № 4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Город Костром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предел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8760" y="214272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емантическая модель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это модель знаний в форме графа, в основе которой лежит идея о том, что любые знания можно представить в виде совокупности объектов (понятий) и связей (отношений) между ними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G:\2011_конкурс_дидактические_материалы\рисунки\101293.gif"/>
          <p:cNvPicPr/>
          <p:nvPr/>
        </p:nvPicPr>
        <p:blipFill>
          <a:blip r:embed="rId1"/>
          <a:stretch/>
        </p:blipFill>
        <p:spPr>
          <a:xfrm>
            <a:off x="3786120" y="4214880"/>
            <a:ext cx="40197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ример: представим в виде графа связи в предложении «Однажды в студеную зимнюю пору я из лесу вышел»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Овал 4"/>
          <p:cNvSpPr/>
          <p:nvPr/>
        </p:nvSpPr>
        <p:spPr>
          <a:xfrm>
            <a:off x="1500120" y="5857920"/>
            <a:ext cx="264312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 зимнюю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Овал 5"/>
          <p:cNvSpPr/>
          <p:nvPr/>
        </p:nvSpPr>
        <p:spPr>
          <a:xfrm>
            <a:off x="5143680" y="5643720"/>
            <a:ext cx="264312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 пор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Овал 6"/>
          <p:cNvSpPr/>
          <p:nvPr/>
        </p:nvSpPr>
        <p:spPr>
          <a:xfrm>
            <a:off x="500040" y="4500720"/>
            <a:ext cx="264312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 студеную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Овал 7"/>
          <p:cNvSpPr/>
          <p:nvPr/>
        </p:nvSpPr>
        <p:spPr>
          <a:xfrm>
            <a:off x="6000840" y="4429080"/>
            <a:ext cx="264312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днажд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Овал 8"/>
          <p:cNvSpPr/>
          <p:nvPr/>
        </p:nvSpPr>
        <p:spPr>
          <a:xfrm>
            <a:off x="3500280" y="2428920"/>
            <a:ext cx="264348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ыше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Овал 9"/>
          <p:cNvSpPr/>
          <p:nvPr/>
        </p:nvSpPr>
        <p:spPr>
          <a:xfrm>
            <a:off x="1428840" y="3286080"/>
            <a:ext cx="264312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Овал 10"/>
          <p:cNvSpPr/>
          <p:nvPr/>
        </p:nvSpPr>
        <p:spPr>
          <a:xfrm>
            <a:off x="6143760" y="3143160"/>
            <a:ext cx="264312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з лес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8" name="Прямая со стрелкой 12"/>
          <p:cNvCxnSpPr>
            <a:stCxn id="205" idx="6"/>
            <a:endCxn id="207" idx="0"/>
          </p:cNvCxnSpPr>
          <p:nvPr/>
        </p:nvCxnSpPr>
        <p:spPr>
          <a:xfrm>
            <a:off x="6143400" y="2786040"/>
            <a:ext cx="1323000" cy="3578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Прямая со стрелкой 16"/>
          <p:cNvCxnSpPr>
            <a:stCxn id="205" idx="5"/>
            <a:endCxn id="204" idx="1"/>
          </p:cNvCxnSpPr>
          <p:nvPr/>
        </p:nvCxnSpPr>
        <p:spPr>
          <a:xfrm>
            <a:off x="5755320" y="3038400"/>
            <a:ext cx="632520" cy="1496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0" name="Прямая со стрелкой 24"/>
          <p:cNvCxnSpPr>
            <a:stCxn id="206" idx="0"/>
            <a:endCxn id="205" idx="2"/>
          </p:cNvCxnSpPr>
          <p:nvPr/>
        </p:nvCxnSpPr>
        <p:spPr>
          <a:xfrm flipV="1">
            <a:off x="2748600" y="2785320"/>
            <a:ext cx="751320" cy="5007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1" name="Прямая со стрелкой 33"/>
          <p:cNvCxnSpPr>
            <a:stCxn id="205" idx="4"/>
            <a:endCxn id="202" idx="1"/>
          </p:cNvCxnSpPr>
          <p:nvPr/>
        </p:nvCxnSpPr>
        <p:spPr>
          <a:xfrm>
            <a:off x="4822920" y="3142800"/>
            <a:ext cx="708480" cy="26060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2" name="Прямая со стрелкой 38"/>
          <p:cNvCxnSpPr>
            <a:stCxn id="202" idx="2"/>
            <a:endCxn id="201" idx="6"/>
          </p:cNvCxnSpPr>
          <p:nvPr/>
        </p:nvCxnSpPr>
        <p:spPr>
          <a:xfrm flipH="1">
            <a:off x="4142520" y="5999760"/>
            <a:ext cx="1001160" cy="21492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3" name="Прямая со стрелкой 45"/>
          <p:cNvCxnSpPr>
            <a:endCxn id="203" idx="6"/>
          </p:cNvCxnSpPr>
          <p:nvPr/>
        </p:nvCxnSpPr>
        <p:spPr>
          <a:xfrm flipH="1" flipV="1">
            <a:off x="3142440" y="4857480"/>
            <a:ext cx="2143800" cy="100080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4" name="TextBox 46"/>
          <p:cNvSpPr/>
          <p:nvPr/>
        </p:nvSpPr>
        <p:spPr>
          <a:xfrm>
            <a:off x="6715080" y="26431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ткуд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Box 47"/>
          <p:cNvSpPr/>
          <p:nvPr/>
        </p:nvSpPr>
        <p:spPr>
          <a:xfrm>
            <a:off x="1785960" y="27147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то сделал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TextBox 48"/>
          <p:cNvSpPr/>
          <p:nvPr/>
        </p:nvSpPr>
        <p:spPr>
          <a:xfrm>
            <a:off x="3071880" y="30002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то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TextBox 49"/>
          <p:cNvSpPr/>
          <p:nvPr/>
        </p:nvSpPr>
        <p:spPr>
          <a:xfrm>
            <a:off x="6286680" y="39290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гд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Box 50"/>
          <p:cNvSpPr/>
          <p:nvPr/>
        </p:nvSpPr>
        <p:spPr>
          <a:xfrm>
            <a:off x="5429160" y="514368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гд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51"/>
          <p:cNvSpPr/>
          <p:nvPr/>
        </p:nvSpPr>
        <p:spPr>
          <a:xfrm>
            <a:off x="4143240" y="507204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какую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Box 52"/>
          <p:cNvSpPr/>
          <p:nvPr/>
        </p:nvSpPr>
        <p:spPr>
          <a:xfrm>
            <a:off x="3643200" y="564372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какую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АНАЛИЗ ЗАПУТАННЫХ СИТУАЦИ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071360" y="1857240"/>
            <a:ext cx="622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11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Боксеры с твердою походкой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е моют пол зубною щеткой.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то моет пол зубною щеткой,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Тот наделен душою кроткой.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то пол мыть щеткой не желает,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Суровым нравом обладает.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Суровый нрав у тех бывает,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то книжек вовсе не читает.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Фосс враг и книжек и газет,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тветь, боксер он или нет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111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3" descr="C:\Documents and Settings\Администратор\Local Settings\Temporary Internet Files\Content.IE5\74V6G0AC\MC900324494[1].wmf"/>
          <p:cNvPicPr/>
          <p:nvPr/>
        </p:nvPicPr>
        <p:blipFill>
          <a:blip r:embed="rId1"/>
          <a:stretch/>
        </p:blipFill>
        <p:spPr>
          <a:xfrm>
            <a:off x="7000920" y="4643280"/>
            <a:ext cx="1735200" cy="18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4617b"/>
                </a:solidFill>
                <a:latin typeface="Calibri"/>
              </a:rPr>
              <a:t>Фосс – боксер или нет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Овал 4"/>
          <p:cNvSpPr/>
          <p:nvPr/>
        </p:nvSpPr>
        <p:spPr>
          <a:xfrm>
            <a:off x="357120" y="1857240"/>
            <a:ext cx="264312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Боксёр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Овал 5"/>
          <p:cNvSpPr/>
          <p:nvPr/>
        </p:nvSpPr>
        <p:spPr>
          <a:xfrm>
            <a:off x="2428920" y="1285920"/>
            <a:ext cx="307188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оет пол зубною щетко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Овал 6"/>
          <p:cNvSpPr/>
          <p:nvPr/>
        </p:nvSpPr>
        <p:spPr>
          <a:xfrm>
            <a:off x="5929200" y="1285920"/>
            <a:ext cx="292896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меет  кроткую  душ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Овал 7"/>
          <p:cNvSpPr/>
          <p:nvPr/>
        </p:nvSpPr>
        <p:spPr>
          <a:xfrm>
            <a:off x="2786040" y="2428920"/>
            <a:ext cx="307188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 моет пол зубною щётко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Овал 8"/>
          <p:cNvSpPr/>
          <p:nvPr/>
        </p:nvSpPr>
        <p:spPr>
          <a:xfrm>
            <a:off x="6286680" y="2428920"/>
            <a:ext cx="264312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меет суровый нра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Овал 9"/>
          <p:cNvSpPr/>
          <p:nvPr/>
        </p:nvSpPr>
        <p:spPr>
          <a:xfrm>
            <a:off x="5357880" y="3286080"/>
            <a:ext cx="264312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 читает кни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31" name="Прямая со стрелкой 11"/>
          <p:cNvCxnSpPr>
            <a:stCxn id="225" idx="6"/>
            <a:endCxn id="228" idx="1"/>
          </p:cNvCxnSpPr>
          <p:nvPr/>
        </p:nvCxnSpPr>
        <p:spPr>
          <a:xfrm>
            <a:off x="2999880" y="2214720"/>
            <a:ext cx="235800" cy="31968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2" name="Прямая со стрелкой 13"/>
          <p:cNvCxnSpPr>
            <a:stCxn id="226" idx="6"/>
            <a:endCxn id="227" idx="2"/>
          </p:cNvCxnSpPr>
          <p:nvPr/>
        </p:nvCxnSpPr>
        <p:spPr>
          <a:xfrm>
            <a:off x="5500800" y="1643040"/>
            <a:ext cx="429120" cy="2160"/>
          </a:xfrm>
          <a:prstGeom prst="straightConnector1">
            <a:avLst/>
          </a:prstGeom>
          <a:ln w="381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3" name="Прямая со стрелкой 15"/>
          <p:cNvCxnSpPr>
            <a:stCxn id="228" idx="6"/>
            <a:endCxn id="229" idx="2"/>
          </p:cNvCxnSpPr>
          <p:nvPr/>
        </p:nvCxnSpPr>
        <p:spPr>
          <a:xfrm>
            <a:off x="5857560" y="2786040"/>
            <a:ext cx="4294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4" name="Прямая со стрелкой 17"/>
          <p:cNvCxnSpPr>
            <a:stCxn id="230" idx="0"/>
            <a:endCxn id="229" idx="4"/>
          </p:cNvCxnSpPr>
          <p:nvPr/>
        </p:nvCxnSpPr>
        <p:spPr>
          <a:xfrm flipV="1">
            <a:off x="6680160" y="3142440"/>
            <a:ext cx="929520" cy="1436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grpSp>
        <p:nvGrpSpPr>
          <p:cNvPr id="235" name="Скругленный прямоугольник 19"/>
          <p:cNvGrpSpPr/>
          <p:nvPr/>
        </p:nvGrpSpPr>
        <p:grpSpPr>
          <a:xfrm>
            <a:off x="426960" y="3035160"/>
            <a:ext cx="1932120" cy="1219320"/>
            <a:chOff x="426960" y="3035160"/>
            <a:chExt cx="1932120" cy="1219320"/>
          </a:xfrm>
        </p:grpSpPr>
        <p:pic>
          <p:nvPicPr>
            <p:cNvPr id="236" name="Скругленный прямоугольник 19" descr=""/>
            <p:cNvPicPr/>
            <p:nvPr/>
          </p:nvPicPr>
          <p:blipFill>
            <a:blip r:embed="rId1"/>
            <a:stretch/>
          </p:blipFill>
          <p:spPr>
            <a:xfrm>
              <a:off x="426960" y="3035160"/>
              <a:ext cx="19321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52600" y="3124080"/>
              <a:ext cx="168084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Фосс не читает книг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8" name="Скругленный прямоугольник 20"/>
          <p:cNvGrpSpPr/>
          <p:nvPr/>
        </p:nvGrpSpPr>
        <p:grpSpPr>
          <a:xfrm>
            <a:off x="2498760" y="3749760"/>
            <a:ext cx="1933560" cy="1218960"/>
            <a:chOff x="2498760" y="3749760"/>
            <a:chExt cx="1933560" cy="1218960"/>
          </a:xfrm>
        </p:grpSpPr>
        <p:pic>
          <p:nvPicPr>
            <p:cNvPr id="239" name="Скругленный 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2498760" y="3749760"/>
              <a:ext cx="193356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624040" y="3838680"/>
              <a:ext cx="16812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Фосс имеет суровый нрав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1" name="Скругленный прямоугольник 21"/>
          <p:cNvGrpSpPr/>
          <p:nvPr/>
        </p:nvGrpSpPr>
        <p:grpSpPr>
          <a:xfrm>
            <a:off x="4425840" y="4535640"/>
            <a:ext cx="1981440" cy="1218960"/>
            <a:chOff x="4425840" y="4535640"/>
            <a:chExt cx="1981440" cy="1218960"/>
          </a:xfrm>
        </p:grpSpPr>
        <p:pic>
          <p:nvPicPr>
            <p:cNvPr id="242" name="Скругленный прямоугольник 21" descr=""/>
            <p:cNvPicPr/>
            <p:nvPr/>
          </p:nvPicPr>
          <p:blipFill>
            <a:blip r:embed="rId3"/>
            <a:stretch/>
          </p:blipFill>
          <p:spPr>
            <a:xfrm>
              <a:off x="4425840" y="4535640"/>
              <a:ext cx="19814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552920" y="4624560"/>
              <a:ext cx="16812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Фосс не моет пол зубною щеткой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4" name="Скругленный прямоугольник 31"/>
          <p:cNvGrpSpPr/>
          <p:nvPr/>
        </p:nvGrpSpPr>
        <p:grpSpPr>
          <a:xfrm>
            <a:off x="6357960" y="5108400"/>
            <a:ext cx="2219400" cy="1219320"/>
            <a:chOff x="6357960" y="5108400"/>
            <a:chExt cx="2219400" cy="1219320"/>
          </a:xfrm>
        </p:grpSpPr>
        <p:pic>
          <p:nvPicPr>
            <p:cNvPr id="245" name="Скругленный прямоугольник 31" descr=""/>
            <p:cNvPicPr/>
            <p:nvPr/>
          </p:nvPicPr>
          <p:blipFill>
            <a:blip r:embed="rId4"/>
            <a:stretch/>
          </p:blipFill>
          <p:spPr>
            <a:xfrm>
              <a:off x="6357960" y="5108400"/>
              <a:ext cx="2219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481800" y="5195880"/>
              <a:ext cx="196704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Фосс – боксёр!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47" name="Стрелка вправо 32"/>
          <p:cNvSpPr/>
          <p:nvPr/>
        </p:nvSpPr>
        <p:spPr>
          <a:xfrm>
            <a:off x="1000080" y="4286160"/>
            <a:ext cx="1214640" cy="3571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Стрелка вправо 33"/>
          <p:cNvSpPr/>
          <p:nvPr/>
        </p:nvSpPr>
        <p:spPr>
          <a:xfrm>
            <a:off x="2857680" y="5000760"/>
            <a:ext cx="1214280" cy="3571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Стрелка вправо 34"/>
          <p:cNvSpPr/>
          <p:nvPr/>
        </p:nvSpPr>
        <p:spPr>
          <a:xfrm>
            <a:off x="4786200" y="5786280"/>
            <a:ext cx="1214640" cy="35748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стройте семантическую сеть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2876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7840" indent="-358920" algn="just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 мельника было три сына. Мельник оставил наследство. Оно состояло из мельницы, осла и кота. Старший сын взял мельницу. Средний сын взял посла. Младшему сыну дали кот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47840" indent="-358920" algn="just">
              <a:spcBef>
                <a:spcPts val="60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47840" indent="-358920" algn="just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ария работает в дневную смену. Сергей работает в вечернюю смену. Борис работает в вечернюю смену. Валентина работает в вечернюю смену. Два служащих знают друг друга, если они работают в одну смен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2" descr="C:\Documents and Settings\Администратор\Local Settings\Temporary Internet Files\Content.IE5\T2G1BYRV\MC900436209[1].png"/>
          <p:cNvPicPr/>
          <p:nvPr/>
        </p:nvPicPr>
        <p:blipFill>
          <a:blip r:embed="rId1"/>
          <a:stretch/>
        </p:blipFill>
        <p:spPr>
          <a:xfrm>
            <a:off x="7500960" y="4714920"/>
            <a:ext cx="1295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истемы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0004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388800" indent="-388800">
              <a:lnSpc>
                <a:spcPct val="80000"/>
              </a:lnSpc>
              <a:spcBef>
                <a:spcPts val="524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Будем считать, что система "Урок" состоит из следующих элементов: ученик, учитель, учебник, тетрадь, классный журнал, классная доска, мел, парта, учительский стол, классная комната. Построить семантическую сеть, в которой вершинами будут перечисленные объекты, а дугами - отношения между ними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388800" indent="-388800">
              <a:lnSpc>
                <a:spcPct val="80000"/>
              </a:lnSpc>
              <a:spcBef>
                <a:spcPts val="524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Будем считать, что система "Хлебный магазин" состоит из следующих элементов: хлеб, продавец, покупатель, прилавок, автомобиль, шофер, грузчик, деньги, чек. Построить семантическую сеть, в которой вершинами будут перечисленные объекты, а дугами - отношения между ними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388800" indent="-388800">
              <a:lnSpc>
                <a:spcPct val="80000"/>
              </a:lnSpc>
              <a:spcBef>
                <a:spcPts val="524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Представьте в виде семантической сети схему питания для системы, состоящей из следующих организмов: трава, кролики, волки, травоядные насекомые, воробьи, ястребы, жуки-навозники. 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Выгнутая влево стрелка 3"/>
          <p:cNvSpPr/>
          <p:nvPr/>
        </p:nvSpPr>
        <p:spPr>
          <a:xfrm>
            <a:off x="4143240" y="5357880"/>
            <a:ext cx="571680" cy="928800"/>
          </a:xfrm>
          <a:custGeom>
            <a:avLst/>
            <a:gdLst>
              <a:gd name="textAreaLeft" fmla="*/ 76320 w 571680"/>
              <a:gd name="textAreaRight" fmla="*/ 495360 w 571680"/>
              <a:gd name="textAreaTop" fmla="*/ 178560 h 928800"/>
              <a:gd name="textAreaBottom" fmla="*/ 67896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632"/>
                </a:lnTo>
                <a:arcTo wR="21600" hR="8308" stAng="10800000" swAng="-3367515"/>
                <a:lnTo>
                  <a:pt x="16200" y="21336"/>
                </a:lnTo>
                <a:lnTo>
                  <a:pt x="21600" y="18277"/>
                </a:lnTo>
                <a:lnTo>
                  <a:pt x="16200" y="14690"/>
                </a:lnTo>
                <a:lnTo>
                  <a:pt x="16200" y="16351"/>
                </a:lnTo>
                <a:arcTo wR="21600" hR="8308" stAng="7432485" swAng="3098094"/>
                <a:lnTo>
                  <a:pt x="437" y="9969"/>
                </a:lnTo>
                <a:arcTo wR="21600" hR="8308" stAng="-10530580" swAng="5130580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69420"/>
                <a:lnTo>
                  <a:pt x="437" y="9969"/>
                </a:lnTo>
                <a:arcTo wR="21600" hR="8308" stAng="-10530580" swAng="513058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Выгнутая влево стрелка 4"/>
          <p:cNvSpPr/>
          <p:nvPr/>
        </p:nvSpPr>
        <p:spPr>
          <a:xfrm rot="10800000">
            <a:off x="4929120" y="5286240"/>
            <a:ext cx="571680" cy="928800"/>
          </a:xfrm>
          <a:custGeom>
            <a:avLst/>
            <a:gdLst>
              <a:gd name="textAreaLeft" fmla="*/ 76320 w 571680"/>
              <a:gd name="textAreaRight" fmla="*/ 495360 w 571680"/>
              <a:gd name="textAreaTop" fmla="*/ 178560 h 928800"/>
              <a:gd name="textAreaBottom" fmla="*/ 67896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632"/>
                </a:lnTo>
                <a:arcTo wR="21600" hR="8308" stAng="10800000" swAng="-3367515"/>
                <a:lnTo>
                  <a:pt x="16200" y="21336"/>
                </a:lnTo>
                <a:lnTo>
                  <a:pt x="21600" y="18277"/>
                </a:lnTo>
                <a:lnTo>
                  <a:pt x="16200" y="14690"/>
                </a:lnTo>
                <a:lnTo>
                  <a:pt x="16200" y="16351"/>
                </a:lnTo>
                <a:arcTo wR="21600" hR="8308" stAng="7432485" swAng="3098094"/>
                <a:lnTo>
                  <a:pt x="437" y="9969"/>
                </a:lnTo>
                <a:arcTo wR="21600" hR="8308" stAng="-10530580" swAng="5130580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69420"/>
                <a:lnTo>
                  <a:pt x="437" y="9969"/>
                </a:lnTo>
                <a:arcTo wR="21600" hR="8308" stAng="-10530580" swAng="513058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Широкоплеч ли мистер Фосс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28760" y="1357200"/>
            <a:ext cx="65865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Широкоплечие мужчин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ют, садясь за руль маши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ужчины с узкими плечами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адясь за руль, молчат, как камен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, кто за руль садятся с пеньем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 отличаются терпень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, кто в машине молчаливы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ывают очень терпелив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рпенье тем дано с избытком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то чинит домики улитка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об домик починить улитке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лей варят на электроплитк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сс не выносит запах клея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н сразу падает, бледне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шу ответить на вопрос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Широкоплеч ли мистер Фосс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Picture 2" descr="C:\Documents and Settings\Администратор\Local Settings\Temporary Internet Files\Content.IE5\88VK701Z\MC900290884[1].wmf"/>
          <p:cNvPicPr/>
          <p:nvPr/>
        </p:nvPicPr>
        <p:blipFill>
          <a:blip r:embed="rId1"/>
          <a:stretch/>
        </p:blipFill>
        <p:spPr>
          <a:xfrm>
            <a:off x="6286680" y="3786120"/>
            <a:ext cx="228744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акого цвета хвост Барбоса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баки с рыжими хвоста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ебе овсянку варят с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м, чьи хвосты стального цвета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позволяют делать эт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то варит сам себе овсянку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улять выходит спозаранк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, кто гулять выходят рано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терпят фальши и обман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ид добродушный у Барбос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 на сорок он смотрит кос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н видит: норовят соро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воробьев списать уроки!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ажите — проще нет вопроса! —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го цвета хвост Барбос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Picture 2" descr="C:\Documents and Settings\Администратор\Local Settings\Temporary Internet Files\Content.IE5\88VK701Z\MM900205361[1].gif"/>
          <p:cNvPicPr/>
          <p:nvPr/>
        </p:nvPicPr>
        <p:blipFill>
          <a:blip r:embed="rId1"/>
          <a:stretch/>
        </p:blipFill>
        <p:spPr>
          <a:xfrm>
            <a:off x="500040" y="5072040"/>
            <a:ext cx="1492200" cy="1352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C:\Documents and Settings\Администратор\Local Settings\Temporary Internet Files\Content.IE5\74V6G0AC\MC900330513[1].wmf"/>
          <p:cNvPicPr/>
          <p:nvPr/>
        </p:nvPicPr>
        <p:blipFill>
          <a:blip r:embed="rId2"/>
          <a:stretch/>
        </p:blipFill>
        <p:spPr>
          <a:xfrm>
            <a:off x="6572160" y="3857760"/>
            <a:ext cx="229392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20:21:06Z</dcterms:created>
  <dc:creator>Любовь</dc:creator>
  <dc:description/>
  <dc:language>en-US</dc:language>
  <cp:lastModifiedBy>Любовь</cp:lastModifiedBy>
  <dcterms:modified xsi:type="dcterms:W3CDTF">2011-11-16T15:23:04Z</dcterms:modified>
  <cp:revision>7</cp:revision>
  <dc:subject/>
  <dc:title>Семантическая модель</dc:title>
</cp:coreProperties>
</file>