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8CB-0221-4287-BF3D-1D843189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8BA-93F9-4FA9-BA1D-63CF8E1C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5F2-2538-4453-B58A-061529F5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656-9124-4436-9A74-1750BA13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8104-947E-475D-A0EA-31700E21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6232-EDBF-4BE1-ACE9-945FDC0B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D7D4-802A-4CBD-B989-835576A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065F-4F94-406E-A572-B19B11CF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2D28-C39F-4DBA-9308-625E468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B717-E2C5-469D-8350-14D406E6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3E3E-A249-4E1B-98D8-DF3270C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1FC-B474-4ED7-9955-110A82F3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43BF-2464-4A7E-AB31-83D8952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84C7-2D42-4B5C-8EFB-E828884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EC75-F4AE-4774-AB56-36D9C130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F2A0-24FB-4970-99E5-551685AF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511-F8A9-4819-B1F2-3A7E8D4E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6268-51EC-4FEF-8D4D-39DA1268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0366-B4E3-48B4-86CD-E8E8254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EED1-7B10-4ECE-B313-3095BBE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37C7-B8A8-4A8C-AC24-2062C3D1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96DD-7F51-4A57-8828-1639F2F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1F6-0DE0-4E17-8B30-F7522B00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E889-FDC7-4C60-833A-BB09A366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5C07-8B74-4F60-93C3-6EA7B35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F5B7-3CC7-4A34-AF1D-E9CC824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2507-8AE4-4B21-92CC-2D04FC51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090D-CA15-41B8-B348-B8870A40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7A55-30D8-49D5-90AB-E4BA3C9A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4AD9-8453-41F3-8260-35C6C0CB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ED06-7F81-4540-92F5-6FF09879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0195F-FA60-4396-A787-AD819E6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786F-632C-4327-9D7C-E8BEF20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D98-7C70-49AF-AD7E-A657B58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DFB8-F09F-49A7-8000-C3BE6C60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6849-1381-4D0C-A572-F7350330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699A-6190-431C-A7CC-E11C7076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2B39-B031-4125-88EA-5E7BF47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7BA2B-D59C-49C6-B5A9-13934D3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19F9-3976-4FD3-B4B0-B73AFCF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76E9-C828-4AE7-AE9F-D86F254E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367C-E35D-4902-976E-24EA3D3F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1B08-44C8-44A8-B4EC-510F4BF9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FAF-8486-45D7-95B0-035F1238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9E3-7D81-4050-9422-F30ECF8E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E85-D330-47F4-ACA5-E05F3C87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770-8960-4C68-B6BF-0C72F55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D77-7668-4CB4-A731-8589CFE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F5A-4E08-4565-8346-7CDB07DD11F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856E-1D35-40E1-B1A1-CC0A16FCB03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CF86-3FE9-49D7-AEF7-F68F520B7AB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F0FE-6845-4789-BF19-DFFDC881694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7520" y="1365120"/>
            <a:ext cx="894888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 – Широкова Л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 информат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У лицей № 4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ород Костро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21427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емантическая мод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это модель знаний в форме графа, в основе которой лежит идея о том, что любые знания можно представить в виде совокупности объектов (понятий) и связей (отношений) между ним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G:\2011_конкурс_дидактические_материалы\рисунки\101293.gif"/>
          <p:cNvPicPr/>
          <p:nvPr/>
        </p:nvPicPr>
        <p:blipFill>
          <a:blip r:embed="rId1"/>
          <a:stretch/>
        </p:blipFill>
        <p:spPr>
          <a:xfrm>
            <a:off x="3786120" y="4214880"/>
            <a:ext cx="4019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имер: представим в виде графа связи в предложении «Однажды в студеную зимнюю пору я из лесу вышел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Овал 4"/>
          <p:cNvSpPr/>
          <p:nvPr/>
        </p:nvSpPr>
        <p:spPr>
          <a:xfrm>
            <a:off x="1500120" y="58579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зимню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5143680" y="56437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пор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Овал 6"/>
          <p:cNvSpPr/>
          <p:nvPr/>
        </p:nvSpPr>
        <p:spPr>
          <a:xfrm>
            <a:off x="500040" y="45007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студену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Овал 7"/>
          <p:cNvSpPr/>
          <p:nvPr/>
        </p:nvSpPr>
        <p:spPr>
          <a:xfrm>
            <a:off x="6000840" y="4429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днажд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Овал 8"/>
          <p:cNvSpPr/>
          <p:nvPr/>
        </p:nvSpPr>
        <p:spPr>
          <a:xfrm>
            <a:off x="3500280" y="2428920"/>
            <a:ext cx="26434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ше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Овал 9"/>
          <p:cNvSpPr/>
          <p:nvPr/>
        </p:nvSpPr>
        <p:spPr>
          <a:xfrm>
            <a:off x="1428840" y="3286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Овал 10"/>
          <p:cNvSpPr/>
          <p:nvPr/>
        </p:nvSpPr>
        <p:spPr>
          <a:xfrm>
            <a:off x="6143760" y="314316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з лес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Прямая со стрелкой 12"/>
          <p:cNvCxnSpPr>
            <a:stCxn id="205" idx="6"/>
            <a:endCxn id="207" idx="0"/>
          </p:cNvCxnSpPr>
          <p:nvPr/>
        </p:nvCxnSpPr>
        <p:spPr>
          <a:xfrm>
            <a:off x="6143400" y="2786040"/>
            <a:ext cx="1323000" cy="3578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16"/>
          <p:cNvCxnSpPr>
            <a:stCxn id="205" idx="5"/>
            <a:endCxn id="204" idx="1"/>
          </p:cNvCxnSpPr>
          <p:nvPr/>
        </p:nvCxnSpPr>
        <p:spPr>
          <a:xfrm>
            <a:off x="5755320" y="3038400"/>
            <a:ext cx="632520" cy="1496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" name="Прямая со стрелкой 24"/>
          <p:cNvCxnSpPr>
            <a:stCxn id="206" idx="0"/>
            <a:endCxn id="205" idx="2"/>
          </p:cNvCxnSpPr>
          <p:nvPr/>
        </p:nvCxnSpPr>
        <p:spPr>
          <a:xfrm flipV="1">
            <a:off x="2748600" y="2785320"/>
            <a:ext cx="75132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1" name="Прямая со стрелкой 33"/>
          <p:cNvCxnSpPr>
            <a:stCxn id="205" idx="4"/>
            <a:endCxn id="202" idx="1"/>
          </p:cNvCxnSpPr>
          <p:nvPr/>
        </p:nvCxnSpPr>
        <p:spPr>
          <a:xfrm>
            <a:off x="4822920" y="3142800"/>
            <a:ext cx="708480" cy="26060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2" name="Прямая со стрелкой 38"/>
          <p:cNvCxnSpPr>
            <a:stCxn id="202" idx="2"/>
            <a:endCxn id="201" idx="6"/>
          </p:cNvCxnSpPr>
          <p:nvPr/>
        </p:nvCxnSpPr>
        <p:spPr>
          <a:xfrm flipH="1">
            <a:off x="4142520" y="5999760"/>
            <a:ext cx="1001160" cy="2149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45"/>
          <p:cNvCxnSpPr>
            <a:endCxn id="203" idx="6"/>
          </p:cNvCxnSpPr>
          <p:nvPr/>
        </p:nvCxnSpPr>
        <p:spPr>
          <a:xfrm flipH="1" flipV="1">
            <a:off x="3142440" y="4857480"/>
            <a:ext cx="2143800" cy="10008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4" name="TextBox 46"/>
          <p:cNvSpPr/>
          <p:nvPr/>
        </p:nvSpPr>
        <p:spPr>
          <a:xfrm>
            <a:off x="6715080" y="2643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ку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47"/>
          <p:cNvSpPr/>
          <p:nvPr/>
        </p:nvSpPr>
        <p:spPr>
          <a:xfrm>
            <a:off x="178596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сделал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48"/>
          <p:cNvSpPr/>
          <p:nvPr/>
        </p:nvSpPr>
        <p:spPr>
          <a:xfrm>
            <a:off x="3071880" y="3000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49"/>
          <p:cNvSpPr/>
          <p:nvPr/>
        </p:nvSpPr>
        <p:spPr>
          <a:xfrm>
            <a:off x="628668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50"/>
          <p:cNvSpPr/>
          <p:nvPr/>
        </p:nvSpPr>
        <p:spPr>
          <a:xfrm>
            <a:off x="5429160" y="51436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1"/>
          <p:cNvSpPr/>
          <p:nvPr/>
        </p:nvSpPr>
        <p:spPr>
          <a:xfrm>
            <a:off x="4143240" y="5072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ую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2"/>
          <p:cNvSpPr/>
          <p:nvPr/>
        </p:nvSpPr>
        <p:spPr>
          <a:xfrm>
            <a:off x="3643200" y="5643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ую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АНАЛИЗ ЗАПУТАННЫХ СИТУ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71360" y="1857240"/>
            <a:ext cx="62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1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Боксеры с твердою походкой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моют пол зубною щеткой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моет пол зубною щеткой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от наделен душою кроткой.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пол мыть щеткой не желает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ровым нравом обладает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ровый нрав у тех бывает,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книжек вовсе не читает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Фосс враг и книжек и газет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тветь, боксер он или нет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11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3" descr="C:\Documents and Settings\Администратор\Local Settings\Temporary Internet Files\Content.IE5\74V6G0AC\MC900324494[1].wmf"/>
          <p:cNvPicPr/>
          <p:nvPr/>
        </p:nvPicPr>
        <p:blipFill>
          <a:blip r:embed="rId1"/>
          <a:stretch/>
        </p:blipFill>
        <p:spPr>
          <a:xfrm>
            <a:off x="7000920" y="4643280"/>
            <a:ext cx="173520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Фосс – боксер или н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Овал 4"/>
          <p:cNvSpPr/>
          <p:nvPr/>
        </p:nvSpPr>
        <p:spPr>
          <a:xfrm>
            <a:off x="357120" y="185724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оксё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Овал 5"/>
          <p:cNvSpPr/>
          <p:nvPr/>
        </p:nvSpPr>
        <p:spPr>
          <a:xfrm>
            <a:off x="2428920" y="1285920"/>
            <a:ext cx="30718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ет пол зубною щет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Овал 6"/>
          <p:cNvSpPr/>
          <p:nvPr/>
        </p:nvSpPr>
        <p:spPr>
          <a:xfrm>
            <a:off x="5929200" y="1285920"/>
            <a:ext cx="292896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ет  кроткую  душ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Овал 7"/>
          <p:cNvSpPr/>
          <p:nvPr/>
        </p:nvSpPr>
        <p:spPr>
          <a:xfrm>
            <a:off x="2786040" y="2428920"/>
            <a:ext cx="30718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моет пол зубною щёт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Овал 8"/>
          <p:cNvSpPr/>
          <p:nvPr/>
        </p:nvSpPr>
        <p:spPr>
          <a:xfrm>
            <a:off x="6286680" y="24289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ет суровый нра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Овал 9"/>
          <p:cNvSpPr/>
          <p:nvPr/>
        </p:nvSpPr>
        <p:spPr>
          <a:xfrm>
            <a:off x="5357880" y="3286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читает кни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1" name="Прямая со стрелкой 11"/>
          <p:cNvCxnSpPr>
            <a:stCxn id="225" idx="6"/>
            <a:endCxn id="228" idx="1"/>
          </p:cNvCxnSpPr>
          <p:nvPr/>
        </p:nvCxnSpPr>
        <p:spPr>
          <a:xfrm>
            <a:off x="2999880" y="2214720"/>
            <a:ext cx="235800" cy="3196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Прямая со стрелкой 13"/>
          <p:cNvCxnSpPr>
            <a:stCxn id="226" idx="6"/>
            <a:endCxn id="227" idx="2"/>
          </p:cNvCxnSpPr>
          <p:nvPr/>
        </p:nvCxnSpPr>
        <p:spPr>
          <a:xfrm>
            <a:off x="5500800" y="1643040"/>
            <a:ext cx="429120" cy="21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3" name="Прямая со стрелкой 15"/>
          <p:cNvCxnSpPr>
            <a:stCxn id="228" idx="6"/>
            <a:endCxn id="229" idx="2"/>
          </p:cNvCxnSpPr>
          <p:nvPr/>
        </p:nvCxnSpPr>
        <p:spPr>
          <a:xfrm>
            <a:off x="5857560" y="2786040"/>
            <a:ext cx="4294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4" name="Прямая со стрелкой 17"/>
          <p:cNvCxnSpPr>
            <a:stCxn id="230" idx="0"/>
            <a:endCxn id="229" idx="4"/>
          </p:cNvCxnSpPr>
          <p:nvPr/>
        </p:nvCxnSpPr>
        <p:spPr>
          <a:xfrm flipV="1">
            <a:off x="6680160" y="3142440"/>
            <a:ext cx="929520" cy="143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235" name="Скругленный прямоугольник 19"/>
          <p:cNvGrpSpPr/>
          <p:nvPr/>
        </p:nvGrpSpPr>
        <p:grpSpPr>
          <a:xfrm>
            <a:off x="426960" y="3035160"/>
            <a:ext cx="1932120" cy="1219320"/>
            <a:chOff x="426960" y="3035160"/>
            <a:chExt cx="1932120" cy="1219320"/>
          </a:xfrm>
        </p:grpSpPr>
        <p:pic>
          <p:nvPicPr>
            <p:cNvPr id="236" name="Скругленный прямоугольник 19" descr=""/>
            <p:cNvPicPr/>
            <p:nvPr/>
          </p:nvPicPr>
          <p:blipFill>
            <a:blip r:embed="rId1"/>
            <a:stretch/>
          </p:blipFill>
          <p:spPr>
            <a:xfrm>
              <a:off x="426960" y="3035160"/>
              <a:ext cx="19321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52600" y="3124080"/>
              <a:ext cx="16808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не читает книг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8" name="Скругленный прямоугольник 20"/>
          <p:cNvGrpSpPr/>
          <p:nvPr/>
        </p:nvGrpSpPr>
        <p:grpSpPr>
          <a:xfrm>
            <a:off x="2498760" y="3749760"/>
            <a:ext cx="1933560" cy="1218960"/>
            <a:chOff x="2498760" y="3749760"/>
            <a:chExt cx="1933560" cy="1218960"/>
          </a:xfrm>
        </p:grpSpPr>
        <p:pic>
          <p:nvPicPr>
            <p:cNvPr id="239" name="Скругленный 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98760" y="3749760"/>
              <a:ext cx="19335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624040" y="3838680"/>
              <a:ext cx="1681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имеет суровый нрав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1" name="Скругленный прямоугольник 21"/>
          <p:cNvGrpSpPr/>
          <p:nvPr/>
        </p:nvGrpSpPr>
        <p:grpSpPr>
          <a:xfrm>
            <a:off x="4425840" y="4535640"/>
            <a:ext cx="1981440" cy="1218960"/>
            <a:chOff x="4425840" y="4535640"/>
            <a:chExt cx="1981440" cy="1218960"/>
          </a:xfrm>
        </p:grpSpPr>
        <p:pic>
          <p:nvPicPr>
            <p:cNvPr id="242" name="Скругленный 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4425840" y="4535640"/>
              <a:ext cx="1981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552920" y="4624560"/>
              <a:ext cx="1681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не моет пол зубною щеткой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4" name="Скругленный прямоугольник 31"/>
          <p:cNvGrpSpPr/>
          <p:nvPr/>
        </p:nvGrpSpPr>
        <p:grpSpPr>
          <a:xfrm>
            <a:off x="6357960" y="5108400"/>
            <a:ext cx="2219400" cy="1219320"/>
            <a:chOff x="6357960" y="5108400"/>
            <a:chExt cx="2219400" cy="1219320"/>
          </a:xfrm>
        </p:grpSpPr>
        <p:pic>
          <p:nvPicPr>
            <p:cNvPr id="245" name="Скругленный прямоугольник 31" descr=""/>
            <p:cNvPicPr/>
            <p:nvPr/>
          </p:nvPicPr>
          <p:blipFill>
            <a:blip r:embed="rId4"/>
            <a:stretch/>
          </p:blipFill>
          <p:spPr>
            <a:xfrm>
              <a:off x="6357960" y="5108400"/>
              <a:ext cx="2219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481800" y="5195880"/>
              <a:ext cx="19670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– боксёр!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7" name="Стрелка вправо 32"/>
          <p:cNvSpPr/>
          <p:nvPr/>
        </p:nvSpPr>
        <p:spPr>
          <a:xfrm>
            <a:off x="1000080" y="4286160"/>
            <a:ext cx="121464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Стрелка вправо 33"/>
          <p:cNvSpPr/>
          <p:nvPr/>
        </p:nvSpPr>
        <p:spPr>
          <a:xfrm>
            <a:off x="2857680" y="5000760"/>
            <a:ext cx="1214280" cy="3571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Стрелка вправо 34"/>
          <p:cNvSpPr/>
          <p:nvPr/>
        </p:nvSpPr>
        <p:spPr>
          <a:xfrm>
            <a:off x="4786200" y="5786280"/>
            <a:ext cx="1214640" cy="3574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тройте семантическую сеть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7840" indent="-358920" algn="just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мельника было три сына. Мельник оставил наследство. Оно состояло из мельницы, осла и кота. Старший сын взял мельницу. Средний сын взял посла. Младшему сыну дали ко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47840" indent="-358920" algn="just">
              <a:spcBef>
                <a:spcPts val="6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47840" indent="-358920" algn="just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рия работает в дневную смену. Сергей работает в вечернюю смену. Борис работает в вечернюю смену. Валентина работает в вечернюю смену. Два служащих знают друг друга, если они работают в одну смен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C:\Documents and Settings\Администратор\Local Settings\Temporary Internet Files\Content.IE5\T2G1BYRV\MC900436209[1].png"/>
          <p:cNvPicPr/>
          <p:nvPr/>
        </p:nvPicPr>
        <p:blipFill>
          <a:blip r:embed="rId1"/>
          <a:stretch/>
        </p:blipFill>
        <p:spPr>
          <a:xfrm>
            <a:off x="7500960" y="471492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стемы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удем считать, что система "Урок" состоит из следующих элементов: ученик, учитель, учебник, тетрадь, классный журнал, классная доска, мел, парта, учительский стол, классная комната. Построить семантическую сеть, в которой вершинами будут перечисленные объекты, а дугами - отношения между ними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удем считать, что система "Хлебный магазин" состоит из следующих элементов: хлеб, продавец, покупатель, прилавок, автомобиль, шофер, грузчик, деньги, чек. Построить семантическую сеть, в которой вершинами будут перечисленные объекты, а дугами - отношения между ними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едставьте в виде семантической сети схему питания для системы, состоящей из следующих организмов: трава, кролики, волки, травоядные насекомые, воробьи, ястребы, жуки-навозники. 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Выгнутая влево стрелка 3"/>
          <p:cNvSpPr/>
          <p:nvPr/>
        </p:nvSpPr>
        <p:spPr>
          <a:xfrm>
            <a:off x="4143240" y="5357880"/>
            <a:ext cx="571680" cy="928800"/>
          </a:xfrm>
          <a:custGeom>
            <a:avLst/>
            <a:gdLst>
              <a:gd name="textAreaLeft" fmla="*/ 76320 w 571680"/>
              <a:gd name="textAreaRight" fmla="*/ 495360 w 571680"/>
              <a:gd name="textAreaTop" fmla="*/ 178560 h 928800"/>
              <a:gd name="textAreaBottom" fmla="*/ 6789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632"/>
                </a:lnTo>
                <a:arcTo wR="21600" hR="8308" stAng="10800000" swAng="-3367515"/>
                <a:lnTo>
                  <a:pt x="16200" y="21336"/>
                </a:lnTo>
                <a:lnTo>
                  <a:pt x="21600" y="18277"/>
                </a:lnTo>
                <a:lnTo>
                  <a:pt x="16200" y="14690"/>
                </a:lnTo>
                <a:lnTo>
                  <a:pt x="16200" y="16351"/>
                </a:lnTo>
                <a:arcTo wR="21600" hR="8308" stAng="7432485" swAng="3098094"/>
                <a:lnTo>
                  <a:pt x="437" y="9969"/>
                </a:lnTo>
                <a:arcTo wR="21600" hR="8308" stAng="-10530580" swAng="5130580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69420"/>
                <a:lnTo>
                  <a:pt x="437" y="9969"/>
                </a:lnTo>
                <a:arcTo wR="21600" hR="8308" stAng="-10530580" swAng="513058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Выгнутая влево стрелка 4"/>
          <p:cNvSpPr/>
          <p:nvPr/>
        </p:nvSpPr>
        <p:spPr>
          <a:xfrm rot="10800000">
            <a:off x="4929120" y="5286240"/>
            <a:ext cx="571680" cy="928800"/>
          </a:xfrm>
          <a:custGeom>
            <a:avLst/>
            <a:gdLst>
              <a:gd name="textAreaLeft" fmla="*/ 76320 w 571680"/>
              <a:gd name="textAreaRight" fmla="*/ 495360 w 571680"/>
              <a:gd name="textAreaTop" fmla="*/ 178560 h 928800"/>
              <a:gd name="textAreaBottom" fmla="*/ 6789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632"/>
                </a:lnTo>
                <a:arcTo wR="21600" hR="8308" stAng="10800000" swAng="-3367515"/>
                <a:lnTo>
                  <a:pt x="16200" y="21336"/>
                </a:lnTo>
                <a:lnTo>
                  <a:pt x="21600" y="18277"/>
                </a:lnTo>
                <a:lnTo>
                  <a:pt x="16200" y="14690"/>
                </a:lnTo>
                <a:lnTo>
                  <a:pt x="16200" y="16351"/>
                </a:lnTo>
                <a:arcTo wR="21600" hR="8308" stAng="7432485" swAng="3098094"/>
                <a:lnTo>
                  <a:pt x="437" y="9969"/>
                </a:lnTo>
                <a:arcTo wR="21600" hR="8308" stAng="-10530580" swAng="5130580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69420"/>
                <a:lnTo>
                  <a:pt x="437" y="9969"/>
                </a:lnTo>
                <a:arcTo wR="21600" hR="8308" stAng="-10530580" swAng="513058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Широкоплеч ли мистер Фосс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760" y="1357200"/>
            <a:ext cx="6586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ирокоплечие мужчи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ют, садясь за руль маш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ужчины с узкими плечам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дясь за руль, молчат, как камен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, кто за руль садятся с пенье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отличаются терпень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, кто в машине молчаливы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вают очень терпелив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рпенье тем дано с избытко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то чинит домики улитк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б домик починить улитк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лей варят на электроплит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сс не выносит запах кле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н сразу падает, бледн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шу ответить на вопрос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ирокоплеч ли мистер Фосс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2" descr="C:\Documents and Settings\Администратор\Local Settings\Temporary Internet Files\Content.IE5\88VK701Z\MC900290884[1].wmf"/>
          <p:cNvPicPr/>
          <p:nvPr/>
        </p:nvPicPr>
        <p:blipFill>
          <a:blip r:embed="rId1"/>
          <a:stretch/>
        </p:blipFill>
        <p:spPr>
          <a:xfrm>
            <a:off x="6286680" y="3786120"/>
            <a:ext cx="2287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ого цвета хвост Барбос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аки с рыжими хвост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бе овсянку варят с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м, чьи хвосты стального цвет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зволяют делать эт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 варит сам себе овсянк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улять выходит спозаранк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, кто гулять выходят рано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ерпят фальши и обма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 добродушный у Барбо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на сорок он смотрит кос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 видит: норовят соро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воробьев списать уроки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жите — проще нет вопроса! 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го цвета хвост Барбос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C:\Documents and Settings\Администратор\Local Settings\Temporary Internet Files\Content.IE5\88VK701Z\MM900205361[1].gif"/>
          <p:cNvPicPr/>
          <p:nvPr/>
        </p:nvPicPr>
        <p:blipFill>
          <a:blip r:embed="rId1"/>
          <a:stretch/>
        </p:blipFill>
        <p:spPr>
          <a:xfrm>
            <a:off x="500040" y="5072040"/>
            <a:ext cx="1492200" cy="1352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C:\Documents and Settings\Администратор\Local Settings\Temporary Internet Files\Content.IE5\74V6G0AC\MC900330513[1].wmf"/>
          <p:cNvPicPr/>
          <p:nvPr/>
        </p:nvPicPr>
        <p:blipFill>
          <a:blip r:embed="rId2"/>
          <a:stretch/>
        </p:blipFill>
        <p:spPr>
          <a:xfrm>
            <a:off x="6572160" y="3857760"/>
            <a:ext cx="229392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20:21:06Z</dcterms:created>
  <dc:creator>Любовь</dc:creator>
  <dc:description/>
  <dc:language>en-US</dc:language>
  <cp:lastModifiedBy>Любовь</cp:lastModifiedBy>
  <dcterms:modified xsi:type="dcterms:W3CDTF">2011-11-16T15:23:04Z</dcterms:modified>
  <cp:revision>7</cp:revision>
  <dc:subject/>
  <dc:title>Семантическая модель</dc:title>
</cp:coreProperties>
</file>