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FBF-6197-4237-836A-AE36C376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BED-D22A-4744-9D6B-4390C005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966-0929-4E18-AD20-EDDAD642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4B9-09EB-4A70-B92F-432C061D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01CA-DB96-4E6C-8C20-09FC7A54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24A2-6534-49D7-9487-66C2F6EA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3BB7-FA87-4BFD-96E4-2458979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AFB1-19C2-4035-B2B0-BB0AA487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23FD-7533-47A3-8988-395FE30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7645-FEFA-43BF-A4FA-FA92E142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6F20-E3A2-45E9-9026-DB55ED2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050-904F-4FBF-822C-776197FC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A224-A996-42CF-AE38-FB1A3981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CB63-1880-4965-BBB2-03CE2137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508-F526-417F-9DC6-C11DC61A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71EE-7DE2-49FA-8440-B3AE8144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7498-BDA7-4776-A730-57A480E3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CDC-D742-4DC3-A2E6-2187D6B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34E-5F15-4E22-84D5-10A3396C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F4C-0DEF-47D3-BA9D-E129A74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056-D81F-40AC-93BB-9EF9AC3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B2F-E58F-4013-A2D1-28E392EA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4FD-F7A0-4F74-9B17-E28A174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C88-A34E-42FA-A17E-3FEF745F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067F-43B7-4775-95C7-9CB4AC3828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F8F9-47C8-470B-A048-6A1D55F66E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Тема урока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евод чисел в позиционных системах счис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целого двоичного числа в 16-ричное необходимо разбить его на группы по 4 цифры (тетрады) начиная справа и если в последней будет меньше 4-х цифр, то дополнить их нул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из 8-ричн.  в двоичную необходимо преобразовать каждую цифру 8-ричн. числа в двоичную триад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=  100 (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и 111 (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= 10011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еревода из 16-ричн.  в двоичную необходимо преобразовать каждую цифру 16-ричн. числа в двоичную тетра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пример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= 1010 (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и 1011 (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= 1010101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Перевести в восьмеричную и шестнадцатеричную системы счисления следующие целые числа: 11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1010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перевести в восьмеричную и шестнадцатеричную системы счисления следующие числа: 0,011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0, 101010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еревести в восьмеричную и шестнадцатеричную системы счисления следующие числа: 11,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110,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Перевести в двоичную систему счисления следующие цифры: 46,2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1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Сравнить числа, выраженные в различных системах счисл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10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1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35,6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16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В ДЕСЯТИЧНУЮ СИСТЕМУ СЧИСЛЕ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аблица перевода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042920" y="2062080"/>
            <a:ext cx="76327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в десятичную систему счис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двоичной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восьмеричной системы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од чисел из шестнадцатеричной системы в десятичну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544680" y="2637000"/>
                <a:ext cx="8053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6"/>
              <p:cNvSpPr txBox="1"/>
              <p:nvPr/>
            </p:nvSpPr>
            <p:spPr>
              <a:xfrm>
                <a:off x="847800" y="4221000"/>
                <a:ext cx="7448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5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∗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8"/>
              <p:cNvSpPr txBox="1"/>
              <p:nvPr/>
            </p:nvSpPr>
            <p:spPr>
              <a:xfrm>
                <a:off x="1403280" y="5734080"/>
                <a:ext cx="7129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41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ИЗ ДЕСЯТИЧНОЙ В ДВОИЧНУЮ, ВОСЬМЕРИЧНУЮ И ШЕСТНАДЦАТЕРИЧНУЮ СИСТЕМЫ СЧИСЛЕНИ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392640" cy="43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Последовательно выполнять де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сходног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ого десятичного чис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получаем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ых част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ание системы перевод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2, 8 или 16) до тех пор, пока не получи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ое, меньше делите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Записать полученные остатки 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ратной последова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316080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000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правильной десятичной дроби в двоичную осуществляется по другим правил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дробных чисел правило последовательного деления заменяется правилом последовательного умно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довательно выполнять умножение исходной десятичной дроби и получаемых дробных частей произведений на основание системы (на 2) до тех пор, пока не получится нулевая дробная часть или не будет достигнута требуемая точность вычисл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исать полученные целые части произведения в прямой последовательно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мер перевода десятичной дроби 0, 75 в двоичную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7640" cy="223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522900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2700360" y="5229360"/>
                <a:ext cx="23763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ее удобный способ записи алгоритма последовательного умнож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десятичной системе счисления правильная дробь переводится в десятичную дробь только в том случае, если её знаменатель в качестве множителей имеет только степени двоек и пятерок, т.е. дробь имеет ви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518472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916360" y="2781360"/>
                <a:ext cx="223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5867280" y="4941720"/>
                <a:ext cx="1198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3. </a:t>
            </a:r>
            <a:r>
              <a:rPr b="1" lang="ru-RU" sz="2400" spc="-1" strike="noStrike" u="sng">
                <a:solidFill>
                  <a:srgbClr val="006633"/>
                </a:solidFill>
                <a:uFillTx/>
                <a:latin typeface="Garamond"/>
              </a:rPr>
              <a:t>ПЕРЕВОД ЧИСЕЛ ИЗ ДВОИЧНОЙ СИСТЕМЫ СЧИСЛЕНИЯ В ВОСЬМЕРИЧНУЮ И ШЕСТНАДЦАТЕРИЧНУЮ И ОБРАТНО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мер перевода числа 1010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восьмерич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перевод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робног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двоичного числа в восьмеричное необходимо разбить число н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иады слева направ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и, если в последней триаде окажется меньш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ех цифр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дополнить их справ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уля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 Далее необходим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триад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менить на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осьмеричные цифр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395280" y="2781360"/>
                <a:ext cx="8424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101001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groupChr>
                      </m:e>
                      <m:lim>
                        <m:r>
                          <m:t xml:space="preserve">5</m:t>
                        </m:r>
                      </m:lim>
                    </m:limLow>
                    <m:r>
                      <m:t xml:space="preserve">→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groupChr>
                      </m:e>
                      <m:lim>
                        <m:r>
                          <m:t xml:space="preserve">1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и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0:32:39Z</dcterms:created>
  <dc:creator>Анна</dc:creator>
  <dc:description/>
  <dc:language>en-US</dc:language>
  <cp:lastModifiedBy>Анна</cp:lastModifiedBy>
  <dcterms:modified xsi:type="dcterms:W3CDTF">2013-12-20T07:43:22Z</dcterms:modified>
  <cp:revision>3</cp:revision>
  <dc:subject/>
  <dc:title>Тема урока</dc:title>
</cp:coreProperties>
</file>