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1584-8BC4-475B-8D05-47998C511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F765-65A3-4052-8ED4-C94404D30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5545-9B9A-4F74-B2F1-CAB4CB651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26B7-F4BE-4172-8413-F3430A9E5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B770E-CACA-4CEE-9853-54E816E12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8ECEF-A868-46C9-BEAF-C3322E293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7C0C8-2409-4A74-9121-2A3C574D3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2C86B-F04F-4408-A5BD-FBEDC0A0F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63E56-8344-4F83-93F7-5A0DBD030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84C57-DE3E-4237-AB4D-984E03156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7D3EC-A575-4645-AD94-DF40B819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7E60-338D-4E3E-9796-65E8611EF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B2712-CCA0-4E2D-AF5F-C756A8A78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089DF-0547-4E1D-A180-2B8DB9CA4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77E11-58C3-4F78-BFAF-5C9B049C5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70106-FC0F-4893-A166-6BC0D891A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E4185-37C2-44EA-B027-21C042F2A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5C62-6596-4FAC-89D0-F1EA01EFF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6B71-F092-407E-9347-78E06E1BB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72CA-B321-4030-B5F2-FDD3DEFCA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A06B-775D-4E34-8B47-35E401881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084C-4FF1-4841-98D0-B605099B7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30F9-7A0E-451B-A840-46A6932C6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839F-B93B-457E-8C95-92AC430C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E93EB-9A63-458D-AAC5-52D496000FB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99B2E-21CB-4754-BE9C-C49D0E484E2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33"/>
                </a:solidFill>
                <a:latin typeface="Garamond"/>
              </a:rPr>
              <a:t>Тема урока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еревод чисел в позиционных системах счислен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ля перевода целого двоичного числа в 16-ричное необходимо разбить его на группы по 4 цифры (тетрады) начиная справа и если в последней будет меньше 4-х цифр, то дополнить их нулям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ля перевода из 8-ричн.  в двоичную необходимо преобразовать каждую цифру 8-ричн. числа в двоичную триаду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пример: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47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=  100 (4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) и 111 (7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) = 100111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ля перевода из 16-ричн.  в двоичную необходимо преобразовать каждую цифру 16-ричн. числа в двоичную тетрад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пример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= 1010 (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) и 1011 (В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) = 10101011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. Перевести в восьмеричную и шестнадцатеричную системы счисления следующие целые числа: 111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101010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. перевести в восьмеричную и шестнадцатеричную системы счисления следующие числа: 0,0111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0, 1010101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3. Перевести в восьмеричную и шестнадцатеричную системы счисления следующие числа: 11,0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110,10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4. Перевести в двоичную систему счисления следующие цифры: 46,27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F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1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5. Сравнить числа, выраженные в различных системах счисления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10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111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 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35,63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и 16С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00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6633"/>
                </a:solidFill>
                <a:uFillTx/>
                <a:latin typeface="Garamond"/>
              </a:rPr>
              <a:t>ПЕРЕВОД ЧИСЕЛ В ДЕСЯТИЧНУЮ СИСТЕМУ СЧИСЛЕНИЯ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Таблица перевода чисе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1042920" y="2062080"/>
            <a:ext cx="7632720" cy="47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 u="sng">
                <a:solidFill>
                  <a:srgbClr val="006633"/>
                </a:solidFill>
                <a:uFillTx/>
                <a:latin typeface="Garamond"/>
              </a:rPr>
              <a:t>Перевод чисел в десятичную систему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еревод чисел из двоичной в десятичну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еревод чисел из восьмеричной системы в десятичну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еревод чисел из шестнадцатеричной системы в десятичну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Object 4"/>
              <p:cNvSpPr txBox="1"/>
              <p:nvPr/>
            </p:nvSpPr>
            <p:spPr>
              <a:xfrm>
                <a:off x="544680" y="2637000"/>
                <a:ext cx="805320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∗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∗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∗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∗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∗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∗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  <m:r>
                          <m:t xml:space="preserve">∗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  <m:r>
                          <m:t xml:space="preserve">∗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5" name="Rectangle 7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6"/>
              <p:cNvSpPr txBox="1"/>
              <p:nvPr/>
            </p:nvSpPr>
            <p:spPr>
              <a:xfrm>
                <a:off x="847800" y="4221000"/>
                <a:ext cx="74484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5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∗</m:t>
                    </m:r>
                    <m:sSup>
                      <m:e>
                        <m:r>
                          <m:t xml:space="preserve">8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∗</m:t>
                    </m:r>
                    <m:sSup>
                      <m:e>
                        <m:r>
                          <m:t xml:space="preserve">8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∗</m:t>
                    </m:r>
                    <m:sSup>
                      <m:e>
                        <m:r>
                          <m:t xml:space="preserve">8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∗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∗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fPr>
                        <m:type m:val="lin"/>
                      </m:fPr>
                      <m:num>
                        <m:r>
                          <m:t xml:space="preserve">5</m:t>
                        </m:r>
                        <m:r>
                          <m:t xml:space="preserve">∗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  <m:r>
                      <m:t xml:space="preserve">,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625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7" name="Rectangle 9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8"/>
              <p:cNvSpPr txBox="1"/>
              <p:nvPr/>
            </p:nvSpPr>
            <p:spPr>
              <a:xfrm>
                <a:off x="1403280" y="5734080"/>
                <a:ext cx="712944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9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256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∗</m:t>
                    </m:r>
                    <m:r>
                      <m:t xml:space="preserve">1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415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33"/>
                </a:solidFill>
                <a:latin typeface="Garamond"/>
              </a:rPr>
              <a:t>2. </a:t>
            </a:r>
            <a:r>
              <a:rPr b="1" lang="ru-RU" sz="2400" spc="-1" strike="noStrike" u="sng">
                <a:solidFill>
                  <a:srgbClr val="006633"/>
                </a:solidFill>
                <a:uFillTx/>
                <a:latin typeface="Garamond"/>
              </a:rPr>
              <a:t>ПЕРЕВОД ЧИСЕЛ ИЗ ДЕСЯТИЧНОЙ В ДВОИЧНУЮ, ВОСЬМЕРИЧНУЮ И ШЕСТНАДЦАТЕРИЧНУЮ СИСТЕМЫ СЧИСЛЕНИЯ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3392640" cy="43210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1. Последовательно выполнять делени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сходного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целого десятичного числ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 получаемых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целых частных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на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снование системы перевод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2, 8 или 16) до тех пор, пока не получится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частное, меньше делител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 Записать полученные остатки в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братной последовательност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7" descr=""/>
          <p:cNvPicPr/>
          <p:nvPr/>
        </p:nvPicPr>
        <p:blipFill>
          <a:blip r:embed="rId1"/>
          <a:stretch/>
        </p:blipFill>
        <p:spPr>
          <a:xfrm>
            <a:off x="900000" y="620640"/>
            <a:ext cx="3160800" cy="3456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"/>
          <p:cNvPicPr/>
          <p:nvPr/>
        </p:nvPicPr>
        <p:blipFill>
          <a:blip r:embed="rId2"/>
          <a:stretch/>
        </p:blipFill>
        <p:spPr>
          <a:xfrm>
            <a:off x="5219640" y="1844640"/>
            <a:ext cx="300060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6633"/>
                </a:solidFill>
                <a:uFillTx/>
                <a:latin typeface="Garamond"/>
              </a:rPr>
              <a:t>Перевод правильной десятичной дроби в двоичную осуществляется по другим правилам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ля дробных чисел правило последовательного деления заменяется правилом последовательного умноже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следовательно выполнять умножение исходной десятичной дроби и получаемых дробных частей произведений на основание системы (на 2) до тех пор, пока не получится нулевая дробная часть или не будет достигнута требуемая точность вычислений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аписать полученные целые части произведения в прямой последовательност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Пример перевода десятичной дроби 0, 75 в двоичную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07640" cy="2232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522900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езультат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6"/>
              <p:cNvSpPr txBox="1"/>
              <p:nvPr/>
            </p:nvSpPr>
            <p:spPr>
              <a:xfrm>
                <a:off x="2700360" y="5229360"/>
                <a:ext cx="2376360" cy="56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68000" y="476280"/>
            <a:ext cx="821844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олее удобный способ записи алгоритма последовательного умножения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десятичной системе счисления правильная дробь переводится в десятичную дробь только в том случае, если её знаменатель в качестве множителей имеет только степени двоек и пятерок, т.е. дробь имеет вид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2124000" y="1341360"/>
            <a:ext cx="5184720" cy="1371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3" name="Object 5"/>
              <p:cNvSpPr txBox="1"/>
              <p:nvPr/>
            </p:nvSpPr>
            <p:spPr>
              <a:xfrm>
                <a:off x="2916360" y="2781360"/>
                <a:ext cx="22320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8"/>
              <p:cNvSpPr txBox="1"/>
              <p:nvPr/>
            </p:nvSpPr>
            <p:spPr>
              <a:xfrm>
                <a:off x="5867280" y="4941720"/>
                <a:ext cx="11988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33"/>
                </a:solidFill>
                <a:latin typeface="Garamond"/>
              </a:rPr>
              <a:t>3. </a:t>
            </a:r>
            <a:r>
              <a:rPr b="1" lang="ru-RU" sz="2400" spc="-1" strike="noStrike" u="sng">
                <a:solidFill>
                  <a:srgbClr val="006633"/>
                </a:solidFill>
                <a:uFillTx/>
                <a:latin typeface="Garamond"/>
              </a:rPr>
              <a:t>ПЕРЕВОД ЧИСЕЛ ИЗ ДВОИЧНОЙ СИСТЕМЫ СЧИСЛЕНИЯ В ВОСЬМЕРИЧНУЮ И ШЕСТНАДЦАТЕРИЧНУЮ И ОБРАТНО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ример перевода числа 101001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в восьмерично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Для перевода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дробного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двоичного числа в восьмеричное необходимо разбить число на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триады слева направо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и, если в последней триаде окажется меньше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трех цифр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, дополнить их справа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нулями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. Далее необходимо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триады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заменить на  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восьмеричные цифры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4"/>
              <p:cNvSpPr txBox="1"/>
              <p:nvPr/>
            </p:nvSpPr>
            <p:spPr>
              <a:xfrm>
                <a:off x="395280" y="2781360"/>
                <a:ext cx="842472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101001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r>
                              <m:t xml:space="preserve">1</m:t>
                            </m:r>
                            <m:r>
                              <m:t xml:space="preserve">∗</m:t>
                            </m:r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t xml:space="preserve">∗</m:t>
                            </m:r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∗</m:t>
                            </m:r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e>
                        </m:groupChr>
                      </m:e>
                      <m:lim>
                        <m:r>
                          <m:t xml:space="preserve">5</m:t>
                        </m:r>
                      </m:lim>
                    </m:limLow>
                    <m:r>
                      <m:t xml:space="preserve">→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r>
                              <m:t xml:space="preserve">0</m:t>
                            </m:r>
                            <m:r>
                              <m:t xml:space="preserve">∗</m:t>
                            </m:r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t xml:space="preserve">∗</m:t>
                            </m:r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∗</m:t>
                            </m:r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e>
                        </m:groupChr>
                      </m:e>
                      <m:lim>
                        <m:r>
                          <m:t xml:space="preserve">1</m:t>
                        </m:r>
                      </m:lim>
                    </m:limLow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и</m:t>
                    </m:r>
                    <m:r>
                      <m:t xml:space="preserve">1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51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8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8T20:32:39Z</dcterms:created>
  <dc:creator>Анна</dc:creator>
  <dc:description/>
  <dc:language>en-US</dc:language>
  <cp:lastModifiedBy>Анна</cp:lastModifiedBy>
  <dcterms:modified xsi:type="dcterms:W3CDTF">2013-12-20T07:43:22Z</dcterms:modified>
  <cp:revision>3</cp:revision>
  <dc:subject/>
  <dc:title>Тема урока</dc:title>
</cp:coreProperties>
</file>