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1A9A-4A1C-4870-8FF2-076119CA3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452E-F9F8-4046-89F9-CFB3485A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5CED-1442-4D92-B6C7-F97F82FA4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016B-AEB0-475E-8717-AFBC4EA6C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4907A-AA74-4E2F-83AE-2021353FE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3774-7131-417D-87BE-3BF71369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26AB-DDA3-4A01-B053-E6A73B0A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59EA-75FB-4714-A4D1-B97472BC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C658-1659-4027-AC8A-29F51A45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1E11-0EA7-4066-92D6-C88F4329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4624-BB5A-4D57-88F7-8D3E1A32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0F1A-18FB-429F-9B44-A90E3462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E621-BCD5-4F53-A963-4E945AE6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97BD-A3C2-4715-B098-D7DCD5B2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D4CC7-91B5-463F-AC36-3D6737F2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F3D9-ADA9-4F12-81AF-D4F8C1968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969B-605C-494C-8EC1-E39197E4F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DA58-AD39-4AEE-A6BA-702712C0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EA04-7B87-4106-9780-7EEA70A0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59E2-6907-4C89-9C86-2A7D748F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59EE-366D-472D-838E-89E19F44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7C59-1D9D-430B-9BB3-3F4240E6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B01C-A958-4BF0-8DC4-12991766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41F3-C023-4833-8A0C-16802A65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74FD-F8CE-4E9E-AE73-CA99EF1A3E2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F3CC-F6B2-4B80-B8BB-425D16E17C9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33"/>
                </a:solidFill>
                <a:latin typeface="Garamond"/>
              </a:rPr>
              <a:t>Тема урока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еревод чисел в позиционных системах счисл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перевода целого двоичного числа в 16-ричное необходимо разбить его на группы по 4 цифры (тетрады) начиная справа и если в последней будет меньше 4-х цифр, то дополнить их нулям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перевода из 8-ричн.  в двоичную необходимо преобразовать каждую цифру 8-ричн. числа в двоичную триаду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пример: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=  100 (4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) и 111 (7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) = 100111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перевода из 16-ричн.  в двоичную необходимо преобразовать каждую цифру 16-ричн. числа в двоичную тетрад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пример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= 1010 (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) и 1011 (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) = 10101011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 Перевести в восьмеричную и шестнадцатеричную системы счисления следующие целые числа: 111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101010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перевести в восьмеричную и шестнадцатеричную системы счисления следующие числа: 0,0111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0, 1010101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. Перевести в восьмеричную и шестнадцатеричную системы счисления следующие числа: 11,0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110,10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4. Перевести в двоичную систему счисления следующие цифры: 46,27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F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1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5. Сравнить числа, выраженные в различных системах счисления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10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11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 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35,6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16С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00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33"/>
                </a:solidFill>
                <a:uFillTx/>
                <a:latin typeface="Garamond"/>
              </a:rPr>
              <a:t>ПЕРЕВОД ЧИСЕЛ В ДЕСЯТИЧНУЮ СИСТЕМУ СЧИСЛЕНИЯ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аблица перевода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1042920" y="2062080"/>
            <a:ext cx="763272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006633"/>
                </a:solidFill>
                <a:uFillTx/>
                <a:latin typeface="Garamond"/>
              </a:rPr>
              <a:t>Перевод чисел в десятичную систему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еревод чисел из двоичной в десятичну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еревод чисел из восьмеричной системы в десятичну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еревод чисел из шестнадцатеричной системы в десятичну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4"/>
              <p:cNvSpPr txBox="1"/>
              <p:nvPr/>
            </p:nvSpPr>
            <p:spPr>
              <a:xfrm>
                <a:off x="544680" y="2637000"/>
                <a:ext cx="80532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∗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∗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  <m:r>
                          <m:t xml:space="preserve">∗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  <m:r>
                          <m:t xml:space="preserve">∗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5" name="Rectangle 7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6"/>
              <p:cNvSpPr txBox="1"/>
              <p:nvPr/>
            </p:nvSpPr>
            <p:spPr>
              <a:xfrm>
                <a:off x="847800" y="4221000"/>
                <a:ext cx="74484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5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∗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∗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r>
                          <m:t xml:space="preserve">5</m:t>
                        </m:r>
                        <m:r>
                          <m:t xml:space="preserve">∗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625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" name="Rectangle 9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8"/>
              <p:cNvSpPr txBox="1"/>
              <p:nvPr/>
            </p:nvSpPr>
            <p:spPr>
              <a:xfrm>
                <a:off x="1403280" y="5734080"/>
                <a:ext cx="712944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256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∗</m:t>
                    </m:r>
                    <m:r>
                      <m:t xml:space="preserve">1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415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2. </a:t>
            </a:r>
            <a:r>
              <a:rPr b="1" lang="ru-RU" sz="2400" spc="-1" strike="noStrike" u="sng">
                <a:solidFill>
                  <a:srgbClr val="006633"/>
                </a:solidFill>
                <a:uFillTx/>
                <a:latin typeface="Garamond"/>
              </a:rPr>
              <a:t>ПЕРЕВОД ЧИСЕЛ ИЗ ДЕСЯТИЧНОЙ В ДВОИЧНУЮ, ВОСЬМЕРИЧНУЮ И ШЕСТНАДЦАТЕРИЧНУЮ СИСТЕМЫ СЧИСЛЕНИЯ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3392640" cy="43210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. Последовательно выполнять деле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сходного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целого десятичного числ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получаемых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целых частных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снование системы перевод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2, 8 или 16) до тех пор, пока не получитс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астное, меньше делител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Записать полученные остатки в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братной последовательно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3160800" cy="3456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"/>
          <p:cNvPicPr/>
          <p:nvPr/>
        </p:nvPicPr>
        <p:blipFill>
          <a:blip r:embed="rId2"/>
          <a:stretch/>
        </p:blipFill>
        <p:spPr>
          <a:xfrm>
            <a:off x="5219640" y="1844640"/>
            <a:ext cx="30006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33"/>
                </a:solidFill>
                <a:uFillTx/>
                <a:latin typeface="Garamond"/>
              </a:rPr>
              <a:t>Перевод правильной десятичной дроби в двоичную осуществляется по другим правилам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дробных чисел правило последовательного деления заменяется правилом последовательного умнож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следовательно выполнять умножение исходной десятичной дроби и получаемых дробных частей произведений на основание системы (на 2) до тех пор, пока не получится нулевая дробная часть или не будет достигнута требуемая точность вычислений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писать полученные целые части произведения в прямой последовательност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Пример перевода десятичной дроби 0, 75 в двоичную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07640" cy="2232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522900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езульта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6"/>
              <p:cNvSpPr txBox="1"/>
              <p:nvPr/>
            </p:nvSpPr>
            <p:spPr>
              <a:xfrm>
                <a:off x="2700360" y="5229360"/>
                <a:ext cx="2376360" cy="56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184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олее удобный способ записи алгоритма последовательного умножен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десятичной системе счисления правильная дробь переводится в десятичную дробь только в том случае, если её знаменатель в качестве множителей имеет только степени двоек и пятерок, т.е. дробь имеет вид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2124000" y="1341360"/>
            <a:ext cx="5184720" cy="1371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3" name="Object 5"/>
              <p:cNvSpPr txBox="1"/>
              <p:nvPr/>
            </p:nvSpPr>
            <p:spPr>
              <a:xfrm>
                <a:off x="2916360" y="2781360"/>
                <a:ext cx="22320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8"/>
              <p:cNvSpPr txBox="1"/>
              <p:nvPr/>
            </p:nvSpPr>
            <p:spPr>
              <a:xfrm>
                <a:off x="5867280" y="4941720"/>
                <a:ext cx="11988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3. </a:t>
            </a:r>
            <a:r>
              <a:rPr b="1" lang="ru-RU" sz="2400" spc="-1" strike="noStrike" u="sng">
                <a:solidFill>
                  <a:srgbClr val="006633"/>
                </a:solidFill>
                <a:uFillTx/>
                <a:latin typeface="Garamond"/>
              </a:rPr>
              <a:t>ПЕРЕВОД ЧИСЕЛ ИЗ ДВОИЧНОЙ СИСТЕМЫ СЧИСЛЕНИЯ В ВОСЬМЕРИЧНУЮ И ШЕСТНАДЦАТЕРИЧНУЮ И ОБРАТНО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имер перевода числа 101001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 восьмерично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ля перевода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дробного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двоичного числа в восьмеричное необходимо разбить число на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триады слева направо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и, если в последней триаде окажется меньше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трех цифр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, дополнить их справа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нулями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. Далее необходимо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триады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заменить на  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восьмеричные цифры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4"/>
              <p:cNvSpPr txBox="1"/>
              <p:nvPr/>
            </p:nvSpPr>
            <p:spPr>
              <a:xfrm>
                <a:off x="395280" y="2781360"/>
                <a:ext cx="84247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101001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r>
                              <m:t xml:space="preserve">1</m:t>
                            </m:r>
                            <m:r>
                              <m:t xml:space="preserve">∗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t xml:space="preserve">∗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∗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groupChr>
                      </m:e>
                      <m:lim>
                        <m:r>
                          <m:t xml:space="preserve">5</m:t>
                        </m:r>
                      </m:lim>
                    </m:limLow>
                    <m:r>
                      <m:t xml:space="preserve">→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r>
                              <m:t xml:space="preserve">0</m:t>
                            </m:r>
                            <m:r>
                              <m:t xml:space="preserve">∗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t xml:space="preserve">∗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∗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groupChr>
                      </m:e>
                      <m:lim>
                        <m:r>
                          <m:t xml:space="preserve">1</m:t>
                        </m:r>
                      </m:lim>
                    </m:limLow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и</m:t>
                    </m:r>
                    <m:r>
                      <m:t xml:space="preserve">1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20:32:39Z</dcterms:created>
  <dc:creator>Анна</dc:creator>
  <dc:description/>
  <dc:language>en-US</dc:language>
  <cp:lastModifiedBy>Анна</cp:lastModifiedBy>
  <dcterms:modified xsi:type="dcterms:W3CDTF">2013-12-20T07:43:22Z</dcterms:modified>
  <cp:revision>3</cp:revision>
  <dc:subject/>
  <dc:title>Тема урока</dc:title>
</cp:coreProperties>
</file>