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5FA-3601-4848-AE1E-0010AA96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73D-B908-4937-864D-BDAA8068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0C4-15AE-4DF0-A23B-D30E6B44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6C5-C5EA-48AA-AFF8-9A5097B8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0657-87FB-4464-BF8E-48D1E45D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2B33-0DC1-4057-9E92-0797708E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D209-915C-449D-9DE8-6AEBAC1C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4255-762B-412B-A973-480B2792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E2EA-090A-40AC-B934-2C5FAE9D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17F2-BE0C-4F7E-8BBA-FD4F3F1D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A873-6252-4AF4-9102-51409DB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59A-9B4C-4250-AA0A-8BDA2AA0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9DC6-CCF2-4508-B4CD-ABD6C448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80CD-F89D-4152-AFEE-5D68B82F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9A2F-F3E3-4C08-9A82-EE1D0C1B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44A3-2E55-46D0-A3C5-8FB1DAAC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F6F6-3E35-45AF-9F60-CA2260DB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2A1-55BC-4A95-B4E5-E3313079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02A-9271-4AE7-B4C6-BA1ED09F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179-EF89-4C67-A0D4-007A822D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37C-9AB7-4FEE-A2E0-B73C4A18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76C-D1DD-4A98-B924-DE3130D6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F44-FD7D-4EC7-B26E-5CA66246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D2A-872D-4BAE-AC42-EB2EF96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2C3E-23C2-41EA-991E-DCCB2A4FF7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C220-CD46-4586-B33B-DAA202AAD9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Рынок: сущность, механизм, функ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Лекция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00" spc="-1" strike="noStrike">
                <a:solidFill>
                  <a:srgbClr val="330033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орма взаимоотношений и связей между отдельными самостоятельно принимающими решения хозяйствующими субъектами (решения принимаются  децентрализованным пу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главный инструмент организации децентрализованных индивидуальны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ынок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ложная высокоорганизованная структура, где происходит процесс бессознательной самоорганизации» (Ф. Хай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ночная экономика -  это «тип децентрализованной экономики. В ней планы и действия независимых единиц координируются через посредство рынка и денег: эти планы и действия связываются между собой сетями обмена, которые сами образуют части общих силовых сетей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Раймон Бар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овокупность форм и способов организации людей друг с другом, служащая тому, чтобы в коммерческих целях свести продавца и покупателя и дать возможность купить и продать какой-либо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пецифическая перемычка между производителем и потребителем, между собственником товаров и собственником де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огромный аукцион, на котором происходит постоянное нащупывание цен, уравновешивающих спрос и предложение. Настоящий рынок характеризуется тем, что обмен сопровождается оценкой товаров или установлением общественной стоимости или цены на них голосом большинства потреб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аморегулирующаяся, самонастраивающаяся система взаимодействия экономических су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механизм осуществления контактов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ставляет собой информационную систему, связывающую между собой спрос и предложение на товары 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Рыночное хозяй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такой экономический порядок, при котором обмен совершается преимущественно через рынки, а рынок представляет собой главный инструмент координации децентрализованных индивидуальных ре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гда предполагает суверенитет потребителя. Это означает,  что производство и распределение частных благ регулируют частные покупатели через спрос на ры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Рыночная систем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онтанный поря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астная соб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ободное цено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понтанный порядок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регу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ибкость, высокая адаптивность к меняющимся услови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ножественные связи между субъектами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Экономическая свобод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бода выбора потреб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бода выбора и действий производ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зможность реализации частных интере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Конкуренция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единение частных и общественных интересов. «Невидимая ру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имул к эффективному использованию ресурсов, уменьшению издержек, повышению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витие НТП, быстрый экономический ро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План лекц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ятие рынка и его основные характери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номические агенты в рыночной эконом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ры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ыночный механизм цен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и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Частная собственность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имул к сохранению и увеличению своей собств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о собственности или «пучок прав» из 11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ецифицирование прав собственности с целью уменьшения трансакционных  издерж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Свободное ценообразовани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я для субъектов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гулирование объема спроса,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распределение ресур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труктура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к товаров и услуг или товарный рынок (для их функционирования необходимы товарные биржи, оптово-розничная торговля, маркетинговые организ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к факторов производства или ресурсный рынок (биржи труда, рынок земли, рынок производительного капи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нансовый рынок (фондовые бирж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Классификация рынков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экономическому назначению  объектов рыночных отношений (рынок потребительских товаров и услуг, сырьевой рынок, рынок товаров производственного назначения, рынок ценных бумаг и т. 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географическому признаку (мировой рынок, национальный, региональный, местн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Классификация рынков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отраслям (автомобильный, компьютерный, нефтяной и т.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характеру продаж (оптовые рынки и розничные рын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степени ограничения конкуренции (рынки совершенной и несовершенной конкурен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Рыночный механизм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механизм формирования и распределения ресурсов, механизм взаимодействия продавцов и покупателей товаров по поводу установления цен и качества, объема производства и его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чный механизм сравнивают с непрерывным референдумом, в котором суверенные потребители «голосуют своими экономическими решениями в  пользу определенного «кандидата» -  того или иного т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Структура рыночного механизм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 экономических связей между субъектами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 формирования цен, распределения ресурсов и до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 конкуренции за достижение больших выгод, преиму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ночный механизм «наводит порядок в потенциальном хаосе» прежде всего через цены. Цены служат маяком, по которому могут сверять свой выбор как производители, так и потребите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Рыночный механизм ценообразова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ы являются регулятором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ько цены (даже если они испытывают колебания под воздействием различных факторов, препятствующих конкуренции), отражают соотношение между спросом и предло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цены устанавливаются с учетом спроса и предложения, то такие отношения можно назвать рыноч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. к. рыночные отношения определяются через спрос и предложение, этот механизм чутко реагирует на возникающие потребности людей и лучше способствует их удовлетворени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Функции рыночной цены          (М. Фридмен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ормирование участников рынка о ресурсах, производственных возможностях, потребностях и вкусах покуп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у людей стимулов к изысканию методов наиболее экономного производства товаров из наличных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ение такого распределения дохода, при котором учитывались бы количество и качество труда, вложенного в производство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Функции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но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имулирую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гулирую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нирую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Толкование термина «рынок»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кретное место сбыта товаров (Центральный рынок г. Калининграда, восточный баз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арактеристика системы товарно-денежных отношений. Это  совокупность экономических отношений, возникающих между людьми по поводу обмена (купли-продаж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ханизм хозяйственного регулирования, способ координации эконом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Типы производств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Натураль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производство, в котором продукты создаются для внутреннего потребления, для удовлетворения личных потребностей самого производ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Чер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замкнутость, устойчивость, прямые хозяйственные связи, применение рутинной техники, низкая производительность труда, медленное 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Типы производств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Товарное производ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такое производство, в котором продукты создаются самостоятельными, не зависящими друг от друга, обособленными производителями  для обмена, т.е. для купли-прода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Черт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крытая система, разделение труда, косвенные экономические связи, эффективность, возможность выбор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Условия возникновения товарного производ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Общественное разделение тру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обособление различных видов хозяйственной деятельности, специализация отдельных производителей на создании определенных 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Частная собственн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основа экономической самостоятельности произ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Обм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к форма связи между специализированными и обособленными производителям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Правило «невидимой руки» А.Смит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Каждый отдельный человек старается употреблять свой капитал так, чтобы продукт его обладал наибольшей ценностью. Обычно он не имеет в виду содействовать общей пользе... Он имеет в виду лишь собственный интерес, преследует лишь собственную выгоду, причем в этом случае  он невидимой рукой направляется к цели, которая совсем не входила в его намерения. Преследуя свои собственные интересы, он  часто более действенным образом неизбежно  служит интересам общества, чем тогда, когда сознательно стремится служить и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Рыночная экономи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к  есть форма существования товар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укт труда в условиях товарного производства принимает форму т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стью рыночной экономики является то, что она дает людям то, что они хотят, а не то, что они должны хотеть по усмотрению кого –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ынок – диалектическая взаимосвязь внутренней нестабильности и тенденции к равновеси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бщественный механизм распределения благ посредством добровольн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овокупность производственных отношений, возникающих между производителем и потребителем в связи с обменом продуктами человеческ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экономический процесс, который через спрос и предложение приводит к образованию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21:45:16Z</dcterms:created>
  <dc:creator>User</dc:creator>
  <dc:description/>
  <dc:language>en-US</dc:language>
  <cp:lastModifiedBy>User</cp:lastModifiedBy>
  <dcterms:modified xsi:type="dcterms:W3CDTF">2009-01-12T15:07:27Z</dcterms:modified>
  <cp:revision>14</cp:revision>
  <dc:subject/>
  <dc:title>Рынок:сущность, механизм, функции</dc:title>
</cp:coreProperties>
</file>