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EA8-6963-448C-8F9D-8B934500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A42-FDAB-42DB-A22C-D80E4A0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DA3-4CA1-4658-B945-AE2488A3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BD3-C215-4844-9D92-07CBF02A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7AC-E232-4721-8E96-9FD19D1A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8F75-119F-4D1B-8998-16A07616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DF5B-950C-46E6-A918-9CF315C9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399A-EA05-46B4-B312-DED16CC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9C13-5C1B-4EA1-B888-E303485F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7C58-2FCD-49EC-8BF5-D6C7F64B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B125-1515-4089-B1FA-E412441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290-05B8-46A9-9A69-6BEDA83C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EA1-BFFE-40AF-BFF0-D73A452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C13-C1E4-47A2-900D-925B2A7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0CC5-0FD9-481C-AD60-C516437A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E83-3945-46F7-BD90-587AEECD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92D-1654-477D-998C-7FCFAC85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7DD-A84A-4C69-AD7B-361153E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663-D6F4-4142-BFD0-34387F0C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846-92FA-4E11-AC24-A8092B4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A0F-067F-489B-A6F4-D97B5A50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79F-FD59-49D7-9851-AE93043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F69-AE4B-4C37-94F8-BCBDF04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C23-D675-40B1-BB73-23289C4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524C-6CFA-43FC-B908-6D4189033D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9FCA-B965-4969-B379-DD38A05123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Рынок: сущность, механизм, функ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Лекция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00" spc="-1" strike="noStrike">
                <a:solidFill>
                  <a:srgbClr val="330033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форма взаимоотношений и связей между отдельными самостоятельно принимающими решения хозяйствующими субъектами (решения принимаются  децентрализованным пу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главный инструмент организации децентрализованных индивидуальн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ложная высокоорганизованная структура, где происходит процесс бессознательной самоорганизации» (Ф. Хай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ночная экономика -  это «тип децентрализованной экономики. В ней планы и действия независимых единиц координируются через посредство рынка и денег: эти планы и действия связываются между собой сетями обмена, которые сами образуют части общих силовых сетей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аймон Бар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форм и способов организации людей друг с другом, служащая тому, чтобы в коммерческих целях свести продавца и покупателя и дать возможность купить и продать какой-либо тов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пецифическая перемычка между производителем и потребителем, между собственником товаров и собственником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громный аукцион, на котором происходит постоянное нащупывание цен, уравновешивающих спрос и предложение. Настоящий рынок характеризуется тем, что обмен сопровождается оценкой товаров или установлением общественной стоимости или цены на них голосом большинства потреб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он Вальр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аморегулирующаяся, самонастраивающаяся система взаимодействия экономических су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механизм осуществления контактов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информационную систему, связывающую между собой спрос и предложение на товары и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ое хозяй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такой экономический порядок, при котором обмен совершается преимущественно через рынки, а рынок представляет собой главный инструмент координации децентрализованных индивидуальных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гда предполагает суверенитет потребителя. Это означает,  что производство и распределение частных благ регулируют частные покупатели через спрос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систем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нтанный поря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стная соб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бодное цено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понтанный порядок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регу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бкость, высокая адаптивность к меняющимся условия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жественные связи между субъектами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Экономическая свобод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потреб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обода выбора и действий производ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можность реализации частных интер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онкуренци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единение частных и общественных интересов. «Невидимая ру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имул к эффективному использованию ресурсов, уменьшению издержек, повышению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НТП, быстрый экономический р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ие рынка и его основные характери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ие агенты в рыночной эконом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ры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ыночный механизм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и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Частная собственность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имул к сохранению и увеличению своей собств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о собственности или «пучок прав» из 11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цирование прав собственности с целью уменьшения трансакционных  издерж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Свободное ценообразовани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я для субъектов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ование объема спроса,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распределение ресур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труктура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товаров и услуг или товарный рынок (для их функционирования необходимы товарные биржи, оптово-розничная торговля, маркетинговые организ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факторов производства или ресурсный рынок (биржи труда, рынок земли, рынок производительного капи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нансовый рынок (фондовые бир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экономическому назначению  объектов рыночных отношений (рынок потребительских товаров и услуг, сырьевой рынок, рынок товаров производственного назначения, рынок ценных бумаг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географическому признаку (мировой рынок, национальный, региональный, мест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Классификация рын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отраслям (автомобильный, компьютерный, нефтяной и т.д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характеру продаж (оптовые рынки и розничные ры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степени ограничения конкуренции (рынки совершенной и несовершенной конкурен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Рыночный механизм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механизм формирования и распределения ресурсов, механизм взаимодействия продавцов и покупателей товаров по поводу установления цен и качества, объема производства и его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ый механизм сравнивают с непрерывным референдумом, в котором суверенные потребители «голосуют своими экономическими решениями в  пользу определенного «кандидата» -  того или иного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Структура рыночного механиз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экономических связей между субъектами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формирования цен, распределения ресурсов и до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 конкуренции за достижение больших выгод, преим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ночный механизм «наводит порядок в потенциальном хаосе» прежде всего через цены. Цены служат маяком, по которому могут сверять свой выбор как производители, так и потребит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Рыночный механизм ценообразовани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ы являются регулятором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цены (даже если они испытывают колебания под воздействием различных факторов, препятствующих конкуренции), отражают соотношение между спросом и предл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цены устанавливаются с учетом спроса и предложения, то такие отношения можно назвать рыноч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. к. рыночные отношения определяются через спрос и предложение, этот механизм чутко реагирует на возникающие потребности людей и лучше способствует их удовлетвор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Функции рыночной цены          (М. Фридмен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ормирование участников рынка о ресурсах, производственных возможностях, потребностях и вкусах покуп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 людей стимулов к изысканию методов наиболее экономного производства товаров из налич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такого распределения дохода, при котором учитывались бы количество и качество труда, вложенного в производство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Функции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но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м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ниру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Толкование термина «рынок»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кретное место сбыта товаров (Центральный рынок г. Калининграда, восточный баз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истика системы товарно-денежных отношений. Это  совокупность экономических отношений, возникающих между людьми по поводу обмена (купли-продаж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ханизм хозяйственного регулирования, способ координации эконом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Натураль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производство, в котором продукты создаются для внутреннего потребления, для удовлетворения личных потребностей самого производ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замкнутость, устойчивость, прямые хозяйственные связи, применение рутинной техники, низкая производительность труда, медленное разви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ипы производств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Товарное производ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акое производство, в котором продукты создаются самостоятельными, не зависящими друг от друга, обособленными производителями  для обмена, т.е. для купли-прода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ерт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крытая система, разделение труда, косвенные экономические связи, эффективность, возможность выб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Условия возникновения товарного производ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щественное разделение тру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обособление различных видов хозяйственной деятельности, специализация отдельных производителей на создании определенных проду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Частная собственн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снова экономической самостоятельности произ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Об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ак форма связи между специализированными и обособленными производителя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Правило «невидимой руки» А.Сми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Каждый отдельный человек старается употреблять свой капитал так, чтобы продукт его обладал наибольшей ценностью. Обычно он не имеет в виду содействовать общей пользе... Он имеет в виду лишь собственный интерес, преследует лишь собственную выгоду, причем в этом случае  он невидимой рукой направляется к цели, которая совсем не входила в его намерения. Преследуя свои собственные интересы, он  часто более действенным образом неизбежно  служит интересам общества, чем тогда, когда сознательно стремится служить 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Рыночная экономи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к  есть форма существования товар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дукт труда в условиях товарного производства принимает форму то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енностью рыночной экономики является то, что она дает людям то, что они хотят, а не то, что они должны хотеть по усмотрению кого –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ынок – диалектическая взаимосвязь внутренней нестабильности и тенденции к равновеси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Сущность рынк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общественный механизм распределения благ посредством добровольного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овокупность производственных отношений, возникающих между производителем и потребителем в связи с обменом продуктами человеческ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Рын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экономический процесс, который через спрос и предложение приводит к образованию ц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21:45:16Z</dcterms:created>
  <dc:creator>User</dc:creator>
  <dc:description/>
  <dc:language>en-US</dc:language>
  <cp:lastModifiedBy>User</cp:lastModifiedBy>
  <dcterms:modified xsi:type="dcterms:W3CDTF">2009-01-12T15:07:27Z</dcterms:modified>
  <cp:revision>14</cp:revision>
  <dc:subject/>
  <dc:title>Рынок:сущность, механизм, функции</dc:title>
</cp:coreProperties>
</file>