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E2E-074C-4D91-8CD1-16E850B1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E94-2E56-42ED-BC76-7209DD4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05F-ED09-478D-8106-254C4CBD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8E0-92C6-46FE-A34B-DE2EFEAA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5944-9951-4CA6-9129-556621BD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F0B1-3952-4C75-80E9-169C0685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941F-0B10-4D20-BC6B-0D8859A7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6446-16CF-4CBE-B4CC-926648C8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0A22-B2BE-42CB-B91D-29503346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FB2C-4DD7-4AED-9015-8EC924AF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F405-4041-4B64-BE02-B0C3571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91C-56D3-449F-B1D0-654B7B31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8D01-A322-4995-83DF-EC256B8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E810-B04E-4A89-9339-BC050DB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1384-1C1E-4B4A-A61D-02402EEB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E4D5-0E64-4DBE-8EC4-9C5CF908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6021-F996-4BB5-B0A6-D0377579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A0E-2D84-4527-987C-4FE837B1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0C7-4A52-4AAC-88C9-858838DC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EB6-AAC0-4752-8C47-37FC58BD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4F6-E8BD-47CB-98D1-132DAE1F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EB9-4D79-46D1-9BBC-97753F9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2ED-9BD4-43F3-A6C7-7E22314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DB9-638E-496C-891E-77826D9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A65C-2FEB-44DB-AE95-AD528AF612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6A6-8979-4F03-A8DE-1F746C141C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Рынок: сущность, механизм, функ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Лекция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00" spc="-1" strike="noStrike">
                <a:solidFill>
                  <a:srgbClr val="330033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орма взаимоотношений и связей между отдельными самостоятельно принимающими решения хозяйствующими субъектами (решения принимаются  децентрализованным пу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главный инструмент организации децентрализованных индивидуальн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ынок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ложная высокоорганизованная структура, где происходит процесс бессознательной самоорганизации» (Ф. Хай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ночная экономика -  это «тип децентрализованной экономики. В ней планы и действия независимых единиц координируются через посредство рынка и денег: эти планы и действия связываются между собой сетями обмена, которые сами образуют части общих силовых сетей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аймон Бар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овокупность форм и способов организации людей друг с другом, служащая тому, чтобы в коммерческих целях свести продавца и покупателя и дать возможность купить и продать какой-либо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пецифическая перемычка между производителем и потребителем, между собственником товаров и собственником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громный аукцион, на котором происходит постоянное нащупывание цен, уравновешивающих спрос и предложение. Настоящий рынок характеризуется тем, что обмен сопровождается оценкой товаров или установлением общественной стоимости или цены на них голосом большинства потреб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аморегулирующаяся, самонастраивающаяся система взаимодействия экономических су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механизм осуществления контактов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ет собой информационную систему, связывающую между собой спрос и предложение на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ое хозяй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такой экономический порядок, при котором обмен совершается преимущественно через рынки, а рынок представляет собой главный инструмент координации децентрализованных индивидуальных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гда предполагает суверенитет потребителя. Это означает,  что производство и распределение частных благ регулируют частные покупатели через спрос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ая систем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нтанный поря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стная соб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бодное цено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понтанный порядок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регу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бкость, высокая адаптивность к меняющимся услови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жественные связи между субъектами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Экономическая свобод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бода выбора потреб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бода выбора и действий производ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можность реализации частных интере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онкуренци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единение частных и общественных интересов. «Невидимая ру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имул к эффективному использованию ресурсов, уменьшению издержек, повышению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витие НТП, быстрый экономический р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ие рынка и его основные характер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ие агенты в рыночной эконом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ры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ночный механизм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и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Частная собственность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имул к сохранению и увеличению своей собств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о собственности или «пучок прав» из 11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ецифицирование прав собственности с целью уменьшения трансакционных  издерж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Свободное ценообразовани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я для субъектов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улирование объема спроса,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распределение ресур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труктура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товаров и услуг или товарный рынок (для их функционирования необходимы товарные биржи, оптово-розничная торговля, маркетинговые организ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факторов производства или ресурсный рынок (биржи труда, рынок земли, рынок производительного капи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нансовый рынок (фондовые бирж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лассификация рынков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экономическому назначению  объектов рыночных отношений (рынок потребительских товаров и услуг, сырьевой рынок, рынок товаров производственного назначения, рынок ценных бумаг и т. 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географическому признаку (мировой рынок, национальный, региональный, мест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лассификация рынков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отраслям (автомобильный, компьютерный, нефтяной и т.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характеру продаж (оптовые рынки и розничные рын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степени ограничения конкуренции (рынки совершенной и несовершенной конкурен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Рыночный механизм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механизм формирования и распределения ресурсов, механизм взаимодействия продавцов и покупателей товаров по поводу установления цен и качества, объема производства и его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чный механизм сравнивают с непрерывным референдумом, в котором суверенные потребители «голосуют своими экономическими решениями в  пользу определенного «кандидата» -  того или иного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Структура рыночного механиз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экономических связей между субъектами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формирования цен, распределения ресурсов и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конкуренции за достижение больших выгод, преим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ночный механизм «наводит порядок в потенциальном хаосе» прежде всего через цены. Цены служат маяком, по которому могут сверять свой выбор как производители, так и потребит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ыночный механизм ценообразов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ы являются регулятором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цены (даже если они испытывают колебания под воздействием различных факторов, препятствующих конкуренции), отражают соотношение между спросом и предл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цены устанавливаются с учетом спроса и предложения, то такие отношения можно назвать рыно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. к. рыночные отношения определяются через спрос и предложение, этот механизм чутко реагирует на возникающие потребности людей и лучше способствует их удовлетворени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Функции рыночной цены          (М. Фридмен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ирование участников рынка о ресурсах, производственных возможностях, потребностях и вкусах покуп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у людей стимулов к изысканию методов наиболее экономного производства товаров из налич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такого распределения дохода, при котором учитывались бы количество и качество труда, вложенного в производство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Функции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имул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ул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н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Толкование термина «рынок»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кретное место сбыта товаров (Центральный рынок г. Калининграда, восточный баз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истика системы товарно-денежных отношений. Это  совокупность экономических отношений, возникающих между людьми по поводу обмена (купли-продаж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м хозяйственного регулирования, способ координации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Типы производст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Натураль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производство, в котором продукты создаются для внутреннего потребления, для удовлетворения личных потребностей самого произ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ер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замкнутость, устойчивость, прямые хозяйственные связи, применение рутинной техники, низкая производительность труда, медленн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Типы производств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Товарное производ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такое производство, в котором продукты создаются самостоятельными, не зависящими друг от друга, обособленными производителями  для обмена, т.е. для купли-прода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ерт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крытая система, разделение труда, косвенные экономические связи, эффективность, возможность выбо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Условия возникновения товарного производ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бщественное разделение тру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обособление различных видов хозяйственной деятельности, специализация отдельных производителей на создании определенных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астная собственн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основа экономической самостоятельности произ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бм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к форма связи между специализированными и обособленными производителя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Правило «невидимой руки» А.Сми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аждый отдельный человек старается употреблять свой капитал так, чтобы продукт его обладал наибольшей ценностью. Обычно он не имеет в виду содействовать общей пользе... Он имеет в виду лишь собственный интерес, преследует лишь собственную выгоду, причем в этом случае  он невидимой рукой направляется к цели, которая совсем не входила в его намерения. Преследуя свои собственные интересы, он  часто более действенным образом неизбежно  служит интересам общества, чем тогда, когда сознательно стремится служить 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ая экономи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 есть форма существования товар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укт труда в условиях товарного производства принимает форму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ью рыночной экономики является то, что она дает людям то, что они хотят, а не то, что они должны хотеть по усмотрению кого –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ынок – диалектическая взаимосвязь внутренней нестабильности и тенденции к равновеси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бщественный механизм распределения благ посредством добровольн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овокупность производственных отношений, возникающих между производителем и потребителем в связи с обменом продуктами человеческ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экономический процесс, который через спрос и предложение приводит к образованию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21:45:16Z</dcterms:created>
  <dc:creator>User</dc:creator>
  <dc:description/>
  <dc:language>en-US</dc:language>
  <cp:lastModifiedBy>User</cp:lastModifiedBy>
  <dcterms:modified xsi:type="dcterms:W3CDTF">2009-01-12T15:07:27Z</dcterms:modified>
  <cp:revision>14</cp:revision>
  <dc:subject/>
  <dc:title>Рынок:сущность, механизм, функции</dc:title>
</cp:coreProperties>
</file>