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276-13D9-4FD2-A23C-0C308953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8BB-C9D3-4426-B1FE-C3771493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6BF-2040-4C48-9D87-1B3A744D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69D-77E5-4793-A5CF-8A50865D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14F-6FDE-42B5-A93E-49310FD6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668-0FBB-4AD4-BD65-233F865E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CFE-C817-4081-A7EA-FA6A4C5B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1DE-2EDA-437E-BB54-865B7B03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E1C-0684-4D62-A13B-2FE28FA5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B9C-8D86-46BD-97D8-74E86DEE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A26-A247-402B-A062-6ABAA87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D09-DC5B-4BD0-A5EC-C55A801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3B7F-9242-460E-8747-0C34FE1E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6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2637000"/>
            <a:ext cx="67672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Покупки в волшебном магазине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"Аленький цветочек"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5616720"/>
            <a:ext cx="3743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резентация для 7- 8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Хазова Н.Б. учитель информатики           ЛИЕН  г.Сар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11802" r="42712" b="46111"/>
          <a:stretch/>
        </p:blipFill>
        <p:spPr>
          <a:xfrm>
            <a:off x="1042920" y="1555920"/>
            <a:ext cx="6985080" cy="410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3512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7840" y="3141720"/>
            <a:ext cx="635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ересечении столбца и строки находится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ячей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ая ячейка имеет свой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уникальный адр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й составляется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из буквы столб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номера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пример «В4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63880" y="2689200"/>
            <a:ext cx="576000" cy="1634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32000" y="189000"/>
            <a:ext cx="59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Основные объекты Excel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68360" y="260280"/>
            <a:ext cx="851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Начинаем вводить наши покупки </a:t>
            </a:r>
            <a:endParaRPr b="1" lang="en-US" sz="2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 таблицу Excel.</a:t>
            </a:r>
            <a:endParaRPr b="1" lang="en-US" sz="2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1771" t="14032" r="39754" b="38721"/>
          <a:stretch/>
        </p:blipFill>
        <p:spPr>
          <a:xfrm>
            <a:off x="826920" y="1844640"/>
            <a:ext cx="7129800" cy="4608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2000" y="2997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Что делать, если в какой-то ячейке не умещаются наши данн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rcRect l="52775" t="26064" r="35906" b="65161"/>
          <a:stretch/>
        </p:blipFill>
        <p:spPr>
          <a:xfrm>
            <a:off x="2363760" y="2133720"/>
            <a:ext cx="432000" cy="1458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332000" y="393372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Увеличить ширину столбц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этого подведите указатель мыши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на границ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между именами столбцо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тобы он преврати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трелочку, как показ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300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яните мышкой за стрелочку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пра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ак что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ячейке уместился тек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8360" y="260280"/>
            <a:ext cx="851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Начинаем вводить наши покупки </a:t>
            </a:r>
            <a:endParaRPr b="1" lang="en-US" sz="2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 таблицу Excel.</a:t>
            </a:r>
            <a:endParaRPr b="1" lang="en-US" sz="2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5326" t="17727" r="35015" b="35025"/>
          <a:stretch/>
        </p:blipFill>
        <p:spPr>
          <a:xfrm>
            <a:off x="900000" y="1773360"/>
            <a:ext cx="7274160" cy="460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386064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Результат изменения ширины яч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979640" y="40464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родолжаем вводить данные ..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5899" t="17708" r="46264" b="43169"/>
          <a:stretch/>
        </p:blipFill>
        <p:spPr>
          <a:xfrm>
            <a:off x="1692360" y="1557360"/>
            <a:ext cx="5832360" cy="381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98920" y="2708280"/>
            <a:ext cx="424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Заполним шапку таблицы, подби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ширину яче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3716280"/>
            <a:ext cx="4249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алее заполним 1 столбец таблиц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одержащий ном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Автозаполне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5119" t="17513" r="42316" b="43361"/>
          <a:stretch/>
        </p:blipFill>
        <p:spPr>
          <a:xfrm>
            <a:off x="1692360" y="1268280"/>
            <a:ext cx="640872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43280" y="2565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ручим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xcel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делать это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е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 Для этого в ячейк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4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ведем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а 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5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28464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делим обе ячейки мышкой, подведем указа-тель мыши в правый нижний угол выделенной области так, чтобы он превратился 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жирный плюс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и потянем выделение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2920" y="22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2637000"/>
            <a:ext cx="0" cy="1512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родолжаем вводить данные ..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5119" t="17513" r="47046" b="45576"/>
          <a:stretch/>
        </p:blipFill>
        <p:spPr>
          <a:xfrm>
            <a:off x="1042920" y="1773360"/>
            <a:ext cx="5832720" cy="360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773440" y="31417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я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4920" y="39337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Заполним таблицу д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родолжаем вводить данные ..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2773440" y="31417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я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4920" y="39337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Заполним таблицу д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5899" t="17431" r="48035" b="37532"/>
          <a:stretch/>
        </p:blipFill>
        <p:spPr>
          <a:xfrm>
            <a:off x="1692360" y="1268280"/>
            <a:ext cx="561636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56000" y="3789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 оформлении нашей таблицы у ячеек нет гран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479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обавим границы яче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Границы ячеек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4133" t="9609" r="37377" b="35771"/>
          <a:stretch/>
        </p:blipFill>
        <p:spPr>
          <a:xfrm>
            <a:off x="969840" y="1125360"/>
            <a:ext cx="7131240" cy="532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17280" y="438480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ля этого выделяем диапазон всех наших ячеек ле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клавише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1800" y="5157720"/>
            <a:ext cx="53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отом на Панели инструментов находим кноп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раницы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 из списка выбираем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се г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197000"/>
            <a:ext cx="1368360" cy="136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81640" y="1222200"/>
            <a:ext cx="100800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2960" y="2276640"/>
            <a:ext cx="5637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1125360"/>
            <a:ext cx="360360" cy="36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ычисления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1280" y="162864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ак определить сколько стоят 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3 волшебных палочки?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2560" y="3357720"/>
            <a:ext cx="79218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Для этого нужно умножить цену 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одной палочки на их количество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6920" y="5084640"/>
            <a:ext cx="792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ычисления в Excel проводятся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 помощью формул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5280" y="1413000"/>
            <a:ext cx="8435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 ячейке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4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нам нужно получить произведение содержимого ячеек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Цена (С4)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Количество (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чейк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ишем «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ой кнопкой щелкнуть на ячейк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этом Excel подставит в формулу ссылку автоматичес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знак операции: «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ой кнопкой щелкнуть на ячейк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ать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чейк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результат вычислений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900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ернуться на ячей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в строке формул вы увидите: «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4*E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812000" y="549360"/>
            <a:ext cx="1000080" cy="806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вод формулы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838836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10800" y="5373"/>
                </a:moveTo>
                <a:lnTo>
                  <a:pt x="13376" y="7984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6"/>
                </a:lnTo>
                <a:lnTo>
                  <a:pt x="16109" y="12336"/>
                </a:lnTo>
                <a:lnTo>
                  <a:pt x="16109" y="19525"/>
                </a:lnTo>
                <a:lnTo>
                  <a:pt x="5491" y="19525"/>
                </a:lnTo>
                <a:lnTo>
                  <a:pt x="5491" y="12336"/>
                </a:lnTo>
                <a:lnTo>
                  <a:pt x="3837" y="12336"/>
                </a:lnTo>
                <a:close/>
              </a:path>
              <a:path fill="darkenLess" w="21600" h="24672">
                <a:moveTo>
                  <a:pt x="13376" y="7984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2">
                <a:moveTo>
                  <a:pt x="9877" y="15835"/>
                </a:moveTo>
                <a:lnTo>
                  <a:pt x="11723" y="15835"/>
                </a:lnTo>
                <a:lnTo>
                  <a:pt x="11723" y="19525"/>
                </a:lnTo>
                <a:lnTo>
                  <a:pt x="16109" y="19525"/>
                </a:lnTo>
                <a:lnTo>
                  <a:pt x="16109" y="12336"/>
                </a:lnTo>
                <a:lnTo>
                  <a:pt x="5491" y="12336"/>
                </a:lnTo>
                <a:lnTo>
                  <a:pt x="5491" y="19525"/>
                </a:lnTo>
                <a:lnTo>
                  <a:pt x="9877" y="19525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19999200">
            <a:off x="1618920" y="3644640"/>
            <a:ext cx="6767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Только в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"Аленьком цветочке"!!!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 rot="21252000">
            <a:off x="1031400" y="2781360"/>
            <a:ext cx="4708800" cy="25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алочка 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олшебная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 rot="1066200">
            <a:off x="3011040" y="2770200"/>
            <a:ext cx="5742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ковер-самолет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 rot="689400">
            <a:off x="2771640" y="5300640"/>
            <a:ext cx="4734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сапоги-скороходы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3357720"/>
            <a:ext cx="749016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и многое-многое другое!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ычисления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5314" t="14762" r="46851" b="50083"/>
          <a:stretch/>
        </p:blipFill>
        <p:spPr>
          <a:xfrm>
            <a:off x="1547640" y="1268280"/>
            <a:ext cx="6553440" cy="385308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Копирова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5314" t="14748" r="42125" b="32829"/>
          <a:stretch/>
        </p:blipFill>
        <p:spPr>
          <a:xfrm>
            <a:off x="1258920" y="1052640"/>
            <a:ext cx="6408720" cy="5113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92360" y="39337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xcel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удобно копировать любые данные, в т.ч. и форму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48690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копируем формулу из ячейки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4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остальные ячейки столбца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тоимость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 помощью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220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565360"/>
            <a:ext cx="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3543" t="14762" r="46837" b="47868"/>
          <a:stretch/>
        </p:blipFill>
        <p:spPr>
          <a:xfrm>
            <a:off x="1547640" y="1484280"/>
            <a:ext cx="6050160" cy="3645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Копирова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2681640" y="4313160"/>
            <a:ext cx="31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042920" y="404640"/>
            <a:ext cx="7274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Автосуммирова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42920" y="177336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В Excel много удобных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встроенных функций.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42920" y="3716280"/>
            <a:ext cx="71406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Одна из них -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Автосуммирование.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826920" y="333360"/>
            <a:ext cx="7274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Автосуммирова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5314" t="5925" r="42125" b="43150"/>
          <a:stretch/>
        </p:blipFill>
        <p:spPr>
          <a:xfrm>
            <a:off x="1403280" y="1341360"/>
            <a:ext cx="6408720" cy="4967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65800" y="5032440"/>
            <a:ext cx="61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статочно щелкнуть мышкой сначала по ячей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де нужно получить сумму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а потом –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начку Автосуммирование (</a:t>
            </a:r>
            <a:r>
              <a:rPr b="1" lang="el-GR" sz="18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) на Панели инстр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жмите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E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1280" y="1413000"/>
            <a:ext cx="504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826920" y="333360"/>
            <a:ext cx="7274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Форматирование ячеек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5314" t="9587" r="37383" b="38008"/>
          <a:stretch/>
        </p:blipFill>
        <p:spPr>
          <a:xfrm>
            <a:off x="1114560" y="1125360"/>
            <a:ext cx="6986520" cy="5112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49800" y="4437000"/>
            <a:ext cx="645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числения в этой задаче закон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сталось придать всей таблице более красивый в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ля этого используетс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форматирование ячеек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ровнять данные в ячейках можно как в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использ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нопки форматирования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на панели инструментов или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1197000"/>
            <a:ext cx="647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29640" y="13604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Форма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Форматирование яче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, текст выравнивается по левому краю (по горизонтали), а числа -- по правому (по горизонтали). По вертикали данные выровнены по нижнему кр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 горизонт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поменять с помощью кнопок на панели инструментов "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Форма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(слева направо)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нопк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левому краю, по центру и по правому кр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 вертик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меняется с помощью окна "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Формат ячее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закладка "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ыравн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95640" y="3789360"/>
            <a:ext cx="230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388360" y="616752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равнивание по вертикали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кно "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Формат ячее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ладка "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Выравнив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97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40720" y="628344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вод и редактирование данных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 ячей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ля ввода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дну ячейку достаточно сделать ее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актив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щелкнуть по ней мышкой) и начать набирать д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ля выхода из режима редактирования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нужно нажать "Enter" или "Tab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 Если до этого в ячейке были данные, они сотру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ля изменения данных в ячейке, делаем ее активной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елаем на ней двойной щелч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жимаем "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F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щелкаем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строке форму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в ней изменяем содержимое ячейки, для завершения нажимаем "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En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ля принудительного ввода разрыва стро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точно в нужном месте текста ячейки нажать "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Alt+En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1000080" cy="806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826920" y="333360"/>
            <a:ext cx="7274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На уроке мы научились: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1844640"/>
            <a:ext cx="669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вать таблицу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водить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ить формулы и проводить рас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тировать содержимое яче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371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юсь, что дальнейшая работа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жет вам решать более серьезны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0" y="515772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Успехов!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98400"/>
                <a:gridCol w="2090880"/>
                <a:gridCol w="1395360"/>
                <a:gridCol w="1395360"/>
                <a:gridCol w="1393920"/>
                <a:gridCol w="1255680"/>
              </a:tblGrid>
              <a:tr h="378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йс-лист ООО «Аленький цветоче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менование тов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на 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лочка вол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елье приворот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и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да жи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и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да мерт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и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вер-само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катерть-самобра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поги-скор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ягушка-цар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1835280" y="404640"/>
            <a:ext cx="5295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Срочно нужно купить: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24000" y="2054160"/>
            <a:ext cx="5926320" cy="480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71640" y="3500280"/>
            <a:ext cx="49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Сколько для этого нужно денег?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295280" y="2637000"/>
            <a:ext cx="6877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С помощью какой программы?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1280" y="981000"/>
            <a:ext cx="79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Как компьютер может помочь решить эту задачу?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31760" y="4149720"/>
            <a:ext cx="71406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Excel - электронные таблицы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Назначение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Автоматизация вычис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Наглядное представление данных в графическом ви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Моделирование различны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Окно программы MS Excel: Основные объекты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Основные элементы рабочего окна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4294080"/>
            <a:ext cx="698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Интерфейс Excel во многом совпадает 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с интерфейсом Word.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2205000"/>
            <a:ext cx="280836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4033800"/>
            <a:ext cx="1295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Как решить нашу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Основные объекты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Ввод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Автоза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Границы яч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Ввод форм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Форматирование яч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0" t="14762" r="48608" b="51272"/>
          <a:stretch/>
        </p:blipFill>
        <p:spPr>
          <a:xfrm>
            <a:off x="1476360" y="2205000"/>
            <a:ext cx="6265800" cy="3313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17960" y="325296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Каждый лист представляет собой таб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5600" y="4044960"/>
            <a:ext cx="3461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Таблица состоит из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столб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86040" y="2421000"/>
            <a:ext cx="576000" cy="316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6160" y="2421000"/>
            <a:ext cx="585720" cy="316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2749680"/>
            <a:ext cx="5832720" cy="142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0080" y="2924280"/>
            <a:ext cx="5832720" cy="142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7080" y="44766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47640" y="692280"/>
            <a:ext cx="597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Основные объекты Excel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14762" r="48608" b="51272"/>
          <a:stretch/>
        </p:blipFill>
        <p:spPr>
          <a:xfrm>
            <a:off x="1476360" y="2260440"/>
            <a:ext cx="6265800" cy="3313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84000" y="3284640"/>
            <a:ext cx="49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толбцы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обозначаются буквами лат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лфавита от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и т.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82800" y="2460600"/>
            <a:ext cx="576360" cy="144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2460600"/>
            <a:ext cx="576360" cy="144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08240" y="2460600"/>
            <a:ext cx="576360" cy="144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64400" y="2460600"/>
            <a:ext cx="576360" cy="144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4365720"/>
            <a:ext cx="49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бозначаются обычными арабск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31880" y="2630520"/>
            <a:ext cx="216000" cy="144360"/>
          </a:xfrm>
          <a:prstGeom prst="rect">
            <a:avLst/>
          </a:prstGeom>
          <a:solidFill>
            <a:srgbClr val="bbe0e3">
              <a:alpha val="2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31880" y="2781360"/>
            <a:ext cx="216000" cy="144360"/>
          </a:xfrm>
          <a:prstGeom prst="rect">
            <a:avLst/>
          </a:prstGeom>
          <a:solidFill>
            <a:srgbClr val="bbe0e3">
              <a:alpha val="2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1880" y="2943360"/>
            <a:ext cx="216000" cy="144360"/>
          </a:xfrm>
          <a:prstGeom prst="rect">
            <a:avLst/>
          </a:prstGeom>
          <a:solidFill>
            <a:srgbClr val="bbe0e3">
              <a:alpha val="2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31880" y="4076640"/>
            <a:ext cx="216000" cy="144360"/>
          </a:xfrm>
          <a:prstGeom prst="rect">
            <a:avLst/>
          </a:prstGeom>
          <a:solidFill>
            <a:srgbClr val="bbe0e3">
              <a:alpha val="2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47640" y="692280"/>
            <a:ext cx="597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Основные объекты Excel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20:13:26Z</dcterms:created>
  <dc:creator>Natali</dc:creator>
  <dc:description/>
  <dc:language>en-US</dc:language>
  <cp:lastModifiedBy>Natali</cp:lastModifiedBy>
  <dcterms:modified xsi:type="dcterms:W3CDTF">2012-02-22T20:02:13Z</dcterms:modified>
  <cp:revision>43</cp:revision>
  <dc:subject/>
  <dc:title>Слайд 1</dc:title>
</cp:coreProperties>
</file>