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14D-B582-4391-B7E4-8C81185B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1D5-6754-4B2E-90B8-A8594763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206-EDD9-4C86-940B-6FCAF978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CA3-A29D-4F86-9537-AAFB2FB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FE9-E95B-4592-9A93-8BA4619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F3A-4A15-4A87-8C33-6C01E782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68-792C-44C0-886B-8A8EFD32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D8F-A736-48AB-AB5A-7E7FB46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B51-817F-4FAF-AE09-0A173D7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6A0-9067-4F27-A385-A07A1B6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CD9-2C17-4784-B2FD-ED42519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EF3-FCDD-4443-B5BA-62D6083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16BE-E741-44DC-9BEE-24EEE2E4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637000"/>
            <a:ext cx="6767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Покупки в волшебном магазине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"Аленький цветочек"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616720"/>
            <a:ext cx="3743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резентация для 7- 8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Хазова Н.Б. учитель информатики           ЛИЕН  г.С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11802" r="42712" b="46111"/>
          <a:stretch/>
        </p:blipFill>
        <p:spPr>
          <a:xfrm>
            <a:off x="1042920" y="1555920"/>
            <a:ext cx="6985080" cy="410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3512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7840" y="3141720"/>
            <a:ext cx="635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ресечении столбца и строки находится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ячей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ая ячейка имеет свой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никальный адр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составляется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з буквы столб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омера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пример «В4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3880" y="2689200"/>
            <a:ext cx="576000" cy="1634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2000" y="189000"/>
            <a:ext cx="59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8360" y="260280"/>
            <a:ext cx="851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чинаем вводить наши покупки 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 таблицу Excel.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771" t="14032" r="39754" b="38721"/>
          <a:stretch/>
        </p:blipFill>
        <p:spPr>
          <a:xfrm>
            <a:off x="826920" y="1844640"/>
            <a:ext cx="7129800" cy="460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2997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Что делать, если в какой-то ячейке не умещаются наши дан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52775" t="26064" r="35906" b="65161"/>
          <a:stretch/>
        </p:blipFill>
        <p:spPr>
          <a:xfrm>
            <a:off x="2363760" y="2133720"/>
            <a:ext cx="432000" cy="1458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332000" y="393372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величить ширину столбц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этого подведите указатель мыши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на грани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между именами столбцо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тобы он преврати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трелочку, как показ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яните мышкой за стрелочку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ак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ячейке уместился тек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8360" y="260280"/>
            <a:ext cx="851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чинаем вводить наши покупки 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 таблицу Excel.</a:t>
            </a:r>
            <a:endParaRPr b="1" lang="en-US" sz="2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5326" t="17727" r="35015" b="35025"/>
          <a:stretch/>
        </p:blipFill>
        <p:spPr>
          <a:xfrm>
            <a:off x="900000" y="1773360"/>
            <a:ext cx="7274160" cy="46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386064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зультат изменения ширины яч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979640" y="40464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5899" t="17708" r="46264" b="43169"/>
          <a:stretch/>
        </p:blipFill>
        <p:spPr>
          <a:xfrm>
            <a:off x="1692360" y="1557360"/>
            <a:ext cx="5832360" cy="381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98920" y="2708280"/>
            <a:ext cx="424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шапку таблицы, подби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ширину яче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716280"/>
            <a:ext cx="424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алее заполним 1 столбец табл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одержащий ном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заполне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5119" t="17513" r="42316" b="43361"/>
          <a:stretch/>
        </p:blipFill>
        <p:spPr>
          <a:xfrm>
            <a:off x="1692360" y="1268280"/>
            <a:ext cx="640872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43280" y="256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ручим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делать это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 Для этого в ячейк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4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ведем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а 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5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делим обе ячейки мышкой, подведем указа-тель мыши в правый нижний угол выделенной области так, чтобы он превратился 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жирный плюс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и потянем выделение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2920" y="22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637000"/>
            <a:ext cx="0" cy="1512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5119" t="17513" r="47046" b="45576"/>
          <a:stretch/>
        </p:blipFill>
        <p:spPr>
          <a:xfrm>
            <a:off x="1042920" y="1773360"/>
            <a:ext cx="5832720" cy="360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73440" y="3141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4920" y="39337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таблицу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родолжаем вводить данные ..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141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4920" y="39337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полним таблицу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5899" t="17431" r="48035" b="37532"/>
          <a:stretch/>
        </p:blipFill>
        <p:spPr>
          <a:xfrm>
            <a:off x="1692360" y="1268280"/>
            <a:ext cx="561636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6000" y="3789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 оформлении нашей таблицы у ячеек нет гран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79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обавим границы яче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Границы ячеек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4133" t="9609" r="37377" b="35771"/>
          <a:stretch/>
        </p:blipFill>
        <p:spPr>
          <a:xfrm>
            <a:off x="969840" y="1125360"/>
            <a:ext cx="7131240" cy="532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17280" y="43848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ля этого выделяем диапазон всех наших ячеек ле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лавише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800" y="51577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том на Панели инструментов находим кноп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раниц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из списка выбираем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се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197000"/>
            <a:ext cx="136836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1640" y="1222200"/>
            <a:ext cx="10080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2960" y="2276640"/>
            <a:ext cx="5637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125360"/>
            <a:ext cx="360360" cy="36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162864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ак определить сколько стоят 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3 волшебных палочки?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2560" y="3357720"/>
            <a:ext cx="79218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Для этого нужно умножить цену 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одной палочки на их количество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920" y="50846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 проводятся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 помощью формул.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1413000"/>
            <a:ext cx="8435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 ячейке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нам нужно получить произведение содержимого ячеек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Цена (С4)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Количество (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шем «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 кнопкой щелкнуть на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этом Excel подставит в формулу ссылку автоматичес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знак операции: «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 кнопкой щелкнуть на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результат вычислений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900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ернуться на ячей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в строке формул вы увидите: «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4*E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812000" y="549360"/>
            <a:ext cx="1000080" cy="806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вод формулы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838836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10800" y="5373"/>
                </a:moveTo>
                <a:lnTo>
                  <a:pt x="13376" y="7984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6"/>
                </a:lnTo>
                <a:lnTo>
                  <a:pt x="16109" y="12336"/>
                </a:lnTo>
                <a:lnTo>
                  <a:pt x="16109" y="19525"/>
                </a:lnTo>
                <a:lnTo>
                  <a:pt x="5491" y="19525"/>
                </a:lnTo>
                <a:lnTo>
                  <a:pt x="5491" y="12336"/>
                </a:lnTo>
                <a:lnTo>
                  <a:pt x="3837" y="12336"/>
                </a:lnTo>
                <a:close/>
              </a:path>
              <a:path fill="darkenLess" w="21600" h="24672">
                <a:moveTo>
                  <a:pt x="13376" y="7984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2">
                <a:moveTo>
                  <a:pt x="9877" y="15835"/>
                </a:moveTo>
                <a:lnTo>
                  <a:pt x="11723" y="15835"/>
                </a:lnTo>
                <a:lnTo>
                  <a:pt x="11723" y="19525"/>
                </a:lnTo>
                <a:lnTo>
                  <a:pt x="16109" y="19525"/>
                </a:lnTo>
                <a:lnTo>
                  <a:pt x="16109" y="12336"/>
                </a:lnTo>
                <a:lnTo>
                  <a:pt x="5491" y="12336"/>
                </a:lnTo>
                <a:lnTo>
                  <a:pt x="5491" y="19525"/>
                </a:lnTo>
                <a:lnTo>
                  <a:pt x="9877" y="19525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9999200">
            <a:off x="1618920" y="3644640"/>
            <a:ext cx="676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Только в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"Аленьком цветочке"!!!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 rot="21252000">
            <a:off x="1031400" y="2781360"/>
            <a:ext cx="470880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алочка 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олшебная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 rot="1066200">
            <a:off x="3011040" y="2770200"/>
            <a:ext cx="5742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ковер-самолет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 rot="689400">
            <a:off x="2771640" y="5300640"/>
            <a:ext cx="4734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сапоги-скороходы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3357720"/>
            <a:ext cx="749016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и многое-многое другое!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числения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5314" t="14762" r="46851" b="50083"/>
          <a:stretch/>
        </p:blipFill>
        <p:spPr>
          <a:xfrm>
            <a:off x="1547640" y="1268280"/>
            <a:ext cx="6553440" cy="385308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оп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5314" t="14748" r="42125" b="32829"/>
          <a:stretch/>
        </p:blipFill>
        <p:spPr>
          <a:xfrm>
            <a:off x="1258920" y="1052640"/>
            <a:ext cx="6408720" cy="511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92360" y="3933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cel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удобно копировать любые данные, в т.ч. и форм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4869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опируем формулу из ячейки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4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остальные ячейки столбца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тоимость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 помощью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220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56536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3543" t="14762" r="46837" b="47868"/>
          <a:stretch/>
        </p:blipFill>
        <p:spPr>
          <a:xfrm>
            <a:off x="1547640" y="1484280"/>
            <a:ext cx="6050160" cy="364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97964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оп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2681640" y="4313160"/>
            <a:ext cx="31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автоза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042920" y="404640"/>
            <a:ext cx="7274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сумм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920" y="177336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В Excel много удобных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встроенных функций.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3716280"/>
            <a:ext cx="7140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Одна из них -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Автосуммирование.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Автосуммирование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5314" t="5925" r="42125" b="43150"/>
          <a:stretch/>
        </p:blipFill>
        <p:spPr>
          <a:xfrm>
            <a:off x="1403280" y="1341360"/>
            <a:ext cx="6408720" cy="4967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5800" y="5032440"/>
            <a:ext cx="61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статочно щелкнуть мышкой сначала по ячей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де нужно получить сумму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а потом –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начку Автосуммирование (</a:t>
            </a:r>
            <a:r>
              <a:rPr b="1" lang="el-GR" sz="1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) на Панели инстр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жмите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1280" y="141300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Форматирование ячеек в Excel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5314" t="9587" r="37383" b="38008"/>
          <a:stretch/>
        </p:blipFill>
        <p:spPr>
          <a:xfrm>
            <a:off x="1114560" y="1125360"/>
            <a:ext cx="6986520" cy="5112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49800" y="4437000"/>
            <a:ext cx="645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числения в этой задаче закон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сталось придать всей таблице более красивы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этого использу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форматирование ячеек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ровнять данные в ячейках можно как в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использ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нопки форматирования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на панели инструментов ил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1197000"/>
            <a:ext cx="647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29640" y="1360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Форма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Форматирование яче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, текст выравнивается по левому краю (по горизонтали), а числа -- по правому (по горизонтали). По вертикали данные выровнены по нижнему кр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 горизон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поменять с помощью кнопок на панели инструментов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Форма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(слева направо)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нопк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левому краю, по центру и по прав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 вертик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меняется с помощью окна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Формат ячее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закладка "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равн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230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8360" y="616752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внивание по вертикали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но "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Формат ячее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адка "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Выравни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97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40720" y="628344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вод и редактирование данных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 ячей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ввода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дну ячейку достаточно сделать ее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кти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щелкнуть по ней мышкой) и начать набирать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выхода из режима редактирова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нужно нажать "Enter" или "Tab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 Если до этого в ячейке были данные, они сотру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изменения данных в ячейке, делаем ее активной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елаем на ней двойной щелч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жимаем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F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щелкаем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строке форму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в ней изменяем содержимое ячейки, для завершения нажимаем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E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ля принудительного ввода разрыва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точно в нужном месте текста ячейки нажать "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Alt+E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1000080" cy="80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6920" y="333360"/>
            <a:ext cx="727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На уроке мы научились: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1844640"/>
            <a:ext cx="669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вать таблицу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водить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ить формулы и проводить 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тировать содержимое яче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71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юсь, что дальнейшая работа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т вам решать более серьез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Успехов!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98400"/>
                <a:gridCol w="2090880"/>
                <a:gridCol w="1395360"/>
                <a:gridCol w="1395360"/>
                <a:gridCol w="1393920"/>
                <a:gridCol w="1255680"/>
              </a:tblGrid>
              <a:tr h="378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йс-лист ООО «Аленький цветоче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менование тов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лочка вол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елье приворот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да ж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да мерт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вер-само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атерть-самобр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поги-скор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ягушка-цар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1835280" y="404640"/>
            <a:ext cx="5295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Срочно нужно купить: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24000" y="2054160"/>
            <a:ext cx="5926320" cy="480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71640" y="3500280"/>
            <a:ext cx="49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колько для этого нужно денег?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295280" y="2637000"/>
            <a:ext cx="6877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 помощью какой программы?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98100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ак компьютер может помочь решить эту задачу?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31760" y="4149720"/>
            <a:ext cx="7140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Excel - электронные таблицы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Назначение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вычис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Наглядное представление данных в графическом ви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оделирование различны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Окно программы MS Excel: Основные объекты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Основные элементы рабочего окна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429408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Интерфейс Excel во многом совпадает 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 интерфейсом Word.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205000"/>
            <a:ext cx="280836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4033800"/>
            <a:ext cx="1295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Как решить нашу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Основные объект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вод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Автоза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Границы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вод форм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Форматирование яч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14762" r="48608" b="51272"/>
          <a:stretch/>
        </p:blipFill>
        <p:spPr>
          <a:xfrm>
            <a:off x="1476360" y="2205000"/>
            <a:ext cx="626580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17960" y="325296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Каждый лист представляет собой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5600" y="4044960"/>
            <a:ext cx="346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Таблица состоит из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стол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86040" y="2421000"/>
            <a:ext cx="576000" cy="316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6160" y="2421000"/>
            <a:ext cx="585720" cy="316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2749680"/>
            <a:ext cx="5832720" cy="142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0080" y="2924280"/>
            <a:ext cx="5832720" cy="142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7080" y="44766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47640" y="69228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Костя\Documents\foni dlya prezentacii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14762" r="48608" b="51272"/>
          <a:stretch/>
        </p:blipFill>
        <p:spPr>
          <a:xfrm>
            <a:off x="1476360" y="2260440"/>
            <a:ext cx="6265800" cy="33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84000" y="3284640"/>
            <a:ext cx="49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толбцы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обозначаются буквами лат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лфавита от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280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0824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64400" y="2460600"/>
            <a:ext cx="576360" cy="144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365720"/>
            <a:ext cx="49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означаются обычными арабск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31880" y="263052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31880" y="278136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1880" y="294336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31880" y="4076640"/>
            <a:ext cx="216000" cy="144360"/>
          </a:xfrm>
          <a:prstGeom prst="rect">
            <a:avLst/>
          </a:prstGeom>
          <a:solidFill>
            <a:srgbClr val="bbe0e3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47640" y="692280"/>
            <a:ext cx="597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сновные объекты Excel</a:t>
            </a:r>
            <a:endParaRPr b="1" lang="en-US" sz="40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8360" y="595008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10800" y="5366"/>
                </a:moveTo>
                <a:lnTo>
                  <a:pt x="13376" y="7977"/>
                </a:ln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lnTo>
                  <a:pt x="17763" y="12329"/>
                </a:lnTo>
                <a:lnTo>
                  <a:pt x="16109" y="12329"/>
                </a:lnTo>
                <a:lnTo>
                  <a:pt x="16109" y="19518"/>
                </a:lnTo>
                <a:lnTo>
                  <a:pt x="5491" y="19518"/>
                </a:lnTo>
                <a:lnTo>
                  <a:pt x="5491" y="12329"/>
                </a:lnTo>
                <a:lnTo>
                  <a:pt x="3837" y="12329"/>
                </a:lnTo>
                <a:close/>
              </a:path>
              <a:path fill="darkenLess" w="21600" h="24657">
                <a:moveTo>
                  <a:pt x="13376" y="7977"/>
                </a:moveTo>
                <a:lnTo>
                  <a:pt x="13376" y="6236"/>
                </a:lnTo>
                <a:lnTo>
                  <a:pt x="15152" y="6236"/>
                </a:lnTo>
                <a:lnTo>
                  <a:pt x="15152" y="9752"/>
                </a:lnTo>
                <a:close/>
              </a:path>
              <a:path fill="darkenLess" w="21600" h="24657">
                <a:moveTo>
                  <a:pt x="9877" y="15827"/>
                </a:moveTo>
                <a:lnTo>
                  <a:pt x="11723" y="15827"/>
                </a:lnTo>
                <a:lnTo>
                  <a:pt x="11723" y="19518"/>
                </a:lnTo>
                <a:lnTo>
                  <a:pt x="16109" y="19518"/>
                </a:lnTo>
                <a:lnTo>
                  <a:pt x="16109" y="12329"/>
                </a:lnTo>
                <a:lnTo>
                  <a:pt x="5491" y="12329"/>
                </a:lnTo>
                <a:lnTo>
                  <a:pt x="5491" y="19518"/>
                </a:lnTo>
                <a:lnTo>
                  <a:pt x="9877" y="1951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20:13:26Z</dcterms:created>
  <dc:creator>Natali</dc:creator>
  <dc:description/>
  <dc:language>en-US</dc:language>
  <cp:lastModifiedBy>Natali</cp:lastModifiedBy>
  <dcterms:modified xsi:type="dcterms:W3CDTF">2012-02-22T20:02:13Z</dcterms:modified>
  <cp:revision>43</cp:revision>
  <dc:subject/>
  <dc:title>Слайд 1</dc:title>
</cp:coreProperties>
</file>