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E91-0975-474C-AA23-7B243C84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720-1BDB-4108-9F9F-E75D57DD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EE6-0151-40E3-8CA9-9650C9E4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F91-8BA8-40A9-A973-C88A186F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42DF-4B2C-4594-BA5A-4864B33C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1CD3-15F6-4F04-B5B7-317B9091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D1B1-DD58-4EDE-A06E-F6E28F75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EA36-F36D-4039-AF29-FDDC498C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D1EA-5600-48A2-A3B9-04C2FC45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F26C-97E5-4B9D-AD05-AE9060FF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CDA5-454F-4D75-92E1-8DDB7C94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B02-729D-4359-BDE4-E4B9F6DA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B07A-7A11-484C-8407-AF133ECC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D632-77C3-4DBF-8D1B-0851FDB4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587F-D8A1-47FA-A2D4-C580B263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91FB-688C-4209-B4B5-683D8589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DBB3-BBAD-4D71-B66C-C8A444D9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EAE-F795-49CD-ACCE-0E05BA11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20D-F09E-46A5-B1BF-66E3274C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A9D-5D6F-41E1-BDBE-06B8A9EC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507-AF51-4FDA-83E2-D9358E12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8C2-C8AB-469B-9374-DE82B98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56F-62CA-46AE-82E8-F046B15E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6AA-DB05-4EA7-8993-BF15C317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7F8E-3169-4E3B-8BB9-BF935A2739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4E7D-D782-4A01-9E84-0D0894D472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омпьютер и здоровье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99640" y="2204640"/>
            <a:ext cx="7272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с интересует эта тема? Вы совершенно правы! Человеку, много времени проводящему у монитора, надо знать, каково влияние компьютера на здоров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мпьютер и беременн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асны ли компьютеры для беременных? Безусловно, некоторое негативное влияние на протекание беременности и развитие плода компьютер оказать может, но насколько сильное? Единого мнения на этот счет у врачей еще не сложилось.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лияние компьютера на психик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, на наш взгляд, очень дискуссионная. Игромания, интернет-зависимость - насколько серьезны эти проблемы? Как сильно влияет компьютер на психическое здоровье людей? Предлагаем вашему вниманию разные точки зрения на эти вопрос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ботайте на компьютере и будьте здоровы!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11" descr="DSC00120.JPG"/>
          <p:cNvPicPr/>
          <p:nvPr/>
        </p:nvPicPr>
        <p:blipFill>
          <a:blip r:embed="rId1"/>
          <a:stretch/>
        </p:blipFill>
        <p:spPr>
          <a:xfrm>
            <a:off x="3276720" y="1628640"/>
            <a:ext cx="2305080" cy="317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7" name="TextBox 16"/>
          <p:cNvSpPr/>
          <p:nvPr/>
        </p:nvSpPr>
        <p:spPr>
          <a:xfrm>
            <a:off x="3276720" y="51814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 10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«СОШ п. Знаме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ирилин Алек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771640" y="476280"/>
            <a:ext cx="309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то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www.preferat.allserver.r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й же вред здоровью наносит компьютер и как этот вред минимизировать? Как сохранить красоту и здоровье человеку, просиживающему днями и ночами за монитором, как совместить здоровый образ жизни и работу за компьютеро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358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новные вредные факторы, влияющие на состояние здоровья людей, работающих за компьютер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дячее положение в течение длительного време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действие электромагнитного излучения монитор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томление глаз, нагрузка на зр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грузка суставов кистей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сс при потере информ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дячее полож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алось бы, за компьютером человек сидит в расслабленной позе, однако она является для организма вынужденной и неприятной: напряжены шея, мышцы головы, руки и плечи, отсюда излишняя нагрузка на позвоночник, остеохондроз, а у детей - сколиоз. У тех, кто много сидит, между сиденьем стула и телом образуется своего рода тепловой компресс, что ведет к застою крови в тазовых органах, как следствие - простатит и геморрой, болезни, лечение которых - процесс длительный и малоприятный. Кроме того, малоподвижный образ жизни часто приводит к ожирению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лектромагнитное излуч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ременные мониторы стали безопаснее для здоровья, но еще не полностью. А если на Вашем столе совсем старенький монитор, лучше держитесь от него подальш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здействие на зр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лаза регистрируют самую мелкую вибрацию текста или картинки, а тем более мерцание экрана. Перегрузка глаз приводит к потере остроты зрения. Плохо сказываются на зрении неудачный подбор цвета, шрифтов, компоновки окон в используемых Вами программах, неправильное расположение экра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егрузка суставов кистей ру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рвные окончания подушечек пальцев как бы разбиваются от постоянных ударов по клавишам, возникают онемение, слабость, в подушечках бегают мурашки. Это может привести к повреждению суставного и связочного аппарата кисти, а в дальнейшем заболевания кисти могут стать хроническим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ресс при потере информа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леко не все пользователи регулярно делают резервные копии своей информации. А ведь и вирусы не дремлют, и винчестеры лучших фирм, бывает, ломаются, и самый опытный программист может иногда нажать не ту кнопку... В результате такого стресса случались и инфаркты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ыль и грязь: аллергия и кишечные инфек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ыли и грязи в компьютере и вокруг него со временем скапливается немало, причем убрать их зачастую бывает весьма сложно. А где грязь, там и всяческие микробы, бактерии и грибки, где пыль, там и пылевые клещи. Все это может спровоцировать самые разные заболевания - от аллергии до "болезней грязных рук"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35:04Z</dcterms:created>
  <dc:creator>Admin</dc:creator>
  <dc:description/>
  <dc:language>en-US</dc:language>
  <cp:lastModifiedBy>РРР</cp:lastModifiedBy>
  <dcterms:modified xsi:type="dcterms:W3CDTF">2009-02-10T18:31:07Z</dcterms:modified>
  <cp:revision>3</cp:revision>
  <dc:subject/>
  <dc:title>Компьютер и здоровье </dc:title>
</cp:coreProperties>
</file>