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291-2F7E-462A-973C-8FED69F3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89C7-BAB8-4E41-B36B-405D5ABC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B2CA-0DB1-42C9-B7A7-8C5ABB8D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D5B-8DE0-459A-834B-7123700A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F0ED-9C6A-457F-82D8-5E988127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7B0C-2588-4439-BEFA-FD63DB3D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6576-524D-46E8-964B-58180645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E9DA-2F8E-4A6D-B74E-7973B5C7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D013-0700-4954-B735-869A275D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26D9-6997-479A-9536-2F9B745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597A-E5E8-46D0-8F0F-390D916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0E9-B524-43CE-8B84-35BC355A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1AAE-8D66-4258-9DB5-E9EF5F8A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5984-71AB-42C2-94F9-86C15FC1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687F-C6C4-4BC7-80B3-7364E75B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7F2B-2371-4C5F-A551-07502E15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01FB-962B-4C82-AFC5-D1028372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F0E-5CB0-4CF3-9E88-6B7B90A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339-54C0-4933-91F0-1AD03FAB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862-633C-42F4-8EA4-E3D26489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6A1-5DE1-43B9-B9F4-E17E3706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A4B-361A-4C32-87E5-417663D9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1DC-639A-4F8D-A4F1-279A7377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E84-D795-440E-B1C8-9B770A41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D2DA-D85E-435C-B4D7-558964A006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223A-76AA-4D97-8A52-AA3A21CF59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омпьютер и здоровье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99640" y="2204640"/>
            <a:ext cx="72723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с интересует эта тема? Вы совершенно правы! Человеку, много времени проводящему у монитора, надо знать, каково влияние компьютера на здоров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мпьютер и береме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ы ли компьютеры для беременных? Безусловно, некоторое негативное влияние на протекание беременности и развитие плода компьютер оказать может, но насколько сильное? Единого мнения на этот счет у врачей еще не сложилось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лияние компьютера на психик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, на наш взгляд, очень дискуссионная. Игромания, интернет-зависимость - насколько серьезны эти проблемы? Как сильно влияет компьютер на психическое здоровье людей? Предлагаем вашему вниманию разные точки зрения на эти вопросы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ботайте на компьютере и будьте здоровы!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Содержимое 11" descr="DSC00120.JPG"/>
          <p:cNvPicPr/>
          <p:nvPr/>
        </p:nvPicPr>
        <p:blipFill>
          <a:blip r:embed="rId1"/>
          <a:stretch/>
        </p:blipFill>
        <p:spPr>
          <a:xfrm>
            <a:off x="3276720" y="1628640"/>
            <a:ext cx="2305080" cy="317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7" name="TextBox 16"/>
          <p:cNvSpPr/>
          <p:nvPr/>
        </p:nvSpPr>
        <p:spPr>
          <a:xfrm>
            <a:off x="3276720" y="51814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 10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«СОШ п. 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ирилин Алекс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71640" y="476280"/>
            <a:ext cx="309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то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preferat.allserver.r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же вред здоровью наносит компьютер и как этот вред минимизировать? Как сохранить красоту и здоровье человеку, просиживающему днями и ночами за монитором, как совместить здоровый образ жизни и работу за компьютер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358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ные вредные факторы, влияющие на состояние здоровья людей, работающих за компьютер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дячее положение в течение длительного време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здействие электромагнитного излучения монитор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томление глаз, нагрузка на зр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грузка суставов кистей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сс при потере информа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дячее полож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отсюда излишняя нагрузка на позвоночник, остеохондроз, а у детей - сколиоз. У тех, кто много сидит, между сиденьем стула и телом образуется своего рода тепловой компресс, что ведет к застою крови в тазовых органах, как следствие - простатит и геморрой, болезни, лечение которых - процесс длительный и малоприятный. Кроме того, малоподвижный образ жизни часто приводит к ожирению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лектромагнитное излуч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здействие на зр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аза регистрируют самую мелкую вибрацию текста или картинки, а тем более мерцание экрана. Перегрузка глаз приводит к потере остроты зрения. Плохо сказываются на зрении неудачный подбор цвета, шрифтов, компоновки окон в используемых Вами программах, неправильное расположение экра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ерегрузка суставов кистей ру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рвные окончания подушечек пальцев как бы разбиваются от постоянных ударов по клавишам, возникают онемение, слабость, в подушечках бегают мурашки. Это может привести к повреждению суставного и связочного аппарата кисти, а в дальнейшем заболевания кисти могут стать хроническим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ресс при потере информа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леко не все пользователи регулярно делают резервные копии своей информации. А ведь и вирусы не дремлют, и винчестеры лучших фирм, бывает, ломаются, и самый опытный программист может иногда нажать не ту кнопку... В результате такого стресса случались и инфаркты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ыль и грязь: аллергия и кишечные инфек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ыли и грязи в компьютере и вокруг него со временем скапливается немало, причем убрать их зачастую бывает весьма сложно. А где грязь, там и всяческие микробы, бактерии и грибки, где пыль, там и пылевые клещи. Все это может спровоцировать самые разные заболевания - от аллергии до "болезней грязных рук"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35:04Z</dcterms:created>
  <dc:creator>Admin</dc:creator>
  <dc:description/>
  <dc:language>en-US</dc:language>
  <cp:lastModifiedBy>РРР</cp:lastModifiedBy>
  <dcterms:modified xsi:type="dcterms:W3CDTF">2009-02-10T18:31:07Z</dcterms:modified>
  <cp:revision>3</cp:revision>
  <dc:subject/>
  <dc:title>Компьютер и здоровье </dc:title>
</cp:coreProperties>
</file>