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930-17E1-495B-B342-6005D112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D9F9-B795-4E07-94F7-A71E9636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223-DA13-4C87-89D2-DAD367B0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C535-F54F-484E-9DB8-CC300006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72E6-77BE-42AB-AE57-36F7E267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853B-66AC-437E-AA96-F57226DF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94BA-7638-4749-8380-723ADDDD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C14B-DC9E-4841-9868-C39113B3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4CA0-2826-42E9-B6E8-48877D6C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CB6C-3E21-4F96-8676-BC074FC1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5CE1-F2C6-4D75-8044-3FDD2671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1697-175E-4098-BCFF-30213F89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DBDE-4FE4-4694-893D-5CFE8F6F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589B-2F4F-43AB-BA56-FDF37F63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5448-7306-45AE-A606-0FBF4449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2AD8-030B-4986-973C-A04D8813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ED65-34C3-434A-AA8D-176437D2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A94-2F6B-4682-AD20-95DD237B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341-9E6A-4CF1-9E20-D9CC124A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DFD-CA40-432E-8283-AC074127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1A15-952E-4B42-8FB3-CB3466D0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3FD9-28B6-4AEA-996D-3F75722F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BAE-322E-42F5-8143-8DBE0C9F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9D9-74DF-480E-ACC0-710726B3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81DC-8DF3-48B6-86D3-2160E13119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C391-CCF6-4D4F-930C-CCAE615AE0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омпьютер и здоровье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99640" y="2204640"/>
            <a:ext cx="72723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ас интересует эта тема? Вы совершенно правы! Человеку, много времени проводящему у монитора, надо знать, каково влияние компьютера на здоровь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мпьютер и беременнос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асны ли компьютеры для беременных? Безусловно, некоторое негативное влияние на протекание беременности и развитие плода компьютер оказать может, но насколько сильное? Единого мнения на этот счет у врачей еще не сложилось..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лияние компьютера на психик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, на наш взгляд, очень дискуссионная. Игромания, интернет-зависимость - насколько серьезны эти проблемы? Как сильно влияет компьютер на психическое здоровье людей? Предлагаем вашему вниманию разные точки зрения на эти вопросы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ботайте на компьютере и будьте здоровы!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Содержимое 11" descr="DSC00120.JPG"/>
          <p:cNvPicPr/>
          <p:nvPr/>
        </p:nvPicPr>
        <p:blipFill>
          <a:blip r:embed="rId1"/>
          <a:stretch/>
        </p:blipFill>
        <p:spPr>
          <a:xfrm>
            <a:off x="3276720" y="1628640"/>
            <a:ext cx="2305080" cy="3173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7" name="TextBox 16"/>
          <p:cNvSpPr/>
          <p:nvPr/>
        </p:nvSpPr>
        <p:spPr>
          <a:xfrm>
            <a:off x="3276720" y="518148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еник 10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«СОШ п. Знамен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ирилин Алекс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771640" y="476280"/>
            <a:ext cx="309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вто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www.preferat.allserver.ru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й же вред здоровью наносит компьютер и как этот вред минимизировать? Как сохранить красоту и здоровье человеку, просиживающему днями и ночами за монитором, как совместить здоровый образ жизни и работу за компьютером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358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сновные вредные факторы, влияющие на состояние здоровья людей, работающих за компьютеро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дячее положение в течение длительного време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здействие электромагнитного излучения монитор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томление глаз, нагрузка на зрени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грузка суставов кистей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есс при потере информа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дячее полож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залось бы, за компьютером человек сидит в расслабленной позе, однако она является для организма вынужденной и неприятной: напряжены шея, мышцы головы, руки и плечи, отсюда излишняя нагрузка на позвоночник, остеохондроз, а у детей - сколиоз. У тех, кто много сидит, между сиденьем стула и телом образуется своего рода тепловой компресс, что ведет к застою крови в тазовых органах, как следствие - простатит и геморрой, болезни, лечение которых - процесс длительный и малоприятный. Кроме того, малоподвижный образ жизни часто приводит к ожирению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Электромагнитное излучен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ременные мониторы стали безопаснее для здоровья, но еще не полностью. А если на Вашем столе совсем старенький монитор, лучше держитесь от него подальш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здействие на зрен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лаза регистрируют самую мелкую вибрацию текста или картинки, а тем более мерцание экрана. Перегрузка глаз приводит к потере остроты зрения. Плохо сказываются на зрении неудачный подбор цвета, шрифтов, компоновки окон в используемых Вами программах, неправильное расположение экра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ерегрузка суставов кистей ру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рвные окончания подушечек пальцев как бы разбиваются от постоянных ударов по клавишам, возникают онемение, слабость, в подушечках бегают мурашки. Это может привести к повреждению суставного и связочного аппарата кисти, а в дальнейшем заболевания кисти могут стать хроническим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ресс при потере информац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леко не все пользователи регулярно делают резервные копии своей информации. А ведь и вирусы не дремлют, и винчестеры лучших фирм, бывает, ломаются, и самый опытный программист может иногда нажать не ту кнопку... В результате такого стресса случались и инфаркты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ыль и грязь: аллергия и кишечные инфекц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ыли и грязи в компьютере и вокруг него со временем скапливается немало, причем убрать их зачастую бывает весьма сложно. А где грязь, там и всяческие микробы, бактерии и грибки, где пыль, там и пылевые клещи. Все это может спровоцировать самые разные заболевания - от аллергии до "болезней грязных рук"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4:35:04Z</dcterms:created>
  <dc:creator>Admin</dc:creator>
  <dc:description/>
  <dc:language>en-US</dc:language>
  <cp:lastModifiedBy>РРР</cp:lastModifiedBy>
  <dcterms:modified xsi:type="dcterms:W3CDTF">2009-02-10T18:31:07Z</dcterms:modified>
  <cp:revision>3</cp:revision>
  <dc:subject/>
  <dc:title>Компьютер и здоровье </dc:title>
</cp:coreProperties>
</file>