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  <p:custShowLst>
    <p:custShow name="лекция №3 гигиена....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4E2-61A0-42BF-9A1E-530AB2A5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BED-C24D-44DA-9CEE-41044CF4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95A-F165-4EE3-BBDE-35F65863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5D5-4143-4654-A24D-E5A095A2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DC3D-F162-4137-B570-77424BB7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32AB-8752-4E60-A0F6-8109B0B1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943B-7AB6-48E8-B581-21B2B0C7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E2FB-2B3E-493D-81D3-48A1EE16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EB7F-C095-4270-8113-8FD6F2B6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3E32-7E7B-4114-B339-746C29EF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C3F1-3353-4BB2-A416-0990EBE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10B-1F0F-4DC0-B76D-2FA96FB8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3C92-8E33-4EE0-90B4-272713FA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97C5-F515-4F33-A5F8-AB683EA7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3782-8A5C-4BB3-A4EE-8C148D70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7EDD-3A3D-42E6-A138-BF7CC085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1DCB-B3ED-458E-A744-D7738D57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E46-FFEA-4E92-B90F-9A40CB5E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6B7-B358-4065-85EF-51B41DFB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EAC-6110-4A0F-8FD3-710CF91B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EF3-D729-4F72-94F0-51AA262A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BE2-44F3-4E7C-8AB5-5DD08B42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86E-AD1A-44C5-A15C-4F092886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FD2-F5FE-41FF-99E9-6FEFFE6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E734-B64E-451E-8560-6CFAA7ABE26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A14C-F182-43CF-A5D1-CCC94A07681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ЛЕКЦИЯ №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ИГИЕНА И РЕЖИМ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ЕРЕМЕННОЙ ЖЕНЩИ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Др.Нагаева С.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РЕДНЫЕ ПРИВЫЧ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урени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едикамен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119320" cy="2521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УРЕНИЕ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907920"/>
            <a:ext cx="822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Бросайте курить сразу же ,как только вы узнали что вы беремен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Курение во время беременности лишает плод кислорода. Дети курящих матерей чаще рождаются маловесными или раньше сро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Кроме того, табачный дым увеличивает вероятность выкидыша, рождения дефективного, мертвого или нежизнеспособного ребен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Чем больше вы курите, тем больше и риск, поэтому откажитесь от сигарет совсем. Если это не удается, сократите их количество, перейдите на слабые, не затягивайтесь, докуривайте до половины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Одной из причин внутриутробной гибели плода, является даже пассивное курение. Поэтому, оберегая будущего малыша, избегайте вдыхать табачный д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ЛКОГО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умеренное употребление алкоголя пагубно отражается на развитии плод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н нарушает рост плода, приводит к развитию аномалий головного мозга и скелета, пороков сердц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величивается риск рождения ребенка с алкогольным синдромом плода. Какое количество можно считать безопасным, не знает никто, поэтому лучше во время беременности не пить вообще. Это относится также и к лекарственным настойкам на спирт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ДИКА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ольшинство лекарственных средств проникают через плаценту к плоду.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первый триместр беременности  лекарственные средства применяют только по жизненным показаниям. Поэтому во время беременности избегайте приема лекарств, которые не были прописаны врачом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Это касается и тех средств, которыми вы обычно пользуетесь при легких недомоганиях, например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аспирина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парацетамол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ЖИМ БЕРЕМЕНН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зникшие изменения ,связанные с беременностью , не могут не повлиять на режим труда и отдыха беремен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87640" y="3500280"/>
            <a:ext cx="286236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ИЗИЧЕСКАЯ НАГРУЗ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еременной нет необходимости ограничивать себя  в гимнастике, при условии что она не вызывает чрезмерной устал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рогие ограничения  показаны при подозреваемой или подтвержденной патологии ( истмико - цервикальной недостаточности, артериальной гипертензии, угрозе преждевременных родов и многоплодной беременности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пециально для беременных разработан  комплекс упражнений  необходимых для поддержания общего тонуса организма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ЕЗД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и отсутствии противопоказаний беременной разрешаются поездки , даже на таких видах транспорта как самолет, поезд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еременная должна двигаться каждые 2 ч ,чтобы предотвратить венозный  застой в нижних конечностях и развитие тромбофлеби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СЛОВИЯ ТРУ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 время беременности женщина выполняя свою работу  должна чередовать ее с отдыхом. Нельзя поднимать тяжести, делать резкие движения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и повышенной вредности н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оизводстве ,   тяжелых условиях труда беременную переводят на более легкий труд согласно трудовому кодекс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 20недель беременная не должна работать в ночные смены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19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гул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7236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 первых дней беременности важно как можно больше находится на свежем воздухе, чаще проветривать помеще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ежий воздух благоприятно действует на физическое и психическое состояние женщины , а также  на развитие плода, который особенно чувствителен к недостатку кислор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чень полезны воздушные ванны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 20мин  в день ходить обнаженной по квартире, при наличии условий для этог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77080" y="3933720"/>
            <a:ext cx="19540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198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65167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аша беременность длиться не много, не мало , а всего 280 дн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ы и оглянуться не успеете как она разрешиться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слаждайтесь каждой минутой своего нового состоя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огда еще, как не при беременности вы сможете почувствовать себя целой вселен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здайте все условия для более комфортного протекания беременности и результат не заставит себя долго жда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710400" y="2565360"/>
            <a:ext cx="2023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1486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Тщательно надо следить за  чистотой тела . По утрам не только моют руки , лицо и шею , но растирают тело влажным полотенцем, а затем обязательно жестким . Перед сном моют руки, лицо и ноги. Беременная должна следить за своими ногтями , чтобы под ними не скапливалась гряз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708360" y="4365720"/>
            <a:ext cx="16556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64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и беременности увеличиваются выделения из половых путей. Скапливаясь и разлагаясь они способствуют размножению микробов и могут вызвать воспалительные заболевания женских половых органов. Поэтому нужно особенно тщательно следить за чистотой половых органов. После каждого туалета рекомендуется подмывать их теплой водой с мылом( от лобка к заднепроходному отверстию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принцеваться без назначения врача не следует , чтобы не разрушить микрофлору влагалищ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лотенце для ухода за половыми органами должно быть отдельным. Его регулярно  стирают , высушивают и проглаживают горячим утюг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Душ надо принимать ежедневно, а при отсутствии условий не реже 2х раз в неделю. При отсутствии противопоказаний можно принимать ванны с теплой водой , плавать в море или бассейн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ариться  в бане нельзя - это может повлечь за собой преждевременные род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929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елье у беременной должно быть чистым , меняться не реже 1раза в неделю. Одежда должна быть свободной, из натурального волокна 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Узкие джинсы , одежда с тугими резинками  на талии и бедрах, обувь на высоких каблуках , с неудобной колодкой не способствуют созданию благоприятных условий для  вынашивания беременности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РОФИЛАКТИКА ЧРЕЗМЕРНОГО РАСТЯЖЕНИЯ БРЮШНОЙ СТЕН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чиная с 5 месяца желательно носить бандаж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андаж одевается в положении лежа и только после  10 минутного отдыха в горизонтальном положении , слегка приподняв таз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03640" y="4365720"/>
            <a:ext cx="1768680" cy="2158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835280" y="4365720"/>
            <a:ext cx="17064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198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125000"/>
            <a:ext cx="82263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ход за молочными железами поможет не только предотвратить деформацию сосков но и избежать трещин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олочные железы ежедневно обмывают кипяченой водой с детским мылом ,затем  обтирают их чистым жестким полотенцем. Применять  для закаливания груди мази, спирт, одеколон и другие средства не рекомендуется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лоские и втянутые соски массируют в последние 2 месяца беременности 2-3 раза в день по 3-4 мин. Для этого указательным и большим пальцами захватывают сосок , предварительно смазанный вазелином  и стараются его оттяну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ОВАЯ ЖИЗ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5700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т вопрос постоянно волнует семейные пары ,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жидающие прибавления в семействе. Моральный барьер - общая боязнь за ребенка, здоровье самой женщины, исход беременности. Он может возникнуть как у одного из будущих родителей, так и у обоих сразу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465960" y="1844640"/>
            <a:ext cx="2530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 каких случаях нельзя жить половой жизнью во время беременности.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58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ервый триместр и последние 2 месяца беременн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явление кровотече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вышенный тонус мат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Если беременность - повторная, и прежние беременности заканчивались выкидышами или преждевременными родам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ногоплодная беременность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Индивидуальные показания, связанные с общим состоянием здоровья женщины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5:16:31Z</dcterms:created>
  <dc:creator>Marina</dc:creator>
  <dc:description/>
  <dc:language>en-US</dc:language>
  <cp:lastModifiedBy>Marina</cp:lastModifiedBy>
  <dcterms:modified xsi:type="dcterms:W3CDTF">2005-11-07T16:10:33Z</dcterms:modified>
  <cp:revision>33</cp:revision>
  <dc:subject/>
  <dc:title>ЛЕКЦИЯ №3</dc:title>
</cp:coreProperties>
</file>