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лекция №3 гигиена....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1F1-571A-4B2B-8B97-E6A86A3F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7E7-8D2B-41D5-80E0-CF5F80A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F19-554C-40F9-9A79-C5A104D3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DCD-16D6-4A3A-B9D8-BAA47BA8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74D-F157-423C-B9EC-619FF495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3C06-7425-4D34-BE92-C026F5D4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EB9-E552-4516-A612-26D515D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D9F9-2B85-471A-BC7F-88261DB2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C4C8-26E5-4E59-999E-0235FDD2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DC1-710D-429E-A569-E9C960BE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0B98-1637-4DC0-9B50-0582E2C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725-B90C-4586-B6E8-8F2D7F1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4B7C-D68F-4FCB-B04F-3B436D3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DC96-0FBF-4FBE-93CF-2F98397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D43B-2352-4FFB-A7E5-63E85E40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EBC9-70F9-4570-8D06-F4F9B9E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230-11D1-4BDE-B9EB-998481B0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9CB-B658-4DC4-AE91-A492B900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485-2968-4B45-A6F9-8FB0377B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2AF-6468-4D29-9EEE-B6891F6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10F-8BC3-4C9B-B2E9-ACEBAC0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F01-7B29-41C5-8F2E-AD32DF2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034-9B69-4C2C-8F6E-68C6D48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EA8-4247-4E3E-BD32-C7CF6D36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6CC-742A-432A-AFC6-A744027D4FE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8A78-3A17-4737-850D-6B386888C7D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ЛЕКЦИЯ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РЕЖИМ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ЕРЕМЕННОЙ ЖЕНЩИ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Др.Нагаева С.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РЕДНЫЕ ПРИВЫЧ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урени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дикамен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19320" cy="2521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УР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907920"/>
            <a:ext cx="822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Бросайте курить сразу же ,как только вы узнали что вы беремен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урение во время беременности лишает плод кислорода. Дети курящих матерей чаще рождаются маловесными или раньше сро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роме того, табачный дым увеличивает вероятность выкидыша, рождения дефективного, мертвого или нежизнеспособного ребен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Чем больше вы курите, тем больше и риск, поэтому откажитесь от сигарет совсем. Если это не удается, сократите их количество, перейдите на слабые, не затягивайтесь, докуривайте до половин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дной из причин внутриутробной гибели плода, является даже пассивное курение. Поэтому, оберегая будущего малыша, избегайте вдыхать табачн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КОГ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умеренное употребление алкоголя пагубно отражается на развитии плод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н нарушает рост плода, приводит к развитию аномалий головного мозга и скелета, пороков сердц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еличивается риск рождения ребенка с алкогольным синдромом плода. Какое количество можно считать безопасным, не знает никто, поэтому лучше во время беременности не пить вообще. Это относится также и к лекарственным настойкам на спир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ДИК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ольшинство лекарственных средств проникают через плаценту к плоду.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первый триместр беременности  лекарственные средства применяют только по жизненным показаниям. Поэтому во время беременности избегайте приема лекарств, которые не были прописаны врачо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касается и тех средств, которыми вы обычно пользуетесь при легких недомоганиях, например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спирина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арацетамол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ЖИМ БЕРЕМЕНН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зникшие изменения ,связанные с беременностью , не могут не повлиять на режим труда и отдыха берем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28623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ЗИЧЕСКАЯ НАГРУЗ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еременной нет необходимости ограничивать себя  в гимнастике, при условии что она не вызывает чрезмерной устал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рогие ограничения  показаны при подозреваемой или подтвержденной патологии ( истмико - цервикальной недостаточности, артериальной гипертензии, угрозе преждевременных родов и многоплодной беременности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о для беременных разработан  комплекс упражнений  необходимых для поддержания общего тонуса организма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ЕЗД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 отсутствии противопоказаний беременной разрешаются поездки , даже на таких видах транспорта как самолет, поезд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ременная должна двигаться каждые 2 ч ,чтобы предотвратить венозный  застой в нижних конечностях и развитие тромбофлеби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ВИЯ ТРУ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 время беременности женщина выполняя свою работу  должна чередовать ее с отдыхом. Нельзя поднимать тяжести, делать резкие движени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повышенной вредности н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изводстве ,   тяжелых условиях труда беременную переводят на более легкий труд согласно трудовому кодекс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 20недель беременная не должна работать в ночные сме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гул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236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первых дней беременности важно как можно больше находится на свежем воздухе, чаще проветривать помещ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ежий воздух благоприятно действует на физическое и психическое состояние женщины , а также  на развитие плода, который особенно чувствителен к недостатку кисло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чень полезны воздушные ванны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 20мин  в день ходить обнаженной по квартире, при наличии условий для этог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9540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аша беременность длиться не много, не мало , а всего 280 д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 и оглянуться не успеете как она разрешитьс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слаждайтесь каждой минутой своего нового состоя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огда еще, как не при беременности вы сможете почувствовать себя целой всел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здайте все условия для более комфортного протекания беременности и результат не заставит себя долго ж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710400" y="2565360"/>
            <a:ext cx="2023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щательно надо следить за  чистотой тела . По утрам не только моют руки , лицо и шею , но растирают тело влажным полотенцем, а затем обязательно жестким . Перед сном моют руки, лицо и ноги. Беременная должна следить за своими ногтями , чтобы под ними не скапливалась гряз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165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64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беременности увеличиваются выделения из половых путей. Скапливаясь и разлагаясь они способствуют размножению микробов и могут вызвать воспалительные заболевания женских половых органов. Поэтому нужно особенно тщательно следить за чистотой половых органов. После каждого туалета рекомендуется подмывать их теплой водой с мылом( от лобка к заднепроходному отверстию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ринцеваться без назначения врача не следует , чтобы не разрушить микрофлору влагалищ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лотенце для ухода за половыми органами должно быть отдельным. Его регулярно  стирают , высушивают и проглаживают горячим утюг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уш надо принимать ежедневно, а при отсутствии условий не реже 2х раз в неделю. При отсутствии противопоказаний можно принимать ванны с теплой водой , плавать в море или бассейн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риться  в бане нельзя - это может повлечь за собой преждевременные ро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929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лье у беременной должно быть чистым , меняться не реже 1раза в неделю. Одежда должна быть свободной, из натурального волокна 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зкие джинсы , одежда с тугими резинками  на талии и бедрах, обувь на высоких каблуках , с неудобной колодкой не способствуют созданию благоприятных условий для  вынашивания беременност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ОФИЛАКТИКА ЧРЕЗМЕРНОГО РАСТЯЖЕНИЯ БРЮШНОЙ СТ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иная с 5 месяца желательно носить бандаж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андаж одевается в положении лежа и только после  10 минутного отдыха в горизонтальном положении , слегка приподняв та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1768680" cy="2158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7064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ход за молочными железами поможет не только предотвратить деформацию сосков но и избежать трещин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олочные железы ежедневно обмывают кипяченой водой с детским мылом ,затем  обтирают их чистым жестким полотенцем. Применять  для закаливания груди мази, спирт, одеколон и другие средства не рекомендуется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лоские и втянутые соски массируют в последние 2 месяца беременности 2-3 раза в день по 3-4 мин. Для этого указательным и большим пальцами захватывают сосок , предварительно смазанный вазелином  и стараются его оттяну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ОВАЯ ЖИЗ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570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т вопрос постоянно волнует семейные пары ,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жидающие прибавления в семействе. Моральный барьер - общая боязнь за ребенка, здоровье самой женщины, исход беременности. Он может возникнуть как у одного из будущих родителей, так и у обоих сразу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65960" y="1844640"/>
            <a:ext cx="2530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каких случаях нельзя жить половой жизнью во время беременности.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58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ервый триместр и последние 2 месяца береме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явление кровотече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вышенный тонус мат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сли беременность - повторная, и прежние беременности заканчивались выкидышами или преждевременными родам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огоплодная беременность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ндивидуальные показания, связанные с общим состоянием здоровья женщи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5:16:31Z</dcterms:created>
  <dc:creator>Marina</dc:creator>
  <dc:description/>
  <dc:language>en-US</dc:language>
  <cp:lastModifiedBy>Marina</cp:lastModifiedBy>
  <dcterms:modified xsi:type="dcterms:W3CDTF">2005-11-07T16:10:33Z</dcterms:modified>
  <cp:revision>33</cp:revision>
  <dc:subject/>
  <dc:title>ЛЕКЦИЯ №3</dc:title>
</cp:coreProperties>
</file>