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  <p:custShowLst>
    <p:custShow name="лекция №3 гигиена...." id="0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EB6B-FAFE-48AE-95C7-BE39AC3CA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0FE7-06CD-4801-89EE-53C772E4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D711-EF99-454C-9017-3131936A5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1650-BE29-4232-9E55-95BE88EA7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3C60-E34F-4EC0-A012-38EB56109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592E-0223-4907-8E6F-7A70FE5F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8735-9480-412E-B44F-62443599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7A63-1D39-4811-B605-5C04A3C2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04AF-CE64-493F-810C-4065D826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A608-868B-4DDB-B55E-D567212A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1A02-F8AB-4E39-A41D-E724CB80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9D6E-4239-47C2-B8F5-7F73B8DE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5F3D-FA05-4069-AD9A-18C041E7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2803-061D-4EB0-B3EC-F068A0B9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3953-3EA9-46FA-86E6-DE53A8ED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E72E-EA0F-4CB6-97F1-1F5528632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00C6-7083-4CA0-9F9D-06287C203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8B72-EF03-4040-B7F3-818AF3E6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5F1E-D96B-4A5E-A781-4E2BB9B2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4436-62BE-4EA5-9229-03BEA9AA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2A33-BE43-4CC7-B5A4-509B58B6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D21B-D958-4A45-B297-43C4E055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9F8C-37C0-4F3D-9BEE-79EA070C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5D2A-5DCE-4B8F-905B-BA41A908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8195-9874-46A3-B3C4-A9D7ED018DBA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640C-3D95-4C26-A7A3-56C4BED183BA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ЛЕКЦИЯ №3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ГИГИЕНА И РЕЖИМ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БЕРЕМЕННОЙ ЖЕНЩИН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Др.Нагаева С.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РЕДНЫЕ ПРИВЫЧК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Курение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Алкоголь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Медикаменты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227640" y="1484280"/>
            <a:ext cx="2119320" cy="25210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227640" y="429264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9296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КУРЕНИЕ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907920"/>
            <a:ext cx="82263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Бросайте курить сразу же ,как только вы узнали что вы беременн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Курение во время беременности лишает плод кислорода. Дети курящих матерей чаще рождаются маловесными или раньше срок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Кроме того, табачный дым увеличивает вероятность выкидыша, рождения дефективного, мертвого или нежизнеспособного ребенка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Чем больше вы курите, тем больше и риск, поэтому откажитесь от сигарет совсем. Если это не удается, сократите их количество, перейдите на слабые, не затягивайтесь, докуривайте до половины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Одной из причин внутриутробной гибели плода, является даже пассивное курение. Поэтому, оберегая будущего малыша, избегайте вдыхать табачный ды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АЛКОГОЛ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Неумеренное употребление алкоголя пагубно отражается на развитии плода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Он нарушает рост плода, приводит к развитию аномалий головного мозга и скелета, пороков сердца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Увеличивается риск рождения ребенка с алкогольным синдромом плода. Какое количество можно считать безопасным, не знает никто, поэтому лучше во время беременности не пить вообще. Это относится также и к лекарственным настойкам на спирту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ЕДИКАМЕН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Большинство лекарственных средств проникают через плаценту к плоду.       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 первый триместр беременности  лекарственные средства применяют только по жизненным показаниям. Поэтому во время беременности избегайте приема лекарств, которые не были прописаны врачом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Это касается и тех средств, которыми вы обычно пользуетесь при легких недомоганиях, например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аспирина,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парацетамола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РЕЖИМ БЕРЕМЕННО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Возникшие изменения ,связанные с беременностью , не могут не повлиять на режим труда и отдыха беременно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987640" y="3500280"/>
            <a:ext cx="2862360" cy="29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9296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ФИЗИЧЕСКАЯ НАГРУЗ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197000"/>
            <a:ext cx="82263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Беременной нет необходимости ограничивать себя  в гимнастике, при условии что она не вызывает чрезмерной устало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трогие ограничения  показаны при подозреваемой или подтвержденной патологии ( истмико - цервикальной недостаточности, артериальной гипертензии, угрозе преждевременных родов и многоплодной беременности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пециально для беременных разработан  комплекс упражнений  необходимых для поддержания общего тонуса организма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ЕЗД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При отсутствии противопоказаний беременной разрешаются поездки , даже на таких видах транспорта как самолет, поезд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Беременная должна двигаться каждые 2 ч ,чтобы предотвратить венозный  застой в нижних конечностях и развитие тромбофлебит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УСЛОВИЯ ТРУД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Во время беременности женщина выполняя свою работу  должна чередовать ее с отдыхом. Нельзя поднимать тяжести, делать резкие движения 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ри повышенной вредности на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роизводстве ,   тяжелых условиях труда беременную переводят на более легкий труд согласно трудовому кодексу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С 20недель беременная не должна работать в ночные смены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198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огулк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7236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 первых дней беременности важно как можно больше находится на свежем воздухе, чаще проветривать помещени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вежий воздух благоприятно действует на физическое и психическое состояние женщины , а также  на развитие плода, который особенно чувствителен к недостатку кислород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чень полезны воздушные ванны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о 20мин  в день ходить обнаженной по квартире, при наличии условий для этого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877080" y="3933720"/>
            <a:ext cx="195408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1988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651672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Ваша беременность длиться не много, не мало , а всего 280 дне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Вы и оглянуться не успеете как она разрешиться 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Наслаждайтесь каждой минутой своего нового состоя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Когда еще, как не при беременности вы сможете почувствовать себя целой вселенно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Создайте все условия для более комфортного протекания беременности и результат не заставит себя долго ждать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710400" y="2565360"/>
            <a:ext cx="20239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1486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ГИГИЕ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822636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Тщательно надо следить за  чистотой тела . По утрам не только моют руки , лицо и шею , но растирают тело влажным полотенцем, а затем обязательно жестким . Перед сном моют руки, лицо и ноги. Беременная должна следить за своими ногтями , чтобы под ними не скапливалась грязь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708360" y="4365720"/>
            <a:ext cx="165564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364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ГИГИЕН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ри беременности увеличиваются выделения из половых путей. Скапливаясь и разлагаясь они способствуют размножению микробов и могут вызвать воспалительные заболевания женских половых органов. Поэтому нужно особенно тщательно следить за чистотой половых органов. После каждого туалета рекомендуется подмывать их теплой водой с мылом( от лобка к заднепроходному отверстию)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Спринцеваться без назначения врача не следует , чтобы не разрушить микрофлору влагалища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олотенце для ухода за половыми органами должно быть отдельным. Его регулярно  стирают , высушивают и проглаживают горячим утюгом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ГИГИЕ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Душ надо принимать ежедневно, а при отсутствии условий не реже 2х раз в неделю. При отсутствии противопоказаний можно принимать ванны с теплой водой , плавать в море или бассейн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Париться  в бане нельзя - это может повлечь за собой преждевременные роды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929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ГИГИЕН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197000"/>
            <a:ext cx="82263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Белье у беременной должно быть чистым , меняться не реже 1раза в неделю. Одежда должна быть свободной, из натурального волокна 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Узкие джинсы , одежда с тугими резинками  на талии и бедрах, обувь на высоких каблуках , с неудобной колодкой не способствуют созданию благоприятных условий для  вынашивания беременности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ПРОФИЛАКТИКА ЧРЕЗМЕРНОГО РАСТЯЖЕНИЯ БРЮШНОЙ СТЕНК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Начиная с 5 месяца желательно носить бандаж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Бандаж одевается в положении лежа и только после  10 минутного отдыха в горизонтальном положении , слегка приподняв таз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003640" y="4365720"/>
            <a:ext cx="1768680" cy="2158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835280" y="4365720"/>
            <a:ext cx="170640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198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ГИГИЕ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125000"/>
            <a:ext cx="822636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Уход за молочными железами поможет не только предотвратить деформацию сосков но и избежать трещин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Молочные железы ежедневно обмывают кипяченой водой с детским мылом ,затем  обтирают их чистым жестким полотенцем. Применять  для закаливания груди мази, спирт, одеколон и другие средства не рекомендуется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лоские и втянутые соски массируют в последние 2 месяца беременности 2-3 раза в день по 3-4 мин. Для этого указательным и большим пальцами захватывают сосок , предварительно смазанный вазелином  и стараются его оттянуть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9296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ЛОВАЯ ЖИЗН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5700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Этот вопрос постоянно волнует семейные пары ,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жидающие прибавления в семействе. Моральный барьер - общая боязнь за ребенка, здоровье самой женщины, исход беременности. Он может возникнуть как у одного из будущих родителей, так и у обоих сразу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465960" y="1844640"/>
            <a:ext cx="25304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 каких случаях нельзя жить половой жизнью во время беременности.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83581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ервый триместр и последние 2 месяца беременност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оявление кровотечения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овышенный тонус матк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Если беременность - повторная, и прежние беременности заканчивались выкидышами или преждевременными родами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Многоплодная беременность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Индивидуальные показания, связанные с общим состоянием здоровья женщины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15:16:31Z</dcterms:created>
  <dc:creator>Marina</dc:creator>
  <dc:description/>
  <dc:language>en-US</dc:language>
  <cp:lastModifiedBy>Marina</cp:lastModifiedBy>
  <dcterms:modified xsi:type="dcterms:W3CDTF">2005-11-07T16:10:33Z</dcterms:modified>
  <cp:revision>33</cp:revision>
  <dc:subject/>
  <dc:title>ЛЕКЦИЯ №3</dc:title>
</cp:coreProperties>
</file>