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3AAF-5638-48A6-8ADE-DD215A88E4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9AB-8A2A-48DF-B34A-328B8C5B0B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93E-4BB3-4833-9D10-20FEAF3F9F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3FF-AA97-43E6-BA4D-924B9B34D4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AC00-BB13-4EC6-AB5F-FFEF56A89C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222B-C2E0-45E0-ACAC-35C3CE41C3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18E-5638-4D67-81F1-DD32FEB3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032-9C83-48C4-A51B-E48F653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994ED-7FB8-4F60-BCFA-4CC5F42E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52A51-E82B-4794-B556-9A65FA4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33C3E-9064-4BC8-A256-3EB04E01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5315B-8343-41AE-99AA-C82CCC4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11E7C-9270-4D2C-B1C2-8214686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5B0E-6CF2-4DC6-980C-5F9CC7E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9D325-C9D7-4608-8B24-F6713AB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E82EB-AB41-4162-8B70-3F78C457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E651C-F0B6-434F-901F-7404A09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A68C-FA95-4BD9-8653-4E000478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B3F-2445-4583-863B-2F7D25C53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EFC6D-81F8-456A-9A94-7DCF402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B15D5-0CD3-4099-9F20-09834C00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CFDCC-3A93-4CC8-9D2D-8E99727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8BAE4-7825-4D3F-B6F8-50C907F8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27EC2-D9C3-4EF3-9A2A-8B449A1D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DFDB6-134A-42ED-A6C3-3D18A8CA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C0028-7A99-488F-A77B-32D2DB0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F3082-112D-4823-85A3-588EFAF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677D8-6F51-43D6-88A3-A0C59B53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036D9-C50C-45E3-82EF-189C5AE9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E320-F6A5-4FAA-8C72-B1811421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0B3B5-9C28-48C1-8592-8000A2B8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71242-3D39-43E4-BF1C-02DF7CE3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CB7F7-D898-4148-957F-1496F82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53358-4350-46E9-AA1E-62E72CA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4FBF-BD1A-40C4-9B03-D8A455A5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A1CD5-9953-48C4-A407-63C5BA93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FE4D5-EE5B-4C70-8A99-AA466135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E43DB-90D1-4528-B56E-A12C5F1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9D38-65F0-4FFA-89A5-72EC541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68579-260C-4E75-B4EE-2B634D62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8EFC-2DE3-4F78-BA5D-4AFD053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4C25-1DB8-4B4F-9B77-1F72A377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2FC86-058C-4B4C-AE5F-59963555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B6353-9DA1-4006-90E6-4A65969F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D3D3-FE24-48B2-B4EC-193EE1E6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EFB3A-0090-4DEF-9BE3-6CAFF08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660C6-F1DF-42A1-8075-5FC84C12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D3763-B3E2-4752-BA4E-65B5F86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9DAAC-0FE0-425A-9296-7E07C466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D4DF9-C7C1-4FD9-8F75-70C9FCD5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887D7-C31A-47BF-84E6-7256992C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3D73-927F-411B-9EA0-DACF999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EA01-1DFB-40A4-ADEC-A3FC575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3C02B-C134-4D36-B9F7-3A90F4F0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E55A9-C14F-4A6D-B6CD-A2CC48E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51BC3-20BF-4197-A56B-EB2FA886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F113E-A3FC-4522-B736-1C7AEB33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AB9-6BD3-4F15-9F45-3B30E4A5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84B-A4A7-44DC-91BE-7A9039D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DEB-8113-491B-AC5F-91F1F5C8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799-960C-4EA1-BC87-E7654F0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968B-6539-493B-B75A-446DFF05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03C-B5AD-4E4B-99E8-AD6123D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B90B-BB63-4673-9A64-B9C4179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ABD5-996D-490F-A38D-9066262D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B83F-8ABB-42CF-8A2F-9F693690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3527-1E2B-40C8-BB6D-82FCE140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2657-23E4-48BC-A48E-BCDD9677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75D6-DAAF-459F-B4DA-BC790A84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59B2-B914-4E75-940A-A100550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EBAC3-2CA3-4611-ACAF-3E6D84F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6DCC-0CEB-4832-8BFF-21531A98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24C8-9FA3-4FE8-A679-E23AE2F2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CA5-5F23-4157-B06F-F941C4A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4035-333A-4704-97C0-BAF900E9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3600-851E-429A-BCB2-36EE32B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FBE9-297F-4CFA-BA65-34F6130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91B0-7139-4736-8768-BB552A9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815E2-174E-4EAD-A960-633850C1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61CFC-746A-48FA-A525-82E32970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54FD-0118-4D5B-ACCE-9C8B8FE4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FA716-3837-42B0-8203-EEDC1E34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ED44E-2F35-4AB0-AC14-69FFC0E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8E6DC-4226-47D8-BE91-138F9354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100-E6EB-4949-8F9E-478E18C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661A8-2737-4924-8E76-C848440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E337-2329-442F-87A1-4441273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795E-CEB6-4A2A-93AC-68FF567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3DBA-0FB8-4D5B-B075-B8B5E94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158F-7DF7-4B5F-A392-D98A19D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A59CC-831E-4F8E-A17D-D9379A6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BC3D-0CB9-4D7D-9F4C-B56F53B1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EBBD-7932-4322-B09B-BF3FD7FD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7CA8E-3825-41B0-A486-8A85F980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10258-938D-4EC1-B9B5-EFBAA8F3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F6D-5F90-45D2-994C-2ABF3F2B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B441-B301-4A6C-A531-BEF6027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FD01-9792-4DBB-9326-F7C0C28E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09388-37BA-4365-825D-3B26D12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45A9-E3AD-4C48-BDC0-F891C5ED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3DF35-39B1-4BB9-B44A-5589B90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7B18F-E251-4EDC-AFF6-A8475DE7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967BA-AA6A-4E25-8727-F6AE38FB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6744-C674-40CB-9D0C-E6C1BB9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C97DF-7872-435D-AEB7-F39571DB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47B2-15AF-4BF8-9512-98D0A9D8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E67-E988-4F74-BB08-988DB4CB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BA7F3-D701-4F58-AF04-FB070387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F124-641D-4A27-96F7-E99A41CC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B02D-2884-4B23-9D01-492467B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CA089-3B31-4BE0-98E3-EE2492AD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40EF-059F-4BED-BD9B-EA821D1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5926-C2D5-43C0-8AE9-0569DB84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F95FE-21B4-428F-A3B5-79097D6D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00F71-8E5E-48AA-A321-E229D7F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7567-01DF-4618-8DBD-F2D368C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ECCA-BC8C-4502-B24D-0EBCBFE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319E-FA8F-433B-83C6-785F533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231C-E1E5-4E5D-8A6B-E547BB66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8248-AFFF-4F92-BEE8-8DE77950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E7E5-53B5-4CB7-B50C-2FA72FD1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C1938-6106-4548-BCEF-19F88D00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7B3B-F21E-4448-B742-59E3162F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C6881-D7A3-4F6E-8376-19F371B3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1F8F-2F20-4056-B27B-B52CA78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F486E-8F99-4A10-BA64-D73BD0AD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5062-E1EA-45B7-8E67-06277BE3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4092-9857-41E5-8BE7-DBD31B35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C62-D25C-460B-9338-4E4E2565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5D20-D47D-4D55-9796-C822F3F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D607A-0C9D-4606-A1A4-74031002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2565-7C99-4CFB-BA36-79F59427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9D0BE-648A-45B8-8134-901F8761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E4298-2736-4F3C-8AB5-66B3517D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1AEE6-4D91-4616-A712-D67E96E9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80AB7-A62E-41D4-BDCA-927133B0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B85E-9AF2-4273-B61A-07DBB4E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82DF1-8E7D-4AE4-89B8-D20183D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7A14D-1D41-4D51-BB30-768940E4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EB4-DFAA-4DFF-B66E-F13A479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2DB5-CA0A-47FF-A372-F25F614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DF43B-6B49-46C2-A7FB-586BD2A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F658-3E3F-4D01-ACBA-49F60D6C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9EF34-BBF0-4F6E-94B3-5B786A5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CCAE-98B6-4C2B-B005-583AD42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DC941-13A6-4B82-BCC2-6DF7A58C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06D8D-F73B-4C94-9493-4C70D45D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84DAD-9869-4B2A-B1C4-F421E24C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9891-FB95-4118-9EF3-B97F8D0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20D41-DC05-47E9-98FB-B049F6DC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86E8-08AD-444B-AC2D-AE5F31A457D6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DFC-773C-4AF5-920E-3A7FABE9DC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399-4807-489F-B616-E3294365AA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41E-30FD-4477-BE55-6AFB8FA235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8E92-4FAC-4382-A29F-31B1D60771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5812-FFCB-439E-A78D-52EBE7EF2C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477D-E0E7-401B-BA0D-F2EAE25D6B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263D-4708-429C-A138-113F286C46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3BF-D346-4232-B872-8A80D19430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D159-1011-4140-B752-559F7E9812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C4D7-ADFD-480D-BE55-D04CA60FC9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5DE7-21EE-4EB5-A6CF-8F006463D2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6;&#1086;&#1089;&#1089;&#1080;&#1103;" TargetMode="External"/><Relationship Id="rId3" Type="http://schemas.openxmlformats.org/officeDocument/2006/relationships/hyperlink" Target="http://ru.wikipedia.org/wiki/&#1058;&#1077;&#1072;&#1090;&#1088;" TargetMode="External"/><Relationship Id="rId4" Type="http://schemas.openxmlformats.org/officeDocument/2006/relationships/hyperlink" Target="http://ru.wikipedia.org/wiki/&#1054;&#1087;&#1077;&#1088;&#1072;" TargetMode="External"/><Relationship Id="rId5" Type="http://schemas.openxmlformats.org/officeDocument/2006/relationships/hyperlink" Target="http://ru.wikipedia.org/wiki/&#1041;&#1072;&#1083;&#1077;&#1090;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8;&#1077;&#1072;&#1090;&#1088;&#1072;&#1083;&#1100;&#1085;&#1072;&#1103;_&#1087;&#1083;&#1086;&#1097;&#1072;&#1076;&#1100;_(&#1052;&#1086;&#1089;&#1082;&#1074;&#1072;)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g12.nnm.ru/b/9/0/f/c/b90fc252b7e57d4cdfb76327507f04c0_full.jpg" TargetMode="External"/><Relationship Id="rId3" Type="http://schemas.openxmlformats.org/officeDocument/2006/relationships/hyperlink" Target="http://commons.wikimedia.org/wiki/File:Moscow_05-2012_Bolshoi_after_renewal.jpg?uselang=ru" TargetMode="External"/><Relationship Id="rId4" Type="http://schemas.openxmlformats.org/officeDocument/2006/relationships/hyperlink" Target="http://commons.wikimedia.org/wiki/File:Bolshoy_Teatr.jpg?uselang=ru" TargetMode="External"/><Relationship Id="rId5" Type="http://schemas.openxmlformats.org/officeDocument/2006/relationships/hyperlink" Target="http://www.bolshoi.ru/about/history/" TargetMode="External"/><Relationship Id="rId6" Type="http://schemas.openxmlformats.org/officeDocument/2006/relationships/hyperlink" Target="http://ru.wikipedia.org/wiki/%C1%EE%EB%FC%F8%EE%E9_%F2%E5%E0%F2%F0" TargetMode="External"/><Relationship Id="rId7" Type="http://schemas.openxmlformats.org/officeDocument/2006/relationships/hyperlink" Target="http://www.ecohouse.by/assets/cache/images/460x360-big-teatr.398.jpg" TargetMode="External"/><Relationship Id="rId8" Type="http://schemas.openxmlformats.org/officeDocument/2006/relationships/hyperlink" Target="http://www.lightpark.ru/events/2012/08/26533_main_foto_04.jpg" TargetMode="External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Скругленный прямоугольник 37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Скругленный прямоугольник 31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Заголовок 6" descr=""/>
          <p:cNvPicPr/>
          <p:nvPr/>
        </p:nvPicPr>
        <p:blipFill>
          <a:blip r:embed="rId1"/>
          <a:stretch/>
        </p:blipFill>
        <p:spPr>
          <a:xfrm>
            <a:off x="853920" y="-6480"/>
            <a:ext cx="7783560" cy="14814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428480" y="5643720"/>
            <a:ext cx="61434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Автор работы: ученица 5 Г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onstantia"/>
              </a:rPr>
              <a:t>ГБОУ СОШ № 2092 Асадуллина Рим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2" descr="http://foto-palitra.ru/images/stories/Ramki/peizag/5.jpg"/>
          <p:cNvPicPr/>
          <p:nvPr/>
        </p:nvPicPr>
        <p:blipFill>
          <a:blip r:embed="rId2"/>
          <a:stretch/>
        </p:blipFill>
        <p:spPr>
          <a:xfrm>
            <a:off x="1428840" y="1285920"/>
            <a:ext cx="6357960" cy="423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4" name="Picture 9" descr="File:Moscow 05-2012 Bolshoi after renewal.jpg"/>
          <p:cNvPicPr/>
          <p:nvPr/>
        </p:nvPicPr>
        <p:blipFill>
          <a:blip r:embed="rId3"/>
          <a:stretch/>
        </p:blipFill>
        <p:spPr>
          <a:xfrm>
            <a:off x="2214720" y="1785960"/>
            <a:ext cx="4786200" cy="347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07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Скругленный прямоугольник 12"/>
          <p:cNvSpPr/>
          <p:nvPr/>
        </p:nvSpPr>
        <p:spPr>
          <a:xfrm>
            <a:off x="1714680" y="4508640"/>
            <a:ext cx="5857560" cy="206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Большой театр начинался как частный театр губернского прокурора князя Петра Урусова. 28 марта 1776 г. императрица Екатерина II подписала князю «привилегию» на содержание спектаклей, маскарадов, балов и прочих увеселений сроком на десять лет. Эта дата считается днем основания московского Большого театра. На первом этапе существования Большого театра оперная и драматическая труппы составляли единое целое. Состав был самым разнообразным: от крепостных артистов — до приглашенных из-за границы звез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10" descr="File:Bolshoy Teatr.jpg"/>
          <p:cNvPicPr/>
          <p:nvPr/>
        </p:nvPicPr>
        <p:blipFill>
          <a:blip r:embed="rId2"/>
          <a:stretch/>
        </p:blipFill>
        <p:spPr>
          <a:xfrm>
            <a:off x="1000080" y="1357200"/>
            <a:ext cx="3056040" cy="2571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" descr="http://img12.nnm.ru/b/9/0/f/c/b90fc252b7e57d4cdfb76327507f04c0_full.jpg"/>
          <p:cNvPicPr/>
          <p:nvPr/>
        </p:nvPicPr>
        <p:blipFill>
          <a:blip r:embed="rId3"/>
          <a:stretch/>
        </p:blipFill>
        <p:spPr>
          <a:xfrm>
            <a:off x="214200" y="642960"/>
            <a:ext cx="4572000" cy="4191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Заголовок 5"/>
          <p:cNvSpPr/>
          <p:nvPr/>
        </p:nvSpPr>
        <p:spPr>
          <a:xfrm>
            <a:off x="357120" y="214200"/>
            <a:ext cx="847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естораспо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Скругленный прямоугольник 5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о нахождения: 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сква, Театральная площадь, дом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7" descr="http://www.ecohouse.by/assets/cache/images/460x360-big-teatr.398.jpg"/>
          <p:cNvPicPr/>
          <p:nvPr/>
        </p:nvPicPr>
        <p:blipFill>
          <a:blip r:embed="rId1"/>
          <a:stretch/>
        </p:blipFill>
        <p:spPr>
          <a:xfrm>
            <a:off x="2643120" y="164304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http://img12.nnm.ru/b/9/0/f/c/b90fc252b7e57d4cdfb76327507f04c0_full.jpg"/>
          <p:cNvPicPr/>
          <p:nvPr/>
        </p:nvPicPr>
        <p:blipFill>
          <a:blip r:embed="rId2"/>
          <a:stretch/>
        </p:blipFill>
        <p:spPr>
          <a:xfrm>
            <a:off x="1835280" y="723960"/>
            <a:ext cx="4841640" cy="4357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Заголовок 5" descr=""/>
          <p:cNvPicPr/>
          <p:nvPr/>
        </p:nvPicPr>
        <p:blipFill>
          <a:blip r:embed="rId1"/>
          <a:stretch/>
        </p:blipFill>
        <p:spPr>
          <a:xfrm>
            <a:off x="1066680" y="133200"/>
            <a:ext cx="7766280" cy="731880"/>
          </a:xfrm>
          <a:prstGeom prst="rect">
            <a:avLst/>
          </a:prstGeom>
          <a:ln w="0">
            <a:noFill/>
          </a:ln>
        </p:spPr>
      </p:pic>
      <p:sp>
        <p:nvSpPr>
          <p:cNvPr id="520" name="Семиугольник 54"/>
          <p:cNvSpPr/>
          <p:nvPr/>
        </p:nvSpPr>
        <p:spPr>
          <a:xfrm>
            <a:off x="142920" y="285840"/>
            <a:ext cx="428760" cy="428400"/>
          </a:xfrm>
          <a:prstGeom prst="pi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кругленный прямоугольник 12"/>
          <p:cNvSpPr/>
          <p:nvPr/>
        </p:nvSpPr>
        <p:spPr>
          <a:xfrm>
            <a:off x="1714680" y="4929120"/>
            <a:ext cx="585756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осуда́рственный два́жды о́рдена Ле́нина академи́ческий Большо́й теа́тр Росси́йской Федера́ц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(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ГАБТ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), или просто 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Большо́й теа́т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— один из крупнейших в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Росси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 один из самых значительных в ми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театров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опер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и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5"/>
              </a:rPr>
              <a:t>балета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 Комплекс зданий театра расположен в центре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6"/>
              </a:rPr>
              <a:t>Москв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, н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onstantia"/>
                <a:hlinkClick r:id="rId7"/>
              </a:rPr>
              <a:t>Театральной площад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кругленный прямоугольник 13">
            <a:hlinkClick r:id="" action="ppaction://hlinkshowjump?jump=nex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1" descr="http://efpr.ru/uploads/posts/2012-06/1339661366_80332824_large_4189255_08Bolshoyteatr.jpg"/>
          <p:cNvPicPr/>
          <p:nvPr/>
        </p:nvPicPr>
        <p:blipFill>
          <a:blip r:embed="rId8"/>
          <a:stretch/>
        </p:blipFill>
        <p:spPr>
          <a:xfrm>
            <a:off x="1000080" y="1630440"/>
            <a:ext cx="3143160" cy="2555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3" descr="После реставрации (28 фото) "/>
          <p:cNvPicPr/>
          <p:nvPr/>
        </p:nvPicPr>
        <p:blipFill>
          <a:blip r:embed="rId9"/>
          <a:stretch/>
        </p:blipFill>
        <p:spPr>
          <a:xfrm>
            <a:off x="5286240" y="1714680"/>
            <a:ext cx="3286440" cy="2344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http://img12.nnm.ru/b/9/0/f/c/b90fc252b7e57d4cdfb76327507f04c0_full.jpg"/>
          <p:cNvPicPr/>
          <p:nvPr/>
        </p:nvPicPr>
        <p:blipFill>
          <a:blip r:embed="rId10"/>
          <a:stretch/>
        </p:blipFill>
        <p:spPr>
          <a:xfrm>
            <a:off x="4484520" y="714240"/>
            <a:ext cx="4842000" cy="43578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http://img12.nnm.ru/b/9/0/f/c/b90fc252b7e57d4cdfb76327507f04c0_full.jpg"/>
          <p:cNvPicPr/>
          <p:nvPr/>
        </p:nvPicPr>
        <p:blipFill>
          <a:blip r:embed="rId11"/>
          <a:stretch/>
        </p:blipFill>
        <p:spPr>
          <a:xfrm>
            <a:off x="214200" y="785880"/>
            <a:ext cx="457200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Скругленный прямоугольник 38">
            <a:hlinkClick r:id="" action="ppaction://hlinkshowjump?jump=endshow"/>
          </p:cNvPr>
          <p:cNvSpPr/>
          <p:nvPr/>
        </p:nvSpPr>
        <p:spPr>
          <a:xfrm>
            <a:off x="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Заголовок 5" descr=""/>
          <p:cNvPicPr/>
          <p:nvPr/>
        </p:nvPicPr>
        <p:blipFill>
          <a:blip r:embed="rId1"/>
          <a:stretch/>
        </p:blipFill>
        <p:spPr>
          <a:xfrm>
            <a:off x="633240" y="-79200"/>
            <a:ext cx="777240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Скругленный прямоугольник 10">
            <a:hlinkClick r:id="" action="ppaction://hlinkshowjump?jump=firstslide"/>
          </p:cNvPr>
          <p:cNvSpPr/>
          <p:nvPr/>
        </p:nvSpPr>
        <p:spPr>
          <a:xfrm>
            <a:off x="7786800" y="61437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Прямоугольник 11"/>
          <p:cNvSpPr/>
          <p:nvPr/>
        </p:nvSpPr>
        <p:spPr>
          <a:xfrm>
            <a:off x="428760" y="571680"/>
            <a:ext cx="835812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img12.nnm.ru/b/9/0/f/c/b90fc252b7e57d4cdfb76327507f04c0_full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рамка для фот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commons.wikimedia.org/wiki/File:Moscow_05-2012_Bolshoi_after_renewal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ommons.wikimedia.org/wiki/File:Bolshoy_Teatr.jpg?uselang=r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www.bolshoi.ru/about/history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история созд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ru.wikipedia.org/wiki/%C1%EE%EB%FC%F8%EE%E9_%F2%E5%E0%F2%F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место нахождения и краткое опис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www.ecohouse.by/assets/cache/images/460x360-big-teatr.398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www.lightpark.ru/events/2012/08/26533_main_foto_04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img.kush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.ru/city/annonce_stream/2011/11/7f45e6f04f622066e2d5ff2d95f176bb_big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фот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7:57:37Z</dcterms:created>
  <dc:creator>name</dc:creator>
  <dc:description/>
  <dc:language>en-US</dc:language>
  <cp:lastModifiedBy>user</cp:lastModifiedBy>
  <dcterms:modified xsi:type="dcterms:W3CDTF">2014-04-09T10:50:41Z</dcterms:modified>
  <cp:revision>62</cp:revision>
  <dc:subject/>
  <dc:title>МОСКВА – ДРЕВНА И МЛАДА</dc:title>
</cp:coreProperties>
</file>