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CA44-DF25-407F-ADB7-6BD67E22A7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B8EB-3A21-4140-AEEB-CE5BD0504A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A23C-0311-40CC-A3EE-B98B7DF8E0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A6E9-4B41-414C-B411-2B77657B89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6581-27D3-4180-8A4D-3BD3A0AD6F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F925-3970-4200-87CE-3452067952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2306-1073-4354-89A6-BD1466D66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8A58-7092-4669-BFC9-A49B84EE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F82B4-B8C6-4014-8D0F-EE78AD15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72ACD1-73E9-4DE7-901D-7DC2E28E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24F26-0EE7-47D7-9421-2A5E844C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4477B-D0B1-4A7E-9941-F20C4511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4B3FC-DEAE-4EA9-87C5-6F1CA630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94DCF-45B7-4C02-8FAB-B0B9E114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18710-E250-4FCD-8E9C-0CBC1511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56542-35DD-48B3-B434-EF10BA4CB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13EA9-A009-4FD2-B714-1D75A5D4D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ED269-F112-4E9F-8E9B-3CAECB076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9885-AC8C-4862-AA2B-EAAE8EB1F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E10FC0-1AF9-4BD2-BFD5-826AED68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10E58-EEBC-4E5A-9E08-CDB39414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667FC-FAA3-46BA-9187-8FCD29D1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DAF20-4568-4B6F-8BBE-AF87CBE7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ADE95-4504-42B0-8D25-B0D46105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1C1C8-751F-4F56-822C-1DDE8C11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57685A-68D0-46EE-A811-564AE1B2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1F10F-47D2-4AF6-9143-9F1E836F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BC386E-3519-436E-B805-A46DC9ED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9A4D5-0D5E-426E-8EF2-0F1640F92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11B5-294A-4AC1-9562-0248EAB6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9649A-0DC2-4E37-9E4A-C43DACB2A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9776A-BDC2-4A7D-B3D5-22A7238DC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96B93-F570-4D88-868D-31C4CF79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7DFA2-F3EC-415C-9E7A-440DCDFB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72250-DA76-4F16-86DF-F9568DE2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EC2C4-2086-41F3-B685-524A29B5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9675C-3EC4-4844-AA4A-5CBF4206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19D85-B3E4-4172-B537-059ABAEC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96147-26A5-4A77-AA85-923DDC40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47817-DB83-48C5-92DF-3740E3F7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B205-3B65-4734-934F-F6643D5B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FEED0-BEC3-4ED1-BE29-5A3A9DCC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3EDB2-208E-46EF-82AE-363C27F6A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0F1E3-64DA-40B2-A7E1-2E0F157CB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B654D2-BD70-4126-8AEA-63A67DC9A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51C0A5-A8D1-4B37-B369-04F1A881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000600-519A-4EBC-96B3-D7CE9AF1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2DC832-4A07-4321-9DC0-3866D61B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C3A969-85A8-4BD6-8DF9-F4F93CD0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A1E98E-2E43-46CA-9E58-F95C3C41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781F23-4372-4CF3-BF41-6509D783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8CE58-8144-471B-B785-D0711CC3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7FD561-1147-4D72-8998-7642DA91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A62F06-10A3-4A84-B217-9DA5F95A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65A9E-2B67-4CB3-AF87-40065DFA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4AA4E9-0C20-4C51-BA09-4F4653E05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1FEF09-A755-4BAB-B906-AB1241267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7FB7-F9E0-4858-B6AA-9A0E6B96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2204-12B1-42D9-B293-247C56EB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BCD1-0988-4C95-A0FF-629C42C6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21F6-995A-4A84-B409-6CAF6C0F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5A4F-0121-4CB5-B2B3-0888C609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EB94-9A34-4F12-B37C-4169789D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CE97-FA9B-429A-8F8C-21761746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83D8-798F-47C8-97BF-9915F360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98CB-9AEF-4E0F-B2FB-61BD8308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581F-319C-49AB-AA80-DFC1C4178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1868-BD80-41B0-98CE-501F2D00B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E365B-95DF-475F-A28E-3E0225AF2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6D327-84F9-48DB-A584-56BBC291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87DC8-9A96-4EEE-B4E4-1238CE63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B82B2-A873-401F-8598-ACD27AD3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69D7E-BE74-4FBC-AF43-FD075C44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882A-0279-4AA8-ABBD-9DA2061B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4DEFE-0B9F-4DAA-BA25-9952F8B5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89105-FF69-429B-9FF7-6D986CFD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883C7-1B60-4BBA-9E25-24A91297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54F1B-B13D-4AF5-B9C1-3D9B42DF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CF84B-2686-40FF-BAF4-9F668263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71D59-3532-4C39-949D-A49C9F930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E74F6-F516-4650-9866-E3E04D4B0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688CD-7046-4DA2-85E8-B1AC8A59D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9E3EA-DD05-4099-925D-11A33E7D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541D6-34E2-4202-8ACA-0490FFCD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8D23-F616-4C9B-9F7D-E2FAE7B6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14516-E4D3-48A0-B76D-8414D462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059A8-A4E5-4211-8527-4E432EFB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F4626-5110-4613-8D90-D138EF32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A4C30-A2CA-4875-B45F-D89C2CCF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F5C30-44D4-4EAA-9F88-E00A26C1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E7C56-698F-4BF1-B0A3-626B16B7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5616A-88E7-4E2B-B2DA-04DC7458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25C8B-2500-49CA-9679-2777116BD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AEAA5-0EE1-4208-A7FA-6C5A4E7CD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4FAC6-2DE3-4144-B704-8141443DB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BD02-1D1B-405A-8C6D-486F82F9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20E50-77C0-4731-A777-BB98D812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1D108-E87F-4D25-84FD-EEE827C9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38C5A-32BA-461A-9794-49B850DE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8E710-45E6-4B21-AF4D-E6FC19C6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3CC4D-BE3C-43B1-9572-14C87934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23CC2-135B-4A96-98E4-735BCC74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E8254-E2FE-4A17-B7FE-4C24AD46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6F557-D9C2-4969-9679-C9B107B6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B5F2A-A71E-4A57-AEE9-C2AF56AF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C53A2-07A5-48C7-83B0-92A75BDE3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6CA3-3020-49F9-A38B-5B78E952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FC8B3-1EB8-470E-87EE-A131071B8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50A59-EEE1-44EA-BFFC-47738E95F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841A8-70DA-489E-A745-C16A9A41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B80D8-AA94-4663-AB42-C082C844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4364C-1475-4D7B-8FC8-2D9E2D30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03D8D-FD63-4FD7-9010-FAE42296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799DB-20EE-4516-A8EE-D914D3F7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F786C-A9F7-494D-9627-26985B08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B1D38-B319-4E13-8A20-DC4ADD04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A9BC7-89D6-429D-96CB-DFB708FC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5772-32AB-45DE-A452-3AEA79A0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D00AF-3CD3-4C22-9187-710929B7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C8612-16AD-4E65-B97E-E7F4BC30F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035DE-9F9C-4DE8-8809-8B51ABDA8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8262D-DF40-4B2A-95BA-E9CB42B66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A3E87-D66A-4C4C-A26D-2AEA04DA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0D650-0E2C-4D43-ABCB-924EB3F8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725C0-FA47-4D15-9C74-B94E7CDB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D43D3-CB1F-46E3-BF30-82DE996D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8B8A5-55C0-41A5-A74A-EBCE1974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96294-1D82-477B-BC04-C40CFAE1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24CB-1746-4B4B-8F4E-3C8A6410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57056-0AFB-4E59-9EE0-F5BBF87E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AB423-A551-4F08-935A-2EEE5C5B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71160-3CD9-43D1-9E21-9694D8F1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B610F-B97A-497A-8F68-31B6BDA38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13660-69C1-4B74-BE94-FC8E3F590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F64D7-50C0-4A2A-87F4-29A4968DF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5D068-D894-47E1-9489-E8DA3EE2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456EB-5901-463F-938D-7EB4BB21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8EBB2-A9A1-4A60-AAD5-0DF8DA00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ADB9A-3780-47CB-963A-7216204B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5AA5-6747-47DC-894D-1380D78C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8C518-9FF2-4C6A-A6E0-5EF0887C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21FFE-870E-4251-8B5D-1E67AB96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81C85-DFBE-4AA3-9E69-3E891FFF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96E61-CCBD-4CE0-918F-BEB75B7E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DDF97-84BF-40F0-9588-5E61D25C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CFDB7-A87E-4B84-B54A-C6DDC875C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CE813-E44F-45D9-AFC6-838B0072C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DD4D9-0672-45DB-BB4A-B1E1FD2AB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79C38-5385-413A-90F0-F340D505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DD8EE-CC37-4874-9CBF-6823BFF5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C8C1-80D8-4A0C-9F06-01411D070089}" type="slidenum"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877F-3508-45E8-B357-FD07260C4A1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869A-7CC1-4B82-8461-A8765CEC935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229A-1BED-45A1-AFFF-85D41454287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818B-EF22-4BB2-B9A2-8E7A2726573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3C30-EEC5-4766-B155-9BF31879AF2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8251-3344-4E16-A3A9-64DA21B2C0B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F801-DAA9-4066-B451-FF23901414A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B634-BBB2-46E9-918E-CA75780A6E4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B542-765D-4163-8A2A-C9A5A10BC58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9519-AF3C-49EF-81B3-8F75D9D7FD2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CC74-A309-4331-AE5B-E1C6E0B2706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ru.wikipedia.org/wiki/&#1056;&#1086;&#1089;&#1089;&#1080;&#1103;" TargetMode="External"/><Relationship Id="rId3" Type="http://schemas.openxmlformats.org/officeDocument/2006/relationships/hyperlink" Target="http://ru.wikipedia.org/wiki/&#1058;&#1077;&#1072;&#1090;&#1088;" TargetMode="External"/><Relationship Id="rId4" Type="http://schemas.openxmlformats.org/officeDocument/2006/relationships/hyperlink" Target="http://ru.wikipedia.org/wiki/&#1054;&#1087;&#1077;&#1088;&#1072;" TargetMode="External"/><Relationship Id="rId5" Type="http://schemas.openxmlformats.org/officeDocument/2006/relationships/hyperlink" Target="http://ru.wikipedia.org/wiki/&#1041;&#1072;&#1083;&#1077;&#1090;" TargetMode="External"/><Relationship Id="rId6" Type="http://schemas.openxmlformats.org/officeDocument/2006/relationships/hyperlink" Target="http://ru.wikipedia.org/wiki/&#1052;&#1086;&#1089;&#1082;&#1074;&#1072;" TargetMode="External"/><Relationship Id="rId7" Type="http://schemas.openxmlformats.org/officeDocument/2006/relationships/hyperlink" Target="http://ru.wikipedia.org/wiki/&#1058;&#1077;&#1072;&#1090;&#1088;&#1072;&#1083;&#1100;&#1085;&#1072;&#1103;_&#1087;&#1083;&#1086;&#1097;&#1072;&#1076;&#1100;_(&#1052;&#1086;&#1089;&#1082;&#1074;&#1072;)" TargetMode="External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img12.nnm.ru/b/9/0/f/c/b90fc252b7e57d4cdfb76327507f04c0_full.jpg" TargetMode="External"/><Relationship Id="rId3" Type="http://schemas.openxmlformats.org/officeDocument/2006/relationships/hyperlink" Target="http://commons.wikimedia.org/wiki/File:Moscow_05-2012_Bolshoi_after_renewal.jpg?uselang=ru" TargetMode="External"/><Relationship Id="rId4" Type="http://schemas.openxmlformats.org/officeDocument/2006/relationships/hyperlink" Target="http://commons.wikimedia.org/wiki/File:Bolshoy_Teatr.jpg?uselang=ru" TargetMode="External"/><Relationship Id="rId5" Type="http://schemas.openxmlformats.org/officeDocument/2006/relationships/hyperlink" Target="http://www.bolshoi.ru/about/history/" TargetMode="External"/><Relationship Id="rId6" Type="http://schemas.openxmlformats.org/officeDocument/2006/relationships/hyperlink" Target="http://ru.wikipedia.org/wiki/%C1%EE%EB%FC%F8%EE%E9_%F2%E5%E0%F2%F0" TargetMode="External"/><Relationship Id="rId7" Type="http://schemas.openxmlformats.org/officeDocument/2006/relationships/hyperlink" Target="http://www.ecohouse.by/assets/cache/images/460x360-big-teatr.398.jpg" TargetMode="External"/><Relationship Id="rId8" Type="http://schemas.openxmlformats.org/officeDocument/2006/relationships/hyperlink" Target="http://www.lightpark.ru/events/2012/08/26533_main_foto_04.jpg" TargetMode="External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Скругленный прямоугольник 37">
            <a:hlinkClick r:id="" action="ppaction://hlinkshowjump?jump=endshow"/>
          </p:cNvPr>
          <p:cNvSpPr/>
          <p:nvPr/>
        </p:nvSpPr>
        <p:spPr>
          <a:xfrm>
            <a:off x="0" y="614376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Скругленный прямоугольник 31">
            <a:hlinkClick r:id="" action="ppaction://hlinkshowjump?jump=nextslide"/>
          </p:cNvPr>
          <p:cNvSpPr/>
          <p:nvPr/>
        </p:nvSpPr>
        <p:spPr>
          <a:xfrm>
            <a:off x="7786800" y="614376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Заголовок 6" descr=""/>
          <p:cNvPicPr/>
          <p:nvPr/>
        </p:nvPicPr>
        <p:blipFill>
          <a:blip r:embed="rId1"/>
          <a:stretch/>
        </p:blipFill>
        <p:spPr>
          <a:xfrm>
            <a:off x="853920" y="-6480"/>
            <a:ext cx="7783560" cy="148140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1428480" y="5643720"/>
            <a:ext cx="6143400" cy="11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onstantia"/>
              </a:rPr>
              <a:t>Автор работы: ученица 5 Г класс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onstantia"/>
              </a:rPr>
              <a:t>ГБОУ СОШ № 2092 Асадуллина Рим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3" name="Picture 2" descr="http://foto-palitra.ru/images/stories/Ramki/peizag/5.jpg"/>
          <p:cNvPicPr/>
          <p:nvPr/>
        </p:nvPicPr>
        <p:blipFill>
          <a:blip r:embed="rId2"/>
          <a:stretch/>
        </p:blipFill>
        <p:spPr>
          <a:xfrm>
            <a:off x="1428840" y="1285920"/>
            <a:ext cx="6357960" cy="4238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4" name="Picture 9" descr="File:Moscow 05-2012 Bolshoi after renewal.jpg"/>
          <p:cNvPicPr/>
          <p:nvPr/>
        </p:nvPicPr>
        <p:blipFill>
          <a:blip r:embed="rId3"/>
          <a:stretch/>
        </p:blipFill>
        <p:spPr>
          <a:xfrm>
            <a:off x="2214720" y="1785960"/>
            <a:ext cx="4786200" cy="3478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Скругленный прямоугольник 38">
            <a:hlinkClick r:id="" action="ppaction://hlinkshowjump?jump=endshow"/>
          </p:cNvPr>
          <p:cNvSpPr/>
          <p:nvPr/>
        </p:nvSpPr>
        <p:spPr>
          <a:xfrm>
            <a:off x="0" y="614376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Заголовок 5" descr=""/>
          <p:cNvPicPr/>
          <p:nvPr/>
        </p:nvPicPr>
        <p:blipFill>
          <a:blip r:embed="rId1"/>
          <a:stretch/>
        </p:blipFill>
        <p:spPr>
          <a:xfrm>
            <a:off x="1066680" y="133200"/>
            <a:ext cx="7766280" cy="731880"/>
          </a:xfrm>
          <a:prstGeom prst="rect">
            <a:avLst/>
          </a:prstGeom>
          <a:ln w="0">
            <a:noFill/>
          </a:ln>
        </p:spPr>
      </p:pic>
      <p:sp>
        <p:nvSpPr>
          <p:cNvPr id="507" name="Семиугольник 54"/>
          <p:cNvSpPr/>
          <p:nvPr/>
        </p:nvSpPr>
        <p:spPr>
          <a:xfrm>
            <a:off x="142920" y="285840"/>
            <a:ext cx="428760" cy="428400"/>
          </a:xfrm>
          <a:prstGeom prst="pie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Скругленный прямоугольник 12"/>
          <p:cNvSpPr/>
          <p:nvPr/>
        </p:nvSpPr>
        <p:spPr>
          <a:xfrm>
            <a:off x="1714680" y="4508640"/>
            <a:ext cx="5857560" cy="206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Большой театр начинался как частный театр губернского прокурора князя Петра Урусова. 28 марта 1776 г. императрица Екатерина II подписала князю «привилегию» на содержание спектаклей, маскарадов, балов и прочих увеселений сроком на десять лет. Эта дата считается днем основания московского Большого театра. На первом этапе существования Большого театра оперная и драматическая труппы составляли единое целое. Состав был самым разнообразным: от крепостных артистов — до приглашенных из-за границы звезд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Скругленный прямоугольник 13">
            <a:hlinkClick r:id="" action="ppaction://hlinkshowjump?jump=nextslide"/>
          </p:cNvPr>
          <p:cNvSpPr/>
          <p:nvPr/>
        </p:nvSpPr>
        <p:spPr>
          <a:xfrm>
            <a:off x="7786800" y="614376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Picture 10" descr="File:Bolshoy Teatr.jpg"/>
          <p:cNvPicPr/>
          <p:nvPr/>
        </p:nvPicPr>
        <p:blipFill>
          <a:blip r:embed="rId2"/>
          <a:stretch/>
        </p:blipFill>
        <p:spPr>
          <a:xfrm>
            <a:off x="1000080" y="1357200"/>
            <a:ext cx="3056040" cy="25718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2" descr="http://img12.nnm.ru/b/9/0/f/c/b90fc252b7e57d4cdfb76327507f04c0_full.jpg"/>
          <p:cNvPicPr/>
          <p:nvPr/>
        </p:nvPicPr>
        <p:blipFill>
          <a:blip r:embed="rId3"/>
          <a:stretch/>
        </p:blipFill>
        <p:spPr>
          <a:xfrm>
            <a:off x="214200" y="642960"/>
            <a:ext cx="4572000" cy="4191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Скругленный прямоугольник 38">
            <a:hlinkClick r:id="" action="ppaction://hlinkshowjump?jump=endshow"/>
          </p:cNvPr>
          <p:cNvSpPr/>
          <p:nvPr/>
        </p:nvSpPr>
        <p:spPr>
          <a:xfrm>
            <a:off x="0" y="614376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Заголовок 5"/>
          <p:cNvSpPr/>
          <p:nvPr/>
        </p:nvSpPr>
        <p:spPr>
          <a:xfrm>
            <a:off x="357120" y="214200"/>
            <a:ext cx="847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Месторасполож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Скругленный прямоугольник 13">
            <a:hlinkClick r:id="" action="ppaction://hlinkshowjump?jump=nextslide"/>
          </p:cNvPr>
          <p:cNvSpPr/>
          <p:nvPr/>
        </p:nvSpPr>
        <p:spPr>
          <a:xfrm>
            <a:off x="7786800" y="614376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Скругленный прямоугольник 5"/>
          <p:cNvSpPr/>
          <p:nvPr/>
        </p:nvSpPr>
        <p:spPr>
          <a:xfrm>
            <a:off x="1714680" y="4929120"/>
            <a:ext cx="5857560" cy="164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есто нахождения: 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осква, Театральная площадь, дом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Picture 7" descr="http://www.ecohouse.by/assets/cache/images/460x360-big-teatr.398.jpg"/>
          <p:cNvPicPr/>
          <p:nvPr/>
        </p:nvPicPr>
        <p:blipFill>
          <a:blip r:embed="rId1"/>
          <a:stretch/>
        </p:blipFill>
        <p:spPr>
          <a:xfrm>
            <a:off x="2643120" y="1643040"/>
            <a:ext cx="3286080" cy="25718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2" descr="http://img12.nnm.ru/b/9/0/f/c/b90fc252b7e57d4cdfb76327507f04c0_full.jpg"/>
          <p:cNvPicPr/>
          <p:nvPr/>
        </p:nvPicPr>
        <p:blipFill>
          <a:blip r:embed="rId2"/>
          <a:stretch/>
        </p:blipFill>
        <p:spPr>
          <a:xfrm>
            <a:off x="1835280" y="723960"/>
            <a:ext cx="4841640" cy="4357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8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Скругленный прямоугольник 38">
            <a:hlinkClick r:id="" action="ppaction://hlinkshowjump?jump=endshow"/>
          </p:cNvPr>
          <p:cNvSpPr/>
          <p:nvPr/>
        </p:nvSpPr>
        <p:spPr>
          <a:xfrm>
            <a:off x="0" y="614376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Заголовок 5" descr=""/>
          <p:cNvPicPr/>
          <p:nvPr/>
        </p:nvPicPr>
        <p:blipFill>
          <a:blip r:embed="rId1"/>
          <a:stretch/>
        </p:blipFill>
        <p:spPr>
          <a:xfrm>
            <a:off x="1066680" y="133200"/>
            <a:ext cx="7766280" cy="731880"/>
          </a:xfrm>
          <a:prstGeom prst="rect">
            <a:avLst/>
          </a:prstGeom>
          <a:ln w="0">
            <a:noFill/>
          </a:ln>
        </p:spPr>
      </p:pic>
      <p:sp>
        <p:nvSpPr>
          <p:cNvPr id="520" name="Семиугольник 54"/>
          <p:cNvSpPr/>
          <p:nvPr/>
        </p:nvSpPr>
        <p:spPr>
          <a:xfrm>
            <a:off x="142920" y="285840"/>
            <a:ext cx="428760" cy="428400"/>
          </a:xfrm>
          <a:prstGeom prst="pie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Скругленный прямоугольник 12"/>
          <p:cNvSpPr/>
          <p:nvPr/>
        </p:nvSpPr>
        <p:spPr>
          <a:xfrm>
            <a:off x="1714680" y="4929120"/>
            <a:ext cx="5857560" cy="164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Госуда́рственный два́жды о́рдена Ле́нина академи́ческий Большо́й теа́тр Росси́йской Федера́ции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(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ГАБТ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), или просто 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Большо́й теа́тр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— один из крупнейших в 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onstantia"/>
                <a:hlinkClick r:id="rId2"/>
              </a:rPr>
              <a:t>России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и один из самых значительных в мире 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onstantia"/>
                <a:hlinkClick r:id="rId3"/>
              </a:rPr>
              <a:t>театров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onstantia"/>
                <a:hlinkClick r:id="rId4"/>
              </a:rPr>
              <a:t>оперы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и 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onstantia"/>
                <a:hlinkClick r:id="rId5"/>
              </a:rPr>
              <a:t>балет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. Комплекс зданий театра расположен в центре 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onstantia"/>
                <a:hlinkClick r:id="rId6"/>
              </a:rPr>
              <a:t>Москвы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на 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onstantia"/>
                <a:hlinkClick r:id="rId7"/>
              </a:rPr>
              <a:t>Театральной площади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Скругленный прямоугольник 13">
            <a:hlinkClick r:id="" action="ppaction://hlinkshowjump?jump=nextslide"/>
          </p:cNvPr>
          <p:cNvSpPr/>
          <p:nvPr/>
        </p:nvSpPr>
        <p:spPr>
          <a:xfrm>
            <a:off x="7786800" y="614376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Picture 11" descr="http://efpr.ru/uploads/posts/2012-06/1339661366_80332824_large_4189255_08Bolshoyteatr.jpg"/>
          <p:cNvPicPr/>
          <p:nvPr/>
        </p:nvPicPr>
        <p:blipFill>
          <a:blip r:embed="rId8"/>
          <a:stretch/>
        </p:blipFill>
        <p:spPr>
          <a:xfrm>
            <a:off x="1000080" y="1630440"/>
            <a:ext cx="3143160" cy="255564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3" descr="После реставрации (28 фото) "/>
          <p:cNvPicPr/>
          <p:nvPr/>
        </p:nvPicPr>
        <p:blipFill>
          <a:blip r:embed="rId9"/>
          <a:stretch/>
        </p:blipFill>
        <p:spPr>
          <a:xfrm>
            <a:off x="5286240" y="1714680"/>
            <a:ext cx="3286440" cy="23446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2" descr="http://img12.nnm.ru/b/9/0/f/c/b90fc252b7e57d4cdfb76327507f04c0_full.jpg"/>
          <p:cNvPicPr/>
          <p:nvPr/>
        </p:nvPicPr>
        <p:blipFill>
          <a:blip r:embed="rId10"/>
          <a:stretch/>
        </p:blipFill>
        <p:spPr>
          <a:xfrm>
            <a:off x="4484520" y="714240"/>
            <a:ext cx="4842000" cy="43578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2" descr="http://img12.nnm.ru/b/9/0/f/c/b90fc252b7e57d4cdfb76327507f04c0_full.jpg"/>
          <p:cNvPicPr/>
          <p:nvPr/>
        </p:nvPicPr>
        <p:blipFill>
          <a:blip r:embed="rId11"/>
          <a:stretch/>
        </p:blipFill>
        <p:spPr>
          <a:xfrm>
            <a:off x="214200" y="785880"/>
            <a:ext cx="4572000" cy="419076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Скругленный прямоугольник 38">
            <a:hlinkClick r:id="" action="ppaction://hlinkshowjump?jump=endshow"/>
          </p:cNvPr>
          <p:cNvSpPr/>
          <p:nvPr/>
        </p:nvSpPr>
        <p:spPr>
          <a:xfrm>
            <a:off x="0" y="614376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Заголовок 5" descr=""/>
          <p:cNvPicPr/>
          <p:nvPr/>
        </p:nvPicPr>
        <p:blipFill>
          <a:blip r:embed="rId1"/>
          <a:stretch/>
        </p:blipFill>
        <p:spPr>
          <a:xfrm>
            <a:off x="633240" y="-79200"/>
            <a:ext cx="7772400" cy="725400"/>
          </a:xfrm>
          <a:prstGeom prst="rect">
            <a:avLst/>
          </a:prstGeom>
          <a:ln w="0">
            <a:noFill/>
          </a:ln>
        </p:spPr>
      </p:pic>
      <p:sp>
        <p:nvSpPr>
          <p:cNvPr id="529" name="Скругленный прямоугольник 10">
            <a:hlinkClick r:id="" action="ppaction://hlinkshowjump?jump=firstslide"/>
          </p:cNvPr>
          <p:cNvSpPr/>
          <p:nvPr/>
        </p:nvSpPr>
        <p:spPr>
          <a:xfrm>
            <a:off x="7786800" y="614376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Прямоугольник 11"/>
          <p:cNvSpPr/>
          <p:nvPr/>
        </p:nvSpPr>
        <p:spPr>
          <a:xfrm>
            <a:off x="428760" y="571680"/>
            <a:ext cx="8358120" cy="81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http://img12.nnm.ru/b/9/0/f/c/b90fc252b7e57d4cdfb76327507f04c0_full.jp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рамка для фот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http://commons.wikimedia.org/wiki/File:Moscow_05-2012_Bolshoi_after_renewal.jpg?uselang=r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фот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http://commons.wikimedia.org/wiki/File:Bolshoy_Teatr.jpg?uselang=r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фо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http://www.bolshoi.ru/about/history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история созд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http://ru.wikipedia.org/wiki/%C1%EE%EB%FC%F8%EE%E9_%F2%E5%E0%F2%F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место нахождения и краткое опис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7"/>
              </a:rPr>
              <a:t>http://www.ecohouse.by/assets/cache/images/460x360-big-teatr.398.jp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фо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8"/>
              </a:rPr>
              <a:t>http://www.lightpark.ru/events/2012/08/26533_main_foto_04.jp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фот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img.kushv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ine.ru/city/annonce_stream/2011/11/7f45e6f04f622066e2d5ff2d95f176bb_big.jp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фото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07:57:37Z</dcterms:created>
  <dc:creator>name</dc:creator>
  <dc:description/>
  <dc:language>en-US</dc:language>
  <cp:lastModifiedBy>user</cp:lastModifiedBy>
  <dcterms:modified xsi:type="dcterms:W3CDTF">2014-04-09T10:50:41Z</dcterms:modified>
  <cp:revision>62</cp:revision>
  <dc:subject/>
  <dc:title>МОСКВА – ДРЕВНА И МЛАДА</dc:title>
</cp:coreProperties>
</file>