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146F-9EC0-4E5F-8B43-A2D28B5065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078F-1CBF-4EFA-95A5-E6E7BED5A1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977E-07CA-4D6F-905F-A0384418D4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CF79-87C4-4263-9566-4798A7F0C5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CB13-1BE8-4AD1-9602-6B3406F225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18FC-48EF-4F01-9D40-DEA09E1C8D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BB7-BD3C-48D3-B15F-1CCBA621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730-7BEA-458E-92AF-711D7E4D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21A61-C7F7-4B62-B204-BEFE8996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C9DD8-E0CE-4F0A-8FB5-3582E1C8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98DE7-F3AA-40F1-B328-339F0127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5332B-FF82-4027-9A03-827A9851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49314-1E84-487D-A0D5-17727BEE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A2A82-EE89-4294-9B37-108913D9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52CAC-4E5A-4BFB-866F-95498918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0059F-2A44-4D60-80F6-F63B1663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615B4-735D-4B51-8E2A-887A6433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87694-04CF-4A66-8FB2-263EBE62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490-988C-4EE5-9000-2F58616A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E9892-060A-4893-BBBB-5E84CC90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065ED-F03C-4B88-8746-A0E2A2A5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71C1C-CCC8-4E31-985D-973720FD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AF219-AFD7-4C8E-A0B8-F349ABF4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76331-27BA-47DD-AC95-1FCAB361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2C53E-9CC1-41F2-8C51-EC9227BE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F1397-8795-4CAE-AC43-4E770314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C1FEC-AD21-44BD-A4B8-16D27F2B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0710D-3A24-436D-AF17-6760C95A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0EA78-C8A0-4CD1-B2C0-B1F18BE2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7F5-6E85-4446-B9FD-2A501F6E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0A965-93A1-4933-8EB8-8C5B087B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5EBEA-4380-4AC1-B082-BEDE9D31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63084-A7DC-4E68-9468-679DF6E1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CD1D1-40F7-4A2A-8FE2-52B7B2C3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A5D80-B3C4-4854-A876-11A0799A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907BF-1588-4CA4-A760-25F13864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431B5-2446-4BBD-816B-028128A7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4E5E9-34B3-4277-B492-CB489116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CE479-12EA-454B-8A46-B593B58A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303AF-4FF1-4573-BD86-C57EFD2C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DAC3-D11D-4D4D-A8DC-D8FE6A85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8A052-21B8-4445-8EAD-03E85DC6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49998-FF7E-4EE7-B144-ADB3C18B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2A21A-2AB0-4601-A442-4679891E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CC42A-D255-4141-8BFA-F701C825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31868-0BC3-4C16-869D-250252C5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BAFF1-8CD1-43F6-8003-08B3D92E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A1D2E-B2F4-4F67-B7AA-12B2A2DD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BF05C-ED3F-4150-94A9-B05409FC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A60EC-19CB-4A07-B50D-A4B54C9F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1FD81-E6B3-4401-B4D1-FBAC17F9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E34B-AD96-4AD7-BA79-A72B54A8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A1694-EF57-4C99-9221-20A64D6A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665F2-1CBB-48FE-BD77-B0A77551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42380-356C-4058-86D3-CE3CE85D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C9E55-6E73-48C0-9388-A8B7C978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88EFF-91EB-4674-9ABC-B796FE63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BADF-4D78-4764-86F4-DBC3398C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E0A7-FA7B-4A21-A35D-5A7F1AE1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0C51-F4C1-469F-B5E3-31E2419F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91BA-48AE-4314-927A-55885A7F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43E2-4479-4F17-8009-636B3C04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5C7-7EF5-4A13-ACB3-9479E307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F37B-D9B1-4515-9A2D-297556C9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D242-2CA0-4C3C-8598-EAEFFC82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5CE4-2F6B-4DB7-B2E7-DBD4E9A9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D32B-DBBD-4E2B-A821-45957EFD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6F69-9D80-427C-8FAF-D828B3F2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E4EEA-C98E-4D90-9D16-F654A26F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1C040-13F0-4DFC-8AD5-01E43FDD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C206D-EC5A-4B49-8879-49B7A6C7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49571-B50B-40B5-B13D-29BDB1BD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0F974-07A0-4E7F-82E8-AC4E372E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085-FA1C-46E8-B5F3-E94DED8D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0175B-0100-40D5-8A5F-76BEB09E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1BB92-3818-4729-A4A9-496969DC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99217-3CA0-4A15-99B0-2873B7D7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5522B-0F34-4EF1-B382-6334C9CE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481C8-702B-4299-B692-00AD49B6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EEEA8-0D87-4A09-B8C3-30E41614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CE336-D372-42A1-AB98-40CDFC34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1FF55-C81B-4A8F-959F-C5CE01B6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A243E-9AB3-403F-A21A-F6D6190A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84D82-6F79-4BB7-9C4F-B1FCB129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B34-2F6E-469F-8A32-CCE55DD4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AB37F-EADE-42D7-BCC7-06DF25F8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812C4-9ADF-4E1C-88D0-77D9C221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37878-66DC-45AA-8E77-DB89684F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56BEA-6434-4B23-92B8-80C1885D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07AD5-9511-4100-A9BD-D97C259F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9F95F-619D-4A72-BB0C-5A4F70F8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482A6-379F-45A9-8BFC-181F0529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2BDF4-319F-4171-821B-8F87007F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2DD23-DD84-49C2-B149-BB669E95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2149C-5A0D-4B0F-931F-FC35B319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A59-521C-44E4-87DE-8607E41D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E3BD6-7BC8-4595-A3EE-0345815A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1B5C6-5EF8-41FD-98D4-D9060834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85351-2B6D-4C99-9B7D-8DA9090A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0D29C-B11C-4B2B-98F4-16063118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801B2-8638-4EAA-8F4A-0728CCEB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EE7E3-4D59-409F-AF5D-97BC053C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6B9A3-E0E8-4C7C-8E34-F0888FE0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0CF69-43C0-4931-A7DB-E06071AD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FE893-2AFF-49BF-BE9B-5CF93739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45636-B9E1-4B9F-9408-B932C199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150-CBD4-4BE1-BBC4-C1276ABD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91A70-B306-4F44-9DC1-0C682AEC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48CD9-86F8-4905-9D55-9D12A82D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0FE8D-D9EC-457B-A808-8183EACD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45A81-D3E2-4139-922F-CF6F4078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86840-EEBF-42E8-9F35-5274883C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56BD7-DDED-4B28-AFA3-72B25B2B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943DE-465F-4E47-BDBF-3D14DF5E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D1CBE-F649-4577-B059-9C09FB72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90035-C6FC-4B53-9D32-2A919572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48E4E-8293-45E1-A348-5D4228CD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651-9E90-4141-9991-B9AEC596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7AF74-24DE-4919-8A02-4F6F8700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2DB1E-C075-4A29-9B10-19B07B57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BE6F9-4891-475A-9844-7B0E8693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FE6E8-F9C8-45AE-945F-F301C413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3CE8E-8F1F-41EC-BA77-E4B873DE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9C890-7CDB-4147-867C-0EFE81CF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8C426-0271-46AE-83A0-D54AD10B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F2548-3952-4B9C-A6CB-D3B913D6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995B6-FDF9-4B62-A90F-3FF36E4E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99A1E-685F-4182-A568-5036449A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C10B-27A5-4A36-92FB-3225C8A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CC495-8283-458B-9749-1314655F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7F0C0-A86B-4DA3-85D1-07F4F261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76EE7-5184-407F-9D62-A51F931D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D56B4-13E8-4091-9B6E-B55AE6FD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0567A-9D0F-468F-8360-5CD33F33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1799C-13AF-40F6-991E-D909B1AF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AFB48-FF63-41EA-9FB4-4AFA097B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6D4B8-FE6D-49B6-BCBA-6F992AF2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09A66-F8BF-4D8E-9FFB-D0DBD441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692E8-F963-4789-94F0-78AF1FFA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81F-502F-4D90-A05C-46C362CA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45E6A-787F-4B06-A0BA-839773A1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63B39-8E0A-4820-86D1-1C2431CD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2D2AB-9DAD-48C5-ABD8-766522B2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FA3C0-995F-4DC9-A88A-8F579DF6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E4550-CA1B-40F2-91BB-20E0FA82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9F3CE-4311-4487-AA4E-F58A9D72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64E17-4BB4-466B-BB83-7A28B5F9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7E307-FE88-4DFF-9566-3BE1F1CB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43498-C11D-4745-874E-3EACD981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57947-7071-4484-93A5-7DA1A185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CA17-0187-40E3-B3F7-9FEF955C4523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2930-5BD8-41AF-90FD-50DD456AA5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0A6C-C99A-4B3F-A440-AC330EF1DF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3FD9-13B3-4E79-A68C-CCDB9206E4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7152-787E-4646-BE63-5A932CF73D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FBB5-CF99-4C41-AC74-4787CA43C2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C294-03D3-4336-A68D-86436C2848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1AA5-6F72-46AE-9DF1-27FF161150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CDE1-7CE5-458F-A679-488632FC4B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56E3-DB06-48F4-AAAD-E28DFB0728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215F-B745-4B96-9962-A948878D7E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02B3-3E00-46CA-A4F2-0320213434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56;&#1086;&#1089;&#1089;&#1080;&#1103;" TargetMode="External"/><Relationship Id="rId3" Type="http://schemas.openxmlformats.org/officeDocument/2006/relationships/hyperlink" Target="http://ru.wikipedia.org/wiki/&#1058;&#1077;&#1072;&#1090;&#1088;" TargetMode="External"/><Relationship Id="rId4" Type="http://schemas.openxmlformats.org/officeDocument/2006/relationships/hyperlink" Target="http://ru.wikipedia.org/wiki/&#1054;&#1087;&#1077;&#1088;&#1072;" TargetMode="External"/><Relationship Id="rId5" Type="http://schemas.openxmlformats.org/officeDocument/2006/relationships/hyperlink" Target="http://ru.wikipedia.org/wiki/&#1041;&#1072;&#1083;&#1077;&#1090;" TargetMode="External"/><Relationship Id="rId6" Type="http://schemas.openxmlformats.org/officeDocument/2006/relationships/hyperlink" Target="http://ru.wikipedia.org/wiki/&#1052;&#1086;&#1089;&#1082;&#1074;&#1072;" TargetMode="External"/><Relationship Id="rId7" Type="http://schemas.openxmlformats.org/officeDocument/2006/relationships/hyperlink" Target="http://ru.wikipedia.org/wiki/&#1058;&#1077;&#1072;&#1090;&#1088;&#1072;&#1083;&#1100;&#1085;&#1072;&#1103;_&#1087;&#1083;&#1086;&#1097;&#1072;&#1076;&#1100;_(&#1052;&#1086;&#1089;&#1082;&#1074;&#1072;)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img12.nnm.ru/b/9/0/f/c/b90fc252b7e57d4cdfb76327507f04c0_full.jpg" TargetMode="External"/><Relationship Id="rId3" Type="http://schemas.openxmlformats.org/officeDocument/2006/relationships/hyperlink" Target="http://commons.wikimedia.org/wiki/File:Moscow_05-2012_Bolshoi_after_renewal.jpg?uselang=ru" TargetMode="External"/><Relationship Id="rId4" Type="http://schemas.openxmlformats.org/officeDocument/2006/relationships/hyperlink" Target="http://commons.wikimedia.org/wiki/File:Bolshoy_Teatr.jpg?uselang=ru" TargetMode="External"/><Relationship Id="rId5" Type="http://schemas.openxmlformats.org/officeDocument/2006/relationships/hyperlink" Target="http://www.bolshoi.ru/about/history/" TargetMode="External"/><Relationship Id="rId6" Type="http://schemas.openxmlformats.org/officeDocument/2006/relationships/hyperlink" Target="http://ru.wikipedia.org/wiki/%C1%EE%EB%FC%F8%EE%E9_%F2%E5%E0%F2%F0" TargetMode="External"/><Relationship Id="rId7" Type="http://schemas.openxmlformats.org/officeDocument/2006/relationships/hyperlink" Target="http://www.ecohouse.by/assets/cache/images/460x360-big-teatr.398.jpg" TargetMode="External"/><Relationship Id="rId8" Type="http://schemas.openxmlformats.org/officeDocument/2006/relationships/hyperlink" Target="http://www.lightpark.ru/events/2012/08/26533_main_foto_04.jpg" TargetMode="External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Скругленный прямоугольник 37">
            <a:hlinkClick r:id="" action="ppaction://hlinkshowjump?jump=endshow"/>
          </p:cNvPr>
          <p:cNvSpPr/>
          <p:nvPr/>
        </p:nvSpPr>
        <p:spPr>
          <a:xfrm>
            <a:off x="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Скругленный прямоугольник 31">
            <a:hlinkClick r:id="" action="ppaction://hlinkshowjump?jump=nextslide"/>
          </p:cNvPr>
          <p:cNvSpPr/>
          <p:nvPr/>
        </p:nvSpPr>
        <p:spPr>
          <a:xfrm>
            <a:off x="778680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Заголовок 6" descr=""/>
          <p:cNvPicPr/>
          <p:nvPr/>
        </p:nvPicPr>
        <p:blipFill>
          <a:blip r:embed="rId1"/>
          <a:stretch/>
        </p:blipFill>
        <p:spPr>
          <a:xfrm>
            <a:off x="853920" y="-6480"/>
            <a:ext cx="7783560" cy="14814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428480" y="5643720"/>
            <a:ext cx="614340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nstantia"/>
              </a:rPr>
              <a:t>Автор работы: ученица 5 Г клас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nstantia"/>
              </a:rPr>
              <a:t>ГБОУ СОШ № 2092 Асадуллина Рим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Picture 2" descr="http://foto-palitra.ru/images/stories/Ramki/peizag/5.jpg"/>
          <p:cNvPicPr/>
          <p:nvPr/>
        </p:nvPicPr>
        <p:blipFill>
          <a:blip r:embed="rId2"/>
          <a:stretch/>
        </p:blipFill>
        <p:spPr>
          <a:xfrm>
            <a:off x="1428840" y="1285920"/>
            <a:ext cx="6357960" cy="423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4" name="Picture 9" descr="File:Moscow 05-2012 Bolshoi after renewal.jpg"/>
          <p:cNvPicPr/>
          <p:nvPr/>
        </p:nvPicPr>
        <p:blipFill>
          <a:blip r:embed="rId3"/>
          <a:stretch/>
        </p:blipFill>
        <p:spPr>
          <a:xfrm>
            <a:off x="2214720" y="1785960"/>
            <a:ext cx="4786200" cy="347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Скругленный прямоугольник 38">
            <a:hlinkClick r:id="" action="ppaction://hlinkshowjump?jump=endshow"/>
          </p:cNvPr>
          <p:cNvSpPr/>
          <p:nvPr/>
        </p:nvSpPr>
        <p:spPr>
          <a:xfrm>
            <a:off x="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Заголовок 5" descr=""/>
          <p:cNvPicPr/>
          <p:nvPr/>
        </p:nvPicPr>
        <p:blipFill>
          <a:blip r:embed="rId1"/>
          <a:stretch/>
        </p:blipFill>
        <p:spPr>
          <a:xfrm>
            <a:off x="1066680" y="133200"/>
            <a:ext cx="7766280" cy="731880"/>
          </a:xfrm>
          <a:prstGeom prst="rect">
            <a:avLst/>
          </a:prstGeom>
          <a:ln w="0">
            <a:noFill/>
          </a:ln>
        </p:spPr>
      </p:pic>
      <p:sp>
        <p:nvSpPr>
          <p:cNvPr id="507" name="Семиугольник 54"/>
          <p:cNvSpPr/>
          <p:nvPr/>
        </p:nvSpPr>
        <p:spPr>
          <a:xfrm>
            <a:off x="142920" y="285840"/>
            <a:ext cx="428760" cy="428400"/>
          </a:xfrm>
          <a:prstGeom prst="pi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Скругленный прямоугольник 12"/>
          <p:cNvSpPr/>
          <p:nvPr/>
        </p:nvSpPr>
        <p:spPr>
          <a:xfrm>
            <a:off x="1714680" y="4508640"/>
            <a:ext cx="5857560" cy="206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ольшой театр начинался как частный театр губернского прокурора князя Петра Урусова. 28 марта 1776 г. императрица Екатерина II подписала князю «привилегию» на содержание спектаклей, маскарадов, балов и прочих увеселений сроком на десять лет. Эта дата считается днем основания московского Большого театра. На первом этапе существования Большого театра оперная и драматическая труппы составляли единое целое. Состав был самым разнообразным: от крепостных артистов — до приглашенных из-за границы звез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Скругленный прямоугольник 13">
            <a:hlinkClick r:id="" action="ppaction://hlinkshowjump?jump=nextslide"/>
          </p:cNvPr>
          <p:cNvSpPr/>
          <p:nvPr/>
        </p:nvSpPr>
        <p:spPr>
          <a:xfrm>
            <a:off x="778680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10" descr="File:Bolshoy Teatr.jpg"/>
          <p:cNvPicPr/>
          <p:nvPr/>
        </p:nvPicPr>
        <p:blipFill>
          <a:blip r:embed="rId2"/>
          <a:stretch/>
        </p:blipFill>
        <p:spPr>
          <a:xfrm>
            <a:off x="1000080" y="1357200"/>
            <a:ext cx="3056040" cy="2571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" descr="http://img12.nnm.ru/b/9/0/f/c/b90fc252b7e57d4cdfb76327507f04c0_full.jpg"/>
          <p:cNvPicPr/>
          <p:nvPr/>
        </p:nvPicPr>
        <p:blipFill>
          <a:blip r:embed="rId3"/>
          <a:stretch/>
        </p:blipFill>
        <p:spPr>
          <a:xfrm>
            <a:off x="214200" y="642960"/>
            <a:ext cx="4572000" cy="4191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Скругленный прямоугольник 38">
            <a:hlinkClick r:id="" action="ppaction://hlinkshowjump?jump=endshow"/>
          </p:cNvPr>
          <p:cNvSpPr/>
          <p:nvPr/>
        </p:nvSpPr>
        <p:spPr>
          <a:xfrm>
            <a:off x="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Заголовок 5"/>
          <p:cNvSpPr/>
          <p:nvPr/>
        </p:nvSpPr>
        <p:spPr>
          <a:xfrm>
            <a:off x="357120" y="214200"/>
            <a:ext cx="847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естораспо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Скругленный прямоугольник 13">
            <a:hlinkClick r:id="" action="ppaction://hlinkshowjump?jump=nextslide"/>
          </p:cNvPr>
          <p:cNvSpPr/>
          <p:nvPr/>
        </p:nvSpPr>
        <p:spPr>
          <a:xfrm>
            <a:off x="778680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Скругленный прямоугольник 5"/>
          <p:cNvSpPr/>
          <p:nvPr/>
        </p:nvSpPr>
        <p:spPr>
          <a:xfrm>
            <a:off x="1714680" y="4929120"/>
            <a:ext cx="585756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есто нахождения: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сква, Театральная площадь, дом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7" descr="http://www.ecohouse.by/assets/cache/images/460x360-big-teatr.398.jpg"/>
          <p:cNvPicPr/>
          <p:nvPr/>
        </p:nvPicPr>
        <p:blipFill>
          <a:blip r:embed="rId1"/>
          <a:stretch/>
        </p:blipFill>
        <p:spPr>
          <a:xfrm>
            <a:off x="2643120" y="164304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http://img12.nnm.ru/b/9/0/f/c/b90fc252b7e57d4cdfb76327507f04c0_full.jpg"/>
          <p:cNvPicPr/>
          <p:nvPr/>
        </p:nvPicPr>
        <p:blipFill>
          <a:blip r:embed="rId2"/>
          <a:stretch/>
        </p:blipFill>
        <p:spPr>
          <a:xfrm>
            <a:off x="1835280" y="723960"/>
            <a:ext cx="4841640" cy="4357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Скругленный прямоугольник 38">
            <a:hlinkClick r:id="" action="ppaction://hlinkshowjump?jump=endshow"/>
          </p:cNvPr>
          <p:cNvSpPr/>
          <p:nvPr/>
        </p:nvSpPr>
        <p:spPr>
          <a:xfrm>
            <a:off x="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Заголовок 5" descr=""/>
          <p:cNvPicPr/>
          <p:nvPr/>
        </p:nvPicPr>
        <p:blipFill>
          <a:blip r:embed="rId1"/>
          <a:stretch/>
        </p:blipFill>
        <p:spPr>
          <a:xfrm>
            <a:off x="1066680" y="133200"/>
            <a:ext cx="7766280" cy="731880"/>
          </a:xfrm>
          <a:prstGeom prst="rect">
            <a:avLst/>
          </a:prstGeom>
          <a:ln w="0">
            <a:noFill/>
          </a:ln>
        </p:spPr>
      </p:pic>
      <p:sp>
        <p:nvSpPr>
          <p:cNvPr id="520" name="Семиугольник 54"/>
          <p:cNvSpPr/>
          <p:nvPr/>
        </p:nvSpPr>
        <p:spPr>
          <a:xfrm>
            <a:off x="142920" y="285840"/>
            <a:ext cx="428760" cy="428400"/>
          </a:xfrm>
          <a:prstGeom prst="pi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Скругленный прямоугольник 12"/>
          <p:cNvSpPr/>
          <p:nvPr/>
        </p:nvSpPr>
        <p:spPr>
          <a:xfrm>
            <a:off x="1714680" y="4929120"/>
            <a:ext cx="585756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Госуда́рственный два́жды о́рдена Ле́нина академи́ческий Большо́й теа́тр Росси́йской Федера́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(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ГАБТ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), или просто 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Большо́й теа́тр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— один из крупнейших в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2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и один из самых значительных в мире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3"/>
              </a:rPr>
              <a:t>театров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4"/>
              </a:rPr>
              <a:t>оперы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и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5"/>
              </a:rPr>
              <a:t>балет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Комплекс зданий театра расположен в центре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6"/>
              </a:rPr>
              <a:t>Москвы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на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7"/>
              </a:rPr>
              <a:t>Театральной площад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Скругленный прямоугольник 13">
            <a:hlinkClick r:id="" action="ppaction://hlinkshowjump?jump=nextslide"/>
          </p:cNvPr>
          <p:cNvSpPr/>
          <p:nvPr/>
        </p:nvSpPr>
        <p:spPr>
          <a:xfrm>
            <a:off x="778680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11" descr="http://efpr.ru/uploads/posts/2012-06/1339661366_80332824_large_4189255_08Bolshoyteatr.jpg"/>
          <p:cNvPicPr/>
          <p:nvPr/>
        </p:nvPicPr>
        <p:blipFill>
          <a:blip r:embed="rId8"/>
          <a:stretch/>
        </p:blipFill>
        <p:spPr>
          <a:xfrm>
            <a:off x="1000080" y="1630440"/>
            <a:ext cx="3143160" cy="25556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3" descr="После реставрации (28 фото) "/>
          <p:cNvPicPr/>
          <p:nvPr/>
        </p:nvPicPr>
        <p:blipFill>
          <a:blip r:embed="rId9"/>
          <a:stretch/>
        </p:blipFill>
        <p:spPr>
          <a:xfrm>
            <a:off x="5286240" y="1714680"/>
            <a:ext cx="3286440" cy="2344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" descr="http://img12.nnm.ru/b/9/0/f/c/b90fc252b7e57d4cdfb76327507f04c0_full.jpg"/>
          <p:cNvPicPr/>
          <p:nvPr/>
        </p:nvPicPr>
        <p:blipFill>
          <a:blip r:embed="rId10"/>
          <a:stretch/>
        </p:blipFill>
        <p:spPr>
          <a:xfrm>
            <a:off x="4484520" y="714240"/>
            <a:ext cx="4842000" cy="43578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http://img12.nnm.ru/b/9/0/f/c/b90fc252b7e57d4cdfb76327507f04c0_full.jpg"/>
          <p:cNvPicPr/>
          <p:nvPr/>
        </p:nvPicPr>
        <p:blipFill>
          <a:blip r:embed="rId11"/>
          <a:stretch/>
        </p:blipFill>
        <p:spPr>
          <a:xfrm>
            <a:off x="214200" y="785880"/>
            <a:ext cx="4572000" cy="41907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Скругленный прямоугольник 38">
            <a:hlinkClick r:id="" action="ppaction://hlinkshowjump?jump=endshow"/>
          </p:cNvPr>
          <p:cNvSpPr/>
          <p:nvPr/>
        </p:nvSpPr>
        <p:spPr>
          <a:xfrm>
            <a:off x="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Заголовок 5" descr=""/>
          <p:cNvPicPr/>
          <p:nvPr/>
        </p:nvPicPr>
        <p:blipFill>
          <a:blip r:embed="rId1"/>
          <a:stretch/>
        </p:blipFill>
        <p:spPr>
          <a:xfrm>
            <a:off x="633240" y="-79200"/>
            <a:ext cx="7772400" cy="725400"/>
          </a:xfrm>
          <a:prstGeom prst="rect">
            <a:avLst/>
          </a:prstGeom>
          <a:ln w="0">
            <a:noFill/>
          </a:ln>
        </p:spPr>
      </p:pic>
      <p:sp>
        <p:nvSpPr>
          <p:cNvPr id="529" name="Скругленный прямоугольник 10">
            <a:hlinkClick r:id="" action="ppaction://hlinkshowjump?jump=firstslide"/>
          </p:cNvPr>
          <p:cNvSpPr/>
          <p:nvPr/>
        </p:nvSpPr>
        <p:spPr>
          <a:xfrm>
            <a:off x="778680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Прямоугольник 11"/>
          <p:cNvSpPr/>
          <p:nvPr/>
        </p:nvSpPr>
        <p:spPr>
          <a:xfrm>
            <a:off x="428760" y="571680"/>
            <a:ext cx="835812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img12.nnm.ru/b/9/0/f/c/b90fc252b7e57d4cdfb76327507f04c0_full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рамка для фот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commons.wikimedia.org/wiki/File:Moscow_05-2012_Bolshoi_after_renewal.jpg?uselang=r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фо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commons.wikimedia.org/wiki/File:Bolshoy_Teatr.jpg?uselang=r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ф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www.bolshoi.ru/about/history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история созд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http://ru.wikipedia.org/wiki/%C1%EE%EB%FC%F8%EE%E9_%F2%E5%E0%F2%F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место нахождения и краткое опис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http://www.ecohouse.by/assets/cache/images/460x360-big-teatr.398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ф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http://www.lightpark.ru/events/2012/08/26533_main_foto_04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фо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img.kushv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.ru/city/annonce_stream/2011/11/7f45e6f04f622066e2d5ff2d95f176bb_big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фот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7:57:37Z</dcterms:created>
  <dc:creator>name</dc:creator>
  <dc:description/>
  <dc:language>en-US</dc:language>
  <cp:lastModifiedBy>user</cp:lastModifiedBy>
  <dcterms:modified xsi:type="dcterms:W3CDTF">2014-04-09T10:50:41Z</dcterms:modified>
  <cp:revision>62</cp:revision>
  <dc:subject/>
  <dc:title>МОСКВА – ДРЕВНА И МЛАДА</dc:title>
</cp:coreProperties>
</file>