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2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1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952-C1DC-4AA0-8F95-7A2BBA6A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B34-E8AE-4AF8-8DCF-782E397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250-B750-4E3C-884C-F98DCF99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4C5-C6AE-4D9B-8C28-42BFFBEB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B80-F9F1-4446-996C-5DC2CDA7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3E1-A84A-42EC-9F15-A03DFE31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6D1-EEC2-48E5-9A1A-BC04719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5DA-7220-4672-B74D-273C8D12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15C6-7E55-4447-9C28-42BFCC95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F7DC-ECF4-4A20-BB67-39A8C39D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957-AD1C-43ED-939D-21EA4E6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817-A23A-4ABB-B448-5BC6D7F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3A97-E3CB-436B-9784-E2E4097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564D-7116-48DE-A48B-DB8344B9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7D4F-386E-4C31-958D-BA91444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C813-EB32-43DF-B2F4-B1F9414A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C79-2ECC-4C7B-9C9F-7D9B26E5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670-FA19-4377-889A-F96CE0C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16C-2FA5-4AFE-8C15-79285C38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8D5-FE63-4543-A991-CD587D0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E8E-DAE0-406C-B55B-8774795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172-F101-4E7D-8077-68300F99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80C-7931-4733-AD19-123FA24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C1B-B42D-4BBA-A4D8-1720514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0C3-C0CD-4841-BDC7-B5BD92CC1B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1C3-6462-4ED4-976B-F02147A82A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jpe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slide" Target="slide13.xml"/><Relationship Id="rId7" Type="http://schemas.openxmlformats.org/officeDocument/2006/relationships/image" Target="../media/image3.png"/><Relationship Id="rId8" Type="http://schemas.openxmlformats.org/officeDocument/2006/relationships/slide" Target="slide14.xml"/><Relationship Id="rId9" Type="http://schemas.openxmlformats.org/officeDocument/2006/relationships/image" Target="../media/image3.png"/><Relationship Id="rId10" Type="http://schemas.openxmlformats.org/officeDocument/2006/relationships/slide" Target="slide15.xml"/><Relationship Id="rId11" Type="http://schemas.openxmlformats.org/officeDocument/2006/relationships/image" Target="../media/image3.png"/><Relationship Id="rId12" Type="http://schemas.openxmlformats.org/officeDocument/2006/relationships/slide" Target="slide16.xml"/><Relationship Id="rId13" Type="http://schemas.openxmlformats.org/officeDocument/2006/relationships/image" Target="../media/image3.png"/><Relationship Id="rId14" Type="http://schemas.openxmlformats.org/officeDocument/2006/relationships/slide" Target="slide17.xm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55640" y="2349000"/>
            <a:ext cx="4392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втор: Банникова Алёна, 6 класс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ъединение «Волшебный краснотал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дагог Н.В.Бороди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229360"/>
            <a:ext cx="30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МОУДОД ЦВ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пос. Шолоховски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Белокалитвинского райо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Ростов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4e1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95640" y="981000"/>
            <a:ext cx="49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И ШЛЯПКИ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596960" cy="201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50336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9440" y="451800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544840" cy="3166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3241440" cy="323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2971800" cy="374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4320" y="226800"/>
            <a:ext cx="56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риалы издел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5316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моего изделия я применяла атласные ленты. Шёлковые ленты имеют различную ширину: от 7 до 150 мм. Цвет лент разнообразен. Вышивальные ленты должны обладать прочностью, гладкостью, блеском, малой толщиной, выдерживать температурные режимы при влажно – тепловой обработ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ышивать лентами можно на гладких, узорчатых и ворсовых материалах и даже на трикотаже.  А можно сделать объёмные цве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754360" cy="23684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2925720"/>
            <a:ext cx="3600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бутоньерки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понадобит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350 см  шириной 5 см,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50 см шириной 1.5 с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Нитки мулине или шерстяные для обматывания веточ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3645000"/>
            <a:ext cx="1295280" cy="79200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0 h 792000"/>
              <a:gd name="textAreaBottom" fmla="*/ 52812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724280"/>
            <a:ext cx="1512720" cy="576360"/>
          </a:xfrm>
          <a:custGeom>
            <a:avLst/>
            <a:gdLst>
              <a:gd name="textAreaLeft" fmla="*/ 378000 w 1512720"/>
              <a:gd name="textAreaRight" fmla="*/ 1134720 w 1512720"/>
              <a:gd name="textAreaTop" fmla="*/ 0 h 576360"/>
              <a:gd name="textAreaBottom" fmla="*/ 384480 h 5763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60360" cy="1882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1488960" cy="1613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4490" t="0" r="0" b="0"/>
          <a:stretch/>
        </p:blipFill>
        <p:spPr>
          <a:xfrm>
            <a:off x="6443640" y="1916280"/>
            <a:ext cx="1798560" cy="1758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284720" y="260280"/>
            <a:ext cx="3276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Украсить бутоньеркой  можно СОЛОМЕННУЮ, фетровую, вязанную ШЛЯПУ, шапочку, сумочку, плать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34880" y="442440"/>
            <a:ext cx="3344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нструменты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7386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Инструменты и оборудование для вышивания: пяльцы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глы ручные с длинным ушком № 18, 20; ножницы, утю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257640" cy="7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1438560" cy="1959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942920" cy="1304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674720" cy="24922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зготовление бутоньерки для украшения шляп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279576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кладывание роз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зготовление листик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бор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44920" y="50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800" y="573408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ехнологическая кар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419640" y="2781360"/>
            <a:ext cx="1368360" cy="1317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884240" cy="104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5076720" y="3573360"/>
            <a:ext cx="2222640" cy="16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1619280" y="5796000"/>
            <a:ext cx="1008000" cy="377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3000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15640"/>
            <a:ext cx="4640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О ней поют поэты всех веков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Нет в мире ничего нежней и краше,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Чем этот свиток алых лепестков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Раскрывшихся благоуханной чашей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                                 С. Маршак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2099880"/>
            <a:ext cx="531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украшения шляпы и сумочки я выбрала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 ленты, потому что используя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ленты, Я думаю, можно очень достоверно  изобразить розу, передать  её цветовое богатство, тончайшее изящество. Тем более что для выполнения такой отделки потребуются самые простые способы вышивки и приемы складывания объемных цветов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54360" cy="206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0000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1600" y="226800"/>
            <a:ext cx="226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ие творческого проекта даёт возможность научиться работать с инструментами и освоить вышивку лентами. Я определила себестоимость своего изделия. Конечно, несложные экономические расчёты должен уметь выполнять любой челов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 изготовление моей работы я затрати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Рабочего времени – 40 ча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Материалов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Лента: 8 м по 3 р. 50 коп, 2 м по 1р, 2 м по 2 руб.,  - 34 рубл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кань для основы  58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итки для вышивания стебельков и обкручивания веточек –1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стёжка «Молния», 2шт – 4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Себестоимость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комплекта из шляпы и сумочки составляет 152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 рубля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Моя цена на продажу изделия с учётом спроса и цен на рын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сбыта составляет 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800 – 900 рублей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ПОЛЬЗОВАННАЯ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ИТЕРАТУР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ибб Хелен. Изысканные цветы из лен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митриева Н. А. Н. А. Виноградова. Искусство древнего мира. Москва. «Детская литература» 1989 го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рнова А. Г.,. Чернова Е. В. Искусство вышивки лентами. Ростов – на – Дону. «Феникс» 2006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улебакин Г. И. Рисунок и основы композиции. Москва. «Высшая школа» 1988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Большая энциклопедия Кирилла и Мефодия 2007 (DVD)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5877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ttp://www.silk-ribbon.ru/   Вышивание лент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6208560" y="26028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8000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08320" y="515520"/>
            <a:ext cx="3703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одержание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Исторические с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Материалы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Инструмен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Сборка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Эстетическое оформл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2" action="ppaction://hlinksldjump"/>
              </a:rPr>
              <a:t>Выв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7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4" action="ppaction://hlinksldjump"/>
              </a:rPr>
              <a:t>Использованная литератур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59280" y="1700280"/>
            <a:ext cx="4379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ядиться никогда не лень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юдмила шапкой заверте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 брови, прямо, набекре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задом наперед оде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.С.Пушкин, «Руслан и Людмил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Шляпа—как много в этом звуке для сердца дамского слилось… Ей посвящали прозу, стихи, песни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1881360" cy="2320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1862280" cy="186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067280" y="4076640"/>
            <a:ext cx="1841400" cy="2421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1847880" cy="28828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Люди с незапамятных времён украшали голову и спасались от холода, да и от жары, головным убором. Вспомним простые меховые шапки северных народов и индийскую чалму, высокие туркменские шапки и тюбетейки… Даже обычный кусок ткани, повязанный определённым образом, украшает его хозяйку, а у некоторых народов и хозяина (бандана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2259000" cy="3782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1832040" cy="3889440"/>
          </a:xfrm>
          <a:prstGeom prst="rect">
            <a:avLst/>
          </a:prstGeom>
          <a:ln w="0">
            <a:noFill/>
          </a:ln>
        </p:spPr>
      </p:pic>
      <p:pic>
        <p:nvPicPr>
          <p:cNvPr id="209" name="11_06095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251080" cy="331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500800" y="3357720"/>
            <a:ext cx="2023920" cy="2879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50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Шляпный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икет»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6829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Король франков Карл Великий (742–814), например, издал правила: как шляпу носить, перед кем снимать с помахиванием у пола, перед кем — с глубоким поклоном. Тогда достойные люди носили на шляпе перья фазана, а те, кто провинился — ощипанные тушки лесных птич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Мушкетёры при дворе французского короля Людовика XIII раскланивались. При этом они часто «подметали» шляпами по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о, всегда обнажение головы обозначало уважительное отношение к человеку, перед которым снималась шляп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2449440" cy="2113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340000" cy="302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324000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22920" y="2637000"/>
            <a:ext cx="1822320" cy="3024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09160" y="333000"/>
            <a:ext cx="3282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Обыкновенная шляпа может многое рассказать о её владельце. Например, японские самураи носили шляпы с забралами, на которых были нарисованы лица. В Египте все должны были носить специальные платки, два конца которых свисали по бокам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древние римляне предпочитали венки, причем самые разные. Новорожденный младенец получал венок из петрушки, победители спортивных состязаний — из лавра, военные герои — из ветвей дуб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богатые дамы в средние века носили  </a:t>
            </a:r>
            <a:r>
              <a:rPr b="0" i="1" lang="en-US" sz="1600" spc="-1" strike="noStrike">
                <a:solidFill>
                  <a:srgbClr val="f7d47d"/>
                </a:solidFill>
                <a:latin typeface="Arial"/>
              </a:rPr>
              <a:t>генины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— высокие конусообразные колпак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Чем знатнее была дама, тем выше ее генин. Некоторые с трудом проходили через дверь, так как высота генина достигала одного метр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003640" y="333360"/>
            <a:ext cx="2521080" cy="164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851280" y="1773360"/>
            <a:ext cx="2311560" cy="2520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568840" y="3645000"/>
            <a:ext cx="1994040" cy="2879640"/>
          </a:xfrm>
          <a:prstGeom prst="rect">
            <a:avLst/>
          </a:prstGeom>
          <a:ln w="0">
            <a:noFill/>
          </a:ln>
        </p:spPr>
      </p:pic>
    </p:spTree>
  </p:cSld>
  <p:transition advTm="35000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4379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оля большой шляпы давали возможность модницам разместить на них самые разные украшения. Такие шляпы не снимались даже за столом! Женщины всегда любили шляп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аньше было принято, что у каждого платья должна быть своя шляпка. Сейчас нет таких строгих правил, но все же любую девочку и женщину подобранная со вкусом шляпа всегда украс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311640" cy="2793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883120" y="3429000"/>
            <a:ext cx="2357640" cy="295272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3:31Z</dcterms:created>
  <dc:creator>Admin</dc:creator>
  <dc:description/>
  <dc:language>en-US</dc:language>
  <cp:lastModifiedBy>Admin</cp:lastModifiedBy>
  <dcterms:modified xsi:type="dcterms:W3CDTF">2010-02-03T15:47:33Z</dcterms:modified>
  <cp:revision>19</cp:revision>
  <dc:subject/>
  <dc:title>АХ, ЭТИ ШЛЯПКИ! </dc:title>
</cp:coreProperties>
</file>