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2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1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22E-2DFE-420A-8431-C2517B53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A60-D793-4B9E-B87A-54D6A88E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880-186B-43B5-91F4-9CDBA7DB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1BD-2444-4EAB-9538-0646E77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D64-7B01-44E2-96E7-9AC7E661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2F12-0063-4B5C-81BB-5BD6CA60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5BEE-3D35-4C64-9211-2C628DC4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26EC-36AF-4F5D-B0C1-2E1B5E3B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0031-3865-462C-819B-1C2E7DD5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4A2-6DEF-445A-AB61-D69808CB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1594-19F6-40E6-8730-44007A05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77E-F3E9-42AA-8FF7-9CCF185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91D4-6DE5-4ECD-AA17-56075A9A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8D9E-801E-41F4-A8A1-496793D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65F1-DE46-49B9-8499-4C3C5BE0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9A33-2882-4635-A1F9-8E6AB927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6067-7E76-4A89-BCCB-640818FB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B67-7627-4048-A532-0DFB1D77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564-BA38-4F92-97A8-1727EAA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285-22B4-4EE9-9835-F60FBA54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09C-9A3B-42AE-8AA4-9963BD0C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48A-2007-45A0-810A-07F6483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B57-BC22-4885-9DCC-0823321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AC1-303B-4354-B354-3E5D350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F1E-E772-442B-9EA6-6503614DDA4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9B0D-2AC9-4EBC-BA3E-9005AA8AD28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gif"/><Relationship Id="rId8" Type="http://schemas.openxmlformats.org/officeDocument/2006/relationships/image" Target="../media/image29.gi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2.jpeg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slide" Target="slide13.xml"/><Relationship Id="rId7" Type="http://schemas.openxmlformats.org/officeDocument/2006/relationships/image" Target="../media/image3.png"/><Relationship Id="rId8" Type="http://schemas.openxmlformats.org/officeDocument/2006/relationships/slide" Target="slide14.xml"/><Relationship Id="rId9" Type="http://schemas.openxmlformats.org/officeDocument/2006/relationships/image" Target="../media/image3.png"/><Relationship Id="rId10" Type="http://schemas.openxmlformats.org/officeDocument/2006/relationships/slide" Target="slide15.xml"/><Relationship Id="rId11" Type="http://schemas.openxmlformats.org/officeDocument/2006/relationships/image" Target="../media/image3.png"/><Relationship Id="rId12" Type="http://schemas.openxmlformats.org/officeDocument/2006/relationships/slide" Target="slide16.xml"/><Relationship Id="rId13" Type="http://schemas.openxmlformats.org/officeDocument/2006/relationships/image" Target="../media/image3.png"/><Relationship Id="rId14" Type="http://schemas.openxmlformats.org/officeDocument/2006/relationships/slide" Target="slide17.xm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55640" y="2349000"/>
            <a:ext cx="4392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втор: Банникова Алёна, 6 класс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бъединение «Волшебный краснотал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дагог Н.В.Бороди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5229360"/>
            <a:ext cx="306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МОУДОД ЦВР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пос. Шолоховски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Белокалитвинского райо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Ростов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4e1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95640" y="981000"/>
            <a:ext cx="4968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, ЭТИ ШЛЯПКИ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1596960" cy="201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80360" y="333360"/>
            <a:ext cx="1503360" cy="2076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09440" y="451800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544840" cy="3166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3241440" cy="3230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268360" y="2781360"/>
            <a:ext cx="2971800" cy="374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4320" y="226800"/>
            <a:ext cx="56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териалы издел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531648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моего изделия я применяла атласные ленты. Шёлковые ленты имеют различную ширину: от 7 до 150 мм. Цвет лент разнообразен. Вышивальные ленты должны обладать прочностью, гладкостью, блеском, малой толщиной, выдерживать температурные режимы при влажно – тепловой обработк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Вышивать лентами можно на гладких, узорчатых и ворсовых материалах и даже на трикотаже.  А можно сделать объёмные цве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796000" y="1700280"/>
            <a:ext cx="2754360" cy="23684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2925720"/>
            <a:ext cx="3600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бутоньерки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понадобится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350 см  шириной 5 см,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Лента вискозная 50 см шириной 1.5 с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Нитки мулине или шерстяные для обматывания веточек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00720" y="3645000"/>
            <a:ext cx="1295280" cy="79200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0 h 792000"/>
              <a:gd name="textAreaBottom" fmla="*/ 52812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724280"/>
            <a:ext cx="1512720" cy="576360"/>
          </a:xfrm>
          <a:custGeom>
            <a:avLst/>
            <a:gdLst>
              <a:gd name="textAreaLeft" fmla="*/ 378000 w 1512720"/>
              <a:gd name="textAreaRight" fmla="*/ 1134720 w 1512720"/>
              <a:gd name="textAreaTop" fmla="*/ 0 h 576360"/>
              <a:gd name="textAreaBottom" fmla="*/ 384480 h 5763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60360" cy="1882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1488960" cy="1613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4490" t="0" r="0" b="0"/>
          <a:stretch/>
        </p:blipFill>
        <p:spPr>
          <a:xfrm>
            <a:off x="6443640" y="1916280"/>
            <a:ext cx="1798560" cy="17589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284720" y="260280"/>
            <a:ext cx="3276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Украсить бутоньеркой  можно СОЛОМЕННУЮ, фетровую, вязанную ШЛЯПУ, шапочку, сумочку, плать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9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34880" y="442440"/>
            <a:ext cx="33447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нструменты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7386840" cy="21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Инструменты и оборудование для вышивания: пяльцы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глы ручные с длинным ушком № 18, 20; ножницы, утюг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2700360" y="3716280"/>
            <a:ext cx="3257640" cy="7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1438560" cy="19591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1942920" cy="1304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674720" cy="249228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зготовление бутоньерки для украшения шляп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279576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кладывание розы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зготовление листик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бор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44920" y="50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800" y="573408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ехнологическая кар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419640" y="2781360"/>
            <a:ext cx="1368360" cy="1317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884240" cy="10479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5076720" y="3573360"/>
            <a:ext cx="2222640" cy="1665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1619280" y="5796000"/>
            <a:ext cx="1008000" cy="3776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8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3000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15640"/>
            <a:ext cx="46400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О ней поют поэты всех веков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Нет в мире ничего нежней и краше,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Чем этот свиток алых лепестков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Раскрывшихся благоуханной чашей.</a:t>
            </a:r>
            <a:br>
              <a:rPr sz="1800"/>
            </a:br>
            <a:r>
              <a:rPr b="0" i="1" lang="en-US" sz="1800" spc="-1" strike="noStrike">
                <a:solidFill>
                  <a:srgbClr val="f7d47d"/>
                </a:solidFill>
                <a:latin typeface="Arial"/>
              </a:rPr>
              <a:t>                                 С. Маршак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2099880"/>
            <a:ext cx="531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Для украшения шляпы и сумочки я выбрала </a:t>
            </a: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 ленты, потому что используя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ленты, Я думаю, можно очень достоверно  изобразить розу, передать  её цветовое богатство, тончайшее изящество. Тем более что для выполнения такой отделки потребуются самые простые способы вышивки и приемы складывания объемных цветов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867280" y="765000"/>
            <a:ext cx="2754360" cy="2067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0000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1600" y="226800"/>
            <a:ext cx="226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ие творческого проекта даёт возможность научиться работать с инструментами и освоить вышивку лентами. Я определила себестоимость своего изделия. Конечно, несложные экономические расчёты должен уметь выполнять любой человек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а изготовление моей работы я затрати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Рабочего времени – 40 ча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Материалов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Лента: 8 м по 3 р. 50 коп, 2 м по 1р, 2 м по 2 руб.,  - 34 рубл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Ткань для основы  58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Нитки для вышивания стебельков и обкручивания веточек –1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стёжка «Молния», 2шт – 45 рубл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Себестоимость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комплекта из шляпы и сумочки составляет 152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 рубля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Моя цена на продажу изделия с учётом спроса и цен на рынк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сбыта составляет </a:t>
            </a:r>
            <a:r>
              <a:rPr b="1" i="1" lang="en-US" sz="1800" spc="-1" strike="noStrike">
                <a:solidFill>
                  <a:srgbClr val="2f1311"/>
                </a:solidFill>
                <a:latin typeface="Arial"/>
              </a:rPr>
              <a:t>800 – 900 рублей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ПОЛЬЗОВАННАЯ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ИТЕРАТУР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ибб Хелен. Изысканные цветы из лен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митриева Н. А. Н. А. Виноградова. Искусство древнего мира. Москва. «Детская литература» 1989 го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рнова А. Г.,. Чернова Е. В. Искусство вышивки лентами. Ростов – на – Дону. «Феникс» 2006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улебакин Г. И. Рисунок и основы композиции. Москва. «Высшая школа» 1988 г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Большая энциклопедия Кирилла и Мефодия 2007 (DVD)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58770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http://www.silk-ribbon.ru/   Вышивание лент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6208560" y="26028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6877080" y="5877000"/>
            <a:ext cx="826920" cy="676080"/>
          </a:xfrm>
          <a:prstGeom prst="rect">
            <a:avLst/>
          </a:prstGeom>
          <a:ln w="0">
            <a:noFill/>
          </a:ln>
        </p:spPr>
      </p:pic>
    </p:spTree>
  </p:cSld>
  <p:transition advTm="18000">
    <p:circl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08320" y="515520"/>
            <a:ext cx="3703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одержание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Исторические свед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Материалы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Инструмен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Сборка издел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0" action="ppaction://hlinksldjump"/>
              </a:rPr>
              <a:t>Эстетическое оформл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6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2" action="ppaction://hlinksldjump"/>
              </a:rPr>
              <a:t>Выв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7. </a:t>
            </a: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14" action="ppaction://hlinksldjump"/>
              </a:rPr>
              <a:t>Использованная литератур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59280" y="1700280"/>
            <a:ext cx="43797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Рядиться никогда не лень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Людмила шапкой заверте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 брови, прямо, набекрень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 задом наперед оде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.С.Пушкин, «Руслан и Людмила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1908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Шляпа—как много в этом звуке для сердца дамского слилось… Ей посвящали прозу, стихи, песни!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1881360" cy="2320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1862280" cy="1862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067280" y="4076640"/>
            <a:ext cx="1841400" cy="2421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1847880" cy="288288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Люди с незапамятных времён украшали голову и спасались от холода, да и от жары, головным убором. Вспомним простые меховые шапки северных народов и индийскую чалму, высокие туркменские шапки и тюбетейки… Даже обычный кусок ткани, повязанный определённым образом, украшает его хозяйку, а у некоторых народов и хозяина (бандана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2259000" cy="3782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340000" y="2492280"/>
            <a:ext cx="1832040" cy="3889440"/>
          </a:xfrm>
          <a:prstGeom prst="rect">
            <a:avLst/>
          </a:prstGeom>
          <a:ln w="0">
            <a:noFill/>
          </a:ln>
        </p:spPr>
      </p:pic>
      <p:pic>
        <p:nvPicPr>
          <p:cNvPr id="209" name="11_06095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251080" cy="331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5500800" y="3357720"/>
            <a:ext cx="2023920" cy="287964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226800"/>
            <a:ext cx="507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Шляпный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икет»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6829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Король франков Карл Великий (742–814), например, издал правила: как шляпу носить, перед кем снимать с помахиванием у пола, перед кем — с глубоким поклоном. Тогда достойные люди носили на шляпе перья фазана, а те, кто провинился — ощипанные тушки лесных птич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Мушкетёры при дворе французского короля Людовика XIII раскланивались. При этом они часто «подметали» шляпами по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Но, всегда обнажение головы обозначало уважительное отношение к человеку, перед которым снималась шляп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24360" y="765000"/>
            <a:ext cx="2449440" cy="2113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2340000" cy="302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476360" y="3213000"/>
            <a:ext cx="3240000" cy="3071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22920" y="2637000"/>
            <a:ext cx="1822320" cy="3024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 advTm="20000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09160" y="333000"/>
            <a:ext cx="3282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Обыкновенная шляпа может многое рассказать о её владельце. Например, японские самураи носили шляпы с забралами, на которых были нарисованы лица. В Египте все должны были носить специальные платки, два конца которых свисали по бокам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древние римляне предпочитали венки, причем самые разные. Новорожденный младенец получал венок из петрушки, победители спортивных состязаний — из лавра, военные герои — из ветвей дуб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А богатые дамы в средние века носили  </a:t>
            </a:r>
            <a:r>
              <a:rPr b="0" i="1" lang="en-US" sz="1600" spc="-1" strike="noStrike">
                <a:solidFill>
                  <a:srgbClr val="f7d47d"/>
                </a:solidFill>
                <a:latin typeface="Arial"/>
              </a:rPr>
              <a:t>генины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— высокие конусообразные колпаки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Чем знатнее была дама, тем выше ее генин. Некоторые с трудом проходили через дверь, так как высота генина достигала одного метр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003640" y="333360"/>
            <a:ext cx="2521080" cy="164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3851280" y="1773360"/>
            <a:ext cx="2311560" cy="25207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568840" y="3645000"/>
            <a:ext cx="1994040" cy="2879640"/>
          </a:xfrm>
          <a:prstGeom prst="rect">
            <a:avLst/>
          </a:prstGeom>
          <a:ln w="0">
            <a:noFill/>
          </a:ln>
        </p:spPr>
      </p:pic>
    </p:spTree>
  </p:cSld>
  <p:transition advTm="35000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43797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Поля большой шляпы давали возможность модницам разместить на них самые разные украшения. Такие шляпы не снимались даже за столом! Женщины всегда любили шляп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Раньше было принято, что у каждого платья должна быть своя шляпка. Сейчас нет таких строгих правил, но все же любую девочку и женщину подобранная со вкусом шляпа всегда украси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076720" y="333360"/>
            <a:ext cx="3311640" cy="2793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883120" y="3429000"/>
            <a:ext cx="2357640" cy="2952720"/>
          </a:xfrm>
          <a:prstGeom prst="rect">
            <a:avLst/>
          </a:prstGeom>
          <a:ln w="0">
            <a:noFill/>
          </a:ln>
        </p:spPr>
      </p:pic>
    </p:spTree>
  </p:cSld>
  <p:transition advTm="25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7:33:31Z</dcterms:created>
  <dc:creator>Admin</dc:creator>
  <dc:description/>
  <dc:language>en-US</dc:language>
  <cp:lastModifiedBy>Admin</cp:lastModifiedBy>
  <dcterms:modified xsi:type="dcterms:W3CDTF">2010-02-03T15:47:33Z</dcterms:modified>
  <cp:revision>19</cp:revision>
  <dc:subject/>
  <dc:title>АХ, ЭТИ ШЛЯПКИ! </dc:title>
</cp:coreProperties>
</file>