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1CE1-F036-40B1-B98B-3ED86E80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7B71-D74F-4EC8-9A6A-D79E9884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E329-F753-4673-9700-25037DFD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5E9B-B606-4FB5-B89E-843183D1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B285-9BAA-4C34-B115-A9396C9A9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A3BB-76AE-49C6-BD3F-7CF1FEB6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A163-E1F2-4343-BE32-34733156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F5A3-5C1C-4356-8803-B48AEAA1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E630-6B88-4BAD-8418-4E9487CD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C69B-DBFD-4076-9B8D-B5DAFB02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A620-D8D8-48D9-BD22-FA0E6F5C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EA6D-7FF1-4343-BFAA-5102ADC0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BF2F-6D67-4862-BAD5-31AF0831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6799-61FA-4BB2-A563-37D51220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1C84-594B-40C2-BB92-4547AA8A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9ED3-ECBC-4277-8DA1-D9F6E0B3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79B3-52F9-472D-826B-0B7D7606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FA7C-4052-4962-8767-5DAF0DE2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CFC9-7613-4BE6-AE75-FC80BE50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015E-1CA9-450C-9C85-4B47438F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44D1-F56E-4365-A471-9FC6BEE7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BB6E-478F-4D73-9980-2D062D7F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891E-930E-482D-B85F-66070A36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62BA-2E14-42CD-B0A7-ECAE48BC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2B8B-FB14-43B1-9F5D-882C209760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custGeom>
                      <a:avLst/>
                      <a:gdLst>
                        <a:gd name="textAreaLeft" fmla="*/ 0 w 201600"/>
                        <a:gd name="textAreaRight" fmla="*/ 201960 w 20160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496A-F9E0-49D5-9CDB-60EE4C59CE2F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Times New Roman"/>
              </a:rPr>
              <a:t>Использование викторины как средства повышения мотивации  при работе с материалом  страноведческого и лингвострановедческого содержания  на уроках английского языка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етодическая разработ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Выполнила: учитель ГОУ РМЭ «Многопрофильный лицей им. М. В. Ломоносова» Караванова С. В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7d47d"/>
                </a:solidFill>
                <a:uFillTx/>
                <a:latin typeface="Times New Roman"/>
              </a:rPr>
              <a:t>Виды викторин: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Тематические (выявляют интересы учащихся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Развлекательно-развивающие (способствуют развитию мышления, гибкости ума, логики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Лингвистические (способствуют осмыслению и запоминанию языкового материала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Межтематические (включают межпредметные связи)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7d47d"/>
                </a:solidFill>
                <a:uFillTx/>
                <a:latin typeface="Arial"/>
              </a:rPr>
              <a:t>При подборе викторин необходимо учитывать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зрастные особенности учащихс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ровень языковой подготовки учащихся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7d47d"/>
                </a:solidFill>
                <a:uFillTx/>
                <a:latin typeface="Times New Roman"/>
              </a:rPr>
              <a:t>Алгоритм работы с викторинами: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 этап-осуществление фронтального контроля посредством использования символов и выполнения заданий викторин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II этап-предъявление ключа, сообщение критериев оценивания работы и проверка работ учащихс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III этап - высказывание двух-трёх учащихся в форме микромонолога с использованием содержания викторин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IV</a:t>
            </a: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 этап-подведение итогов, награждени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7d47d"/>
                </a:solidFill>
                <a:uFillTx/>
                <a:latin typeface="Times New Roman"/>
              </a:rPr>
              <a:t>Разнообразные формы страноведческих викторин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викторины, основанные на принципе выборе ответа из ряда предложенных вариант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викторины-вопросник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(без предполагаемых вариантов ответов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7d47d"/>
                </a:solidFill>
                <a:uFillTx/>
                <a:latin typeface="Times New Roman"/>
              </a:rPr>
              <a:t>Викторины, основанные на принципе выбора ответа из ряда предложенных вариантов</a:t>
            </a:r>
            <a:r>
              <a:rPr b="0" lang="ru-RU" sz="2800" spc="-1" strike="noStrike">
                <a:solidFill>
                  <a:srgbClr val="f7d47d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Great Britai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cotlan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ond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Wales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 USA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Canada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 Commonwealth of Australia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ew Zealand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nglish-speaking countries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1" lang="en-US" sz="4000" spc="-1" strike="noStrike" u="sng">
                <a:solidFill>
                  <a:srgbClr val="f7d47d"/>
                </a:solidFill>
                <a:uFillTx/>
                <a:latin typeface="Times New Roman"/>
              </a:rPr>
              <a:t>Canad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361656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1. Which syrup is Canada famous for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Mapl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Cranberry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Lemon</a:t>
            </a: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995640" y="3499920"/>
            <a:ext cx="36180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2. The capital … Canada is Ottaw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Picture 7" descr=""/>
          <p:cNvPicPr/>
          <p:nvPr/>
        </p:nvPicPr>
        <p:blipFill>
          <a:blip r:embed="rId8"/>
          <a:stretch/>
        </p:blipFill>
        <p:spPr>
          <a:xfrm>
            <a:off x="3635280" y="620640"/>
            <a:ext cx="3773520" cy="2016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7d47d"/>
                </a:solidFill>
                <a:uFillTx/>
                <a:latin typeface="Times New Roman"/>
              </a:rPr>
              <a:t>Викторины-вопросники (без предлагаемых вариантов ответов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The United Kingdom and Northern   Ireland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The US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Canad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Australia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New Zealand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Times New Roman"/>
              </a:rPr>
              <a:t>          </a:t>
            </a:r>
            <a:r>
              <a:rPr b="1" lang="en-US" sz="3600" spc="-1" strike="noStrike" u="sng">
                <a:solidFill>
                  <a:srgbClr val="f7d47d"/>
                </a:solidFill>
                <a:uFillTx/>
                <a:latin typeface="Times New Roman"/>
              </a:rPr>
              <a:t>The USA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352908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When is Thanksgiving Day celebrated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Times New Roman"/>
              </a:rPr>
              <a:t>When is Independence Day celebrated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Picture 10" descr=""/>
          <p:cNvPicPr/>
          <p:nvPr/>
        </p:nvPicPr>
        <p:blipFill>
          <a:blip r:embed="rId3"/>
          <a:stretch/>
        </p:blipFill>
        <p:spPr>
          <a:xfrm>
            <a:off x="3419640" y="981000"/>
            <a:ext cx="4262400" cy="4176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f7d47d"/>
                </a:solidFill>
                <a:latin typeface="Times New Roman"/>
              </a:rPr>
              <a:t>Заключение</a:t>
            </a:r>
            <a:br>
              <a:rPr sz="32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2f1311"/>
                </a:solidFill>
                <a:latin typeface="Times New Roman"/>
              </a:rPr>
              <a:t>Викторина- эффективное средство в изучении страноведческого и лингвострановедческого материала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Повысился интерес учащихся  к культурам, традициям и национальным реалиям стран изучаемого языка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Повысился интерес учащихся к изучению иностранного языка в целом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Улучшились результаты в  усвоении лексического материала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Повысился уровень самостоятельной деятельности учащихся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Развивается речь, память, внимание, образное и логическое мышление учащихся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Расширяется кругозор учащихся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Развивается чувство патриотизм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f7d47d"/>
                </a:solidFill>
                <a:uFillTx/>
                <a:latin typeface="Times New Roman"/>
              </a:rPr>
              <a:t>Использование викторин  способствует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обучению в  сотрудничестве учителя с учащимися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улучшается атмосфера на уроке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повышается  уровень сформированности навыков основных видов речевой деятельности по изучению английскому язык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                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Содержание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Введение 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 Социокультурный подход-основа повышения мотивац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Проблема повышения мотивации при изучении стран изучаемого язык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Викторина как одно из основных средств при  работе с материалом  страноведческого и лингвострановедческого содержания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Алгоритм работы с викторинами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Times New Roman"/>
              </a:rPr>
              <a:t>II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 Разнообразные формы страноведческих виктори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Викторины, основанные на принципе выборе ответа из ряда предложенных вариантов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Викторины-вопросники (без предлагаемых вариантов ответов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Заключение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Список используемой литературы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Приложения 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ru-RU" sz="1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1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1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    </a:t>
            </a:r>
            <a:r>
              <a:rPr b="0" lang="ru-RU" sz="4800" spc="-1" strike="noStrike" u="sng">
                <a:solidFill>
                  <a:srgbClr val="f7d47d"/>
                </a:solidFill>
                <a:uFillTx/>
                <a:latin typeface="Times New Roman"/>
              </a:rPr>
              <a:t>Вывод: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икторины помогают преодолевать трудности при изучении английского языка и служат формированию межкультурной коммуникации учащихс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0" lang="ru-RU" sz="4000" spc="-1" strike="noStrike" u="sng">
                <a:solidFill>
                  <a:srgbClr val="f7d47d"/>
                </a:solidFill>
                <a:uFillTx/>
                <a:latin typeface="Times New Roman"/>
              </a:rPr>
              <a:t>Используемая литератур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журналы «ИЯШ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журналы «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Speak out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книги российских и зарубежных автор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7d47d"/>
                </a:solidFill>
                <a:uFillTx/>
                <a:latin typeface="Times New Roman"/>
              </a:rPr>
              <a:t>Цель работы: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055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7740720" y="6308640"/>
            <a:ext cx="63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1042920" y="1628640"/>
            <a:ext cx="5235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бобщение опыта и повышение мотивации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 работе со страноведческим и лингвострановедческим материалом при помощи викторин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Для достижения целей  поставлены следующие задачи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знакомить учащихся с культурой, традициями, национальными реалиями стран изучаемого языка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Активизировать новые лексические единицы в речи учащихся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азвивать у учащихся навыки основных видов речевой деятельност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вышать интерес учащихся  к культурам, традициям и национальным реалиям стран изучаемого языка и к изучению английского языка в целом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высить уровень самостоятельной деятельности учащихся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азвивать речь, память, внимание, образное и логическое мышление учащихся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асширять кругозор учащихся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азвивать чувство патриотизм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7d47d"/>
                </a:solidFill>
                <a:uFillTx/>
                <a:latin typeface="Times New Roman"/>
              </a:rPr>
              <a:t>Проблема повышения мотивации при изучении стран изучаемого языка</a:t>
            </a:r>
            <a:br>
              <a:rPr sz="44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640" y="2707920"/>
            <a:ext cx="7920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Мотивация - это, прежде всего результат внутренних потребностей человека, его интересов и эмоций, целей и задач, наличие мотивов, направленных на активизацию его деятель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7d47d"/>
                </a:solidFill>
                <a:uFillTx/>
                <a:latin typeface="Arial"/>
              </a:rPr>
              <a:t>Как  сохранить  интерес к  иностранному  языку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25040" y="3130200"/>
            <a:ext cx="672300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ольшую роль  в  поддержании  мотивов  к  изучению иностранного  языка  играет  введение  на  уроках  элементов  страноведения.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Times New Roman"/>
              </a:rPr>
              <a:t>Изучение страноведческого материала имеет огромные возможност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000" y="2328840"/>
            <a:ext cx="7118280" cy="31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2f1311"/>
                </a:solidFill>
                <a:uFillTx/>
                <a:latin typeface="Times New Roman"/>
              </a:rPr>
              <a:t>включает в себя два аспекта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идет обучение язык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дает сведения о стран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7d47d"/>
                </a:solidFill>
                <a:uFillTx/>
                <a:latin typeface="Times New Roman"/>
              </a:rPr>
              <a:t>Средства повышения мотивации при изучении страноведческого материала: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оздание презентаций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оведение интегрированных уроков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бота с викторинами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еатральные  постановки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знакомство со знаками и символами культуры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бота с проектами и сообщениями страноведческого характера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неклассные мероприятия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ыпуск стендов и стенгазет и др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7d47d"/>
                </a:solidFill>
                <a:uFillTx/>
                <a:latin typeface="Times New Roman"/>
              </a:rPr>
              <a:t>Викторина как одно из основных средств при  работе с материалом  страноведческого и лингвострановедческого содержания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1280" y="26370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может применяться на разных этапах работы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может служить формой контроля знаний учащихся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повторения изученного материала и углубления знаний детей по теме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3:45:31Z</dcterms:created>
  <dc:creator>Д</dc:creator>
  <dc:description/>
  <dc:language>en-US</dc:language>
  <cp:lastModifiedBy>Коля</cp:lastModifiedBy>
  <dcterms:modified xsi:type="dcterms:W3CDTF">2013-06-02T11:59:02Z</dcterms:modified>
  <cp:revision>43</cp:revision>
  <dc:subject/>
  <dc:title>Слайд 1</dc:title>
</cp:coreProperties>
</file>