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AC8-5EBB-4A9F-9147-99C90569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593-F7A3-42E2-8065-9444D962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916-5C7D-4940-9E3C-F082D37D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2A2-EF33-4A76-AB3E-47DDB88D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EB98-4C9D-4867-AB19-2DF8F0DC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D5B2-FFAF-46E1-9D05-6FD8588A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CD57-B458-4B36-B0A4-04F3A2BC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A853-44A9-40E3-ABBC-FBA767F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DB83-A0F4-4571-9308-02A0DA81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AE4-0CD8-4C6B-A6B2-55E5EAC9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ACC-6FE2-4FAD-8470-0B4DF8CE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411-2850-4FCB-8538-F9750CBB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8D08-725C-4414-BF7E-06D5941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D8A-40AD-46DA-BE6E-8435D8D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62AA-8659-4433-862D-D5173D0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C4B-4410-4B63-9299-555991AB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FBEB-0E59-42C3-9111-77BD0820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C33-0157-4FD5-990B-4B980F54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82E-11F6-41D5-A6BF-FF5DD4CC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914-ECB8-4A7D-8D8E-515AA594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F35-0ADB-419B-9E04-7685670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639-EED3-4386-AA80-BE0AD81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F27-C200-4797-B41F-34AE92EF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786-56B3-4DB9-8CF9-B3F7303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67E7-F35F-4420-AE4B-D79FB570A0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8DEE-2644-4AC5-88DE-BACDEC66C8C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Использование викторины как средства повышения мотивации  при работе с материалом  страноведческого и лингвострановедческого содержания  на уроках английского языка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етодическая разработ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Выполнила: учитель ГОУ РМЭ «Многопрофильный лицей им. М. В. Ломоносова» Караванова С. 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Виды викторин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Тематические (выявляют интересы учащихс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Развлекательно-развивающие (способствуют развитию мышления, гибкости ума, логики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Лингвистические (способствуют осмыслению и запоминанию языкового материа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ежтематические (включают межпредметные связи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Arial"/>
              </a:rPr>
              <a:t>При подборе викторин необходимо учитывать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зрастные особенности учащих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вень языковой подготовки учащихс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Алгоритм работы с викторинами: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этап-осуществление фронтального контроля посредством использования символов и выполнения заданий викторин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II этап-предъявление ключа, сообщение критериев оценивания работы и проверка работ учащихс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III этап - высказывание двух-трёх учащихся в форме микромонолога с использованием содержания виктор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этап-подведение итогов, награжд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Разнообразные формы страноведческих виктор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викторины, основанные на принципе выборе ответа из ряда предложенных вариан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викторины-вопросн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(без предполагаемых вариантов ответов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ы, основанные на принципе выбора ответа из ряда предложенных вариантов</a:t>
            </a: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reat Brit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ale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US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Commonwealth of Australi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ew Zealand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-speaking countrie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Times New Roman"/>
              </a:rPr>
              <a:t>Can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36165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. Which syrup is Canada famous fo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Ma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Cranber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Lemon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95640" y="3499920"/>
            <a:ext cx="36180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2. The capital … Canada is Ottaw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8"/>
          <a:stretch/>
        </p:blipFill>
        <p:spPr>
          <a:xfrm>
            <a:off x="3635280" y="620640"/>
            <a:ext cx="3773520" cy="201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ы-вопросники (без предлагаемых вариантов ответов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he United Kingdom and Northern   Ireland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he US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ana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ustral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New Zealand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Times New Roman"/>
              </a:rPr>
              <a:t>          </a:t>
            </a:r>
            <a:r>
              <a:rPr b="1" lang="en-US" sz="3600" spc="-1" strike="noStrike" u="sng">
                <a:solidFill>
                  <a:srgbClr val="f7d47d"/>
                </a:solidFill>
                <a:uFillTx/>
                <a:latin typeface="Times New Roman"/>
              </a:rPr>
              <a:t>The USA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352908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When is Thanksgiving Day celebrat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When is Independence Day celebrat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4262400" cy="41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7d47d"/>
                </a:solidFill>
                <a:latin typeface="Times New Roman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Викторина- эффективное средство в изучении страноведческого и лингвострановедческого материа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интерес учащихся  к культурам, традициям и национальным реалиям стран изучаемого язы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интерес учащихся к изучению иностранного языка в цело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Улучшились результаты в  усвоении лексического материа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уровень самостоятельной деятельност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звивается речь, память, внимание, образное и логическое мышление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сширяется кругозор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звивается чувство патриот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Использование викторин  способствует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обучению в  сотрудничестве учителя с учащимися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улучшается атмосфера на урок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овышается  уровень сформированности навыков основных видов речевой деятельности по изучению английскому язы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Введение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 Социокультурный подход-основа повышения мотивац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Проблема повышения мотивации при изучении стран изучаемого язы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а как одно из основных средств при  работе с материалом  страноведческого и лингвострановедческого содержания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Алгоритм работы с викторинами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 Разнообразные формы страноведческих виктор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ы, основанные на принципе выборе ответа из ряда предложенных варианто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ы-вопросники (без предлагаемых вариантов ответов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Заключение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Список используемой литературы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Приложения 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ru-RU" sz="4800" spc="-1" strike="noStrike" u="sng">
                <a:solidFill>
                  <a:srgbClr val="f7d47d"/>
                </a:solidFill>
                <a:uFillTx/>
                <a:latin typeface="Times New Roman"/>
              </a:rPr>
              <a:t>Вывод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икторины помогают преодолевать трудности при изучении английского языка и служат формированию межкультурной коммуникации учащих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f7d47d"/>
                </a:solidFill>
                <a:uFillTx/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журналы «ИЯШ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журналы «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Speak out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книги российских и зарубежных автор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7d47d"/>
                </a:solidFill>
                <a:uFillTx/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55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740720" y="6308640"/>
            <a:ext cx="6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042920" y="1628640"/>
            <a:ext cx="5235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общение опыта и повышение мотиваци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работе со страноведческим и лингвострановедческим материалом при помощи виктори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ля достижения целей  поставлены следующи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знакомить учащихся с культурой, традициями, национальными реалиями стран изучаемого язы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ктивизировать новые лексические единицы в реч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у учащихся навыки основных видов речевой деятельност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ать интерес учащихся  к культурам, традициям и национальным реалиям стран изучаемого языка и к изучению английского языка в цело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сить уровень самостоятельной деятельност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речь, память, внимание, образное и логическое мышление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ширять кругозор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чувство патриот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Проблема повышения мотивации при изучении стран изучаемого языка</a:t>
            </a:r>
            <a:br>
              <a:rPr sz="44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792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тивация - это, прежде всего результат внутренних потребностей человека, его интересов и эмоций, целей и задач, наличие мотивов, направленных на активизацию его деятель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Arial"/>
              </a:rPr>
              <a:t>Как  сохранить  интерес к  иностранному  языку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5040" y="3130200"/>
            <a:ext cx="67230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ьшую роль  в  поддержании  мотивов  к  изучению иностранного  языка  играет  введение  на  уроках  элементов  страноведения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</a:rPr>
              <a:t>Изучение страноведческого материала имеет огромные возмож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000" y="2328840"/>
            <a:ext cx="711828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Times New Roman"/>
              </a:rPr>
              <a:t>включает в себя два асп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идет обучение язы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дает сведения о стран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7d47d"/>
                </a:solidFill>
                <a:uFillTx/>
                <a:latin typeface="Times New Roman"/>
              </a:rPr>
              <a:t>Средства повышения мотивации при изучении страноведческого материала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здание презентаци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едение интегрированных урок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викторинам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еатральные  постановк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ство со знаками и символами культуры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проектами и сообщениями страноведческого характер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неклассные мероприяти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уск стендов и стенгазет и д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а как одно из основных средств при  работе с материалом  страноведческого и лингвострановедческого содержани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жет применяться на разных этапах работ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жет служить формой контроля знаний учащихс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овторения изученного материала и углубления знаний детей по тем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45:31Z</dcterms:created>
  <dc:creator>Д</dc:creator>
  <dc:description/>
  <dc:language>en-US</dc:language>
  <cp:lastModifiedBy>Коля</cp:lastModifiedBy>
  <dcterms:modified xsi:type="dcterms:W3CDTF">2013-06-02T11:59:02Z</dcterms:modified>
  <cp:revision>43</cp:revision>
  <dc:subject/>
  <dc:title>Слайд 1</dc:title>
</cp:coreProperties>
</file>