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B2A-F280-492B-B715-EC7A8BCE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3EE-CE84-473D-A573-816DDE1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07E-F8CF-4436-9F99-52633F86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80C-0823-49DD-B9AC-25D2D89F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7FB-15CB-4099-862D-960FD13B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F5B7-FAE5-4615-82B6-171A49C0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1C37-2D84-43CF-BC32-49A3ED0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5CC3-E010-42DE-9E24-864A2100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C62-A0F0-4F7C-9FB2-6DC6E964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48F-D43E-4FC6-BA75-C078EA97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74D-4A9B-4F78-9687-54283F7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F7C-4810-43E5-8660-D7C1BA85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5200-ADE7-4C4E-8DB4-DC0525C4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287A-FB31-48B1-A58D-0BCC253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CE07-5907-41C8-B7FC-6B09F11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DF13-9989-41F6-98CC-98D94C58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EA7-CCCA-47C6-A5E6-C9D17D5D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F1F-2F0A-4CF2-8C04-6EC8214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4FE-E6C1-4FF5-B24D-5F79818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85F-6CE6-48AB-BFB5-4340DE1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7C6-19BE-414B-B876-6A41809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7B4-9CEB-41C8-B7F2-E361AED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B88-02B7-4EE4-8C4D-04D6D0E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6B8-1205-4DCC-BBEE-C51D5E0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D477-30E8-4938-B0B8-609158B125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637-DEB7-452B-9738-3D472848921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Использование викторины как средства повышения мотивации  при работе с материалом  страноведческого и лингвострановедческого содержания  на уроках английского язык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етодическая разработ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Выполнила: учитель ГОУ РМЭ «Многопрофильный лицей им. М. В. Ломоносова» Караванова С. 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ды викторин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Тематические (выявляют интересы учащихс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Развлекательно-развивающие (способствуют развитию мышления, гибкости ума, логики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Лингвистические (способствуют осмыслению и запоминанию языкового материа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ежтематические (включают межпредметные связи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При подборе викторин необходимо учитывать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зрастные особенности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языковой подготовки учащихс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Алгоритм работы с викторинами: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осуществление фронтального контроля посредством использования символов и выполнения заданий викторин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 этап-предъявление ключа, сообщение критериев оценивания работы и проверка работ учащихс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I этап - высказывание двух-трёх учащихся в форме микромонолога с использованием содержания виктор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подведение итогов, награжд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Разнообразные формы страноведческих виктор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-вопросн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(без предполагаемых вариантов ответов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, основанные на принципе выбора ответа из ряда предложенных вариантов</a:t>
            </a: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reat Brit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al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US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Commonwealth of Australi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ew Zealand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-speaking countri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Times New Roman"/>
              </a:rPr>
              <a:t>Can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36165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. Which syrup is Canada famous fo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Ma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Cranber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Lemon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95640" y="3499920"/>
            <a:ext cx="36180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2. The capital … Canada is Ottaw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8"/>
          <a:stretch/>
        </p:blipFill>
        <p:spPr>
          <a:xfrm>
            <a:off x="3635280" y="620640"/>
            <a:ext cx="3773520" cy="201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nited Kingdom and Northern   Ire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S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ana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ustral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New Zea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Times New Roman"/>
              </a:rPr>
              <a:t>          </a:t>
            </a:r>
            <a:r>
              <a:rPr b="1" lang="en-US" sz="3600" spc="-1" strike="noStrike" u="sng">
                <a:solidFill>
                  <a:srgbClr val="f7d47d"/>
                </a:solidFill>
                <a:uFillTx/>
                <a:latin typeface="Times New Roman"/>
              </a:rPr>
              <a:t>The USA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35290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Thanksgiving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Independence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426240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Викторина- эффективное средство в изучении страноведческого и лингвострановедческого материа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 к культурам, традициям и национальным реалиям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к изучению иностранн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Улучшились результаты в  усвоении лексического материа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сширяется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ование викторин  способствует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обучению в  сотрудничестве учителя с учащимися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улучшается атмосфера на урок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ышается  уровень сформированности навыков основных видов речевой деятельности по изучению английскому язы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Введение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Социокультурный подход-основа повышения мотивац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Проблема повышения мотивации при изучении стран изучаемого язы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Алгоритм работы с викторинами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Разнообразные формы страноведческих виктор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Заключение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Список используемой литературы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Приложения 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Вывод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кторины помогают преодолевать трудности при изучении английского языка и служат формированию межкультурной коммуникации учащих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ИЯШ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Speak out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книги российских и зарубежных авто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55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740720" y="630864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042920" y="1628640"/>
            <a:ext cx="523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общение опыта и повышение мотиваци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работе со страноведческим и лингвострановедческим материалом при помощи виктор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ля достижения целей  поставлены следующи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знакомить учащихся с культурой, традициями, национальными реалиями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ктивизировать новые лексические единицы в реч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у учащихся навыки основных видов речевой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ать интерес учащихся  к культурам, традициям и национальным реалиям стран изучаемого языка и к изучению английск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сить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ширять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Проблема повышения мотивации при изучении стран изучаемого языка</a:t>
            </a:r>
            <a:br>
              <a:rPr sz="4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тивация - это, прежде всего результат внутренних потребностей человека, его интересов и эмоций, целей и задач, наличие мотивов, направленных на активизацию его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Как  сохранить  интерес к  иностранному  языку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5040" y="3130200"/>
            <a:ext cx="67230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ьшую роль  в  поддержании  мотивов  к  изучению иностранного  языка  играет  введение  на  уроках  элементов  страноведения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</a:rPr>
              <a:t>Изучение страноведческого материала имеет огромные возмож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2328840"/>
            <a:ext cx="711828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Times New Roman"/>
              </a:rPr>
              <a:t>включает в себя два асп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идет обучение язы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дает сведения о стра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7d47d"/>
                </a:solidFill>
                <a:uFillTx/>
                <a:latin typeface="Times New Roman"/>
              </a:rPr>
              <a:t>Средства повышения мотивации при изучении страноведческого материала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ие презентаци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едение интегрированных урок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викторинам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еатральные  постановк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ство со знаками и символами культур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проектами и сообщениями страноведческого характе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еклассные мероприяти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уск стендов и стенгазет и д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применяться на разных этапах работ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служить формой контроля знаний учащихс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торения изученного материала и углубления знаний детей по тем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45:31Z</dcterms:created>
  <dc:creator>Д</dc:creator>
  <dc:description/>
  <dc:language>en-US</dc:language>
  <cp:lastModifiedBy>Коля</cp:lastModifiedBy>
  <dcterms:modified xsi:type="dcterms:W3CDTF">2013-06-02T11:59:02Z</dcterms:modified>
  <cp:revision>43</cp:revision>
  <dc:subject/>
  <dc:title>Слайд 1</dc:title>
</cp:coreProperties>
</file>