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D9BB-98A1-4B16-896C-2D09936CD6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ктуализация и проверка усвоения изученного материала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ктуализация и проверка усвоения изученного материала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ктуализация и проверка усвоения изученного материала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ктуализация и проверка усвоения изученного материала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ктуализация и проверка усвоения изученного материала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BA98-EF7E-4647-A799-B7D652035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BBEB-062D-4B1E-A1FC-D2CBBFE6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4E46-3907-43AC-B7E7-AD2C75FA1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41EC-7A65-41CB-B25F-E29D16BAE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998B-5216-4270-8374-C81C7DC8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A8CF-B977-4BD6-A331-F4D67C6C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72B0-5677-4495-8796-445F3370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1779-46C2-4FCA-9BA9-88632934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340C-2F5D-4740-86E2-9205A983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F9B8-31CB-422B-97E0-45962E94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8B5F-4506-481A-A000-8554F436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CEEE-5B6D-4848-B8BB-79F8BEAE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D09E-B378-431E-8CE9-90C6E2BA8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1341360"/>
            <a:ext cx="8353440" cy="25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3399"/>
                </a:solidFill>
                <a:latin typeface="Times New Roman"/>
              </a:rPr>
              <a:t>Понятие как форма мышления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56360" y="549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2.12.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08720" y="4869000"/>
            <a:ext cx="29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БОУ «СОШ№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ркутская обл., г.Брат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роших О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3794"/>
                </a:moveTo>
                <a:lnTo>
                  <a:pt x="19992" y="10800"/>
                </a:lnTo>
                <a:lnTo>
                  <a:pt x="597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10800"/>
                </a:moveTo>
                <a:lnTo>
                  <a:pt x="22086" y="3794"/>
                </a:lnTo>
                <a:lnTo>
                  <a:pt x="220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76360" y="1052640"/>
            <a:ext cx="5471640" cy="2952720"/>
            <a:chOff x="1476360" y="1052640"/>
            <a:chExt cx="5471640" cy="2952720"/>
          </a:xfrm>
        </p:grpSpPr>
        <p:sp>
          <p:nvSpPr>
            <p:cNvPr id="121" name=""/>
            <p:cNvSpPr txBox="1"/>
            <p:nvPr/>
          </p:nvSpPr>
          <p:spPr>
            <a:xfrm>
              <a:off x="1476360" y="1052640"/>
              <a:ext cx="2585520" cy="295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cc00"/>
                  </a:solidFill>
                  <a:latin typeface="Arial Black"/>
                </a:rPr>
                <a:t>н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1640520" y="1270800"/>
              <a:ext cx="395640" cy="39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я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1694520" y="2145960"/>
              <a:ext cx="395640" cy="39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я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1694520" y="3131280"/>
              <a:ext cx="395640" cy="39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я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2516400" y="2255760"/>
              <a:ext cx="395640" cy="39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я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3391200" y="1270800"/>
              <a:ext cx="395640" cy="39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я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3391200" y="2255760"/>
              <a:ext cx="395640" cy="39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я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3501000" y="3131280"/>
              <a:ext cx="395640" cy="39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я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4321440" y="2638080"/>
              <a:ext cx="2626560" cy="136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Ти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900000" y="620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знать тему сегодняшнего урока нам поможет ребу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380360" y="549360"/>
            <a:ext cx="934920" cy="287280"/>
            <a:chOff x="7380360" y="549360"/>
            <a:chExt cx="934920" cy="287280"/>
          </a:xfrm>
        </p:grpSpPr>
        <p:sp>
          <p:nvSpPr>
            <p:cNvPr id="132" name=""/>
            <p:cNvSpPr/>
            <p:nvPr/>
          </p:nvSpPr>
          <p:spPr>
            <a:xfrm>
              <a:off x="7380360" y="549360"/>
              <a:ext cx="934920" cy="287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7468920" y="597240"/>
              <a:ext cx="737640" cy="18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Monotype Corsiva"/>
                </a:rPr>
                <a:t>ответ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  <a:ea typeface="Monotype Corsiva"/>
              </a:endParaRPr>
            </a:p>
          </p:txBody>
        </p:sp>
      </p:grpSp>
      <p:sp>
        <p:nvSpPr>
          <p:cNvPr id="134" name=""/>
          <p:cNvSpPr txBox="1"/>
          <p:nvPr/>
        </p:nvSpPr>
        <p:spPr>
          <a:xfrm>
            <a:off x="1332000" y="501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Chiller"/>
              </a:rPr>
              <a:t>поняти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Chiller"/>
              <a:ea typeface="Chill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3794"/>
                </a:moveTo>
                <a:lnTo>
                  <a:pt x="19992" y="10800"/>
                </a:lnTo>
                <a:lnTo>
                  <a:pt x="597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10800"/>
                </a:moveTo>
                <a:lnTo>
                  <a:pt x="22086" y="3794"/>
                </a:lnTo>
                <a:lnTo>
                  <a:pt x="220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189000"/>
            <a:ext cx="7921440" cy="36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Тема урока:</a:t>
            </a:r>
            <a:r>
              <a:rPr b="1" i="1" lang="en-US" sz="5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3399"/>
                </a:solidFill>
                <a:latin typeface="Times New Roman"/>
              </a:rPr>
              <a:t>Понятие как форма мышления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3933720"/>
            <a:ext cx="765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остоятельная работа с учебником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§2.3, с.36-3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использованием  плана-конспек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68360" y="403560"/>
            <a:ext cx="7056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ышление помогает: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огика – это наука, изучающая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екты – это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ект можно описать с помощью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знаками являются: а) …; б)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знаки могут быть: а) …; б)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олните таблиц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564000" y="2276640"/>
          <a:ext cx="4608360" cy="909360"/>
        </p:xfrm>
        <a:graphic>
          <a:graphicData uri="http://schemas.openxmlformats.org/drawingml/2006/table">
            <a:tbl>
              <a:tblPr/>
              <a:tblGrid>
                <a:gridCol w="971640"/>
                <a:gridCol w="1815840"/>
                <a:gridCol w="182088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ё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е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уществе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358200" y="2996280"/>
            <a:ext cx="335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нятие – это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олните таблиц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708360" y="3357720"/>
          <a:ext cx="4535640" cy="1091880"/>
        </p:xfrm>
        <a:graphic>
          <a:graphicData uri="http://schemas.openxmlformats.org/drawingml/2006/table">
            <a:tbl>
              <a:tblPr/>
              <a:tblGrid>
                <a:gridCol w="2268360"/>
                <a:gridCol w="2267280"/>
              </a:tblGrid>
              <a:tr h="30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ятие выраж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тельны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осочетани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826920" y="436464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олните таблиц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708360" y="4581360"/>
          <a:ext cx="4535640" cy="1033560"/>
        </p:xfrm>
        <a:graphic>
          <a:graphicData uri="http://schemas.openxmlformats.org/drawingml/2006/table">
            <a:tbl>
              <a:tblPr/>
              <a:tblGrid>
                <a:gridCol w="1511280"/>
                <a:gridCol w="1512720"/>
                <a:gridCol w="15116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мони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нони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416880" y="5659920"/>
            <a:ext cx="835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гда говорят, то пользуются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гда думают, то пользуются …, поэтому понятие – это форма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403280" y="19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§2.3, с.36-38; вопросы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Т:  №78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.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4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.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050920" y="692280"/>
            <a:ext cx="5040360" cy="264312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3059280" y="3429000"/>
            <a:ext cx="3024000" cy="863640"/>
            <a:chOff x="3059280" y="3429000"/>
            <a:chExt cx="3024000" cy="863640"/>
          </a:xfrm>
        </p:grpSpPr>
        <p:sp>
          <p:nvSpPr>
            <p:cNvPr id="53" name=""/>
            <p:cNvSpPr/>
            <p:nvPr/>
          </p:nvSpPr>
          <p:spPr>
            <a:xfrm>
              <a:off x="3059280" y="3429000"/>
              <a:ext cx="3024000" cy="863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3346560" y="3573360"/>
              <a:ext cx="2386080" cy="555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Monotype Corsiva"/>
                </a:rPr>
                <a:t>ответ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  <a:ea typeface="Monotype Corsiva"/>
              </a:endParaRPr>
            </a:p>
          </p:txBody>
        </p:sp>
      </p:grpSp>
      <p:sp>
        <p:nvSpPr>
          <p:cNvPr id="55" name=""/>
          <p:cNvSpPr txBox="1"/>
          <p:nvPr/>
        </p:nvSpPr>
        <p:spPr>
          <a:xfrm>
            <a:off x="468360" y="4508640"/>
            <a:ext cx="82072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Narrow"/>
              </a:rPr>
              <a:t>информац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Narrow"/>
              <a:ea typeface="Arial Narrow"/>
            </a:endParaRPr>
          </a:p>
        </p:txBody>
      </p:sp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3794"/>
                </a:moveTo>
                <a:lnTo>
                  <a:pt x="19992" y="10800"/>
                </a:lnTo>
                <a:lnTo>
                  <a:pt x="597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10800"/>
                </a:moveTo>
                <a:lnTo>
                  <a:pt x="22086" y="3794"/>
                </a:lnTo>
                <a:lnTo>
                  <a:pt x="220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3794"/>
                </a:moveTo>
                <a:lnTo>
                  <a:pt x="19992" y="10800"/>
                </a:lnTo>
                <a:lnTo>
                  <a:pt x="597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10800"/>
                </a:moveTo>
                <a:lnTo>
                  <a:pt x="22086" y="3794"/>
                </a:lnTo>
                <a:lnTo>
                  <a:pt x="220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71640" y="1268280"/>
            <a:ext cx="6769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3399"/>
                </a:solidFill>
                <a:latin typeface="Georgia"/>
              </a:rPr>
              <a:t>информация для человека -</a:t>
            </a:r>
            <a:endParaRPr b="1" i="1" lang="en-US" sz="1800" spc="1" strike="noStrike">
              <a:ln w="0">
                <a:noFill/>
              </a:ln>
              <a:solidFill>
                <a:srgbClr val="333399"/>
              </a:solidFill>
              <a:latin typeface="Georgia"/>
              <a:ea typeface="Georgia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380360" y="476280"/>
            <a:ext cx="934920" cy="287280"/>
            <a:chOff x="7380360" y="476280"/>
            <a:chExt cx="934920" cy="287280"/>
          </a:xfrm>
        </p:grpSpPr>
        <p:sp>
          <p:nvSpPr>
            <p:cNvPr id="62" name=""/>
            <p:cNvSpPr/>
            <p:nvPr/>
          </p:nvSpPr>
          <p:spPr>
            <a:xfrm>
              <a:off x="7380360" y="476280"/>
              <a:ext cx="934920" cy="287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 txBox="1"/>
            <p:nvPr/>
          </p:nvSpPr>
          <p:spPr>
            <a:xfrm>
              <a:off x="7468920" y="524160"/>
              <a:ext cx="737640" cy="18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Monotype Corsiva"/>
                </a:rPr>
                <a:t>ответ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  <a:ea typeface="Monotype Corsiva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971640" y="2133720"/>
            <a:ext cx="7129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знания и сведения об окружающей нас мир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3794"/>
                </a:moveTo>
                <a:lnTo>
                  <a:pt x="19992" y="10800"/>
                </a:lnTo>
                <a:lnTo>
                  <a:pt x="597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10800"/>
                </a:moveTo>
                <a:lnTo>
                  <a:pt x="22086" y="3794"/>
                </a:lnTo>
                <a:lnTo>
                  <a:pt x="220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42920" y="1413000"/>
            <a:ext cx="7129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3399"/>
                </a:solidFill>
                <a:latin typeface="Georgia"/>
              </a:rPr>
              <a:t>реальная действительность -</a:t>
            </a:r>
            <a:endParaRPr b="1" i="1" lang="en-US" sz="1800" spc="1" strike="noStrike">
              <a:ln w="0">
                <a:noFill/>
              </a:ln>
              <a:solidFill>
                <a:srgbClr val="333399"/>
              </a:solidFill>
              <a:latin typeface="Georgia"/>
              <a:ea typeface="Georgia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308720" y="620640"/>
            <a:ext cx="935280" cy="287280"/>
            <a:chOff x="7308720" y="620640"/>
            <a:chExt cx="935280" cy="287280"/>
          </a:xfrm>
        </p:grpSpPr>
        <p:sp>
          <p:nvSpPr>
            <p:cNvPr id="69" name=""/>
            <p:cNvSpPr/>
            <p:nvPr/>
          </p:nvSpPr>
          <p:spPr>
            <a:xfrm>
              <a:off x="7308720" y="620640"/>
              <a:ext cx="935280" cy="287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7397280" y="668520"/>
              <a:ext cx="738000" cy="18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Monotype Corsiva"/>
                </a:rPr>
                <a:t>ответ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  <a:ea typeface="Monotype Corsiva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900000" y="2492280"/>
            <a:ext cx="73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окружающий ми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3794"/>
                </a:moveTo>
                <a:lnTo>
                  <a:pt x="19992" y="10800"/>
                </a:lnTo>
                <a:lnTo>
                  <a:pt x="597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10800"/>
                </a:moveTo>
                <a:lnTo>
                  <a:pt x="22086" y="3794"/>
                </a:lnTo>
                <a:lnTo>
                  <a:pt x="220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308720" y="549360"/>
            <a:ext cx="935280" cy="287280"/>
            <a:chOff x="7308720" y="549360"/>
            <a:chExt cx="935280" cy="287280"/>
          </a:xfrm>
        </p:grpSpPr>
        <p:sp>
          <p:nvSpPr>
            <p:cNvPr id="75" name=""/>
            <p:cNvSpPr/>
            <p:nvPr/>
          </p:nvSpPr>
          <p:spPr>
            <a:xfrm>
              <a:off x="7308720" y="549360"/>
              <a:ext cx="935280" cy="287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>
              <a:off x="7397280" y="597240"/>
              <a:ext cx="738000" cy="18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Monotype Corsiva"/>
                </a:rPr>
                <a:t>ответ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  <a:ea typeface="Monotype Corsiva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971640" y="3860640"/>
            <a:ext cx="80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Органы чувств челове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834120"/>
            <a:ext cx="71298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>
              <a:lnSpc>
                <a:spcPct val="80000"/>
              </a:lnSpc>
              <a:tabLst>
                <a:tab algn="l" pos="0"/>
                <a:tab algn="l" pos="1012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Times New Roman"/>
              </a:rPr>
              <a:t>Какими средствами приема сигналов из внешнего мира обладает человек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3794"/>
                </a:moveTo>
                <a:lnTo>
                  <a:pt x="19992" y="10800"/>
                </a:lnTo>
                <a:lnTo>
                  <a:pt x="597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10800"/>
                </a:moveTo>
                <a:lnTo>
                  <a:pt x="22086" y="3794"/>
                </a:lnTo>
                <a:lnTo>
                  <a:pt x="220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7380360" y="549360"/>
            <a:ext cx="934920" cy="287280"/>
            <a:chOff x="7380360" y="549360"/>
            <a:chExt cx="934920" cy="287280"/>
          </a:xfrm>
        </p:grpSpPr>
        <p:sp>
          <p:nvSpPr>
            <p:cNvPr id="82" name=""/>
            <p:cNvSpPr/>
            <p:nvPr/>
          </p:nvSpPr>
          <p:spPr>
            <a:xfrm>
              <a:off x="7380360" y="549360"/>
              <a:ext cx="934920" cy="287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7468920" y="597240"/>
              <a:ext cx="737640" cy="18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Monotype Corsiva"/>
                </a:rPr>
                <a:t>ответ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  <a:ea typeface="Monotype Corsiva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900000" y="3357720"/>
            <a:ext cx="748836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Восприятия складываются из отдельных ощущений. Мороженое – розовое, холодное, пахнет клубникой, сладко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00000" y="690120"/>
            <a:ext cx="766764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6840">
              <a:lnSpc>
                <a:spcPct val="90000"/>
              </a:lnSpc>
              <a:tabLst>
                <a:tab algn="l" pos="0"/>
                <a:tab algn="l" pos="1012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Times New Roman"/>
              </a:rPr>
              <a:t>Из чего складываются восприятия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6840" algn="just">
              <a:lnSpc>
                <a:spcPct val="90000"/>
              </a:lnSpc>
              <a:tabLst>
                <a:tab algn="l" pos="0"/>
                <a:tab algn="l" pos="1012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Times New Roman"/>
              </a:rPr>
              <a:t>Приведите приме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5400" spc="-1" strike="noStrike">
                <a:solidFill>
                  <a:srgbClr val="333399"/>
                </a:solidFill>
                <a:latin typeface="Times New Roman"/>
              </a:rPr>
              <a:t>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3794"/>
                </a:moveTo>
                <a:lnTo>
                  <a:pt x="19992" y="10800"/>
                </a:lnTo>
                <a:lnTo>
                  <a:pt x="597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10800"/>
                </a:moveTo>
                <a:lnTo>
                  <a:pt x="22086" y="3794"/>
                </a:lnTo>
                <a:lnTo>
                  <a:pt x="220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7956720" y="260280"/>
            <a:ext cx="954000" cy="287280"/>
            <a:chOff x="7956720" y="260280"/>
            <a:chExt cx="954000" cy="287280"/>
          </a:xfrm>
        </p:grpSpPr>
        <p:sp>
          <p:nvSpPr>
            <p:cNvPr id="89" name=""/>
            <p:cNvSpPr/>
            <p:nvPr/>
          </p:nvSpPr>
          <p:spPr>
            <a:xfrm>
              <a:off x="7956720" y="260280"/>
              <a:ext cx="954000" cy="287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8047080" y="308160"/>
              <a:ext cx="752760" cy="18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Monotype Corsiva"/>
                </a:rPr>
                <a:t>ответ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  <a:ea typeface="Monotype Corsiva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826920" y="2924280"/>
            <a:ext cx="7564680" cy="30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Носитель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информации – любой материальный объект хранящий информац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Наскальные рисунки, бумага, камень 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00000" y="763560"/>
            <a:ext cx="74170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6480">
              <a:lnSpc>
                <a:spcPct val="80000"/>
              </a:lnSpc>
              <a:tabLst>
                <a:tab algn="l" pos="0"/>
                <a:tab algn="l" pos="1012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imes New Roman"/>
              </a:rPr>
              <a:t>Каково ваше представление о носителях информации? Опишите их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дание РТ: №77 с.7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1413000"/>
            <a:ext cx="7058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Times New Roman"/>
              </a:rPr>
              <a:t>Укажите правильный отве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Times New Roman"/>
              </a:rPr>
              <a:t>(отметьте галочкой)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3794"/>
                </a:moveTo>
                <a:lnTo>
                  <a:pt x="19992" y="10800"/>
                </a:lnTo>
                <a:lnTo>
                  <a:pt x="597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10800"/>
                </a:moveTo>
                <a:lnTo>
                  <a:pt x="22086" y="3794"/>
                </a:lnTo>
                <a:lnTo>
                  <a:pt x="220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9280" y="258840"/>
            <a:ext cx="842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Отдельное свойство объекта окружающего мира вызывает у на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260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105264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ст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щу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спри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1341360"/>
            <a:ext cx="287280" cy="408240"/>
          </a:xfrm>
          <a:custGeom>
            <a:avLst/>
            <a:gdLst/>
            <a:ahLst/>
            <a:rect l="l" t="t" r="r" b="b"/>
            <a:pathLst>
              <a:path w="317" h="484">
                <a:moveTo>
                  <a:pt x="0" y="181"/>
                </a:moveTo>
                <a:cubicBezTo>
                  <a:pt x="41" y="332"/>
                  <a:pt x="83" y="484"/>
                  <a:pt x="136" y="454"/>
                </a:cubicBezTo>
                <a:cubicBezTo>
                  <a:pt x="189" y="424"/>
                  <a:pt x="253" y="212"/>
                  <a:pt x="317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8028000" y="404640"/>
            <a:ext cx="934920" cy="287640"/>
            <a:chOff x="8028000" y="404640"/>
            <a:chExt cx="934920" cy="287640"/>
          </a:xfrm>
        </p:grpSpPr>
        <p:sp>
          <p:nvSpPr>
            <p:cNvPr id="102" name=""/>
            <p:cNvSpPr/>
            <p:nvPr/>
          </p:nvSpPr>
          <p:spPr>
            <a:xfrm>
              <a:off x="8028000" y="404640"/>
              <a:ext cx="934920" cy="28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8116560" y="452520"/>
              <a:ext cx="737640" cy="18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Monotype Corsiva"/>
                </a:rPr>
                <a:t>ответ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  <a:ea typeface="Monotype Corsiva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179280" y="227520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Целостное отражение объекта, непосредственно воздействующего на наши органы чувств,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306864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ст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щу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спри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3716280"/>
            <a:ext cx="287280" cy="407880"/>
          </a:xfrm>
          <a:custGeom>
            <a:avLst/>
            <a:gdLst/>
            <a:ahLst/>
            <a:rect l="l" t="t" r="r" b="b"/>
            <a:pathLst>
              <a:path w="317" h="484">
                <a:moveTo>
                  <a:pt x="0" y="181"/>
                </a:moveTo>
                <a:cubicBezTo>
                  <a:pt x="41" y="332"/>
                  <a:pt x="83" y="484"/>
                  <a:pt x="136" y="454"/>
                </a:cubicBezTo>
                <a:cubicBezTo>
                  <a:pt x="189" y="424"/>
                  <a:pt x="253" y="212"/>
                  <a:pt x="317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8028000" y="2781360"/>
            <a:ext cx="934920" cy="287280"/>
            <a:chOff x="8028000" y="2781360"/>
            <a:chExt cx="934920" cy="287280"/>
          </a:xfrm>
        </p:grpSpPr>
        <p:sp>
          <p:nvSpPr>
            <p:cNvPr id="108" name=""/>
            <p:cNvSpPr/>
            <p:nvPr/>
          </p:nvSpPr>
          <p:spPr>
            <a:xfrm>
              <a:off x="8028000" y="2781360"/>
              <a:ext cx="934920" cy="287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8116560" y="2829240"/>
              <a:ext cx="737640" cy="18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Monotype Corsiva"/>
                </a:rPr>
                <a:t>ответ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  <a:ea typeface="Monotype Corsiva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50920" y="4364280"/>
            <a:ext cx="857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) Чувственный образ объекта, в данный момент не воспринимаемого, но воспринятого ранее,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522936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ст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щу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спри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42920" y="5157720"/>
            <a:ext cx="287280" cy="407880"/>
          </a:xfrm>
          <a:custGeom>
            <a:avLst/>
            <a:gdLst/>
            <a:ahLst/>
            <a:rect l="l" t="t" r="r" b="b"/>
            <a:pathLst>
              <a:path w="317" h="484">
                <a:moveTo>
                  <a:pt x="0" y="181"/>
                </a:moveTo>
                <a:cubicBezTo>
                  <a:pt x="41" y="332"/>
                  <a:pt x="83" y="484"/>
                  <a:pt x="136" y="454"/>
                </a:cubicBezTo>
                <a:cubicBezTo>
                  <a:pt x="189" y="424"/>
                  <a:pt x="253" y="212"/>
                  <a:pt x="317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8101080" y="4797360"/>
            <a:ext cx="934920" cy="287280"/>
            <a:chOff x="8101080" y="4797360"/>
            <a:chExt cx="934920" cy="287280"/>
          </a:xfrm>
        </p:grpSpPr>
        <p:sp>
          <p:nvSpPr>
            <p:cNvPr id="114" name=""/>
            <p:cNvSpPr/>
            <p:nvPr/>
          </p:nvSpPr>
          <p:spPr>
            <a:xfrm>
              <a:off x="8101080" y="4797360"/>
              <a:ext cx="934920" cy="287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8189640" y="4845240"/>
              <a:ext cx="737640" cy="18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Monotype Corsiva"/>
                </a:rPr>
                <a:t>ответ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  <a:ea typeface="Monotype Corsiva"/>
              </a:endParaRPr>
            </a:p>
          </p:txBody>
        </p:sp>
      </p:grp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3794"/>
                </a:moveTo>
                <a:lnTo>
                  <a:pt x="19992" y="10800"/>
                </a:lnTo>
                <a:lnTo>
                  <a:pt x="597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10800"/>
                </a:moveTo>
                <a:lnTo>
                  <a:pt x="22086" y="3794"/>
                </a:lnTo>
                <a:lnTo>
                  <a:pt x="220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30T02:00:27Z</dcterms:created>
  <dc:creator>Безугленко В.Л.</dc:creator>
  <dc:description/>
  <dc:language>en-US</dc:language>
  <cp:lastModifiedBy>Безугленко В.Л.</cp:lastModifiedBy>
  <dcterms:modified xsi:type="dcterms:W3CDTF">2013-12-02T02:50:40Z</dcterms:modified>
  <cp:revision>4</cp:revision>
  <dc:subject/>
  <dc:title>Слайд 1</dc:title>
</cp:coreProperties>
</file>