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F531-FDFA-41E9-BA24-0B7FF1307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ализация и проверка усвоения изученного материала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6CD-8B66-475C-ABE6-2F0820D1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3DB-0776-4EEB-8E9E-330B579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1FC-AD24-46F4-B15E-48EFBBE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886-4CE4-4E78-893E-87D2C73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1E5-BA6A-48CB-9FB5-4CC0DAAE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8CB-15A2-492E-B8C1-653C6D59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383-9F0C-488C-A2F7-4E1CA6CE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576-6736-4862-B96E-601220D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A9D-7F77-488C-A9B5-09F33A31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8F8-46C9-4BE1-9474-ACADA4D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FE40-A993-41EC-8FF2-35E19EA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F91-B93A-45E4-8799-A71F58C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3AF-2973-4D65-8044-25CA2BE2F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341360"/>
            <a:ext cx="83534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2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4869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ОУ «СОШ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кутская обл., г.Брат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их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6360" y="1052640"/>
            <a:ext cx="5471640" cy="2952720"/>
            <a:chOff x="1476360" y="1052640"/>
            <a:chExt cx="5471640" cy="2952720"/>
          </a:xfrm>
        </p:grpSpPr>
        <p:sp>
          <p:nvSpPr>
            <p:cNvPr id="121" name=""/>
            <p:cNvSpPr txBox="1"/>
            <p:nvPr/>
          </p:nvSpPr>
          <p:spPr>
            <a:xfrm>
              <a:off x="1476360" y="1052640"/>
              <a:ext cx="2585520" cy="295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cc00"/>
                  </a:solidFill>
                  <a:latin typeface="Arial Black"/>
                </a:rPr>
                <a:t>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64052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694520" y="21459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169452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5164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391200" y="127080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391200" y="225576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501000" y="3131280"/>
              <a:ext cx="395640" cy="39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4321440" y="2638080"/>
              <a:ext cx="2626560" cy="136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00000" y="62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нать тему сегодняшнего урока нам поможет реб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13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1332000" y="501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hiller"/>
              </a:rPr>
              <a:t>понят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89000"/>
            <a:ext cx="792144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99"/>
                </a:solidFill>
                <a:latin typeface="Times New Roman"/>
              </a:rPr>
              <a:t>Понятие как форма мышления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3933720"/>
            <a:ext cx="765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стоятельная работа с учебник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2.3, с.36-3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использованием  плана-консп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40356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ышление помогает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ка – это наука, изучающа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ы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кт можно описать с помощью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ами являются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наки могут быть: а) …; б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564000" y="2276640"/>
          <a:ext cx="4608360" cy="909360"/>
        </p:xfrm>
        <a:graphic>
          <a:graphicData uri="http://schemas.openxmlformats.org/drawingml/2006/table">
            <a:tbl>
              <a:tblPr/>
              <a:tblGrid>
                <a:gridCol w="971640"/>
                <a:gridCol w="1815840"/>
                <a:gridCol w="18208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ё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уще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358200" y="2996280"/>
            <a:ext cx="33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ятие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708360" y="3357720"/>
          <a:ext cx="4535640" cy="1091880"/>
        </p:xfrm>
        <a:graphic>
          <a:graphicData uri="http://schemas.openxmlformats.org/drawingml/2006/table">
            <a:tbl>
              <a:tblPr/>
              <a:tblGrid>
                <a:gridCol w="2268360"/>
                <a:gridCol w="22672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 выра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осочет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826920" y="4364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олните таблиц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708360" y="4581360"/>
          <a:ext cx="4535640" cy="103356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они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16880" y="565992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говорят, то пользуются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думают, то пользуются …, поэтому понятие – это форм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2.3, с.36-38; вопрос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Т:  №78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040360" cy="2643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059280" y="3429000"/>
            <a:ext cx="3024000" cy="863640"/>
            <a:chOff x="3059280" y="3429000"/>
            <a:chExt cx="3024000" cy="863640"/>
          </a:xfrm>
        </p:grpSpPr>
        <p:sp>
          <p:nvSpPr>
            <p:cNvPr id="53" name=""/>
            <p:cNvSpPr/>
            <p:nvPr/>
          </p:nvSpPr>
          <p:spPr>
            <a:xfrm>
              <a:off x="3059280" y="3429000"/>
              <a:ext cx="3024000" cy="863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3346560" y="3573360"/>
              <a:ext cx="2386080" cy="55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468360" y="4508640"/>
            <a:ext cx="8207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Narrow"/>
              </a:rPr>
              <a:t>информац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Narrow"/>
              <a:ea typeface="Arial Narrow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640" y="1268280"/>
            <a:ext cx="676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информация для человека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80360" y="476280"/>
            <a:ext cx="934920" cy="287280"/>
            <a:chOff x="7380360" y="476280"/>
            <a:chExt cx="934920" cy="287280"/>
          </a:xfrm>
        </p:grpSpPr>
        <p:sp>
          <p:nvSpPr>
            <p:cNvPr id="62" name=""/>
            <p:cNvSpPr/>
            <p:nvPr/>
          </p:nvSpPr>
          <p:spPr>
            <a:xfrm>
              <a:off x="7380360" y="47628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468920" y="52416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71640" y="213372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знания и сведения об окружающей нас ми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42920" y="1413000"/>
            <a:ext cx="7129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3399"/>
                </a:solidFill>
                <a:latin typeface="Georgia"/>
              </a:rPr>
              <a:t>реальная действительность -</a:t>
            </a:r>
            <a:endParaRPr b="1" i="1" lang="en-US" sz="1800" spc="1" strike="noStrike">
              <a:ln w="0">
                <a:noFill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308720" y="620640"/>
            <a:ext cx="935280" cy="287280"/>
            <a:chOff x="7308720" y="620640"/>
            <a:chExt cx="935280" cy="287280"/>
          </a:xfrm>
        </p:grpSpPr>
        <p:sp>
          <p:nvSpPr>
            <p:cNvPr id="69" name=""/>
            <p:cNvSpPr/>
            <p:nvPr/>
          </p:nvSpPr>
          <p:spPr>
            <a:xfrm>
              <a:off x="7308720" y="62064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397280" y="66852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00000" y="249228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окружающий ми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308720" y="549360"/>
            <a:ext cx="935280" cy="287280"/>
            <a:chOff x="7308720" y="549360"/>
            <a:chExt cx="935280" cy="287280"/>
          </a:xfrm>
        </p:grpSpPr>
        <p:sp>
          <p:nvSpPr>
            <p:cNvPr id="75" name=""/>
            <p:cNvSpPr/>
            <p:nvPr/>
          </p:nvSpPr>
          <p:spPr>
            <a:xfrm>
              <a:off x="7308720" y="549360"/>
              <a:ext cx="93528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7397280" y="597240"/>
              <a:ext cx="73800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71640" y="3860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Органы чувств челове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834120"/>
            <a:ext cx="7129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Какими средствами приема сигналов из внешнего мира обладает человек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380360" y="549360"/>
            <a:ext cx="934920" cy="287280"/>
            <a:chOff x="7380360" y="549360"/>
            <a:chExt cx="934920" cy="287280"/>
          </a:xfrm>
        </p:grpSpPr>
        <p:sp>
          <p:nvSpPr>
            <p:cNvPr id="82" name=""/>
            <p:cNvSpPr/>
            <p:nvPr/>
          </p:nvSpPr>
          <p:spPr>
            <a:xfrm>
              <a:off x="7380360" y="549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7468920" y="597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00000" y="3357720"/>
            <a:ext cx="7488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Восприятия складываются из отдельных ощущений. Мороженое – розовое, холодное, пахнет клубникой, слад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690120"/>
            <a:ext cx="7667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6840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Из чего складываются восприяти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6840" algn="just">
              <a:lnSpc>
                <a:spcPct val="9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Приведите приме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956720" y="260280"/>
            <a:ext cx="954000" cy="287280"/>
            <a:chOff x="7956720" y="260280"/>
            <a:chExt cx="954000" cy="287280"/>
          </a:xfrm>
        </p:grpSpPr>
        <p:sp>
          <p:nvSpPr>
            <p:cNvPr id="89" name=""/>
            <p:cNvSpPr/>
            <p:nvPr/>
          </p:nvSpPr>
          <p:spPr>
            <a:xfrm>
              <a:off x="7956720" y="260280"/>
              <a:ext cx="95400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8047080" y="308160"/>
              <a:ext cx="75276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26920" y="2924280"/>
            <a:ext cx="7564680" cy="30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осител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информации – любой материальный объект хранящий информац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аскальные рисунки, бумага, камень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763560"/>
            <a:ext cx="7417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6480">
              <a:lnSpc>
                <a:spcPct val="80000"/>
              </a:lnSpc>
              <a:tabLst>
                <a:tab algn="l" pos="0"/>
                <a:tab algn="l" pos="1012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Каково ваше представление о носителях информации? Опишите их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е РТ: №77 с.7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41300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Укажите правильный отв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Times New Roman"/>
              </a:rPr>
              <a:t>(отметьте галочкой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5884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Отдельное свойство объекта окружающего мира вызывает у на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341360"/>
            <a:ext cx="287280" cy="40824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028000" y="404640"/>
            <a:ext cx="934920" cy="287640"/>
            <a:chOff x="8028000" y="404640"/>
            <a:chExt cx="934920" cy="287640"/>
          </a:xfrm>
        </p:grpSpPr>
        <p:sp>
          <p:nvSpPr>
            <p:cNvPr id="102" name=""/>
            <p:cNvSpPr/>
            <p:nvPr/>
          </p:nvSpPr>
          <p:spPr>
            <a:xfrm>
              <a:off x="8028000" y="404640"/>
              <a:ext cx="934920" cy="28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8116560" y="45252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79280" y="22752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Целостное отражение объекта, непосредственно воздействующего на наши органы чувств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068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71628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28000" y="2781360"/>
            <a:ext cx="934920" cy="287280"/>
            <a:chOff x="8028000" y="2781360"/>
            <a:chExt cx="934920" cy="287280"/>
          </a:xfrm>
        </p:grpSpPr>
        <p:sp>
          <p:nvSpPr>
            <p:cNvPr id="108" name=""/>
            <p:cNvSpPr/>
            <p:nvPr/>
          </p:nvSpPr>
          <p:spPr>
            <a:xfrm>
              <a:off x="8028000" y="2781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8116560" y="2829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0920" y="436428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Чувственный образ объекта, в данный момент не воспринимаемого, но воспринятого ранее,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522936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157720"/>
            <a:ext cx="287280" cy="407880"/>
          </a:xfrm>
          <a:custGeom>
            <a:avLst/>
            <a:gdLst/>
            <a:ahLst/>
            <a:rect l="l" t="t" r="r" b="b"/>
            <a:pathLst>
              <a:path w="317" h="484">
                <a:moveTo>
                  <a:pt x="0" y="181"/>
                </a:moveTo>
                <a:cubicBezTo>
                  <a:pt x="41" y="332"/>
                  <a:pt x="83" y="484"/>
                  <a:pt x="136" y="454"/>
                </a:cubicBezTo>
                <a:cubicBezTo>
                  <a:pt x="189" y="424"/>
                  <a:pt x="253" y="212"/>
                  <a:pt x="317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101080" y="4797360"/>
            <a:ext cx="934920" cy="287280"/>
            <a:chOff x="8101080" y="4797360"/>
            <a:chExt cx="934920" cy="287280"/>
          </a:xfrm>
        </p:grpSpPr>
        <p:sp>
          <p:nvSpPr>
            <p:cNvPr id="114" name=""/>
            <p:cNvSpPr/>
            <p:nvPr/>
          </p:nvSpPr>
          <p:spPr>
            <a:xfrm>
              <a:off x="8101080" y="4797360"/>
              <a:ext cx="934920" cy="287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8189640" y="4845240"/>
              <a:ext cx="737640" cy="18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99"/>
                  </a:solidFill>
                  <a:latin typeface="Monotype Corsiva"/>
                </a:rPr>
                <a:t>ответ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88360" y="630864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7740720" y="6308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02:00:27Z</dcterms:created>
  <dc:creator>Безугленко В.Л.</dc:creator>
  <dc:description/>
  <dc:language>en-US</dc:language>
  <cp:lastModifiedBy>Безугленко В.Л.</cp:lastModifiedBy>
  <dcterms:modified xsi:type="dcterms:W3CDTF">2013-12-02T02:50:40Z</dcterms:modified>
  <cp:revision>4</cp:revision>
  <dc:subject/>
  <dc:title>Слайд 1</dc:title>
</cp:coreProperties>
</file>