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7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29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1B16-EEB7-445B-83DA-296626A36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2B21-2B41-4650-B55C-3F168876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6B42-4400-4501-B4E4-D8B58E663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83C9-0F0F-496F-8CA6-5CF38B2E4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0417-7F09-41B2-9B36-B7A1EFCE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760C-937E-4CE8-A2C3-DCE2DD7C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4982-C3D1-4146-922E-0F968BEF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D50E-5D07-4F37-9CE6-09F2A497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258F-139F-4C30-BA9C-D9C7AA1F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12BA-5305-43DB-8863-F3584465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24B2-044E-4F90-AE60-C32B2701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19CD-42B0-45C4-BB09-9EC1E37D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CA89-60E6-4FAC-B650-6CCC5501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1F4C-8B7C-4D7F-972C-4E24D70D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BB80-F748-4327-9552-B51F8D62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39C3-AE97-48D2-A26D-13E8CC9A2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1115-1056-4F67-B469-25A00B615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575F-1153-4101-80BF-CA804228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8B9C-E1FA-498B-A02D-B338609A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5344-2739-4442-958A-C533C710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84CC-A587-4336-8DAC-239EA0FD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0B42-ACDF-438C-8AF2-CFF3FE8A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545A-6B9E-4C21-BC8B-A758F6CE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C17B-D54D-4795-AEA8-92944C91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5EDD-8F06-4CD4-B0E2-583A5C8CAB8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6346-B9D8-416C-AD21-37968FC00B5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Интегрированный урок ОБЖ и русский язык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Рыцари огня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». 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3 класс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читель начальных классов    Шайхутдинова Светлана Геннадье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ОУ СОШ № 266 г. Снежногорс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урманская обла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2007 году  в России произошло 21163 пожар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гибло 15924 человека, из них 597 де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одовой ущерб от огня составляет более 8551 млн. руб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жарным удалось спасти 98363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057400" y="380880"/>
            <a:ext cx="5029200" cy="7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интересно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276720" y="549360"/>
            <a:ext cx="2879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град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826920" y="1219320"/>
            <a:ext cx="3211560" cy="3657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755640" y="5157720"/>
            <a:ext cx="25909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даль</a:t>
            </a:r>
            <a:endParaRPr b="0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За Отвагу"</a:t>
            </a:r>
            <a:endParaRPr b="0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932360" y="4869000"/>
            <a:ext cx="3960720" cy="100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даль </a:t>
            </a:r>
            <a:endParaRPr b="0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За спасение погибших"</a:t>
            </a:r>
            <a:endParaRPr b="0" lang="en-US" sz="2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3"/>
          <a:stretch/>
        </p:blipFill>
        <p:spPr>
          <a:xfrm>
            <a:off x="5257800" y="1219320"/>
            <a:ext cx="269892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276720" y="549360"/>
            <a:ext cx="2879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град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1197000"/>
            <a:ext cx="622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ожарное дело- для крепких парне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ожарное дело- спасение люде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ожарное дело-отвага и чест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ожарное дело- так было и ест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187280" y="2781360"/>
            <a:ext cx="2367000" cy="2376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580000" y="2852640"/>
            <a:ext cx="2016360" cy="2880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5292720" y="5805360"/>
            <a:ext cx="266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рден 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жества</a:t>
            </a:r>
            <a:endParaRPr b="0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55640" y="5300640"/>
            <a:ext cx="3673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рден </a:t>
            </a:r>
            <a:endParaRPr b="0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За заслуги</a:t>
            </a:r>
            <a:endParaRPr b="0" lang="en-US" sz="2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ед Отечеством"</a:t>
            </a:r>
            <a:endParaRPr b="0" lang="en-US" sz="28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Подберите однокоренные слова к слову  «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пожар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ожарищ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ожар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ожар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ожарники и пожарны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эти слова      обозначают одно и тож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Что означает слово «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ожарищ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362320" y="533520"/>
            <a:ext cx="4572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гненная опасность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485880" cy="44197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брезентовой куртке и в каск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быв про кольчужную бро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шительно и без опаск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росается рыцарь в ого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0" y="533520"/>
            <a:ext cx="4572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кротители огня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743280" cy="4078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81480" y="2057400"/>
            <a:ext cx="3346560" cy="4035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286000" y="609480"/>
            <a:ext cx="4495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оизм пожарных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886200" cy="44956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4191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ньше одеж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жарного была неудобной. Она изготавливалас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з сукна, которое  намокало. Костюм  становился  очень тяжёлы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133720" y="533520"/>
            <a:ext cx="4762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е - что из истории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010280" cy="5867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600200" y="152280"/>
            <a:ext cx="5562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кипировка пожарных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696440" cy="5257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133720" y="609480"/>
            <a:ext cx="4952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асности  дом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2667240" cy="2173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76720" y="1523880"/>
            <a:ext cx="2666880" cy="2133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324480" y="1523880"/>
            <a:ext cx="2502000" cy="2157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380880" y="4114800"/>
            <a:ext cx="2667240" cy="2309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3429000" y="4114800"/>
            <a:ext cx="2514600" cy="2282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6324480" y="4114800"/>
            <a:ext cx="2590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Злой огонь –  это беда, запомните эти слова навсегда!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3355920" cy="4876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41148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t</cp:lastModifiedBy>
  <dcterms:modified xsi:type="dcterms:W3CDTF">2009-02-28T15:36:06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