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7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9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C9FC-1089-4DB0-9975-470F8042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6A2E-5C73-41F0-BD03-FF733E46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9ED0-13A9-4F99-830E-E9879ECA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CCB5-76BC-4403-9A6F-F8D66419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7CEC-C02C-4668-A0D6-24482B02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CDEE-F3F3-45BB-B992-0B743B46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3F54-A828-4AFB-8ADF-4807B2FA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0306-2228-45D2-8111-31C09103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0F85-1A4F-4D0C-8A35-89D61664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5F20-E045-4808-93B3-3451511F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15DF-43B9-42B2-AB63-B2C1EDBF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BCE2-8F2B-46BF-8537-60812F05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7BBC-3B95-4F61-AEBC-B3E90C8B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831F-8580-46CE-909D-DF10413C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DF52-A632-4793-927E-4702FE9D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DCD1-7192-475D-977A-90A68831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C178-FBD7-471B-891F-48324CF8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A90D-20D3-4DBF-B1C6-66E11E7C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5E8B-B8F4-494B-9251-16CEDCEA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B7E8-0459-4625-B8E8-CC3A56EC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5A18-5882-4B7C-85A7-76851DF8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DB30-A4BB-4469-9759-956FDF41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EACC-1D87-4A40-A1AC-3DB3AE0C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59C7-75CB-4CAA-B380-A8746091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80F6-A8BF-464C-82FD-6FCDA6E8692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1A6C-C10D-4975-AE1D-880D244B24D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Интегрированный урок ОБЖ и русский язык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Рыцари огня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». 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3 класс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итель начальных классов    Шайхутдинова Светлана Геннадье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У СОШ № 266 г. Снежногорс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урманская обла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2007 году  в России произошло 21163 пожар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гибло 15924 человека, из них 597 де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одовой ущерб от огня составляет более 8551 млн. руб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жарным удалось спасти 98363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057400" y="380880"/>
            <a:ext cx="5029200" cy="7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интересно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276720" y="549360"/>
            <a:ext cx="2879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град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26920" y="1219320"/>
            <a:ext cx="3211560" cy="3657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755640" y="5157720"/>
            <a:ext cx="25909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даль</a:t>
            </a:r>
            <a:endParaRPr b="0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За Отвагу"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932360" y="4869000"/>
            <a:ext cx="3960720" cy="100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даль 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За спасение погибших"</a:t>
            </a:r>
            <a:endParaRPr b="0" lang="en-US" sz="2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3"/>
          <a:stretch/>
        </p:blipFill>
        <p:spPr>
          <a:xfrm>
            <a:off x="5257800" y="1219320"/>
            <a:ext cx="26989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276720" y="549360"/>
            <a:ext cx="2879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град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1197000"/>
            <a:ext cx="622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ожарное дело- для крепких парн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ожарное дело- спасение люд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ожарное дело-отвага и чес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ожарное дело- так было и ест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187280" y="2781360"/>
            <a:ext cx="2367000" cy="2376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580000" y="2852640"/>
            <a:ext cx="2016360" cy="2880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5292720" y="5805360"/>
            <a:ext cx="266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ден 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жества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55640" y="5300640"/>
            <a:ext cx="3673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ден 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За заслуги</a:t>
            </a:r>
            <a:endParaRPr b="0" lang="en-US" sz="2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ед Отечеством"</a:t>
            </a:r>
            <a:endParaRPr b="0" lang="en-US" sz="2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Подберите однокоренные слова к слову  «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пожар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жарищ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жар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жар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жарники и пожарны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эти слова      обозначают одно и тож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Что означает слово «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жарищ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362320" y="533520"/>
            <a:ext cx="4572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ненная опасность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485880" cy="44197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брезентовой куртке и в каск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быв про кольчужную бро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шительно и без опас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росается рыцарь в ого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0" y="533520"/>
            <a:ext cx="4572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кротители огня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743280" cy="4078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3346560" cy="4035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286000" y="609480"/>
            <a:ext cx="4495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зм пожарных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886200" cy="4495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ньше одеж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жарного была неудобной. Она изготавливалас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 сукна, которое  намокало. Костюм  становился  очень тяжёлы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33720" y="533520"/>
            <a:ext cx="4762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е - что из истори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010280" cy="5867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600200" y="152280"/>
            <a:ext cx="5562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ипировка пожарных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696440" cy="5257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133720" y="609480"/>
            <a:ext cx="4952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асности  дом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2667240" cy="2173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76720" y="1523880"/>
            <a:ext cx="2666880" cy="2133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324480" y="1523880"/>
            <a:ext cx="2502000" cy="2157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380880" y="4114800"/>
            <a:ext cx="2667240" cy="2309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429000" y="4114800"/>
            <a:ext cx="2514600" cy="2282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6324480" y="4114800"/>
            <a:ext cx="2590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лой огонь –  это беда, запомните эти слова навсегда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3355920" cy="4876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41148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t</cp:lastModifiedBy>
  <dcterms:modified xsi:type="dcterms:W3CDTF">2009-02-28T15:36:06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