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5EC0-BDE0-41BD-99C3-EC1D72E9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1931-4A9B-4310-A11F-248D260B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4329-E2B1-4590-BC8E-53C86557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79B3-3F5C-4351-9BFC-03B44CA25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0936-B024-4187-92A9-9A93E2F1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54A1-EA3A-401E-AA28-1EE96735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CDEC-A23C-4B22-88A0-61795C67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3874-51BC-48BB-82A9-438DC4F6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75D5-CCBE-44E6-940B-CA1C902C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4EF4-F067-46E3-9308-FC9CFD70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334-D8A6-493A-97ED-8E03C1BB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48A0-F56C-492B-B785-81616869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48D3-9E83-4836-A1D8-ADA0CD882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7628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стория Нового времени 8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7040" y="2349360"/>
            <a:ext cx="8628120" cy="257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Великобритания: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нец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кторианской эпохи"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дерами от консервативной партии стал Бенджамин Дизраэли, либеральной – Уильям Гладст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220680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533680" y="3213000"/>
            <a:ext cx="2038320" cy="3024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4437000"/>
            <a:ext cx="2089080" cy="79236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нджа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зраэ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2482920" y="5877000"/>
            <a:ext cx="2089080" cy="7920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илья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дст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1258920" y="1557360"/>
            <a:ext cx="6913440" cy="100800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бирательная реформа 1867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233960" y="2565360"/>
            <a:ext cx="674640" cy="471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30193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ничтожила « гнилые местеч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9337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оставила освободившиеся мес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упным город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479736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еньшался имущественный цен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566100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исло избирателей увеличилос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1484280"/>
            <a:ext cx="8424720" cy="11527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законили право тренд-юнионов, давшее им пра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удебную защиту и проведение стач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2637000"/>
            <a:ext cx="6589440" cy="1152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ведён закон о тайном голосовании 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борах в парла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3645000"/>
            <a:ext cx="6298920" cy="10792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дена школьная рефор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4653000"/>
            <a:ext cx="6553080" cy="1224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 о 54 – часовой рабочей неде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5661000"/>
            <a:ext cx="6299280" cy="107964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зданы советы, обладавшие вла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ных органов в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24000" y="1557360"/>
            <a:ext cx="482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2800" spc="-1" strike="noStrike" u="sng">
                <a:solidFill>
                  <a:srgbClr val="c0504d"/>
                </a:solidFill>
                <a:uFillTx/>
                <a:latin typeface="Arial"/>
              </a:rPr>
              <a:t>1884-1885 г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либералы провели третью избирательную реформу, по которой были уничтожены 100  « гнилых местечек» и предоставил права домовладельцам и сельским работник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200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44400" y="461520"/>
            <a:ext cx="7917120" cy="1124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орговля следует за флаго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2204640"/>
            <a:ext cx="84358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59 – 160 и ответьте на вопрос: « Что означает выражение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Торговля следует за флаго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03280" y="1484280"/>
            <a:ext cx="8136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0 г. конгресс тренд-юниоров создал « Комитет рабочего правительст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3 г. число членов « Комитета…» составляла почти 500 тыс.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6 г. « Комитет..» был переименован в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бочую                                  ( лейбористскую)  парти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356000" y="1599840"/>
            <a:ext cx="4608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обенно мощной была всеобщая шестинедельная стачка углекопов в 1912 г.. По результатам которой правительство приняло закон о минимуме  заработной платы для горня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формы во имя                             « классового мир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140000" y="1628640"/>
            <a:ext cx="467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61-162 и выясните, какие реформы принял Дэвид Ллойд Джордж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284640" cy="460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360" y="5943600"/>
            <a:ext cx="3382920" cy="58104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. Л. Джор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95280" y="1700280"/>
            <a:ext cx="4691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вижение за автономию Ирландии на рубеже XIX—XX вв. Предполагало собственный парламент и органы самоуправления при сохранении над островом британского суверенит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39640" y="4164120"/>
            <a:ext cx="3745080" cy="2289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626400" y="443520"/>
            <a:ext cx="7891200" cy="10155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Мятежный остров» получает гомру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ece1"/>
                </a:solidFill>
                <a:latin typeface="Arial"/>
              </a:rPr>
              <a:t>Сегодня вы узнаете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Почему « мастерская мира» уходит в прошло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ая форма правления сложилась в Великобритан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ие реформы были проведены в этом государств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ое государство назвали                         « мятежным островом» и 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907640" y="2060280"/>
            <a:ext cx="57121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просы на стр. 16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0400" y="407520"/>
            <a:ext cx="8096400" cy="800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араграф20, записи, вопросы 2,6 письмен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060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 шаблона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тарников Виталий Викторович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МОУ СОШ №20 п. Баранчинский, г. Кушва, Свердловской обл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pedsovet.su/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Рисунок для фо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17986.globalmarket.com.ua/data/530378_3.jpg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http://ru.wikipedia.org/wiki/%C3%EE%EC%F0%F3%EB%F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74680"/>
            <a:ext cx="82296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4869000"/>
            <a:ext cx="7056720" cy="158436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вер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eece1"/>
                </a:solidFill>
                <a:latin typeface="Arial"/>
              </a:rPr>
              <a:t>Работаем по плану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астерская мира» уходит в прошл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ухпартийная сист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Эпоха рефор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Торговля следует за флагом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ижение проте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ятежный остров получает гомрул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К концу </a:t>
            </a: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XIX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века в Англии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наметилось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замедление темпов развития промышленности. Это было связано с вывозом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15359-large"/>
          <p:cNvPicPr/>
          <p:nvPr/>
        </p:nvPicPr>
        <p:blipFill>
          <a:blip r:embed="rId2"/>
          <a:stretch/>
        </p:blipFill>
        <p:spPr>
          <a:xfrm>
            <a:off x="324000" y="2276640"/>
            <a:ext cx="44640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ce1"/>
                </a:solidFill>
                <a:latin typeface="Arial"/>
              </a:rPr>
              <a:t>Английские предприниматели и банкиры предпочитали вкладывать капиталы в страны. Где дешевле было сырьё и рабочие ру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6"/>
          <p:cNvPicPr/>
          <p:nvPr/>
        </p:nvPicPr>
        <p:blipFill>
          <a:blip r:embed="rId2"/>
          <a:stretch/>
        </p:blipFill>
        <p:spPr>
          <a:xfrm>
            <a:off x="395280" y="2205000"/>
            <a:ext cx="446580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40360" y="1600200"/>
            <a:ext cx="475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ece1"/>
                </a:solidFill>
                <a:latin typeface="Arial"/>
              </a:rPr>
              <a:t>Отечественная промышленность часто не имела средств для обновления устаревшего оборудования; стала снижаться конкурентноспособ-ность това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Индустриализация"/>
          <p:cNvPicPr/>
          <p:nvPr/>
        </p:nvPicPr>
        <p:blipFill>
          <a:blip r:embed="rId2"/>
          <a:stretch/>
        </p:blipFill>
        <p:spPr>
          <a:xfrm>
            <a:off x="395280" y="2927520"/>
            <a:ext cx="3672000" cy="2454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мецкие товары с клеймом «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de in Germany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»  появились на рынках всех стран и были дешевле английских. В 90-е годы роль Англии как « мастерской мира» уходит в прошл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60836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ожным оставалось положение в сельском хозяйстве – фермеры не могли конкурировать  с потоком хлынувшего дешёвого продоволь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2931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ухпартий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60-е годы старые партии тори и вигов стали называться консервативной и либеральной партиями. В 70-е годы в парламенте они представляли собой разграниченные лагер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865680" cy="239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11280" y="4005360"/>
            <a:ext cx="374472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user</cp:lastModifiedBy>
  <dcterms:modified xsi:type="dcterms:W3CDTF">2001-12-31T23:21:02Z</dcterms:modified>
  <cp:revision>3</cp:revision>
  <dc:subject/>
  <dc:title>Заголовок слайда</dc:title>
</cp:coreProperties>
</file>