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B6DD-F37F-4264-ACB0-FED06A32C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720B-7E64-4500-BE87-4175F220B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9EFD-71AD-4B11-806F-AA5897CAD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87DD-4676-4E04-8F85-A7B60F668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50F3-AC10-40A3-9172-5DBE056FE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4CB6-9713-45E0-B452-2BD9BD4A4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D724-6888-4324-8BD5-3F243307D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8234-1919-437C-B566-B181561D5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0A1C-0CCA-43A3-8B0F-83B43873A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1C67-FBAB-46BE-968A-38DDF845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79DF-458D-4C4C-8B29-5EA37920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639C-F1A4-432E-82D3-FE7FB52DB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C044D-A77D-45F6-9859-0AB38AEE83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476280"/>
            <a:ext cx="82090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стория Нового времени 8 клас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57040" y="2349360"/>
            <a:ext cx="8628120" cy="257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 Великобритания:</a:t>
            </a:r>
            <a:endParaRPr b="1" i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нец</a:t>
            </a:r>
            <a:endParaRPr b="1" i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икторианской эпохи"</a:t>
            </a:r>
            <a:endParaRPr b="1" i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Эпоха рефор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идерами от консервативной партии стал Бенджамин Дизраэли, либеральной – Уильям Гладсто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5280" y="1484280"/>
            <a:ext cx="2206800" cy="2952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2533680" y="3213000"/>
            <a:ext cx="2038320" cy="30243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95280" y="4437000"/>
            <a:ext cx="2089080" cy="79236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енджам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израэ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/>
          <p:nvPr/>
        </p:nvSpPr>
        <p:spPr>
          <a:xfrm>
            <a:off x="2482920" y="5877000"/>
            <a:ext cx="2089080" cy="79200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ильям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ладсто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Эпоха рефор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/>
          <p:nvPr/>
        </p:nvSpPr>
        <p:spPr>
          <a:xfrm>
            <a:off x="1258920" y="1557360"/>
            <a:ext cx="6913440" cy="100800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збирательная реформа 1867 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/>
          <p:nvPr/>
        </p:nvSpPr>
        <p:spPr>
          <a:xfrm>
            <a:off x="4233960" y="2565360"/>
            <a:ext cx="674640" cy="471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/>
          <p:nvPr/>
        </p:nvSpPr>
        <p:spPr>
          <a:xfrm>
            <a:off x="755640" y="3019320"/>
            <a:ext cx="7993080" cy="81756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ничтожила « гнилые местечк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/>
          <p:nvPr/>
        </p:nvSpPr>
        <p:spPr>
          <a:xfrm>
            <a:off x="755640" y="3933720"/>
            <a:ext cx="7993080" cy="81756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едоставила освободившиеся мест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рупным город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/>
          <p:nvPr/>
        </p:nvSpPr>
        <p:spPr>
          <a:xfrm>
            <a:off x="755640" y="4797360"/>
            <a:ext cx="7993080" cy="81756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меньшался имущественный цен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/>
          <p:nvPr/>
        </p:nvSpPr>
        <p:spPr>
          <a:xfrm>
            <a:off x="755640" y="5661000"/>
            <a:ext cx="7993080" cy="81756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Число избирателей увеличилос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4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4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Эпоха рефор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/>
          <p:nvPr/>
        </p:nvSpPr>
        <p:spPr>
          <a:xfrm>
            <a:off x="358920" y="1484280"/>
            <a:ext cx="8424720" cy="115272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законили право тренд-юнионов, давшее им прав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судебную защиту и проведение стаче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2637000"/>
            <a:ext cx="6589440" cy="11523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ведён закон о тайном голосовании н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борах в парламен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/>
          <p:nvPr/>
        </p:nvSpPr>
        <p:spPr>
          <a:xfrm>
            <a:off x="2556000" y="3645000"/>
            <a:ext cx="6298920" cy="1079280"/>
          </a:xfrm>
          <a:prstGeom prst="rect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ведена школьная рефор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4653000"/>
            <a:ext cx="6553080" cy="122400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кон о 54 – часовой рабочей недел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/>
          <p:nvPr/>
        </p:nvSpPr>
        <p:spPr>
          <a:xfrm>
            <a:off x="2627280" y="5661000"/>
            <a:ext cx="6299280" cy="1079640"/>
          </a:xfrm>
          <a:prstGeom prst="rect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зданы советы, обладавшие власть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стных органов вла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Эпоха рефор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924000" y="1557360"/>
            <a:ext cx="48243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1" lang="en-US" sz="2800" spc="-1" strike="noStrike" u="sng">
                <a:solidFill>
                  <a:srgbClr val="c0504d"/>
                </a:solidFill>
                <a:uFillTx/>
                <a:latin typeface="Arial"/>
              </a:rPr>
              <a:t>1884-1885 гг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либералы провели третью избирательную реформу, по которой были уничтожены 100  « гнилых местечек» и предоставил права домовладельцам и сельским работника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39640" y="1700280"/>
            <a:ext cx="32004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644400" y="461520"/>
            <a:ext cx="7917120" cy="11242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 Торговля следует за флагом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6840" y="2204640"/>
            <a:ext cx="84358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рочитайте материал на стр. 159 – 160 и ответьте на вопрос: « Что означает выражение                          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« Торговля следует за флагом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вижение протест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03280" y="1484280"/>
            <a:ext cx="813600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вижение протест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1900 г. конгресс тренд-юниоров создал « Комитет рабочего правительств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1903 г. число членов « Комитета…» составляла почти 500 тыс. челове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1906 г. « Комитет..» был переименован в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Рабочую                                  ( лейбористскую)  партию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вижение протест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356000" y="1599840"/>
            <a:ext cx="46087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собенно мощной была всеобщая шестинедельная стачка углекопов в 1912 г.. По результатам которой правительство приняло закон о минимуме  заработной платы для горняк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95280" y="2276640"/>
            <a:ext cx="417672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еформы во имя                             « классового мир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140000" y="1628640"/>
            <a:ext cx="467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рочитайте материал на стр. 161-162 и выясните, какие реформы принял Дэвид Ллойд Джордж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55640" y="1557360"/>
            <a:ext cx="3284640" cy="46083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84360" y="5943600"/>
            <a:ext cx="3382920" cy="581040"/>
          </a:xfrm>
          <a:prstGeom prst="rect">
            <a:avLst/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. Л. Джорд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995280" y="1700280"/>
            <a:ext cx="46911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движение за автономию Ирландии на рубеже XIX—XX вв. Предполагало собственный парламент и органы самоуправления при сохранении над островом британского суверените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3672000" cy="2448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539640" y="4164120"/>
            <a:ext cx="3745080" cy="22892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626400" y="443520"/>
            <a:ext cx="7891200" cy="101556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 Мятежный остров» получает гомрул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eece1"/>
                </a:solidFill>
                <a:latin typeface="Arial"/>
              </a:rPr>
              <a:t>Сегодня вы узнаете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Почему « мастерская мира» уходит в прошло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Какая форма правления сложилась в Великобритани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Какие реформы были проведены в этом государств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Какое государство назвали                         « мятежным островом» и почем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907640" y="2060280"/>
            <a:ext cx="57121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опросы на стр. 16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0400" y="407520"/>
            <a:ext cx="8096400" cy="8002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дведём итог урок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араграф20, записи, вопросы 2,6 письменн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206064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точник шаблона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тарников Виталий Викторович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физики МОУ СОШ №20 п. Баранчинский, г. Кушва, Свердловской обл.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pedsovet.su/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 Рисунок для фона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17986.globalmarket.com.ua/data/530378_3.jpg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 http://ru.wikipedia.org/wiki/%C3%EE%EC%F0%F3%EB%F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274680"/>
            <a:ext cx="822960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спользованные ресурс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/>
          <p:nvPr/>
        </p:nvSpPr>
        <p:spPr>
          <a:xfrm>
            <a:off x="1908000" y="4869000"/>
            <a:ext cx="7056720" cy="1584360"/>
          </a:xfrm>
          <a:prstGeom prst="rect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читель истории МОУ Будинской ОО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верской обла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eece1"/>
                </a:solidFill>
                <a:latin typeface="Arial"/>
              </a:rPr>
              <a:t>Работаем по плану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« Мастерская мира» уходит в прошло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Двухпартийная систе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Эпоха рефор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« Торговля следует за флагом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Движение протес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« Мятежный остров получает гомруль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427280" y="1600200"/>
            <a:ext cx="439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eece1"/>
                </a:solidFill>
                <a:latin typeface="Arial"/>
              </a:rPr>
              <a:t>К концу </a:t>
            </a: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XIX </a:t>
            </a:r>
            <a:r>
              <a:rPr b="1" lang="ru-RU" sz="3200" spc="-1" strike="noStrike">
                <a:solidFill>
                  <a:srgbClr val="eeece1"/>
                </a:solidFill>
                <a:latin typeface="Arial"/>
              </a:rPr>
              <a:t>века в Англии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eece1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eeece1"/>
                </a:solidFill>
                <a:latin typeface="Arial"/>
              </a:rPr>
              <a:t>наметилось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eece1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eeece1"/>
                </a:solidFill>
                <a:latin typeface="Arial"/>
              </a:rPr>
              <a:t>замедление темпов развития промышленности. Это было связано с вывозом капита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333360"/>
            <a:ext cx="8569080" cy="1079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Мастерская мира» уходит в прошл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15359-large"/>
          <p:cNvPicPr/>
          <p:nvPr/>
        </p:nvPicPr>
        <p:blipFill>
          <a:blip r:embed="rId2"/>
          <a:stretch/>
        </p:blipFill>
        <p:spPr>
          <a:xfrm>
            <a:off x="324000" y="2276640"/>
            <a:ext cx="446400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ece1"/>
                </a:solidFill>
                <a:latin typeface="Arial"/>
              </a:rPr>
              <a:t>Английские предприниматели и банкиры предпочитали вкладывать капиталы в страны. Где дешевле было сырьё и рабочие ру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333360"/>
            <a:ext cx="8569080" cy="1079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Мастерская мира» уходит в прошл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6"/>
          <p:cNvPicPr/>
          <p:nvPr/>
        </p:nvPicPr>
        <p:blipFill>
          <a:blip r:embed="rId2"/>
          <a:stretch/>
        </p:blipFill>
        <p:spPr>
          <a:xfrm>
            <a:off x="395280" y="2205000"/>
            <a:ext cx="4465800" cy="30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140360" y="1600200"/>
            <a:ext cx="475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eece1"/>
                </a:solidFill>
                <a:latin typeface="Arial"/>
              </a:rPr>
              <a:t>Отечественная промышленность часто не имела средств для обновления устаревшего оборудования; стала снижаться конкурентноспособ-ность товар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Индустриализация"/>
          <p:cNvPicPr/>
          <p:nvPr/>
        </p:nvPicPr>
        <p:blipFill>
          <a:blip r:embed="rId2"/>
          <a:stretch/>
        </p:blipFill>
        <p:spPr>
          <a:xfrm>
            <a:off x="395280" y="2927520"/>
            <a:ext cx="3672000" cy="24541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324000" y="333360"/>
            <a:ext cx="8569080" cy="1079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Мастерская мира» уходит в прошл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мецкие товары с клеймом «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de in Germany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»  появились на рынках всех стран и были дешевле английских. В 90-е годы роль Англии как « мастерской мира» уходит в прошло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333360"/>
            <a:ext cx="8569080" cy="1079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Мастерская мира» уходит в прошл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50920" y="2060640"/>
            <a:ext cx="4608360" cy="35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ложным оставалось положение в сельском хозяйстве – фермеры не могли конкурировать  с потоком хлынувшего дешёвого продовольств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95280" y="2276640"/>
            <a:ext cx="4176720" cy="29318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24000" y="333360"/>
            <a:ext cx="8569080" cy="1079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Мастерская мира» уходит в прошл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вухпартийная систе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648320" y="1599840"/>
            <a:ext cx="41716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 60-е годы старые партии тори и вигов стали называться консервативной и либеральной партиями. В 70-е годы в парламенте они представляли собой разграниченные лагер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3865680" cy="23986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11280" y="4005360"/>
            <a:ext cx="3744720" cy="25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1T18:27:45Z</dcterms:created>
  <dc:creator>ViTark</dc:creator>
  <dc:description/>
  <dc:language>en-US</dc:language>
  <cp:lastModifiedBy>user</cp:lastModifiedBy>
  <dcterms:modified xsi:type="dcterms:W3CDTF">2001-12-31T23:21:02Z</dcterms:modified>
  <cp:revision>3</cp:revision>
  <dc:subject/>
  <dc:title>Заголовок слайда</dc:title>
</cp:coreProperties>
</file>