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11.png" ContentType="image/png"/>
  <Override PartName="/ppt/media/image9.jpeg" ContentType="image/jpe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E82-B104-43C6-8E42-30F24E65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439-0122-48F1-965C-9D2188DE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36C-2F17-40A4-93BA-6F09C4AD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017-BBAB-41F5-A6D2-F09DC555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D1AF-C361-4699-B251-AE253ADB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20A0-6E68-4C02-93C6-036D55B0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EE1F-010A-468E-96BE-10883394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BC30-FE67-4488-ACD8-9440907A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54B1-5C9D-4229-8153-7EEE5CF8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723D-3FA1-445D-A0D1-B21D3FE6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4032-6EA7-4E95-B374-D61EDF93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C47-101F-497F-BC5C-0FE50F03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C7B7-7120-4BA8-806A-D0062F1B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15E2-3AB2-45D5-8205-FD2F6C6F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F280-E1F8-451D-A1F3-1DA55BB3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4D33-15A9-49C2-AC41-11D8A789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AF7D-CC76-4C9A-938D-BF43A81A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84F-4F2A-4EBA-983A-7D2C3574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23B-18CE-4FAC-9DEE-FE2C1278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233-877E-4E16-BC7C-88B4DA17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668-1343-413B-AF65-A8CE56DC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917-711C-4AD7-9B98-B13C488F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17A-23CC-40E4-AA17-77DBD955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D02E-B205-4D7A-95D7-2C566F3F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BB92-58F0-4F5A-BC74-BC083EA78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F5D2-A13B-4F7C-A8CD-0618B53DB5C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5"/>
          <p:cNvSpPr txBox="1"/>
          <p:nvPr/>
        </p:nvSpPr>
        <p:spPr>
          <a:xfrm>
            <a:off x="539640" y="2060640"/>
            <a:ext cx="8028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50000">
                      <a:srgbClr val="6699ff"/>
                    </a:gs>
                    <a:gs pos="100000">
                      <a:srgbClr val="333399"/>
                    </a:gs>
                  </a:gsLst>
                  <a:lin ang="2700000"/>
                </a:gradFill>
                <a:latin typeface="Arial"/>
              </a:rPr>
              <a:t>                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50000">
                    <a:srgbClr val="6699ff"/>
                  </a:gs>
                  <a:gs pos="100000">
                    <a:srgbClr val="333399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684360" y="765000"/>
            <a:ext cx="7515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1258920" y="2565360"/>
            <a:ext cx="640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ищевые добавки</a:t>
            </a:r>
            <a:endParaRPr b="0" lang="en-US" sz="12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324000" y="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Загустител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4000" y="76500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400-49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загустители, стабилизаторы для повышения вязкости продукта (большинство из них запрещены в РФ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ействие на организ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болевания пищеварительного трак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 с содержанием этих видов Е-добавок: йогуртовые культуры и майонез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3348000" y="4568760"/>
            <a:ext cx="38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устители по химической природе представляют собой линейные или разветвленные полимерные цепи с гидрофильными группами, которые вступают в физическое воздействие с имеющейся в продукте во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varetop0001"/>
          <p:cNvPicPr/>
          <p:nvPr/>
        </p:nvPicPr>
        <p:blipFill>
          <a:blip r:embed="rId1"/>
          <a:stretch/>
        </p:blipFill>
        <p:spPr>
          <a:xfrm>
            <a:off x="4643280" y="0"/>
            <a:ext cx="2808360" cy="1924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8137297"/>
          <p:cNvPicPr/>
          <p:nvPr/>
        </p:nvPicPr>
        <p:blipFill>
          <a:blip r:embed="rId2"/>
          <a:stretch/>
        </p:blipFill>
        <p:spPr>
          <a:xfrm>
            <a:off x="5732640" y="2060640"/>
            <a:ext cx="3411360" cy="2562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7100050b"/>
          <p:cNvPicPr/>
          <p:nvPr/>
        </p:nvPicPr>
        <p:blipFill>
          <a:blip r:embed="rId3"/>
          <a:stretch/>
        </p:blipFill>
        <p:spPr>
          <a:xfrm>
            <a:off x="0" y="3684600"/>
            <a:ext cx="33116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2124000" y="18900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cde04"/>
                </a:solidFill>
                <a:latin typeface="Arial"/>
              </a:rPr>
              <a:t>Эмульгатор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cde04"/>
              </a:solidFill>
              <a:latin typeface="Arial"/>
              <a:ea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268360" y="981000"/>
            <a:ext cx="46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ульгаторы добавляются в пищевые продукты с целью создания и стабилизации эмульсий и других пищевых дисперсных систем. Они отвечают за взаимное распределение двух несмешивающихся фаз, за консистенцию пищевого продукта, его пластические свойства, вязкость и ощущение "наполненности" во р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dirol"/>
          <p:cNvPicPr/>
          <p:nvPr/>
        </p:nvPicPr>
        <p:blipFill>
          <a:blip r:embed="rId1"/>
          <a:stretch/>
        </p:blipFill>
        <p:spPr>
          <a:xfrm>
            <a:off x="250920" y="836640"/>
            <a:ext cx="2019240" cy="2562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Копия dirol"/>
          <p:cNvPicPr/>
          <p:nvPr/>
        </p:nvPicPr>
        <p:blipFill>
          <a:blip r:embed="rId2"/>
          <a:stretch/>
        </p:blipFill>
        <p:spPr>
          <a:xfrm>
            <a:off x="2484360" y="3716280"/>
            <a:ext cx="3816360" cy="254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S6002272"/>
          <p:cNvPicPr/>
          <p:nvPr/>
        </p:nvPicPr>
        <p:blipFill>
          <a:blip r:embed="rId3"/>
          <a:stretch/>
        </p:blipFill>
        <p:spPr>
          <a:xfrm>
            <a:off x="6551640" y="1125360"/>
            <a:ext cx="2592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465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4"/>
          <p:cNvSpPr txBox="1"/>
          <p:nvPr/>
        </p:nvSpPr>
        <p:spPr>
          <a:xfrm>
            <a:off x="900000" y="189000"/>
            <a:ext cx="727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Интенсификаторы вкуса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24000" y="1268280"/>
            <a:ext cx="39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усилители вкуса представляют собой белые кристаллические порошки, прекрасно растворимые в воде. Усилители вкуса, как правило, добавляют в продукт в смеси с другими порошкообразными компонентами или в виде водного раствора. Усилители вкуса и аромата достаточно устойчивы в обычных условиях производства и хра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i_1025684070_spec"/>
          <p:cNvPicPr/>
          <p:nvPr/>
        </p:nvPicPr>
        <p:blipFill>
          <a:blip r:embed="rId1"/>
          <a:stretch/>
        </p:blipFill>
        <p:spPr>
          <a:xfrm rot="2243400">
            <a:off x="5292360" y="3499920"/>
            <a:ext cx="1666800" cy="2490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491"/>
          <p:cNvPicPr/>
          <p:nvPr/>
        </p:nvPicPr>
        <p:blipFill>
          <a:blip r:embed="rId2"/>
          <a:stretch/>
        </p:blipFill>
        <p:spPr>
          <a:xfrm rot="19803000">
            <a:off x="6659640" y="907560"/>
            <a:ext cx="2239920" cy="302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1622_big"/>
          <p:cNvPicPr/>
          <p:nvPr/>
        </p:nvPicPr>
        <p:blipFill>
          <a:blip r:embed="rId3"/>
          <a:stretch/>
        </p:blipFill>
        <p:spPr>
          <a:xfrm rot="18011400">
            <a:off x="1807920" y="4824000"/>
            <a:ext cx="19447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4"/>
          <p:cNvSpPr txBox="1"/>
          <p:nvPr/>
        </p:nvSpPr>
        <p:spPr>
          <a:xfrm>
            <a:off x="2268360" y="260280"/>
            <a:ext cx="475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Ароматизатор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2123640" y="1268280"/>
            <a:ext cx="1368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4427640" y="1268280"/>
            <a:ext cx="14436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5724360" y="1268280"/>
            <a:ext cx="1008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826920" y="29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у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2700360" y="3645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нтичные натураль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579600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кус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2" descr="spisok2"/>
          <p:cNvPicPr/>
          <p:nvPr/>
        </p:nvPicPr>
        <p:blipFill>
          <a:blip r:embed="rId1"/>
          <a:stretch/>
        </p:blipFill>
        <p:spPr>
          <a:xfrm>
            <a:off x="3708360" y="4149720"/>
            <a:ext cx="1397160" cy="2400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 (700x558, 188Kb)"/>
          <p:cNvPicPr/>
          <p:nvPr/>
        </p:nvPicPr>
        <p:blipFill>
          <a:blip r:embed="rId2"/>
          <a:stretch/>
        </p:blipFill>
        <p:spPr>
          <a:xfrm>
            <a:off x="5940360" y="3645000"/>
            <a:ext cx="3046320" cy="2428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 (700x525, 148Kb)"/>
          <p:cNvPicPr/>
          <p:nvPr/>
        </p:nvPicPr>
        <p:blipFill>
          <a:blip r:embed="rId3"/>
          <a:stretch/>
        </p:blipFill>
        <p:spPr>
          <a:xfrm>
            <a:off x="179280" y="4076640"/>
            <a:ext cx="3168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16243144_Marshmellows_by_Lou_HotChocolate"/>
          <p:cNvPicPr/>
          <p:nvPr/>
        </p:nvPicPr>
        <p:blipFill>
          <a:blip r:embed="rId1"/>
          <a:stretch/>
        </p:blipFill>
        <p:spPr>
          <a:xfrm>
            <a:off x="5472000" y="2421000"/>
            <a:ext cx="3672000" cy="1655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IMG0017A"/>
          <p:cNvPicPr/>
          <p:nvPr/>
        </p:nvPicPr>
        <p:blipFill>
          <a:blip r:embed="rId2"/>
          <a:stretch/>
        </p:blipFill>
        <p:spPr>
          <a:xfrm>
            <a:off x="1908000" y="3213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IMG0021A"/>
          <p:cNvPicPr/>
          <p:nvPr/>
        </p:nvPicPr>
        <p:blipFill>
          <a:blip r:embed="rId3"/>
          <a:stretch/>
        </p:blipFill>
        <p:spPr>
          <a:xfrm>
            <a:off x="4211640" y="32130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89" name="WordArt 4"/>
          <p:cNvSpPr txBox="1"/>
          <p:nvPr/>
        </p:nvSpPr>
        <p:spPr>
          <a:xfrm>
            <a:off x="1116000" y="189000"/>
            <a:ext cx="6991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Цветорегулирующие материал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84360" y="98100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им относятся соединения, изменяющие окраску продукта в результате взаимодействия с компонентами пищевого сырья и готовых продуктов. Среди них необходимо отметить отбеливающие вещества – добавки, разрушающие природные пигменты или окрашенные вещества, которые образуются при получении пищевых проду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19973235_3298282_1168837_17733461_kartino4ki1142327070_i_1091"/>
          <p:cNvPicPr/>
          <p:nvPr/>
        </p:nvPicPr>
        <p:blipFill>
          <a:blip r:embed="rId4"/>
          <a:stretch/>
        </p:blipFill>
        <p:spPr>
          <a:xfrm>
            <a:off x="0" y="2637000"/>
            <a:ext cx="2411280" cy="1812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4"/>
          <p:cNvSpPr/>
          <p:nvPr/>
        </p:nvSpPr>
        <p:spPr>
          <a:xfrm>
            <a:off x="0" y="4843440"/>
            <a:ext cx="23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трит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и нитрат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лия применяют при обработке мяса и мясных продуктов для сохранения крас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6622920" y="4019400"/>
            <a:ext cx="252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мат калия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Br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именяют в качестве отбеливателя муки, однако его использование приводит к разрушению витаминов В1, РР и метио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979640" y="260280"/>
            <a:ext cx="511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Пенообразовател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95280" y="1197000"/>
            <a:ext cx="324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этим процессом понимают способность белков образовывать высококонцентрированные системы жидкость-газ. Такие системы называют пенами. Устойчивость пены, в которой белок является пенообразователем, зависит не только от его природы, но и от концентрации, а также от температуры. Белки в качестве пенообразователей широко используются в кондитерской промышленности (пастила, зефир, суфл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5" descr="38_394_359"/>
          <p:cNvPicPr/>
          <p:nvPr/>
        </p:nvPicPr>
        <p:blipFill>
          <a:blip r:embed="rId1"/>
          <a:stretch/>
        </p:blipFill>
        <p:spPr>
          <a:xfrm>
            <a:off x="4716360" y="1844640"/>
            <a:ext cx="4238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Какие пищевые добавки следует избег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асител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02, 104, 107, 110, 122-124, 127-129, 132, 133, 142, 151, 155, 160b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серванты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00–203, 210–213, 220–225, 228, 249–252, 280–283, 310-312, 319–32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густител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407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илители аромат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620–625, 627, 631, 63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скусственные заменители сахар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950–952,954–95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2" descr="Spec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Запрещенные пищевые доба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 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J0382947"/>
          <p:cNvPicPr/>
          <p:nvPr/>
        </p:nvPicPr>
        <p:blipFill>
          <a:blip r:embed="rId2"/>
          <a:srcRect l="8481" t="7913" r="6817" b="8969"/>
          <a:stretch/>
        </p:blipFill>
        <p:spPr>
          <a:xfrm>
            <a:off x="1979640" y="1341360"/>
            <a:ext cx="3960720" cy="4392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C:\Documents and Settings\ГАЛЯ\Рабочий стол\Пищевые добавки и БАДы\Здравый смысл на букву «Е».files\1170070694694.jpg"/>
          <p:cNvPicPr/>
          <p:nvPr/>
        </p:nvPicPr>
        <p:blipFill>
          <a:blip r:embed="rId3"/>
          <a:stretch/>
        </p:blipFill>
        <p:spPr>
          <a:xfrm>
            <a:off x="4932360" y="1413000"/>
            <a:ext cx="1476360" cy="1384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105"/>
          <p:cNvPicPr/>
          <p:nvPr/>
        </p:nvPicPr>
        <p:blipFill>
          <a:blip r:embed="rId4"/>
          <a:stretch/>
        </p:blipFill>
        <p:spPr>
          <a:xfrm>
            <a:off x="5940360" y="1341360"/>
            <a:ext cx="3203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Vaca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Vaca09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0680"/>
                </a:solidFill>
                <a:latin typeface="Arial"/>
              </a:rPr>
              <a:t>Опасные и подозрительные пищевые доба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пасные: Е 102, Е 110, Е 120,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24,Е 127, Е 129,Е 155,Е 180,Е 20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 220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дозрительные: Е 104, Е 122,             Е 141, Е 150, Е 171, Е 173, Е 180, Е 241, Е 477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зывающие расстройство кишечника: Е 221- 226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ызывающие расстройство желудка:     Е 338-341, Е 407, Е 450, Е 461-466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щшш"/>
          <p:cNvPicPr/>
          <p:nvPr/>
        </p:nvPicPr>
        <p:blipFill>
          <a:blip r:embed="rId3"/>
          <a:stretch/>
        </p:blipFill>
        <p:spPr>
          <a:xfrm>
            <a:off x="7308720" y="1197000"/>
            <a:ext cx="1582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Spec0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чень опасные пищевые  добав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кообразующие: Е 131, Е 210-217,  Е 240, Е 330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редные для кожи: Е 230-232, Е 239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зывающие нарушение давления: Е 250, Е 251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лергические (вызывающие появление сыпи): Е 311, Е 312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вышающие холестерин: Е 320, Е 321 и т.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7" descr="file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1428840" y="1000080"/>
            <a:ext cx="590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следнее время для изготовления продуктов питания стало использоваться большое количество различных пищевых добавок. Они делают нашу пищу более привлекательной на вид и на вкус, позволяют долгое время сохранять продукты свежими. Но не все  пищевые добавки безопасны для нашего здоровья. Какие же из них делают пищу более полезной, а какие могут навредить нам, как это можно установить экспериментально, используя различные продукты питания? Ведь нам важно, что мы едим и пьём. Для того чтобы разобраться во всём этом мы выбрали именно эту тему для наше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110"/>
          <p:cNvPicPr/>
          <p:nvPr/>
        </p:nvPicPr>
        <p:blipFill>
          <a:blip r:embed="rId1"/>
          <a:stretch/>
        </p:blipFill>
        <p:spPr>
          <a:xfrm>
            <a:off x="108000" y="4653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15_b_1114850310"/>
          <p:cNvPicPr/>
          <p:nvPr/>
        </p:nvPicPr>
        <p:blipFill>
          <a:blip r:embed="rId2"/>
          <a:stretch/>
        </p:blipFill>
        <p:spPr>
          <a:xfrm>
            <a:off x="0" y="1341360"/>
            <a:ext cx="161280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ackgrounds[1][1]"/>
          <p:cNvPicPr/>
          <p:nvPr/>
        </p:nvPicPr>
        <p:blipFill>
          <a:blip r:embed="rId3"/>
          <a:stretch/>
        </p:blipFill>
        <p:spPr>
          <a:xfrm>
            <a:off x="3203640" y="4437000"/>
            <a:ext cx="2663640" cy="24624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6"/>
          <p:cNvSpPr txBox="1"/>
          <p:nvPr/>
        </p:nvSpPr>
        <p:spPr>
          <a:xfrm>
            <a:off x="684360" y="189000"/>
            <a:ext cx="7127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 проекта.</a:t>
            </a:r>
            <a:endParaRPr b="0" lang="en-US" sz="1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8" descr="S6000560"/>
          <p:cNvPicPr/>
          <p:nvPr/>
        </p:nvPicPr>
        <p:blipFill>
          <a:blip r:embed="rId4"/>
          <a:stretch/>
        </p:blipFill>
        <p:spPr>
          <a:xfrm>
            <a:off x="7308720" y="1052640"/>
            <a:ext cx="1706760" cy="295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IMG0026A"/>
          <p:cNvPicPr/>
          <p:nvPr/>
        </p:nvPicPr>
        <p:blipFill>
          <a:blip r:embed="rId5"/>
          <a:stretch/>
        </p:blipFill>
        <p:spPr>
          <a:xfrm>
            <a:off x="7215120" y="4286160"/>
            <a:ext cx="1928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871 0.01595 C -0.21111 -0.04162 -0.49218 -0.17988 -0.51406 -0.24393 C -0.53593 -0.30798 -0.30885 -0.32439 -0.26979 -0.36832 C -0.23072 -0.41225 -0.30225 -0.57387 -0.27968 -0.50798 C -0.25711 -0.44208 -0.17482 -0.05873 -0.13385 0.02682 C -0.09288 0.11237 -0.04288 -0.00717 -0.03385 0.00509 C -0.02482 0.01734 -0.06215 0.10081 -0.07968 0.10104 C -0.09722 0.10127 -0.06631 0.07353 -0.13871 0.01595 Z">
                                      <p:cBhvr>
                                        <p:cTn id="3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о вредные пищевые добавки Е и запрещённые пищевые доба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сведениям INFO министерства здравоохранения РФ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102; Е 104; Е 110; Е 120; Е 121; Е 122; Е 123; Е 124; Е 127; Е 128; Е 129; Е 131; Е 132; Е 133; Е 142; Е 151; Е 153; Е 154; Е 155; Е 173; Е 174; Е 175; Е 180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214; Е 215; Е 216; Е 217; Е 219; Е 226; Е 227; Е 230; Е 231; Е 233; Е 236; Е 237; Е 238; Е 239; Е 240; Е 249 ... Е 252; Е 296; Е 320; Е 321; Е 620; Е 621; Е 627; Е 631; Е 635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 924 а-b; Е 926; Е 951; Е 952; Е 954; Е 957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своём холодильнике вы обнаружили продукты, содержащие хотя бы одну пищевую добавку из этого перечня, то лучшее что вы можете сделать с этим продуктом - выбросить его и больше никогда не покупа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cc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териал и методи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ходе данной научно – исследовательской работы на наличие добавок в составе пищевой продукции были проверены 16 предприятий, в том числе четверо частных предпринимателей. Все эти предприятия осуществляют свою деятельность на территории Амурской области. Полученные данные были сведены в таблицу. Кроме названия фирмы и перечисления всех пищевых добавок в составе продукта, в таблице указаны некоторые отрицательные свойства этих добавок, сказывающиеся на здоровье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К – пищевые добавки вызывающие кишечные рас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Ж – вызывают расстройства желу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 – артериальное д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 – высыпания на ко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– сып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 – повышают уровень холесте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 – раковые заболе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– опас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 – болезни печени и поч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К – желудочно-кишечные заболе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– аллерг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324000" y="692280"/>
          <a:ext cx="8280360" cy="6510240"/>
        </p:xfrm>
        <a:graphic>
          <a:graphicData uri="http://schemas.openxmlformats.org/drawingml/2006/table">
            <a:tbl>
              <a:tblPr/>
              <a:tblGrid>
                <a:gridCol w="2760480"/>
                <a:gridCol w="4367160"/>
                <a:gridCol w="1152720"/>
              </a:tblGrid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РОДУ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ИЩЕВЫХ ДОБАВ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алкогольный, сильногазированный, низкокалорийный напиток «Дюшес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дентичные натуральным ароматические                                                        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колер сахарный Е-150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 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 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алкогольный, низкокалорийный, сильногазированный напиток «Черника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ческая эмуль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 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вуокись углерода Е- 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алкогольный, низкокалорийный, сильногазированный напиток «Кола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дентичные натуральным ароматические                                                          вещества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Персик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ческая эмуль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 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Text Box 127"/>
          <p:cNvSpPr/>
          <p:nvPr/>
        </p:nvSpPr>
        <p:spPr>
          <a:xfrm>
            <a:off x="826920" y="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ания  «АСАРТ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. Благовещенск, 1-ый км. Новотроицкого шоссе тел. 35-01-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24000" y="295200"/>
          <a:ext cx="8229600" cy="6448680"/>
        </p:xfrm>
        <a:graphic>
          <a:graphicData uri="http://schemas.openxmlformats.org/drawingml/2006/table">
            <a:tbl>
              <a:tblPr/>
              <a:tblGrid>
                <a:gridCol w="2743200"/>
                <a:gridCol w="4457520"/>
                <a:gridCol w="1028880"/>
              </a:tblGrid>
              <a:tr h="21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Монинг –Дью», «Апельсин», «Земляника со сливками», «Лич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дентичные натуральным ароматические                                                          ве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аспартам Е 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двуокись углерода Е-2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Джойс со вкусом свежего апельсин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углекислый г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онсервант бензонат натрия Е-2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ароматизато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«Асарти» сырны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сантановая камедь Е-4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гуаровая камедь Е-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сорбат калия Е-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ароматиз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«Асарти» сливочны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рбат калия Е-2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табилиз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ароматизатор идентичный натурально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324000" y="333360"/>
          <a:ext cx="8640720" cy="4525920"/>
        </p:xfrm>
        <a:graphic>
          <a:graphicData uri="http://schemas.openxmlformats.org/drawingml/2006/table">
            <a:tbl>
              <a:tblPr/>
              <a:tblGrid>
                <a:gridCol w="2879640"/>
                <a:gridCol w="4681440"/>
                <a:gridCol w="107964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страдны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желирующий агент агар Е-4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тичье молоко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 «Ванилин», «Ром»,  «Миндаль», «Лимо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желирующий агент агар Е-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ислота лимонная Е 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ищевые красител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Ананасны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, «Анана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ислота лимонная  Е 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аска», «Красная шапочка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24000" y="4869000"/>
          <a:ext cx="8640720" cy="1152360"/>
        </p:xfrm>
        <a:graphic>
          <a:graphicData uri="http://schemas.openxmlformats.org/drawingml/2006/table">
            <a:tbl>
              <a:tblPr/>
              <a:tblGrid>
                <a:gridCol w="2890800"/>
                <a:gridCol w="4670280"/>
                <a:gridCol w="107964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ри мушкетёра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 «Сливоч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79280" y="260280"/>
          <a:ext cx="8425080" cy="4546800"/>
        </p:xfrm>
        <a:graphic>
          <a:graphicData uri="http://schemas.openxmlformats.org/drawingml/2006/table">
            <a:tbl>
              <a:tblPr/>
              <a:tblGrid>
                <a:gridCol w="2808360"/>
                <a:gridCol w="4176720"/>
                <a:gridCol w="144000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т в сапогах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гадк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.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, «Цитру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одварка цитрус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то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Буревестник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то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йчик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ток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одварка морковн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ерёмушк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, «Пуншев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то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79280" y="4797360"/>
          <a:ext cx="8425080" cy="1881360"/>
        </p:xfrm>
        <a:graphic>
          <a:graphicData uri="http://schemas.openxmlformats.org/drawingml/2006/table">
            <a:tbl>
              <a:tblPr/>
              <a:tblGrid>
                <a:gridCol w="2808360"/>
                <a:gridCol w="4176720"/>
                <a:gridCol w="144000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вёздочк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пи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Амурские зор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«Ванильный», «Чёрная смородин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одварка чёрносмород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57200" y="765000"/>
          <a:ext cx="8229600" cy="5946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с «Молочно-орехов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тока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с «Щелкунчик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тока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роматизатор  «ореховый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фли «Орешек», «Дюймовочк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ароматизатор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фли «Фантаз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ароматизатор «Грецкий орех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Зодиак» с ороматом коф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вртный сир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углеаммонийная 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ароматизатор «Ванилин», «Кофе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32"/>
          <p:cNvSpPr/>
          <p:nvPr/>
        </p:nvSpPr>
        <p:spPr>
          <a:xfrm>
            <a:off x="1258920" y="189000"/>
            <a:ext cx="698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вещенская кондитерская фабрика «Зе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Ленина,18; тел: 44-66-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274680"/>
          <a:ext cx="8229600" cy="6707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4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Благовещенское», «Нежное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вртный сир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углеаммонийная 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ароматизатор «Ванилин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Сливочно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вртный сир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углеаммонийная 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ароматизатор «Сливки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Зодиак с банановым вкусо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инвртный сир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углеаммонийная с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эмульгатор лецетин Е-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спи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кислота лимонная Е-3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ароматизатор «Банановый», «Ванильный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пищевой красите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ченье «Мозайк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 «Ванильны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рбонат аммония Е-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м «Сливочный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 идентичный натуральном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324000" y="90792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2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мелад «Апельсиновые и ванильные дольк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ектин цитрус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цитрат натрия Е -3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желирующий агент агар Е- 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ищевой красите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аже «Пасхально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ароматиз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во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арафин Е-9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тальк Е-5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1476360" y="26028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Белогорская кондитерская фабрика «Асар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елогорск, ул. Кирова, 7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125360"/>
          <a:ext cx="8229600" cy="5000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ис «Забава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тока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мель «Театральная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мель «Взлётная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расител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1116000" y="260280"/>
            <a:ext cx="696276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3399"/>
                    </a:gs>
                    <a:gs pos="50000">
                      <a:srgbClr val="800080"/>
                    </a:gs>
                    <a:gs pos="100000">
                      <a:srgbClr val="cc3399"/>
                    </a:gs>
                  </a:gsLst>
                  <a:lin ang="5400000"/>
                </a:gradFill>
                <a:latin typeface="Arial"/>
              </a:rPr>
              <a:t>Что такое пищевые добавки?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3399"/>
                  </a:gs>
                  <a:gs pos="50000">
                    <a:srgbClr val="800080"/>
                  </a:gs>
                  <a:gs pos="100000">
                    <a:srgbClr val="cc33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0920" y="1413000"/>
            <a:ext cx="44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ищевые доба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ещества природного или искусственного происхождения, используемые для усовершенствования технологий получения продуктов питания, сохранения или придания им необходимых свойств, увеличения сроков хра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788000" y="3933720"/>
            <a:ext cx="396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анитарному законодательству РФ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ищевые доба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природные или синтетические вещества, вводимые в пищевые продукты для придания им заданных свойств и не употребляемые сами по себе в качестве пищевых продуктов или обычных компонентов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7e0b17bb25d3a6926454242e22eff84b"/>
          <p:cNvPicPr/>
          <p:nvPr/>
        </p:nvPicPr>
        <p:blipFill>
          <a:blip r:embed="rId1"/>
          <a:stretch/>
        </p:blipFill>
        <p:spPr>
          <a:xfrm>
            <a:off x="395280" y="377820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300105"/>
          <p:cNvPicPr/>
          <p:nvPr/>
        </p:nvPicPr>
        <p:blipFill>
          <a:blip r:embed="rId2"/>
          <a:stretch/>
        </p:blipFill>
        <p:spPr>
          <a:xfrm>
            <a:off x="5940360" y="981000"/>
            <a:ext cx="28814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1187280" y="333360"/>
            <a:ext cx="66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ОО ПК Амурский напиток «Фау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г. Благовещенск, ул. Полевая, 20 тел:44-54-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95280" y="1773360"/>
          <a:ext cx="8229600" cy="3130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алкогольный, среднегазированный напиток «Саяны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«Сла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ароматизатор «Лимо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краситель «Лимонный коле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азированный  безалкогольный напиток «Тархун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дсластитель «Сла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двуокись углерода Е-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ароматизатор «Пряные травы» с экстрактом эстрагон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2195640" y="404640"/>
            <a:ext cx="56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Молочный комбина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Игнатьевское шоссе; тел: 35-04-7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600200"/>
          <a:ext cx="8229600" cy="4643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 пастеризованное коровь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огурт «Смак» клубника (жирность 1,5%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 «Кроун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ароматизатор идентичный натурально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краситель Понсо 4R Е-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аменилевый крас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огурт молочный полужирный «Ананас» (жирность 1,5%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 «Кроун»2.фруктовый наполн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cc00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2268360" y="260280"/>
            <a:ext cx="518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Винный завод «Благовещенск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Благовещенск, пер. Святителя Иннокентия, 9; тел:42-78-6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5280" y="765000"/>
          <a:ext cx="8497800" cy="137160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13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Прозрачный лимон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одсластитель аспартам  Е -9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ароматизатор «Лимо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двуокись углерода Е-2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,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23"/>
          <p:cNvSpPr/>
          <p:nvPr/>
        </p:nvSpPr>
        <p:spPr>
          <a:xfrm>
            <a:off x="1116000" y="2276640"/>
            <a:ext cx="626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я «Макла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Шимановского, 276; тел:35-47-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50920" y="2852640"/>
          <a:ext cx="8569080" cy="1081080"/>
        </p:xfrm>
        <a:graphic>
          <a:graphicData uri="http://schemas.openxmlformats.org/drawingml/2006/table">
            <a:tbl>
              <a:tblPr/>
              <a:tblGrid>
                <a:gridCol w="2795400"/>
                <a:gridCol w="2797200"/>
                <a:gridCol w="2976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леты «Домашни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пе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лачи «Домашние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да пищев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 Box 55"/>
          <p:cNvSpPr/>
          <p:nvPr/>
        </p:nvSpPr>
        <p:spPr>
          <a:xfrm>
            <a:off x="1835280" y="4076640"/>
            <a:ext cx="51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Амурский кристал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Благовещенск, ул. Пионерская, 2; тел:42-82-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4724280"/>
          <a:ext cx="8351640" cy="792360"/>
        </p:xfrm>
        <a:graphic>
          <a:graphicData uri="http://schemas.openxmlformats.org/drawingml/2006/table">
            <a:tbl>
              <a:tblPr/>
              <a:tblGrid>
                <a:gridCol w="2711160"/>
                <a:gridCol w="2713320"/>
                <a:gridCol w="29271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ток «Экстра ситро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кислота лимонная Е-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онсервант бензонат натрия Е-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116000" y="333360"/>
            <a:ext cx="748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ОО ТПК «Океан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Благовещенск, ул. Набережная,70; тел: 44-82-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55640" y="1052640"/>
          <a:ext cx="7561440" cy="785520"/>
        </p:xfrm>
        <a:graphic>
          <a:graphicData uri="http://schemas.openxmlformats.org/drawingml/2006/table">
            <a:tbl>
              <a:tblPr/>
              <a:tblGrid>
                <a:gridCol w="2232000"/>
                <a:gridCol w="3384720"/>
                <a:gridCol w="1944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баса варёная «Докторская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глюк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карамель Е-25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755640" y="2997360"/>
          <a:ext cx="7561440" cy="884160"/>
        </p:xfrm>
        <a:graphic>
          <a:graphicData uri="http://schemas.openxmlformats.org/drawingml/2006/table">
            <a:tbl>
              <a:tblPr/>
              <a:tblGrid>
                <a:gridCol w="2232000"/>
                <a:gridCol w="3384720"/>
                <a:gridCol w="1944720"/>
              </a:tblGrid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пша  быстрого приготовления со вкусом говядины «Миг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мясной порошок говядин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55640" y="4941720"/>
          <a:ext cx="7561440" cy="517680"/>
        </p:xfrm>
        <a:graphic>
          <a:graphicData uri="http://schemas.openxmlformats.org/drawingml/2006/table">
            <a:tbl>
              <a:tblPr/>
              <a:tblGrid>
                <a:gridCol w="2128680"/>
                <a:gridCol w="3449880"/>
                <a:gridCol w="1982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мбир «Магия», эскимо «Импиратор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эмульг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Text Box 75"/>
          <p:cNvSpPr/>
          <p:nvPr/>
        </p:nvSpPr>
        <p:spPr>
          <a:xfrm>
            <a:off x="1835280" y="2133720"/>
            <a:ext cx="453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П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Первомайская, 17; тел:44-65-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4"/>
          <p:cNvSpPr/>
          <p:nvPr/>
        </p:nvSpPr>
        <p:spPr>
          <a:xfrm>
            <a:off x="1619280" y="4149720"/>
            <a:ext cx="51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Хладокомбинат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Чайковского, 309; тел: 44-02-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539640" y="1557360"/>
          <a:ext cx="8136000" cy="820800"/>
        </p:xfrm>
        <a:graphic>
          <a:graphicData uri="http://schemas.openxmlformats.org/drawingml/2006/table">
            <a:tbl>
              <a:tblPr/>
              <a:tblGrid>
                <a:gridCol w="2737080"/>
                <a:gridCol w="2808000"/>
                <a:gridCol w="259092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мель «Малина», «Барбарис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патока2.подварка цитрусовая3.ароматизатор «Цитрус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39640" y="4005360"/>
          <a:ext cx="8136000" cy="2185920"/>
        </p:xfrm>
        <a:graphic>
          <a:graphicData uri="http://schemas.openxmlformats.org/drawingml/2006/table">
            <a:tbl>
              <a:tblPr/>
              <a:tblGrid>
                <a:gridCol w="2711520"/>
                <a:gridCol w="2833560"/>
                <a:gridCol w="2590920"/>
              </a:tblGrid>
              <a:tr h="21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иски «Ветчинные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табилизатор цвета нитрит натрия Е-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табилизатор консистенции каррагинан Е-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регулятор кислотности пирофосфат Е-4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усилитель аромата и вкуса глутамат натрия Е-6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натар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Text Box 34"/>
          <p:cNvSpPr/>
          <p:nvPr/>
        </p:nvSpPr>
        <p:spPr>
          <a:xfrm>
            <a:off x="2700360" y="549360"/>
            <a:ext cx="475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БЮЛ Бурик М. 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Благовещенск, ул. Текстильная, 120; тел: 36-92-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1692360" y="2852640"/>
            <a:ext cx="45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П Пас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. Свободный, ул. Почтамская,111; тел 2-69-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ccff66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2627280" y="26028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Вывод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116000" y="1125360"/>
            <a:ext cx="6551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мните - в настоящее время нет никого, кто бы точно знал, как работает живой организм, и никого, кто бы мог улучшить его работу. Любая модернизация, модификация продуктов, которые мы употребляем в пищу, неизбежно ухудшает качество этих продуктов для нашего организма, а сами модификации и улучшения, ведут к подрыву здоровья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райтесь употреблять натуральные продукты, которые не содержат синтетических веществ, избегайте обмана собственного организма различными усилителями вкуса, цвета, заменителями сахара. Поверьте - кариес намного приятнее рака щитовидной железы и почечно-каменной болезн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0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116000" y="26028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История пищевых добавок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9280" y="1197000"/>
            <a:ext cx="5545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ьные пищевые добавки(различные специи и приправы, растительные красители и т.д.) известны и используются людьми с древних врем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дство же синтетических пищевых добавок началось только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е. За небольшой промежуток времени они получили широкое распространение во всем мире и на данный момент активно используются во всех сферах пищевой промышл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226161"/>
          <p:cNvPicPr/>
          <p:nvPr/>
        </p:nvPicPr>
        <p:blipFill>
          <a:blip r:embed="rId1"/>
          <a:stretch/>
        </p:blipFill>
        <p:spPr>
          <a:xfrm>
            <a:off x="5707080" y="1341360"/>
            <a:ext cx="3193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755640" y="404640"/>
            <a:ext cx="28447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ff"/>
                </a:solidFill>
                <a:latin typeface="Arial"/>
              </a:rPr>
              <a:t>Е-код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ccff"/>
              </a:solidFill>
              <a:latin typeface="Arial"/>
              <a:ea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50920" y="1268280"/>
            <a:ext cx="38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ьше названия химических веществ писали на этикетках полностью, но это занимало так много места, что в 1953 году в Европе решено было заменить названия химических пищевых добавок одной буквой(Е) с цифровыми код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10-13"/>
          <p:cNvPicPr/>
          <p:nvPr/>
        </p:nvPicPr>
        <p:blipFill>
          <a:blip r:embed="rId1"/>
          <a:stretch/>
        </p:blipFill>
        <p:spPr>
          <a:xfrm>
            <a:off x="250920" y="3933720"/>
            <a:ext cx="4541760" cy="241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219640" y="1125360"/>
          <a:ext cx="3738600" cy="5402520"/>
        </p:xfrm>
        <a:graphic>
          <a:graphicData uri="http://schemas.openxmlformats.org/drawingml/2006/table">
            <a:tbl>
              <a:tblPr/>
              <a:tblGrid>
                <a:gridCol w="1433520"/>
                <a:gridCol w="2305080"/>
              </a:tblGrid>
              <a:tr h="557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100 - E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200 - E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а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300 - E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кисл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400 - E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илиз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500 - E5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ульг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600 - E6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и вкуса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и аром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900 - E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огас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2771640" y="189000"/>
            <a:ext cx="532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ищевые красител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40" name="Picture 5" descr="JET20_small"/>
          <p:cNvPicPr/>
          <p:nvPr/>
        </p:nvPicPr>
        <p:blipFill>
          <a:blip r:embed="rId3"/>
          <a:stretch/>
        </p:blipFill>
        <p:spPr>
          <a:xfrm rot="2529000">
            <a:off x="178920" y="188640"/>
            <a:ext cx="1200240" cy="1218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179280" y="1557360"/>
            <a:ext cx="525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тические пищевые красители - это органические соединения, не встречающиеся в природе. Они не обладают биологической активностью и не содержат ни вкусовых веществ, ни витаминов. При этом они обладают значительными технологическими преимуществами по сравнению с натуральными, поскольку менее чувствительны к условиям технологической переработки и хранения, а также дают яркие, легковоспроизводимые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krasitel"/>
          <p:cNvPicPr/>
          <p:nvPr/>
        </p:nvPicPr>
        <p:blipFill>
          <a:blip r:embed="rId4"/>
          <a:stretch/>
        </p:blipFill>
        <p:spPr>
          <a:xfrm rot="20286600">
            <a:off x="5594400" y="1268280"/>
            <a:ext cx="3549600" cy="2313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4694680_1898560_Kartinka_13"/>
          <p:cNvPicPr/>
          <p:nvPr/>
        </p:nvPicPr>
        <p:blipFill>
          <a:blip r:embed="rId5"/>
          <a:stretch/>
        </p:blipFill>
        <p:spPr>
          <a:xfrm rot="846000">
            <a:off x="5219640" y="4076280"/>
            <a:ext cx="3529080" cy="2565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7"/>
          <p:cNvPicPr/>
          <p:nvPr/>
        </p:nvPicPr>
        <p:blipFill>
          <a:blip r:embed="rId6"/>
          <a:stretch/>
        </p:blipFill>
        <p:spPr>
          <a:xfrm>
            <a:off x="2771640" y="4581360"/>
            <a:ext cx="2089440" cy="208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0016A"/>
          <p:cNvPicPr/>
          <p:nvPr/>
        </p:nvPicPr>
        <p:blipFill>
          <a:blip r:embed="rId7"/>
          <a:stretch/>
        </p:blipFill>
        <p:spPr>
          <a:xfrm>
            <a:off x="0" y="4724280"/>
            <a:ext cx="1601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46821E-007 C 0.01441 -0.07468 0.0698 -0.41989 0.14271 -0.44971 C 0.21563 -0.47954 0.45209 -0.25364 0.43768 -0.17896 C 0.42327 -0.10428 0.12865 -0.03052 0.05573 -0.00208 C -0.01718 0.02636 -0.01441 0.07468 -4.44444E-006 -3.46821E-007 Z">
                                      <p:cBhvr>
                                        <p:cTn id="172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340000" y="404640"/>
            <a:ext cx="4294080" cy="98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100000">
                      <a:srgbClr val="cc0099"/>
                    </a:gs>
                  </a:gsLst>
                  <a:lin ang="5400000"/>
                </a:gradFill>
                <a:latin typeface="Arial"/>
              </a:rPr>
              <a:t>Консервант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100000">
                    <a:srgbClr val="cc00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50920" y="162864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ерванты повышают срок хранения продуктов, защищая их от микробов, грибков, бактериофагов. Это химические стерилизующие доба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780000" y="429264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 каждого консерванта зависит от его концентрации в продукте. Разные консерванты обладают различной антимикробной активностью, поэтому иногда для усиления действия используют сочетание нескольких таких веществ. Практически ни один консервант не является универса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Вино"/>
          <p:cNvPicPr/>
          <p:nvPr/>
        </p:nvPicPr>
        <p:blipFill>
          <a:blip r:embed="rId1"/>
          <a:stretch/>
        </p:blipFill>
        <p:spPr>
          <a:xfrm>
            <a:off x="250920" y="2852640"/>
            <a:ext cx="3174840" cy="2832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324000" y="5734080"/>
            <a:ext cx="32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увеличения срока хранения определенных сортов вин используется диоксид серы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076720" y="1484280"/>
            <a:ext cx="36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льфиты – применяются в качестве отбеливающего материала, предохраняющего очищенный картофель, резаные плоды и овощи от потем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468360" y="0"/>
            <a:ext cx="66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"/>
              </a:rPr>
              <a:t>Антиокислители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"/>
              <a:ea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50920" y="141300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антиокислителям относятся вещества, защищающие жиры и жиросодержащие продукты от прогоркания, замедляющие окисление в первую очередь ненасыщенных жирных кислот, входящих в состав лип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4500720" y="4149720"/>
            <a:ext cx="446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мощи антиокислителей можно предохранить фрукты, овощи и продукты их переработки от потемнения, замедлить ферментативное окисление вина, пива и безалкогольных напитков. В результате сроки хранения этих продуктов увеличиваются в несколько ра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photo_menu2big"/>
          <p:cNvPicPr/>
          <p:nvPr/>
        </p:nvPicPr>
        <p:blipFill>
          <a:blip r:embed="rId1"/>
          <a:stretch/>
        </p:blipFill>
        <p:spPr>
          <a:xfrm>
            <a:off x="4822920" y="981000"/>
            <a:ext cx="4321080" cy="286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261"/>
          <p:cNvPicPr/>
          <p:nvPr/>
        </p:nvPicPr>
        <p:blipFill>
          <a:blip r:embed="rId2"/>
          <a:stretch/>
        </p:blipFill>
        <p:spPr>
          <a:xfrm>
            <a:off x="468360" y="3789360"/>
            <a:ext cx="3809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8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1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3959280" y="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табилизаторы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79280" y="98100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билизаторы - вещества позволяющие сохранить однородную смесь двух или более несмешиваемых веществ в пищевом продукте или в готовой пище. Стабилизаторы сохраняют консистенцию продук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754"/>
          <p:cNvPicPr/>
          <p:nvPr/>
        </p:nvPicPr>
        <p:blipFill>
          <a:blip r:embed="rId1"/>
          <a:stretch/>
        </p:blipFill>
        <p:spPr>
          <a:xfrm>
            <a:off x="4170240" y="836640"/>
            <a:ext cx="49737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9:31:15Z</dcterms:created>
  <dc:creator>Administrator</dc:creator>
  <dc:description/>
  <dc:language>en-US</dc:language>
  <cp:lastModifiedBy>Пользователь</cp:lastModifiedBy>
  <dcterms:modified xsi:type="dcterms:W3CDTF">2013-06-21T08:54:30Z</dcterms:modified>
  <cp:revision>13</cp:revision>
  <dc:subject/>
  <dc:title>Слайд 1</dc:title>
</cp:coreProperties>
</file>