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85B-06A6-41B4-9126-146E7774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40D-3BC6-476A-8840-3B15876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808-78CD-4487-9632-0517B9B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0CE-3B6D-4E09-83A9-0D63C2E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821-E916-448E-8F69-8E5C5696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A227-1D0F-4FC1-92F4-F8BE99C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575-BEEB-458D-B3B1-9E77C82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6A7E-BC4A-4EF6-91AB-AF9CFA2A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B3AF-FB11-45A7-87A5-48120EE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CD32-CBDE-446A-B1F2-83E5B45B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EC1-A209-4AC1-9581-D82D4E7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82A-6C83-407E-B6CF-500E63E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074-E7B9-4D5A-A44A-FA7EB0A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A1A-3F2B-40AD-B0B1-A2AD2D9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0579-873E-4838-BC7A-0BC3F8C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6125-8B7F-4550-82D2-724284C4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1097-8783-4B9E-9199-CFB938D4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DFA-82B9-4A24-80EB-8218D83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08E-6EC6-4D7C-92EF-ED6CD850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E63-1108-4589-A794-59C9FDF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6CA-188A-4D8E-B4FB-E1EBD6B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0B4-7FC4-45E0-9260-4030DCB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E8F-BBCD-4E24-AFE9-597E0DC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42F-65D8-4B21-A6AE-1A2CFEF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8E9D-0EE6-4622-9CA6-CA29FE64A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9DB-A1F8-493F-B3C1-B49E03A71F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539640" y="2060640"/>
            <a:ext cx="802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6699ff"/>
                    </a:gs>
                    <a:gs pos="100000">
                      <a:srgbClr val="333399"/>
                    </a:gs>
                  </a:gsLst>
                  <a:lin ang="2700000"/>
                </a:gradFill>
                <a:latin typeface="Arial"/>
              </a:rPr>
              <a:t>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6699ff"/>
                  </a:gs>
                  <a:gs pos="100000">
                    <a:srgbClr val="33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684360" y="765000"/>
            <a:ext cx="7515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258920" y="256536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щевые добавки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324000" y="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Загуст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4000" y="76500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400-49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густители, стабилизаторы для повышения вязкости продукта (большинство из них запрещены в РФ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е на организ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болевания пищеварительного трак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 с содержанием этих видов Е-добавок: йогуртовые культуры и майонез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348000" y="456876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устители по химической природе представляют собой линейные или разветвленные полимерные цепи с гидрофильными группами, которые вступают в физическое воздействие с имеющейся в продукте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varetop0001"/>
          <p:cNvPicPr/>
          <p:nvPr/>
        </p:nvPicPr>
        <p:blipFill>
          <a:blip r:embed="rId1"/>
          <a:stretch/>
        </p:blipFill>
        <p:spPr>
          <a:xfrm>
            <a:off x="4643280" y="0"/>
            <a:ext cx="2808360" cy="1924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8137297"/>
          <p:cNvPicPr/>
          <p:nvPr/>
        </p:nvPicPr>
        <p:blipFill>
          <a:blip r:embed="rId2"/>
          <a:stretch/>
        </p:blipFill>
        <p:spPr>
          <a:xfrm>
            <a:off x="5732640" y="2060640"/>
            <a:ext cx="3411360" cy="2562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7100050b"/>
          <p:cNvPicPr/>
          <p:nvPr/>
        </p:nvPicPr>
        <p:blipFill>
          <a:blip r:embed="rId3"/>
          <a:stretch/>
        </p:blipFill>
        <p:spPr>
          <a:xfrm>
            <a:off x="0" y="3684600"/>
            <a:ext cx="3311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124000" y="189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de04"/>
                </a:solidFill>
                <a:latin typeface="Arial"/>
              </a:rPr>
              <a:t>Эмульг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cde04"/>
              </a:solidFill>
              <a:latin typeface="Arial"/>
              <a:ea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68360" y="981000"/>
            <a:ext cx="46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ульгаторы добавляются в пищевые продукты с целью создания и стабилизации эмульсий и других пищевых дисперсных систем. Они отвечают за взаимное распределение двух несмешивающихся фаз, за консистенцию пищевого продукта, его пластические свойства, вязкость и ощущение "наполненности" во р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dirol"/>
          <p:cNvPicPr/>
          <p:nvPr/>
        </p:nvPicPr>
        <p:blipFill>
          <a:blip r:embed="rId1"/>
          <a:stretch/>
        </p:blipFill>
        <p:spPr>
          <a:xfrm>
            <a:off x="250920" y="836640"/>
            <a:ext cx="2019240" cy="25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Копия dirol"/>
          <p:cNvPicPr/>
          <p:nvPr/>
        </p:nvPicPr>
        <p:blipFill>
          <a:blip r:embed="rId2"/>
          <a:stretch/>
        </p:blipFill>
        <p:spPr>
          <a:xfrm>
            <a:off x="2484360" y="371628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S6002272"/>
          <p:cNvPicPr/>
          <p:nvPr/>
        </p:nvPicPr>
        <p:blipFill>
          <a:blip r:embed="rId3"/>
          <a:stretch/>
        </p:blipFill>
        <p:spPr>
          <a:xfrm>
            <a:off x="6551640" y="1125360"/>
            <a:ext cx="259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900000" y="18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нтенсификаторы вк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4000" y="12682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усилители вкуса представляют собой белые кристаллические порошки, прекрасно растворимые в воде. Усилители вкуса, как правило, добавляют в продукт в смеси с другими порошкообразными компонентами или в виде водного раствора. Усилители вкуса и аромата достаточно устойчивы в обычных условиях производства и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i_1025684070_spec"/>
          <p:cNvPicPr/>
          <p:nvPr/>
        </p:nvPicPr>
        <p:blipFill>
          <a:blip r:embed="rId1"/>
          <a:stretch/>
        </p:blipFill>
        <p:spPr>
          <a:xfrm rot="2243400">
            <a:off x="5292360" y="3499920"/>
            <a:ext cx="1666800" cy="2490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491"/>
          <p:cNvPicPr/>
          <p:nvPr/>
        </p:nvPicPr>
        <p:blipFill>
          <a:blip r:embed="rId2"/>
          <a:stretch/>
        </p:blipFill>
        <p:spPr>
          <a:xfrm rot="19803000">
            <a:off x="6659640" y="907560"/>
            <a:ext cx="2239920" cy="302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622_big"/>
          <p:cNvPicPr/>
          <p:nvPr/>
        </p:nvPicPr>
        <p:blipFill>
          <a:blip r:embed="rId3"/>
          <a:stretch/>
        </p:blipFill>
        <p:spPr>
          <a:xfrm rot="18011400">
            <a:off x="1807920" y="482400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2268360" y="26028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ромат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2123640" y="126828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4427640" y="1268280"/>
            <a:ext cx="144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724360" y="126828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82692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700360" y="3645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чные натур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796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spisok2"/>
          <p:cNvPicPr/>
          <p:nvPr/>
        </p:nvPicPr>
        <p:blipFill>
          <a:blip r:embed="rId1"/>
          <a:stretch/>
        </p:blipFill>
        <p:spPr>
          <a:xfrm>
            <a:off x="3708360" y="4149720"/>
            <a:ext cx="1397160" cy="2400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 (700x558, 188Kb)"/>
          <p:cNvPicPr/>
          <p:nvPr/>
        </p:nvPicPr>
        <p:blipFill>
          <a:blip r:embed="rId2"/>
          <a:stretch/>
        </p:blipFill>
        <p:spPr>
          <a:xfrm>
            <a:off x="5940360" y="3645000"/>
            <a:ext cx="3046320" cy="2428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 (700x525, 148Kb)"/>
          <p:cNvPicPr/>
          <p:nvPr/>
        </p:nvPicPr>
        <p:blipFill>
          <a:blip r:embed="rId3"/>
          <a:stretch/>
        </p:blipFill>
        <p:spPr>
          <a:xfrm>
            <a:off x="179280" y="407664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6243144_Marshmellows_by_Lou_HotChocolate"/>
          <p:cNvPicPr/>
          <p:nvPr/>
        </p:nvPicPr>
        <p:blipFill>
          <a:blip r:embed="rId1"/>
          <a:stretch/>
        </p:blipFill>
        <p:spPr>
          <a:xfrm>
            <a:off x="5472000" y="2421000"/>
            <a:ext cx="3672000" cy="165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IMG0017A"/>
          <p:cNvPicPr/>
          <p:nvPr/>
        </p:nvPicPr>
        <p:blipFill>
          <a:blip r:embed="rId2"/>
          <a:stretch/>
        </p:blipFill>
        <p:spPr>
          <a:xfrm>
            <a:off x="1908000" y="321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IMG0021A"/>
          <p:cNvPicPr/>
          <p:nvPr/>
        </p:nvPicPr>
        <p:blipFill>
          <a:blip r:embed="rId3"/>
          <a:stretch/>
        </p:blipFill>
        <p:spPr>
          <a:xfrm>
            <a:off x="4211640" y="32130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1116000" y="189000"/>
            <a:ext cx="6991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веторегулирующие материал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84360" y="981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относятся соединения, изменяющие окраску продукта в результате взаимодействия с компонентами пищевого сырья и готовых продуктов. Среди них необходимо отметить отбеливающие вещества – добавки, разрушающие природные пигменты или окрашенные вещества, которые образуются при получении пищевых 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19973235_3298282_1168837_17733461_kartino4ki1142327070_i_1091"/>
          <p:cNvPicPr/>
          <p:nvPr/>
        </p:nvPicPr>
        <p:blipFill>
          <a:blip r:embed="rId4"/>
          <a:stretch/>
        </p:blipFill>
        <p:spPr>
          <a:xfrm>
            <a:off x="0" y="2637000"/>
            <a:ext cx="2411280" cy="1812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0" y="484344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три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и нитра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лия применяют при обработке мяса и мясных продуктов для сохранения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622920" y="4019400"/>
            <a:ext cx="25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мат калия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меняют в качестве отбеливателя муки, однако его использование приводит к разрушению витаминов В1, РР и метио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979640" y="260280"/>
            <a:ext cx="51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енообразова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1197000"/>
            <a:ext cx="324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процессом понимают способность белков образовывать высококонцентрированные системы жидкость-газ. Такие системы называют пенами. Устойчивость пены, в которой белок является пенообразователем, зависит не только от его природы, но и от концентрации, а также от температуры. Белки в качестве пенообразователей широко используются в кондитерской промышленности (пастила, зефир, суф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5" descr="38_394_359"/>
          <p:cNvPicPr/>
          <p:nvPr/>
        </p:nvPicPr>
        <p:blipFill>
          <a:blip r:embed="rId1"/>
          <a:stretch/>
        </p:blipFill>
        <p:spPr>
          <a:xfrm>
            <a:off x="4716360" y="1844640"/>
            <a:ext cx="423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кие пищевые добавки следует избе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02, 104, 107, 110, 122-124, 127-129, 132, 133, 142, 151, 155, 160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серван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00–203, 210–213, 220–225, 228, 249–252, 280–283, 310-312, 319–32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густ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07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илители аромат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20–625, 627, 631, 6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кусственные заменители сахар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950–952,954–95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2" descr="Spe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прещен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J0382947"/>
          <p:cNvPicPr/>
          <p:nvPr/>
        </p:nvPicPr>
        <p:blipFill>
          <a:blip r:embed="rId2"/>
          <a:srcRect l="8481" t="7913" r="6817" b="8969"/>
          <a:stretch/>
        </p:blipFill>
        <p:spPr>
          <a:xfrm>
            <a:off x="1979640" y="1341360"/>
            <a:ext cx="3960720" cy="43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ГАЛЯ\Рабочий стол\Пищевые добавки и БАДы\Здравый смысл на букву «Е».files\1170070694694.jpg"/>
          <p:cNvPicPr/>
          <p:nvPr/>
        </p:nvPicPr>
        <p:blipFill>
          <a:blip r:embed="rId3"/>
          <a:stretch/>
        </p:blipFill>
        <p:spPr>
          <a:xfrm>
            <a:off x="4932360" y="1413000"/>
            <a:ext cx="147636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105"/>
          <p:cNvPicPr/>
          <p:nvPr/>
        </p:nvPicPr>
        <p:blipFill>
          <a:blip r:embed="rId4"/>
          <a:stretch/>
        </p:blipFill>
        <p:spPr>
          <a:xfrm>
            <a:off x="5940360" y="134136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Vaca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Vaca09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0680"/>
                </a:solidFill>
                <a:latin typeface="Arial"/>
              </a:rPr>
              <a:t>Опасные и подозритель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асные: Е 102, Е 110, Е 120,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4,Е 127, Е 129,Е 155,Е 180,Е 20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 22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озрительные: Е 104, Е 122,             Е 141, Е 150, Е 171, Е 173, Е 180, Е 241, Е 477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кишечника: Е 221- 22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желудка:     Е 338-341, Е 407, Е 450, Е 461-46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щшш"/>
          <p:cNvPicPr/>
          <p:nvPr/>
        </p:nvPicPr>
        <p:blipFill>
          <a:blip r:embed="rId3"/>
          <a:stretch/>
        </p:blipFill>
        <p:spPr>
          <a:xfrm>
            <a:off x="7308720" y="1197000"/>
            <a:ext cx="1582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Spec0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чень опасные пищевые  добав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ообразующие: Е 131, Е 210-217,  Е 240, Е 330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ные для кожи: Е 230-232, Е 239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ывающие нарушение давления: Е 250, Е 25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лергические (вызывающие появление сыпи): Е 311, Е 312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ающие холестерин: Е 320, Е 32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file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428840" y="1000080"/>
            <a:ext cx="59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ее время для изготовления продуктов питания стало использоваться большое количество различных пищевых добавок. Они делают нашу пищу более привлекательной на вид и на вкус, позволяют долгое время сохранять продукты свежими. Но не все  пищевые добавки безопасны для нашего здоровья. Какие же из них делают пищу более полезной, а какие могут навредить нам, как это можно установить экспериментально, используя различные продукты питания? Ведь нам важно, что мы едим и пьём. Для того чтобы разобраться во всём этом мы выбрали именно эту тему для наш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10"/>
          <p:cNvPicPr/>
          <p:nvPr/>
        </p:nvPicPr>
        <p:blipFill>
          <a:blip r:embed="rId1"/>
          <a:stretch/>
        </p:blipFill>
        <p:spPr>
          <a:xfrm>
            <a:off x="108000" y="4653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15_b_1114850310"/>
          <p:cNvPicPr/>
          <p:nvPr/>
        </p:nvPicPr>
        <p:blipFill>
          <a:blip r:embed="rId2"/>
          <a:stretch/>
        </p:blipFill>
        <p:spPr>
          <a:xfrm>
            <a:off x="0" y="1341360"/>
            <a:ext cx="16128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ckgrounds[1][1]"/>
          <p:cNvPicPr/>
          <p:nvPr/>
        </p:nvPicPr>
        <p:blipFill>
          <a:blip r:embed="rId3"/>
          <a:stretch/>
        </p:blipFill>
        <p:spPr>
          <a:xfrm>
            <a:off x="3203640" y="4437000"/>
            <a:ext cx="2663640" cy="2462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684360" y="189000"/>
            <a:ext cx="712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проекта.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S6000560"/>
          <p:cNvPicPr/>
          <p:nvPr/>
        </p:nvPicPr>
        <p:blipFill>
          <a:blip r:embed="rId4"/>
          <a:stretch/>
        </p:blipFill>
        <p:spPr>
          <a:xfrm>
            <a:off x="7308720" y="1052640"/>
            <a:ext cx="1706760" cy="29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MG0026A"/>
          <p:cNvPicPr/>
          <p:nvPr/>
        </p:nvPicPr>
        <p:blipFill>
          <a:blip r:embed="rId5"/>
          <a:stretch/>
        </p:blipFill>
        <p:spPr>
          <a:xfrm>
            <a:off x="7215120" y="428616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871 0.01595 C -0.21111 -0.04162 -0.49218 -0.17988 -0.51406 -0.24393 C -0.53593 -0.30798 -0.30885 -0.32439 -0.26979 -0.36832 C -0.23072 -0.41225 -0.30225 -0.57387 -0.27968 -0.50798 C -0.25711 -0.44208 -0.17482 -0.05873 -0.13385 0.02682 C -0.09288 0.11237 -0.04288 -0.00717 -0.03385 0.00509 C -0.02482 0.01734 -0.06215 0.10081 -0.07968 0.10104 C -0.09722 0.10127 -0.06631 0.07353 -0.13871 0.01595 Z">
                                      <p:cBhvr>
                                        <p:cTn id="3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о вредные пищевые добавки Е и запрещённые пищевые доб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сведениям INFO министерства здравоохранения РФ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102; Е 104; Е 110; Е 120; Е 121; Е 122; Е 123; Е 124; Е 127; Е 128; Е 129; Е 131; Е 132; Е 133; Е 142; Е 151; Е 153; Е 154; Е 155; Е 173; Е 174; Е 175; Е 180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214; Е 215; Е 216; Е 217; Е 219; Е 226; Е 227; Е 230; Е 231; Е 233; Е 236; Е 237; Е 238; Е 239; Е 240; Е 249 ... Е 252; Е 296; Е 320; Е 321; Е 620; Е 621; Е 627; Е 631; Е 635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924 а-b; Е 926; Е 951; Е 952; Е 954; Е 957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воём холодильнике вы обнаружили продукты, содержащие хотя бы одну пищевую добавку из этого перечня, то лучшее что вы можете сделать с этим продуктом - выбросить его и больше никогда не покуп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ал и методи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данной научно – исследовательской работы на наличие добавок в составе пищевой продукции были проверены 16 предприятий, в том числе четверо частных предпринимателей. Все эти предприятия осуществляют свою деятельность на территории Амурской области. Полученные данные были сведены в таблицу. Кроме названия фирмы и перечисления всех пищевых добавок в составе продукта, в таблице указаны некоторые отрицательные свойства этих добавок, сказывающиеся на здоровье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К – пищевые добавки вызывающие кишечные рас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Ж – вызывают расстройства желу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 – артериальное д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 – высыпания на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– сып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– повышают уровень холес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 – раков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– опас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 – болезни печени и поч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К – желудочно-кишечн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– аллерг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324000" y="692280"/>
          <a:ext cx="8280360" cy="6510240"/>
        </p:xfrm>
        <a:graphic>
          <a:graphicData uri="http://schemas.openxmlformats.org/drawingml/2006/table">
            <a:tbl>
              <a:tblPr/>
              <a:tblGrid>
                <a:gridCol w="2760480"/>
                <a:gridCol w="4367160"/>
                <a:gridCol w="115272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ДУ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ИЩЕВЫХ ДОБА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ильногазированный, низкокалорийный напиток «Дюше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олер сахарный Е-150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Черни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 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Кол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ерсик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Text Box 127"/>
          <p:cNvSpPr/>
          <p:nvPr/>
        </p:nvSpPr>
        <p:spPr>
          <a:xfrm>
            <a:off x="826920" y="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я  «АСАР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. Благовещенск, 1-ый км. Новотроицкого шоссе тел. 35-01-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24000" y="295200"/>
          <a:ext cx="8229600" cy="6448680"/>
        </p:xfrm>
        <a:graphic>
          <a:graphicData uri="http://schemas.openxmlformats.org/drawingml/2006/table">
            <a:tbl>
              <a:tblPr/>
              <a:tblGrid>
                <a:gridCol w="2743200"/>
                <a:gridCol w="4457520"/>
                <a:gridCol w="1028880"/>
              </a:tblGrid>
              <a:tr h="21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Монинг –Дью», «Апельсин», «Земляника со сливками», «Лич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Джойс со вкусом свежего апельсин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глекислый г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ыр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сантановая камедь Е-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уаровая камедь Е-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ливоч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24000" y="333360"/>
          <a:ext cx="8640720" cy="4525920"/>
        </p:xfrm>
        <a:graphic>
          <a:graphicData uri="http://schemas.openxmlformats.org/drawingml/2006/table">
            <a:tbl>
              <a:tblPr/>
              <a:tblGrid>
                <a:gridCol w="2879640"/>
                <a:gridCol w="4681440"/>
                <a:gridCol w="1079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страд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желирующий агент агар Е-4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тичье молок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ин», «Ром»,  «Миндаль»,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желирующий агент агар Е-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ые красит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нанас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Анана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ска», «Красная шапоч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4869000"/>
          <a:ext cx="8640720" cy="1152360"/>
        </p:xfrm>
        <a:graphic>
          <a:graphicData uri="http://schemas.openxmlformats.org/drawingml/2006/table">
            <a:tbl>
              <a:tblPr/>
              <a:tblGrid>
                <a:gridCol w="2890800"/>
                <a:gridCol w="4670280"/>
                <a:gridCol w="10796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и мушкетёр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Сливоч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79280" y="260280"/>
          <a:ext cx="8425080" cy="454680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т в сапогах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гад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Цитру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цитрус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евестн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йч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дварка морков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рёмуш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Пунше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9280" y="4797360"/>
          <a:ext cx="8425080" cy="188136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вёзд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мурские зор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Чёрная смородин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чёрносмород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57200" y="765000"/>
          <a:ext cx="8229600" cy="594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Молочно-орехо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Щелкунч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орехов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Орешек», «Дюймов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Фантаз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Грецкий орех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» с ороматом коф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ароматизатор «Ванилин», «Коф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32"/>
          <p:cNvSpPr/>
          <p:nvPr/>
        </p:nvSpPr>
        <p:spPr>
          <a:xfrm>
            <a:off x="1258920" y="189000"/>
            <a:ext cx="69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ая кондитерская фабрика «Зе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Ленина,18; тел: 44-66-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274680"/>
          <a:ext cx="8229600" cy="6707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Благовещенское», «Нежно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ароматизатор «Ванили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Сливоч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роматизатор «Сливк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 с банановым вкус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ислота лимонная Е-3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ароматизатор «Банановый»,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Мозай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бонат аммония Е-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 «Сливоч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24000" y="90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мелад «Апельсиновые и ванильные дольк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ектин цитрус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цитрат натрия Е -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желирующий агент агар Е-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же «Пасхаль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о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арафин Е-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тальк Е-5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76360" y="26028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Белогорская кондитерская фабрика «Асар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елогорск, ул. Кирова,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125360"/>
          <a:ext cx="8229600" cy="5000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Забав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Театраль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Взлёт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116000" y="260280"/>
            <a:ext cx="69627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800080"/>
                    </a:gs>
                    <a:gs pos="100000">
                      <a:srgbClr val="cc3399"/>
                    </a:gs>
                  </a:gsLst>
                  <a:lin ang="5400000"/>
                </a:gradFill>
                <a:latin typeface="Arial"/>
              </a:rPr>
              <a:t>Что такое пищевые добавки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800080"/>
                  </a:gs>
                  <a:gs pos="100000">
                    <a:srgbClr val="cc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0920" y="1413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щества природного или искусственного происхождения, используемые для усовершенствования технологий получения продуктов питания, сохранения или придания им необходимых свойств, увеличения сроков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88000" y="393372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анитарному законодательству РФ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риродные или синтетические вещества, вводимые в пищевые продукты для придания им заданных свойств и не употребляемые сами по себе в качестве пищевых продуктов или обычных компонентов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7e0b17bb25d3a6926454242e22eff84b"/>
          <p:cNvPicPr/>
          <p:nvPr/>
        </p:nvPicPr>
        <p:blipFill>
          <a:blip r:embed="rId1"/>
          <a:stretch/>
        </p:blipFill>
        <p:spPr>
          <a:xfrm>
            <a:off x="395280" y="37782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300105"/>
          <p:cNvPicPr/>
          <p:nvPr/>
        </p:nvPicPr>
        <p:blipFill>
          <a:blip r:embed="rId2"/>
          <a:stretch/>
        </p:blipFill>
        <p:spPr>
          <a:xfrm>
            <a:off x="5940360" y="981000"/>
            <a:ext cx="28814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187280" y="333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ПК Амурский напиток «Фау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г. Благовещенск, ул. Полевая, 20 тел:44-54-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5280" y="1773360"/>
          <a:ext cx="8229600" cy="313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реднегазированный напиток «Саян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раситель «Лимонный коле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азированный  безалкогольный напиток «Тарху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«Пряные травы» с экстрактом эстраго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195640" y="404640"/>
            <a:ext cx="56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Молочный комбина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Игнатьевское шоссе; тел: 35-04-7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пастеризованное коровь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«Смак» клубника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 Понсо 4R Е-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менилевый 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молочный полужирный «Ананас»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2.фруктовый на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00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268360" y="260280"/>
            <a:ext cx="518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Винный завод «Благовещен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пер. Святителя Иннокентия, 9; тел:42-78-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765000"/>
          <a:ext cx="8497800" cy="137160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3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розрачный лимо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одсластитель аспартам 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3"/>
          <p:cNvSpPr/>
          <p:nvPr/>
        </p:nvSpPr>
        <p:spPr>
          <a:xfrm>
            <a:off x="1116000" y="2276640"/>
            <a:ext cx="62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«Макла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Шимановского, 276; тел:35-47-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2852640"/>
          <a:ext cx="8569080" cy="1081080"/>
        </p:xfrm>
        <a:graphic>
          <a:graphicData uri="http://schemas.openxmlformats.org/drawingml/2006/table">
            <a:tbl>
              <a:tblPr/>
              <a:tblGrid>
                <a:gridCol w="2795400"/>
                <a:gridCol w="2797200"/>
                <a:gridCol w="29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леты «Домашни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е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чи «Домашни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да пищев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55"/>
          <p:cNvSpPr/>
          <p:nvPr/>
        </p:nvSpPr>
        <p:spPr>
          <a:xfrm>
            <a:off x="1835280" y="407664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Амурский кристал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Пионерская, 2; тел:42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4724280"/>
          <a:ext cx="8351640" cy="792360"/>
        </p:xfrm>
        <a:graphic>
          <a:graphicData uri="http://schemas.openxmlformats.org/drawingml/2006/table">
            <a:tbl>
              <a:tblPr/>
              <a:tblGrid>
                <a:gridCol w="2711160"/>
                <a:gridCol w="2713320"/>
                <a:gridCol w="29271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Экстра ситр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16000" y="333360"/>
            <a:ext cx="74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ТПК «Океан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Набережная,70; тел: 44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55640" y="1052640"/>
          <a:ext cx="7561440" cy="78552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баса варёная «Докторск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глю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амель Е-25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55640" y="2997360"/>
          <a:ext cx="7561440" cy="88416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пша  быстрого приготовления со вкусом говядины «Миг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ясной порошок говядин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5640" y="4941720"/>
          <a:ext cx="7561440" cy="517680"/>
        </p:xfrm>
        <a:graphic>
          <a:graphicData uri="http://schemas.openxmlformats.org/drawingml/2006/table">
            <a:tbl>
              <a:tblPr/>
              <a:tblGrid>
                <a:gridCol w="2128680"/>
                <a:gridCol w="3449880"/>
                <a:gridCol w="198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мбир «Магия», эскимо «Импира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75"/>
          <p:cNvSpPr/>
          <p:nvPr/>
        </p:nvSpPr>
        <p:spPr>
          <a:xfrm>
            <a:off x="1835280" y="213372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П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Первомайская, 17; тел:44-65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1619280" y="4149720"/>
            <a:ext cx="51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Хладокомбин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Чайковского, 309; тел: 44-02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1557360"/>
          <a:ext cx="8136000" cy="820800"/>
        </p:xfrm>
        <a:graphic>
          <a:graphicData uri="http://schemas.openxmlformats.org/drawingml/2006/table">
            <a:tbl>
              <a:tblPr/>
              <a:tblGrid>
                <a:gridCol w="2737080"/>
                <a:gridCol w="2808000"/>
                <a:gridCol w="25909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Малина», «Барбарис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атока2.подварка цитрусовая3.ароматизатор «Цитру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005360"/>
          <a:ext cx="8136000" cy="2185920"/>
        </p:xfrm>
        <a:graphic>
          <a:graphicData uri="http://schemas.openxmlformats.org/drawingml/2006/table">
            <a:tbl>
              <a:tblPr/>
              <a:tblGrid>
                <a:gridCol w="2711520"/>
                <a:gridCol w="2833560"/>
                <a:gridCol w="25909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иски «Ветчин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цвета нитрит натрия Е-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 консистенции каррагинан Е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егулятор кислотности пирофосфат Е-4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силитель аромата и вкуса глутамат натрия Е-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нат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4"/>
          <p:cNvSpPr/>
          <p:nvPr/>
        </p:nvSpPr>
        <p:spPr>
          <a:xfrm>
            <a:off x="2700360" y="549360"/>
            <a:ext cx="47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БЮЛ Бурик М. 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Текстильная, 120; тел: 36-92-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1692360" y="285264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П Пас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Свободный, ул. Почтамская,111; тел 2-69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ff66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627280" y="260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ыв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16000" y="1125360"/>
            <a:ext cx="65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ните - в настоящее время нет никого, кто бы точно знал, как работает живой организм, и никого, кто бы мог улучшить его работу. Любая модернизация, модификация продуктов, которые мы употребляем в пищу, неизбежно ухудшает качество этих продуктов для нашего организма, а сами модификации и улучшения, ведут к подрыву здоровья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айтесь употреблять натуральные продукты, которые не содержат синтетических веществ, избегайте обмана собственного организма различными усилителями вкуса, цвета, заменителями сахара. Поверьте - кариес намного приятнее рака щитовидной железы и почечно-каменной болезн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116000" y="26028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стория пищевых добавок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1197000"/>
            <a:ext cx="5545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ые пищевые добавки(различные специи и приправы, растительные красители и т.д.) известны и используются людьми с древних вре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же синтетических пищевых добавок началось тольк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. За небольшой промежуток времени они получили широкое распространение во всем мире и на данный момент активно используются во всех сферах пищево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26161"/>
          <p:cNvPicPr/>
          <p:nvPr/>
        </p:nvPicPr>
        <p:blipFill>
          <a:blip r:embed="rId1"/>
          <a:stretch/>
        </p:blipFill>
        <p:spPr>
          <a:xfrm>
            <a:off x="5707080" y="1341360"/>
            <a:ext cx="3193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755640" y="404640"/>
            <a:ext cx="2844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Е-к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12682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названия химических веществ писали на этикетках полностью, но это занимало так много места, что в 1953 году в Европе решено было заменить названия химических пищевых добавок одной буквой(Е) с цифровыми к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0-13"/>
          <p:cNvPicPr/>
          <p:nvPr/>
        </p:nvPicPr>
        <p:blipFill>
          <a:blip r:embed="rId1"/>
          <a:stretch/>
        </p:blipFill>
        <p:spPr>
          <a:xfrm>
            <a:off x="250920" y="3933720"/>
            <a:ext cx="4541760" cy="241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219640" y="1125360"/>
          <a:ext cx="3738600" cy="5402520"/>
        </p:xfrm>
        <a:graphic>
          <a:graphicData uri="http://schemas.openxmlformats.org/drawingml/2006/table">
            <a:tbl>
              <a:tblPr/>
              <a:tblGrid>
                <a:gridCol w="1433520"/>
                <a:gridCol w="2305080"/>
              </a:tblGrid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0 - E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00 - E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00 - E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00 - E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00 - E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00 - E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и аро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00 - E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2771640" y="18900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ищевые крас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0" name="Picture 5" descr="JET20_small"/>
          <p:cNvPicPr/>
          <p:nvPr/>
        </p:nvPicPr>
        <p:blipFill>
          <a:blip r:embed="rId3"/>
          <a:stretch/>
        </p:blipFill>
        <p:spPr>
          <a:xfrm rot="2529000">
            <a:off x="178920" y="188640"/>
            <a:ext cx="1200240" cy="121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79280" y="1557360"/>
            <a:ext cx="52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тические пищевые красители - это органические соединения, не встречающиеся в природе. Они не обладают биологической активностью и не содержат ни вкусовых веществ, ни витаминов. При этом они обладают значительными технологическими преимуществами по сравнению с натуральными, поскольку менее чувствительны к условиям технологической переработки и хранения, а также дают яркие, легковоспроизводим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krasitel"/>
          <p:cNvPicPr/>
          <p:nvPr/>
        </p:nvPicPr>
        <p:blipFill>
          <a:blip r:embed="rId4"/>
          <a:stretch/>
        </p:blipFill>
        <p:spPr>
          <a:xfrm rot="20286600">
            <a:off x="5594400" y="1268280"/>
            <a:ext cx="3549600" cy="23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4694680_1898560_Kartinka_13"/>
          <p:cNvPicPr/>
          <p:nvPr/>
        </p:nvPicPr>
        <p:blipFill>
          <a:blip r:embed="rId5"/>
          <a:stretch/>
        </p:blipFill>
        <p:spPr>
          <a:xfrm rot="846000">
            <a:off x="5219640" y="4076280"/>
            <a:ext cx="3529080" cy="256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7"/>
          <p:cNvPicPr/>
          <p:nvPr/>
        </p:nvPicPr>
        <p:blipFill>
          <a:blip r:embed="rId6"/>
          <a:stretch/>
        </p:blipFill>
        <p:spPr>
          <a:xfrm>
            <a:off x="2771640" y="458136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0016A"/>
          <p:cNvPicPr/>
          <p:nvPr/>
        </p:nvPicPr>
        <p:blipFill>
          <a:blip r:embed="rId7"/>
          <a:stretch/>
        </p:blipFill>
        <p:spPr>
          <a:xfrm>
            <a:off x="0" y="4724280"/>
            <a:ext cx="1601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6821E-007 C 0.01441 -0.07468 0.0698 -0.41989 0.14271 -0.44971 C 0.21563 -0.47954 0.45209 -0.25364 0.43768 -0.17896 C 0.42327 -0.10428 0.12865 -0.03052 0.05573 -0.00208 C -0.01718 0.02636 -0.01441 0.07468 -4.44444E-006 -3.46821E-007 Z">
                                      <p:cBhvr>
                                        <p:cTn id="17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340000" y="404640"/>
            <a:ext cx="4294080" cy="9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Arial"/>
              </a:rPr>
              <a:t>Консервант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cc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50920" y="1628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ерванты повышают срок хранения продуктов, защищая их от микробов, грибков, бактериофагов. Это химические стерилизующие доб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780000" y="429264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каждого консерванта зависит от его концентрации в продукте. Разные консерванты обладают различной антимикробной активностью, поэтому иногда для усиления действия используют сочетание нескольких таких веществ. Практически ни один консервант не является универс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Вино"/>
          <p:cNvPicPr/>
          <p:nvPr/>
        </p:nvPicPr>
        <p:blipFill>
          <a:blip r:embed="rId1"/>
          <a:stretch/>
        </p:blipFill>
        <p:spPr>
          <a:xfrm>
            <a:off x="250920" y="2852640"/>
            <a:ext cx="3174840" cy="283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324000" y="573408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увеличения срока хранения определенных сортов вин используется диоксид серы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076720" y="148428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ты – применяются в качестве отбеливающего материала, предохраняющего очищенный картофель, резаные плоды и овощи от потем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468360" y="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нтиокисл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50920" y="141300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антиокислителям относятся вещества, защищающие жиры и жиросодержащие продукты от прогоркания, замедляющие окисление в первую очередь ненасыщенных жирных кислот, входящих в состав лип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00720" y="414972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антиокислителей можно предохранить фрукты, овощи и продукты их переработки от потемнения, замедлить ферментативное окисление вина, пива и безалкогольных напитков. В результате сроки хранения этих продуктов увеличиваются в несколько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photo_menu2big"/>
          <p:cNvPicPr/>
          <p:nvPr/>
        </p:nvPicPr>
        <p:blipFill>
          <a:blip r:embed="rId1"/>
          <a:stretch/>
        </p:blipFill>
        <p:spPr>
          <a:xfrm>
            <a:off x="4822920" y="981000"/>
            <a:ext cx="4321080" cy="286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261"/>
          <p:cNvPicPr/>
          <p:nvPr/>
        </p:nvPicPr>
        <p:blipFill>
          <a:blip r:embed="rId2"/>
          <a:stretch/>
        </p:blipFill>
        <p:spPr>
          <a:xfrm>
            <a:off x="468360" y="378936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959280" y="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бил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9280" y="981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изаторы - вещества позволяющие сохранить однородную смесь двух или более несмешиваемых веществ в пищевом продукте или в готовой пище. Стабилизаторы сохраняют консистенцию продук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754"/>
          <p:cNvPicPr/>
          <p:nvPr/>
        </p:nvPicPr>
        <p:blipFill>
          <a:blip r:embed="rId1"/>
          <a:stretch/>
        </p:blipFill>
        <p:spPr>
          <a:xfrm>
            <a:off x="4170240" y="836640"/>
            <a:ext cx="4973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9:31:15Z</dcterms:created>
  <dc:creator>Administrator</dc:creator>
  <dc:description/>
  <dc:language>en-US</dc:language>
  <cp:lastModifiedBy>Пользователь</cp:lastModifiedBy>
  <dcterms:modified xsi:type="dcterms:W3CDTF">2013-06-21T08:54:30Z</dcterms:modified>
  <cp:revision>13</cp:revision>
  <dc:subject/>
  <dc:title>Слайд 1</dc:title>
</cp:coreProperties>
</file>