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CB2-FA56-42BD-8274-7D5034C1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075-5381-448B-A6F3-9EDBBA5E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E7E-2CB8-498A-BB36-DDF2DAC4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3D3-8684-41D1-87CC-66DD71CD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B8AE-E358-4085-8C29-CA732759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6DE0-574C-4BE0-AD2B-8DC2E153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0EA6-5CFD-4F06-802F-F20BCFD7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8E22-9D6A-4890-909B-18C9C588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AA8F-9068-4106-9D7E-83944CF1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B9B5-68AB-4796-BD76-D0592F75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1F92-CF63-42C1-BD35-FEB08F53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F9E-D97F-42B7-A9EA-DBD902A7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996B-A92B-40E8-A022-7B62DF9A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4499-8DE4-498E-B6E3-BC133232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CD3D-5223-4E97-B4AF-081EB055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79C7-E6C9-4782-BC1E-E3C6DDF4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D532-61E2-42CD-929A-5D70F5B4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FE3-50F6-4BA0-8B3B-5ACCF3D1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2C4-61DC-4CAF-96E3-8218F008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C6F-C36B-4808-AA31-EFAE4C7C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A90-A917-4535-9786-CE67CFC3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69E-EF6F-49A9-AA53-6B74C21B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950-2BA3-451C-BC54-46B64793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628-8AE3-4B9E-BE0D-A397F2A8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7187-7140-4372-A166-336ACA51863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DDB0-2264-442F-A9DA-044A095C767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131920"/>
            <a:ext cx="8353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2378c"/>
                </a:solidFill>
                <a:latin typeface="Monotype Corsiva"/>
              </a:rPr>
              <a:t>Посттромботическая болезнь</a:t>
            </a:r>
            <a:endParaRPr b="1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Показания к оперативному лечению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апанная недостаточность подкожных и перфорантных вен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рецидивирующие трофические язвы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есостоятельность клапанов глубоких вен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сегментарная окклюзия бедренной и подвздошной вен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Виды оперативных вмешательств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даление варикозно расширенных вен с перевязкой перфорантных вен (по Линтону, эндоскопически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бходное шунтирование (операция Пальма, бедренно-подколенное шунтирование с временной артерио-венозной фистулой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реконструкция клапанов, их трансплантация – редко, в специализированных стационарах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эндоскопическое бужирование и стентирование вен при ограниченных  окклюзиях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15560"/>
            <a:ext cx="82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66"/>
                </a:solidFill>
                <a:latin typeface="Comic Sans MS"/>
              </a:rPr>
              <a:t>Операция Троянова-Тренделенбурга, Бэбкока, Нарата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89200" y="1125360"/>
            <a:ext cx="5500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1592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66"/>
                </a:solidFill>
                <a:latin typeface="Comic Sans MS"/>
              </a:rPr>
              <a:t>Операция Линтона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332000" y="758880"/>
            <a:ext cx="66960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15920"/>
            <a:ext cx="8244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6666"/>
                </a:solidFill>
                <a:latin typeface="Comic Sans MS"/>
              </a:rPr>
              <a:t>Операция эндоскопической диссекции перфорантных вен с использованием двухпортовой техники </a:t>
            </a:r>
            <a:r>
              <a:rPr b="0" lang="en-US" sz="3300" spc="-1" strike="noStrike">
                <a:solidFill>
                  <a:srgbClr val="006666"/>
                </a:solidFill>
                <a:latin typeface="Comic Sans MS"/>
              </a:rPr>
              <a:t>SEPS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1636560"/>
            <a:ext cx="6624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1592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Comic Sans MS"/>
              </a:rPr>
              <a:t>Операция Пальма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41560" y="765000"/>
            <a:ext cx="525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mic Sans MS"/>
              </a:rPr>
              <a:t>Интравазальная вальвулопластика по Кистнеру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41480" y="765000"/>
            <a:ext cx="5464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15920"/>
            <a:ext cx="82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Comic Sans MS"/>
              </a:rPr>
              <a:t>Экстравазальная коррекция клапанов каркасной спиралью по А.Н. Веденскому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09520" y="1052640"/>
            <a:ext cx="4481640" cy="561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757760" y="1052640"/>
            <a:ext cx="39909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Через 3-4 года происходит тромбирование шунтов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Поэтому возрастает роль консервативных методов лечения ПТБ и профилактики её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d71703"/>
                </a:solidFill>
                <a:latin typeface="Times New Roman"/>
              </a:rPr>
              <a:t>Своевременное применение современных медицинского компрессионного трикотажа и флеботоников позволяет снизить частоту развития тяжелых форм ПТБ, а иногда и предотвратить ее. 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4920" y="-2700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1979640" y="4875120"/>
            <a:ext cx="6121440" cy="19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atin typeface="Monotype Corsiva"/>
              </a:rPr>
              <a:t>Благодарю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100000">
                    <a:srgbClr val="ddebcf"/>
                  </a:gs>
                </a:gsLst>
                <a:lin ang="135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242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Посттромботическая болезнь (ПТБ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81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это патологическое состояние, которое развивается вследствие перенесенного тромбоза глубоких вен нижних конечностей и характеризуется клинической картиной хронической венозной недостаточности и ее осложнений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Классификация ПТБ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Comic Sans MS"/>
              </a:rPr>
              <a:t>(В.С. Савельев и соавт., 1983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Форма посттромботической болезни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склеротическа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варикозна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Стадия посттромботической болезни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I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III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Локализация поражений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нижняя полая вен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подвздошные вены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бедренные вены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подколенные вены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берцовые вены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498560" y="1557360"/>
            <a:ext cx="49690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Характер поражений вен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окклюз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частичная реканализа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полная реканализа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1703"/>
                </a:solidFill>
                <a:latin typeface="Verdana"/>
                <a:ea typeface="Times New Roman"/>
              </a:rPr>
              <a:t>Степень венозной недостаточности: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компенса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субкомпенса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Times New Roman"/>
              </a:rPr>
              <a:t>- декомпенсация.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Клиническая картина ПТБ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чувство тяжести, бол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тёки разной степени выражен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одёргивание мышц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ночные судорог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вторичное компенсаторное расширение подкожных в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имптом Пайр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имптом Мейр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трофические расстройств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трофические язвы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440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Comic Sans MS"/>
              </a:rPr>
              <a:t>Трофические расстройства при ПТБ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3011400" cy="4680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3030480" cy="460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292720" y="2133720"/>
            <a:ext cx="3666960" cy="4392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3564000" y="4653000"/>
            <a:ext cx="5406840" cy="169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3995640" y="1052640"/>
            <a:ext cx="4984920" cy="3243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108000" y="1197000"/>
            <a:ext cx="5543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Диагностика ПТБ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Анамнез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бъективный осмот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Ультразвуковое исследование ве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Радионуклидная флебосцинтиграфия исследован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Флебография – </a:t>
            </a:r>
            <a:r>
              <a:rPr b="0" i="1" lang="ru-RU" sz="3200" spc="-1" strike="noStrike">
                <a:solidFill>
                  <a:srgbClr val="d71703"/>
                </a:solidFill>
                <a:latin typeface="Times New Roman"/>
              </a:rPr>
              <a:t>наиболее эффективна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Дифференциальная диагностика ПТБ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Times New Roman"/>
              </a:rPr>
              <a:t>Дифференциальный диагноз проводят с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варикозной болезнью вен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болезнью Клиппеля-Треноне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болезнью Паркс-Вебера-Рубашов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отёками иного генез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лимфостазом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гигромой Бейке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25560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Консервативное лечение ПТБ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Режим, лечебная гимнастика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Рациональное трудоустройство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Эластическая компрессия (</a:t>
            </a:r>
            <a:r>
              <a:rPr b="0" lang="en-US" sz="2200" spc="-1" strike="noStrike">
                <a:solidFill>
                  <a:srgbClr val="006699"/>
                </a:solidFill>
                <a:latin typeface="Times New Roman"/>
              </a:rPr>
              <a:t>III-IV 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класс). </a:t>
            </a:r>
            <a:r>
              <a:rPr b="1" i="1" lang="ru-RU" sz="2200" spc="-1" strike="noStrike">
                <a:solidFill>
                  <a:srgbClr val="d71703"/>
                </a:solidFill>
                <a:latin typeface="Times New Roman"/>
              </a:rPr>
              <a:t>Противопоказана при хронические облитерирующие заболевания артерий нижних конечностей со снижением систолического давления на берцовых артериях ниже 80 мм.рт.ст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Фармакотерапия: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флеботоники (</a:t>
            </a:r>
            <a:r>
              <a:rPr b="0" i="1" lang="ru-RU" sz="2200" spc="-1" strike="noStrike">
                <a:solidFill>
                  <a:srgbClr val="006699"/>
                </a:solidFill>
                <a:latin typeface="Times New Roman"/>
              </a:rPr>
              <a:t>гинкор форт, эндотелон, детралекс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энзимотерапия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дезагреганты (</a:t>
            </a:r>
            <a:r>
              <a:rPr b="0" i="1" lang="ru-RU" sz="2200" spc="-1" strike="noStrike">
                <a:solidFill>
                  <a:srgbClr val="006699"/>
                </a:solidFill>
                <a:latin typeface="Times New Roman"/>
              </a:rPr>
              <a:t>аспирин. плавикс, трентал и т.д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);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нестероидные противовоспалительные средства и антибиотики – </a:t>
            </a:r>
            <a:r>
              <a:rPr b="1" i="1" lang="ru-RU" sz="2200" spc="-1" strike="noStrike">
                <a:solidFill>
                  <a:srgbClr val="d71703"/>
                </a:solidFill>
                <a:latin typeface="Times New Roman"/>
              </a:rPr>
              <a:t>при воспалительных осложнениях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Местное лечение (</a:t>
            </a:r>
            <a:r>
              <a:rPr b="0" i="1" lang="ru-RU" sz="2200" spc="-1" strike="noStrike">
                <a:solidFill>
                  <a:srgbClr val="006699"/>
                </a:solidFill>
                <a:latin typeface="Times New Roman"/>
              </a:rPr>
              <a:t>лиотон-гель, фастум-гель, эссавен-гель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) и лечение трофических язв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Физиотерапия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Санаторно-курортное лечение (</a:t>
            </a:r>
            <a:r>
              <a:rPr b="0" i="1" lang="ru-RU" sz="2200" spc="-1" strike="noStrike">
                <a:solidFill>
                  <a:srgbClr val="006699"/>
                </a:solidFill>
                <a:latin typeface="Times New Roman"/>
              </a:rPr>
              <a:t>радоновые (Пятигорск), сероводородные (Кисловодск, Пятигорск, Сочи) термальные воды</a:t>
            </a:r>
            <a:r>
              <a:rPr b="0" lang="ru-RU" sz="22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Comic Sans MS"/>
              </a:rPr>
              <a:t>Лечебная гимнастика (упражнения для улучшения венозного кровотока)</a:t>
            </a:r>
            <a:endParaRPr b="0" lang="en-US" sz="33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649520"/>
            <a:ext cx="4038480" cy="435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48320" y="1650960"/>
            <a:ext cx="40384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2:50:30Z</dcterms:created>
  <dc:creator>Мы</dc:creator>
  <dc:description/>
  <dc:language>en-US</dc:language>
  <cp:lastModifiedBy>COMPUTER</cp:lastModifiedBy>
  <dcterms:modified xsi:type="dcterms:W3CDTF">2012-03-02T02:20:51Z</dcterms:modified>
  <cp:revision>26</cp:revision>
  <dc:subject/>
  <dc:title>Тромбофлебит поверхностных вен нижних конечностей</dc:title>
</cp:coreProperties>
</file>