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548-6C19-4A24-A0DA-4B90C887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548-96BF-4545-9988-0142B4E5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D8B2-3C27-41FB-A803-8B276ACA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67B-9BA4-4111-9996-6204D7C5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D12D-1893-404B-8244-B990C11D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CFFF-5766-459B-AC9C-066B89A1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9C80-B15A-4B90-ADF1-5796DBCE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04B1-5F19-4705-B742-98B923DF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685A-D036-459B-B422-D3DF5FBA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5E8E-87B5-4268-BE00-696263B9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8CA9-B493-4EFE-BC67-AC3CD473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681-851A-4170-93BF-092A8EC0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4ECE-0479-4DCB-B69F-2C37BFCD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C315-75EE-48CC-ABD0-0E6E1DFA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85F6-417A-499B-8E13-4625070B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4AF1-4B5F-4327-B9EB-50A0C76B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2BCB-39E8-412B-98F8-F4DDCF2D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073-9886-4CF3-9915-A895C218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3BC-C4F5-42F5-AC8B-E45A167A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2E6A-256F-40B9-AE41-4AF34DA8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87C-4417-4DB3-9C6D-C58DC32E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386-77BA-4EDA-A8A6-23635E19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1B0-635E-4BB5-8F33-6508ED59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9AE-AF48-4FDA-965D-494CE695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8BAB-8797-419E-8F77-C525A364C49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8534-108A-4CCE-B2DA-BCC32E46B05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131920"/>
            <a:ext cx="8353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2378c"/>
                </a:solidFill>
                <a:latin typeface="Monotype Corsiva"/>
              </a:rPr>
              <a:t>Посттромботическая болезнь</a:t>
            </a:r>
            <a:endParaRPr b="1" lang="en-US" sz="7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Показания к оперативному лечению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лапанная недостаточность подкожных и перфорантных вен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рецидивирующие трофические язвы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есостоятельность клапанов глубоких вен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сегментарная окклюзия бедренной и подвздошной вен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Виды оперативных вмешательств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удаление варикозно расширенных вен с перевязкой перфорантных вен (по Линтону, эндоскопически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бходное шунтирование (операция Пальма, бедренно-подколенное шунтирование с временной артерио-венозной фистулой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реконструкция клапанов, их трансплантация – редко, в специализированных стационарах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эндоскопическое бужирование и стентирование вен при ограниченных  окклюзиях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15560"/>
            <a:ext cx="8244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66"/>
                </a:solidFill>
                <a:latin typeface="Comic Sans MS"/>
              </a:rPr>
              <a:t>Операция Троянова-Тренделенбурга, Бэбкока, Нарата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89200" y="1125360"/>
            <a:ext cx="5500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1592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66"/>
                </a:solidFill>
                <a:latin typeface="Comic Sans MS"/>
              </a:rPr>
              <a:t>Операция Линтона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332000" y="758880"/>
            <a:ext cx="669600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15920"/>
            <a:ext cx="82440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66"/>
                </a:solidFill>
                <a:latin typeface="Comic Sans MS"/>
              </a:rPr>
              <a:t>Операция эндоскопической диссекции перфорантных вен с использованием двухпортовой техники </a:t>
            </a:r>
            <a:r>
              <a:rPr b="0" lang="en-US" sz="3300" spc="-1" strike="noStrike">
                <a:solidFill>
                  <a:srgbClr val="006666"/>
                </a:solidFill>
                <a:latin typeface="Comic Sans MS"/>
              </a:rPr>
              <a:t>SEPS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1636560"/>
            <a:ext cx="6624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1592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66"/>
                </a:solidFill>
                <a:latin typeface="Comic Sans MS"/>
              </a:rPr>
              <a:t>Операция Пальма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41560" y="765000"/>
            <a:ext cx="5256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omic Sans MS"/>
              </a:rPr>
              <a:t>Интравазальная вальвулопластика по Кистнеру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941480" y="765000"/>
            <a:ext cx="5464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15920"/>
            <a:ext cx="82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omic Sans MS"/>
              </a:rPr>
              <a:t>Экстравазальная коррекция клапанов каркасной спиралью по А.Н. Веденскому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09520" y="1052640"/>
            <a:ext cx="4481640" cy="5616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757760" y="1052640"/>
            <a:ext cx="39909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Через 3-4 года происходит тромбирование шунтов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Поэтому возрастает роль консервативных методов лечения ПТБ и профилактики её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d71703"/>
                </a:solidFill>
                <a:latin typeface="Times New Roman"/>
              </a:rPr>
              <a:t>Своевременное применение современных медицинского компрессионного трикотажа и флеботоников позволяет снизить частоту развития тяжелых форм ПТБ, а иногда и предотвратить ее. 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4920" y="-2700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979640" y="4875120"/>
            <a:ext cx="6121440" cy="198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atin typeface="Monotype Corsiva"/>
              </a:rPr>
              <a:t>Благодарю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100000">
                    <a:srgbClr val="ddebcf"/>
                  </a:gs>
                </a:gsLst>
                <a:lin ang="135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242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Посттромботическая болезнь (ПТБ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81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это патологическое состояние, которое развивается вследствие перенесенного тромбоза глубоких вен нижних конечностей и характеризуется клинической картиной хронической венозной недостаточности и ее осложнений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Классификация ПТБ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(В.С. Савельев и соавт., 1983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1703"/>
                </a:solidFill>
                <a:latin typeface="Verdana"/>
                <a:ea typeface="Times New Roman"/>
              </a:rPr>
              <a:t>Форма посттромботической болезни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склеротическа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варикозна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1703"/>
                </a:solidFill>
                <a:latin typeface="Verdana"/>
                <a:ea typeface="Times New Roman"/>
              </a:rPr>
              <a:t>Стадия посттромботической болезни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I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II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1703"/>
                </a:solidFill>
                <a:latin typeface="Verdana"/>
                <a:ea typeface="Times New Roman"/>
              </a:rPr>
              <a:t>Локализация поражений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нижняя полая вена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подвздошные вены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бедренные вены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подколенные вены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берцовые вены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498560" y="1557360"/>
            <a:ext cx="49690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1703"/>
                </a:solidFill>
                <a:latin typeface="Verdana"/>
                <a:ea typeface="Times New Roman"/>
              </a:rPr>
              <a:t>Характер поражений вен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окклюзи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частичная реканализаци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полная реканализаци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1703"/>
                </a:solidFill>
                <a:latin typeface="Verdana"/>
                <a:ea typeface="Times New Roman"/>
              </a:rPr>
              <a:t>Степень венозной недостаточности: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компенсаци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субкомпенсаци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декомпенсация.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Клиническая картина ПТБ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чувство тяжести, бол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тёки разной степени выраженност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одёргивание мышц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ночные судорог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вторичное компенсаторное расширение подкожных вен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имптом Пайр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имптом Мейр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трофические расстройств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трофические язвы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440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66"/>
                </a:solidFill>
                <a:latin typeface="Comic Sans MS"/>
              </a:rPr>
              <a:t>Трофические расстройства при ПТБ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8000" y="1989000"/>
            <a:ext cx="3011400" cy="4680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627280" y="1700280"/>
            <a:ext cx="3030480" cy="4608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292720" y="2133720"/>
            <a:ext cx="3666960" cy="4392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3564000" y="4653000"/>
            <a:ext cx="5406840" cy="169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3995640" y="1052640"/>
            <a:ext cx="4984920" cy="3243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108000" y="1197000"/>
            <a:ext cx="55436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Диагностика ПТБ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Анамнез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Объективный осмот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Ультразвуковое исследование ве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Радионуклидная флебосцинтиграфия исследован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Флебография – </a:t>
            </a:r>
            <a:r>
              <a:rPr b="0" i="1" lang="ru-RU" sz="3200" spc="-1" strike="noStrike">
                <a:solidFill>
                  <a:srgbClr val="d71703"/>
                </a:solidFill>
                <a:latin typeface="Times New Roman"/>
              </a:rPr>
              <a:t>наиболее эффективна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Дифференциальная диагностика ПТБ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Дифференциальный диагноз проводят с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варикозной болезнью вен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болезнью Клиппеля-Треноне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болезнью Паркс-Вебера-Рубашов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отёками иного генез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лимфостазом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гигромой Бейкер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25560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Консервативное лечение ПТБ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Режим, лечебная гимнастика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Рациональное трудоустройство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Эластическая компрессия (</a:t>
            </a:r>
            <a:r>
              <a:rPr b="0" lang="en-US" sz="2200" spc="-1" strike="noStrike">
                <a:solidFill>
                  <a:srgbClr val="006699"/>
                </a:solidFill>
                <a:latin typeface="Times New Roman"/>
              </a:rPr>
              <a:t>III-IV </a:t>
            </a: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класс). </a:t>
            </a:r>
            <a:r>
              <a:rPr b="1" i="1" lang="ru-RU" sz="2200" spc="-1" strike="noStrike">
                <a:solidFill>
                  <a:srgbClr val="d71703"/>
                </a:solidFill>
                <a:latin typeface="Times New Roman"/>
              </a:rPr>
              <a:t>Противопоказана при хронические облитерирующие заболевания артерий нижних конечностей со снижением систолического давления на берцовых артериях ниже 80 мм.рт.ст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Фармакотерапия: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флеботоники (</a:t>
            </a:r>
            <a:r>
              <a:rPr b="0" i="1" lang="ru-RU" sz="2200" spc="-1" strike="noStrike">
                <a:solidFill>
                  <a:srgbClr val="006699"/>
                </a:solidFill>
                <a:latin typeface="Times New Roman"/>
              </a:rPr>
              <a:t>гинкор форт, эндотелон, детралекс</a:t>
            </a: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);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энзимотерапия;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дезагреганты (</a:t>
            </a:r>
            <a:r>
              <a:rPr b="0" i="1" lang="ru-RU" sz="2200" spc="-1" strike="noStrike">
                <a:solidFill>
                  <a:srgbClr val="006699"/>
                </a:solidFill>
                <a:latin typeface="Times New Roman"/>
              </a:rPr>
              <a:t>аспирин. плавикс, трентал и т.д</a:t>
            </a: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);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нестероидные противовоспалительные средства и антибиотики – </a:t>
            </a:r>
            <a:r>
              <a:rPr b="1" i="1" lang="ru-RU" sz="2200" spc="-1" strike="noStrike">
                <a:solidFill>
                  <a:srgbClr val="d71703"/>
                </a:solidFill>
                <a:latin typeface="Times New Roman"/>
              </a:rPr>
              <a:t>при воспалительных осложнениях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Местное лечение (</a:t>
            </a:r>
            <a:r>
              <a:rPr b="0" i="1" lang="ru-RU" sz="2200" spc="-1" strike="noStrike">
                <a:solidFill>
                  <a:srgbClr val="006699"/>
                </a:solidFill>
                <a:latin typeface="Times New Roman"/>
              </a:rPr>
              <a:t>лиотон-гель, фастум-гель, эссавен-гель</a:t>
            </a: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) и лечение трофических язв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Физиотерапия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Санаторно-курортное лечение (</a:t>
            </a:r>
            <a:r>
              <a:rPr b="0" i="1" lang="ru-RU" sz="2200" spc="-1" strike="noStrike">
                <a:solidFill>
                  <a:srgbClr val="006699"/>
                </a:solidFill>
                <a:latin typeface="Times New Roman"/>
              </a:rPr>
              <a:t>радоновые (Пятигорск), сероводородные (Кисловодск, Пятигорск, Сочи) термальные воды</a:t>
            </a: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66"/>
                </a:solidFill>
                <a:latin typeface="Comic Sans MS"/>
              </a:rPr>
              <a:t>Лечебная гимнастика (упражнения для улучшения венозного кровотока)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49520"/>
            <a:ext cx="4038480" cy="435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48320" y="1650960"/>
            <a:ext cx="40384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2:50:30Z</dcterms:created>
  <dc:creator>Мы</dc:creator>
  <dc:description/>
  <dc:language>en-US</dc:language>
  <cp:lastModifiedBy>COMPUTER</cp:lastModifiedBy>
  <dcterms:modified xsi:type="dcterms:W3CDTF">2012-03-02T02:20:51Z</dcterms:modified>
  <cp:revision>26</cp:revision>
  <dc:subject/>
  <dc:title>Тромбофлебит поверхностных вен нижних конечностей</dc:title>
</cp:coreProperties>
</file>