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E46-15C8-4F91-BF8C-2230A5FA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512-A590-4D1F-B303-10942757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BC1-A5F5-4437-8EF9-0A422E04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0C6-6C07-466C-A67D-8F971221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107-E349-4701-ACDC-74F62AB1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C42-80C9-4ADC-A3B7-BD51742E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735-A9F5-44B4-8730-AE61E703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911-D029-4CB3-82C3-249C7169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20D-B5C4-488D-AC18-56EE1EAC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C1E-CB5B-4273-998F-03F02288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D14-5726-444B-B179-829781B5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714-0533-4A15-862E-FFEE92AE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B670-97D2-496C-80C4-41DFB1DE6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5445000"/>
            <a:ext cx="601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Lucida Calligraphy"/>
              </a:rPr>
              <a:t>Курсовая работа  О.В. Алексее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Lucida Calligraphy"/>
              </a:rPr>
              <a:t>421 школа, Стрельна, 2оо7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0"/>
            <a:ext cx="2952720" cy="352728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527280"/>
              <a:gd name="textAreaBottom" fmla="*/ 3383280 h 3527280"/>
            </a:gdLst>
            <a:ahLst/>
            <a:rect l="textAreaLeft" t="textAreaTop" r="textAreaRight" b="textAreaBottom"/>
            <a:pathLst>
              <a:path w="21600" h="25803">
                <a:moveTo>
                  <a:pt x="3600" y="0"/>
                </a:moveTo>
                <a:arcTo wR="3600" hR="3600" stAng="16200000" swAng="-5400000"/>
                <a:lnTo>
                  <a:pt x="0" y="22203"/>
                </a:lnTo>
                <a:arcTo wR="3600" hR="3600" stAng="10800000" swAng="-5400000"/>
                <a:lnTo>
                  <a:pt x="18000" y="258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1989000"/>
            <a:ext cx="64818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оряд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5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42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1973160" cy="1895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24000" y="260280"/>
            <a:ext cx="172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0" t="0" r="0" b="44460"/>
          <a:stretch/>
        </p:blipFill>
        <p:spPr>
          <a:xfrm>
            <a:off x="2340000" y="0"/>
            <a:ext cx="3168720" cy="1760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411280" y="2492280"/>
            <a:ext cx="18716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4000" y="4869000"/>
            <a:ext cx="2303280" cy="13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0" t="10998" r="0" b="11791"/>
          <a:stretch/>
        </p:blipFill>
        <p:spPr>
          <a:xfrm>
            <a:off x="4932360" y="1916280"/>
            <a:ext cx="195912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830920" y="3833640"/>
            <a:ext cx="3313080" cy="3024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0920" y="404640"/>
            <a:ext cx="20890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050920" y="2421000"/>
            <a:ext cx="2448000" cy="14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ь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95640" y="4941720"/>
            <a:ext cx="208908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я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87640" y="189000"/>
            <a:ext cx="6156360" cy="6406920"/>
            <a:chOff x="2987640" y="189000"/>
            <a:chExt cx="6156360" cy="64069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6985080" y="4437000"/>
              <a:ext cx="2158920" cy="2158920"/>
            </a:xfrm>
            <a:prstGeom prst="rect">
              <a:avLst/>
            </a:prstGeom>
            <a:ln w="76320">
              <a:solidFill>
                <a:srgbClr val="6600ff"/>
              </a:solidFill>
              <a:miter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2987640" y="189000"/>
              <a:ext cx="1884240" cy="2133360"/>
            </a:xfrm>
            <a:prstGeom prst="rect">
              <a:avLst/>
            </a:prstGeom>
            <a:ln w="76320">
              <a:solidFill>
                <a:srgbClr val="6600ff"/>
              </a:solidFill>
              <a:miter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4859280" y="1773360"/>
              <a:ext cx="2097000" cy="2638440"/>
            </a:xfrm>
            <a:prstGeom prst="rect">
              <a:avLst/>
            </a:prstGeom>
            <a:ln w="76320">
              <a:solidFill>
                <a:srgbClr val="6600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9280" y="476280"/>
            <a:ext cx="223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1989000"/>
            <a:ext cx="698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Arial"/>
              </a:rPr>
              <a:t>поем мы для того, чтобы вновь вернуться 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32720" y="4797360"/>
            <a:ext cx="208728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Music"/>
          <p:cNvSpPr/>
          <p:nvPr/>
        </p:nvSpPr>
        <p:spPr>
          <a:xfrm>
            <a:off x="395280" y="5229360"/>
            <a:ext cx="1297080" cy="1304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Music"/>
          <p:cNvSpPr/>
          <p:nvPr/>
        </p:nvSpPr>
        <p:spPr>
          <a:xfrm>
            <a:off x="7236000" y="260280"/>
            <a:ext cx="1306440" cy="1297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404640"/>
            <a:ext cx="90936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1944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404640"/>
            <a:ext cx="909720" cy="38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5472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4500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35640" y="404640"/>
            <a:ext cx="90936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1120" y="404640"/>
            <a:ext cx="45720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90840" y="404640"/>
            <a:ext cx="45720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9920" y="404640"/>
            <a:ext cx="45576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404640"/>
            <a:ext cx="45576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29360" y="404640"/>
            <a:ext cx="45576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32880" y="404640"/>
            <a:ext cx="34128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86900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Окт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4176000" y="1303920"/>
            <a:ext cx="576000" cy="6985080"/>
          </a:xfrm>
          <a:custGeom>
            <a:avLst/>
            <a:gdLst>
              <a:gd name="textAreaLeft" fmla="*/ 367920 w 576000"/>
              <a:gd name="textAreaRight" fmla="*/ 576000 w 576000"/>
              <a:gd name="textAreaTop" fmla="*/ 182160 h 6985080"/>
              <a:gd name="textAreaBottom" fmla="*/ 6802920 h 698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75"/>
                </a:lnTo>
                <a:cubicBezTo>
                  <a:pt x="10800" y="10575"/>
                  <a:pt x="5400" y="11475"/>
                  <a:pt x="0" y="11475"/>
                </a:cubicBezTo>
                <a:cubicBezTo>
                  <a:pt x="5400" y="11475"/>
                  <a:pt x="10800" y="12375"/>
                  <a:pt x="10800" y="132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544500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Поми</a:t>
            </a: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62064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Arial"/>
              </a:rPr>
              <a:t>м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260280"/>
            <a:ext cx="309564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O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48360" y="83664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O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340000" y="551664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O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863600">
            <a:off x="6084720" y="1412640"/>
            <a:ext cx="1905120" cy="511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2133720"/>
            <a:ext cx="4321080" cy="3095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7236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9627"/>
                </a:moveTo>
                <a:lnTo>
                  <a:pt x="7301" y="9627"/>
                </a:lnTo>
                <a:lnTo>
                  <a:pt x="7301" y="14962"/>
                </a:lnTo>
                <a:cubicBezTo>
                  <a:pt x="7301" y="15885"/>
                  <a:pt x="8102" y="16616"/>
                  <a:pt x="9138" y="16616"/>
                </a:cubicBezTo>
                <a:lnTo>
                  <a:pt x="10800" y="16616"/>
                </a:lnTo>
                <a:cubicBezTo>
                  <a:pt x="11836" y="16616"/>
                  <a:pt x="12636" y="15885"/>
                  <a:pt x="12636" y="14962"/>
                </a:cubicBezTo>
                <a:lnTo>
                  <a:pt x="12636" y="9627"/>
                </a:lnTo>
                <a:lnTo>
                  <a:pt x="10800" y="9627"/>
                </a:lnTo>
                <a:lnTo>
                  <a:pt x="14308" y="6119"/>
                </a:lnTo>
                <a:lnTo>
                  <a:pt x="17981" y="9627"/>
                </a:lnTo>
                <a:lnTo>
                  <a:pt x="16144" y="9627"/>
                </a:lnTo>
                <a:lnTo>
                  <a:pt x="16144" y="14962"/>
                </a:lnTo>
                <a:cubicBezTo>
                  <a:pt x="16144" y="17730"/>
                  <a:pt x="13568" y="20289"/>
                  <a:pt x="10800" y="20289"/>
                </a:cubicBezTo>
                <a:lnTo>
                  <a:pt x="9138" y="20289"/>
                </a:lnTo>
                <a:cubicBezTo>
                  <a:pt x="6370" y="20289"/>
                  <a:pt x="3794" y="17730"/>
                  <a:pt x="3794" y="1496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39640" y="404640"/>
            <a:ext cx="2089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37372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9640" y="26028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Сви</a:t>
            </a:r>
            <a:r>
              <a:rPr b="0" lang="ru-RU" sz="6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989000"/>
            <a:ext cx="4176720" cy="309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292720" y="1628640"/>
            <a:ext cx="2766960" cy="4945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1708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7547"/>
                </a:moveTo>
                <a:lnTo>
                  <a:pt x="7301" y="7547"/>
                </a:lnTo>
                <a:lnTo>
                  <a:pt x="7301" y="12882"/>
                </a:lnTo>
                <a:cubicBezTo>
                  <a:pt x="7301" y="13805"/>
                  <a:pt x="8102" y="14536"/>
                  <a:pt x="9138" y="14536"/>
                </a:cubicBezTo>
                <a:lnTo>
                  <a:pt x="10800" y="14536"/>
                </a:lnTo>
                <a:cubicBezTo>
                  <a:pt x="11836" y="14536"/>
                  <a:pt x="12636" y="13805"/>
                  <a:pt x="12636" y="12882"/>
                </a:cubicBezTo>
                <a:lnTo>
                  <a:pt x="12636" y="7547"/>
                </a:lnTo>
                <a:lnTo>
                  <a:pt x="10800" y="7547"/>
                </a:lnTo>
                <a:lnTo>
                  <a:pt x="14308" y="4039"/>
                </a:lnTo>
                <a:lnTo>
                  <a:pt x="17981" y="7547"/>
                </a:lnTo>
                <a:lnTo>
                  <a:pt x="16144" y="7547"/>
                </a:lnTo>
                <a:lnTo>
                  <a:pt x="16144" y="12882"/>
                </a:lnTo>
                <a:cubicBezTo>
                  <a:pt x="16144" y="15650"/>
                  <a:pt x="13568" y="18209"/>
                  <a:pt x="10800" y="18209"/>
                </a:cubicBezTo>
                <a:lnTo>
                  <a:pt x="9138" y="18209"/>
                </a:lnTo>
                <a:cubicBezTo>
                  <a:pt x="6370" y="18209"/>
                  <a:pt x="3794" y="15650"/>
                  <a:pt x="3794" y="1288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58920" y="5589720"/>
            <a:ext cx="12240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84720" y="476280"/>
            <a:ext cx="12240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8360" y="189000"/>
            <a:ext cx="230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88000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27640" y="333360"/>
            <a:ext cx="43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Дина</a:t>
            </a:r>
            <a:r>
              <a:rPr b="0" lang="ru-RU" sz="6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0920" y="2708280"/>
            <a:ext cx="3941640" cy="2641680"/>
            <a:chOff x="250920" y="2708280"/>
            <a:chExt cx="3941640" cy="2641680"/>
          </a:xfrm>
        </p:grpSpPr>
        <p:pic>
          <p:nvPicPr>
            <p:cNvPr id="81" name="" descr=""/>
            <p:cNvPicPr/>
            <p:nvPr/>
          </p:nvPicPr>
          <p:blipFill>
            <a:blip r:embed="rId2"/>
            <a:srcRect l="11198" t="0" r="8399" b="0"/>
            <a:stretch/>
          </p:blipFill>
          <p:spPr>
            <a:xfrm>
              <a:off x="2050920" y="3357720"/>
              <a:ext cx="2141640" cy="19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250920" y="2708280"/>
              <a:ext cx="1930320" cy="196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Sound"/>
          <p:cNvSpPr/>
          <p:nvPr/>
        </p:nvSpPr>
        <p:spPr>
          <a:xfrm flipH="1">
            <a:off x="5364000" y="4869000"/>
            <a:ext cx="1368720" cy="1089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58972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До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59640" y="549360"/>
            <a:ext cx="11523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92360" y="5734080"/>
            <a:ext cx="11523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79280" y="18900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-СОЛ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5589720"/>
            <a:ext cx="41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го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780000" cy="370188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sp>
        <p:nvSpPr>
          <p:cNvPr id="90" name=""/>
          <p:cNvSpPr txBox="1"/>
          <p:nvPr/>
        </p:nvSpPr>
        <p:spPr>
          <a:xfrm>
            <a:off x="5364000" y="5516640"/>
            <a:ext cx="147636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068640"/>
            <a:ext cx="3240360" cy="2808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537080" y="836640"/>
            <a:ext cx="4606920" cy="5516640"/>
            <a:chOff x="4537080" y="836640"/>
            <a:chExt cx="4606920" cy="5516640"/>
          </a:xfrm>
        </p:grpSpPr>
        <p:sp>
          <p:nvSpPr>
            <p:cNvPr id="93" name=""/>
            <p:cNvSpPr/>
            <p:nvPr/>
          </p:nvSpPr>
          <p:spPr>
            <a:xfrm>
              <a:off x="4896000" y="1341360"/>
              <a:ext cx="4248000" cy="4392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537080" y="2421000"/>
              <a:ext cx="139068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 rot="5400000">
              <a:off x="5423040" y="3332880"/>
              <a:ext cx="5516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ДомиСОЛЬка</a:t>
              </a:r>
              <a:endPara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191628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33"/>
                </a:solidFill>
                <a:latin typeface="Arial"/>
              </a:rPr>
              <a:t>Он поможет               нам в музыкальной стра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7236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7493"/>
                </a:moveTo>
                <a:lnTo>
                  <a:pt x="9446" y="7493"/>
                </a:lnTo>
                <a:lnTo>
                  <a:pt x="9446" y="12828"/>
                </a:lnTo>
                <a:cubicBezTo>
                  <a:pt x="9446" y="13751"/>
                  <a:pt x="10247" y="14482"/>
                  <a:pt x="11283" y="14482"/>
                </a:cubicBezTo>
                <a:lnTo>
                  <a:pt x="12945" y="14482"/>
                </a:lnTo>
                <a:cubicBezTo>
                  <a:pt x="13981" y="14482"/>
                  <a:pt x="14781" y="13751"/>
                  <a:pt x="14781" y="12828"/>
                </a:cubicBezTo>
                <a:lnTo>
                  <a:pt x="14781" y="7493"/>
                </a:lnTo>
                <a:lnTo>
                  <a:pt x="12945" y="7493"/>
                </a:lnTo>
                <a:lnTo>
                  <a:pt x="16453" y="3985"/>
                </a:lnTo>
                <a:lnTo>
                  <a:pt x="20125" y="7493"/>
                </a:lnTo>
                <a:lnTo>
                  <a:pt x="18289" y="7493"/>
                </a:lnTo>
                <a:lnTo>
                  <a:pt x="18289" y="12828"/>
                </a:lnTo>
                <a:cubicBezTo>
                  <a:pt x="18289" y="15596"/>
                  <a:pt x="15713" y="18155"/>
                  <a:pt x="12945" y="18155"/>
                </a:cubicBezTo>
                <a:lnTo>
                  <a:pt x="11283" y="18155"/>
                </a:lnTo>
                <a:cubicBezTo>
                  <a:pt x="8515" y="18155"/>
                  <a:pt x="5938" y="15596"/>
                  <a:pt x="593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11280" y="333360"/>
            <a:ext cx="24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я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141720" cy="422568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527640" cy="350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537372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Arial"/>
              </a:rPr>
              <a:t>Ко      с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47640" y="5589720"/>
            <a:ext cx="1152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27480" y="1432080"/>
            <a:ext cx="3116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86900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Гус       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443640" y="5013360"/>
            <a:ext cx="115272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920" y="189000"/>
            <a:ext cx="28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78136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Вело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пе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126828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Клаве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2781360"/>
            <a:ext cx="108108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43640" y="1484280"/>
            <a:ext cx="1150920" cy="7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86080" cy="371484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3589200"/>
            <a:ext cx="5364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9:24:48Z</dcterms:created>
  <dc:creator>User</dc:creator>
  <dc:description/>
  <dc:language>en-US</dc:language>
  <cp:lastModifiedBy>ольга</cp:lastModifiedBy>
  <dcterms:modified xsi:type="dcterms:W3CDTF">2007-10-27T09:35:46Z</dcterms:modified>
  <cp:revision>20</cp:revision>
  <dc:subject/>
  <dc:title>Слайд 1</dc:title>
</cp:coreProperties>
</file>