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656-6628-4509-9E5C-44D31D01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A26-D680-42F0-9FF6-CC01F9D8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BFB-020E-41CB-A990-0ACAF989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3907-BCEE-40B9-9D0C-201543F9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07A-2CD9-4703-ACB3-14E9FB5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2AB-69BF-4CF5-A048-2B3085E6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C96-414B-4A8D-AD62-70BF4DC4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EC2-88AD-4E5D-8687-2B52C36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2D6-F5FB-494E-83FF-4B9B4631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4DF-FDF1-4B9F-9AEF-E8C2CA6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267-62A8-43C6-830C-AF6760E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171F-923C-45A3-A90F-65B79E5C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55F3-21CC-485A-B67B-CDFB7CA69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1;&#1091;&#1082;&#1083;&#1077;&#1090;%20&#1041;&#1083;&#1086;&#1082;%20&#1040;.&#1040;.pub" TargetMode="External"/><Relationship Id="rId2" Type="http://schemas.openxmlformats.org/officeDocument/2006/relationships/hyperlink" Target="file:///&#1057;&#1091;&#1076;&#1100;&#1073;&#1072;%20&#1083;&#1102;&#1073;&#1074;&#1080;%20&#1080;&#1082;&#1088;&#1072;&#1089;&#1086;&#1090;&#1099;.ppt" TargetMode="External"/><Relationship Id="rId3" Type="http://schemas.openxmlformats.org/officeDocument/2006/relationships/hyperlink" Target="file:///&#1055;&#1088;&#1077;&#1079;&#1077;&#1085;&#1090;&#1072;&#1094;&#1080;&#1103;1.ppt" TargetMode="External"/><Relationship Id="rId4" Type="http://schemas.openxmlformats.org/officeDocument/2006/relationships/hyperlink" Target="file:///&#1041;&#1091;&#1082;&#1083;&#1077;&#1090;%202.pub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3;&#1086;&#1087;%20&#1050;&#1072;&#1090;&#1102;&#1088;&#1103;&#1077;&#1074;&#1072;.doc" TargetMode="External"/><Relationship Id="rId2" Type="http://schemas.openxmlformats.org/officeDocument/2006/relationships/hyperlink" Target="file:///&#1051;&#1080;&#1088;&#1080;&#1082;&#1072;%20&#1040;.%20&#1041;&#1083;&#1086;&#1082;&#1072;/project/p1.html" TargetMode="External"/><Relationship Id="rId3" Type="http://schemas.openxmlformats.org/officeDocument/2006/relationships/hyperlink" Target="file:///&#1082;&#1088;&#1080;&#1087;&#1090;&#1086;&#1075;&#1088;&#1072;&#1084;&#1084;&#1072;.doc" TargetMode="External"/><Relationship Id="rId4" Type="http://schemas.openxmlformats.org/officeDocument/2006/relationships/hyperlink" Target="file:///&#1055;&#1088;&#1072;&#1082;&#1090;&#1080;&#1082;&#1091;&#1084;%20&#1087;&#1086;%20&#1083;&#1080;&#1088;&#1080;&#1082;&#1077;%20&#1040;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ворчество А.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Авторы: Чоп Н.Е., учитель русского языка и литерату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Катюряева А. Ю.,учитель русского языка и лит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ИРО, г. Ярославль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©</a:t>
            </a:r>
            <a:r>
              <a:rPr b="0" i="1" lang="ru-RU" sz="1000" spc="-1" strike="noStrike">
                <a:solidFill>
                  <a:srgbClr val="000066"/>
                </a:solidFill>
                <a:latin typeface="Arial"/>
              </a:rPr>
              <a:t> МОУ Бурмакинская СОШ №1, 200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Творческое название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Блоком бредили обе столицы…»</a:t>
            </a:r>
            <a:br>
              <a:rPr sz="3600"/>
            </a:b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Б. Пастерн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Типология проекта: 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атегория учащихся: 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едметная область: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352680" y="9144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794040" y="649440"/>
            <a:ext cx="474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370240" cy="39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Цел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Образовательны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актуализировать знания учащихся по творчеству А.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Развива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информацион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способствовать формированию коммуникатив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«Поэт в России больше, чем поэт…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роблемный 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Как соотносятся «очи синие, бездонные» и «всем сердцем, всей душой слушайте революцию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Тема проекта выбрана в соответствии с УМК под редакцией Курдюмовой. Проект рассчитан на учащихся 11-го класса в рамках уроков литературы. Продолжительность проекта – две недели. Работа завершается защитой работ учащихся на литературной конференции, посвященной творчеству А.Блока.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762120"/>
          <a:ext cx="7848720" cy="5410080"/>
        </p:xfrm>
        <a:graphic>
          <a:graphicData uri="http://schemas.openxmlformats.org/drawingml/2006/table">
            <a:tbl>
              <a:tblPr/>
              <a:tblGrid>
                <a:gridCol w="2616120"/>
                <a:gridCol w="2870280"/>
                <a:gridCol w="236232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астные вопросы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ы исследований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орма представлен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 В чем заключалось новаторство лирики А. Блока 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Место А. Блока в русской литерату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2 А. Блок и символизм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1 Рефера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.2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 Какова судьба любви и красоты 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 лирике А. Блока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1 От «Незнакомки» до «Железной дороги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удьба поэта в «страшном» мире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2 Сочинение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 Как относился А. Блок, последний дворянский поэт, к революции?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1 Образ Христа в поэме «Двенадцать».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.2 Образы – символы в поэме А. Блока «Двенадцать»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.1  Презентация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3.2  Буклет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1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накомство с пробл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2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формулирование тем исследований               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3 этап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обсуждение плана работы учащихся индивидуально или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4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учащихся по обсуждению задания каждого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5 этап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самостоятельная работа групп  по выполнению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6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одготовка учащихся к читательской 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7 этап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защита учени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оста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зитк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еб-с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дакт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рипт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арточки для индивидуальн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по лирике А.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стихотворения А.Блока «Незнаком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пекты уроков по теме «Лирика А.Бло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Иллюстрации к поэме А.Блока «Двенадц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меры раб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А. Блок и символиз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Детская презентац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Буклет «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разы – символы в поэме А. Блока «Двенадцат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Информационные ресур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1. Учебник "Литература 20 века", 11 класс. Авторы: В.А. Чалмаев, С.А. Зинин. Москва, "Родное слово",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2. Т.Т. Крук. "Поэзия Александра Блока". Москва, "Просвещение",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3. Учебно-методическая газета "Литература" №3 2004 год. (Номер посвящен творчеству А.Бло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4. А.Блок "Избранные произведения". Москва, "Худ. литература",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5. www.airis.ru. А.Блок и его эпоха. Иллюстрации к произведениям. 25.12.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6. http.//az.lib.ru/b/blok. Символизм. Творчество А.Блока. 27.12.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6T06:56:15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