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FB0-1BA1-4976-A423-BF10B5AE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6B1-FC96-4356-A671-9A6BBC1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4DB-32FC-4210-B583-CFCC061C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508-0A3D-422B-A41D-EC27AA07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291-5D02-478D-A917-DC278907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EE5-0D2F-4EA7-BD39-F0C0FF10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9F8-EB4D-4F4F-B324-A444828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346-D9C4-41A1-9B78-7EEE546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858-7F5A-4689-BD45-77B500A4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013-6441-4E79-B130-A9A530BF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D6E-A05F-44FF-95B2-A36510E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A5B-DE68-4C9D-B7D8-58585990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213A-EF7B-4E20-8159-D9A693B42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1;&#1091;&#1082;&#1083;&#1077;&#1090;%20&#1041;&#1083;&#1086;&#1082;%20&#1040;.&#1040;.pub" TargetMode="External"/><Relationship Id="rId2" Type="http://schemas.openxmlformats.org/officeDocument/2006/relationships/hyperlink" Target="file:///&#1057;&#1091;&#1076;&#1100;&#1073;&#1072;%20&#1083;&#1102;&#1073;&#1074;&#1080;%20&#1080;&#1082;&#1088;&#1072;&#1089;&#1086;&#1090;&#1099;.ppt" TargetMode="Externa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hyperlink" Target="file:///&#1041;&#1091;&#1082;&#1083;&#1077;&#1090;%202.pub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63;&#1086;&#1087;%20&#1050;&#1072;&#1090;&#1102;&#1088;&#1103;&#1077;&#1074;&#1072;.doc" TargetMode="External"/><Relationship Id="rId2" Type="http://schemas.openxmlformats.org/officeDocument/2006/relationships/hyperlink" Target="file:///&#1051;&#1080;&#1088;&#1080;&#1082;&#1072;%20&#1040;.%20&#1041;&#1083;&#1086;&#1082;&#1072;/project/p1.html" TargetMode="External"/><Relationship Id="rId3" Type="http://schemas.openxmlformats.org/officeDocument/2006/relationships/hyperlink" Target="file:///&#1082;&#1088;&#1080;&#1087;&#1090;&#1086;&#1075;&#1088;&#1072;&#1084;&#1084;&#1072;.doc" TargetMode="External"/><Relationship Id="rId4" Type="http://schemas.openxmlformats.org/officeDocument/2006/relationships/hyperlink" Target="file:///&#1055;&#1088;&#1072;&#1082;&#1090;&#1080;&#1082;&#1091;&#1084;%20&#1087;&#1086;%20&#1083;&#1080;&#1088;&#1080;&#1082;&#1077;%20&#1040;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ворчество А.Б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Авторы: Чоп Н.Е., учитель русского языка и литерату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Катюряева А. Ю.,учитель русского языка и литера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©</a:t>
            </a:r>
            <a:r>
              <a:rPr b="0" i="1" lang="ru-RU" sz="1000" spc="-1" strike="noStrike">
                <a:solidFill>
                  <a:srgbClr val="000066"/>
                </a:solidFill>
                <a:latin typeface="Arial"/>
              </a:rPr>
              <a:t> ИРО, г. Ярославль, 200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©</a:t>
            </a:r>
            <a:r>
              <a:rPr b="0" i="1" lang="ru-RU" sz="1000" spc="-1" strike="noStrike">
                <a:solidFill>
                  <a:srgbClr val="000066"/>
                </a:solidFill>
                <a:latin typeface="Arial"/>
              </a:rPr>
              <a:t> МОУ Бурмакинская СОШ №1, 200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Творческое название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Блоком бредили обе столицы…»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Б. Пастерн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ипология проекта: исследова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атегория учащихся: 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едметная область: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352680" y="914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794040" y="649440"/>
            <a:ext cx="474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370240" cy="392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Образовательны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актуализировать знания учащихся по творчеству А.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Развива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пособствовать формированию информационн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пособствовать формированию коммуникатив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Основополагающий вопрос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«Поэт в России больше, чем поэт…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роблемный 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Как соотносятся «очи синие, бездонные» и «всем сердцем, всей душой слушайте революцию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Анно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ема проекта выбрана в соответствии с УМК под редакцией Курдюмовой. Проект рассчитан на учащихся 11-го класса в рамках уроков литературы. Продолжительность проекта – две недели. Работа завершается защитой работ учащихся на литературной конференции, посвященной творчеству А.Блока.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762120"/>
          <a:ext cx="7848720" cy="5410080"/>
        </p:xfrm>
        <a:graphic>
          <a:graphicData uri="http://schemas.openxmlformats.org/drawingml/2006/table">
            <a:tbl>
              <a:tblPr/>
              <a:tblGrid>
                <a:gridCol w="2616120"/>
                <a:gridCol w="2870280"/>
                <a:gridCol w="236232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астные вопрос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ы исследований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а представл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В чем заключалось новаторство лирики А. Блока ?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1 Место А. Блока в русской литератур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2 А. Блок и символизм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1 Реферат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1.2 Буклет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Какова судьба любви и красоты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 лирике А. Блока?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1 От «Незнакомки» до «Железной дороги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2 Судьба поэта в «страшном» мир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2.1  Презентац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2 Сочине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Как относился А. Блок, последний дворянский поэт, к революции?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1 Образ Христа в поэме «Двенадцать»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2 Образы – символы в поэме А. Блока «Двенадцать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3.1  Презентац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3.2  Буклет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1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накомство с пробл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2 этап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–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формулирование тем исследований               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3 этап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обсуждение плана работы учащихся индивидуально или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4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самостоятельная работа учащихся по обсуждению задания каждого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5 этап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самостоятельная работа групп  по выполнению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6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одготовка учащихся к читательской конфе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7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ащита учениче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оста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зитк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еб-с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дакт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рипт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арточки для индивидуа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 по лирике А.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стихотворения А.Блока «Незнако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ы уроков по теме «Лирика А.Бло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Иллюстрации к поэме А.Блока «Двенадц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имеры работ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уклет «А. Блок и символиз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Детская презентация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Детская презентаци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уклет «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разы – символы в поэме А. Блока «Двенадцат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Информационные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1. Учебник "Литература 20 века", 11 класс. Авторы: В.А. Чалмаев, С.А. Зинин. Москва, "Родное слово",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2. Т.Т. Крук. "Поэзия Александра Блока". Москва, "Просвещение", 19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3. Учебно-методическая газета "Литература" №3 2004 год. (Номер посвящен творчеству А.Бло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4. А.Блок "Избранные произведения". Москва, "Худ. литература",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5. www.airis.ru. А.Блок и его эпоха. Иллюстрации к произведениям. 25.12.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6. http.//az.lib.ru/b/blok. Символизм. Творчество А.Блока. 27.12.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6T06:56:15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