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3A4-7AC0-4077-A208-3ECE0A55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B89-CE5A-46D7-9E69-101B9F57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643-FF8E-42FD-97F1-0075031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A3A-6408-473E-8B64-41B7F523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163-0F09-4738-B917-CF8C5311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58C-310A-42F9-A0AD-A941E72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F632-2363-45A9-A0D6-996DC363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9A3-7B67-48B2-847A-2DF7189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19EE-DFC9-4430-86C3-AABEE59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2E9C-AC2B-462C-BA81-5C2FAF1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3D73-1BDC-425C-B246-5C7E582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558-B2A3-4E71-85C4-0F0057C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750A-9A73-4714-9537-9DFE9F2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5EB4-0912-4DE2-A4CA-0CE6920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939F-C413-496F-A440-BE47E59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D881-5069-4F0D-8433-685DE832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A7E-A5FF-4439-AB46-5A127716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813-4064-41AD-9AFE-18192B2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011-DB44-4653-B1FF-0F3435C7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9A4-01BE-4A3A-9DD4-92B00AC3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8C5-FE22-437E-A757-8972899D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546-9B7E-428D-B22A-81195D8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DDD-E637-45F3-B20D-F6F9A1D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282-9913-45A6-9A14-B1EB929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124-88FD-45A4-879C-F2ABF2DD83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DF93-A43F-4F9F-A723-A4C4D4EBD9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expandingWindow(&apos;fullscreen.php?id=2103691&apos;)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fashion.artyx.ru/books/item/f00/s00/z0000000/pic/00003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Лексика 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26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дел науки о язы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– Воронков А. 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хновка, 20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убяная избуш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Матрешка Лубяная избушка. 2 сказки в одном домике (6 зверей)"/>
          <p:cNvPicPr/>
          <p:nvPr/>
        </p:nvPicPr>
        <p:blipFill>
          <a:blip r:embed="rId1"/>
          <a:stretch/>
        </p:blipFill>
        <p:spPr>
          <a:xfrm>
            <a:off x="2484360" y="2276640"/>
            <a:ext cx="3333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луш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Лес стоит сплошной стеной..."/>
          <p:cNvPicPr/>
          <p:nvPr/>
        </p:nvPicPr>
        <p:blipFill>
          <a:blip r:embed="rId1"/>
          <a:stretch/>
        </p:blipFill>
        <p:spPr>
          <a:xfrm>
            <a:off x="2916360" y="1916280"/>
            <a:ext cx="41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 пополняется словарный состав русского язы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99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ловообразование                  Заимствования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2050560" y="184464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148360" y="1844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 какого глагола можно образовать 540 сл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omic Sans MS"/>
              </a:rPr>
              <a:t>НЕСТИ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о каким признакам можно узнать заимствованны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о начинается на гласную А или Э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четания в корнях КЕ, ХЕ, ГЕ, ПЮ, ВЮ, МЮ, БЮ, КЮ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в слове буквы Ф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едство двух и более гласных в корня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те иноязычные слова и русски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гоиз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йс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мпи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ми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ры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или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юр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вюр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вос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хем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уэл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ак, н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удем бить баклуш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сучите рука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нье приготовьтесь слуша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 н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шла кругом голо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разеологизмы -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ойчивые сочетания слов в русском языке, которые можно заменить одним слов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Водить за нос – обманывать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Шапокля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mainpic" descr="Шапокляк&#10;---------&#10; (кликните по изображению, чтобы открыть его в полный экран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257184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000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700280"/>
            <a:ext cx="1625760" cy="3809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47480" y="177264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Литературный герой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682440" y="494100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Цилиндр на пружинк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укомор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Старый Парк, который спит днем, а ночью гуляет среди людей."/>
          <p:cNvPicPr/>
          <p:nvPr/>
        </p:nvPicPr>
        <p:blipFill>
          <a:blip r:embed="rId1"/>
          <a:stretch/>
        </p:blipFill>
        <p:spPr>
          <a:xfrm>
            <a:off x="1619280" y="1773360"/>
            <a:ext cx="5367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2:47:39Z</dcterms:created>
  <dc:creator>Администратор</dc:creator>
  <dc:description/>
  <dc:language>en-US</dc:language>
  <cp:lastModifiedBy>Алексей</cp:lastModifiedBy>
  <dcterms:modified xsi:type="dcterms:W3CDTF">2010-09-10T09:29:27Z</dcterms:modified>
  <cp:revision>5</cp:revision>
  <dc:subject/>
  <dc:title>Лексика - </dc:title>
</cp:coreProperties>
</file>