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1DAC-D853-4287-9CB3-2C49699A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151-3E79-4AFB-AFA2-925B1EEC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EF66-42CA-410B-884A-6CBAB99E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F482-5BDF-4F5F-A4B4-A8E34C09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CE94-49D3-4A36-B683-DE7BC700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6AE7-C3C1-4C63-A647-7258C8AB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B354-76C1-42D1-8F61-5EB72BD0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767C-47F8-4145-BDF3-CB0B358E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7A9F-6BD7-4262-B8A1-13308806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B87B-1398-405B-AFA5-D05517F1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63C0-59DE-4CCC-8938-3B523EAC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353-D2AE-47E7-8AF9-BE7C1D29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5E89-67E2-45F4-8FDC-667DDBC8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7FB7-3A7F-4566-9AB7-780DC12B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84AD-2A32-4D7E-A646-AED7881C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E93C-4DEB-4C88-BA97-2B9E3A98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0625-AC4C-4D5F-A148-56B5DE50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E1CA-ADB5-4B84-83F4-1B57433C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FED0-6AFA-41C6-A771-E7B4197B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DD01-8A9D-44DA-874E-CE482260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3195-CC8E-4F2E-8D40-773F7948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E4B4-2147-4AD1-9DEC-02F5D832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5FB-9EA1-4179-B888-E538B481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236A-ED80-4E2C-B554-0FDC209D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1B50-D6C5-48D4-961B-7DBB1408EA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DE5C-7430-4C2A-A200-EC0287FC09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javascript:expandingWindow(&apos;fullscreen.php?id=2103691&apos;)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fashion.artyx.ru/books/item/f00/s00/z0000000/pic/000032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Comic Sans MS"/>
              </a:rPr>
              <a:t>Лексика -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26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аздел науки о язык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итель русского языка и литературы – Воронков А. 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хновка, 200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убяная избуш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Матрешка Лубяная избушка. 2 сказки в одном домике (6 зверей)"/>
          <p:cNvPicPr/>
          <p:nvPr/>
        </p:nvPicPr>
        <p:blipFill>
          <a:blip r:embed="rId1"/>
          <a:stretch/>
        </p:blipFill>
        <p:spPr>
          <a:xfrm>
            <a:off x="2484360" y="2276640"/>
            <a:ext cx="33339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глуш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Лес стоит сплошной стеной..."/>
          <p:cNvPicPr/>
          <p:nvPr/>
        </p:nvPicPr>
        <p:blipFill>
          <a:blip r:embed="rId1"/>
          <a:stretch/>
        </p:blipFill>
        <p:spPr>
          <a:xfrm>
            <a:off x="2916360" y="1916280"/>
            <a:ext cx="41036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ак пополняется словарный состав русского язы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299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Словообразование                  Заимствования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4"/>
          <p:cNvSpPr/>
          <p:nvPr/>
        </p:nvSpPr>
        <p:spPr>
          <a:xfrm flipH="1">
            <a:off x="2050560" y="1844640"/>
            <a:ext cx="100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5148360" y="1844640"/>
            <a:ext cx="1008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т какого глагола можно образовать 540 сл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omic Sans MS"/>
              </a:rPr>
              <a:t>НЕСТИ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По каким признакам можно узнать заимствованные сло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лово начинается на гласную А или Э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четания в корнях КЕ, ХЕ, ГЕ, ПЮ, ВЮ, МЮ, БЮ, КЮ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личие в слове буквы Ф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седство двух и более гласных в корнях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йдите иноязычные слова и русские сло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гоизм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йско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мпион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рмия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ерыв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Филин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юре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равюра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вось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т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хема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уэль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так, не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удем бить баклуш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сучите рукав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данье приготовьтесь слушать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б не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шла кругом голов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Фразеологизмы -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стойчивые сочетания слов в русском языке, которые можно заменить одним словом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«Водить за нос – обманывать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Шапокля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mainpic" descr="Шапокляк&#10;---------&#10; (кликните по изображению, чтобы открыть его в полный экран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700280"/>
            <a:ext cx="2571840" cy="3657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00003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1700280"/>
            <a:ext cx="1625760" cy="38098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447480" y="1772640"/>
            <a:ext cx="27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Литературный герой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682440" y="4941000"/>
            <a:ext cx="31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Цилиндр на пружинках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укомор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Старый Парк, который спит днем, а ночью гуляет среди людей."/>
          <p:cNvPicPr/>
          <p:nvPr/>
        </p:nvPicPr>
        <p:blipFill>
          <a:blip r:embed="rId1"/>
          <a:stretch/>
        </p:blipFill>
        <p:spPr>
          <a:xfrm>
            <a:off x="1619280" y="1773360"/>
            <a:ext cx="5367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2:47:39Z</dcterms:created>
  <dc:creator>Администратор</dc:creator>
  <dc:description/>
  <dc:language>en-US</dc:language>
  <cp:lastModifiedBy>Алексей</cp:lastModifiedBy>
  <dcterms:modified xsi:type="dcterms:W3CDTF">2010-09-10T09:29:27Z</dcterms:modified>
  <cp:revision>5</cp:revision>
  <dc:subject/>
  <dc:title>Лексика - </dc:title>
</cp:coreProperties>
</file>