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32.gif" ContentType="image/gif"/>
  <Override PartName="/ppt/media/image29.jpeg" ContentType="image/jpeg"/>
  <Override PartName="/ppt/media/image8.jpeg" ContentType="image/jpeg"/>
  <Override PartName="/ppt/media/image7.jpeg" ContentType="image/jpeg"/>
  <Override PartName="/ppt/media/image28.jpeg" ContentType="image/jpeg"/>
  <Override PartName="/ppt/media/image34.png" ContentType="image/png"/>
  <Override PartName="/ppt/media/image12.jpeg" ContentType="image/jpeg"/>
  <Override PartName="/ppt/media/image5.png" ContentType="image/png"/>
  <Override PartName="/ppt/media/image35.png" ContentType="image/pn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33.png" ContentType="image/png"/>
  <Override PartName="/ppt/media/image6.png" ContentType="image/png"/>
  <Override PartName="/ppt/media/image36.png" ContentType="image/png"/>
  <Override PartName="/ppt/media/image18.jpeg" ContentType="image/jpeg"/>
  <Override PartName="/ppt/media/image4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3F1C-11CD-4D89-9672-125CB63B8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A1F8-DD57-4062-99E8-BAB94538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459D-94B5-46EB-B1D8-5EFD6AD04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8290-405C-404E-8AAD-E95D4EB7C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E1AD-9D8E-41E3-8448-12551E95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6D3C-FC80-46F5-93DB-AAEF559F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F87F-7596-40E3-AAE4-D4F37AC5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81CC-DF9D-4D41-8028-6218FC85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4863-54F6-41B3-B359-B0276E55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3109-A957-409B-BE47-DC0AAB92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D817-B6B5-40C8-A10C-A970F204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89CA-54D6-45B7-8D2D-2FCA3F3A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35418-D814-4986-80A7-F8C3043A670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7612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182840"/>
            <a:ext cx="64008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.Б.Эс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анкт-Петербургский государственный универси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1619280" y="6288120"/>
            <a:ext cx="64008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5643720" y="2308320"/>
            <a:ext cx="2923920" cy="3882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647640" y="1974960"/>
            <a:ext cx="2705040" cy="41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457200" y="1684440"/>
            <a:ext cx="4016520" cy="4359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4680000" y="1787400"/>
            <a:ext cx="4016160" cy="2676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5127480" y="4967280"/>
            <a:ext cx="307980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эр Исаа́к Нью́то́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англ.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r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aac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wt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 декабря 1642  — 20 мар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В философии не может быть государя, кроме истины… Мы должны поставить памятники из золота Кеплеру, Галилею, Декарту и на каждом написать: «Платон — друг, Аристотель — друг, но главный друг — истина»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5033880" y="1600200"/>
            <a:ext cx="32958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я движения Лу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фференциальное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гральное исчисл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числение орбит ком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едены три закона Кепле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дены параболические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иперболические орби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5068800" y="1600200"/>
            <a:ext cx="32241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47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4672080" y="2116080"/>
            <a:ext cx="4014720" cy="34941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-57240" y="1655640"/>
            <a:ext cx="4016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7" descr=""/>
          <p:cNvPicPr/>
          <p:nvPr/>
        </p:nvPicPr>
        <p:blipFill>
          <a:blip r:embed="rId2"/>
          <a:stretch/>
        </p:blipFill>
        <p:spPr>
          <a:xfrm>
            <a:off x="561960" y="1155600"/>
            <a:ext cx="3038400" cy="53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она́рд Э́йлер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нем. 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Leonhard Euler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(15) апреля 1707 - 7 (18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нтября 17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— Вы написали так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громную книгу о системе мира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и разу не упомянули о 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ворц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р, я не нуждался в эт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ипотезе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033880" y="1805040"/>
            <a:ext cx="3295800" cy="41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47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стойчивость Солнеч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ст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смогоническая гипотез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ория возмущ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зонанс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ория прилив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4672080" y="1854360"/>
            <a:ext cx="4014720" cy="40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оганн Карл Фри́др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а́усс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нем. 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Johann Carl Friedri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Gauß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апреля 1777 — 23 февра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5118120" y="1600200"/>
            <a:ext cx="31258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47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ректор Гетинген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серватор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09 год: «Те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вижения небесных тел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ение орбиты по тр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блюдени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11 год: появляется н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мета. Гаусс быстро и оч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чно рассчитывает её орби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овы неэвклид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еомет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4983120" y="1600200"/>
            <a:ext cx="3392640" cy="45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кола́й Ива́нови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баче́вск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  ноября (1 декабря) 1792 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(24) февраля 18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046840" y="1600200"/>
            <a:ext cx="32702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1554120" y="180036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883404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1584360" y="863640"/>
            <a:ext cx="5975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ff00ff"/>
                </a:solidFill>
                <a:latin typeface="Arial"/>
              </a:rPr>
              <a:t>Математико-механический факульте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814320" y="1600200"/>
            <a:ext cx="3300480" cy="45244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4672080" y="2039760"/>
            <a:ext cx="4014720" cy="36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екса́ндр Миха́йлови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япуно́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  мая (6 июня) 1857 — 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ября 19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5118120" y="1774800"/>
            <a:ext cx="3125880" cy="41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0147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игуры устойчив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Общая задача о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стойчивости движе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409680" y="4680000"/>
            <a:ext cx="8231040" cy="3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вдок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Εὔδοξος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. 408 год до н. э. - 35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д до н. э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0280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ерватория, в которой впервые в Элладе велись систематические наблюдения за неб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0280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в Греции звёздный катало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0280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ил кинематическую модель, видимых движений Солнца, Луны и пла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4673520" y="2357280"/>
            <a:ext cx="4016520" cy="30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о́ганн Ке́пл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ем. 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Johannes Kepler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7 декабря 1571 г. — 15 ноябр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630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4861080" y="1600200"/>
            <a:ext cx="36399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ьер-Симо́н Лапла́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фр. Pierre-Simon La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3 марта 1749 — 5 марта 18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4861080" y="1727280"/>
            <a:ext cx="3639960" cy="42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озе́ф Луи́ Лагра́нж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фр. Joseph Lou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Lag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тал. Giuseppe Lodov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Lagrang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5 января 1736 — 10 апре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4861080" y="1757520"/>
            <a:ext cx="3639960" cy="42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Система мира Птолеме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(эпициклы и деференты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Ряды Фур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4861080" y="1897200"/>
            <a:ext cx="3639960" cy="3932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"/>
          <p:cNvPicPr/>
          <p:nvPr/>
        </p:nvPicPr>
        <p:blipFill>
          <a:blip r:embed="rId2"/>
          <a:stretch/>
        </p:blipFill>
        <p:spPr>
          <a:xfrm>
            <a:off x="490680" y="2879640"/>
            <a:ext cx="3757320" cy="668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"/>
          <p:cNvPicPr/>
          <p:nvPr/>
        </p:nvPicPr>
        <p:blipFill>
          <a:blip r:embed="rId3"/>
          <a:stretch/>
        </p:blipFill>
        <p:spPr>
          <a:xfrm>
            <a:off x="447840" y="4103640"/>
            <a:ext cx="3800160" cy="18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Arial"/>
              </a:rPr>
              <a:t>Сферическая гео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ема син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ема косин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ула пяти эле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4673520" y="1844640"/>
            <a:ext cx="4016520" cy="4038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"/>
          <p:cNvPicPr/>
          <p:nvPr/>
        </p:nvPicPr>
        <p:blipFill>
          <a:blip r:embed="rId2"/>
          <a:stretch/>
        </p:blipFill>
        <p:spPr>
          <a:xfrm>
            <a:off x="808200" y="2592360"/>
            <a:ext cx="2647800" cy="635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"/>
          <p:cNvPicPr/>
          <p:nvPr/>
        </p:nvPicPr>
        <p:blipFill>
          <a:blip r:embed="rId3"/>
          <a:stretch/>
        </p:blipFill>
        <p:spPr>
          <a:xfrm>
            <a:off x="611280" y="4016520"/>
            <a:ext cx="3862440" cy="3045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"/>
          <p:cNvPicPr/>
          <p:nvPr/>
        </p:nvPicPr>
        <p:blipFill>
          <a:blip r:embed="rId4"/>
          <a:stretch/>
        </p:blipFill>
        <p:spPr>
          <a:xfrm>
            <a:off x="703440" y="5329080"/>
            <a:ext cx="4049640" cy="2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Arial"/>
              </a:rPr>
              <a:t>Теория движения Лу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Arial"/>
              </a:rPr>
              <a:t>Дифференциальное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Arial"/>
              </a:rPr>
              <a:t>интегральное исчис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5068800" y="1600200"/>
            <a:ext cx="32241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ме́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Ἀρχιμήδη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87 до н. э. - 212 до н. 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028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нига "Об устройстве небесного глобуса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028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анетарий или «небесная сфера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028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стояния в 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028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Псаммит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сылаются – Тит Ливий, Птолеме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иппар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883404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4749840" y="1600200"/>
            <a:ext cx="38354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65240"/>
            <a:ext cx="8228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00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вкли́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вкли́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Εὐκλείδη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. 300 г. до н. э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028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Яв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φαινόμενα) — приложения сферической геометрии к астроном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883404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4648320" y="16146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883404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23880" y="1992240"/>
            <a:ext cx="6096240" cy="37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кола́й Копе́р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.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Mikołaj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Koperni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. 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Nikolaus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Koperniku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т.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Nicolaus Copernicu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9 февраля 1473 - 24 м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5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883404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4967280" y="1535040"/>
            <a:ext cx="3600360" cy="46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75840" y="152244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552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5520" indent="-24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думаю, что тяжесть есть не что иное, как некоторое стремление, которым божественный Зодчий одарил частицы материи, чтобы они соединялись в форме шара. Этим свойством, вероятно, обладают Солнце, Луна и планеты; ему эти светила обязаны своей шаровидной фор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5520" indent="-24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зы Венеры и Мерку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883404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5054760" y="1600200"/>
            <a:ext cx="3252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алиле́о Галиле́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итал. 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Galileo Galilei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5 февраля 1564 — 8 январ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6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883404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4836960" y="1600200"/>
            <a:ext cx="36878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883404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457200" y="1684440"/>
            <a:ext cx="4016520" cy="4359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4673520" y="2523960"/>
            <a:ext cx="4016520" cy="2676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7T06:07:11Z</dcterms:created>
  <dc:creator>Nina</dc:creator>
  <dc:description/>
  <dc:language>en-US</dc:language>
  <cp:lastModifiedBy>ZooM</cp:lastModifiedBy>
  <dcterms:modified xsi:type="dcterms:W3CDTF">2013-10-13T16:10:51Z</dcterms:modified>
  <cp:revision>9</cp:revision>
  <dc:subject/>
  <dc:title>Математика в астрономии и астрономия в математике</dc:title>
</cp:coreProperties>
</file>