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32.gif" ContentType="image/gif"/>
  <Override PartName="/ppt/media/image29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3.png" ContentType="image/png"/>
  <Override PartName="/ppt/media/image6.png" ContentType="image/png"/>
  <Override PartName="/ppt/media/image36.png" ContentType="image/png"/>
  <Override PartName="/ppt/media/image18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5CA-3231-4A1B-A5E4-4A614DE4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51A-9A4F-43D3-81EB-032833CF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F5C-ED9F-4772-8623-54801398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FC3-2359-4B9F-85A6-EDFEAE25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122-9014-4510-A435-12AF5D47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F8F-7998-401B-AF14-37B3CD10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B69-67A2-4E05-9F08-A36399A6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E8F-33BF-48B6-BF29-86D31627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9BB-65BC-4032-962A-1A74BC81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CD6-D52E-48BF-A0E0-93F3E179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414-867D-4BFF-8DA0-6CA4A47B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040-660A-4D6E-BDEE-F77BA22A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0D02E-4757-46A6-A2F5-C1563FEE10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61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82840"/>
            <a:ext cx="6400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.Б.Эс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анкт-Петербургский государственный уни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619280" y="6288120"/>
            <a:ext cx="6400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643720" y="2308320"/>
            <a:ext cx="2923920" cy="388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7640" y="1974960"/>
            <a:ext cx="2705040" cy="41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57200" y="1684440"/>
            <a:ext cx="4016520" cy="4359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4680000" y="1787400"/>
            <a:ext cx="4016160" cy="267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5127480" y="4967280"/>
            <a:ext cx="30798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эр Исаа́к Нью́то́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гл.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aa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декабря 1642  — 20 м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 философии не может быть государя, кроме истины… Мы должны поставить памятники из золота Кеплеру, Галилею, Декарту и на каждом написать: «Платон — друг, Аристотель — друг, но главный друг — истина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5033880" y="1600200"/>
            <a:ext cx="3295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вижения Лу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льно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льное исчис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ение орбит ком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дены три закона Кепл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ы параболиче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болические орб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068800" y="1600200"/>
            <a:ext cx="3224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4672080" y="2116080"/>
            <a:ext cx="4014720" cy="3494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-57240" y="1655640"/>
            <a:ext cx="4016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561960" y="1155600"/>
            <a:ext cx="303840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она́рд Э́йле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нем. 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eonhard Euler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(15) апреля 1707 - 7 (1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нтября 17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— Вы написали так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ромную книгу о системе ми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 разу не упомянули о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рц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р, я не нуждался в э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потезе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033880" y="1805040"/>
            <a:ext cx="329580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ойчивость Солне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могоническая гипоте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ория возмущ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онан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ория прили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672080" y="1854360"/>
            <a:ext cx="4014720" cy="40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оганн Карл Фри́др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́ус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нем. 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ohann Carl Fried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au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апреля 1777 — 23 февра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118120" y="1600200"/>
            <a:ext cx="31258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ректор Гетинге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сервато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9 год: «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ижения небесных тел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орбиты по тр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блюден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1 год: появляется н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ета. Гаусс быстро и о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но рассчитывает её орби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ы неэвкли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926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ла́й Ива́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баче́вск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  ноября (1 декабря) 1792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(24) февраля 1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046840" y="1600200"/>
            <a:ext cx="3270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554120" y="180036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584360" y="863640"/>
            <a:ext cx="597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Arial"/>
              </a:rPr>
              <a:t>Математико-механический факульт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814320" y="1600200"/>
            <a:ext cx="3300480" cy="4524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672080" y="2039760"/>
            <a:ext cx="401472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́ндр Миха́йл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япуно́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  мая (6 июня) 1857 —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ября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118120" y="1774800"/>
            <a:ext cx="312588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гуры устойч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бщая задача о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ойчивости движ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09680" y="4680000"/>
            <a:ext cx="82310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док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Εὔδοξο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. 408 год до н. э. - 3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 до н. э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ерватория, в которой впервые в Элладе велись систематические наблюдения за не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в Греции звёздный ка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л кинематическую модель, видимых движений Солнца, Луны и пла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73520" y="2357280"/>
            <a:ext cx="4016520" cy="30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о́ганн Ке́п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 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ohannes Kepler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 декабря 1571 г. — 15 нояб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3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861080" y="1600200"/>
            <a:ext cx="3639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ьер-Симо́н Лапла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р. Pierre-Simon La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 марта 1749 — 5 марта 18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861080" y="1727280"/>
            <a:ext cx="363996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зе́ф Луи́ Лагра́н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р. Joseph Lou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ag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. Giuseppe Lodov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agrang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 января 1736 — 10 апр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861080" y="1757520"/>
            <a:ext cx="363996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Система мира Птолем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(эпициклы и деферен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Ряды Фу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861080" y="1897200"/>
            <a:ext cx="3639960" cy="3932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490680" y="2879640"/>
            <a:ext cx="3757320" cy="668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3"/>
          <a:stretch/>
        </p:blipFill>
        <p:spPr>
          <a:xfrm>
            <a:off x="447840" y="4103640"/>
            <a:ext cx="38001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Сферическая 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косин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а пяти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673520" y="1844640"/>
            <a:ext cx="4016520" cy="4038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808200" y="2592360"/>
            <a:ext cx="2647800" cy="63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3"/>
          <a:stretch/>
        </p:blipFill>
        <p:spPr>
          <a:xfrm>
            <a:off x="611280" y="4016520"/>
            <a:ext cx="386244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4"/>
          <a:stretch/>
        </p:blipFill>
        <p:spPr>
          <a:xfrm>
            <a:off x="703440" y="5329080"/>
            <a:ext cx="4049640" cy="2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Теория движения Лу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Дифференциально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интегральное исчис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5068800" y="1600200"/>
            <a:ext cx="3224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ме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Ἀρχιμήδη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87 до н. э. - 212 до н. 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а "Об устройстве небесного глобуса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етарий или «небесная сфер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тояния в 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самми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сылаются – Тит Ливий, Птолем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ппар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749840" y="1600200"/>
            <a:ext cx="3835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8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кли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кли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Εὐκλείδη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. 300 г. до н. э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φαινόμενα) — приложения сферической геометрии к астроно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16146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1992240"/>
            <a:ext cx="609624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́й Копе́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.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kołaj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operni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. 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ikolau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pernik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т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Nicolaus Copernic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 февраля 1473 - 24 м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967280" y="1535040"/>
            <a:ext cx="360036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5840" y="152244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552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думаю, что тяжесть есть не что иное, как некоторое стремление, которым божественный Зодчий одарил частицы материи, чтобы они соединялись в форме шара. Этим свойством, вероятно, обладают Солнце, Луна и планеты; ему эти светила обязаны своей шаровидной фо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зы Венеры и Мерку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054760" y="1600200"/>
            <a:ext cx="3252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иле́о Галиле́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тал. 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Galileo Galile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февраля 1564 — 8 янв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836960" y="1600200"/>
            <a:ext cx="368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57200" y="1684440"/>
            <a:ext cx="4016520" cy="435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673520" y="2523960"/>
            <a:ext cx="40165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6:07:11Z</dcterms:created>
  <dc:creator>Nina</dc:creator>
  <dc:description/>
  <dc:language>en-US</dc:language>
  <cp:lastModifiedBy>ZooM</cp:lastModifiedBy>
  <dcterms:modified xsi:type="dcterms:W3CDTF">2013-10-13T16:10:51Z</dcterms:modified>
  <cp:revision>9</cp:revision>
  <dc:subject/>
  <dc:title>Математика в астрономии и астрономия в математике</dc:title>
</cp:coreProperties>
</file>