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AC2-39A7-4BC4-A705-2870F244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D8F-C658-4132-99CD-AD1FCFF6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CFA-65FA-44A6-9918-AF31DE1E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C96-4038-4C2E-8CE9-F24682A9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8BF-0AB7-4AE6-98A3-7678DD4D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158-4E5E-4BAB-A30D-5866AC8E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CCD-8379-4414-A274-565FC817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2E2-2BE2-4FDB-BE3A-BAB65E8E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553-3D63-49A6-9F57-759E4F26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548-BADA-417F-ADA9-9998553D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BB0-A770-4322-AAB1-A579B5EC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C7C-8FD0-4CA3-AB82-76A34F30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BD98-0DEF-437E-8411-010D71BD5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7720" y="863640"/>
            <a:ext cx="252900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6440" y="819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386080" y="2641680"/>
            <a:ext cx="3806640" cy="1731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7000" y="4419720"/>
            <a:ext cx="3807000" cy="1668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62000" y="4471920"/>
            <a:ext cx="2863800" cy="2152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09000" y="615636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6200" y="549360"/>
          <a:ext cx="8929800" cy="621648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ALX</cp:lastModifiedBy>
  <dcterms:modified xsi:type="dcterms:W3CDTF">2011-01-21T05:57:04Z</dcterms:modified>
  <cp:revision>70</cp:revision>
  <dc:subject>Квантовая химия</dc:subject>
  <dc:title>Урок–презентация «Состояние электронов в атоме»</dc:title>
</cp:coreProperties>
</file>