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8D5-0E62-444B-B2AE-13C4F170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01B-314D-49FE-B021-0794E48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E42-192A-419D-B81E-C4B04C78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249-18B4-4414-8F16-A6A03D60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F0B-C5B5-43D3-9F6D-B4A9F18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070-E197-4597-8DCC-5BD7A9E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15A-4645-4B0A-BF77-2C9A80F0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785-A98D-4155-BDF9-06680BC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8E3-403B-4284-A18C-A2B3B24F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906-3519-4C26-A667-3B65C88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984-5DAE-40F0-A34E-FD93C2A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4C9-1728-4B63-B6CB-5C9A358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45D-E9C4-433A-B876-793C485A4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7720" y="863640"/>
            <a:ext cx="25290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6440" y="819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86080" y="2641680"/>
            <a:ext cx="3806640" cy="1731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7000" y="4419720"/>
            <a:ext cx="3807000" cy="166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2000" y="4471920"/>
            <a:ext cx="2863800" cy="215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9000" y="615636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200" y="549360"/>
          <a:ext cx="8929800" cy="621648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ALX</cp:lastModifiedBy>
  <dcterms:modified xsi:type="dcterms:W3CDTF">2011-01-21T05:57:04Z</dcterms:modified>
  <cp:revision>70</cp:revision>
  <dc:subject>Квантовая химия</dc:subject>
  <dc:title>Урок–презентация «Состояние электронов в атоме»</dc:title>
</cp:coreProperties>
</file>