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61A-0498-4F94-9D56-5760CE54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6A6-4EBA-4B4F-BEC1-C8791D2C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704-049D-438B-BA08-AEA1FE90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C08-2CAD-404E-B413-74D5C0CD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3A0A-F8BB-4EE3-A684-43174B4A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C1F-D44B-4FDD-9C1D-BCA5714B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DCF-D051-46C1-B669-50CB0422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3BD-570B-4678-AAA6-D4817102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5D7-DEB8-4B9F-8634-6D090DD0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86B-34AA-47FD-8A21-F09E782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7D3-DC0F-41B4-9414-C82EA24A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BF3-2BEC-4CEA-B51C-2D2524BC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A3D7-8959-4715-85B8-D22C5CF48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27720" y="863640"/>
            <a:ext cx="2529000" cy="1752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6440" y="819000"/>
            <a:ext cx="3805200" cy="1733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386080" y="2641680"/>
            <a:ext cx="3806640" cy="1731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337000" y="4419720"/>
            <a:ext cx="3807000" cy="1668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62000" y="4471920"/>
            <a:ext cx="2863800" cy="2152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09000" y="615636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Тверских О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учитель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рбиталь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8000" y="1403280"/>
            <a:ext cx="5185080" cy="518328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11280" y="725400"/>
            <a:ext cx="7993080" cy="6132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92360" y="-3636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агнит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445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пинов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86280" y="3473280"/>
            <a:ext cx="2941920" cy="2419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Картинка 1 из 712"/>
          <p:cNvPicPr/>
          <p:nvPr/>
        </p:nvPicPr>
        <p:blipFill>
          <a:blip r:embed="rId2"/>
          <a:stretch/>
        </p:blipFill>
        <p:spPr>
          <a:xfrm>
            <a:off x="297000" y="1403280"/>
            <a:ext cx="5157720" cy="305928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Принцип наименьшей энер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В атоме каждый электрон располагается так, чтобы его энергия была минимальной (что отвечает наибольшей его связи с ядр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360" y="3024360"/>
            <a:ext cx="42879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6280" y="233280"/>
            <a:ext cx="8010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ечков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еволод Маврикиевич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00 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Клечковск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лектрон занимает в основном состоянии уровень не с минимально возможным значением n, а с наименьшим значением суммы n + l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5920" y="233280"/>
            <a:ext cx="1952640" cy="2384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921280" y="279360"/>
            <a:ext cx="2063880" cy="1031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732720" y="638280"/>
            <a:ext cx="1838160" cy="1226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316640" y="2033640"/>
            <a:ext cx="14526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Вольфганг Эрнст Пау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900 – 19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Авс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ринцип Пау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В атоме не может быть двух электронов, у которых все четыре квантовых числа были бы одинак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792440" cy="1195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985760" cy="27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281640" y="1403280"/>
            <a:ext cx="21369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ридрих Х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 – 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Гер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авило Хун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и данном значении l (т. е. в пределах определенного подуровня) электроны располагаются таким образам, чтобы суммарный спин был максима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1280" y="279360"/>
            <a:ext cx="1940040" cy="2654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67360" y="333360"/>
            <a:ext cx="1806840" cy="108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472000" y="1584360"/>
            <a:ext cx="19987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Состояние электронов в ато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805200" cy="1733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03640" y="4797360"/>
            <a:ext cx="3807000" cy="1668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863800" cy="215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877000" y="1042920"/>
            <a:ext cx="2949480" cy="2617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340000" y="2852640"/>
            <a:ext cx="38066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000" y="189000"/>
            <a:ext cx="1952640" cy="270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10920" y="259920"/>
            <a:ext cx="7993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4 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ра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уи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е Брой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Луи Виктор Пьер Рейм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7-й герцог Броль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892-19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ауреат нобелевской пре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19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 обладает двойственными корпускулярно-волновыми свойствами (как свет), то есть проявляет одновременно свойства частицы и вол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7000" y="2303640"/>
            <a:ext cx="1081080" cy="1304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51640" y="684360"/>
            <a:ext cx="1401840" cy="216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102360" y="233280"/>
            <a:ext cx="16430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5400" y="98280"/>
            <a:ext cx="2361960" cy="2475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008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927 год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ША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линтон Дж. Дэвисс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81-195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e2e2"/>
                </a:solidFill>
                <a:latin typeface="Arial"/>
              </a:rPr>
              <a:t>Лауре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т нобелевской премии по физ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9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Лестер Г. Джерм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6-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Англия 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жозеф Паджет Том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(1892-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Экспериментально доказ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тверждение Луи де Брой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418520" y="549360"/>
            <a:ext cx="1519200" cy="2023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92720" y="142920"/>
            <a:ext cx="1575000" cy="1049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7600" y="4329000"/>
            <a:ext cx="1363680" cy="1846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971640" y="3741840"/>
            <a:ext cx="16462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24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Герм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Вернер Карл Гейзенб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901-197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нобелевской премии 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9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Принцип неопределенности: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Невозможно в один и тот же момент времени точно определить местонахождение электрона в пространстве и его скор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2000" y="142920"/>
            <a:ext cx="2227320" cy="244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93080" y="233280"/>
            <a:ext cx="179856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99360" y="1494000"/>
            <a:ext cx="1998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31640" y="233280"/>
            <a:ext cx="8290080" cy="61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192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Австрия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Эрвин Шрединг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887-196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Лауре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нобелевской пре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по физ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193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Уравнение Шред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21280" y="2619360"/>
            <a:ext cx="2886120" cy="388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36960" cy="224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0" y="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76280" y="5138640"/>
                <a:ext cx="49356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21640" y="279360"/>
            <a:ext cx="186516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Уравнение Шрединг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гд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x, y, z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расстоя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остоянная Планка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6,626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×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10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-34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Дж</a:t>
            </a:r>
            <a:r>
              <a:rPr b="1" lang="ru-RU" sz="1800" spc="-1" strike="noStrike" baseline="30000">
                <a:solidFill>
                  <a:srgbClr val="003399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)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m –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масса частицы,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E</a:t>
            </a:r>
            <a:r>
              <a:rPr b="1" lang="ru-RU" sz="2000" spc="-1" strike="noStrike" baseline="-25000">
                <a:solidFill>
                  <a:srgbClr val="003399"/>
                </a:solidFill>
                <a:latin typeface="Arial"/>
                <a:ea typeface="Arial"/>
              </a:rPr>
              <a:t>п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полная и потенциальная энергия час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вадрат моду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функц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преде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ероя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хождения электр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пространств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в ато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076640" y="3040200"/>
            <a:ext cx="46944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30909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340000" y="907920"/>
                <a:ext cx="4390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97000" y="2141640"/>
                <a:ext cx="330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81080" y="3518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915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Функци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Ψ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 завис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от пространств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координат э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(радиуса и двух уг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и опреде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набором квантовых чисел:</a:t>
            </a:r>
            <a:r>
              <a:rPr b="0" lang="en-US" sz="3200" spc="-1" strike="noStrike">
                <a:solidFill>
                  <a:srgbClr val="e62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, l, m,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7000" y="1014480"/>
            <a:ext cx="46940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0560" y="11556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Квантов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6200" y="549360"/>
          <a:ext cx="8929800" cy="6216480"/>
        </p:xfrm>
        <a:graphic>
          <a:graphicData uri="http://schemas.openxmlformats.org/drawingml/2006/table">
            <a:tbl>
              <a:tblPr/>
              <a:tblGrid>
                <a:gridCol w="1698840"/>
                <a:gridCol w="309600"/>
                <a:gridCol w="3176640"/>
                <a:gridCol w="2808000"/>
                <a:gridCol w="936720"/>
              </a:tblGrid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ые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Физический смыс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ллю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р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Глав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энергию электрона;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тепень его удаления от ядра;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Размер электронного обла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, совпадающие с номером период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т.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рбитальное (побочное)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Определяет форму электронной орбит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: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[0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]</a:t>
                      </a:r>
                      <a:br>
                        <a:rPr sz="1800"/>
                      </a:b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им соответствуют латинские букв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и далее по алфавит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Магнитное квант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положение электронной орбитали в пространст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Целочисленные значения от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до +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, всего 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+1)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Спиновое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квантовое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Характеризует магнитный момент, возникающий при вращении электрона вокруг собственной оси – сп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-1/2 и +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Слайд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0" y="53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8244000" y="21686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244000" y="385128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8244000" y="5167440"/>
            <a:ext cx="649080" cy="25056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560"/>
              <a:gd name="textAreaBottom" fmla="*/ 234360 h 250560"/>
            </a:gdLst>
            <a:ahLst/>
            <a:rect l="textAreaLeft" t="textAreaTop" r="textAreaRight" b="textAreaBottom"/>
            <a:pathLst>
              <a:path w="55906" h="21600">
                <a:moveTo>
                  <a:pt x="0" y="0"/>
                </a:moveTo>
                <a:lnTo>
                  <a:pt x="55906" y="0"/>
                </a:lnTo>
                <a:lnTo>
                  <a:pt x="55906" y="21600"/>
                </a:lnTo>
                <a:lnTo>
                  <a:pt x="0" y="21600"/>
                </a:lnTo>
                <a:close/>
              </a:path>
              <a:path fill="lightenLess" w="55906" h="21600">
                <a:moveTo>
                  <a:pt x="0" y="0"/>
                </a:moveTo>
                <a:lnTo>
                  <a:pt x="55906" y="0"/>
                </a:lnTo>
                <a:lnTo>
                  <a:pt x="54506" y="1400"/>
                </a:lnTo>
                <a:lnTo>
                  <a:pt x="1400" y="1400"/>
                </a:lnTo>
                <a:close/>
              </a:path>
              <a:path fill="darken" w="55906" h="21600">
                <a:moveTo>
                  <a:pt x="55906" y="0"/>
                </a:moveTo>
                <a:lnTo>
                  <a:pt x="55906" y="21600"/>
                </a:lnTo>
                <a:lnTo>
                  <a:pt x="54506" y="20200"/>
                </a:lnTo>
                <a:lnTo>
                  <a:pt x="54506" y="1400"/>
                </a:lnTo>
                <a:close/>
              </a:path>
              <a:path fill="darkenLess" w="55906" h="21600">
                <a:moveTo>
                  <a:pt x="55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506" y="20200"/>
                </a:lnTo>
                <a:close/>
              </a:path>
              <a:path fill="lighten" w="55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906" h="21600">
                <a:moveTo>
                  <a:pt x="20946" y="3794"/>
                </a:moveTo>
                <a:lnTo>
                  <a:pt x="34959" y="10800"/>
                </a:lnTo>
                <a:lnTo>
                  <a:pt x="2094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8244000" y="6273720"/>
            <a:ext cx="649080" cy="250920"/>
          </a:xfrm>
          <a:custGeom>
            <a:avLst/>
            <a:gdLst>
              <a:gd name="textAreaLeft" fmla="*/ 16200 w 649080"/>
              <a:gd name="textAreaRight" fmla="*/ 632880 w 64908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826" h="21600">
                <a:moveTo>
                  <a:pt x="0" y="0"/>
                </a:moveTo>
                <a:lnTo>
                  <a:pt x="55826" y="0"/>
                </a:lnTo>
                <a:lnTo>
                  <a:pt x="55826" y="21600"/>
                </a:lnTo>
                <a:lnTo>
                  <a:pt x="0" y="21600"/>
                </a:lnTo>
                <a:close/>
              </a:path>
              <a:path fill="lightenLess" w="55826" h="21600">
                <a:moveTo>
                  <a:pt x="0" y="0"/>
                </a:moveTo>
                <a:lnTo>
                  <a:pt x="55826" y="0"/>
                </a:lnTo>
                <a:lnTo>
                  <a:pt x="54426" y="1400"/>
                </a:lnTo>
                <a:lnTo>
                  <a:pt x="1400" y="1400"/>
                </a:lnTo>
                <a:close/>
              </a:path>
              <a:path fill="darken" w="55826" h="21600">
                <a:moveTo>
                  <a:pt x="55826" y="0"/>
                </a:moveTo>
                <a:lnTo>
                  <a:pt x="55826" y="21600"/>
                </a:lnTo>
                <a:lnTo>
                  <a:pt x="54426" y="20200"/>
                </a:lnTo>
                <a:lnTo>
                  <a:pt x="54426" y="1400"/>
                </a:lnTo>
                <a:close/>
              </a:path>
              <a:path fill="darkenLess" w="55826" h="21600">
                <a:moveTo>
                  <a:pt x="55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426" y="20200"/>
                </a:lnTo>
                <a:close/>
              </a:path>
              <a:path fill="lighten" w="55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826" h="21600">
                <a:moveTo>
                  <a:pt x="20906" y="3794"/>
                </a:moveTo>
                <a:lnTo>
                  <a:pt x="34919" y="10800"/>
                </a:lnTo>
                <a:lnTo>
                  <a:pt x="209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d1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Главное квантов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240" y="1125360"/>
            <a:ext cx="4433760" cy="4062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1341360"/>
            <a:ext cx="446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= -2π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e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ru-RU" sz="28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2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 энергия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масса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заряд электрона,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- главное квантов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3130560"/>
            <a:ext cx="4287960" cy="339408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245440" y="6308640"/>
            <a:ext cx="647640" cy="250920"/>
          </a:xfrm>
          <a:custGeom>
            <a:avLst/>
            <a:gdLst>
              <a:gd name="textAreaLeft" fmla="*/ 16200 w 647640"/>
              <a:gd name="textAreaRight" fmla="*/ 631440 w 647640"/>
              <a:gd name="textAreaTop" fmla="*/ 16200 h 250920"/>
              <a:gd name="textAreaBottom" fmla="*/ 234720 h 250920"/>
            </a:gdLst>
            <a:ahLst/>
            <a:rect l="textAreaLeft" t="textAreaTop" r="textAreaRight" b="textAreaBottom"/>
            <a:pathLst>
              <a:path w="55702" h="21600">
                <a:moveTo>
                  <a:pt x="0" y="0"/>
                </a:moveTo>
                <a:lnTo>
                  <a:pt x="55702" y="0"/>
                </a:lnTo>
                <a:lnTo>
                  <a:pt x="55702" y="21600"/>
                </a:lnTo>
                <a:lnTo>
                  <a:pt x="0" y="21600"/>
                </a:lnTo>
                <a:close/>
              </a:path>
              <a:path fill="lightenLess" w="55702" h="21600">
                <a:moveTo>
                  <a:pt x="0" y="0"/>
                </a:moveTo>
                <a:lnTo>
                  <a:pt x="55702" y="0"/>
                </a:lnTo>
                <a:lnTo>
                  <a:pt x="54302" y="1400"/>
                </a:lnTo>
                <a:lnTo>
                  <a:pt x="1400" y="1400"/>
                </a:lnTo>
                <a:close/>
              </a:path>
              <a:path fill="darken" w="55702" h="21600">
                <a:moveTo>
                  <a:pt x="55702" y="0"/>
                </a:moveTo>
                <a:lnTo>
                  <a:pt x="55702" y="21600"/>
                </a:lnTo>
                <a:lnTo>
                  <a:pt x="54302" y="20200"/>
                </a:lnTo>
                <a:lnTo>
                  <a:pt x="54302" y="1400"/>
                </a:lnTo>
                <a:close/>
              </a:path>
              <a:path fill="darkenLess" w="55702" h="21600">
                <a:moveTo>
                  <a:pt x="55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02" y="20200"/>
                </a:lnTo>
                <a:close/>
              </a:path>
              <a:path fill="lighten" w="55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702" h="21600">
                <a:moveTo>
                  <a:pt x="20845" y="10800"/>
                </a:moveTo>
                <a:lnTo>
                  <a:pt x="34857" y="3794"/>
                </a:lnTo>
                <a:lnTo>
                  <a:pt x="3485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137440" y="5950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14:14Z</dcterms:created>
  <dc:creator>Тверских О.И.</dc:creator>
  <dc:description/>
  <dc:language>en-US</dc:language>
  <cp:lastModifiedBy>ALX</cp:lastModifiedBy>
  <dcterms:modified xsi:type="dcterms:W3CDTF">2011-01-21T05:57:04Z</dcterms:modified>
  <cp:revision>70</cp:revision>
  <dc:subject>Квантовая химия</dc:subject>
  <dc:title>Урок–презентация «Состояние электронов в атоме»</dc:title>
</cp:coreProperties>
</file>