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9C78-A59C-41F3-B946-C073F5A7C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FAA6-E85B-48B9-B616-37E6A30E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DE34-D4AE-46F5-B325-25317B76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7DB7-94F8-460E-8271-D0308F64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DD10-5BED-45E3-AD44-C4876E838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8A6B-B96D-4B15-9157-F4E04DC0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D46E-566F-4405-A864-93B15C5D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7DDF-A86B-4BDA-8DA8-6CEBDB16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B22C-98DA-43C2-87A0-B89E6843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2C67-BD20-42EF-8DF7-C8225E7C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925B-982B-4E8A-823E-79B21AB8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225C-5011-4122-90EA-D445181C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1680-C1BF-4195-A949-3549FFFD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CE83-95A9-48C9-B8DE-091C882F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DD84-C930-43D2-9E4E-EA9C2BF2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4E5B-1435-4456-95F7-70636143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0CED-B09E-4870-A705-571BCE11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1E3A-F3B3-46AB-8B64-AE9B00EC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C70C-F957-4C8B-9245-0399A5A1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5A93-B750-4A42-8793-3E277AF3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7D90-76B6-4702-95BC-F77B8476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DC1F-7371-47B8-9A31-4B360B75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529C-1AF5-4894-8233-7567678F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7F79-D781-4D92-BF0B-7B5BDAE3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FAAE-243A-4D84-9171-E921AF4F73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2573-06A6-470E-9905-B81D63423E1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новоросис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c56f95429a7a42719b6a8505bf1_pre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eca28"/>
                </a:solidFill>
                <a:latin typeface="Arial"/>
              </a:rPr>
              <a:t>Раненые солдаты и эвакуируемые мирные жители в порту Новороссийск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365760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c1dc3c"/>
                </a:solidFill>
                <a:latin typeface="Lucida Fax"/>
              </a:rPr>
              <a:t>9 сентября 1943 г. началось наступление наших войск за освобождение Новороссийска. В 10 часов 16 сентября над городом взвилось Красное знамя, рухнула вся Голубая линия вражеских укреплений. Солдаты и матросы 18 десантной армии очистили Новороссийск от врага. За мужество и отвагу 21 воин-защитник Малой земли был удостоен звания Героя Советского Союза, сотни солдат и офицеров награждены орденами и медалями, 19 частям и соединениям Красной Армии присвоено почетное наименование Новороссийское. 600 тысяч бойцов, сражавшихся на Кавказе, Советское правительство наградило специальной медалью «За оборону Кавказа», а город Новороссийск был награжден орденом Отечественной войны I степени. 14 сентября 1973 г. Новороссийску было присвоено почетное звание «города-героя» с вручением ордена Ленина и медали «Золотая Звезда».</a:t>
            </a:r>
            <a:r>
              <a:rPr b="1" lang="ru-RU" sz="2000" spc="-1" strike="noStrike">
                <a:solidFill>
                  <a:srgbClr val="ffffff"/>
                </a:solidFill>
                <a:latin typeface="Lucida Fax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876920" y="2286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Lucida Fax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Lucida Fax"/>
              </a:rPr>
              <a:t>Куников Цезарь Львович, майор, командир 3-го боевого участка противодесантной обороны Новороссийской военно-морской базы Черноморского флота.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Fax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Lucida Fax"/>
              </a:rPr>
              <a:t>Родился 23 июня 1909 года в городе Ростов-на-Дону в семье служащего, по национальности еврей. С 1920 года жил в Баку, с 1924  в Макеевке, в 1925году переехал в Москву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Fax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Lucida Fax"/>
              </a:rPr>
              <a:t>Работал в Макеевке на комбинате "Югосталь". В Москве слесарем на фабрике "Союз" затем токарем на тормозном завод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4" descr="ec2302bcc494f9199bbae8530c0"/>
          <p:cNvPicPr/>
          <p:nvPr/>
        </p:nvPicPr>
        <p:blipFill>
          <a:blip r:embed="rId1"/>
          <a:stretch/>
        </p:blipFill>
        <p:spPr>
          <a:xfrm>
            <a:off x="304920" y="228600"/>
            <a:ext cx="4572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952880" y="152280"/>
            <a:ext cx="3733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Lucida Fax"/>
              </a:rPr>
              <a:t>Капита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Fax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Lucida Fax"/>
              </a:rPr>
              <a:t>Власенко Борис Терентьеви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Fax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Lucida Fax"/>
              </a:rPr>
              <a:t>Родился в 1906 году в Киев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Fax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Lucida Fax"/>
              </a:rPr>
              <a:t>В августе 1942 года был начальником штаба МПВО города Новороссийска. Активный участник обороны города. После оставления нашими войсками Новороссийска был назначен командиром партизанского отря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Fax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Lucida Fax"/>
              </a:rPr>
              <a:t>За проявленные в боях с фашистами мужество и героизм награжден орденом Красного Знамени, медалями "За боевые заслуги", "За оборону Кавказа", "За победу над Германией", "За доблестный труд в ВОВ"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Fax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Lucida Fax"/>
              </a:rPr>
              <a:t>Умер в 1969 году, похоронен в Новороссийс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4" descr="Sol70l"/>
          <p:cNvPicPr/>
          <p:nvPr/>
        </p:nvPicPr>
        <p:blipFill>
          <a:blip r:embed="rId1"/>
          <a:stretch/>
        </p:blipFill>
        <p:spPr>
          <a:xfrm>
            <a:off x="228600" y="152280"/>
            <a:ext cx="4572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257440" y="228240"/>
            <a:ext cx="3429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-герой Новороссийс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6" descr="3e596a517857b86596e1eda9bfd"/>
          <p:cNvPicPr/>
          <p:nvPr/>
        </p:nvPicPr>
        <p:blipFill>
          <a:blip r:embed="rId1"/>
          <a:stretch/>
        </p:blipFill>
        <p:spPr>
          <a:xfrm>
            <a:off x="152280" y="152280"/>
            <a:ext cx="46483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386f7587a930f861ba901658f98_pre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0" y="53337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fe1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beca28"/>
                </a:solidFill>
                <a:latin typeface="Lucida Fax"/>
              </a:rPr>
              <a:t>Захват Новороссийска открывал фашистам дорогу на богатства Кавказа и Кубани. Новороссийск — это ворота с моря, через которые будут поступать гитлеровцам свежие силы, оружие, танки, а из России будут вывозиться зерно, цветные металлы, нефть, цемент, лес, рыба, фрук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89b0caa3ce8286405b2710ff274_pre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eca28"/>
                </a:solidFill>
                <a:latin typeface="Arial"/>
              </a:rPr>
              <a:t>Крейсер "Ворошилов" в Новороссийске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610f12de403cb5aa622ecc9ab5f_pre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dc3c"/>
                </a:solidFill>
                <a:latin typeface="Lucida Fax"/>
                <a:ea typeface="Times New Roman"/>
              </a:rPr>
              <a:t>«Новороссийск не сдавать! Кубань держать! </a:t>
            </a:r>
            <a:br>
              <a:rPr sz="2400"/>
            </a:br>
            <a:r>
              <a:rPr b="1" lang="ru-RU" sz="2400" spc="-1" strike="noStrike">
                <a:solidFill>
                  <a:srgbClr val="c1dc3c"/>
                </a:solidFill>
                <a:latin typeface="Lucida Fax"/>
                <a:ea typeface="Times New Roman"/>
              </a:rPr>
              <a:t>Русские войска в Крым не пускать!»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365760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dc3c"/>
                </a:solidFill>
                <a:latin typeface="Lucida Fax"/>
              </a:rPr>
              <a:t>Мужественно сражались десантники: берег моря, раскаленный песок, жара, спрятаться от вражеской пули можно только в вырытых траншеях, но их надо вырыть, а гитлеровцы атаковали почти беспрерывно. Силы далеко не равные. От непрекращающегося огня жарко, как в натопленной печи. Дышать трудно. Туго с продуктами, туго с боеприпасами, особенно трудно с водой. Со стороны вражеских позиций голос репродуктора: «Русские солдаты, сдавайтесь. У вас нет ни патронов, ни пищи, ни воды. Дальнейшее сопротивление бесполезно!». Но десантники не сдаются. Они не только не пускают врага на освобожденную территорию, они сами атакуют. В кровопролитной схватке морские пехотинцы старшины Романова отбили у врага 10 орудий и ударили из них по немца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97788f21fa9d6293c1a906c4521_prev"/>
          <p:cNvPicPr/>
          <p:nvPr/>
        </p:nvPicPr>
        <p:blipFill>
          <a:blip r:embed="rId1"/>
          <a:stretch/>
        </p:blipFill>
        <p:spPr>
          <a:xfrm>
            <a:off x="228600" y="152280"/>
            <a:ext cx="4800600" cy="6477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181120" y="-360"/>
            <a:ext cx="35816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fe1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Lucida Fax"/>
              </a:rPr>
              <a:t>В поселке Станичка  десантники отбили у врага здание школы и заняли там оборону. Гитлеровцы решили выбить наших отту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Fax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Lucida Fax"/>
              </a:rPr>
              <a:t>Семь месяцев героически сражалась Малая земля. Погиб Герой Советского Союза храбрейший моряк, майор Цезарь Куников, Малая земля — героическая земля, политая кровью и потом наших бойцов, на 225 дней приковала к себе крупные силы врага и сыграла огромную роль в разгроме фашистских войск в этом район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3e5039f30b4f5e47c3975b6ac16_pre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0" y="52574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eca28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beca28"/>
                </a:solidFill>
                <a:latin typeface="Lucida Fax"/>
              </a:rPr>
              <a:t>225 дней длился героическая эпос Малой земли. В результате боевых действий десантной группы войск в период с 4 по 30 апреля 1943 г. было уничтожено более 20 тысяч вражеских солдат и офицеров, захвачено и уничтожено большое количество военной техники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a1795f7fcc0978a8989f7c8cdb0_prev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1dc3c"/>
                </a:solidFill>
                <a:latin typeface="Lucida Fax"/>
              </a:rPr>
              <a:t>Советские солдаты в бою за Новороссийск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10d3ca5f06d7fe72b8cb962e8ca_pre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eca28"/>
                </a:solidFill>
                <a:latin typeface="Lucida Fax"/>
              </a:rPr>
              <a:t>Бойцы 2-й гвардейской стрелковой (будущей Таманской) дивизии в бою в Новороссийске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403848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beca28"/>
                </a:solidFill>
                <a:latin typeface="Lucida Fax"/>
              </a:rPr>
              <a:t>10 сентября 1943 года штурмом города с суши, моря и плацдарма на Малой земле началась Новороссийская наступательная операция, осуществленная силами 18-й армии, НВМБ, 4-й воздушной армии и ВВС Черноморского флота. Замысел операции был безупречен, но ее реализация прошла далеко не гладко. Дерзкий десант с моря, ошеломивший противника, оказался под угрозой срыва из-за задержки с высадкой второго эшелона. Сражавшихся десантников выручили войска 318-й стрелковой дивизии, прорвавшие оборону противника с суши и вызвавшие огонь на себя.</a:t>
            </a:r>
            <a:r>
              <a:rPr b="1" lang="ru-RU" sz="2000" spc="-1" strike="noStrike">
                <a:solidFill>
                  <a:srgbClr val="ffffff"/>
                </a:solidFill>
                <a:latin typeface="Lucida Fax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04-15T17:09:4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