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B70-D1AA-43DC-A4C2-69D91035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DACD-6738-457C-96F5-DA4A0374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72E-24E4-4DE0-8C7B-AD878A42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D84-FF6B-414E-9015-09302D27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FC4C-D74D-40E1-9B34-0618E507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731F-3CB2-443C-9EDC-6E55BE97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C9E7-EE1A-423D-B678-A5D23D9B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F1EA-8527-4F4C-A483-5A640D73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B04D-5A15-4090-9B94-BD265A60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EB55-E0EE-4929-B108-3B5B10EF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3EF6-7793-4A96-8573-ECE7B864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ABB6-B8E2-4629-BC49-7C7DD833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79E5-195D-4253-8ABA-A4BFEB21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3F32-DACF-4AB4-AA34-65B03483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D296-6C44-4F80-A210-D3D76159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C1E3-9816-409E-9CAC-063A73F1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A1C8-0C90-44A4-926D-CE154A04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AF94-69E6-4D2B-8EC7-70FECA44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2FC-6F7C-4380-BE3C-C801B10E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8EEA-852C-41B2-B9AB-A353D6E0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9214-1790-4BE7-8E01-69F3D761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5EA-7436-436C-9010-F88BB3C6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F5C3-6037-4AE9-8626-0B57A861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608-E419-4BE1-936A-1D9C9E9F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8670-6644-4C96-9991-C1B603CA21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AAC3-6E04-45AC-B039-4AE96A4BFF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новоросис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c56f95429a7a42719b6a8505bf1_pr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eca28"/>
                </a:solidFill>
                <a:latin typeface="Arial"/>
              </a:rPr>
              <a:t>Раненые солдаты и эвакуируемые мирные жители в порту Новороссийск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36576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c1dc3c"/>
                </a:solidFill>
                <a:latin typeface="Lucida Fax"/>
              </a:rPr>
              <a:t>9 сентября 1943 г. началось наступление наших войск за освобождение Новороссийска. В 10 часов 16 сентября над городом взвилось Красное знамя, рухнула вся Голубая линия вражеских укреплений. Солдаты и матросы 18 десантной армии очистили Новороссийск от врага. За мужество и отвагу 21 воин-защитник Малой земли был удостоен звания Героя Советского Союза, сотни солдат и офицеров награждены орденами и медалями, 19 частям и соединениям Красной Армии присвоено почетное наименование Новороссийское. 600 тысяч бойцов, сражавшихся на Кавказе, Советское правительство наградило специальной медалью «За оборону Кавказа», а город Новороссийск был награжден орденом Отечественной войны I степени. 14 сентября 1973 г. Новороссийску было присвоено почетное звание «города-героя» с вручением ордена Ленина и медали «Золотая Звезда».</a:t>
            </a:r>
            <a:r>
              <a:rPr b="1" lang="ru-RU" sz="20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876920" y="2286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Lucida Fax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Куников Цезарь Львович, майор, командир 3-го боевого участка противодесантной обороны Новороссийской военно-морской базы Черноморского флота.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Родился 23 июня 1909 года в городе Ростов-на-Дону в семье служащего, по национальности еврей. С 1920 года жил в Баку, с 1924  в Макеевке, в 1925году переехал в Москву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Работал в Макеевке на комбинате "Югосталь". В Москве слесарем на фабрике "Союз" затем токарем на тормозном завод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4" descr="ec2302bcc494f9199bbae8530c0"/>
          <p:cNvPicPr/>
          <p:nvPr/>
        </p:nvPicPr>
        <p:blipFill>
          <a:blip r:embed="rId1"/>
          <a:stretch/>
        </p:blipFill>
        <p:spPr>
          <a:xfrm>
            <a:off x="304920" y="228600"/>
            <a:ext cx="4572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952880" y="152280"/>
            <a:ext cx="3733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Капит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Власенко Борис Терентьеви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Родился в 1906 году в Кие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В августе 1942 года был начальником штаба МПВО города Новороссийска. Активный участник обороны города. После оставления нашими войсками Новороссийска был назначен командиром партизанского отря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За проявленные в боях с фашистами мужество и героизм награжден орденом Красного Знамени, медалями "За боевые заслуги", "За оборону Кавказа", "За победу над Германией", "За доблестный труд в ВОВ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Lucida Fax"/>
              </a:rPr>
              <a:t>Умер в 1969 году, похоронен в Новороссийс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Sol70l"/>
          <p:cNvPicPr/>
          <p:nvPr/>
        </p:nvPicPr>
        <p:blipFill>
          <a:blip r:embed="rId1"/>
          <a:stretch/>
        </p:blipFill>
        <p:spPr>
          <a:xfrm>
            <a:off x="228600" y="152280"/>
            <a:ext cx="4572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257440" y="228240"/>
            <a:ext cx="3429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од-герой Новороссий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3e596a517857b86596e1eda9bfd"/>
          <p:cNvPicPr/>
          <p:nvPr/>
        </p:nvPicPr>
        <p:blipFill>
          <a:blip r:embed="rId1"/>
          <a:stretch/>
        </p:blipFill>
        <p:spPr>
          <a:xfrm>
            <a:off x="152280" y="152280"/>
            <a:ext cx="46483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386f7587a930f861ba901658f98_pr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fe1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beca28"/>
                </a:solidFill>
                <a:latin typeface="Lucida Fax"/>
              </a:rPr>
              <a:t>Захват Новороссийска открывал фашистам дорогу на богатства Кавказа и Кубани. Новороссийск — это ворота с моря, через которые будут поступать гитлеровцам свежие силы, оружие, танки, а из России будут вывозиться зерно, цветные металлы, нефть, цемент, лес, рыба, фрук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89b0caa3ce8286405b2710ff274_pr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eca28"/>
                </a:solidFill>
                <a:latin typeface="Arial"/>
              </a:rPr>
              <a:t>Крейсер "Ворошилов" в Новороссийске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610f12de403cb5aa622ecc9ab5f_pr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dc3c"/>
                </a:solidFill>
                <a:latin typeface="Lucida Fax"/>
                <a:ea typeface="Times New Roman"/>
              </a:rPr>
              <a:t>«Новороссийск не сдавать! Кубань держать! </a:t>
            </a:r>
            <a:br>
              <a:rPr sz="2400"/>
            </a:br>
            <a:r>
              <a:rPr b="1" lang="ru-RU" sz="2400" spc="-1" strike="noStrike">
                <a:solidFill>
                  <a:srgbClr val="c1dc3c"/>
                </a:solidFill>
                <a:latin typeface="Lucida Fax"/>
                <a:ea typeface="Times New Roman"/>
              </a:rPr>
              <a:t>Русские войска в Крым не пускать!»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36576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dc3c"/>
                </a:solidFill>
                <a:latin typeface="Lucida Fax"/>
              </a:rPr>
              <a:t>Мужественно сражались десантники: берег моря, раскаленный песок, жара, спрятаться от вражеской пули можно только в вырытых траншеях, но их надо вырыть, а гитлеровцы атаковали почти беспрерывно. Силы далеко не равные. От непрекращающегося огня жарко, как в натопленной печи. Дышать трудно. Туго с продуктами, туго с боеприпасами, особенно трудно с водой. Со стороны вражеских позиций голос репродуктора: «Русские солдаты, сдавайтесь. У вас нет ни патронов, ни пищи, ни воды. Дальнейшее сопротивление бесполезно!». Но десантники не сдаются. Они не только не пускают врага на освобожденную территорию, они сами атакуют. В кровопролитной схватке морские пехотинцы старшины Романова отбили у врага 10 орудий и ударили из них по немц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97788f21fa9d6293c1a906c4521_prev"/>
          <p:cNvPicPr/>
          <p:nvPr/>
        </p:nvPicPr>
        <p:blipFill>
          <a:blip r:embed="rId1"/>
          <a:stretch/>
        </p:blipFill>
        <p:spPr>
          <a:xfrm>
            <a:off x="228600" y="152280"/>
            <a:ext cx="4800600" cy="6477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181120" y="-360"/>
            <a:ext cx="35816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fe1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В поселке Станичка  десантники отбили у врага здание школы и заняли там оборону. Гитлеровцы решили выбить наших отту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Lucida Fax"/>
              </a:rPr>
              <a:t>Семь месяцев героически сражалась Малая земля. Погиб Герой Советского Союза храбрейший моряк, майор Цезарь Куников, Малая земля — героическая земля, политая кровью и потом наших бойцов, на 225 дней приковала к себе крупные силы врага и сыграла огромную роль в разгроме фашистских войск в этом район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3e5039f30b4f5e47c3975b6ac16_pr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5257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eca28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beca28"/>
                </a:solidFill>
                <a:latin typeface="Lucida Fax"/>
              </a:rPr>
              <a:t>225 дней длился героическая эпос Малой земли. В результате боевых действий десантной группы войск в период с 4 по 30 апреля 1943 г. было уничтожено более 20 тысяч вражеских солдат и офицеров, захвачено и уничтожено большое количество военной техники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a1795f7fcc0978a8989f7c8cdb0_prev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1dc3c"/>
                </a:solidFill>
                <a:latin typeface="Lucida Fax"/>
              </a:rPr>
              <a:t>Советские солдаты в бою за Новороссийск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10d3ca5f06d7fe72b8cb962e8ca_pr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eca28"/>
                </a:solidFill>
                <a:latin typeface="Lucida Fax"/>
              </a:rPr>
              <a:t>Бойцы 2-й гвардейской стрелковой (будущей Таманской) дивизии в бою в Новороссийск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40384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beca28"/>
                </a:solidFill>
                <a:latin typeface="Lucida Fax"/>
              </a:rPr>
              <a:t>10 сентября 1943 года штурмом города с суши, моря и плацдарма на Малой земле началась Новороссийская наступательная операция, осуществленная силами 18-й армии, НВМБ, 4-й воздушной армии и ВВС Черноморского флота. Замысел операции был безупречен, но ее реализация прошла далеко не гладко. Дерзкий десант с моря, ошеломивший противника, оказался под угрозой срыва из-за задержки с высадкой второго эшелона. Сражавшихся десантников выручили войска 318-й стрелковой дивизии, прорвавшие оборону противника с суши и вызвавшие огонь на себя.</a:t>
            </a:r>
            <a:r>
              <a:rPr b="1" lang="ru-RU" sz="20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13-04-15T17:09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