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F77E-1D08-4069-BC9C-D52421049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6C2E-DD61-445E-8BF3-A34D5EA60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99B0-5A8E-4898-8C65-198AE2F60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570D-C886-4925-8CCB-B8C44EA2B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9A190-E69D-45CD-A166-2ADC8C73F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968E2-A2C8-48DA-A6ED-4DF6FCCA0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C5D2B-1830-4CE2-A939-53F225366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1A911-D849-4E62-8353-76B74F2B6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F315A-E857-4734-BB17-407884FE7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0D07F-9CB8-444E-86C1-375912397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D5B61-4A48-4010-AA73-A7431AD6E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B92D-8470-4A3A-9D4C-0B08D2B23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AA3E7-85F8-4B21-B0F1-EF51A8997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D1947-E6C8-449B-B2BA-46FFCBC08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AD572-4511-4D39-91D7-CC59478D2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8E74D-ABFC-48AE-8191-6656A92A9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14302-9D85-4307-9744-7CD4A041B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7026-D7DC-4B37-9E90-026AB92EE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DEC9-0A81-4AC2-8A36-16B4B9981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B741-BAED-4F72-8F77-57BBCAE72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3E88-9B4D-4A04-B369-0D987C2F4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7565-81C8-48F1-BE87-82FFEC32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ED65-8E82-4FD3-8DE8-26B02C9D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5C72-02AE-4A2D-9ACD-5BC9C1E91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57F86-F4B7-4D68-85EB-D728C93745C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15533-1DA6-4344-8D31-55EFBE92980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" descr="новоросиск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4" descr="c56f95429a7a42719b6a8505bf1_prev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eca28"/>
                </a:solidFill>
                <a:latin typeface="Arial"/>
              </a:rPr>
              <a:t>Раненые солдаты и эвакуируемые мирные жители в порту Новороссийска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0" y="365760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c1dc3c"/>
                </a:solidFill>
                <a:latin typeface="Lucida Fax"/>
              </a:rPr>
              <a:t>9 сентября 1943 г. началось наступление наших войск за освобождение Новороссийска. В 10 часов 16 сентября над городом взвилось Красное знамя, рухнула вся Голубая линия вражеских укреплений. Солдаты и матросы 18 десантной армии очистили Новороссийск от врага. За мужество и отвагу 21 воин-защитник Малой земли был удостоен звания Героя Советского Союза, сотни солдат и офицеров награждены орденами и медалями, 19 частям и соединениям Красной Армии присвоено почетное наименование Новороссийское. 600 тысяч бойцов, сражавшихся на Кавказе, Советское правительство наградило специальной медалью «За оборону Кавказа», а город Новороссийск был награжден орденом Отечественной войны I степени. 14 сентября 1973 г. Новороссийску было присвоено почетное звание «города-героя» с вручением ордена Ленина и медали «Золотая Звезда».</a:t>
            </a:r>
            <a:r>
              <a:rPr b="1" lang="ru-RU" sz="2000" spc="-1" strike="noStrike">
                <a:solidFill>
                  <a:srgbClr val="ffffff"/>
                </a:solidFill>
                <a:latin typeface="Lucida Fax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876920" y="2286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2000"/>
          </a:bodyPr>
          <a:p>
            <a:pPr marL="178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Lucida Fax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Lucida Fax"/>
              </a:rPr>
              <a:t>Куников Цезарь Львович, майор, командир 3-го боевого участка противодесантной обороны Новороссийской военно-морской базы Черноморского флота.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Fax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Lucida Fax"/>
              </a:rPr>
              <a:t>Родился 23 июня 1909 года в городе Ростов-на-Дону в семье служащего, по национальности еврей. С 1920 года жил в Баку, с 1924  в Макеевке, в 1925году переехал в Москву.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Fax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Lucida Fax"/>
              </a:rPr>
              <a:t>Работал в Макеевке на комбинате "Югосталь". В Москве слесарем на фабрике "Союз" затем токарем на тормозном завод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4" descr="ec2302bcc494f9199bbae8530c0"/>
          <p:cNvPicPr/>
          <p:nvPr/>
        </p:nvPicPr>
        <p:blipFill>
          <a:blip r:embed="rId1"/>
          <a:stretch/>
        </p:blipFill>
        <p:spPr>
          <a:xfrm>
            <a:off x="304920" y="228600"/>
            <a:ext cx="4572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4952880" y="152280"/>
            <a:ext cx="37339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Lucida Fax"/>
              </a:rPr>
              <a:t>Капитан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Lucida Fax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Lucida Fax"/>
              </a:rPr>
              <a:t>Власенко Борис Терентьевич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Lucida Fax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Lucida Fax"/>
              </a:rPr>
              <a:t>Родился в 1906 году в Киев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Lucida Fax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Lucida Fax"/>
              </a:rPr>
              <a:t>В августе 1942 года был начальником штаба МПВО города Новороссийска. Активный участник обороны города. После оставления нашими войсками Новороссийска был назначен командиром партизанского отряд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Lucida Fax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Lucida Fax"/>
              </a:rPr>
              <a:t>За проявленные в боях с фашистами мужество и героизм награжден орденом Красного Знамени, медалями "За боевые заслуги", "За оборону Кавказа", "За победу над Германией", "За доблестный труд в ВОВ"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Lucida Fax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Lucida Fax"/>
              </a:rPr>
              <a:t>Умер в 1969 году, похоронен в Новороссийск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4" descr="Sol70l"/>
          <p:cNvPicPr/>
          <p:nvPr/>
        </p:nvPicPr>
        <p:blipFill>
          <a:blip r:embed="rId1"/>
          <a:stretch/>
        </p:blipFill>
        <p:spPr>
          <a:xfrm>
            <a:off x="228600" y="152280"/>
            <a:ext cx="45720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5257440" y="228240"/>
            <a:ext cx="3429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род-герой Новороссийс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6" descr="3e596a517857b86596e1eda9bfd"/>
          <p:cNvPicPr/>
          <p:nvPr/>
        </p:nvPicPr>
        <p:blipFill>
          <a:blip r:embed="rId1"/>
          <a:stretch/>
        </p:blipFill>
        <p:spPr>
          <a:xfrm>
            <a:off x="152280" y="152280"/>
            <a:ext cx="464832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386f7587a930f861ba901658f98_prev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0" y="53337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fe1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beca28"/>
                </a:solidFill>
                <a:latin typeface="Lucida Fax"/>
              </a:rPr>
              <a:t>Захват Новороссийска открывал фашистам дорогу на богатства Кавказа и Кубани. Новороссийск — это ворота с моря, через которые будут поступать гитлеровцам свежие силы, оружие, танки, а из России будут вывозиться зерно, цветные металлы, нефть, цемент, лес, рыба, фрукт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4" descr="89b0caa3ce8286405b2710ff274_prev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eca28"/>
                </a:solidFill>
                <a:latin typeface="Arial"/>
              </a:rPr>
              <a:t>Крейсер "Ворошилов" в Новороссийске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5" descr="610f12de403cb5aa622ecc9ab5f_prev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1dc3c"/>
                </a:solidFill>
                <a:latin typeface="Lucida Fax"/>
                <a:ea typeface="Times New Roman"/>
              </a:rPr>
              <a:t>«Новороссийск не сдавать! Кубань держать! </a:t>
            </a:r>
            <a:br>
              <a:rPr sz="2400"/>
            </a:br>
            <a:r>
              <a:rPr b="1" lang="ru-RU" sz="2400" spc="-1" strike="noStrike">
                <a:solidFill>
                  <a:srgbClr val="c1dc3c"/>
                </a:solidFill>
                <a:latin typeface="Lucida Fax"/>
                <a:ea typeface="Times New Roman"/>
              </a:rPr>
              <a:t>Русские войска в Крым не пускать!»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365760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1dc3c"/>
                </a:solidFill>
                <a:latin typeface="Lucida Fax"/>
              </a:rPr>
              <a:t>Мужественно сражались десантники: берег моря, раскаленный песок, жара, спрятаться от вражеской пули можно только в вырытых траншеях, но их надо вырыть, а гитлеровцы атаковали почти беспрерывно. Силы далеко не равные. От непрекращающегося огня жарко, как в натопленной печи. Дышать трудно. Туго с продуктами, туго с боеприпасами, особенно трудно с водой. Со стороны вражеских позиций голос репродуктора: «Русские солдаты, сдавайтесь. У вас нет ни патронов, ни пищи, ни воды. Дальнейшее сопротивление бесполезно!». Но десантники не сдаются. Они не только не пускают врага на освобожденную территорию, они сами атакуют. В кровопролитной схватке морские пехотинцы старшины Романова отбили у врага 10 орудий и ударили из них по немца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4" descr="97788f21fa9d6293c1a906c4521_prev"/>
          <p:cNvPicPr/>
          <p:nvPr/>
        </p:nvPicPr>
        <p:blipFill>
          <a:blip r:embed="rId1"/>
          <a:stretch/>
        </p:blipFill>
        <p:spPr>
          <a:xfrm>
            <a:off x="228600" y="152280"/>
            <a:ext cx="4800600" cy="6477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5181120" y="-360"/>
            <a:ext cx="358164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fe1ff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Lucida Fax"/>
              </a:rPr>
              <a:t>В поселке Станичка  десантники отбили у врага здание школы и заняли там оборону. Гитлеровцы решили выбить наших оттуд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Fax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Lucida Fax"/>
              </a:rPr>
              <a:t>Семь месяцев героически сражалась Малая земля. Погиб Герой Советского Союза храбрейший моряк, майор Цезарь Куников, Малая земля — героическая земля, политая кровью и потом наших бойцов, на 225 дней приковала к себе крупные силы врага и сыграла огромную роль в разгроме фашистских войск в этом район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4" descr="3e5039f30b4f5e47c3975b6ac16_prev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0" y="525744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eca28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beca28"/>
                </a:solidFill>
                <a:latin typeface="Lucida Fax"/>
              </a:rPr>
              <a:t>225 дней длился героическая эпос Малой земли. В результате боевых действий десантной группы войск в период с 4 по 30 апреля 1943 г. было уничтожено более 20 тысяч вражеских солдат и офицеров, захвачено и уничтожено большое количество военной техники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4" descr="a1795f7fcc0978a8989f7c8cdb0_prev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1dc3c"/>
                </a:solidFill>
                <a:latin typeface="Lucida Fax"/>
              </a:rPr>
              <a:t>Советские солдаты в бою за Новороссийск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4" descr="10d3ca5f06d7fe72b8cb962e8ca_prev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eca28"/>
                </a:solidFill>
                <a:latin typeface="Lucida Fax"/>
              </a:rPr>
              <a:t>Бойцы 2-й гвардейской стрелковой (будущей Таманской) дивизии в бою в Новороссийске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0" y="403848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beca28"/>
                </a:solidFill>
                <a:latin typeface="Lucida Fax"/>
              </a:rPr>
              <a:t>10 сентября 1943 года штурмом города с суши, моря и плацдарма на Малой земле началась Новороссийская наступательная операция, осуществленная силами 18-й армии, НВМБ, 4-й воздушной армии и ВВС Черноморского флота. Замысел операции был безупречен, но ее реализация прошла далеко не гладко. Дерзкий десант с моря, ошеломивший противника, оказался под угрозой срыва из-за задержки с высадкой второго эшелона. Сражавшихся десантников выручили войска 318-й стрелковой дивизии, прорвавшие оборону противника с суши и вызвавшие огонь на себя.</a:t>
            </a:r>
            <a:r>
              <a:rPr b="1" lang="ru-RU" sz="2000" spc="-1" strike="noStrike">
                <a:solidFill>
                  <a:srgbClr val="ffffff"/>
                </a:solidFill>
                <a:latin typeface="Lucida Fax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C</cp:lastModifiedBy>
  <dcterms:modified xsi:type="dcterms:W3CDTF">2013-04-15T17:09:4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