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DC41-BB06-4988-99BE-178A53772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F637-4556-435F-B647-7A6AC4ED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6860-842C-4162-97B7-329638389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4DAE-35EA-48DA-9A08-EC84FE8FA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22A0-BC6D-4DDC-93C6-4E81E8372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0D5A-9FBA-414A-ADE4-AE506FA7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103D-8C20-41FF-94EB-5C1AB8FB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2226-5839-45D5-B8BE-43F4802C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7777-0BF5-4D66-86CA-1FA5BAC5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2E69-1929-4D97-BAA1-EE01830E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3A0F-C83E-4CA4-B414-E7A47170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F7BD-9E09-401E-82E3-0E38D76B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268AE-AAD6-4D66-9463-E0B63FBD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929C9-1775-4234-83AF-130CD0FA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B187-E1FE-4A64-8BDE-0D43AF8B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381A2-FD69-4BF2-B808-D845E28E5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5B13-E3E9-42E4-8286-5B55B84A4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259A-C4EB-4788-82D4-0295FBE5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CD4A-FB13-4C02-B553-4D2A07E3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46C9-6929-4BB9-83FE-D57F57CF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5282-2757-4947-BD45-A489E61C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03A9-C740-4F65-BF57-D866CC6B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01CA-64ED-4EFE-BC51-3DA11D52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6FDB-083D-47BD-850B-291343B3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B120-6BEC-4A1A-9E66-AFA68811EFC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0751-77DE-459A-9998-61AE7E1613A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Эволюция русского свадебного обряда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2636640"/>
            <a:ext cx="64008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онтроль знани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ыберете правильный отве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атовство – э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) обряд объявления будущих молодоженов женихом и невесто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) когда будущий жених просит руки своей избранницы у ее родител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) церемония в Загс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ый танец для молодоженов – э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) вальс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) русский народный танец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) бал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Цель: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ирование правильного понимания иностранными учащимися происхождения русского свадебного обряда, традиционного и современного; повышение уровня социокультурной компетенции и создание благоприятных условий для продуктивной доброжелательной межкультурной коммуник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Гипотеза исследования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накомство иностранных учащихся с русским свадебным обрядом и его эволюцией позволяет повысить уровень лингвокультурной и социокультурной компетенции, способствует формированию адекватной полноценной межкультурной коммуникаци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Эксперимент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анятие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 этап: знакомство иностранных учащихся с традиционным русским свадебным обрядом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 этап: проведение игры «Выкуп невесты»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3 этап: чтение и анализ русских свадебных песен: одной старинной величальной и трех современных застольных песен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Эксперимент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заняти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4 этап: чтение текста «Современный русский свадебный обряд»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5 этап: выполнение разных упражнений  к тексту «Современный русский свадебный обряд»: предтекстовых, притекстовых, послетекстовых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6 этап: подведение итог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Упражнения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редтекстовые упражнения: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ъясните следующие слова «свадьба», «обряд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 русские обряды Вы знаете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ритекстовые упражне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йдите, что говорится о современном русском свадебном обряд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ослетекстовые упражне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 обряды проводятся в Вашей стране накануне свадьб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Упражнения</a:t>
            </a:r>
            <a:br>
              <a:rPr sz="40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работа над лексико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пределите, о чем говоритс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т обряд происходит в церкв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сто, куда отправляются молодожены после прогул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ставьте предложения со словам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сватовство, помолвка, бракосочетание, обручальные кольц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то означают слов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застолье, сватовство, молодожены, венча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Упражнения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(работа над грамматикой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ставить словосочетания с глаголами: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венчаться (с кем?), подписывать (что?), обмениваться (чем?), звучит (что?), размещаться (где?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ставить предложения со словам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вальс, кортеж, жених, невеста, венча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) Проведение игры «Выкуп невесты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) Знакомство с русскими свадебными песням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дной свадебной старинной величальной песней «Как и дружку жана провожала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емя современными свадебными застольными песнями: «Виновата ли я…», «Шумел камыш, деревья гнулись…», «Ой, мороз, мороз…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) Описание иллюстраций на тему «Современный русский свадебный обряд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9T16:27:47Z</dcterms:created>
  <dc:creator>Татьяна</dc:creator>
  <dc:description/>
  <dc:language>en-US</dc:language>
  <cp:lastModifiedBy>Коля</cp:lastModifiedBy>
  <dcterms:modified xsi:type="dcterms:W3CDTF">2013-03-24T19:00:04Z</dcterms:modified>
  <cp:revision>10</cp:revision>
  <dc:subject/>
  <dc:title>Эволюция русского свадебного обряда</dc:title>
</cp:coreProperties>
</file>