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309-991D-457C-B3F1-92329F86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31B-5258-4B0C-814C-565420C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BC6-D97F-48F3-8800-55887E03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CAD-D46E-4C09-A40C-991690FE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1347-41E8-468F-B009-E8F820F0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EFB-D606-4998-BE0A-8CD9CD34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E13-1426-4B2C-B746-66D31C56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069-861E-4169-9570-A7ABEC17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0740-B9DE-4577-A103-AAACB9D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60B-68C9-4762-91E6-08E3B31B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02EA-E293-4047-A627-0EB6308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651-73F7-4E04-9EC3-0D32B79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53A3-E22A-436D-8F4C-810695F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569-100B-44CC-9B5E-DE45DC8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02B5-DB07-490A-AC5D-CA7F646C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0D0-9F75-4E24-80A0-938613F8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1409-E5D3-4534-867C-E8243B99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35A-C2D8-4321-9A89-8AD3005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D2-96EF-476F-AF5D-A7A38178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22D-22F4-43D6-A564-9226775B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B71-CE96-46DF-82A1-34246A9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96F-9821-4FC1-BFB1-F67E3B9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2E5-97A2-4EAE-A05A-196053CB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D9A-1B45-4950-A1B2-FB46BD3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3B5-8781-4C7B-B899-D1FA159394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6A4-ABF3-4C59-ABBA-BF1A1D47AE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Эволюция русского свадебного обряд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троль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берете правильный отв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товство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ряд объявления будущих молодоженов женихом и невест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когда будущий жених просит руки своей избранницы у е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церемония в Заг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танец для молодоженов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валь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русский народный тане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а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авильного понимания иностранными учащимися происхождения русского свадебного обряда, традиционного и современного; повышение уровня социокультурной компетенции и создание благоприятных условий для продуктивной доброжелательной межкультурной коммун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комство иностранных учащихся с русским свадебным обрядом и его эволюцией позволяет повысить уровень лингвокультурной и социокультурной компетенции, способствует формированию адекватной полноценной межкультурной коммуник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нят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этап: знакомство иностранных учащихся с традиционным русским свадебным обрядом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этап: проведение игры «Выкуп невесты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этап: чтение и анализ русских свадебных песен: одной старинной величальной и трех современных застольных песен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занят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этап: чтение текста «Современный русский свадебный обряд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этап: выполнение разных упражнений  к тексту «Современный русский свадебный обряд»: предтекстовых, притекстовых, послетекстовых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этап: подведение итог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дтекстовые упражнения: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следующие слова «свадьба», «обря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русские обряды Вы знает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, что говорится о современном русском свадебном обря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ле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обряды проводятся в Вашей стране накануне свадьб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бота над лексик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е, о чем говори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обряд происходит в церкв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, куда отправляются молодожены после прогу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ьте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сватовство, помолвка, бракосочетание, обручальные коль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значают сл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застолье, сватовство, молодожены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(работа над грамматико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словосочетания с глаголами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енчаться (с кем?), подписывать (что?), обмениваться (чем?), звучит (что?), размещаться (где?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альс, кортеж, жених, невеста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 Проведение игры «Выкуп невест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Знакомство с русскими свадебными песн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й свадебной старинной величальной песней «Как и дружку жана провожа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мя современными свадебными застольными песнями: «Виновата ли я…», «Шумел камыш, деревья гнулись…», «Ой, мороз, мороз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Описание иллюстраций на тему «Современный русский свадебный обря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6:27:47Z</dcterms:created>
  <dc:creator>Татьяна</dc:creator>
  <dc:description/>
  <dc:language>en-US</dc:language>
  <cp:lastModifiedBy>Коля</cp:lastModifiedBy>
  <dcterms:modified xsi:type="dcterms:W3CDTF">2013-03-24T19:00:04Z</dcterms:modified>
  <cp:revision>10</cp:revision>
  <dc:subject/>
  <dc:title>Эволюция русского свадебного обряда</dc:title>
</cp:coreProperties>
</file>