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C42-50FB-4ED7-B02C-263FF08D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2D8-F437-4008-B113-0171B5D7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618-9C92-4651-A379-E3B8FDFE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AA6-D791-4C01-B753-902AB66A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3378-4703-419A-8754-BDC32979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D4D-D1B9-436A-8EB8-D4D29D68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1813-4B6F-45EC-88C4-F6FCA3A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050-A5AB-4245-92CB-3E3A2125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5424-E05A-494C-BF1D-A840FE3E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543A-ED95-44B1-8917-9F629B0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D3E-C1CC-46A5-834C-1BE9993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506-552C-46DC-9E66-DEA88B4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D1D9-1F70-41D5-B566-D41EDB84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FB66-237B-42CE-A13E-CA9FF3A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4B81-3831-4A54-B519-6E5C0638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F93C-51B0-4D97-87E4-ACA41981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3B58-F252-4109-84E2-D1006AE2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D44-D058-4348-B104-6256B1C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870-BE49-4187-8B50-4B3AA149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B48-BFD1-4DA7-9E05-3595DD43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62E-BB34-4D40-89A9-18ACEAE9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B30-256B-4A1D-AEC1-8B865CE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A54-0E42-49F7-875B-CA876A9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5DB-5A15-4928-8FC0-264968E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1E81-B9AC-4910-963C-7091B888B3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5867-518A-4CC9-819D-208949FC6E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Эволюция русского свадебного обряд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263664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нтроль зн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ыберете правильный отве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атовство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обряд объявления будущих молодоженов женихом и невест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когда будущий жених просит руки своей избранницы у ее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церемония в Заг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танец для молодоженов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валь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русский народный тане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ба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правильного понимания иностранными учащимися происхождения русского свадебного обряда, традиционного и современного; повышение уровня социокультурной компетенции и создание благоприятных условий для продуктивной доброжелательной межкультурной коммуник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накомство иностранных учащихся с русским свадебным обрядом и его эволюцией позволяет повысить уровень лингвокультурной и социокультурной компетенции, способствует формированию адекватной полноценной межкультурной коммуник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имент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нят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этап: знакомство иностранных учащихся с традиционным русским свадебным обрядом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этап: проведение игры «Выкуп невесты»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этап: чтение и анализ русских свадебных песен: одной старинной величальной и трех современных застольных песен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имент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занят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этап: чтение текста «Современный русский свадебный обряд»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этап: выполнение разных упражнений  к тексту «Современный русский свадебный обряд»: предтекстовых, притекстовых, послетекстовых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этап: подведение итог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ажнен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едтекстовые упражнения: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следующие слова «свадьба», «обряд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русские обряды Вы знает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итекстовые упраж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дите, что говорится о современном русском свадебном обря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слетекстовые упражн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обряды проводятся в Вашей стране накануне свадьб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бота над лексик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ите, о чем говори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т обряд происходит в церкв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, куда отправляются молодожены после прогу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ьте предложения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сватовство, помолвка, бракосочетание, обручальные коль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значают сл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застолье, сватовство, молодожены, венч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(работа над грамматико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ить словосочетания с глаголами: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венчаться (с кем?), подписывать (что?), обмениваться (чем?), звучит (что?), размещаться (где?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ставить предложения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вальс, кортеж, жених, невеста, венч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) Проведение игры «Выкуп невест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Знакомство с русскими свадебными песня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ной свадебной старинной величальной песней «Как и дружку жана провожала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мя современными свадебными застольными песнями: «Виновата ли я…», «Шумел камыш, деревья гнулись…», «Ой, мороз, мороз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Описание иллюстраций на тему «Современный русский свадебный обряд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6:27:47Z</dcterms:created>
  <dc:creator>Татьяна</dc:creator>
  <dc:description/>
  <dc:language>en-US</dc:language>
  <cp:lastModifiedBy>Коля</cp:lastModifiedBy>
  <dcterms:modified xsi:type="dcterms:W3CDTF">2013-03-24T19:00:04Z</dcterms:modified>
  <cp:revision>10</cp:revision>
  <dc:subject/>
  <dc:title>Эволюция русского свадебного обряда</dc:title>
</cp:coreProperties>
</file>