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8.jpeg" ContentType="image/jpeg"/>
  <Override PartName="/ppt/media/image5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5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C24-EBED-4E0E-9DBD-C9B55E16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793-F04C-4968-86C6-1655DE36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FAA9-7E46-425C-AC33-1913241F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1BF-97FE-4DA1-B7C6-9C77B467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5BB-CC5D-46F7-B603-2414BD4A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C0A7-95FE-4D3B-AD2E-8B8D5B54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83C-B70D-4FF2-AAB4-8C8AF55C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A02-E0F8-4B7D-9AAC-93FD5A01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30C-1DBF-4570-8D07-8BEEBADB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B35-2786-4B29-9383-ACDB95F7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8A1-FABE-46D9-BBA0-8BED90C6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10F-F0F4-4BBE-90CA-A64F168B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F8CA-BBEC-4B64-97C8-D52B306A7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ingvinary.narod.ru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6600" spc="-1" strike="noStrike">
                <a:solidFill>
                  <a:srgbClr val="00ff00"/>
                </a:solidFill>
                <a:latin typeface="Arial"/>
              </a:rPr>
              <a:t>ДЫ  ПИНГ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6600" spc="-1" strike="noStrike">
                <a:solidFill>
                  <a:srgbClr val="00ff00"/>
                </a:solidFill>
                <a:latin typeface="Arial"/>
              </a:rPr>
              <a:t>НО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3962520"/>
            <a:ext cx="4343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ПИНГВИНАР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5181480"/>
            <a:ext cx="525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ВСЁ О ПИНГВИН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ПИН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Н  ВИ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4191120"/>
            <a:ext cx="3886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60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около 3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5-10 тыс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Новая Зеландия</a:t>
            </a:r>
            <a:r>
              <a:rPr b="0" i="1" lang="en-US" sz="1900" spc="-1" strike="noStrike">
                <a:solidFill>
                  <a:srgbClr val="ffffff"/>
                </a:solidFill>
                <a:latin typeface="Arial Cyr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Безымянный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3581640" cy="3132360"/>
          </a:xfrm>
          <a:prstGeom prst="rect">
            <a:avLst/>
          </a:prstGeom>
          <a:ln w="0">
            <a:noFill/>
          </a:ln>
        </p:spPr>
      </p:pic>
      <p:pic>
        <p:nvPicPr>
          <p:cNvPr id="87" name="Безымянный" descr=""/>
          <p:cNvPicPr/>
          <p:nvPr/>
        </p:nvPicPr>
        <p:blipFill>
          <a:blip r:embed="rId2"/>
          <a:stretch/>
        </p:blipFill>
        <p:spPr>
          <a:xfrm>
            <a:off x="5638680" y="838080"/>
            <a:ext cx="1962360" cy="2895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343400" y="3886200"/>
            <a:ext cx="4800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Пингвин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Виктории или Фиордовый пингвин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 гнездится только на побережье острова Южный в Новой Зеландии, а также на двух небольших прибрежных островах - Стьюарт и Соландер.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Позади глаз имеет хохолок из перьев ярко-желтого цвета. Птицы этого вида очень пугливы.Устраивают гнезда во влажных лесистых местах по берегам заливов и фиордов, иногда откладывают яйца у корней деревьев. Находится на грани исчезнов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БОЛЬ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ШО</a:t>
            </a: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Й  ХОХ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ТЫЙ  ПИНГ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49525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около 65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2,5-3,5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более 200 тыс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Австралия, Новая Зеландия и близлежащие острова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Безымянный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275760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erct_map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2496960" cy="3505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029200" y="5105520"/>
            <a:ext cx="3733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От прочих своих хохлатых сородичей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большого хохлатого пингвина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отличают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бров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, которые топорщатся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вверх.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С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НЭ</a:t>
            </a: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РСКИЙ  ХОХ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ТЫЙ  ПИНГ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63,5 см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около 3 кг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25 тыс. пар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острова Снэрс, к югу от Новой Зеландии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Безымянный" descr=""/>
          <p:cNvPicPr/>
          <p:nvPr/>
        </p:nvPicPr>
        <p:blipFill>
          <a:blip r:embed="rId1"/>
          <a:stretch/>
        </p:blipFill>
        <p:spPr>
          <a:xfrm>
            <a:off x="5562720" y="914400"/>
            <a:ext cx="2216160" cy="3276720"/>
          </a:xfrm>
          <a:prstGeom prst="rect">
            <a:avLst/>
          </a:prstGeom>
          <a:ln w="0">
            <a:noFill/>
          </a:ln>
        </p:spPr>
      </p:pic>
      <p:pic>
        <p:nvPicPr>
          <p:cNvPr id="97" name="moguch170x214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326880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343400" y="4343400"/>
            <a:ext cx="4572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Его ещё называют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огучий пингвин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обитает только на островах Снэрс, расположенные к югу Новой Зеландии. Популяция охраняется законом. На островах достаточное количество растительности, и иногда пингвинов можно увидеть на ветках низких кустарников и деревье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ЖЕЛТО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ЗЫЙ  ПИН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49525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76 см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6 кг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около 1 800 пар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к юго-востоку от Новой Зеландии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4800600"/>
            <a:ext cx="4419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В южной части новозеландского района обитает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великолепны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ил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желтоглазый пингви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 На голове у него через темя от глаза к глазу проходит желтая полоса. Желтоватым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спещрена и остальная часть голов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yep4_big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876920" cy="3745080"/>
          </a:xfrm>
          <a:prstGeom prst="rect">
            <a:avLst/>
          </a:prstGeom>
          <a:ln w="0">
            <a:noFill/>
          </a:ln>
        </p:spPr>
      </p:pic>
      <p:pic>
        <p:nvPicPr>
          <p:cNvPr id="103" name="Безымянный" descr=""/>
          <p:cNvPicPr/>
          <p:nvPr/>
        </p:nvPicPr>
        <p:blipFill>
          <a:blip r:embed="rId2"/>
          <a:stretch/>
        </p:blipFill>
        <p:spPr>
          <a:xfrm>
            <a:off x="6095880" y="990720"/>
            <a:ext cx="24116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ГОЛУ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БО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Й (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ЛЫЙ)  ПИНГ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5028840"/>
            <a:ext cx="4495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38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1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около 1 млн. птиц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Южная Австралия и Новая Зеландия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267080"/>
            <a:ext cx="4267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лубой пингвин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о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битает вокруг главных островов Новой Зеландии, на островах Чатам и у южного побережья Австралии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По сравнению с другими пингвинами внешне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овольно так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невзрачны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- белый низ, голубоватый однотонный вер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Безымянный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108" name="Безымянный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809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БЕЛОК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РЫ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ЛЫЙ  ПИНГ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14600" y="4800240"/>
            <a:ext cx="4495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0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1,5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около 1 млн. птиц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восточное побережье Новой Зеландии</a:t>
            </a:r>
            <a:r>
              <a:rPr b="0" i="1" lang="en-US" sz="1900" spc="-1" strike="noStrike">
                <a:solidFill>
                  <a:srgbClr val="ffffff"/>
                </a:solidFill>
                <a:latin typeface="Arial Cyr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Безымянный" descr=""/>
          <p:cNvPicPr/>
          <p:nvPr/>
        </p:nvPicPr>
        <p:blipFill>
          <a:blip r:embed="rId1"/>
          <a:stretch/>
        </p:blipFill>
        <p:spPr>
          <a:xfrm>
            <a:off x="2895480" y="6858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ГАЛАПА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ГО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ССКИЙ  ПИНГ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6520" y="4952520"/>
            <a:ext cx="4496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53 см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2,5 кг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6-15 тыс. птиц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Галапагосские острова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galapagos3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341460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galp_map" descr=""/>
          <p:cNvPicPr/>
          <p:nvPr/>
        </p:nvPicPr>
        <p:blipFill>
          <a:blip r:embed="rId2"/>
          <a:stretch/>
        </p:blipFill>
        <p:spPr>
          <a:xfrm>
            <a:off x="5410080" y="1371600"/>
            <a:ext cx="285768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ПИН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Н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У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МБОЛЬ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46483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55-65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20 тыс. птиц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острова у западного побережья Ю. Америки, побережье Перу и Чили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962520"/>
            <a:ext cx="4495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Перуанский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 или пингвин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Гумбольдта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, названный в честь выдающегося немецкого географа, гнездится вдоль перуанского побережья на юг приблизительно до 38 градуса южной широты. В окраске его оперения бросаются в глаза белые подковообразные пятна, проходящие над глазом через затылок на верхнюю часть груди, а также темная п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лоса, перехватывающая белую грудь и продолжающаяся по бокам тел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_b7_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20" name="humb_map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2846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МАГЕЛ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ОВ  ПИН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380952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60-70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5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,5-10 млн.пар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острова у западного побережья Ю. Америки, побережье Перу и Чили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581280"/>
            <a:ext cx="4495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Arial"/>
                <a:ea typeface="Arial"/>
              </a:rPr>
              <a:t>Назван в честь </a:t>
            </a:r>
            <a:r>
              <a:rPr b="1" i="1" lang="ru-RU" sz="1500" spc="-1" strike="noStrike">
                <a:solidFill>
                  <a:srgbClr val="ffff00"/>
                </a:solidFill>
                <a:latin typeface="Arial"/>
                <a:ea typeface="Arial"/>
              </a:rPr>
              <a:t>Ф. Магеллана</a:t>
            </a:r>
            <a:r>
              <a:rPr b="0" lang="ru-RU" sz="1500" spc="-1" strike="noStrike">
                <a:solidFill>
                  <a:srgbClr val="ffff00"/>
                </a:solidFill>
                <a:latin typeface="Arial"/>
                <a:ea typeface="Arial"/>
              </a:rPr>
              <a:t>, который увидел эту птицу в 1518 г. у оконечности Южной Америки.</a:t>
            </a:r>
            <a:r>
              <a:rPr b="0" lang="ru-RU" sz="1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ffff00"/>
                </a:solidFill>
                <a:latin typeface="Arial"/>
                <a:ea typeface="Arial"/>
              </a:rPr>
              <a:t>Магелланов пингвин</a:t>
            </a:r>
            <a:r>
              <a:rPr b="0" lang="ru-RU" sz="1500" spc="-1" strike="noStrike">
                <a:solidFill>
                  <a:srgbClr val="ffff00"/>
                </a:solidFill>
                <a:latin typeface="Arial"/>
                <a:ea typeface="Arial"/>
              </a:rPr>
              <a:t> обитает также в умеренных водах Южной Америки с атлантической стороны и на Фолклендских (Мальвинских) островах. Чередование белых и темных полос у этого вида таково, что грудь перехватывают две темные полосы, а не одна, как у пингвина Гумбольдта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Arial"/>
                <a:ea typeface="Arial"/>
              </a:rPr>
              <a:t>На берегу в период размножения очень боязливы и, завидев человека, прячутся в свои глубокие гнёзда, в воде же совсем не боятся людей и могут быть довольно агрессивны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2611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4114800" cy="2908080"/>
          </a:xfrm>
          <a:prstGeom prst="rect">
            <a:avLst/>
          </a:prstGeom>
          <a:ln w="0">
            <a:noFill/>
          </a:ln>
        </p:spPr>
      </p:pic>
      <p:pic>
        <p:nvPicPr>
          <p:cNvPr id="125" name="Безымянный" descr=""/>
          <p:cNvPicPr/>
          <p:nvPr/>
        </p:nvPicPr>
        <p:blipFill>
          <a:blip r:embed="rId2"/>
          <a:stretch/>
        </p:blipFill>
        <p:spPr>
          <a:xfrm>
            <a:off x="6019920" y="1066680"/>
            <a:ext cx="2073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АФРИ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СКИЙ  ПИН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4647960"/>
            <a:ext cx="4191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 60-70 см.</a:t>
            </a:r>
            <a:br>
              <a:rPr sz="2100"/>
            </a:br>
            <a:r>
              <a:rPr b="1" lang="en-US" sz="21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 3 кг.</a:t>
            </a:r>
            <a:br>
              <a:rPr sz="2100"/>
            </a:br>
            <a:r>
              <a:rPr b="1" lang="en-US" sz="21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 50-171 тыс.пар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 побережье Южной Африки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962520"/>
            <a:ext cx="4724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Обыкновенный очковый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, или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африканский 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пингвин, род очковых. Обитает близ берегов Южной Африки и редко заплывает дальше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12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 км. от берега. Спутать его здесь не с кем, так как в водах Африки другие виды пингвинов не встречаются. А ослиным его прозвали за громкий и неприятный крик. 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 17-18 вв. велась активная добыча мяса и жира 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</a:rPr>
              <a:t>этих 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птиц. Позднее началась добыча гуано, что вызвало разрушение гнездовий. Т.о. количество птиц сократилось к 1993 г. до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160 тысяч.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Обыкновенный очковый пингвин охраняется законом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Безымянный" descr=""/>
          <p:cNvPicPr/>
          <p:nvPr/>
        </p:nvPicPr>
        <p:blipFill>
          <a:blip r:embed="rId1"/>
          <a:stretch/>
        </p:blipFill>
        <p:spPr>
          <a:xfrm>
            <a:off x="5181480" y="838080"/>
            <a:ext cx="2857680" cy="3040200"/>
          </a:xfrm>
          <a:prstGeom prst="rect">
            <a:avLst/>
          </a:prstGeom>
          <a:ln w="0">
            <a:noFill/>
          </a:ln>
        </p:spPr>
      </p:pic>
      <p:pic>
        <p:nvPicPr>
          <p:cNvPr id="130" name="ochkovy210x210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ff00"/>
                </a:solidFill>
                <a:latin typeface="Arial"/>
              </a:rPr>
              <a:t>ИМПЕ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en-US" sz="4500" spc="-1" strike="noStrike">
                <a:solidFill>
                  <a:srgbClr val="00ff00"/>
                </a:solidFill>
                <a:latin typeface="Arial"/>
              </a:rPr>
              <a:t>ТОРСКИЙ  ПИНГ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5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4495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112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27-40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135-175 тыс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континентальное побережье Антарктики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emp_map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3047760" cy="2766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24280" y="4114800"/>
            <a:ext cx="4419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Императорски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ил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Форстера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амый крупный пингви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Он обитает только на побережье Антарктиды и в непосредственно прилегающих к нему водах. Назван этот пингвин в честь Д. Форстера - натуралиста кругосветной экспедиции капитана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Д. Кук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 На боках шеи у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него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выделяются оранжевые пятна, имеющие вид больших кавыче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perator179x220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3162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КОР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ВСКИЙ  ПИН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48002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94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13,5-16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более 1 млн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субантарктические острова, шельф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Безымянный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2846520" cy="2593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00600" y="4419720"/>
            <a:ext cx="4114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Королевский пингви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гнездится на разбросанных в Южном океане островах. Его рост чуть меньше 1 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У королевского  пингвина оранжевым окрашены не только бока шеи, как у «императора», но и её передняя ча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atagon153x220" descr=""/>
          <p:cNvPicPr/>
          <p:nvPr/>
        </p:nvPicPr>
        <p:blipFill>
          <a:blip r:embed="rId2"/>
          <a:stretch/>
        </p:blipFill>
        <p:spPr>
          <a:xfrm>
            <a:off x="1295280" y="762120"/>
            <a:ext cx="270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ПИН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  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411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45-60 см.</a:t>
            </a:r>
            <a:br>
              <a:rPr sz="1700"/>
            </a:br>
            <a:r>
              <a:rPr b="1" lang="ru-RU" sz="17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3,5-4,5 кг.</a:t>
            </a:r>
            <a:br>
              <a:rPr sz="1700"/>
            </a:br>
            <a:r>
              <a:rPr b="1" lang="ru-RU" sz="17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около 4170 тыс. пар</a:t>
            </a:r>
            <a:br>
              <a:rPr sz="1700"/>
            </a:br>
            <a:r>
              <a:rPr b="1" lang="ru-RU" sz="17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континентальное побережье Антарктики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3200400"/>
            <a:ext cx="4648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амый известный среди пингвинов - пингвин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Адели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, носящий имя красавицы жены начальника французской антарктической экспедиции, проводившей исследования в 30-х годах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прошлого столетия, адмирала Ж. 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Дюмона-Дюрвиля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. Адели имеет типичную пингвинью окраску: темные фрак и голова, белоснежные живот и грудь. Вокруг глаз заметно белое кольцо. Похожих на Адели других видов пингвинов н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Не боятся людей, однако не любят посягательств на свою территорию и бесстрашно нападают на человека в случае опас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Безымянный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3809880" cy="2822400"/>
          </a:xfrm>
          <a:prstGeom prst="rect">
            <a:avLst/>
          </a:prstGeom>
          <a:ln w="0">
            <a:noFill/>
          </a:ln>
        </p:spPr>
      </p:pic>
      <p:pic>
        <p:nvPicPr>
          <p:cNvPr id="58" name="adel_map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27432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ПАПУ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ССКИЙ  ПИН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4647960"/>
            <a:ext cx="41911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60-75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5,5-6,5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260-300 тыс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антарктические и субантарктические острова, Антарктический полуостров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3276720"/>
            <a:ext cx="4419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От других видов его легко отличить по белой полосе, которая проходит по темени от глаза к глазу. 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азвание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папуасского пингвина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 является зоологическим казусом, т.к. в Новой Гвинее пингвины не живут. Под таким названием его описал тот самый Д. Форстер, имя которого носит императорский пингвин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Откладывают 2 яйца. Из птенцов выживает сильнейший. При кормлении родитель выбирает того птенца, который смог его догнать, слабый остается голодным.Предпочитают травянистую местность - гнезда устраивают среди пучков дернистой травы. Очень боязливы - завидев человека тут же убегают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Безымянный" descr=""/>
          <p:cNvPicPr/>
          <p:nvPr/>
        </p:nvPicPr>
        <p:blipFill>
          <a:blip r:embed="rId1"/>
          <a:stretch/>
        </p:blipFill>
        <p:spPr>
          <a:xfrm>
            <a:off x="5257800" y="762120"/>
            <a:ext cx="2743200" cy="2523960"/>
          </a:xfrm>
          <a:prstGeom prst="rect">
            <a:avLst/>
          </a:prstGeom>
          <a:ln w="0">
            <a:noFill/>
          </a:ln>
        </p:spPr>
      </p:pic>
      <p:pic>
        <p:nvPicPr>
          <p:cNvPr id="63" name="272514_s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3375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АНТАР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ЧЕСКИЙ  ПИН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46483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5-60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6,5 млн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антарктические и субантарктические острова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3733920"/>
            <a:ext cx="42670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Легко от других видов отличается и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антарктический пингвин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, который гнездится на приантарктических островах и в районе Антарктического полуострова.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а голове у него темная шапочка, от которой к подбородку идет "темный" ремешо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В море часто можно видеть большие группы пингвинов, катающихся на айсберге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Агрессивны, но в отличие от других видов, выкармливают обоих птенцов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Безымянный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809880" cy="3168720"/>
          </a:xfrm>
          <a:prstGeom prst="rect">
            <a:avLst/>
          </a:prstGeom>
          <a:ln w="0">
            <a:noFill/>
          </a:ln>
        </p:spPr>
      </p:pic>
      <p:pic>
        <p:nvPicPr>
          <p:cNvPr id="68" name="Безымянный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28461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ХО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ТЫЙ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МЕННЫЙ)  ПИН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4114440"/>
            <a:ext cx="4343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0-45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2,3-2,7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3,5 млн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антарктические и субантарктические острова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3352680"/>
            <a:ext cx="44197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Обитает на каменистых о-вах субантарктического региона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Яркие жёлтые перья растут у них из "бровей" и образуют два хохолка, висящих по бокам головы за глазами.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го ещё называют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"прыгающи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 по скалам"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за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его манер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 передвигаться - отталкиваться сразу обеими ногами. Выпрыгивая на берег прямо из воды, пингвины скачут вверх по тропинкам к месту гнездовья, продвигаясь с каждым прыжком на 30 см.  Они часто падают на валуны, без особого для себя вреда. Жители Фолклендских о-вов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азывают их "</a:t>
            </a:r>
            <a:r>
              <a:rPr b="0" i="1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роки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" или "</a:t>
            </a:r>
            <a:r>
              <a:rPr b="0" i="1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скачущий Джек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".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н и в воду прыгает с берега "солдатиком", а не ныряет, как другие пингвины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чень крикливы и отличаются злым характером, нападая на всех и всё, что им угрожает.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Безымянный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495680" cy="2930400"/>
          </a:xfrm>
          <a:prstGeom prst="rect">
            <a:avLst/>
          </a:prstGeom>
          <a:ln w="0">
            <a:noFill/>
          </a:ln>
        </p:spPr>
      </p:pic>
      <p:pic>
        <p:nvPicPr>
          <p:cNvPr id="73" name="Безымянный" descr=""/>
          <p:cNvPicPr/>
          <p:nvPr/>
        </p:nvPicPr>
        <p:blipFill>
          <a:blip r:embed="rId2"/>
          <a:stretch/>
        </p:blipFill>
        <p:spPr>
          <a:xfrm>
            <a:off x="6095880" y="685800"/>
            <a:ext cx="2043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ЗОЛОТОВ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О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СЫЙ  ПИН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4648320"/>
            <a:ext cx="4572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50-60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,5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более 11,5 млн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субантарктические острова в Атлантическом и Индийском</a:t>
            </a:r>
            <a:r>
              <a:rPr b="0" i="1" lang="en-US" sz="1900" spc="-1" strike="noStrike">
                <a:solidFill>
                  <a:srgbClr val="ffffff"/>
                </a:solidFill>
                <a:latin typeface="Arial Cyr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океанах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3429000"/>
            <a:ext cx="4114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Предпочитают холодные воды, их часто можно встретить южнее Антарктического пояса.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Имеют пышный оранжевый султан из перьев, которые соединяются на лбу и отходят назад от "бровей".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По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нглийски этот вид называется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macaroni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",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от слов из песенки 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"...прикрепил султан на шляпу и назвался макаронник...".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 Речь идёт о пушистых перьях, кото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ые в 17 в. молодые модники носили на шляпах. Считается, что именно они привезли в Англию макарон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Безымянный" descr=""/>
          <p:cNvPicPr/>
          <p:nvPr/>
        </p:nvPicPr>
        <p:blipFill>
          <a:blip r:embed="rId1"/>
          <a:stretch/>
        </p:blipFill>
        <p:spPr>
          <a:xfrm>
            <a:off x="5486400" y="914400"/>
            <a:ext cx="2846520" cy="2411280"/>
          </a:xfrm>
          <a:prstGeom prst="rect">
            <a:avLst/>
          </a:prstGeom>
          <a:ln w="0">
            <a:noFill/>
          </a:ln>
        </p:spPr>
      </p:pic>
      <p:pic>
        <p:nvPicPr>
          <p:cNvPr id="78" name="macaroni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380988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ПИН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Н  ШЛЕГЕ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280" y="46483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65-75 см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5,5 кг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850 тыс. пар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остров Макуори и остров Кэмпбел (южнее Н. Зеландии</a:t>
            </a:r>
            <a:r>
              <a:rPr b="0" i="1" lang="ru-RU" sz="1900" spc="-1" strike="noStrike">
                <a:solidFill>
                  <a:srgbClr val="ffffff"/>
                </a:solidFill>
                <a:latin typeface="Arial Cyr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962520"/>
            <a:ext cx="3886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ингвина Шлегеля,</a:t>
            </a:r>
            <a:r>
              <a:rPr b="1" lang="ru-RU" sz="20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распространение которого ограничено островом Макуори, расположенным немного южнее Новозеландского плато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легко отличить по белым бокам головы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Безымянный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114800" cy="2776680"/>
          </a:xfrm>
          <a:prstGeom prst="rect">
            <a:avLst/>
          </a:prstGeom>
          <a:ln w="0">
            <a:noFill/>
          </a:ln>
        </p:spPr>
      </p:pic>
      <p:pic>
        <p:nvPicPr>
          <p:cNvPr id="83" name="Безымянный" descr=""/>
          <p:cNvPicPr/>
          <p:nvPr/>
        </p:nvPicPr>
        <p:blipFill>
          <a:blip r:embed="rId2"/>
          <a:stretch/>
        </p:blipFill>
        <p:spPr>
          <a:xfrm>
            <a:off x="5410080" y="838080"/>
            <a:ext cx="28576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08:56:39Z</dcterms:created>
  <dc:creator>Gergs</dc:creator>
  <dc:description/>
  <dc:language>en-US</dc:language>
  <cp:lastModifiedBy>Gergs</cp:lastModifiedBy>
  <dcterms:modified xsi:type="dcterms:W3CDTF">2004-03-03T08:14:41Z</dcterms:modified>
  <cp:revision>5</cp:revision>
  <dc:subject/>
  <dc:title>ВИДЫ  ПИНГВИНОВ</dc:title>
</cp:coreProperties>
</file>