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jpeg" ContentType="image/jpeg"/>
  <Override PartName="/ppt/media/image5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E09-0CBE-42A8-B173-73D5BD1D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C8E-B741-4753-94E1-32747068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3CF-01B4-44EB-BF0E-2C99C290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9C9-658D-4AF5-B27F-59115409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120-C075-4996-8029-182EFF7C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D38-342C-4D06-8202-2D16F6EA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27B-0624-4314-AC59-FFD759CF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06A-CFBC-4A4E-BFFC-B96ABAC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9FA-ED75-477E-B677-32A70943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4D9-BC54-4D1F-A814-D97EBEB7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CA8-0542-4806-A572-8E77BC9A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5C4-524F-4BFB-9372-B794FA1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FE4F-FAE2-4F0A-8CBB-6A345983D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ingvinary.narod.ru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ДЫ  ПИНГ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Н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962520"/>
            <a:ext cx="4343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ПИНГВИНА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51814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ВСЁ О ПИНГВИН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  ВИ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4191120"/>
            <a:ext cx="3886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3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-10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Новая Зеландия</a:t>
            </a:r>
            <a:r>
              <a:rPr b="0" i="1" lang="en-US" sz="1900" spc="-1" strike="noStrike">
                <a:solidFill>
                  <a:srgbClr val="ffffff"/>
                </a:solidFill>
                <a:latin typeface="Arial Cyr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Безымянный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581640" cy="3132360"/>
          </a:xfrm>
          <a:prstGeom prst="rect">
            <a:avLst/>
          </a:prstGeom>
          <a:ln w="0">
            <a:noFill/>
          </a:ln>
        </p:spPr>
      </p:pic>
      <p:pic>
        <p:nvPicPr>
          <p:cNvPr id="87" name="Безымянный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1962360" cy="2895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343400" y="3886200"/>
            <a:ext cx="4800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ингвин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Виктории или Фиордовый пингви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гнездится только на побережье острова Южный в Новой Зеландии, а также на двух небольших прибрежных островах - Стьюарт и Соландер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озади глаз имеет хохолок из перьев ярко-желтого цвета. Птицы этого вида очень пугливы.Устраивают гнезда во влажных лесистых местах по берегам заливов и фиордов, иногда откладывают яйца у корней деревьев. Находится на грани исчезнов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БОЛ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Й  ХОХ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ТЫЙ  ПИНГ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4952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6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,5-3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более 200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встралия, Новая Зеландия и близлежащ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Безымянный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7576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erct_map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49696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29200" y="5105520"/>
            <a:ext cx="3733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От прочих своих хохлатых сородичей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большого хохлатого пингвина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отличают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бров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 которые топорщатся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вверх.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С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НЭ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РСКИЙ  ХОХ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ТЫЙ  ПИНГ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3,5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коло 3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25 тыс. пар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строва Снэрс, к югу от Новой Зеланди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Безымянный" descr=""/>
          <p:cNvPicPr/>
          <p:nvPr/>
        </p:nvPicPr>
        <p:blipFill>
          <a:blip r:embed="rId1"/>
          <a:stretch/>
        </p:blipFill>
        <p:spPr>
          <a:xfrm>
            <a:off x="5562720" y="914400"/>
            <a:ext cx="221616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moguch170x214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32688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Его ещё называ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огучий пингви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обитает только на островах Снэрс, расположенные к югу Новой Зеландии. Популяция охраняется законом. На островах достаточное количество растительности, и иногда пингвинов можно увидеть на ветках низких кустарников и деревье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ЖЕЛТО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ЗЫ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952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76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коло 1 800 пар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к юго-востоку от Новой Зеландии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800600"/>
            <a:ext cx="4419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В южной части новозеландского района обитает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великолепны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ил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желтоглазый пингв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 На голове у него через темя от глаза к глазу проходит желтая полоса. Желтоватым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спещрена и остальная часть голов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yep4_big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876920" cy="3745080"/>
          </a:xfrm>
          <a:prstGeom prst="rect">
            <a:avLst/>
          </a:prstGeom>
          <a:ln w="0">
            <a:noFill/>
          </a:ln>
        </p:spPr>
      </p:pic>
      <p:pic>
        <p:nvPicPr>
          <p:cNvPr id="103" name="Безымянный" descr=""/>
          <p:cNvPicPr/>
          <p:nvPr/>
        </p:nvPicPr>
        <p:blipFill>
          <a:blip r:embed="rId2"/>
          <a:stretch/>
        </p:blipFill>
        <p:spPr>
          <a:xfrm>
            <a:off x="6095880" y="990720"/>
            <a:ext cx="2411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ГОЛУ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БО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Й (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ЛЫЙ)  ПИНГ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5028840"/>
            <a:ext cx="4495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38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1 млн. птиц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Южная Австралия и Новая Зеланд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267080"/>
            <a:ext cx="426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лубой пингви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о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битает вокруг главных островов Новой Зеландии, на островах Чатам и у южного побережья Австрали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По сравнению с другими пингвинами внешн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овольно так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невзрачны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- белый низ, голубоватый однотонный вер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Безымянный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108" name="Безымянный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809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БЕЛОК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Ы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ЛЫЙ  ПИНГ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600" y="4800240"/>
            <a:ext cx="4495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1 млн. птиц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восточное побережье Новой Зеландии</a:t>
            </a:r>
            <a:r>
              <a:rPr b="0" i="1" lang="en-US" sz="1900" spc="-1" strike="noStrike">
                <a:solidFill>
                  <a:srgbClr val="ffffff"/>
                </a:solidFill>
                <a:latin typeface="Arial Cyr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Безымянный" descr=""/>
          <p:cNvPicPr/>
          <p:nvPr/>
        </p:nvPicPr>
        <p:blipFill>
          <a:blip r:embed="rId1"/>
          <a:stretch/>
        </p:blipFill>
        <p:spPr>
          <a:xfrm>
            <a:off x="2895480" y="6858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ГАЛАПА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ССКИЙ  ПИНГ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520" y="4952520"/>
            <a:ext cx="4496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53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2,5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-15 тыс. птиц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Галапагосск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galapagos3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41460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galp_map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28576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У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МБОЛЬ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5-6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0 тыс. птиц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строва у западного побережья Ю. Америки, побережье Перу и Чил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962520"/>
            <a:ext cx="4495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Перуанский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 или пингвин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Гумбольдта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, названный в честь выдающегося немецкого географа, гнездится вдоль перуанского побережья на юг приблизительно до 38 градуса южной широты. В окраске его оперения бросаются в глаза белые подковообразные пятна, проходящие над глазом через затылок на верхнюю часть груди, а также темная п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лоса, перехватывающая белую грудь и продолжающаяся по бокам те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_b7_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humb_map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846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МАГЕ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ОВ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380952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0-7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,5-10 млн.пар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строва у западного побережья Ю. Америки, побережье Перу и Чил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581280"/>
            <a:ext cx="4495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Назван в честь </a:t>
            </a:r>
            <a:r>
              <a:rPr b="1" i="1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Ф. Магеллана</a:t>
            </a: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, который увидел эту птицу в 1518 г. у оконечности Южной Америки.</a:t>
            </a:r>
            <a:r>
              <a:rPr b="0" lang="ru-RU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Магелланов пингвин</a:t>
            </a: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 обитает также в умеренных водах Южной Америки с атлантической стороны и на Фолклендских (Мальвинских) островах. Чередование белых и темных полос у этого вида таково, что грудь перехватывают две темные полосы, а не одна, как у пингвина Гумбольдта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На берегу в период размножения очень боязливы и, завидев человека, прячутся в свои глубокие гнёзда, в воде же совсем не боятся людей и могут быть довольно агрессивны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2611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114800" cy="2908080"/>
          </a:xfrm>
          <a:prstGeom prst="rect">
            <a:avLst/>
          </a:prstGeom>
          <a:ln w="0">
            <a:noFill/>
          </a:ln>
        </p:spPr>
      </p:pic>
      <p:pic>
        <p:nvPicPr>
          <p:cNvPr id="125" name="Безымянный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2073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АФР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СКИ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46479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60-70 см.</a:t>
            </a:r>
            <a:br>
              <a:rPr sz="2100"/>
            </a:b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3 кг.</a:t>
            </a:r>
            <a:br>
              <a:rPr sz="2100"/>
            </a:b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50-171 тыс.пар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побережье Южной Африк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962520"/>
            <a:ext cx="4724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быкновенный очковый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, или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африканский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пингвин, род очковых. Обитает близ берегов Южной Африки и редко заплывает дальше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12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км. от берега. Спутать его здесь не с кем, так как в водах Африки другие виды пингвинов не встречаются. А ослиным его прозвали за громкий и неприятный крик.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17-18 вв. велась активная добыча мяса и жира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этих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птиц. Позднее началась добыча гуано, что вызвало разрушение гнездовий. Т.о. количество птиц сократилось к 1993 г. до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160 тысяч.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быкновенный очковый пингвин охраняется законом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Безымянный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2857680" cy="3040200"/>
          </a:xfrm>
          <a:prstGeom prst="rect">
            <a:avLst/>
          </a:prstGeom>
          <a:ln w="0">
            <a:noFill/>
          </a:ln>
        </p:spPr>
      </p:pic>
      <p:pic>
        <p:nvPicPr>
          <p:cNvPr id="130" name="ochkovy210x210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ff00"/>
                </a:solidFill>
                <a:latin typeface="Arial"/>
              </a:rPr>
              <a:t>ИМПЕ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4500" spc="-1" strike="noStrike">
                <a:solidFill>
                  <a:srgbClr val="00ff00"/>
                </a:solidFill>
                <a:latin typeface="Arial"/>
              </a:rPr>
              <a:t>ТОРСКИЙ  ПИНГ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5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12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7-40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35-175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континентальное побережье Антарктик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emp_map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047760" cy="2766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4280" y="4114800"/>
            <a:ext cx="4419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Императорски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ил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Форстера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амый крупный пингв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Он обитает только на побережье Антарктиды и в непосредственно прилегающих к нему водах. Назван этот пингвин в честь Д. Форстера - натуралиста кругосветной экспедиции капитана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Д. Кук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 На боках шеи у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выделяются оранжевые пятна, имеющие вид больших кавыч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perator179x220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3162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ОР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ВСКИ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94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3,5-16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более 1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субантарктические острова, шельф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Безымянный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2846520" cy="2593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00600" y="4419720"/>
            <a:ext cx="4114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Королевский пингв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гнездится на разбросанных в Южном океане островах. Его рост чуть меньше 1 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У королевского  пингвина оранжевым окрашены не только бока шеи, как у «императора», но и её передняя ча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atagon153x220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27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  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411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45-60 см.</a:t>
            </a:r>
            <a:br>
              <a:rPr sz="1700"/>
            </a:b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3,5-4,5 кг.</a:t>
            </a:r>
            <a:br>
              <a:rPr sz="1700"/>
            </a:b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около 4170 тыс. пар</a:t>
            </a:r>
            <a:br>
              <a:rPr sz="1700"/>
            </a:b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континентальное побережье Антарктик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3200400"/>
            <a:ext cx="4648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мый известный среди пингвинов - пингвин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дел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, носящий имя красавицы жены начальника французской антарктической экспедиции, проводившей исследования в 30-х годах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рошлого столетия, адмирала Ж. 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Дюмона-Дюрвиля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. Адели имеет типичную пингвинью окраску: темные фрак и голова, белоснежные живот и грудь. Вокруг глаз заметно белое кольцо. Похожих на Адели других видов пингвинов н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Не боятся людей, однако не любят посягательств на свою территорию и бесстрашно нападают на человека в случае опас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Безымянный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2822400"/>
          </a:xfrm>
          <a:prstGeom prst="rect">
            <a:avLst/>
          </a:prstGeom>
          <a:ln w="0">
            <a:noFill/>
          </a:ln>
        </p:spPr>
      </p:pic>
      <p:pic>
        <p:nvPicPr>
          <p:cNvPr id="58" name="adel_map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27432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ПАПУ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ССКИ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4647960"/>
            <a:ext cx="4191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0-7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,5-6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60-300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нтарктические и субантарктические острова, Антарктический полуостров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276720"/>
            <a:ext cx="4419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т других видов его легко отличить по белой полосе, которая проходит по темени от глаза к глазу.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азвание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папуасского пингвина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является зоологическим казусом, т.к. в Новой Гвинее пингвины не живут. Под таким названием его описал тот самый Д. Форстер, имя которого носит императорский пингвин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ткладывают 2 яйца. Из птенцов выживает сильнейший. При кормлении родитель выбирает того птенца, который смог его догнать, слабый остается голодным.Предпочитают травянистую местность - гнезда устраивают среди пучков дернистой травы. Очень боязливы - завидев человека тут же убегают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Безымянный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2743200" cy="2523960"/>
          </a:xfrm>
          <a:prstGeom prst="rect">
            <a:avLst/>
          </a:prstGeom>
          <a:ln w="0">
            <a:noFill/>
          </a:ln>
        </p:spPr>
      </p:pic>
      <p:pic>
        <p:nvPicPr>
          <p:cNvPr id="63" name="272514_s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337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АНТАР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ЧЕСКИЙ  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5-6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,5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нтарктические и субантарктическ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3733920"/>
            <a:ext cx="4267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Легко от других видов отличается и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нтарктический пингви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, который гнездится на приантарктических островах и в районе Антарктического полуострова.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 голове у него темная шапочка, от которой к подбородку идет "темный" ремешо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В море часто можно видеть большие группы пингвинов, катающихся на айсберге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грессивны, но в отличие от других видов, выкармливают обоих птенцов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Безымянный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809880" cy="3168720"/>
          </a:xfrm>
          <a:prstGeom prst="rect">
            <a:avLst/>
          </a:prstGeom>
          <a:ln w="0">
            <a:noFill/>
          </a:ln>
        </p:spPr>
      </p:pic>
      <p:pic>
        <p:nvPicPr>
          <p:cNvPr id="68" name="Безымянный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8461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ХО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ТЫЙ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МЕННЫЙ)  ПИН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4114440"/>
            <a:ext cx="4343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0-4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,3-2,7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3,5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нтарктические и субантарктическ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352680"/>
            <a:ext cx="4419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Обитает на каменистых о-вах субантарктического региона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Яркие жёлтые перья растут у них из "бровей" и образуют два хохолка, висящих по бокам головы за глазами.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го ещё называют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"прыгающи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 по скалам"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за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его манер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 передвигаться - отталкиваться сразу обеими ногами. Выпрыгивая на берег прямо из воды, пингвины скачут вверх по тропинкам к месту гнездовья, продвигаясь с каждым прыжком на 30 см.  Они часто падают на валуны, без особого для себя вреда. Жители Фолклендских о-вов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азывают их "</a:t>
            </a:r>
            <a:r>
              <a:rPr b="0" i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роки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" или "</a:t>
            </a:r>
            <a:r>
              <a:rPr b="0" i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скачущий Джек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".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н и в воду прыгает с берега "солдатиком", а не ныряет, как другие пингвин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чень крикливы и отличаются злым характером, нападая на всех и всё, что им угрожает.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Безымянный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495680" cy="2930400"/>
          </a:xfrm>
          <a:prstGeom prst="rect">
            <a:avLst/>
          </a:prstGeom>
          <a:ln w="0">
            <a:noFill/>
          </a:ln>
        </p:spPr>
      </p:pic>
      <p:pic>
        <p:nvPicPr>
          <p:cNvPr id="73" name="Безымянный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043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ЗОЛОТОВ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СЫЙ  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572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0-6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более 11,5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субантарктические острова в Атлантическом и Индийском</a:t>
            </a:r>
            <a:r>
              <a:rPr b="0" i="1" lang="en-US" sz="19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океанах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3429000"/>
            <a:ext cx="4114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редпочитают холодные воды, их часто можно встретить южнее Антарктического пояса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Имеют пышный оранжевый султан из перьев, которые соединяются на лбу и отходят назад от "бровей".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нглийски этот вид называется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macaroni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",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от слов из песенки 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"...прикрепил султан на шляпу и назвался макаронник..."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Речь идёт о пушистых перьях, кото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ые в 17 в. молодые модники носили на шляпах. Считается, что именно они привезли в Англию макарон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Безымянный" descr=""/>
          <p:cNvPicPr/>
          <p:nvPr/>
        </p:nvPicPr>
        <p:blipFill>
          <a:blip r:embed="rId1"/>
          <a:stretch/>
        </p:blipFill>
        <p:spPr>
          <a:xfrm>
            <a:off x="5486400" y="914400"/>
            <a:ext cx="2846520" cy="2411280"/>
          </a:xfrm>
          <a:prstGeom prst="rect">
            <a:avLst/>
          </a:prstGeom>
          <a:ln w="0">
            <a:noFill/>
          </a:ln>
        </p:spPr>
      </p:pic>
      <p:pic>
        <p:nvPicPr>
          <p:cNvPr id="78" name="macaroni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38098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  ШЛЕГЕ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5-75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5,5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850 тыс. пар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стров Макуори и остров Кэмпбел (южнее Н. Зеландии</a:t>
            </a:r>
            <a:r>
              <a:rPr b="0" i="1" lang="ru-RU" sz="1900" spc="-1" strike="noStrike">
                <a:solidFill>
                  <a:srgbClr val="ffffff"/>
                </a:solidFill>
                <a:latin typeface="Arial Cyr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962520"/>
            <a:ext cx="3886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ингвина Шлегеля,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распространение которого ограничено островом Макуори, расположенным немного южнее Новозеландского плато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легко отличить по белым бокам головы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Безымянный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114800" cy="2776680"/>
          </a:xfrm>
          <a:prstGeom prst="rect">
            <a:avLst/>
          </a:prstGeom>
          <a:ln w="0">
            <a:noFill/>
          </a:ln>
        </p:spPr>
      </p:pic>
      <p:pic>
        <p:nvPicPr>
          <p:cNvPr id="83" name="Безымянный" descr=""/>
          <p:cNvPicPr/>
          <p:nvPr/>
        </p:nvPicPr>
        <p:blipFill>
          <a:blip r:embed="rId2"/>
          <a:stretch/>
        </p:blipFill>
        <p:spPr>
          <a:xfrm>
            <a:off x="5410080" y="838080"/>
            <a:ext cx="28576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08:56:39Z</dcterms:created>
  <dc:creator>Gergs</dc:creator>
  <dc:description/>
  <dc:language>en-US</dc:language>
  <cp:lastModifiedBy>Gergs</cp:lastModifiedBy>
  <dcterms:modified xsi:type="dcterms:W3CDTF">2004-03-03T08:14:41Z</dcterms:modified>
  <cp:revision>5</cp:revision>
  <dc:subject/>
  <dc:title>ВИДЫ  ПИНГВИНОВ</dc:title>
</cp:coreProperties>
</file>