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59B-4B86-4953-B5E3-3377E8FA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594-5042-46EB-B11A-FC696D84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494-0EAB-45FF-9AF7-3BE5C8F6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85B-6BAB-476F-857A-E1F0714F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DD4B-78EE-47B7-BF0C-4734A987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BF08-3C07-4283-8091-C19E7E10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3283-4E19-4C77-B5DE-097C9F01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F56B-B35A-4F69-91F8-EB0E4FC2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0243-898F-4D4B-9D92-56982DFD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F89B-DFB6-454E-ACE9-F8035001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A7C3-5488-4E4E-B23F-27737B88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0EE-5A58-47AD-826A-518A1CE6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035F-86ED-402F-9891-9BCA744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8C15-DD77-42C4-81C8-9029D5E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9949-8C27-4109-83DA-0456CFFA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048C-0481-4E1A-A39B-A8FD2160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A06E-53C2-4525-A1B6-C4F38E65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17BA-4BF8-41A3-B7B5-DA715596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93D2-69FB-4F9A-B5D5-8088DA88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DDCC-DC4C-4F75-8AB4-C1058A0A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BC1CF-D81F-43FC-B2DE-0F99F26E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A4DE-FB9A-4E78-865D-F9524556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251-7331-47A0-BDD8-C75AA48E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CE21-8C2C-4C50-B4F3-A65A71B4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6818-A557-456A-8E1D-B497858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36D0-CBCA-422B-9ABC-3878540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B052-7646-4465-97CE-262E3563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0037-98FA-4407-9E89-FD6D5372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BAC6-92DD-4B79-9A54-1D3321ED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64A2-D671-492D-A179-A9763BC9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D2BAE-88F6-439F-ADBD-DFCBA013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7030-A86D-4BBD-9E78-FFDF2399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A111-AC3F-446E-8CBA-3C30D51D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F7C-7AF4-4EE6-9F63-1A8C0E1B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F0CC6-9BF0-44D1-806A-8CF1C66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F9A0-22CE-401D-9703-40C56807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52F01-D2B8-4008-9D86-703C6124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7FE1B-F467-4BBC-A892-81A2EAF7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8751-C3CA-463C-B760-D6ABD581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14022-199E-448E-B0FF-67AA9B8F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F819-5DC9-4A51-BAEA-38887253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ECFA5-7FD0-440E-9441-863F7AF5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23AE6-0CC7-4DCD-A4E4-55675CA6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2EE15-5CD1-420B-90AD-8ADD4F51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AA6-ED68-4D0C-97F9-78B70452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7AB9B-39FB-4A25-9857-CA61C01F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0DB6-4923-4D14-A689-439E0CC4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D16A-8E2A-428A-A6B8-6F9D9CD5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585A-BE89-4EBE-ABB4-34D5E52B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4ACBB-E46C-4E2C-9FC6-D2AD884E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809BA-C93A-4683-A955-15DDE6F5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AF9D9-7353-49D3-9241-D117F618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D20D7-7D8C-4A33-BB66-9ABCE4D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A1B9A-0F1C-4421-A694-2DF9408B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F4362-C0C9-478C-BB13-50CB85AC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84A-EF8B-4735-9A6C-9B6C9950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76906-6DD9-4543-AB58-359CCC56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4AD43-F8F5-4F3E-B2E7-71C3F645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3EF57-BEAD-4649-B38E-5B6E3A3A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EB61-BAA6-42FA-8ABE-C27546DB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25221-7FB5-4B35-AD73-0AED6AF0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25A0E-BE8E-4368-8B3D-76624BA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7AFC5-A5F0-4C9E-836D-E843B516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9506A-64A5-49F2-A101-D9F3F97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DD53A-CCB8-4DDB-BDBB-DE5B2ED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3F687-3BF8-44BC-A3CD-844F26F9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116-533D-40EF-8476-2CFFD40E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1A314-4D10-422A-B247-2769663E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6AED4-03A9-40A6-A848-BA5AE03A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46DD-80A2-4643-B3FB-16F1C93D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42A03-6874-41C8-9AC4-54369F89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11797-F4DA-4FDF-9D31-55C2DFCC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7C18E-1C7F-495F-BE62-93C1E1E9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F579E-C24A-4BE9-871F-25D14464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60AF5-63EA-4E13-AF81-37F85DB9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F4BBB-304B-4D58-B9E9-56767B46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B994F-DEB0-4E9C-96E7-71F1E85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361-11AE-4A59-8EB1-067AFB6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89CBC-1356-42E7-BE1A-5FA96B3A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48FB1-FFFA-4A20-B04C-219EEE0F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E5235-A0FB-4C58-BAFA-39AD9DD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9497A-D19D-401D-A960-FAC5A328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F5A0-BD52-4573-A388-8A531BD4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08A-4D16-4E8E-B537-C7288A1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6964-A446-4984-BF3A-FBF0F31AB66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1EA7-7A63-412B-B576-4CB4A7A30D3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CC25-2662-4D4B-B5F1-A27F7F9E3A6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55DE-4632-400D-BB68-C5118A8CC9A6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034A-79E6-463F-9E2D-A7790CDBCCB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5B00-B583-4702-9950-7E4D843ECAB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E0D4-6E51-40A7-A75D-12DB429146A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20840" y="768240"/>
            <a:ext cx="8704080" cy="214632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781200" y="4029120"/>
            <a:ext cx="8223120" cy="176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бразование сложного предложения путём слияния двух простых, повествующих об одном и том же предмете речи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285840" y="213840"/>
            <a:ext cx="840096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астерская Саврасова резко отличалась от других. В тех работали по необходимости и по обязанности. Иногда зевали и скучали. Здесь не думали о школьных наградах и отличиях. Здесь горячо любили искусство, работу, увлекаясь до самозабвения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В мастерской Саврасова не скучали, не думали о наградах и отличиях, здесь горячо любили искусство и работу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199720" cy="933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28400" y="1285920"/>
            <a:ext cx="82580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однородных членов обобщающим наименова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фрагмента предложения синонимичным выраже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предложения или его части указательным местоиме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предложения или его части определительным или отрицательным местоимением с обобщающим значе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сложноподчинённого предложения просты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прямой речи косвенно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85840" y="356760"/>
            <a:ext cx="84009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«На лугу росли неприхотливые ромашки, задумчивые одуванчики, застенчивые купавки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« На лугу росли цветы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о ведь на то он и человек, чтобы непременно спросить: «Это просто интересно или это мне для чего-нибудь нужно?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о ведь на то он и человек, чтобы спросить, для чего это ему нужно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706320" y="189000"/>
            <a:ext cx="8016840" cy="9572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357120" y="1000080"/>
            <a:ext cx="83296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отдельных членов предложения, некоторых однородных членов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повторов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фрагмента предложения, имеющее менее существенное значение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одного или нескольких синонимов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предложений, содержащих описания или рассуждения, поданные слишком широко и полн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ожно привести множество примеров, когда смысл оживает в строении слова: подоконник – то, что находится под окном; подушка – то, что кладётся под ухо; а вот слово «окно» не каждый свяжет со словом «око»,  а ведь это родственные слова…»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ожно привести множество примеров, когда смысл оживает в строении слова: например, подоконник – то, что находится под окном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63160" cy="1481400"/>
          </a:xfrm>
          <a:prstGeom prst="rect">
            <a:avLst/>
          </a:prstGeom>
          <a:ln w="0">
            <a:noFill/>
          </a:ln>
        </p:spPr>
      </p:pic>
      <p:pic>
        <p:nvPicPr>
          <p:cNvPr id="313" name="Подзаголовок 2" descr=""/>
          <p:cNvPicPr/>
          <p:nvPr/>
        </p:nvPicPr>
        <p:blipFill>
          <a:blip r:embed="rId2"/>
          <a:stretch/>
        </p:blipFill>
        <p:spPr>
          <a:xfrm>
            <a:off x="3206880" y="2955960"/>
            <a:ext cx="5559120" cy="105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5:10:35Z</dcterms:created>
  <dc:creator>Admin</dc:creator>
  <dc:description/>
  <dc:language>en-US</dc:language>
  <cp:lastModifiedBy>Светлана</cp:lastModifiedBy>
  <dcterms:modified xsi:type="dcterms:W3CDTF">2011-12-14T12:24:50Z</dcterms:modified>
  <cp:revision>9</cp:revision>
  <dc:subject/>
  <dc:title>Приёмы  компрессии текста. </dc:title>
</cp:coreProperties>
</file>