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9BF-F5A0-4CBA-81BA-55724E54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A6F-1272-4E06-9007-47E4C8AC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344-7FCA-4D33-9920-B80216DC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F7B-FBB1-4C56-B7DB-2B37288D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8709-2584-4F9D-B12F-1974D3A0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FB9D-3075-45FE-BF2C-F9B13CB5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B88E-3934-41FC-9FCB-B08E3799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04A-809B-41CE-A5FF-ADF2F0D1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7A82-0C2B-41C2-AFCC-DB543609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1768-145A-44DA-BD0C-0591A394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31CC-6779-4DC9-AA44-42BB105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A94-21C7-4245-84D2-0161A2F1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4F3A-32C5-4503-8019-FF83208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A592-0B92-4454-A71E-80A1021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2982-3C4B-4EE1-8058-B19DF760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995B-2126-44F6-883A-BF73AEC2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32A3-A3C6-4EEA-BA37-7123FD9B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68A5-C778-4ED3-B267-6E1F86DA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0F3A-F5A1-42FC-BBF6-5BC27CFF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0584-8757-47A9-96C9-E4F8D8E7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1663-220E-4E67-8074-30764A91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6D19-9E6F-4991-8531-C8D66467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E7F-91FC-4B13-BD3C-32273F5A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0EE3-7F7B-4B68-A55F-624801C7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7C83-9F3E-45DE-BFD9-0A23C22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DBD5-453B-4F1D-9DA2-7A68143E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18FB-8210-41CE-842E-38E89DD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4E3B-CF8E-4166-A806-3AE6989B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BD1B-DC45-4C59-9E25-997C3592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B725-7D72-4F96-B3D3-F8397D68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8EF7-198E-4710-AAB1-17A4DF5D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C7C88-7CAA-4035-BE79-14C2D8B8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2061F-146A-40BB-A662-EC8C8745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87A-6482-4DC0-937B-C5A79CAF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2390-0044-49FE-B2EA-4F9EB339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6EFF-BD95-46D1-A544-AB16FF41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93F7E-7880-4415-AE9E-30B59272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1458-891D-4528-9E60-A065A67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E79A-F8FE-4713-AA9D-B62913A6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6B3F-5831-44FB-9486-49785AD4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D8510-C034-4F10-8BB4-F91B8A58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66DE-902A-4F74-A1E5-18476C8E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A979F-9F85-434A-89BB-5EE712B9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DA965-D3B5-442C-AA74-C6CDA11E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41C-7EC9-43A0-91C9-C7BDD3C2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DE159-01D6-4139-95EE-CA88B117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59F59-FA2E-4BBF-9990-F9607575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0FA6-9F0A-4715-B8D9-BF0D20BB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077F-386B-4CFF-AB6D-EBF75178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5347C-415C-406C-A66C-860EAC7E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99BE7-4CFD-4CD5-A7A6-966748CC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4D22C-B487-4102-973D-9EDDCBE5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07B04-B611-48AB-A8F5-A854B1B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6A85-28A1-4743-9059-12BB4C9F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150FE-92BC-445E-A0C9-5C518DEC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2EC-C0B2-4636-A126-CA685620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207A-2950-4E75-9296-AB47710F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153C-EF62-42EF-A006-71E4ED93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5DD61-6F2E-4051-BC9E-EB950605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E0FE7-F3EC-4486-9026-5D8277E3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44CE8-06D9-4F91-82C3-1ACE8DD8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8BF89-E652-4266-B15D-6F3A51D7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EF56A-3769-4E52-9A4B-B09350B4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44FB5-CB20-41EB-9430-4382FBF1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7D663-4CDD-48D0-B11F-D23BCF82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FEF50-0CA6-48B1-8146-BD3842EA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9F7-6586-42B5-9F64-8BD43BB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84708-0824-48A2-93E3-8E80AA32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F5F21-3550-4DAB-B162-51E6DECE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2D302-089E-4E42-A058-EE52E25C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8CDC6-2075-4CE6-998D-765BA909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EE7AD-B320-4E1C-B676-882EA3F3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1265-B3A5-44C5-A651-C8DE8397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5277D-E0FE-4008-B493-98EDCC33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DAF61-7B6C-47F4-A7EE-76B44844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3FE3-4FE9-4898-95AD-D0FC4E38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2FFF-89B8-49C2-8193-0A5853C5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260-B966-4E1B-ADF0-A107944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EFFEE-E7CC-4F83-85DE-86CFE35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A7E8C-53B8-4455-9B35-29A1DA38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23AD9-944F-4846-AE56-59C245AE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10CB4-6716-44D4-83FA-94FD6C6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0B4E7-CCD7-4DEE-867E-6FE43C37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65B-9D89-4A97-B3F6-4F444E09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766-6121-4E5F-A121-931926A903E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E5DA-C331-4123-B5B9-5654E81D30E3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D42B-BC2C-49A7-9665-DE06BE1A3EC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66F6-23C8-4BBD-A78A-1CFBB447644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B924-2F54-42E7-ABE0-106AC3B8E47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6BD6-3535-4D48-8F77-B6F9DFCACA8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0384-9932-4489-B337-412D9D88A25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20840" y="768240"/>
            <a:ext cx="8704080" cy="214632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781200" y="4029120"/>
            <a:ext cx="8223120" cy="176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бразование сложного предложения путём слияния двух простых, повествующих об одном и том же предмете речи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285840" y="213840"/>
            <a:ext cx="840096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астерская Саврасова резко отличалась от других. В тех работали по необходимости и по обязанности. Иногда зевали и скучали. Здесь не думали о школьных наградах и отличиях. Здесь горячо любили искусство, работу, увлекаясь до самозабвения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В мастерской Саврасова не скучали, не думали о наградах и отличиях, здесь горячо любили искусство и работу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199720" cy="933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28400" y="1285920"/>
            <a:ext cx="82580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однородных членов обобщающим наименова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фрагмента предложения синонимичным выраже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предложения или его части указательным местоиме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предложения или его части определительным или отрицательным местоимением с обобщающим значе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сложноподчинённого предложения просты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прямой речи косвенно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85840" y="356760"/>
            <a:ext cx="84009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«На лугу росли неприхотливые ромашки, задумчивые одуванчики, застенчивые купавки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« На лугу росли цветы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о ведь на то он и человек, чтобы непременно спросить: «Это просто интересно или это мне для чего-нибудь нужно?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о ведь на то он и человек, чтобы спросить, для чего это ему нужно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706320" y="189000"/>
            <a:ext cx="8016840" cy="9572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357120" y="1000080"/>
            <a:ext cx="83296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отдельных членов предложения, некоторых однородных членов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повторов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фрагмента предложения, имеющее менее существенное значение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одного или нескольких синонимов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предложений, содержащих описания или рассуждения, поданные слишком широко и полн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ожно привести множество примеров, когда смысл оживает в строении слова: подоконник – то, что находится под окном; подушка – то, что кладётся под ухо; а вот слово «окно» не каждый свяжет со словом «око»,  а ведь это родственные слова…»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ожно привести множество примеров, когда смысл оживает в строении слова: например, подоконник – то, что находится под окном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63160" cy="1481400"/>
          </a:xfrm>
          <a:prstGeom prst="rect">
            <a:avLst/>
          </a:prstGeom>
          <a:ln w="0">
            <a:noFill/>
          </a:ln>
        </p:spPr>
      </p:pic>
      <p:pic>
        <p:nvPicPr>
          <p:cNvPr id="313" name="Подзаголовок 2" descr=""/>
          <p:cNvPicPr/>
          <p:nvPr/>
        </p:nvPicPr>
        <p:blipFill>
          <a:blip r:embed="rId2"/>
          <a:stretch/>
        </p:blipFill>
        <p:spPr>
          <a:xfrm>
            <a:off x="3206880" y="2955960"/>
            <a:ext cx="5559120" cy="105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5:10:35Z</dcterms:created>
  <dc:creator>Admin</dc:creator>
  <dc:description/>
  <dc:language>en-US</dc:language>
  <cp:lastModifiedBy>Светлана</cp:lastModifiedBy>
  <dcterms:modified xsi:type="dcterms:W3CDTF">2011-12-14T12:24:50Z</dcterms:modified>
  <cp:revision>9</cp:revision>
  <dc:subject/>
  <dc:title>Приёмы  компрессии текста. </dc:title>
</cp:coreProperties>
</file>