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F9F-71C4-448C-851E-2BA12C09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274-FF89-4745-9654-47051B87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5974-70ED-49FA-8E05-1A197F0F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0C1-0210-4D08-9490-BB83C903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98AC-D89D-4415-9C15-3300593A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EB91-02CC-43EA-ADC0-6757F37C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50B8-D592-4D73-A0DC-2030B080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0D2C-D213-4F52-94E0-09937BFF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2601-68BC-4079-9133-798A6299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7AA6-57C1-486C-A163-3F40243A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E747-04AD-459A-BE61-01DB532D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72C-ADF4-4EBE-B77E-E8AFDD07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0FF7-7BAE-4C94-9BD2-BA1D9B40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F6B8-FD77-4D65-80F8-BCF40C69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19D0-10F2-4454-89AE-A334D772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9A04-CF36-443C-A459-A4D93110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7388-508F-4812-8DB4-D7C81826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C60CD-17CA-4D06-8C80-05539BA5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7737-D297-453C-A364-BBD17948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9AAE9-52DA-4478-81C1-5ED9A594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46790-5A3A-4B79-A5B5-E79B9B07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2242-4440-484D-BFF9-9D71DE9D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0B3-0765-4330-902D-7F387C24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6DD5-8F3E-4F30-93A2-193F1768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83175-9158-4FAC-BBF7-4B65FF48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E2E89-E575-495A-A5AD-E88D81B2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CD499-C371-476C-8F77-660DF2E6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E96B2-8C5A-4900-A078-784A8965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7F678-8B7F-435E-8238-D70A99FA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33B9B-643F-4905-8851-D815A8A4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F8C7-E521-4675-86ED-17B42CD9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3B982-D9AC-49F7-B61E-A9155403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F4E18-B207-4362-817E-D5B2CF33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A4E-7465-4E73-B23A-D20B84B6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F7671-B58B-458A-99BD-9C917B39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C5B53-9AA8-4D5D-AC34-8EB3E32F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A0262-5CB5-43DD-B528-3A0F4B99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A238B-CD40-4F39-BCCF-09E376B8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4A1C0-5D1D-433C-AB6E-D2E9A006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E0B39-CFBF-4F6B-86BF-DADC2F33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CB53D-43EF-4698-979F-BAA2670C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F9FCC-D455-472A-93FD-3F1B2AE3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C8D6-6180-42DE-B16E-DE000DF6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6AB88-140E-4502-B817-F3E4AE20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36E-F245-4BA5-ABAE-30B06E1C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9DA23-B6B2-4B29-A4D6-2ABCDB99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0F926-8C88-49BF-8558-F0008893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C12E4-D70C-49F1-BD47-D287DC6F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10BF2-206C-45CE-95B6-5E4D7147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91B90-D040-4B67-8C55-179DB4C0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C91A2-4065-4E81-A964-88F9302D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4A8CA-959A-40D8-A6C5-26AF58B6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CFD37-299E-4AF3-A850-DCCF899F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3BCBD-2A36-4854-AFD3-FBDF2AD8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5FC79-2EF5-4234-8B5F-F93DB4BF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D4C-5F17-4228-A3D4-197E3648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DECBB-CE7A-43CE-8360-5D3806C6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183A9-FC3E-4520-9819-AFA93E50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57E14-61EF-4931-8F15-F20BB7E8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EB4B9-9F3B-41FC-8660-BAFFFD28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10489-E25C-44C2-845C-FB1C0AC5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A859D-EE03-43A7-ACB8-47E0DF3D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B6CEA-6409-48C0-865B-E47AAE7B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B44EA-D363-406E-BFBF-744FD919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E7A69-B870-436A-9DD7-E223460F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79AE6-43D5-4DBD-A800-76A382C9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529-4CB6-4F57-9A51-C0FB15A3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79344-8A2D-4973-8A60-D3B7C08C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3C663-0FC3-4D6B-87B9-E1073E56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FA545-1087-4DF9-B2D0-E5FFFD8E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F4C33-D7EC-4752-B3B9-6FEC11AA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2A25B-FCA5-4951-BC66-AB8609CD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A9358-A0D7-4072-A753-46764149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5A4F7-2514-481C-B5EA-11BFBA93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8B7AF-0523-463F-9E6D-FE430E0C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2BE09-2761-4CA1-ABF5-B1F98979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82F9E-75DC-4874-94F1-0AB11FA1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938-94B2-4499-956A-6D367E52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8FF8F-BD26-4953-8641-BA56B7D8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0A5A8-7A47-43B8-8C89-29B794AA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7558B-0DDD-4E82-9BB9-64EF24AF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E91D2-062C-4917-B69D-76F9BABB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5E87F-7776-4B83-91CC-AAA29373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08A1-4B25-4B8A-B1E4-8A29E548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4BAE-6C13-445D-AFE1-FAA076BBE77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9F19-D4ED-424E-8CEC-EAD115DACC18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D2C5-B14A-48FE-9228-90DAF063963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D9DF-7F77-47A4-A7A3-55DFAB427053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789C-517C-4E70-9607-F0A88645E6E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7C4B-B268-4335-B30F-AC21E026A0AF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4D93-0AAF-4F44-B30B-D3583989F845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20840" y="768240"/>
            <a:ext cx="8704080" cy="214632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781200" y="4029120"/>
            <a:ext cx="8223120" cy="176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бразование сложного предложения путём слияния двух простых, повествующих об одном и том же предмете речи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285840" y="213840"/>
            <a:ext cx="840096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Мастерская Саврасова резко отличалась от других. В тех работали по необходимости и по обязанности. Иногда зевали и скучали. Здесь не думали о школьных наградах и отличиях. Здесь горячо любили искусство, работу, увлекаясь до самозабвения»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В мастерской Саврасова не скучали, не думали о наградах и отличиях, здесь горячо любили искусство и работу»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199720" cy="933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28400" y="1285920"/>
            <a:ext cx="82580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однородных членов обобщающим наименование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фрагмента предложения синонимичным выражение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предложения или его части указательным местоимение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предложения или его части определительным или отрицательным местоимением с обобщающим значение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сложноподчинённого предложения простым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Замена прямой речи косвенной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85840" y="356760"/>
            <a:ext cx="84009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«На лугу росли неприхотливые ромашки, задумчивые одуванчики, застенчивые купавки»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« На лугу росли цветы»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о ведь на то он и человек, чтобы непременно спросить: «Это просто интересно или это мне для чего-нибудь нужно?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о ведь на то он и человек, чтобы спросить, для чего это ему нужно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706320" y="189000"/>
            <a:ext cx="8016840" cy="9572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357120" y="1000080"/>
            <a:ext cx="832968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ключение отдельных членов предложения, некоторых однородных членов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ключение повторов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ключение фрагмента предложения, имеющее менее существенное значение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ключение одного или нескольких синонимов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ключение предложений, содержащих описания или рассуждения, поданные слишком широко и полно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357120"/>
            <a:ext cx="822960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Можно привести множество примеров, когда смысл оживает в строении слова: подоконник – то, что находится под окном; подушка – то, что кладётся под ухо; а вот слово «окно» не каждый свяжет со словом «око»,  а ведь это родственные слова…»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«Можно привести множество примеров, когда смысл оживает в строении слова: например, подоконник – то, что находится под окном»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63160" cy="1481400"/>
          </a:xfrm>
          <a:prstGeom prst="rect">
            <a:avLst/>
          </a:prstGeom>
          <a:ln w="0">
            <a:noFill/>
          </a:ln>
        </p:spPr>
      </p:pic>
      <p:pic>
        <p:nvPicPr>
          <p:cNvPr id="313" name="Подзаголовок 2" descr=""/>
          <p:cNvPicPr/>
          <p:nvPr/>
        </p:nvPicPr>
        <p:blipFill>
          <a:blip r:embed="rId2"/>
          <a:stretch/>
        </p:blipFill>
        <p:spPr>
          <a:xfrm>
            <a:off x="3206880" y="2955960"/>
            <a:ext cx="5559120" cy="105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5:10:35Z</dcterms:created>
  <dc:creator>Admin</dc:creator>
  <dc:description/>
  <dc:language>en-US</dc:language>
  <cp:lastModifiedBy>Светлана</cp:lastModifiedBy>
  <dcterms:modified xsi:type="dcterms:W3CDTF">2011-12-14T12:24:50Z</dcterms:modified>
  <cp:revision>9</cp:revision>
  <dc:subject/>
  <dc:title>Приёмы  компрессии текста. </dc:title>
</cp:coreProperties>
</file>