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371-1C96-4463-A0E1-4188D7D4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D3B-DDE4-4180-9D39-E9BB414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22E-0C81-4DC7-BB30-290098ED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C6D-FCD8-4AEE-A82B-AC52A53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DA6A-F45D-4BBB-9ECC-7CFDCD33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8FF4-B38E-4A4B-9976-53D2116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268-2778-4A19-8FB4-C500FB2A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1875-6D4F-4A0F-8BC3-0CAA2F5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C06D-5922-47A7-829B-B70900E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9760-2BE9-42D3-8110-D54A2FE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E4A9-DB87-4D73-9713-5D18335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BD3-B2DE-4044-AF0D-FA277410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8AB-68F9-430E-952F-9EB538D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069-4ED0-40D1-84E7-C85D1668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F83-5173-4537-A92C-E318857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C56-D870-4F7C-A536-3B3C4375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B019-01F2-48CD-BEAF-ED10B0DA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AD4A-F233-4C86-988C-8FB407BC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50DE-DB40-4FF1-8818-02140F98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0AFD-0EF3-4521-B376-D344B4B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01F8-8E6A-4F22-9129-06916E4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38FF-C170-4B75-8B50-93B2AC8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D08-0EC7-4C01-9FBF-D35FEE4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150E-7944-4AEE-B384-A210384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8C82-D8B2-4349-8814-089289E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9A37-F1EA-4DAA-8257-3AC07FC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2ED6-73D6-4613-BF12-5318181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8140-C301-405E-A20A-0443052B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49CE-A68F-448A-8C89-3562A7C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A4CE-3B77-49D2-8C54-7B330C6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2AB7-DE5F-4E7F-B9E4-B9B0409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F819-4086-40B7-AA8E-65018198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9D23-1C40-4FEA-BFCB-561BDD6A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CBE-BE5B-4532-A117-2E55E802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19CC-86E3-4D65-A3FA-32A6D865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7B25-9F77-4505-9C37-A539461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1C23-4E1D-46A6-9D12-4B60F20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E9ED-4C17-4F32-958B-8B95DDE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0EDD-4E36-4732-A128-1D9769F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CAA5-974E-4C69-B99D-DD539F0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5198-9D94-4D1A-A671-EE7A0AB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CCCB-2F9D-4E13-A46D-90F7856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4119-BF64-41E0-B1A1-AB84902B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1048-0B63-4009-9DF3-5A1FAF2B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33A-CC7B-4FA5-9EC3-1750A2B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FE2D-D16C-458B-8EB9-C73279FD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3D81-F050-4ED4-9B0A-E5ABBB8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4C48-A58F-4B23-BB8B-FD636CB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EB20-DA9D-4EB6-A2C8-83684C1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148A-AD7E-4F83-A839-BABF055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8D5A-D154-4B9D-A86A-7F7A1AD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69FA-6CC1-4C31-B38E-01E18A8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FE01-B8CB-4C33-828D-D91A1E1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CB4E-2FC2-440B-941E-74A50847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9F3E-BD53-4990-BD10-C93FE8B1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1AB-854E-49FD-B340-E466528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3F0F-19CA-47FD-A4C0-CCA48831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16CB3-690C-4E51-A411-236DBA32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693A6-DEBD-4F8D-B361-3886E36C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7F8C-ECFC-4B7D-999B-4C1012ED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DAB5D-08E9-48A4-98F2-372E578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5A2C-1F74-4878-ACD4-8C5AF97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46B9-1549-4A00-891E-EFD70F52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A927-6A72-49E6-8C4D-C7BDDD30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D79B-F238-4C37-A601-F1CBD05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94A35-D619-4738-A107-FB5E626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1A3-EDEB-4FDD-B0C5-AF94AF6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3584-4715-4F83-A081-F234EE2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9CD8-B33C-43B8-BAB5-F0D122A7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8592-2727-4243-84CA-CDDC8C3C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BB74-CBE8-475E-AE73-BA3B4256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EB7F3-D966-4382-96BB-0368FD0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EA2E-4D74-4A96-ADC8-7632D648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9844-EC91-4729-AD60-82DBAC4F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06BBE-36C5-4624-BDA5-62E1E984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DEC17-F77D-4AAF-B222-E3F780D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16B7-3ECB-43EF-ACEA-D3C5EDD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143-A6C2-4EBF-8FC9-941CECA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1979-EEA8-4EF6-AA63-124D3E09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74DE-C4F4-423C-9D57-B03439B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B73FD-8147-48E6-A8C1-0C76671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F6BB9-FC0A-49DF-9120-E9C232C8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12A9-A241-49E3-809E-302A674C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5EFD-34FA-4D5D-A9BA-1504F51E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C7A8-80FD-41B4-9336-139F303F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D804-018B-451D-8660-55CE081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FD47-F8EA-4C51-A252-23226693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6F08F-3A61-496C-8FE9-9D60629F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B63-7338-4E23-96EB-84E3F8F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F0CC-6A72-4810-83C2-7BA57DC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14F5-6CEF-4A85-A679-5376A7F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CCA3-2993-4058-A72B-0729098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891D-7FEB-497F-86D5-EA4F6E2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6FBF-B973-44A4-8E23-B7AB1313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D7ECE-6486-4401-9863-94AD2F4E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911D-2EE5-4574-9A57-8FA78E17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cc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1" name="Group 29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9" name="Rectangle 30"/>
            <p:cNvSpPr/>
            <p:nvPr/>
          </p:nvSpPr>
          <p:spPr>
            <a:xfrm>
              <a:off x="463680" y="1606680"/>
              <a:ext cx="8216640" cy="47116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0A9D-B8A6-41D6-A0CB-36E33B4C6C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73" name="Group 4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918-F124-4067-9B6B-68F7DD81F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18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C5D8-C74B-4AE0-AE19-489DF5E78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76" name="Freeform 3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Freeform 4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Freeform 5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54E-6723-4094-A3B0-23E985B111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cc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31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221" name="Group 29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22" name="Rectangle 2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3" name="Rectangle 3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4" name="Rectangle 4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6" name="Rectangle 6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4" name="Rectangle 24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5" name="Rectangle 25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6" name="Rectangle 26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7" name="Rectangle 27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8" name="Rectangle 28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30"/>
            <p:cNvSpPr/>
            <p:nvPr/>
          </p:nvSpPr>
          <p:spPr>
            <a:xfrm>
              <a:off x="533520" y="1523880"/>
              <a:ext cx="8076960" cy="44197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949-ED0A-4182-87DD-219DDE075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29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29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29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9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9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832-0BB6-4459-BD30-D25131D5DC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339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Freeform 5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9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0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1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04F-435E-4CCA-BED6-664ABDE138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397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398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399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00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bcbcb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bcbc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03" name="Freeform 9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04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1F0-3658-4368-B979-0DC87113F06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250920" y="189000"/>
            <a:ext cx="8569080" cy="1312920"/>
          </a:xfrm>
          <a:prstGeom prst="rect">
            <a:avLst/>
          </a:prstGeom>
          <a:solidFill>
            <a:srgbClr val="cbcbcb"/>
          </a:solidFill>
          <a:ln w="572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ханизм вдоха и выдоха.  Регуляция дыхания.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7" name="Picture 5" descr="r2_9"/>
          <p:cNvPicPr/>
          <p:nvPr/>
        </p:nvPicPr>
        <p:blipFill>
          <a:blip r:embed="rId1"/>
          <a:srcRect l="0" t="0" r="-2088" b="73425"/>
          <a:stretch/>
        </p:blipFill>
        <p:spPr>
          <a:xfrm>
            <a:off x="611280" y="4292640"/>
            <a:ext cx="3168720" cy="19429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684360" y="2060640"/>
            <a:ext cx="7704000" cy="1191240"/>
          </a:xfrm>
          <a:prstGeom prst="rect">
            <a:avLst/>
          </a:prstGeom>
          <a:noFill/>
          <a:ln w="381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Comic Sans MS"/>
              </a:rPr>
              <a:t>Цель. На основании знаний о строении органов дыхательной системы  разобраться в механизме дыхательных движений, понять суть  регуляции дыхания для составления полного представления о дыхании человека.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9" name="Picture 9" descr="MPj04025760000[1]"/>
          <p:cNvPicPr/>
          <p:nvPr/>
        </p:nvPicPr>
        <p:blipFill>
          <a:blip r:embed="rId2"/>
          <a:stretch/>
        </p:blipFill>
        <p:spPr>
          <a:xfrm>
            <a:off x="6659640" y="429264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450" name="181 Ю. Савичева - Легкие.mp3" descr=""/>
          <p:cNvPicPr/>
          <p:nvPr/>
        </p:nvPicPr>
        <p:blipFill>
          <a:blip r:embed="rId3"/>
          <a:stretch/>
        </p:blipFill>
        <p:spPr>
          <a:xfrm>
            <a:off x="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MPj04251600000[1]"/>
          <p:cNvPicPr/>
          <p:nvPr/>
        </p:nvPicPr>
        <p:blipFill>
          <a:blip r:embed="rId4"/>
          <a:stretch/>
        </p:blipFill>
        <p:spPr>
          <a:xfrm>
            <a:off x="4284720" y="4292640"/>
            <a:ext cx="1728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14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539640" y="1557360"/>
            <a:ext cx="3024360" cy="489600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2916360" y="1557360"/>
            <a:ext cx="0" cy="489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539640" y="6021360"/>
            <a:ext cx="23767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539640" y="4076640"/>
            <a:ext cx="23767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39640" y="3500280"/>
            <a:ext cx="2376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539640" y="5084640"/>
            <a:ext cx="302436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340000" y="1557360"/>
            <a:ext cx="0" cy="35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9" name="Freeform 14"/>
          <p:cNvSpPr/>
          <p:nvPr/>
        </p:nvSpPr>
        <p:spPr>
          <a:xfrm>
            <a:off x="539640" y="1268280"/>
            <a:ext cx="1824120" cy="4345200"/>
          </a:xfrm>
          <a:custGeom>
            <a:avLst/>
            <a:gdLst/>
            <a:ahLst/>
            <a:rect l="l" t="t" r="r" b="b"/>
            <a:pathLst>
              <a:path w="1149" h="2737">
                <a:moveTo>
                  <a:pt x="0" y="1739"/>
                </a:moveTo>
                <a:cubicBezTo>
                  <a:pt x="34" y="1557"/>
                  <a:pt x="68" y="1376"/>
                  <a:pt x="91" y="1376"/>
                </a:cubicBezTo>
                <a:cubicBezTo>
                  <a:pt x="114" y="1376"/>
                  <a:pt x="113" y="1746"/>
                  <a:pt x="136" y="1739"/>
                </a:cubicBezTo>
                <a:cubicBezTo>
                  <a:pt x="159" y="1732"/>
                  <a:pt x="197" y="1323"/>
                  <a:pt x="227" y="1331"/>
                </a:cubicBezTo>
                <a:cubicBezTo>
                  <a:pt x="257" y="1339"/>
                  <a:pt x="280" y="1981"/>
                  <a:pt x="318" y="1785"/>
                </a:cubicBezTo>
                <a:cubicBezTo>
                  <a:pt x="356" y="1589"/>
                  <a:pt x="401" y="160"/>
                  <a:pt x="454" y="152"/>
                </a:cubicBezTo>
                <a:cubicBezTo>
                  <a:pt x="507" y="144"/>
                  <a:pt x="590" y="1543"/>
                  <a:pt x="635" y="1739"/>
                </a:cubicBezTo>
                <a:cubicBezTo>
                  <a:pt x="680" y="1935"/>
                  <a:pt x="696" y="1225"/>
                  <a:pt x="726" y="1331"/>
                </a:cubicBezTo>
                <a:cubicBezTo>
                  <a:pt x="756" y="1437"/>
                  <a:pt x="794" y="2367"/>
                  <a:pt x="817" y="2374"/>
                </a:cubicBezTo>
                <a:cubicBezTo>
                  <a:pt x="840" y="2381"/>
                  <a:pt x="847" y="1482"/>
                  <a:pt x="862" y="1376"/>
                </a:cubicBezTo>
                <a:cubicBezTo>
                  <a:pt x="877" y="1270"/>
                  <a:pt x="884" y="1951"/>
                  <a:pt x="907" y="1739"/>
                </a:cubicBezTo>
                <a:cubicBezTo>
                  <a:pt x="930" y="1527"/>
                  <a:pt x="960" y="0"/>
                  <a:pt x="998" y="106"/>
                </a:cubicBezTo>
                <a:cubicBezTo>
                  <a:pt x="1036" y="212"/>
                  <a:pt x="1119" y="2011"/>
                  <a:pt x="1134" y="2374"/>
                </a:cubicBezTo>
                <a:cubicBezTo>
                  <a:pt x="1149" y="2737"/>
                  <a:pt x="1089" y="2276"/>
                  <a:pt x="1089" y="2284"/>
                </a:cubicBezTo>
                <a:cubicBezTo>
                  <a:pt x="1089" y="2292"/>
                  <a:pt x="1111" y="2356"/>
                  <a:pt x="1134" y="24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3060720" y="2924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ЖЕЛ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828720" y="522936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статочный объем</a:t>
            </a: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468360" y="4437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лубокий выдох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лубокий вдох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2340000" y="1844640"/>
            <a:ext cx="93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ерв объем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доха</a:t>
            </a:r>
            <a:endParaRPr b="0" lang="en-US" sz="1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2340000" y="4221000"/>
            <a:ext cx="93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ерв объем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ыдоха</a:t>
            </a:r>
            <a:endParaRPr b="0" lang="en-US" sz="1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2340000" y="357336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т  объем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67" name="Picture 23" descr="MCj04261700000[1]"/>
          <p:cNvPicPr/>
          <p:nvPr/>
        </p:nvPicPr>
        <p:blipFill>
          <a:blip r:embed="rId2"/>
          <a:stretch/>
        </p:blipFill>
        <p:spPr>
          <a:xfrm>
            <a:off x="2268360" y="5373720"/>
            <a:ext cx="1295640" cy="13906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4"/>
          <p:cNvSpPr/>
          <p:nvPr/>
        </p:nvSpPr>
        <p:spPr>
          <a:xfrm>
            <a:off x="39528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omic Sans MS"/>
              </a:rPr>
              <a:t>Вентиляция легких-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3780000" y="16286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Количество воздуха, поступающего при спокойном вдохе и выходящем при спокойном выдохе, называется </a:t>
            </a:r>
            <a:r>
              <a:rPr b="0" lang="ru-RU" sz="1800" spc="-1" strike="noStrike" u="sng">
                <a:solidFill>
                  <a:srgbClr val="006600"/>
                </a:solidFill>
                <a:uFillTx/>
                <a:latin typeface="Comic Sans MS"/>
              </a:rPr>
              <a:t>ДЫХАТЕЛЬНЫМ ОБЪЕМОМ</a:t>
            </a: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. (500см3)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684360" y="609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61128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0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1042920" y="35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539640" y="2349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0-2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4932360" y="26028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количество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воздуха, проходящего через легкие в течение 1 мин (7 л в мин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76" name="Picture 32" descr="MCj02932720000[1]"/>
          <p:cNvPicPr/>
          <p:nvPr/>
        </p:nvPicPr>
        <p:blipFill>
          <a:blip r:embed="rId3"/>
          <a:stretch/>
        </p:blipFill>
        <p:spPr>
          <a:xfrm>
            <a:off x="34920" y="1125360"/>
            <a:ext cx="863640" cy="11527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3"/>
          <p:cNvSpPr/>
          <p:nvPr/>
        </p:nvSpPr>
        <p:spPr>
          <a:xfrm>
            <a:off x="3851280" y="2924280"/>
            <a:ext cx="4464000" cy="733320"/>
          </a:xfrm>
          <a:prstGeom prst="rect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После спокойного вдоха человек может вдохнуть еще около 1500 мл воздуха. Это так называемый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Comic Sans MS"/>
              </a:rPr>
              <a:t>резервный объем вдоха.</a:t>
            </a:r>
            <a:r>
              <a:rPr b="0" lang="ru-RU" sz="1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8" name="Text Box 35"/>
          <p:cNvSpPr/>
          <p:nvPr/>
        </p:nvSpPr>
        <p:spPr>
          <a:xfrm>
            <a:off x="3851280" y="3789360"/>
            <a:ext cx="4537080" cy="733320"/>
          </a:xfrm>
          <a:prstGeom prst="rect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После спокойного выдоха человек может выдохнуть еще около 1500 мл воздуха. Это так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Comic Sans MS"/>
              </a:rPr>
              <a:t>называемый резервный объем выдоха</a:t>
            </a: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9" name="Text Box 36"/>
          <p:cNvSpPr/>
          <p:nvPr/>
        </p:nvSpPr>
        <p:spPr>
          <a:xfrm>
            <a:off x="3708360" y="4797360"/>
            <a:ext cx="4896000" cy="91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Резервный объем вдоха + дыхательный объем  +  резервный объем выдоха = ЖЕЛ (жизненная емкость легких)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0" name="Text Box 37"/>
          <p:cNvSpPr/>
          <p:nvPr/>
        </p:nvSpPr>
        <p:spPr>
          <a:xfrm>
            <a:off x="2916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3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1" name="Text Box 38"/>
          <p:cNvSpPr/>
          <p:nvPr/>
        </p:nvSpPr>
        <p:spPr>
          <a:xfrm>
            <a:off x="284328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4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378000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Спирометр  - прибор для определения ЖЕЛ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3" name="Picture 41" descr="i?id=8784956&amp;tov=8"/>
          <p:cNvPicPr/>
          <p:nvPr/>
        </p:nvPicPr>
        <p:blipFill>
          <a:blip r:embed="rId4"/>
          <a:stretch/>
        </p:blipFill>
        <p:spPr>
          <a:xfrm>
            <a:off x="7380360" y="5516640"/>
            <a:ext cx="122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4920" y="765000"/>
            <a:ext cx="9145440" cy="764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omic Sans MS"/>
              </a:rPr>
              <a:t>Механизм вдоха и выдох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5" name="Picture 5" descr="MCHM00386_0000[1]"/>
          <p:cNvPicPr/>
          <p:nvPr/>
        </p:nvPicPr>
        <p:blipFill>
          <a:blip r:embed="rId1"/>
          <a:stretch/>
        </p:blipFill>
        <p:spPr>
          <a:xfrm>
            <a:off x="7415280" y="126828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0" y="1628640"/>
            <a:ext cx="4537080" cy="1936080"/>
          </a:xfrm>
          <a:prstGeom prst="rect">
            <a:avLst/>
          </a:prstGeom>
          <a:solidFill>
            <a:srgbClr val="d6efd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Легкие пассивны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Следуют за грудной клеткой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За счет разницы давления между легкими и плевральной полостью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148360" y="1700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Вдох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8" name="Picture 8" descr="MPj04023740000[1]"/>
          <p:cNvPicPr/>
          <p:nvPr/>
        </p:nvPicPr>
        <p:blipFill>
          <a:blip r:embed="rId2"/>
          <a:stretch/>
        </p:blipFill>
        <p:spPr>
          <a:xfrm>
            <a:off x="7236000" y="4365720"/>
            <a:ext cx="1584000" cy="194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9"/>
          <p:cNvSpPr/>
          <p:nvPr/>
        </p:nvSpPr>
        <p:spPr>
          <a:xfrm>
            <a:off x="4932360" y="2276640"/>
            <a:ext cx="388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Диафрагма опускается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Грудная клетка расширя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Падает давление в альвеолах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Воздух поступает в легкие</a:t>
            </a: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90" name="Picture 10" descr="MPj04020260000[1]"/>
          <p:cNvPicPr/>
          <p:nvPr/>
        </p:nvPicPr>
        <p:blipFill>
          <a:blip r:embed="rId3"/>
          <a:stretch/>
        </p:blipFill>
        <p:spPr>
          <a:xfrm>
            <a:off x="0" y="3573360"/>
            <a:ext cx="2268360" cy="24004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1"/>
          <p:cNvSpPr/>
          <p:nvPr/>
        </p:nvSpPr>
        <p:spPr>
          <a:xfrm>
            <a:off x="2556000" y="3429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Comic Sans MS"/>
              </a:rPr>
              <a:t>Выдох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2195640" y="3860640"/>
            <a:ext cx="453528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Межреберные мышцы расслабляю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Грудная клетка опуск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иафрагма подним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Объем грудной клетки уменьш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авление в альвеолах становиться выше атмосферного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Воздух выходит в о/с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692360" y="1844640"/>
            <a:ext cx="4174920" cy="4392720"/>
          </a:xfrm>
          <a:prstGeom prst="ellipse">
            <a:avLst/>
          </a:prstGeom>
          <a:solidFill>
            <a:srgbClr val="65b5d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Oval 15"/>
          <p:cNvSpPr/>
          <p:nvPr/>
        </p:nvSpPr>
        <p:spPr>
          <a:xfrm>
            <a:off x="2124000" y="2421000"/>
            <a:ext cx="3241800" cy="3168720"/>
          </a:xfrm>
          <a:prstGeom prst="ellipse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203640" y="47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Comic Sans MS"/>
              </a:rPr>
              <a:t>Легкие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2843280" y="18446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левральная полость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3132000" y="27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Вдох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8" name="Oval 19"/>
          <p:cNvSpPr/>
          <p:nvPr/>
        </p:nvSpPr>
        <p:spPr>
          <a:xfrm>
            <a:off x="1835280" y="2060640"/>
            <a:ext cx="3889080" cy="3889440"/>
          </a:xfrm>
          <a:prstGeom prst="ellipse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3276720" y="1916280"/>
            <a:ext cx="934920" cy="187308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оздух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708360" y="429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 низкое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2340000" y="404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Регуляция дыхания</a:t>
            </a:r>
            <a:r>
              <a:rPr b="0" lang="ru-RU" sz="3600" spc="-1" strike="noStrike">
                <a:solidFill>
                  <a:srgbClr val="cbcbcb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971640" y="1197000"/>
            <a:ext cx="7632720" cy="1008720"/>
          </a:xfrm>
          <a:prstGeom prst="rect">
            <a:avLst/>
          </a:prstGeom>
          <a:solidFill>
            <a:srgbClr val="eaeaea"/>
          </a:solidFill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Дыхательный центр – совокупность нейронов, обеспечивающих деятельность дыхательной системы и её приспособление к условиям среды</a:t>
            </a:r>
            <a:r>
              <a:rPr b="0" lang="ru-RU" sz="2000" spc="-1" strike="noStrike">
                <a:solidFill>
                  <a:srgbClr val="cbcbcb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503" name="Picture 7" descr="Перевозбуждение дыхательного центра"/>
          <p:cNvPicPr/>
          <p:nvPr/>
        </p:nvPicPr>
        <p:blipFill>
          <a:blip r:embed="rId1"/>
          <a:stretch/>
        </p:blipFill>
        <p:spPr>
          <a:xfrm>
            <a:off x="179280" y="256536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504" name="Oval 8"/>
          <p:cNvSpPr/>
          <p:nvPr/>
        </p:nvSpPr>
        <p:spPr>
          <a:xfrm>
            <a:off x="1116000" y="3500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Line 9"/>
          <p:cNvSpPr/>
          <p:nvPr/>
        </p:nvSpPr>
        <p:spPr>
          <a:xfrm flipH="1">
            <a:off x="4355640" y="2492280"/>
            <a:ext cx="647640" cy="287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6300720" y="2492280"/>
            <a:ext cx="50328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3203640" y="3141720"/>
            <a:ext cx="216036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тдел вдоха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6443640" y="3141720"/>
            <a:ext cx="20876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Отдел выдоха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564000" y="400536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cb"/>
                </a:solidFill>
                <a:latin typeface="Comic Sans MS"/>
              </a:rPr>
              <a:t>Дыхательный центр располагается в продолговатом мозге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250920" y="26028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ервная и гуморальная регуляция дыхани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511" name="Picture 6" descr="i?id=483449&amp;tov=7"/>
          <p:cNvPicPr/>
          <p:nvPr/>
        </p:nvPicPr>
        <p:blipFill>
          <a:blip r:embed="rId2"/>
          <a:stretch/>
        </p:blipFill>
        <p:spPr>
          <a:xfrm>
            <a:off x="7085160" y="4869000"/>
            <a:ext cx="2058840" cy="139068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pic>
        <p:nvPicPr>
          <p:cNvPr id="512" name="Picture 8" descr="Регуляция дыхания"/>
          <p:cNvPicPr/>
          <p:nvPr/>
        </p:nvPicPr>
        <p:blipFill>
          <a:blip r:embed="rId3"/>
          <a:stretch/>
        </p:blipFill>
        <p:spPr>
          <a:xfrm>
            <a:off x="250920" y="981000"/>
            <a:ext cx="3529080" cy="53737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513" name="Text Box 9"/>
          <p:cNvSpPr/>
          <p:nvPr/>
        </p:nvSpPr>
        <p:spPr>
          <a:xfrm>
            <a:off x="3995640" y="1125360"/>
            <a:ext cx="4969080" cy="370080"/>
          </a:xfrm>
          <a:prstGeom prst="rect">
            <a:avLst/>
          </a:prstGeom>
          <a:noFill/>
          <a:ln w="2844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3995640" y="2708280"/>
            <a:ext cx="4969080" cy="1578600"/>
          </a:xfrm>
          <a:prstGeom prst="rect">
            <a:avLst/>
          </a:prstGeom>
          <a:noFill/>
          <a:ln w="2844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дох</a:t>
            </a: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 – возбуждение рецепторов альвеол –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блуждающий нерв – центр выдоха (возбуждение)-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спинной мозг  - межреберные мышцы и диафрагма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- уменьшается объем грудной клетки –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ыдох</a:t>
            </a:r>
            <a:r>
              <a:rPr b="1" lang="ru-RU" sz="1800" spc="-1" strike="noStrike">
                <a:solidFill>
                  <a:srgbClr val="cbcbcb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067280" y="4797360"/>
            <a:ext cx="2809800" cy="1708200"/>
          </a:xfrm>
          <a:prstGeom prst="rect">
            <a:avLst/>
          </a:prstGeom>
          <a:noFill/>
          <a:ln w="3816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Comic Sans MS"/>
              </a:rPr>
              <a:t>Повышение концентрации</a:t>
            </a: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 СО</a:t>
            </a:r>
            <a:r>
              <a:rPr b="1" lang="ru-RU" sz="1000" spc="-1" strike="noStrike">
                <a:solidFill>
                  <a:srgbClr val="0066cc"/>
                </a:solidFill>
                <a:latin typeface="Times New Roman"/>
              </a:rPr>
              <a:t>2,  </a:t>
            </a:r>
            <a:r>
              <a:rPr b="1" lang="ru-RU" sz="1400" spc="-1" strike="noStrike">
                <a:solidFill>
                  <a:srgbClr val="0066cc"/>
                </a:solidFill>
                <a:latin typeface="Comic Sans MS"/>
              </a:rPr>
              <a:t>Возбуждает  дыхательный центр  и вызывает усиленное сокращение дыхательной мускулатуры и учащения дыхания.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2057040"/>
            <a:ext cx="842508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Параграфы 28, 29. Читать, разбирать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На стр 154 прочитать «Основные положения глав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Закончить задания в р/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Подготовиться к зачету</a:t>
            </a:r>
            <a:r>
              <a:rPr b="1" lang="ru-RU" sz="2800" spc="-1" strike="noStrike">
                <a:solidFill>
                  <a:srgbClr val="892d5b"/>
                </a:solidFill>
                <a:latin typeface="Comic Sans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8" name="Picture 4" descr="j0280530"/>
          <p:cNvPicPr/>
          <p:nvPr/>
        </p:nvPicPr>
        <p:blipFill>
          <a:blip r:embed="rId5"/>
          <a:stretch/>
        </p:blipFill>
        <p:spPr>
          <a:xfrm>
            <a:off x="6012000" y="3284640"/>
            <a:ext cx="2735280" cy="230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j0397490"/>
          <p:cNvPicPr/>
          <p:nvPr/>
        </p:nvPicPr>
        <p:blipFill>
          <a:blip r:embed="rId6"/>
          <a:stretch/>
        </p:blipFill>
        <p:spPr>
          <a:xfrm>
            <a:off x="179280" y="4653000"/>
            <a:ext cx="1825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ыдох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– возбуждение рецепторов альвеол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луждающий нерв – центр вдоха (возбуждение)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пинной мозг  - межреберные мышцы и диафраг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lnSpc>
                <a:spcPct val="75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 расширение грудной клетки – </a:t>
            </a: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дох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05:57Z</dcterms:created>
  <dc:creator>Света</dc:creator>
  <dc:description/>
  <dc:language>en-US</dc:language>
  <cp:lastModifiedBy>Пользователь</cp:lastModifiedBy>
  <dcterms:modified xsi:type="dcterms:W3CDTF">2013-09-18T19:48:2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