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AAE-7D9F-4F9D-8E23-7A39D0CF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C41-FE81-4A44-94D9-709F352A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156-89E0-41A9-978E-B2AF14E9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334-D90B-46D3-B30C-B87DE873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CE2-2933-432B-BEC0-7DC2CEB8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474-F14D-4DD3-9AD7-27C78BA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75D-8592-41E5-951E-BE679BDB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A4D-F1AA-4D1A-9B18-BDDBC3B3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AB7-C4CA-47AD-9BBE-E1C234C5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E3E-2FFC-4E5E-80D8-624BA28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EC7-D864-490F-B1DF-E46751C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6DC-0265-4CD8-A370-210703FD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4954-24FF-4BD6-8E9B-B933C693A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8a5c"/>
                </a:solidFill>
                <a:latin typeface="Tahoma"/>
              </a:rPr>
              <a:t>Реализация и изучение игры «Жизнь»</a:t>
            </a:r>
            <a:br>
              <a:rPr sz="2000"/>
            </a:br>
            <a:r>
              <a:rPr b="1" lang="ru-RU" sz="2000" spc="-1" strike="noStrike">
                <a:solidFill>
                  <a:srgbClr val="e78a5c"/>
                </a:solidFill>
                <a:latin typeface="Tahoma"/>
              </a:rPr>
              <a:t>в среде электронных таблиц (</a:t>
            </a:r>
            <a:r>
              <a:rPr b="1" lang="en-US" sz="2000" spc="-1" strike="noStrike">
                <a:solidFill>
                  <a:srgbClr val="e78a5c"/>
                </a:solidFill>
                <a:latin typeface="Tahoma"/>
              </a:rPr>
              <a:t>MS Ecxel</a:t>
            </a:r>
            <a:r>
              <a:rPr b="1" lang="ru-RU" sz="2000" spc="-1" strike="noStrike">
                <a:solidFill>
                  <a:srgbClr val="e78a5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4292280"/>
            <a:ext cx="2512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Докладчик: Посевина А.Д.</a:t>
            </a:r>
            <a:br>
              <a:rPr sz="900"/>
            </a:br>
            <a:br>
              <a:rPr sz="900"/>
            </a:b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Номинация: математи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26920" y="580536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лектростал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9338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537840" y="5660640"/>
            <a:ext cx="80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 4. Случай, когда в первой популяции расчетная клетка живая. Жи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едей 0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45520" y="642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Науки  на которые  повлияло развитие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«Жизнь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02640" y="1946160"/>
            <a:ext cx="8186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делы математики и информатики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автоматов, теория алгоритмов, теория игр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ебра и теория чисел, теория  вероятностей, комбинаторика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графов, фрактальная геометрия,  вычислите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Нематематические» дисциплины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бернетика, химия, биология, астрономия, физика твёрдого тел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нтовая физика,  наномеханика, электротехника, социолог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логия, философ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-4399560" y="3873960"/>
            <a:ext cx="307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фигу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ойчивые фиг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ческие фиг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ющиеся фиг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ирател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8a5c"/>
                </a:solidFill>
                <a:latin typeface="Arial"/>
              </a:rPr>
              <a:t>Выводы и за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57160" y="2000160"/>
            <a:ext cx="7748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ная реализация имеет ряд недостатков:  невозможный расчёт большого количества популяций, ограниченная численность популяций (в нашем случае 25  элементов), трудоёмкость и ненадежность реализац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ая  ценность: данная работа может бы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а в качестве лабораторного практикума на уро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и или информатики по соответствующе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51720" y="2708280"/>
            <a:ext cx="49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8a5c"/>
                </a:solidFill>
                <a:latin typeface="Arial"/>
              </a:rPr>
              <a:t>Спасибо за  внима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684360" y="141300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оисх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556000" y="2492280"/>
            <a:ext cx="4895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095480" y="258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6"/>
          <p:cNvSpPr/>
          <p:nvPr/>
        </p:nvSpPr>
        <p:spPr>
          <a:xfrm>
            <a:off x="1184400" y="2492280"/>
            <a:ext cx="749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40 г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оначальник идеи Джон фон Нейман. Попытка соз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отетической машины, которая может воспроизводить себя сам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1187280" y="4062240"/>
            <a:ext cx="73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70  г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публикация правил игры «Жизнь» в  журнал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cientific Americ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жоном Конвеем. Предложена  более простая  математическая модель на основе идей Джона фон Ней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2960" y="214200"/>
            <a:ext cx="7715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авила игры «Жиз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56000" y="2492280"/>
            <a:ext cx="4895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24000" y="1555920"/>
            <a:ext cx="8605800" cy="73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 действия- разбитая на ячейки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клетка поверхности может находиться в двух состояниях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т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и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тка имеет 8 сосе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количество клеток(первое поколение) задаё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ёртвая клетка, рядом с которой  3 живые клетки ож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вокруг живой клетки стоят 2,3 живые клетки-соседки, она продолжает 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округ живой клетки стоят больше 3-х живых клеток или меньше 2-х, то клетка уми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цией в нашей игре называется  квадрат (минимальный разме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*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еток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000"/>
            </a:br>
            <a:br>
              <a:rPr sz="18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119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637080" y="9262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˲쑬 À"/>
          <p:cNvPicPr/>
          <p:nvPr/>
        </p:nvPicPr>
        <p:blipFill>
          <a:blip r:embed="rId1"/>
          <a:stretch/>
        </p:blipFill>
        <p:spPr>
          <a:xfrm>
            <a:off x="1187280" y="2492280"/>
            <a:ext cx="182880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˶쑬 À"/>
          <p:cNvPicPr/>
          <p:nvPr/>
        </p:nvPicPr>
        <p:blipFill>
          <a:blip r:embed="rId2"/>
          <a:stretch/>
        </p:blipFill>
        <p:spPr>
          <a:xfrm>
            <a:off x="3635280" y="2462040"/>
            <a:ext cx="1819440" cy="1038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˲쑬 À"/>
          <p:cNvPicPr/>
          <p:nvPr/>
        </p:nvPicPr>
        <p:blipFill>
          <a:blip r:embed="rId3"/>
          <a:stretch/>
        </p:blipFill>
        <p:spPr>
          <a:xfrm>
            <a:off x="6199200" y="2452680"/>
            <a:ext cx="1828800" cy="104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3491280" y="462744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.1 «Мигал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1763640" y="692280"/>
            <a:ext cx="57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фигур возникающих в популя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началь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2071800" y="307188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1928880" y="3071880"/>
            <a:ext cx="357120" cy="214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1"/>
          <p:cNvSpPr/>
          <p:nvPr/>
        </p:nvSpPr>
        <p:spPr>
          <a:xfrm>
            <a:off x="1571760" y="2928960"/>
            <a:ext cx="2854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1928880" y="2714760"/>
            <a:ext cx="357120" cy="214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4"/>
          <p:cNvSpPr/>
          <p:nvPr/>
        </p:nvSpPr>
        <p:spPr>
          <a:xfrm>
            <a:off x="2286000" y="2928960"/>
            <a:ext cx="2858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_x001f_쑬 À"/>
          <p:cNvPicPr/>
          <p:nvPr/>
        </p:nvPicPr>
        <p:blipFill>
          <a:blip r:embed="rId1"/>
          <a:stretch/>
        </p:blipFill>
        <p:spPr>
          <a:xfrm>
            <a:off x="1835280" y="2602080"/>
            <a:ext cx="1847880" cy="111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_x001e_쑬 À"/>
          <p:cNvPicPr/>
          <p:nvPr/>
        </p:nvPicPr>
        <p:blipFill>
          <a:blip r:embed="rId2"/>
          <a:stretch/>
        </p:blipFill>
        <p:spPr>
          <a:xfrm>
            <a:off x="4759200" y="2611440"/>
            <a:ext cx="1828800" cy="1104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2385360" y="4902840"/>
            <a:ext cx="39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. Вырождение популя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692360" y="981000"/>
            <a:ext cx="57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фигур возникающих в популя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началь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2571840" y="307188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9"/>
          <p:cNvSpPr/>
          <p:nvPr/>
        </p:nvSpPr>
        <p:spPr>
          <a:xfrm>
            <a:off x="428760" y="142884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4"/>
          <p:cNvSpPr/>
          <p:nvPr/>
        </p:nvSpPr>
        <p:spPr>
          <a:xfrm>
            <a:off x="2571840" y="3071880"/>
            <a:ext cx="35712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6"/>
          <p:cNvSpPr/>
          <p:nvPr/>
        </p:nvSpPr>
        <p:spPr>
          <a:xfrm flipV="1">
            <a:off x="3712320" y="5002200"/>
            <a:ext cx="180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8"/>
          <p:cNvSpPr/>
          <p:nvPr/>
        </p:nvSpPr>
        <p:spPr>
          <a:xfrm>
            <a:off x="8286840" y="257184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0"/>
          <p:cNvSpPr/>
          <p:nvPr/>
        </p:nvSpPr>
        <p:spPr>
          <a:xfrm>
            <a:off x="3000240" y="307188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2"/>
          <p:cNvSpPr/>
          <p:nvPr/>
        </p:nvSpPr>
        <p:spPr>
          <a:xfrm>
            <a:off x="2285280" y="307188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11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_x001f_쑬 À"/>
          <p:cNvPicPr/>
          <p:nvPr/>
        </p:nvPicPr>
        <p:blipFill>
          <a:blip r:embed="rId1"/>
          <a:stretch/>
        </p:blipFill>
        <p:spPr>
          <a:xfrm>
            <a:off x="3059280" y="1654200"/>
            <a:ext cx="3543120" cy="838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_x001f_쑬 À"/>
          <p:cNvPicPr/>
          <p:nvPr/>
        </p:nvPicPr>
        <p:blipFill>
          <a:blip r:embed="rId2"/>
          <a:stretch/>
        </p:blipFill>
        <p:spPr>
          <a:xfrm>
            <a:off x="3059280" y="2892600"/>
            <a:ext cx="3552480" cy="2552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1966320" y="5733000"/>
            <a:ext cx="40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 3а. "Пасек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979640" y="189000"/>
            <a:ext cx="57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фигур возникающих в популя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началь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556000" y="2492280"/>
            <a:ext cx="4895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843280" y="2091240"/>
            <a:ext cx="345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фигур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ойчивые фиг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ческие фиг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ющиеся фиг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ирател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11280" y="76500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равила игры «Жиз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56000" y="2492280"/>
            <a:ext cx="4895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24000" y="1555920"/>
            <a:ext cx="84960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8a5c"/>
                </a:solidFill>
                <a:latin typeface="Arial"/>
              </a:rPr>
              <a:t>Формула №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а выживаемости для живой клет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ной в ячейке С3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(ИЛИ((B1+B3+A1+A2+A3+C1+C2+C3)&gt;3;(CB211+B3+AC2+C3)&lt;2);0;1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– умирает, 1 – живет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Формула №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чета условия оживания для мертвой клетки расположенной в ячейке С3: 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((B4+B6+A4+A5+A6+C4+C5+C6)=3;1;0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умирает, 0 – живет</a:t>
            </a: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611280" y="765000"/>
            <a:ext cx="792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а №3 проверки мертвая или живая клетка в ячей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(B4=1;"Живая"; "Мертвая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формулу №1 и №2 в формулу №3, полу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у №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а №4 вычисления состояния клетки в последую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ции в зависимости от того клетка ячей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твая или живая и количества живых сосед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4=1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(B1+B3+A1+A2+A3+C1+C2+C3)&gt;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B211+B3+A1+A2+A3+C1+C2+C3)&lt;2);0;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(B4+B6+A4+A5+A6+C4+C5+C6)=3;1;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1- живая, 0 - мертв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4:10:43Z</dcterms:created>
  <dc:creator>Palych</dc:creator>
  <dc:description/>
  <dc:language>en-US</dc:language>
  <cp:lastModifiedBy>Коля</cp:lastModifiedBy>
  <dcterms:modified xsi:type="dcterms:W3CDTF">2013-07-13T08:25:01Z</dcterms:modified>
  <cp:revision>94</cp:revision>
  <dc:subject/>
  <dc:title>Слайд 1</dc:title>
</cp:coreProperties>
</file>