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A783-52CB-4076-B7E5-BFB8C3FE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285-AA61-4A36-BEC7-32387538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A16-A549-47A3-B0AB-FAA1EC1D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F9A-AF2C-45D4-AA39-2D088C4B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635E-412D-4894-B9E2-3D3DE90C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F5B-1A3C-4144-BCFB-1AFB5D52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34D-901B-4831-9E82-4A082572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D84C-AC83-4B14-A209-25C095E6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267-AF91-405A-B466-31B6821B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BCF6-F183-4E02-999A-EEC17BF2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B14-F491-4521-91ED-419996A6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3BF6-D826-4FE8-A1D9-81B3BB1A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9BE2-057D-4A47-9EC7-7ACDD0832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78a5c"/>
                </a:solidFill>
                <a:latin typeface="Tahoma"/>
              </a:rPr>
              <a:t>Реализация и изучение игры «Жизнь»</a:t>
            </a:r>
            <a:br>
              <a:rPr sz="2000"/>
            </a:br>
            <a:r>
              <a:rPr b="1" lang="ru-RU" sz="2000" spc="-1" strike="noStrike">
                <a:solidFill>
                  <a:srgbClr val="e78a5c"/>
                </a:solidFill>
                <a:latin typeface="Tahoma"/>
              </a:rPr>
              <a:t>в среде электронных таблиц (</a:t>
            </a:r>
            <a:r>
              <a:rPr b="1" lang="en-US" sz="2000" spc="-1" strike="noStrike">
                <a:solidFill>
                  <a:srgbClr val="e78a5c"/>
                </a:solidFill>
                <a:latin typeface="Tahoma"/>
              </a:rPr>
              <a:t>MS Ecxel</a:t>
            </a:r>
            <a:r>
              <a:rPr b="1" lang="ru-RU" sz="2000" spc="-1" strike="noStrike">
                <a:solidFill>
                  <a:srgbClr val="e78a5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35640" y="4292280"/>
            <a:ext cx="25128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Докладчик: Посевина А.Д.</a:t>
            </a:r>
            <a:br>
              <a:rPr sz="900"/>
            </a:br>
            <a:br>
              <a:rPr sz="900"/>
            </a:b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Номинация: математи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826920" y="580536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лектростал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933880" cy="3714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537840" y="5660640"/>
            <a:ext cx="80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 4. Случай, когда в первой популяции расчетная клетка живая. Жи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едей 0 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45520" y="642960"/>
            <a:ext cx="758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"/>
              </a:rPr>
              <a:t>Науки  на которые  повлияло развитие иг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"/>
              </a:rPr>
              <a:t>«Жизнь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02640" y="1946160"/>
            <a:ext cx="8186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зделы математики и информатики: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автоматов, теория алгоритмов, теория игр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ебра и теория чисел, теория  вероятностей, комбинаторика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графов, фрактальная геометрия,  вычислите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ка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Нематематические» дисциплины: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бернетика, химия, биология, астрономия, физика твёрдого тел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антовая физика,  наномеханика, электротехника, социолог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логия, философ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-4399560" y="3873960"/>
            <a:ext cx="307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фигу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ойчивые фигу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ические фигу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гающиеся фигу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жирател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8a5c"/>
                </a:solidFill>
                <a:latin typeface="Arial"/>
              </a:rPr>
              <a:t>Выводы и за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857160" y="2000160"/>
            <a:ext cx="7748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нная реализация имеет ряд недостатков:  невозможный расчёт большого количества популяций, ограниченная численность популяций (в нашем случае 25  элементов), трудоёмкость и ненадежность реализаци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ая  ценность: данная работа может бы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а в качестве лабораторного практикума на урок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ки или информатики по соответствующей т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051720" y="2708280"/>
            <a:ext cx="49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8a5c"/>
                </a:solidFill>
                <a:latin typeface="Arial"/>
              </a:rPr>
              <a:t>Спасибо за  внимани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684360" y="1413000"/>
            <a:ext cx="7772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роисх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2556000" y="2492280"/>
            <a:ext cx="4895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1095480" y="258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6"/>
          <p:cNvSpPr/>
          <p:nvPr/>
        </p:nvSpPr>
        <p:spPr>
          <a:xfrm>
            <a:off x="1184400" y="2492280"/>
            <a:ext cx="7491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940 г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оначальник идеи Джон фон Нейман. Попытка соз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потетической машины, которая может воспроизводить себя сам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7"/>
          <p:cNvSpPr/>
          <p:nvPr/>
        </p:nvSpPr>
        <p:spPr>
          <a:xfrm>
            <a:off x="1187280" y="4062240"/>
            <a:ext cx="734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970  г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публикация правил игры «Жизнь» в  журнал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cientific Americ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жоном Конвеем. Предложена  более простая  математическая модель на основе идей Джона фон Нейм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42960" y="214200"/>
            <a:ext cx="77151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равила игры «Жиз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556000" y="2492280"/>
            <a:ext cx="4895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24000" y="1555920"/>
            <a:ext cx="8605800" cy="73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 действия- разбитая на ячейки поверх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клетка поверхности может находиться в двух состояниях (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тв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жив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етка имеет 8 сосе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ое количество клеток(первое поколение) задаё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ёртвая клетка, рядом с которой  3 живые клетки ожи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 вокруг живой клетки стоят 2,3 живые клетки-соседки, она продолжает 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округ живой клетки стоят больше 3-х живых клеток или меньше 2-х, то клетка умир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уляцией в нашей игре называется  квадрат (минимальный разме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*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еток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000"/>
            </a:br>
            <a:br>
              <a:rPr sz="18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0" y="119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637080" y="9262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˲쑬 À"/>
          <p:cNvPicPr/>
          <p:nvPr/>
        </p:nvPicPr>
        <p:blipFill>
          <a:blip r:embed="rId1"/>
          <a:stretch/>
        </p:blipFill>
        <p:spPr>
          <a:xfrm>
            <a:off x="1187280" y="2492280"/>
            <a:ext cx="1828800" cy="100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˶쑬 À"/>
          <p:cNvPicPr/>
          <p:nvPr/>
        </p:nvPicPr>
        <p:blipFill>
          <a:blip r:embed="rId2"/>
          <a:stretch/>
        </p:blipFill>
        <p:spPr>
          <a:xfrm>
            <a:off x="3635280" y="2462040"/>
            <a:ext cx="1819440" cy="1038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˲쑬 À"/>
          <p:cNvPicPr/>
          <p:nvPr/>
        </p:nvPicPr>
        <p:blipFill>
          <a:blip r:embed="rId3"/>
          <a:stretch/>
        </p:blipFill>
        <p:spPr>
          <a:xfrm>
            <a:off x="6199200" y="2452680"/>
            <a:ext cx="1828800" cy="1047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1"/>
          <p:cNvSpPr/>
          <p:nvPr/>
        </p:nvSpPr>
        <p:spPr>
          <a:xfrm>
            <a:off x="3491280" y="462744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.1 «Мигал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1763640" y="692280"/>
            <a:ext cx="575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 фигур возникающих в популя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начальных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2071800" y="3071880"/>
            <a:ext cx="35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"/>
          <p:cNvSpPr/>
          <p:nvPr/>
        </p:nvSpPr>
        <p:spPr>
          <a:xfrm>
            <a:off x="1928880" y="3071880"/>
            <a:ext cx="357120" cy="214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1"/>
          <p:cNvSpPr/>
          <p:nvPr/>
        </p:nvSpPr>
        <p:spPr>
          <a:xfrm>
            <a:off x="1571760" y="2928960"/>
            <a:ext cx="2854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1928880" y="2714760"/>
            <a:ext cx="357120" cy="214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4"/>
          <p:cNvSpPr/>
          <p:nvPr/>
        </p:nvSpPr>
        <p:spPr>
          <a:xfrm>
            <a:off x="2286000" y="2928960"/>
            <a:ext cx="2858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0" y="19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_x001f_쑬 À"/>
          <p:cNvPicPr/>
          <p:nvPr/>
        </p:nvPicPr>
        <p:blipFill>
          <a:blip r:embed="rId1"/>
          <a:stretch/>
        </p:blipFill>
        <p:spPr>
          <a:xfrm>
            <a:off x="1835280" y="2602080"/>
            <a:ext cx="1847880" cy="111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_x001e_쑬 À"/>
          <p:cNvPicPr/>
          <p:nvPr/>
        </p:nvPicPr>
        <p:blipFill>
          <a:blip r:embed="rId2"/>
          <a:stretch/>
        </p:blipFill>
        <p:spPr>
          <a:xfrm>
            <a:off x="4759200" y="2611440"/>
            <a:ext cx="1828800" cy="11048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2385360" y="4902840"/>
            <a:ext cx="39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. Вырождение популя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692360" y="981000"/>
            <a:ext cx="575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 фигур возникающих в популя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начальных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2571840" y="3071880"/>
            <a:ext cx="35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9"/>
          <p:cNvSpPr/>
          <p:nvPr/>
        </p:nvSpPr>
        <p:spPr>
          <a:xfrm>
            <a:off x="428760" y="142884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4"/>
          <p:cNvSpPr/>
          <p:nvPr/>
        </p:nvSpPr>
        <p:spPr>
          <a:xfrm>
            <a:off x="2571840" y="3071880"/>
            <a:ext cx="35712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6"/>
          <p:cNvSpPr/>
          <p:nvPr/>
        </p:nvSpPr>
        <p:spPr>
          <a:xfrm flipV="1">
            <a:off x="3712320" y="5002200"/>
            <a:ext cx="180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18"/>
          <p:cNvSpPr/>
          <p:nvPr/>
        </p:nvSpPr>
        <p:spPr>
          <a:xfrm>
            <a:off x="8286840" y="257184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20"/>
          <p:cNvSpPr/>
          <p:nvPr/>
        </p:nvSpPr>
        <p:spPr>
          <a:xfrm>
            <a:off x="3000240" y="307188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22"/>
          <p:cNvSpPr/>
          <p:nvPr/>
        </p:nvSpPr>
        <p:spPr>
          <a:xfrm>
            <a:off x="2285280" y="307188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0" y="11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_x001f_쑬 À"/>
          <p:cNvPicPr/>
          <p:nvPr/>
        </p:nvPicPr>
        <p:blipFill>
          <a:blip r:embed="rId1"/>
          <a:stretch/>
        </p:blipFill>
        <p:spPr>
          <a:xfrm>
            <a:off x="3059280" y="1654200"/>
            <a:ext cx="3543120" cy="838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_x001f_쑬 À"/>
          <p:cNvPicPr/>
          <p:nvPr/>
        </p:nvPicPr>
        <p:blipFill>
          <a:blip r:embed="rId2"/>
          <a:stretch/>
        </p:blipFill>
        <p:spPr>
          <a:xfrm>
            <a:off x="3059280" y="2892600"/>
            <a:ext cx="3552480" cy="2552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1966320" y="5733000"/>
            <a:ext cx="40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. 3а. "Пасека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979640" y="189000"/>
            <a:ext cx="575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 фигур возникающих в популя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начальных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556000" y="2492280"/>
            <a:ext cx="4895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843280" y="2091240"/>
            <a:ext cx="345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фигур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ойчивые фигур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ические фигур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гающиеся фигур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жирател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11280" y="76500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равила игры «Жиз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556000" y="2492280"/>
            <a:ext cx="4895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24000" y="1555920"/>
            <a:ext cx="84960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78a5c"/>
                </a:solidFill>
                <a:latin typeface="Arial"/>
              </a:rPr>
              <a:t>Формула №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а выживаемости для живой клетк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ложенной в ячейке С3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(ИЛИ((B1+B3+A1+A2+A3+C1+C2+C3)&gt;3;(CB211+B3+AC2+C3)&lt;2);0;1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– умирает, 1 – живет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Формула №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чета условия оживания для мертвой клетки расположенной в ячейке С3: 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((B4+B6+A4+A5+A6+C4+C5+C6)=3;1;0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– умирает, 0 – живет</a:t>
            </a:r>
            <a:br>
              <a:rPr sz="20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611280" y="765000"/>
            <a:ext cx="7921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а №3 проверки мертвая или живая клетка в ячей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(B4=1;"Живая"; "Мертвая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м формулу №1 и №2 в формулу №3, получ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у №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а №4 вычисления состояния клетки в последующ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уляции в зависимости от того клетка ячей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ртвая или живая и количества живых сосед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4=1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(B1+B3+A1+A2+A3+C1+C2+C3)&gt;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B211+B3+A1+A2+A3+C1+C2+C3)&lt;2);0;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(B4+B6+A4+A5+A6+C4+C5+C6)=3;1;0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1- живая, 0 - мертв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4:10:43Z</dcterms:created>
  <dc:creator>Palych</dc:creator>
  <dc:description/>
  <dc:language>en-US</dc:language>
  <cp:lastModifiedBy>Коля</cp:lastModifiedBy>
  <dcterms:modified xsi:type="dcterms:W3CDTF">2013-07-13T08:25:01Z</dcterms:modified>
  <cp:revision>94</cp:revision>
  <dc:subject/>
  <dc:title>Слайд 1</dc:title>
</cp:coreProperties>
</file>