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6CD-8E4E-481E-875A-E241C334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93A-55C0-48F5-9D91-D705DC97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5E9-5CEB-418B-AAB5-087D0B34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661-3998-4D44-A670-36D40F5E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ADF-648F-49C3-BB38-EEC720C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C7B-2DE3-4969-BB6C-2188609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C99-A0A1-4D4A-8244-14F60BAE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5B4-B2C1-41AD-B491-AAFB05FA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B39-1B2C-4964-AA79-85857DA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8DD-2734-416F-B54D-8647915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C6A-2568-4F40-8987-CB11E96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536-7671-4E6E-8110-CDDFBBD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488-EC2D-4655-B01C-B6303445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38760" y="7308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авайте закреп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ый,старш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лодо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углы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bird, the dog,the girafe is happi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981080" y="1295280"/>
            <a:ext cx="50292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"/>
              </a:rPr>
              <a:t>Степе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057400" y="2514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76520" y="4114800"/>
            <a:ext cx="5638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прилаг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Мои рисунки\пингвины\7-226600.png"/>
          <p:cNvPicPr/>
          <p:nvPr/>
        </p:nvPicPr>
        <p:blipFill>
          <a:blip r:embed="rId1"/>
          <a:stretch/>
        </p:blipFill>
        <p:spPr>
          <a:xfrm>
            <a:off x="3200400" y="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987480" y="5102280"/>
            <a:ext cx="718164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3"/>
          <a:stretch/>
        </p:blipFill>
        <p:spPr>
          <a:xfrm>
            <a:off x="3413160" y="1085760"/>
            <a:ext cx="2523960" cy="46188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6"/>
          <p:cNvCxnSpPr/>
          <p:nvPr/>
        </p:nvCxnSpPr>
        <p:spPr>
          <a:xfrm flipH="1">
            <a:off x="1980360" y="175248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8"/>
          <p:cNvCxnSpPr/>
          <p:nvPr/>
        </p:nvCxnSpPr>
        <p:spPr>
          <a:xfrm flipH="1">
            <a:off x="4494960" y="236232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>
            <a:off x="5867280" y="16761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3" descr="E:\Мои рисунки\пингвины\148-9219.png"/>
          <p:cNvPicPr/>
          <p:nvPr/>
        </p:nvPicPr>
        <p:blipFill>
          <a:blip r:embed="rId4"/>
          <a:stretch/>
        </p:blipFill>
        <p:spPr>
          <a:xfrm>
            <a:off x="1219320" y="23623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5"/>
          <a:stretch/>
        </p:blipFill>
        <p:spPr>
          <a:xfrm>
            <a:off x="1474920" y="3170160"/>
            <a:ext cx="2079360" cy="40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E:\Мои рисунки\пингвины\149-1859.png"/>
          <p:cNvPicPr/>
          <p:nvPr/>
        </p:nvPicPr>
        <p:blipFill>
          <a:blip r:embed="rId6"/>
          <a:stretch/>
        </p:blipFill>
        <p:spPr>
          <a:xfrm>
            <a:off x="3733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7"/>
          <a:stretch/>
        </p:blipFill>
        <p:spPr>
          <a:xfrm>
            <a:off x="3876840" y="3638520"/>
            <a:ext cx="1768320" cy="3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Мои рисунки\пингвины\150-2214.png"/>
          <p:cNvPicPr/>
          <p:nvPr/>
        </p:nvPicPr>
        <p:blipFill>
          <a:blip r:embed="rId8"/>
          <a:stretch/>
        </p:blipFill>
        <p:spPr>
          <a:xfrm>
            <a:off x="609588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4" descr=""/>
          <p:cNvPicPr/>
          <p:nvPr/>
        </p:nvPicPr>
        <p:blipFill>
          <a:blip r:embed="rId9"/>
          <a:stretch/>
        </p:blipFill>
        <p:spPr>
          <a:xfrm>
            <a:off x="6224760" y="3713040"/>
            <a:ext cx="166356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Круглая лента лицом вниз 4"/>
          <p:cNvSpPr/>
          <p:nvPr/>
        </p:nvSpPr>
        <p:spPr>
          <a:xfrm>
            <a:off x="2438280" y="457200"/>
            <a:ext cx="3810240" cy="13716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1365120" y="4950000"/>
            <a:ext cx="7291440" cy="1164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035160" y="1011240"/>
            <a:ext cx="2524320" cy="46368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6"/>
          <p:cNvCxnSpPr/>
          <p:nvPr/>
        </p:nvCxnSpPr>
        <p:spPr>
          <a:xfrm flipH="1">
            <a:off x="1980360" y="182880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8"/>
          <p:cNvCxnSpPr/>
          <p:nvPr/>
        </p:nvCxnSpPr>
        <p:spPr>
          <a:xfrm flipH="1">
            <a:off x="4343040" y="1828800"/>
            <a:ext cx="216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5562720" y="19047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Прямоугольник 14"/>
          <p:cNvSpPr/>
          <p:nvPr/>
        </p:nvSpPr>
        <p:spPr>
          <a:xfrm>
            <a:off x="6172200" y="2666880"/>
            <a:ext cx="184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опия Новый рисунок (22)"/>
          <p:cNvPicPr/>
          <p:nvPr/>
        </p:nvPicPr>
        <p:blipFill>
          <a:blip r:embed="rId3"/>
          <a:stretch/>
        </p:blipFill>
        <p:spPr>
          <a:xfrm>
            <a:off x="838080" y="2438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3124080" y="20574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5867280" y="1752480"/>
            <a:ext cx="2979720" cy="340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4952880"/>
            <a:ext cx="2743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29"/>
          <p:cNvSpPr/>
          <p:nvPr/>
        </p:nvSpPr>
        <p:spPr>
          <a:xfrm>
            <a:off x="5943600" y="4876920"/>
            <a:ext cx="2743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 -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9"/>
          <p:cNvSpPr/>
          <p:nvPr/>
        </p:nvSpPr>
        <p:spPr>
          <a:xfrm>
            <a:off x="685800" y="5388120"/>
            <a:ext cx="6400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ы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дваив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нце слова меняется на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136440" y="3505320"/>
            <a:ext cx="213696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276720" y="34290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629400" y="3429000"/>
            <a:ext cx="2216160" cy="27622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H="1">
            <a:off x="990360" y="1447920"/>
            <a:ext cx="1829520" cy="175320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76" name="Прямая со стрелкой 9"/>
          <p:cNvCxnSpPr/>
          <p:nvPr/>
        </p:nvCxnSpPr>
        <p:spPr>
          <a:xfrm flipH="1">
            <a:off x="4570200" y="1373040"/>
            <a:ext cx="3600" cy="182952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77" name="Прямая со стрелкой 10"/>
          <p:cNvCxnSpPr/>
          <p:nvPr/>
        </p:nvCxnSpPr>
        <p:spPr>
          <a:xfrm>
            <a:off x="6704640" y="1294920"/>
            <a:ext cx="1524600" cy="205776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ногосложные прилагательны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3 и более сл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3276360"/>
            <a:ext cx="2971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6"/>
          <p:cNvCxnSpPr/>
          <p:nvPr/>
        </p:nvCxnSpPr>
        <p:spPr>
          <a:xfrm flipH="1">
            <a:off x="913680" y="1599120"/>
            <a:ext cx="1677240" cy="152460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H="1">
            <a:off x="4114800" y="1600200"/>
            <a:ext cx="76680" cy="274392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5866200" y="1599840"/>
            <a:ext cx="1220040" cy="205776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85" name="Прямоугольник 14"/>
          <p:cNvSpPr/>
          <p:nvPr/>
        </p:nvSpPr>
        <p:spPr>
          <a:xfrm>
            <a:off x="23623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re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444200" y="358128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most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Arial"/>
              </a:rPr>
              <a:t>Запомни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goo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better- the b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ba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worse- the wo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more-the 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little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less- the le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пишите прилагательные в трёх степенях срав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590920"/>
            <a:ext cx="22096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286000" y="2590920"/>
            <a:ext cx="38862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ois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i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green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old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ore beautifu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34120" y="2550960"/>
            <a:ext cx="38098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oisi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ic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green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old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hott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most beautifu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0-20T16:01:01Z</dcterms:modified>
  <cp:revision>79</cp:revision>
  <dc:subject/>
  <dc:title>Слайд 1</dc:title>
</cp:coreProperties>
</file>