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4E8-7235-46DF-BDD7-ED909A21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958-39A0-495D-8F7B-3BFE268D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B6C-42AF-4B61-BC2E-533514A6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939-D118-4388-B660-199DEC3A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A7B-849B-4449-9481-DDDE4E10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1A5-5A2D-47D3-B9F9-18282D2B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591-C65C-4175-BE06-E52E6297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533-7783-42CE-85FE-312DF607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A3A-22A4-4D88-A84C-E675A8EE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897-0318-42BD-985B-B5BC1FC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30D-7385-4EC9-BF85-C6B61AC7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0CC-D23E-4689-B98A-66F817C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F765-E544-44F3-B9D5-8F5C02CF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201600" y="1444680"/>
            <a:ext cx="86076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прилаг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38760" y="7308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авайте закреп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ый,старший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ий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лодой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углы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the pictures and say: which one is happier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bird, the dog,the girafe is happi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Новый рисунок (18)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201600" y="1444680"/>
            <a:ext cx="86076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523880" y="1752480"/>
            <a:ext cx="62485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luck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981080" y="1295280"/>
            <a:ext cx="502920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"/>
              </a:rPr>
              <a:t>Степе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057400" y="2514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cравн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76520" y="4114800"/>
            <a:ext cx="5638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Times New Roman"/>
              </a:rPr>
              <a:t>прилагате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Мои рисунки\пингвины\7-226600.png"/>
          <p:cNvPicPr/>
          <p:nvPr/>
        </p:nvPicPr>
        <p:blipFill>
          <a:blip r:embed="rId1"/>
          <a:stretch/>
        </p:blipFill>
        <p:spPr>
          <a:xfrm>
            <a:off x="3200400" y="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" descr=""/>
          <p:cNvPicPr/>
          <p:nvPr/>
        </p:nvPicPr>
        <p:blipFill>
          <a:blip r:embed="rId2"/>
          <a:stretch/>
        </p:blipFill>
        <p:spPr>
          <a:xfrm>
            <a:off x="987480" y="5102280"/>
            <a:ext cx="7181640" cy="11653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3"/>
          <a:stretch/>
        </p:blipFill>
        <p:spPr>
          <a:xfrm>
            <a:off x="3413160" y="1085760"/>
            <a:ext cx="2523960" cy="46188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6"/>
          <p:cNvCxnSpPr/>
          <p:nvPr/>
        </p:nvCxnSpPr>
        <p:spPr>
          <a:xfrm flipH="1">
            <a:off x="1980360" y="1752480"/>
            <a:ext cx="12200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8"/>
          <p:cNvCxnSpPr/>
          <p:nvPr/>
        </p:nvCxnSpPr>
        <p:spPr>
          <a:xfrm flipH="1">
            <a:off x="4494960" y="2362320"/>
            <a:ext cx="252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10"/>
          <p:cNvCxnSpPr/>
          <p:nvPr/>
        </p:nvCxnSpPr>
        <p:spPr>
          <a:xfrm>
            <a:off x="5867280" y="1676160"/>
            <a:ext cx="9151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3" descr="E:\Мои рисунки\пингвины\148-9219.png"/>
          <p:cNvPicPr/>
          <p:nvPr/>
        </p:nvPicPr>
        <p:blipFill>
          <a:blip r:embed="rId4"/>
          <a:stretch/>
        </p:blipFill>
        <p:spPr>
          <a:xfrm>
            <a:off x="1219320" y="2362320"/>
            <a:ext cx="175248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5"/>
          <a:stretch/>
        </p:blipFill>
        <p:spPr>
          <a:xfrm>
            <a:off x="1474920" y="3170160"/>
            <a:ext cx="2079360" cy="40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E:\Мои рисунки\пингвины\149-1859.png"/>
          <p:cNvPicPr/>
          <p:nvPr/>
        </p:nvPicPr>
        <p:blipFill>
          <a:blip r:embed="rId6"/>
          <a:stretch/>
        </p:blipFill>
        <p:spPr>
          <a:xfrm>
            <a:off x="37339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3" descr=""/>
          <p:cNvPicPr/>
          <p:nvPr/>
        </p:nvPicPr>
        <p:blipFill>
          <a:blip r:embed="rId7"/>
          <a:stretch/>
        </p:blipFill>
        <p:spPr>
          <a:xfrm>
            <a:off x="3876840" y="3638520"/>
            <a:ext cx="1768320" cy="3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:\Мои рисунки\пингвины\150-2214.png"/>
          <p:cNvPicPr/>
          <p:nvPr/>
        </p:nvPicPr>
        <p:blipFill>
          <a:blip r:embed="rId8"/>
          <a:stretch/>
        </p:blipFill>
        <p:spPr>
          <a:xfrm>
            <a:off x="6095880" y="2438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4" descr=""/>
          <p:cNvPicPr/>
          <p:nvPr/>
        </p:nvPicPr>
        <p:blipFill>
          <a:blip r:embed="rId9"/>
          <a:stretch/>
        </p:blipFill>
        <p:spPr>
          <a:xfrm>
            <a:off x="6224760" y="3713040"/>
            <a:ext cx="166356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Круглая лента лицом вниз 4"/>
          <p:cNvSpPr/>
          <p:nvPr/>
        </p:nvSpPr>
        <p:spPr>
          <a:xfrm>
            <a:off x="2438280" y="457200"/>
            <a:ext cx="3810240" cy="137160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342720 h 1371600"/>
              <a:gd name="textAreaBottom" fmla="*/ 13312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1" descr=""/>
          <p:cNvPicPr/>
          <p:nvPr/>
        </p:nvPicPr>
        <p:blipFill>
          <a:blip r:embed="rId1"/>
          <a:stretch/>
        </p:blipFill>
        <p:spPr>
          <a:xfrm>
            <a:off x="1365120" y="4950000"/>
            <a:ext cx="7291440" cy="11649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3035160" y="1011240"/>
            <a:ext cx="2524320" cy="46368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6"/>
          <p:cNvCxnSpPr/>
          <p:nvPr/>
        </p:nvCxnSpPr>
        <p:spPr>
          <a:xfrm flipH="1">
            <a:off x="1980360" y="1828800"/>
            <a:ext cx="12200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8"/>
          <p:cNvCxnSpPr/>
          <p:nvPr/>
        </p:nvCxnSpPr>
        <p:spPr>
          <a:xfrm flipH="1">
            <a:off x="4343040" y="1828800"/>
            <a:ext cx="216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5562720" y="1904760"/>
            <a:ext cx="9151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Прямоугольник 14"/>
          <p:cNvSpPr/>
          <p:nvPr/>
        </p:nvSpPr>
        <p:spPr>
          <a:xfrm>
            <a:off x="6172200" y="2666880"/>
            <a:ext cx="1843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опия Новый рисунок (22)"/>
          <p:cNvPicPr/>
          <p:nvPr/>
        </p:nvPicPr>
        <p:blipFill>
          <a:blip r:embed="rId3"/>
          <a:stretch/>
        </p:blipFill>
        <p:spPr>
          <a:xfrm>
            <a:off x="838080" y="2438280"/>
            <a:ext cx="1847880" cy="211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опия Новый рисунок (22)"/>
          <p:cNvPicPr/>
          <p:nvPr/>
        </p:nvPicPr>
        <p:blipFill>
          <a:blip r:embed="rId4"/>
          <a:stretch/>
        </p:blipFill>
        <p:spPr>
          <a:xfrm>
            <a:off x="3124080" y="205740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опия Новый рисунок (22)"/>
          <p:cNvPicPr/>
          <p:nvPr/>
        </p:nvPicPr>
        <p:blipFill>
          <a:blip r:embed="rId5"/>
          <a:stretch/>
        </p:blipFill>
        <p:spPr>
          <a:xfrm>
            <a:off x="5867280" y="1752480"/>
            <a:ext cx="2979720" cy="340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4952880"/>
            <a:ext cx="2743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29"/>
          <p:cNvSpPr/>
          <p:nvPr/>
        </p:nvSpPr>
        <p:spPr>
          <a:xfrm>
            <a:off x="5943600" y="4876920"/>
            <a:ext cx="2743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 -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29"/>
          <p:cNvSpPr/>
          <p:nvPr/>
        </p:nvSpPr>
        <p:spPr>
          <a:xfrm>
            <a:off x="685800" y="5388120"/>
            <a:ext cx="6400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квы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дваив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онце слова меняется на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опия (2) Новый рисунок (22)"/>
          <p:cNvPicPr/>
          <p:nvPr/>
        </p:nvPicPr>
        <p:blipFill>
          <a:blip r:embed="rId1"/>
          <a:stretch/>
        </p:blipFill>
        <p:spPr>
          <a:xfrm>
            <a:off x="136440" y="3505320"/>
            <a:ext cx="213696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3276720" y="34290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6629400" y="3429000"/>
            <a:ext cx="2216160" cy="276228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8"/>
          <p:cNvCxnSpPr/>
          <p:nvPr/>
        </p:nvCxnSpPr>
        <p:spPr>
          <a:xfrm flipH="1">
            <a:off x="990360" y="1447920"/>
            <a:ext cx="1829520" cy="1753200"/>
          </a:xfrm>
          <a:prstGeom prst="straightConnector1">
            <a:avLst/>
          </a:prstGeom>
          <a:ln w="4428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76" name="Прямая со стрелкой 9"/>
          <p:cNvCxnSpPr/>
          <p:nvPr/>
        </p:nvCxnSpPr>
        <p:spPr>
          <a:xfrm flipH="1">
            <a:off x="4570200" y="1373040"/>
            <a:ext cx="3600" cy="1829520"/>
          </a:xfrm>
          <a:prstGeom prst="straightConnector1">
            <a:avLst/>
          </a:prstGeom>
          <a:ln w="4428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77" name="Прямая со стрелкой 10"/>
          <p:cNvCxnSpPr/>
          <p:nvPr/>
        </p:nvCxnSpPr>
        <p:spPr>
          <a:xfrm>
            <a:off x="6704640" y="1294920"/>
            <a:ext cx="1524600" cy="2057760"/>
          </a:xfrm>
          <a:prstGeom prst="straightConnector1">
            <a:avLst/>
          </a:prstGeom>
          <a:ln w="44280">
            <a:solidFill>
              <a:srgbClr val="0d0d0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ечная гласная </a:t>
            </a:r>
            <a:r>
              <a:rPr b="1" lang="ru-RU" sz="4400" spc="-1" strike="noStrike">
                <a:solidFill>
                  <a:srgbClr val="ff6600"/>
                </a:solidFill>
                <a:latin typeface="Comic Sans MS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(немое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) опускается перед фиксами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е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-e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arg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larg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the larg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ногосложные прилагательные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 3 и более сл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3276360"/>
            <a:ext cx="2971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6"/>
          <p:cNvCxnSpPr/>
          <p:nvPr/>
        </p:nvCxnSpPr>
        <p:spPr>
          <a:xfrm flipH="1">
            <a:off x="913680" y="1599120"/>
            <a:ext cx="1677240" cy="1524600"/>
          </a:xfrm>
          <a:prstGeom prst="straightConnector1">
            <a:avLst/>
          </a:prstGeom>
          <a:ln w="4752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83" name="Прямая со стрелкой 8"/>
          <p:cNvCxnSpPr/>
          <p:nvPr/>
        </p:nvCxnSpPr>
        <p:spPr>
          <a:xfrm flipH="1">
            <a:off x="4114800" y="1600200"/>
            <a:ext cx="76680" cy="2743920"/>
          </a:xfrm>
          <a:prstGeom prst="straightConnector1">
            <a:avLst/>
          </a:prstGeom>
          <a:ln w="4752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84" name="Прямая со стрелкой 11"/>
          <p:cNvCxnSpPr/>
          <p:nvPr/>
        </p:nvCxnSpPr>
        <p:spPr>
          <a:xfrm>
            <a:off x="5866200" y="1599840"/>
            <a:ext cx="1220040" cy="2057760"/>
          </a:xfrm>
          <a:prstGeom prst="straightConnector1">
            <a:avLst/>
          </a:prstGeom>
          <a:ln w="4752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85" name="Прямоугольник 14"/>
          <p:cNvSpPr/>
          <p:nvPr/>
        </p:nvSpPr>
        <p:spPr>
          <a:xfrm>
            <a:off x="236232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ore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4444200" y="3581280"/>
            <a:ext cx="46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e most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Arial"/>
              </a:rPr>
              <a:t>Запомни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good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 better- the b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bad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 worse- the wor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many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more-the m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little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less- the le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пишите прилагательные в трёх степенях сравн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590920"/>
            <a:ext cx="22096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286000" y="2590920"/>
            <a:ext cx="38862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nois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ni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greene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old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o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more beautifu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334120" y="2550960"/>
            <a:ext cx="38098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noisi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nic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greenest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old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hottest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most beautifu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0-20T16:01:01Z</dcterms:modified>
  <cp:revision>79</cp:revision>
  <dc:subject/>
  <dc:title>Слайд 1</dc:title>
</cp:coreProperties>
</file>