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447-EDC3-4B64-8594-4AEBD35C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AD6-C319-40A0-A2A6-1648DB15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6EA-38D2-4113-A3D4-21C30390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3D3-EF32-47BA-9B8D-CFBCECB7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267-6E4A-4B8B-B426-E976C97C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EE2-CC26-44B7-A0CF-7D78DBF7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329-4A2A-4F20-818A-21E4681D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79F-8E04-4925-A66E-3E502EC9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CD99-0A0F-4399-A769-E8F71544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397-2EF9-481E-9E81-A15BE1CA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ADF-573E-49F5-A27B-2AF1A3ED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CF5-7AA9-4E30-B9DD-850AF26E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7E2B-6FDF-4B9C-9157-0ABF6333B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lag_of_Irkutsk_(Irkutsk_oblast).png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ru.wikipedia.org/wiki/&#1060;&#1072;&#1081;&#1083;:Coat_of_Arms_of_Irkutsk.png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476280"/>
            <a:ext cx="396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дной город - Иркутс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4353120" y="1785960"/>
            <a:ext cx="3574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Привет, Иркутск! Звучит не очень горд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Но я горжусь тобой! И повторять друг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Я завтра не устану это! Твер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Походкой, голову подняв, иду впере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И наслаждаюсь всем, что окруж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Деревья! Парки! Улицы! Дома!.. НАРОД!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В последнем лишь немного огорч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Неравнодушное желание уб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Все красоту, что радовать должна 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А все равно красив! И всех готов прости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Мой город! О тебе еще узнаю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436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95280" y="2637000"/>
            <a:ext cx="388296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0" y="323640"/>
            <a:ext cx="427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Arial"/>
              </a:rPr>
              <a:t>«НАШ ГОРО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0560" y="1270080"/>
            <a:ext cx="71928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90560" y="19890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0560" y="3429000"/>
            <a:ext cx="71928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0560" y="270828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65520" y="270972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8672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09840" y="4148280"/>
            <a:ext cx="71928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65520" y="3430440"/>
            <a:ext cx="71928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1280" y="2706840"/>
            <a:ext cx="71892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84800" y="3430440"/>
            <a:ext cx="71928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84800" y="4148280"/>
            <a:ext cx="71928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1280" y="4867200"/>
            <a:ext cx="71892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3800" y="1270080"/>
            <a:ext cx="71892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7320" y="198756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3800" y="2708280"/>
            <a:ext cx="71892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7320" y="3429000"/>
            <a:ext cx="71928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7320" y="4148280"/>
            <a:ext cx="71928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2709720"/>
            <a:ext cx="71892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429000"/>
            <a:ext cx="71892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4148280"/>
            <a:ext cx="71892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4867200"/>
            <a:ext cx="71892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5586480"/>
            <a:ext cx="71892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2720" y="19890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46600" y="2709720"/>
            <a:ext cx="71892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3430440"/>
            <a:ext cx="71928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2720" y="48672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6600" y="4148280"/>
            <a:ext cx="71892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2720" y="558468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09840" y="1270080"/>
            <a:ext cx="719280" cy="71892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09840" y="270828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09840" y="19890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08400" y="3429000"/>
            <a:ext cx="718920" cy="7192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65520" y="414648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9840" y="4867200"/>
            <a:ext cx="719280" cy="7192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ff66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5920" y="2754360"/>
            <a:ext cx="171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692360" y="1312920"/>
            <a:ext cx="171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21000" y="1314360"/>
            <a:ext cx="171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139920" y="1314360"/>
            <a:ext cx="171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60640" y="2033640"/>
            <a:ext cx="171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0" y="2754360"/>
            <a:ext cx="171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00640" y="2754360"/>
            <a:ext cx="171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a3a3d0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85960" y="476280"/>
            <a:ext cx="22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Экскурс в истор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04320" y="830160"/>
            <a:ext cx="150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еральд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1440" y="1190520"/>
            <a:ext cx="30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Административные о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2160" y="1557360"/>
            <a:ext cx="28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остопримеча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13320" y="1916280"/>
            <a:ext cx="11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Рели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2520" y="227664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инотеа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2440" y="2637000"/>
            <a:ext cx="51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66"/>
                </a:solidFill>
                <a:latin typeface="Arial"/>
              </a:rPr>
              <a:t>Приказ о праздновании 350 летия г. Иркут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12960" y="5769000"/>
            <a:ext cx="2038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Arial"/>
              </a:rPr>
              <a:t>Кросвор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27720" y="3338640"/>
            <a:ext cx="2160360" cy="29541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189000"/>
            <a:ext cx="3971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Экскурс в истори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691920"/>
            <a:ext cx="6769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Своё начало город ведёт с Иркутского острога, заложенного казаками под руководством Якова Похабова в 1661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«В нынешнем 169 (1661) году июля в шестой день против Иркута реки на верхоленской стороне государев новый острог служилыми людьми ставлю… Изволил острог поставить и тут место самое лучшее, угожее для пашень и скотной выпуск и сенные покосы и рыбные ловли все близко…» — писал в своем донесении енисейскому воеводе Яков Поха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Название происходит от названия реки Иркут, впадающей в Анга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Иркутск практически с самого основания был важнейшим опорным пунктом по торговле с Китаем. Через город проходили все русско-китайские торговые караваны. Город жил и рос благодаря торговле, крупные промышленные предприятия в городе появились только в XX ве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Иркутск упомянут в книге Николая Корнелия Витсена «Северная и Восточная Тартария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«Город Иркутской, расположенный приблизительно в восьми милях от берега Байкальского моря, построен несколько лет тому назад; он снабжен крепкими деревянными башнями и имеет большое предместье; мяса и рыбы можно достать в изобилии. Вокруг этого города, до самого Верхоленска, в избытке растет рожь. Земля там очень плодородна, и многие московиты поселились здесь… Малая река по названию Иркут впадает здесь в Ангару, вблизи расположен монастырь. Очень эта местность подвержена многим землетрясениям… В городе, в укреплении, находится дом начальника, также оружейная палата и ратуша; караул содержится в крепости, но солдаты живут за ее пределами. В остроге имеется слобода или предместье. Здесь примерно четыреста пятьдесят домов (в другой части книги Витсен сообщает, что в Иркутске было 200 домов.) для горожан, солдат, золотых дел мастеров, портных и других ремесленников. В городе имеется церковь, и в предместье выстроены четыре церкви. Восемьсот солдат временами составляют гарнизон, отсюда их направляют и рассылают в другие населенные пункты. Одеваются здесь в китайскую, монгольскую и русскую одежду, но, когда ходят в церковь, все одеваются по-русски. Крепость имеет пять деревянных ворот, очень высоких, с двойными стенами из земли… Бойницы внизу устроены под орудия, наверху под ручное оружие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Башня"/>
          <p:cNvPicPr/>
          <p:nvPr/>
        </p:nvPicPr>
        <p:blipFill>
          <a:blip r:embed="rId1"/>
          <a:stretch/>
        </p:blipFill>
        <p:spPr>
          <a:xfrm>
            <a:off x="7524720" y="1989000"/>
            <a:ext cx="1479600" cy="216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640" y="333360"/>
            <a:ext cx="25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Геральд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2924280"/>
            <a:ext cx="30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Герб Иркутска — один из официальных символов города Иркутска. Современный герб города представляет собой серебряный геральдический щит, на котором изображён чёрный бабр с червлёными глазами, держащий в пасти червлёного соб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197000"/>
            <a:ext cx="344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Arial"/>
              </a:rPr>
              <a:t>Флаг городского округа «Город Иркутск» Иркутской области Российской Федерации. Единственный флаг в России нестандартной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" descr="Флаг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357720"/>
            <a:ext cx="3744720" cy="2211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Герб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189000"/>
            <a:ext cx="1954440" cy="2421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404640"/>
            <a:ext cx="5657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Административные окру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25360"/>
            <a:ext cx="784872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Город делится на четыре административных округ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Правобереж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бразован в 1996 году слиянием двух городских районов: Кировского и Куйбышевского. Население 107,4 тыс. человек. В составе округа: центральная часть города (бывший Кировский район), предместья Марата, Рабочее, Радищево, м/р Топкинский, м/р Зеленый, пос. Иск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ктябрь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бразован в 1941 году (некоторое время носил названия «Нагорный», «Сталинский»). Включает м/н Лисиха, м/н Байкальский, м/н Солнечный, аэропорт «Иркутск». В округе проживает 135,2 тыс. челов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Свердлов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Население 193,8 тыс. человек. Включает м/р Юбилейный, пос. ГЭС, м/р Ершовский, м/р Радужный, Академгородок, Студгородок, м/р Университетский, м/р Первомайский, м/р Синюшина гора, пос. Мельниково, пос. 9 километр (Черемушки), предместье Глазко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Лени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ff66"/>
                </a:solidFill>
                <a:latin typeface="Arial"/>
              </a:rPr>
              <a:t>Образован в 1920 году. Население — 142,8 тыс. человек. Площадь — 10,37 тыс. га. состоит из двух крупных жилых массивов: Ново-Ленино и Иркутск-2, а также поселков Жилкино, Боково, им. Кирова, им. Горького(Селиваниха), Ермаковский, Батарейная, Вересов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830760" cy="2735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2224080" cy="2292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79280" y="0"/>
            <a:ext cx="5276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Достопримеча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8000" y="620640"/>
            <a:ext cx="194292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732720" y="189000"/>
            <a:ext cx="2141280" cy="149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16720" y="4869000"/>
            <a:ext cx="2340000" cy="1757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050920" y="476280"/>
            <a:ext cx="5761080" cy="65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Памятник Александру III на набережной Анг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2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Новый Казанский Со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3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Дом-музей декабристов в усадьбе Волконс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4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Знаменский монасты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5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Художественный музей им. В. П. Сукач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6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Краеведческий му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7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Ботанический сад ИГ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8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Минералогический музей им. А. В. Сидор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Несколько археологических стоянок, датирующихся возрастом свыше 30 тысяч лет, в том числе — первая обнаруженная на территории России стоянка времён палеол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9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Ледокол-музей «Анга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0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Памятник Александру III на набережной Анг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1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«Белый дом» — резиденция многих Иркутских генерал-губерна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2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«Экспериментарий» — музей занимательной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3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Кайская реликтовая рощ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4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Иркутские Красные каза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5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Мемориальный комплекс «Иркутяне в годы ВОВ 1941—1945 г.г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6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Детская железная дор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7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Памятник маршалу Жуко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8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Памятник Александру Вампило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19.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66ff66"/>
                </a:solidFill>
                <a:latin typeface="Arial"/>
              </a:rPr>
              <a:t>Памятники Лен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16360" y="115920"/>
            <a:ext cx="2592360" cy="1911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19280" y="3860640"/>
            <a:ext cx="2206440" cy="2784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84360" y="404640"/>
            <a:ext cx="1761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Рели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700280"/>
            <a:ext cx="7750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66"/>
                </a:solidFill>
                <a:latin typeface="Arial"/>
              </a:rPr>
              <a:t>По данным переписи населения 2002 года в Иркутске проживает: 87 % русских, 3 % украинцев, 2 % бурят и др. В Иркутске и Иркутской области одни из самых больших в России сообществ поляков, немцев и белорусов. Около 60 % иркутян причисляют себя к православным верующим[источник не указан 242 дня]. В Иркутске большое количество православных церквей, католический Кафедральный собор, построенный в стиле модерн (сохранилось здание старой католической церкви XIX века, в которой сейчас располагается органный зал Иркутской филармонии), синагога, Иркутская соборная мечеть, буддийские храмы[источник не указан 242 дня]. До революции в Иркутске располагался православный кафедральный Казанский собор (один из самых больших в Российской империи, вмещавший до пяти тысяч верующих), а также лютеранская кирха, снесенные в 1930-е г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3929040" cy="2751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248280" cy="2614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404640"/>
            <a:ext cx="2562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66"/>
                </a:solidFill>
                <a:latin typeface="Comic Sans MS"/>
              </a:rPr>
              <a:t>Кинотеат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66"/>
              </a:solidFill>
              <a:latin typeface="Comic Sans MS"/>
              <a:ea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3139560" y="1306440"/>
            <a:ext cx="3527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Баргу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Второй Э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Дом 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Дон Отел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Киноклуб «35 кад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Киноклуб «Русский пу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</a:rPr>
              <a:t>Мультикомплекс «Кино Jam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Ор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Художе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Ч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Arial"/>
                <a:ea typeface="Times New Roman"/>
              </a:rPr>
              <a:t>Звез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66ff66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796000" y="476280"/>
            <a:ext cx="2840040" cy="2130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79280" y="11970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16726200">
            <a:off x="7956360" y="260280"/>
            <a:ext cx="976320" cy="976320"/>
          </a:xfrm>
          <a:custGeom>
            <a:avLst/>
            <a:gdLst>
              <a:gd name="textAreaLeft" fmla="*/ 0 w 976320"/>
              <a:gd name="textAreaRight" fmla="*/ 976680 w 976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7223" y="16060"/>
                </a:moveTo>
                <a:arcTo wR="-6361" hR="-6361" stAng="7452727" swAng="-7452727"/>
                <a:lnTo>
                  <a:pt x="0" y="10800"/>
                </a:lnTo>
                <a:arcTo wR="10800" hR="10800" stAng="10800000" swAng="7452727"/>
                <a:lnTo>
                  <a:pt x="18390" y="-364"/>
                </a:lnTo>
                <a:lnTo>
                  <a:pt x="19693" y="6470"/>
                </a:lnTo>
                <a:lnTo>
                  <a:pt x="12858" y="7772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0abf8"/>
            </a:gs>
            <a:gs pos="100000">
              <a:srgbClr val="333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87280" y="476280"/>
            <a:ext cx="583272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С каким городом Иркутск был важнейшим опорным пунктом по торгов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Какое животное бежит на гербе иркутска с соболем в зуб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Возле какого озера Иркутск помечен на кар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От названия какой реки, впадающей в Ангару, происходит название Иркутского остро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Постройка рядом с которой стали поселяться люди т.к. земли были плодородными, реки и леса – богаты дичью и рыб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Как называлось обложение, составлявшее от 1 до 6 соболей в год с человека мужского пола среди населения, в которое входили буряты, звенки и тофала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66ff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Comic Sans MS"/>
              </a:rPr>
              <a:t>Имя атамана, который заложил 6 июля 1661 года острог на высоком правом берегу Анга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5:29:56Z</dcterms:created>
  <dc:creator>kp28</dc:creator>
  <dc:description/>
  <dc:language>en-US</dc:language>
  <cp:lastModifiedBy>kp28</cp:lastModifiedBy>
  <dcterms:modified xsi:type="dcterms:W3CDTF">2010-02-02T07:43:47Z</dcterms:modified>
  <cp:revision>2</cp:revision>
  <dc:subject/>
  <dc:title>Слайд 1</dc:title>
</cp:coreProperties>
</file>