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F071-B097-4DBF-AFA3-653960161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7A99-1655-40F5-8CAC-7F3571C9F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5263-F752-4533-8EAF-762400CEFD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6F03-1B8D-43C1-8645-FC459A623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76E2-443D-409C-AA71-5C6B62637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A654-EF07-4ABF-ACB9-CA4027D16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4BAE-34A6-4E98-A882-899A36855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6D9D-0450-4357-B68A-8A9A51536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8DC4-415B-4E63-AF21-D4250E00C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814-D806-47A3-94B6-53D76079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831-5413-429E-A261-2B707C4A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E06-A58D-42C5-B0E7-CEEC22AC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792-2D18-4A50-BA4F-B8413ABD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19E9-A8AC-4EA3-BE91-1FBE960A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C3A8-825C-4E4A-AD45-56ADD23D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8CC1-302F-43B2-BF18-4A77CE86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5599-3222-4BC1-8717-BC18B3AC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8849-5CCA-4435-A2D3-11F48C71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9571-E1A4-414C-8402-F1E6AE61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DAAA-BF5F-4879-A4B7-1A9D8ABF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627-589D-4B93-94DA-F5AB8216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ACDF-3318-4DF6-98D5-B6C81F97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D172-C79B-49A4-B7AB-2135C6E8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61E3-626A-4EDA-B182-F9F14FBB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9CEF-EA2A-4231-991D-BCE2F83F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9C02-C4C8-43C8-B1D5-95B06659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0D0-2281-4A73-9757-1CA58273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D2D-F121-4557-9A21-EDAD63D5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877-A118-44FA-B4AB-ED131CC4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361-4F1F-4A78-9920-89C8E058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8B9-F644-4176-9F74-1CF8382B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A2E-37CC-4D11-8B27-2B5EBF0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02B-4D50-4C76-8F85-A06D956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3C8D-3DB7-4CE9-846D-61A43A2C8F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D31A-CCCE-4E9C-B55F-E5E8427851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df3817"/>
                </a:solidFill>
                <a:latin typeface="Comic Sans MS"/>
              </a:rPr>
              <a:t>Изучение запросов учащихся младших классов на содержание меню школьной столово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Над проектом работал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Сигурко Ел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анченко Маргари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роблема исслед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аибольшее число посетителей школьной столовой составляют ученики младших класс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сё ли им нравится в меню нашей столовой или у них есть свои пожелания по изменению ассортимента блюд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Изучить запросы учащихся младших классов на содержание меню школьной столов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Довести информацию до администрации школы и руководства столовой ,для учёта пожелания учащихся младших клас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02914"/>
                </a:solidFill>
                <a:latin typeface="Comic Sans MS"/>
              </a:rPr>
              <a:t>Ход ис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1.Составили анке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2.Провели анкетиров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3.Обработав анкеты, получили следующие результат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иаграмм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685800" y="2525760"/>
          <a:ext cx="377820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25760"/>
                    <a:ext cx="377820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4603680" y="1962000"/>
          <a:ext cx="3778200" cy="150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3680" y="1962000"/>
                    <a:ext cx="3778200" cy="15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8"/>
          <p:cNvGraphicFramePr/>
          <p:nvPr/>
        </p:nvGraphicFramePr>
        <p:xfrm>
          <a:off x="250920" y="1413000"/>
          <a:ext cx="8893080" cy="544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13000"/>
                    <a:ext cx="889308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Результа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Comic Sans MS"/>
              </a:rPr>
              <a:t>В ходе исследования выяснялось ,что ученики хотели бы видеть в меню школьной столовой такие наименования как: булочку с чаем, пепси ,шоколад ,кофе ,чипсы ,сала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В меню  школьной столовой не должно быть : первого ,спиртных напитков ,сигарет,сухар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Результа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ди шутки мы вставили в анкеты вопрос о наличии спиртных напитков в мен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ерь не знаем: в шутку или в серьез 3% учащихся начальной школы не отказались бы приобрести их в школьной столовой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5292720" y="4941720"/>
            <a:ext cx="2808360" cy="158436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Наши пожел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Мы хотим ,что бы ученики нашей школы, приходя в школьную столовую, всегда находили бы то, что они хотя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Надеемся, что наше анкетирование поможет администрации школы учесть пожелания учащихс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0:43:35Z</dcterms:created>
  <dc:creator>Ученик</dc:creator>
  <dc:description/>
  <dc:language>en-US</dc:language>
  <cp:lastModifiedBy>Коля</cp:lastModifiedBy>
  <dcterms:modified xsi:type="dcterms:W3CDTF">2013-05-29T15:56:45Z</dcterms:modified>
  <cp:revision>5</cp:revision>
  <dc:subject/>
  <dc:title>Изучение запросов учащихся младших классов на содержание меню школьной столовой</dc:title>
</cp:coreProperties>
</file>