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354B-E6EE-4FF2-AC6F-678FAE3ABA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BA4B-EF72-4EF3-B7B6-EBB2E49BF0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0D3B-AE45-4BE1-A080-209816271B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DF1F-48B9-4A51-899C-AA0445494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B6AC-A472-41F3-9484-4D4B96DD17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57D0-A26D-44ED-9012-1787CBA98D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F7C1-7771-42ED-B845-92564BEDDF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FA87-573D-4D13-8E06-C6E1E2A669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702D-4590-47CE-8D04-0CD46EAE8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EA9-7535-4CD5-9A19-743560EB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E24-12A4-45B3-9529-12BD3A1A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D8E-7B38-49BB-AF8D-D0A058A9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D10B-B6DA-4A02-85E8-0545C127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9C09-AD7C-4C08-AADB-8631280C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68CD-8E8C-45E3-A847-033F0D20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AF16-5CFB-48A2-9D38-F4DA6D3B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3189-7F2C-449B-AA0F-EC1BC06B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E12D-4D69-4D44-8DA6-19396171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2B04-86BB-4072-A7A6-2E9BF648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DEB8-C91E-49A9-9087-5C8DB653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CFE0-B6D3-4BD9-8955-8F26EE67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37E8-4C53-41B9-8B8E-9A09D4A1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123C-5007-48B0-A6D8-A8D86680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28F5-C82D-4123-8128-B85D14D9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E713-0303-4EBD-8AD2-6703A31A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F468-FCAF-4A7E-B56E-948F7F28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CB7-5160-4E3A-A5A2-DBC8EC87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E67B-D62B-4897-BDD7-2047E712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43F-2EE0-4668-916E-867B31A2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56B-2843-4CE7-998E-4EF231F8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A2A-2894-414C-B559-8AF4D86D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907-6B49-43D0-81A5-DAAB9DA9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82C-FAD3-4B4E-A718-DEB780FC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55F9-C146-448A-BF37-4C3EB63488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AEA9-2A6E-41DF-99D5-0E12014B51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df3817"/>
                </a:solidFill>
                <a:latin typeface="Comic Sans MS"/>
              </a:rPr>
              <a:t>Изучение запросов учащихся младших классов на содержание меню школьной столово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Над проектом работал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Сигурко Ел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анченко Маргарит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Проблема исследо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аибольшее число посетителей школьной столовой составляют ученики младших класс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сё ли им нравится в меню нашей столовой или у них есть свои пожелания по изменению ассортимента блюд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Цель исследова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Изучить запросы учащихся младших классов на содержание меню школьной столов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Довести информацию до администрации школы и руководства столовой ,для учёта пожелания учащихся младших класс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02914"/>
                </a:solidFill>
                <a:latin typeface="Comic Sans MS"/>
              </a:rPr>
              <a:t>Ход исследова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Comic Sans MS"/>
              </a:rPr>
              <a:t>1.Составили анке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Comic Sans MS"/>
              </a:rPr>
              <a:t>2.Провели анкетиров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Comic Sans MS"/>
              </a:rPr>
              <a:t>3.Обработав анкеты, получили следующие результат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иаграмм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685800" y="2525760"/>
          <a:ext cx="377820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25760"/>
                    <a:ext cx="377820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6"/>
          <p:cNvGraphicFramePr/>
          <p:nvPr/>
        </p:nvGraphicFramePr>
        <p:xfrm>
          <a:off x="4603680" y="1962000"/>
          <a:ext cx="3778200" cy="150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3680" y="1962000"/>
                    <a:ext cx="3778200" cy="15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8"/>
          <p:cNvGraphicFramePr/>
          <p:nvPr/>
        </p:nvGraphicFramePr>
        <p:xfrm>
          <a:off x="250920" y="1413000"/>
          <a:ext cx="8893080" cy="544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13000"/>
                    <a:ext cx="889308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Результат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Comic Sans MS"/>
              </a:rPr>
              <a:t>В ходе исследования выяснялось ,что ученики хотели бы видеть в меню школьной столовой такие наименования как: булочку с чаем, пепси ,шоколад ,кофе ,чипсы ,сала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В меню  школьной столовой не должно быть : первого ,спиртных напитков ,сигарет,сухар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Результат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ди шутки мы вставили в анкеты вопрос о наличии спиртных напитков в мен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ерь не знаем: в шутку или в серьез 3% учащихся начальной школы не отказались бы приобрести их в школьной столовой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5292720" y="4941720"/>
            <a:ext cx="2808360" cy="158436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Comic Sans MS"/>
              </a:rPr>
              <a:t>Наши пожела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Мы хотим ,что бы ученики нашей школы, приходя в школьную столовую, всегда находили бы то, что они хотят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Надеемся, что наше анкетирование поможет администрации школы учесть пожелания учащихс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0:43:35Z</dcterms:created>
  <dc:creator>Ученик</dc:creator>
  <dc:description/>
  <dc:language>en-US</dc:language>
  <cp:lastModifiedBy>Коля</cp:lastModifiedBy>
  <dcterms:modified xsi:type="dcterms:W3CDTF">2013-05-29T15:56:45Z</dcterms:modified>
  <cp:revision>5</cp:revision>
  <dc:subject/>
  <dc:title>Изучение запросов учащихся младших классов на содержание меню школьной столовой</dc:title>
</cp:coreProperties>
</file>