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9F8-49D1-43D2-87ED-0922FDD9A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D0D2-8875-4E70-8CB4-526527D30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5DC-05B1-4353-A7F0-369EB1E1B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0A58-18CF-4453-9132-403225B69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653-D4EB-4C72-B237-957FA6C13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55F-9100-4846-8311-118C15A8F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3DCE-A235-4D88-9E45-FAA76DA1C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88B-16B3-4106-A3CE-090FA9EC4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21D9-DC68-45FA-98BE-5D906C565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7DA-5B9F-4729-A094-F2288CA3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9041-9F69-443A-A893-D1D406F9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A26-C6D2-4DDF-B9D0-7F2A0A9A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E14-872D-4D3D-BF3C-BC728DE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40A-F7D2-4D21-A230-6BE9BBA5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8FDC-9975-4B86-87C2-A38C1382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070C-3543-46A6-A71A-5142243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D311-7D79-4A1E-92CE-6B867CB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9127-0AF6-4C72-8AAA-5B715DDD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0620-CCD4-4607-B711-227C4FF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33F-B63B-4F6F-812F-D97C8A1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3BD-F5AC-412C-BB44-FB79942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2E4-2460-4FCA-A943-1C7F425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76B-23A2-4FE1-9C39-28A3E574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FAC5-5796-4D73-B0D9-24CA6852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286-D61B-4923-84D4-DFDD42C8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D450-3E83-4EBB-956E-F7924A4A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1C7-105E-4680-831C-1CF04511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C9F-6E20-46BF-89B2-06D7C7F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886C-4E08-4E9A-8518-6A2F769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BB0-54DC-4B61-BF62-F87712C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6C4-F3D0-4AA1-9759-F642570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224-BF24-4CA7-9FC4-8989E0A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EBF-C87A-4012-9A71-69261487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E111-F4D7-4073-95CA-6819C85C7B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311-1960-42B0-9D34-F5C8D63CDD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df3817"/>
                </a:solidFill>
                <a:latin typeface="Comic Sans MS"/>
              </a:rPr>
              <a:t>Изучение запросов учащихся младших классов на содержание меню школьной столово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Над проектом работал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Сигурко Ел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анченко Маргари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роблема исслед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аибольшее число посетителей школьной столовой составляют ученики младших класс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сё ли им нравится в меню нашей столовой или у них есть свои пожелания по изменению ассортимента блю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Изучить запросы учащихся младших классов на содержание меню школьной столов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Довести информацию до администрации школы и руководства столовой ,для учёта пожелания учащихся младших клас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02914"/>
                </a:solidFill>
                <a:latin typeface="Comic Sans MS"/>
              </a:rPr>
              <a:t>Ход исследов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1.Составили анк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2.Провели анкетиров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3.Обработав анкеты, получили следующ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иаграмм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685800" y="2525760"/>
          <a:ext cx="37782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25760"/>
                    <a:ext cx="37782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4603680" y="1962000"/>
          <a:ext cx="3778200" cy="15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3680" y="1962000"/>
                    <a:ext cx="377820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250920" y="1413000"/>
          <a:ext cx="8893080" cy="544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13000"/>
                    <a:ext cx="889308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В ходе исследования выяснялось ,что ученики хотели бы видеть в меню школьной столовой такие наименования как: булочку с чаем, пепси ,шоколад ,кофе ,чипсы ,сала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В меню  школьной столовой не должно быть : первого ,спиртных напитков ,сигарет,сухар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ди шутки мы вставили в анкеты вопрос о наличии спиртных напитков в мен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ерь не знаем: в шутку или в серьез 3% учащихся начальной школы не отказались бы приобрести их в школьной столовой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5292720" y="4941720"/>
            <a:ext cx="2808360" cy="158436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Comic Sans MS"/>
              </a:rPr>
              <a:t>Наши пожела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Мы хотим ,что бы ученики нашей школы, приходя в школьную столовую, всегда находили бы то, что они хотя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Comic Sans MS"/>
              </a:rPr>
              <a:t>Надеемся, что наше анкетирование поможет администрации школы учесть пожелания учащихс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0:43:35Z</dcterms:created>
  <dc:creator>Ученик</dc:creator>
  <dc:description/>
  <dc:language>en-US</dc:language>
  <cp:lastModifiedBy>Коля</cp:lastModifiedBy>
  <dcterms:modified xsi:type="dcterms:W3CDTF">2013-05-29T15:56:45Z</dcterms:modified>
  <cp:revision>5</cp:revision>
  <dc:subject/>
  <dc:title>Изучение запросов учащихся младших классов на содержание меню школьной столовой</dc:title>
</cp:coreProperties>
</file>