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EB6-CC46-4070-BBB8-3358E9DD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F4E-92E7-4255-8773-4C6D83BC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77B-3B49-4BC1-88DB-DA73A831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004-DA96-4D34-BBE1-213612FA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74F-CC65-4385-9FCE-BEA70358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79C-7DC4-4852-9E6C-1ECBF50A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ECED-2A4A-448D-A0C5-ADE227FF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BAB-3D18-4B56-B295-1B825BC1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5B3-F96F-4B3C-9802-AF59D316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150-6B70-4788-9635-E0EA4064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F48-8BFA-4BB9-9C3E-D757FA58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10D-BE75-4468-B2DA-A58381EE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3AE5-8452-4EF3-A350-D8F3F1BFE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Кустодиев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Борис Михайлович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1878-19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ветский живописец, график, театральный 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52640" y="1773360"/>
            <a:ext cx="3448080" cy="417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580536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к уроку  «Сочинение по картине Б.М.Кустодиева «Маслен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У «СОШ №2» г. Емвы Мацюк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«Маслениц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197000"/>
            <a:ext cx="82296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ила название от церковного календаря, потому что в этот период времени – последнюю неделю перед Великим постом- разрешалось вкушение сливочного масла, молочных продуктов и рыбы, по-другому эта неделя называется сыр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оследний день Масленицы -в Прощенное воскресенье – устраивались гулянки, ярмарки, катание на лошадях, много времени отводилось общению с близк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16000" y="0"/>
            <a:ext cx="72723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здник «Масленица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Особенности творчества Б.М. Кустоди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ркая многоцве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изненная достоверность в детал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лоскостное решение компози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гра разномасштабными фигурами и плоскост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Картин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«Гуля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«Сеноко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«Голубой дом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84360" y="1600200"/>
            <a:ext cx="4535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«Зи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77770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«Морозный ден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197000"/>
            <a:ext cx="82296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«Ярмар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125360"/>
            <a:ext cx="82296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Темы карт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здничный крестьянский и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инциальный купеческий б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4403520" cy="2952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076720" y="3645000"/>
            <a:ext cx="3754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21:36:10Z</dcterms:created>
  <dc:creator>User</dc:creator>
  <dc:description/>
  <dc:language>en-US</dc:language>
  <cp:lastModifiedBy>username</cp:lastModifiedBy>
  <dcterms:modified xsi:type="dcterms:W3CDTF">2004-08-01T18:09:31Z</dcterms:modified>
  <cp:revision>5</cp:revision>
  <dc:subject/>
  <dc:title>Сочинение по картине</dc:title>
</cp:coreProperties>
</file>