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019-B00E-466E-99EC-16B67D9A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38E-B657-4C24-8EBD-EDF7C83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62F-9172-45A8-BD5E-C5DC301D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C72-5655-4FAD-BAAB-5A6A1EC3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26E-E2F0-442D-872F-F515DD7B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768-4861-4F7E-A0EE-9435D845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881-CB50-4F02-8888-45097313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C92-8750-4195-A72B-F5BDFE9A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780-1D1D-4357-9F4E-4E577AA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0363-B137-47AD-B20B-60CB594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BC8-E0F6-40DB-BC58-D3555F5E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FFA-40FD-4160-86E0-19A686BF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1565-57AD-4EE1-B29E-D1535FBF8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устодиев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Борис Михайлович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1878-19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етский живописец, график, театральный 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52640" y="1773360"/>
            <a:ext cx="3448080" cy="41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5805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к уроку  «Сочинение по картине Б.М.Кустодиева «Масле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«СОШ №2» г. Емвы Мацюк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Маслен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ила название от церковного календаря, потому что в этот период времени – последнюю неделю перед Великим постом- разрешалось вкушение сливочного масла, молочных продуктов и рыбы, по-другому эта неделя называется сыр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оследний день Масленицы -в Прощенное воскресенье – устраивались гулянки, ярмарки, катание на лошадях, много времени отводилось общению с близк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6000" y="0"/>
            <a:ext cx="72723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здник «Маслениц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Особенности творчества Б.М. Кустоди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ркая многоцве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изненная достоверность в дета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скостное решение композ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гра разномасштабными фигурами и плоск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Картин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Гуля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Сеноко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Голубой дом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1600200"/>
            <a:ext cx="4535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«Зи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77770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Морозный де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«Ярмар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1125360"/>
            <a:ext cx="8229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Темы карт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здничный крестьянский и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инциальный купеческий б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440352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3754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36:10Z</dcterms:created>
  <dc:creator>User</dc:creator>
  <dc:description/>
  <dc:language>en-US</dc:language>
  <cp:lastModifiedBy>username</cp:lastModifiedBy>
  <dcterms:modified xsi:type="dcterms:W3CDTF">2004-08-01T18:09:31Z</dcterms:modified>
  <cp:revision>5</cp:revision>
  <dc:subject/>
  <dc:title>Сочинение по картине</dc:title>
</cp:coreProperties>
</file>