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7BD-EDAA-49BE-9B3A-A7076034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6E5-131E-48A4-B852-095C022B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AAE-4981-4A05-B790-4D986105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F1C-C2B2-4B10-A5DF-CA2AD039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10E-8FC8-42A4-B8C4-78DB687B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F4A-748D-4AC0-BC63-C94ECD97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8F8-559F-4CC0-9292-16516178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C4E-50BB-45EE-BF0C-662CA2C6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E15-44BB-4EFB-8651-90D34FD6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16F-CC24-400C-9215-6978D277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833-EA2E-46B9-8137-131CC3F0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AF0-3603-46AE-B9DF-09947EBE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7057-B6E4-4FD7-B548-AF7F1178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устодиев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Борис Михайлович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1878-19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ветский живописец, график, театральный 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52640" y="1773360"/>
            <a:ext cx="3448080" cy="417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580536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к уроку  «Сочинение по картине Б.М.Кустодиева «Масле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У «СОШ №2» г. Емвы Мацюк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Маслен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19700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ила название от церковного календаря, потому что в этот период времени – последнюю неделю перед Великим постом- разрешалось вкушение сливочного масла, молочных продуктов и рыбы, по-другому эта неделя называется сыр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оследний день Масленицы -в Прощенное воскресенье – устраивались гулянки, ярмарки, катание на лошадях, много времени отводилось общению с близк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6000" y="0"/>
            <a:ext cx="7272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здник «Маслениц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Особенности творчества Б.М. Кустоди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ркая многоцве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зненная достоверность в детал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оскостное решение компози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гра разномасштабными фигурами и плоскост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Картин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«Гуля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Сеноко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Голубой дом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84360" y="1600200"/>
            <a:ext cx="4535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Зи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7770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«Морозный ден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19700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«Ярмар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12536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Темы карт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здничный крестьянский и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инциальный купеческий б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440352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076720" y="3645000"/>
            <a:ext cx="3754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36:10Z</dcterms:created>
  <dc:creator>User</dc:creator>
  <dc:description/>
  <dc:language>en-US</dc:language>
  <cp:lastModifiedBy>username</cp:lastModifiedBy>
  <dcterms:modified xsi:type="dcterms:W3CDTF">2004-08-01T18:09:31Z</dcterms:modified>
  <cp:revision>5</cp:revision>
  <dc:subject/>
  <dc:title>Сочинение по картине</dc:title>
</cp:coreProperties>
</file>