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5EE-5F71-4980-85DC-8FB26D1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48D-C822-477F-8B30-494F5F0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7FB-F8FE-4B8B-A050-579E10B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6C7-FC58-4371-8CD6-02DE475B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FDD-771A-4F38-936E-81D9F1F5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C0D9-66D4-434B-8B4D-75A8766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45A-7466-4F88-B823-09F8F794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04D3-2E2C-4352-821B-A007742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2BB-AFC4-4A8C-996D-86A85CA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9CBC-D7ED-4951-80F4-7F4C008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660-80ED-416A-A27A-A2FDC06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D6A-3EED-4C01-B3C9-7AA3B2E5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321-0157-4DD1-9F7F-62EBC22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24C-BA1B-4FEF-B4BE-E74CE4C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5D8-81B2-43D7-9D2F-870F14E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F0A-116F-4A90-9458-7113C905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850-F3F9-4354-B2CF-BDCCDE17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2EE-CEDA-4085-B3FD-D3B1293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C5F-C649-4727-A393-C676EF23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BE8-AC67-4449-B45F-1DEBB300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13A-435D-4FE9-BF8F-29A8DD7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A4F-C025-4997-912C-7977E47B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37B-9D76-4C7A-B787-6705C80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5BD-78BB-4608-B0D3-1574008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2EE-71FD-466B-AFD5-D850586605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0F2E-7AA5-4336-8F09-CECF4B01EE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нтегрированный урок по истории и литературе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прель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5373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И. Ленин                                 П.Н. Милю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прельские тезисы»                «Нота Милюков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Lenin800"/>
          <p:cNvPicPr/>
          <p:nvPr/>
        </p:nvPicPr>
        <p:blipFill>
          <a:blip r:embed="rId1"/>
          <a:stretch/>
        </p:blipFill>
        <p:spPr>
          <a:xfrm>
            <a:off x="0" y="1197000"/>
            <a:ext cx="2879640" cy="41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milyukov"/>
          <p:cNvPicPr/>
          <p:nvPr/>
        </p:nvPicPr>
        <p:blipFill>
          <a:blip r:embed="rId2"/>
          <a:stretch/>
        </p:blipFill>
        <p:spPr>
          <a:xfrm>
            <a:off x="6048360" y="1268280"/>
            <a:ext cx="309564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юль – Август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еренский А.Ф.                           Корнилов Л.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ниловский мяте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8" descr="SHE-20"/>
          <p:cNvPicPr/>
          <p:nvPr/>
        </p:nvPicPr>
        <p:blipFill>
          <a:blip r:embed="rId1"/>
          <a:stretch/>
        </p:blipFill>
        <p:spPr>
          <a:xfrm>
            <a:off x="611280" y="148428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"/>
          <p:cNvPicPr/>
          <p:nvPr/>
        </p:nvPicPr>
        <p:blipFill>
          <a:blip r:embed="rId2"/>
          <a:stretch/>
        </p:blipFill>
        <p:spPr>
          <a:xfrm>
            <a:off x="5292720" y="1557360"/>
            <a:ext cx="251928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тябрь 1917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Штурм вла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6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2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4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 октяб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ильич"/>
          <p:cNvPicPr/>
          <p:nvPr/>
        </p:nvPicPr>
        <p:blipFill>
          <a:blip r:embed="rId1"/>
          <a:stretch/>
        </p:blipFill>
        <p:spPr>
          <a:xfrm>
            <a:off x="4643280" y="1413000"/>
            <a:ext cx="3673800" cy="48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..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даль идут державным шагом..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- Кто еще там? Выходи!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Это - ветер с красным флагом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зыгрался впереди.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переди - сугроб холодн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- Кто в сугробе - выходи!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олько нищий пес голодный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овыляет позади...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Отвяжись ты, шелудив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Я штыком пощекочу!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арый мир, как пес паршивый,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ровались - поколочу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 Блок «Двенадцать»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Почему победили </a:t>
            </a:r>
            <a:r>
              <a:rPr b="1" lang="ru-RU" sz="7200" spc="-1" strike="noStrike">
                <a:solidFill>
                  <a:srgbClr val="cccc00"/>
                </a:solidFill>
                <a:latin typeface="Times New Roman"/>
              </a:rPr>
              <a:t>большевики</a:t>
            </a: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7"/>
          <p:cNvGrpSpPr/>
          <p:nvPr/>
        </p:nvGrpSpPr>
        <p:grpSpPr>
          <a:xfrm>
            <a:off x="0" y="0"/>
            <a:ext cx="8892000" cy="6334560"/>
            <a:chOff x="0" y="0"/>
            <a:chExt cx="8892000" cy="6334560"/>
          </a:xfrm>
        </p:grpSpPr>
        <p:cxnSp>
          <p:nvCxnSpPr>
            <p:cNvPr id="157" name="_s1028"/>
            <p:cNvCxnSpPr>
              <a:stCxn id="158" idx="1"/>
              <a:endCxn id="159" idx="2"/>
            </p:cNvCxnSpPr>
            <p:nvPr/>
          </p:nvCxnSpPr>
          <p:spPr>
            <a:xfrm rot="10800000">
              <a:off x="2666880" y="1150920"/>
              <a:ext cx="889920" cy="460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0" name="_s1029"/>
            <p:cNvCxnSpPr>
              <a:stCxn id="161" idx="1"/>
              <a:endCxn id="159" idx="2"/>
            </p:cNvCxnSpPr>
            <p:nvPr/>
          </p:nvCxnSpPr>
          <p:spPr>
            <a:xfrm rot="10800000">
              <a:off x="2666880" y="1150920"/>
              <a:ext cx="889920" cy="288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1030"/>
            <p:cNvCxnSpPr>
              <a:stCxn id="163" idx="1"/>
              <a:endCxn id="159" idx="2"/>
            </p:cNvCxnSpPr>
            <p:nvPr/>
          </p:nvCxnSpPr>
          <p:spPr>
            <a:xfrm rot="10800000">
              <a:off x="2666880" y="1150920"/>
              <a:ext cx="889920" cy="115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9" name="_s1031"/>
            <p:cNvSpPr/>
            <p:nvPr/>
          </p:nvSpPr>
          <p:spPr>
            <a:xfrm>
              <a:off x="0" y="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Причины победы большевиков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1032"/>
            <p:cNvSpPr/>
            <p:nvPr/>
          </p:nvSpPr>
          <p:spPr>
            <a:xfrm>
              <a:off x="3556800" y="172764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imes New Roman"/>
                </a:rPr>
                <a:t>Личностные качества 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imes New Roman"/>
                </a:rPr>
                <a:t>В.И. Ленина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1033"/>
            <p:cNvSpPr/>
            <p:nvPr/>
          </p:nvSpPr>
          <p:spPr>
            <a:xfrm>
              <a:off x="3556800" y="345528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Отсутствие твердо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государственной власти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1034"/>
            <p:cNvSpPr/>
            <p:nvPr/>
          </p:nvSpPr>
          <p:spPr>
            <a:xfrm>
              <a:off x="3556800" y="5182920"/>
              <a:ext cx="5335200" cy="1151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Нарастание революционных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настроени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eec94"/>
                </a:solidFill>
                <a:latin typeface="Times New Roman"/>
              </a:rPr>
              <a:t>Революция </a:t>
            </a:r>
            <a:br>
              <a:rPr sz="10600"/>
            </a:br>
            <a:r>
              <a:rPr b="1" lang="ru-RU" sz="8000" spc="-1" strike="noStrike">
                <a:solidFill>
                  <a:srgbClr val="feec94"/>
                </a:solidFill>
                <a:latin typeface="Times New Roman"/>
              </a:rPr>
              <a:t>или</a:t>
            </a:r>
            <a:br>
              <a:rPr sz="8000"/>
            </a:br>
            <a:r>
              <a:rPr b="1" lang="ru-RU" sz="10600" spc="-1" strike="noStrike">
                <a:solidFill>
                  <a:srgbClr val="feec94"/>
                </a:solidFill>
                <a:latin typeface="Times New Roman"/>
              </a:rPr>
              <a:t>переворот?!</a:t>
            </a:r>
            <a:endParaRPr b="1" lang="en-US" sz="10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..Так идут державным шагом, Позади - голодный пес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переди - с кровавым флаго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за вьюгой невиди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от пули невредим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жной поступью надвьюжной, Снежной россыпью жемчужной,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белом венчике из роз –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переди - Иисус Христос!</a:t>
            </a:r>
            <a:br>
              <a:rPr sz="40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.Блок «Двенадцать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ктябрь 1917 года: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оруженный переворот или социалистическая революция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являлись ли события Октября 1917 года в России переворотом или революци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казать отношение поэтов Серебряного века к событиям 1917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997360"/>
            <a:ext cx="7699320" cy="36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ы, русские, переживаем эпоху, имеющую не много равных себе по величию…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. Блок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0328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</a:rPr>
              <a:t>1917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40360" y="2276280"/>
            <a:ext cx="4495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, я хочу безумно ж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сущее – увековечи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личное – вочеловечи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бывшееся – воплоти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. Бл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6" descr="blok3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7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и святки кострами согрет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алились с мостов карет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есь траурный город плы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еведомому назначенью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еве или против теченья,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лько прочь от своих моги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Галерной Чернела ар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Летнем тонко пела флюгар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еребряный месяц яр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 серебряным веком сты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Ахмат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Ahmatova_6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ребряный век русской поэзии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48000" y="2204640"/>
            <a:ext cx="5796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хочу быть понят моей страно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не буду понят -  что ж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одной стране пройду сторон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проходит косой дожд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Маяк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Маяковский"/>
          <p:cNvPicPr/>
          <p:nvPr/>
        </p:nvPicPr>
        <p:blipFill>
          <a:blip r:embed="rId1"/>
          <a:stretch/>
        </p:blipFill>
        <p:spPr>
          <a:xfrm>
            <a:off x="468360" y="1844640"/>
            <a:ext cx="2879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35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сударственный переворо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захват правительственной власти, учиненный насильственно, посредством заговора или открытого вооруженного восс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циалистическая революц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пролетарская революция, высший тип социальной революции, осуществляющий переход от капиталистической общественно-экономической формации к коммунистической 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100720" y="1267920"/>
            <a:ext cx="1042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Showcard Gothic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10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690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Октябрь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1917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вра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евлас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042920" y="2852640"/>
            <a:ext cx="3097440" cy="486000"/>
          </a:xfrm>
          <a:prstGeom prst="leftArrow">
            <a:avLst>
              <a:gd name="adj1" fmla="val 50000"/>
              <a:gd name="adj2" fmla="val 15933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4932360" y="2852640"/>
            <a:ext cx="3384720" cy="486000"/>
          </a:xfrm>
          <a:prstGeom prst="rightArrow">
            <a:avLst>
              <a:gd name="adj1" fmla="val 50000"/>
              <a:gd name="adj2" fmla="val 174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4:43:30Z</dcterms:created>
  <dc:creator>student</dc:creator>
  <dc:description/>
  <dc:language>en-US</dc:language>
  <cp:lastModifiedBy>Коля</cp:lastModifiedBy>
  <dcterms:modified xsi:type="dcterms:W3CDTF">2013-10-04T15:51:54Z</dcterms:modified>
  <cp:revision>6</cp:revision>
  <dc:subject/>
  <dc:title>Интегрированный урок по истории и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