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3F6-0901-4BB0-BAF8-F60A7573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0E6-273C-40DC-8442-79156B39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3D2-857D-40E9-934B-D19963D6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7FA3-A729-48AB-AC8B-ABA21B32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A590-9991-4709-A372-C32D0C70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DD4E-5CCF-4A0A-84BE-C6D5052B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0B49-F50D-470E-8A0D-C281B64A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5A3F-F6B8-4786-B5BF-659D778E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9AD1-AAE1-4F64-8BF9-5131EBCC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DF5E-2D91-417C-A7F7-8C455517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2194-7FC2-48A2-8467-0FFBB274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7F2-2A73-49AE-ACCD-AF74F920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0B3B-9E40-4871-80A9-0D3971FF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601E-3F1D-41FF-8B2B-E57C36AE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840C-36E9-4F6B-B7AC-73164585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3142-53BE-422E-B36F-F843DC49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7361-7B57-4DF6-9AA0-4A067FF3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A94-89D1-4733-89C1-A3C5810A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2C7-2D76-4069-9D33-81F9E9F6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930-469E-4522-AC18-47CA85EE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37C-B1EE-471F-AFAB-18234580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C85-A96A-4DB7-AE94-E7BAE564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109-1F5B-456C-9023-044BCAB5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285-81F7-4988-8218-9A1D4499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93B5-9C30-4805-834F-DD5B61E306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8814-2E93-40B2-9A7A-9BE9477018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Интегрированный урок по истории и литературе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прель 1917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5373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И. Ленин                                 П.Н. Милю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Апрельские тезисы»                «Нота Милюков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8" descr="Lenin800"/>
          <p:cNvPicPr/>
          <p:nvPr/>
        </p:nvPicPr>
        <p:blipFill>
          <a:blip r:embed="rId1"/>
          <a:stretch/>
        </p:blipFill>
        <p:spPr>
          <a:xfrm>
            <a:off x="0" y="1197000"/>
            <a:ext cx="2879640" cy="410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milyukov"/>
          <p:cNvPicPr/>
          <p:nvPr/>
        </p:nvPicPr>
        <p:blipFill>
          <a:blip r:embed="rId2"/>
          <a:stretch/>
        </p:blipFill>
        <p:spPr>
          <a:xfrm>
            <a:off x="6048360" y="1268280"/>
            <a:ext cx="3095640" cy="396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юль – Август 1917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еренский А.Ф.                           Корнилов Л.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рниловский мяте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8" descr="SHE-20"/>
          <p:cNvPicPr/>
          <p:nvPr/>
        </p:nvPicPr>
        <p:blipFill>
          <a:blip r:embed="rId1"/>
          <a:stretch/>
        </p:blipFill>
        <p:spPr>
          <a:xfrm>
            <a:off x="611280" y="148428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i"/>
          <p:cNvPicPr/>
          <p:nvPr/>
        </p:nvPicPr>
        <p:blipFill>
          <a:blip r:embed="rId2"/>
          <a:stretch/>
        </p:blipFill>
        <p:spPr>
          <a:xfrm>
            <a:off x="5292720" y="1557360"/>
            <a:ext cx="251928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ктябрь 1917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Штурм вла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 октяб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0 октяб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2 октяб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6 октяб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2 октяб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4 октяб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5 октяб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0" descr="ильич"/>
          <p:cNvPicPr/>
          <p:nvPr/>
        </p:nvPicPr>
        <p:blipFill>
          <a:blip r:embed="rId1"/>
          <a:stretch/>
        </p:blipFill>
        <p:spPr>
          <a:xfrm>
            <a:off x="4643280" y="1413000"/>
            <a:ext cx="3673800" cy="489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..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даль идут державным шагом...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- Кто еще там? Выходи!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Это - ветер с красным флагом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Разыгрался впереди...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переди - сугроб холодный,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- Кто в сугробе - выходи!..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Только нищий пес голодный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Ковыляет позади...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Отвяжись ты, шелудивый,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Я штыком пощекочу!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тарый мир, как пес паршивый,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Провались - поколочу!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А. Блок «Двенадцать»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eec94"/>
                </a:solidFill>
                <a:latin typeface="Times New Roman"/>
              </a:rPr>
              <a:t>Почему победили </a:t>
            </a:r>
            <a:r>
              <a:rPr b="1" lang="ru-RU" sz="7200" spc="-1" strike="noStrike">
                <a:solidFill>
                  <a:srgbClr val="cccc00"/>
                </a:solidFill>
                <a:latin typeface="Times New Roman"/>
              </a:rPr>
              <a:t>большевики</a:t>
            </a:r>
            <a:r>
              <a:rPr b="1" lang="ru-RU" sz="7200" spc="-1" strike="noStrike">
                <a:solidFill>
                  <a:srgbClr val="feec94"/>
                </a:solidFill>
                <a:latin typeface="Times New Roman"/>
              </a:rPr>
              <a:t>?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Organization Chart 7"/>
          <p:cNvGrpSpPr/>
          <p:nvPr/>
        </p:nvGrpSpPr>
        <p:grpSpPr>
          <a:xfrm>
            <a:off x="0" y="0"/>
            <a:ext cx="8892000" cy="6334560"/>
            <a:chOff x="0" y="0"/>
            <a:chExt cx="8892000" cy="6334560"/>
          </a:xfrm>
        </p:grpSpPr>
        <p:cxnSp>
          <p:nvCxnSpPr>
            <p:cNvPr id="157" name="_s1028"/>
            <p:cNvCxnSpPr>
              <a:stCxn id="158" idx="1"/>
              <a:endCxn id="159" idx="2"/>
            </p:cNvCxnSpPr>
            <p:nvPr/>
          </p:nvCxnSpPr>
          <p:spPr>
            <a:xfrm rot="10800000">
              <a:off x="2666880" y="1150920"/>
              <a:ext cx="889920" cy="4608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0" name="_s1029"/>
            <p:cNvCxnSpPr>
              <a:stCxn id="161" idx="1"/>
              <a:endCxn id="159" idx="2"/>
            </p:cNvCxnSpPr>
            <p:nvPr/>
          </p:nvCxnSpPr>
          <p:spPr>
            <a:xfrm rot="10800000">
              <a:off x="2666880" y="1150920"/>
              <a:ext cx="889920" cy="2880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2" name="_s1030"/>
            <p:cNvCxnSpPr>
              <a:stCxn id="163" idx="1"/>
              <a:endCxn id="159" idx="2"/>
            </p:cNvCxnSpPr>
            <p:nvPr/>
          </p:nvCxnSpPr>
          <p:spPr>
            <a:xfrm rot="10800000">
              <a:off x="2666880" y="1150920"/>
              <a:ext cx="889920" cy="115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9" name="_s1031"/>
            <p:cNvSpPr/>
            <p:nvPr/>
          </p:nvSpPr>
          <p:spPr>
            <a:xfrm>
              <a:off x="0" y="0"/>
              <a:ext cx="5335200" cy="1151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ff"/>
                  </a:solidFill>
                  <a:latin typeface="Times New Roman"/>
                </a:rPr>
                <a:t>Причины победы большевиков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_s1032"/>
            <p:cNvSpPr/>
            <p:nvPr/>
          </p:nvSpPr>
          <p:spPr>
            <a:xfrm>
              <a:off x="3556800" y="1727640"/>
              <a:ext cx="5335200" cy="1151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Times New Roman"/>
                </a:rPr>
                <a:t>Личностные качества 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Times New Roman"/>
                </a:rPr>
                <a:t>В.И. Ленина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_s1033"/>
            <p:cNvSpPr/>
            <p:nvPr/>
          </p:nvSpPr>
          <p:spPr>
            <a:xfrm>
              <a:off x="3556800" y="3455280"/>
              <a:ext cx="5335200" cy="1151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Отсутствие твердой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государственной власти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_s1034"/>
            <p:cNvSpPr/>
            <p:nvPr/>
          </p:nvSpPr>
          <p:spPr>
            <a:xfrm>
              <a:off x="3556800" y="5182920"/>
              <a:ext cx="5335200" cy="1151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Нарастание революционных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настроений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eec94"/>
                </a:solidFill>
                <a:latin typeface="Times New Roman"/>
              </a:rPr>
              <a:t>Революция </a:t>
            </a:r>
            <a:br>
              <a:rPr sz="10600"/>
            </a:br>
            <a:r>
              <a:rPr b="1" lang="ru-RU" sz="8000" spc="-1" strike="noStrike">
                <a:solidFill>
                  <a:srgbClr val="feec94"/>
                </a:solidFill>
                <a:latin typeface="Times New Roman"/>
              </a:rPr>
              <a:t>или</a:t>
            </a:r>
            <a:br>
              <a:rPr sz="8000"/>
            </a:br>
            <a:r>
              <a:rPr b="1" lang="ru-RU" sz="10600" spc="-1" strike="noStrike">
                <a:solidFill>
                  <a:srgbClr val="feec94"/>
                </a:solidFill>
                <a:latin typeface="Times New Roman"/>
              </a:rPr>
              <a:t>переворот?!</a:t>
            </a:r>
            <a:endParaRPr b="1" lang="en-US" sz="10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..Так идут державным шагом, Позади - голодный пес,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переди - с кровавым флагом,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 за вьюгой невидим,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 от пули невредим,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жной поступью надвьюжной, Снежной россыпью жемчужной,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белом венчике из роз –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переди - Иисус Христос!</a:t>
            </a:r>
            <a:br>
              <a:rPr sz="40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А.Блок «Двенадцать»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ктябрь 1917 года: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ооруженный переворот или социалистическая революция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ь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ть являлись ли события Октября 1917 года в России переворотом или революци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казать отношение поэтов Серебряного века к событиям 1917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2997360"/>
            <a:ext cx="7699320" cy="36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Мы, русские, переживаем эпоху, имеющую не много равных себе по величию…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А. Блок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03280" y="18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imes New Roman"/>
              </a:rPr>
              <a:t>1917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ребряный век русской поэзии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40360" y="2276280"/>
            <a:ext cx="44956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, я хочу безумно жи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 сущее – увековечит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зличное – вочеловечит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сбывшееся – воплотить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. Бл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6" descr="blok3"/>
          <p:cNvPicPr/>
          <p:nvPr/>
        </p:nvPicPr>
        <p:blipFill>
          <a:blip r:embed="rId1"/>
          <a:stretch/>
        </p:blipFill>
        <p:spPr>
          <a:xfrm>
            <a:off x="539640" y="1628640"/>
            <a:ext cx="3240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ребряный век русской поэзии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7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ли святки кострами согрет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алились с мостов карет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есь траурный город плы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неведомому назначенью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Неве или против теченья,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лько прочь от своих моги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Галерной Чернела арк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Летнем тонко пела флюгарк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серебряный месяц яр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д серебряным веком стыл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 Ахмат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Ahmatova_6"/>
          <p:cNvPicPr/>
          <p:nvPr/>
        </p:nvPicPr>
        <p:blipFill>
          <a:blip r:embed="rId1"/>
          <a:stretch/>
        </p:blipFill>
        <p:spPr>
          <a:xfrm>
            <a:off x="539640" y="1628640"/>
            <a:ext cx="3240360" cy="468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ребряный век русской поэзии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48000" y="2204640"/>
            <a:ext cx="5796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 хочу быть понят моей страно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не буду понят -  что ж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одной стране пройду стороно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проходит косой дожд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 Маяков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7" descr="Маяковский"/>
          <p:cNvPicPr/>
          <p:nvPr/>
        </p:nvPicPr>
        <p:blipFill>
          <a:blip r:embed="rId1"/>
          <a:stretch/>
        </p:blipFill>
        <p:spPr>
          <a:xfrm>
            <a:off x="468360" y="1844640"/>
            <a:ext cx="28796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лова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354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сударственный переворо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захват правительственной власти, учиненный насильственно, посредством заговора или открытого вооруженного восст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циалистическая революци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пролетарская революция, высший тип социальной революции, осуществляющий переход от капиталистической общественно-экономической формации к коммунистической форм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100720" y="1267920"/>
            <a:ext cx="10429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Showcard Gothic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5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105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6905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imes New Roman"/>
              </a:rPr>
              <a:t>Октябрь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8000" spc="-1" strike="noStrike">
                <a:solidFill>
                  <a:srgbClr val="ffffff"/>
                </a:solidFill>
                <a:latin typeface="Times New Roman"/>
              </a:rPr>
              <a:t>1917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9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евра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оевласт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р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1042920" y="2852640"/>
            <a:ext cx="3097440" cy="486000"/>
          </a:xfrm>
          <a:prstGeom prst="leftArrow">
            <a:avLst>
              <a:gd name="adj1" fmla="val 50000"/>
              <a:gd name="adj2" fmla="val 15933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4932360" y="2852640"/>
            <a:ext cx="3384720" cy="486000"/>
          </a:xfrm>
          <a:prstGeom prst="rightArrow">
            <a:avLst>
              <a:gd name="adj1" fmla="val 50000"/>
              <a:gd name="adj2" fmla="val 17411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04:43:30Z</dcterms:created>
  <dc:creator>student</dc:creator>
  <dc:description/>
  <dc:language>en-US</dc:language>
  <cp:lastModifiedBy>Коля</cp:lastModifiedBy>
  <dcterms:modified xsi:type="dcterms:W3CDTF">2013-10-04T15:51:54Z</dcterms:modified>
  <cp:revision>6</cp:revision>
  <dc:subject/>
  <dc:title>Интегрированный урок по истории и литерату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