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CD56-A162-432D-8093-A8D5309D3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3CF6-2E26-4040-AE2E-30D701926F2F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CC70-59A3-4843-9A91-1DAE7533B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FFBB-7A3E-48CA-9546-D71647532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DB73-A92E-4659-860B-7E23413EA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C361-B4CD-4313-BE9F-D269894D8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6F3B-546E-4B1D-A462-6D67F36CF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5803-7EC8-4837-AE85-5A63666D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8D47-BD68-4CCF-86A1-BE2B951A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FE93-679B-4C15-9D8E-02E284785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2CAE-2435-48B0-8CEF-BD61C7299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A87D-23E2-4A35-9510-624758738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0B0C-868D-4DA1-A821-E9E2BFB90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FD7F-6938-413B-A001-ED96D2574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ADAA-E06A-4722-AAE2-B7033ACB202B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7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48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хема 4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9040680" cy="534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7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90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6" descr="D:\КАРТИНКИ\Коллекция картинок 5\in00689_.wmf"/>
          <p:cNvPicPr/>
          <p:nvPr/>
        </p:nvPicPr>
        <p:blipFill>
          <a:blip r:embed="rId2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D:\КАРТИНКИ\Коллекция картинок 5\j0195826.wmf"/>
          <p:cNvPicPr/>
          <p:nvPr/>
        </p:nvPicPr>
        <p:blipFill>
          <a:blip r:embed="rId3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28760" y="1357200"/>
            <a:ext cx="84405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ие горнодобывающие 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en-US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6" name="Picture 12" descr="dri8"/>
          <p:cNvPicPr/>
          <p:nvPr/>
        </p:nvPicPr>
        <p:blipFill>
          <a:blip r:embed="rId2"/>
          <a:stretch/>
        </p:blipFill>
        <p:spPr>
          <a:xfrm>
            <a:off x="1643040" y="4071960"/>
            <a:ext cx="3559320" cy="252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428760" y="1357200"/>
            <a:ext cx="829440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starostina</cp:lastModifiedBy>
  <dcterms:modified xsi:type="dcterms:W3CDTF">2010-05-06T06:30:42Z</dcterms:modified>
  <cp:revision>25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