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6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15.wmf" ContentType="image/x-wmf"/>
  <Override PartName="/ppt/media/image1.jpeg" ContentType="image/jpeg"/>
  <Override PartName="/ppt/media/image4.gif" ContentType="image/gif"/>
  <Override PartName="/ppt/media/image5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E9CA-E3CD-4FD1-BC53-FB6D2E746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A184-75F2-48CE-932F-65C569EEAA8F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6CD2-1AE8-4E3C-9B79-34C4F9BFE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3179-D8C1-47B3-8643-D5D663AC2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8DBB-FF78-4D48-B846-1F4224A3D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392E-D2FC-45CF-AB9F-A338572677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9830-4344-4992-86D7-5EBC458F3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1520-FF61-44B9-94EC-7813A18C6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776E-9CEF-4993-A81C-FCA34FCAC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B3A8-99B8-41A5-BAAA-1148CE9B7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63A4-B1AD-4A78-A3AB-5A49AE78D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36EF-60CA-45C5-BB46-B9C040820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54E7-3B0E-4ECC-B7CC-C5FC806A0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7EF4-451B-4E22-B712-0BB81E376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438A-1C3A-4B21-ACC6-CED3E9DFD7F2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179a_shool36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142920" y="142920"/>
            <a:ext cx="1884240" cy="14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7" name="Picture 2" descr="J:\Краеведение в школе\Вики-Владимир\Starostina T.V..jpg"/>
          <p:cNvPicPr/>
          <p:nvPr/>
        </p:nvPicPr>
        <p:blipFill>
          <a:blip r:embed="rId3"/>
          <a:stretch/>
        </p:blipFill>
        <p:spPr>
          <a:xfrm>
            <a:off x="2771640" y="1916280"/>
            <a:ext cx="4176720" cy="31305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48" name="Rectangle 3"/>
          <p:cNvSpPr/>
          <p:nvPr/>
        </p:nvSpPr>
        <p:spPr>
          <a:xfrm>
            <a:off x="2627280" y="5167440"/>
            <a:ext cx="4319640" cy="1310760"/>
          </a:xfrm>
          <a:prstGeom prst="rect">
            <a:avLst/>
          </a:prstGeom>
          <a:gradFill rotWithShape="0">
            <a:gsLst>
              <a:gs pos="0">
                <a:srgbClr val="c6d9f1"/>
              </a:gs>
              <a:gs pos="50000">
                <a:srgbClr val="ffffff"/>
              </a:gs>
              <a:gs pos="100000">
                <a:srgbClr val="c6d9f1"/>
              </a:gs>
            </a:gsLst>
            <a:lin ang="81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Старостина Татьяна Владимировна, 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зам. директора по УВР, учитель географии высшей категории,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обедитель конкурса лучших учителей 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0000"/>
                </a:solidFill>
                <a:latin typeface="Calibri"/>
                <a:ea typeface="Times New Roman"/>
              </a:rPr>
              <a:t>ПНП  «Образование»</a:t>
            </a:r>
            <a:endParaRPr b="0" lang="en-US" sz="16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340000" y="333360"/>
          <a:ext cx="6337080" cy="1271160"/>
        </p:xfrm>
        <a:graphic>
          <a:graphicData uri="http://schemas.openxmlformats.org/drawingml/2006/table">
            <a:tbl>
              <a:tblPr/>
              <a:tblGrid>
                <a:gridCol w="6337080"/>
              </a:tblGrid>
              <a:tr h="12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Муниципальное образовательное учреждение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средняя общеобразовательная школа  № 36 г. Владимира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1" descr="D:\КАРТИНКИ\Коллекция картинок1\j0285333.gif"/>
          <p:cNvPicPr/>
          <p:nvPr/>
        </p:nvPicPr>
        <p:blipFill>
          <a:blip r:embed="rId4"/>
          <a:stretch/>
        </p:blipFill>
        <p:spPr>
          <a:xfrm>
            <a:off x="684360" y="3860640"/>
            <a:ext cx="2290680" cy="2291040"/>
          </a:xfrm>
          <a:prstGeom prst="rect">
            <a:avLst/>
          </a:prstGeom>
          <a:ln w="0">
            <a:noFill/>
          </a:ln>
        </p:spPr>
      </p:pic>
    </p:spTree>
  </p:cSld>
  <p:transition advTm="3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Международная торговля </a:t>
            </a:r>
            <a:br>
              <a:rPr sz="3600"/>
            </a:br>
            <a:r>
              <a:rPr b="1" i="1" lang="en-US" sz="3600" spc="-1" strike="noStrike">
                <a:solidFill>
                  <a:srgbClr val="232323"/>
                </a:solidFill>
                <a:latin typeface="Arial"/>
                <a:ea typeface="Times New Roman"/>
              </a:rPr>
              <a:t>железной рудо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357200"/>
          <a:ext cx="9144000" cy="5397480"/>
        </p:xfrm>
        <a:graphic>
          <a:graphicData uri="http://schemas.openxmlformats.org/drawingml/2006/table">
            <a:tbl>
              <a:tblPr/>
              <a:tblGrid>
                <a:gridCol w="4235400"/>
                <a:gridCol w="490860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экс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раны-импортеры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а Коре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АР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ц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вритан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есуэл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ьгия и Люксембург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cddda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pic>
        <p:nvPicPr>
          <p:cNvPr id="75" name="Picture 1" descr="D:\КАРТИНКИ\Коллекция картинок 5\j0238090.wmf"/>
          <p:cNvPicPr/>
          <p:nvPr/>
        </p:nvPicPr>
        <p:blipFill>
          <a:blip r:embed="rId4"/>
          <a:stretch/>
        </p:blipFill>
        <p:spPr>
          <a:xfrm>
            <a:off x="6858000" y="264312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КАРТИНКИ\Коллекция картинок 5\j0298113.wmf"/>
          <p:cNvPicPr/>
          <p:nvPr/>
        </p:nvPicPr>
        <p:blipFill>
          <a:blip r:embed="rId5"/>
          <a:stretch/>
        </p:blipFill>
        <p:spPr>
          <a:xfrm>
            <a:off x="1857240" y="2500200"/>
            <a:ext cx="2070360" cy="3067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Факто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Схема 4" descr=""/>
          <p:cNvPicPr/>
          <p:nvPr/>
        </p:nvPicPr>
        <p:blipFill>
          <a:blip r:embed="rId2"/>
          <a:stretch/>
        </p:blipFill>
        <p:spPr>
          <a:xfrm>
            <a:off x="-55440" y="1200240"/>
            <a:ext cx="9040680" cy="534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14200" y="4143240"/>
            <a:ext cx="8929800" cy="25628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9a0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1417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Цветная металлургия производит около 40 млн.т различных металлов в год. Это прежде всег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ЛЮМИНИЙ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(около 20 млн.т/г), находящий самое широкое применение в современной жизни.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Алюминиевая  промышленность  представлена  двумя  территориально разорванными производственными звеньями.  Первое из них  – получение глинозема (окисла алюминия),  география которого тяготеет к странам, добывающим бокситы (алюминиевые руды).  Второе,  более энергоемкое – производство алюминия, география  которого тяготеет к источникам дешевой электроэнергии).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429000" y="1500120"/>
          <a:ext cx="5286240" cy="2621160"/>
        </p:xfrm>
        <a:graphic>
          <a:graphicData uri="http://schemas.openxmlformats.org/drawingml/2006/table">
            <a:tbl>
              <a:tblPr/>
              <a:tblGrid>
                <a:gridCol w="1887480"/>
                <a:gridCol w="755640"/>
                <a:gridCol w="1887480"/>
                <a:gridCol w="75564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Добыча бокситов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Выплавка алюминия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1368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Доля в %</a:t>
                      </a:r>
                      <a:endParaRPr b="0" lang="en-US" sz="12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5760">
                      <a:solidFill>
                        <a:srgbClr val="464646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lin ang="10800000"/>
                    </a:gradFill>
                  </a:tcPr>
                </a:tc>
              </a:tr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вине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Ямайк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итай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анад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576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5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,1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4646"/>
                      </a:solidFill>
                    </a:lnL>
                    <a:lnR w="13680">
                      <a:solidFill>
                        <a:srgbClr val="464646"/>
                      </a:solidFill>
                    </a:lnR>
                    <a:lnT w="5760">
                      <a:solidFill>
                        <a:srgbClr val="464646"/>
                      </a:solidFill>
                    </a:lnT>
                    <a:lnB w="13680">
                      <a:solidFill>
                        <a:srgbClr val="464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9" descr="wer6"/>
          <p:cNvPicPr/>
          <p:nvPr/>
        </p:nvPicPr>
        <p:blipFill>
          <a:blip r:embed="rId4"/>
          <a:stretch/>
        </p:blipFill>
        <p:spPr>
          <a:xfrm>
            <a:off x="214200" y="1643040"/>
            <a:ext cx="3048120" cy="235764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Цветная металлургия"/>
          <p:cNvPicPr/>
          <p:nvPr/>
        </p:nvPicPr>
        <p:blipFill>
          <a:blip r:embed="rId2"/>
          <a:stretch/>
        </p:blipFill>
        <p:spPr>
          <a:xfrm>
            <a:off x="500040" y="1285920"/>
            <a:ext cx="8072640" cy="540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цвет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87" name="Picture 10" descr="Саянский алюминиевый завод"/>
          <p:cNvPicPr/>
          <p:nvPr/>
        </p:nvPicPr>
        <p:blipFill>
          <a:blip r:embed="rId2"/>
          <a:stretch/>
        </p:blipFill>
        <p:spPr>
          <a:xfrm>
            <a:off x="1571760" y="2857680"/>
            <a:ext cx="6000480" cy="37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лавные страны по производству цветных металлов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57120" y="1643040"/>
          <a:ext cx="8286840" cy="483228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тал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Свинец 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и цинк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лово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2268"/>
                    </a:solidFill>
                  </a:tcPr>
                </a:tc>
              </a:tr>
              <a:tr h="422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а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ли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у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б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. Коре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ай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онез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зилия</a:t>
                      </a: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90" name="Picture 10" descr="Саянский алюминиевый завод"/>
          <p:cNvPicPr/>
          <p:nvPr/>
        </p:nvPicPr>
        <p:blipFill>
          <a:blip r:embed="rId2"/>
          <a:stretch/>
        </p:blipFill>
        <p:spPr>
          <a:xfrm>
            <a:off x="2786040" y="4572000"/>
            <a:ext cx="321480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3500280"/>
            <a:ext cx="7772400" cy="29419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10b0b"/>
                </a:solidFill>
                <a:latin typeface="Arial"/>
              </a:rPr>
              <a:t>Горнодобывающая промышленность</a:t>
            </a:r>
            <a:br>
              <a:rPr sz="5400"/>
            </a:br>
            <a:r>
              <a:rPr b="1" lang="en-US" sz="5400" spc="-1" strike="noStrike">
                <a:solidFill>
                  <a:srgbClr val="610b0b"/>
                </a:solidFill>
                <a:latin typeface="Arial"/>
              </a:rPr>
              <a:t> и металлур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6" descr="D:\КАРТИНКИ\Коллекция картинок 5\in00689_.wmf"/>
          <p:cNvPicPr/>
          <p:nvPr/>
        </p:nvPicPr>
        <p:blipFill>
          <a:blip r:embed="rId2"/>
          <a:stretch/>
        </p:blipFill>
        <p:spPr>
          <a:xfrm>
            <a:off x="1285920" y="142920"/>
            <a:ext cx="6215040" cy="385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D:\КАРТИНКИ\Коллекция картинок 5\j0195826.wmf"/>
          <p:cNvPicPr/>
          <p:nvPr/>
        </p:nvPicPr>
        <p:blipFill>
          <a:blip r:embed="rId3"/>
          <a:stretch/>
        </p:blipFill>
        <p:spPr>
          <a:xfrm>
            <a:off x="7143840" y="4357800"/>
            <a:ext cx="2000160" cy="214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928680" y="1709280"/>
            <a:ext cx="5072040" cy="479124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5400000"/>
          </a:gradFill>
          <a:ln w="9360">
            <a:solidFill>
              <a:srgbClr val="3a3a3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0066"/>
                </a:solidFill>
                <a:uFillTx/>
                <a:latin typeface="Arial"/>
                <a:ea typeface="Times New Roman"/>
              </a:rPr>
              <a:t>Горнодобывающая промышленность обеспечивает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обычу минерального топлива, руд черных, цветных, редких и благородных металлов, а так же неметаллического сырья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Хотя доля горнодобывающей промышленности в мировом промышленном производстве постепенно снижается, она продолжает оказывать очень большое воздействие на международное географическое разделение труда и мировое хозяйство</a:t>
            </a: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5" name="Picture 11" descr="wer1"/>
          <p:cNvPicPr/>
          <p:nvPr/>
        </p:nvPicPr>
        <p:blipFill>
          <a:blip r:embed="rId2"/>
          <a:stretch/>
        </p:blipFill>
        <p:spPr>
          <a:xfrm>
            <a:off x="142920" y="2500200"/>
            <a:ext cx="3630600" cy="2722680"/>
          </a:xfrm>
          <a:prstGeom prst="rect">
            <a:avLst/>
          </a:prstGeom>
          <a:ln w="9360">
            <a:solidFill>
              <a:srgbClr val="3a3a3a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Горнодобывающая промышленнос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428760" y="1357200"/>
            <a:ext cx="844056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горнодобывающей промышлен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Мировая добыча основных видов сырья  в конце ХХ ве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500120"/>
          <a:ext cx="9144000" cy="512136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5072040"/>
              </a:tblGrid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ВИД  СЫРЬЯ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ДОБЫЧА, МЛН. Т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d2d8a"/>
                          </a:solidFill>
                          <a:latin typeface="Times New Roman"/>
                          <a:ea typeface="Times New Roman"/>
                        </a:rPr>
                        <a:t>ГЛАВНЫЕ  СТРАНЫ  ДОБЫЧ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елез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7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Австралия, Россия, Украина, США, Канада, ЮАР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арганц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краина, Китай, ЮАР, Австралия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ром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захстан, ЮАР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окс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Гвинея, Ямайка, Бразилия, Инд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едн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или, США, Канада, Замбия, Конго (б. Заир), Перу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инк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Австралия, Китай, Перу, США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винцо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США, Китай, Канада, Перу, Мексика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ловянные руды 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итай, Бразилия, Индонезия, Малайзия, Таиланд, Болив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келевые руд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оссия, Канада, Новая Каледон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gridSpan="3"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УДНОЕ СЫРЬЕ: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697"/>
                        </a:gs>
                        <a:gs pos="100000">
                          <a:srgbClr val="ffdfe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осфориты, апатиты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итай, Марокко, Иордания, Тунис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лийные соли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ада, ФРГ, США, Франция, Израиль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ра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ША, Канада, Польша, Китай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лмазы (тыс. каратов)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встралия, Ботсвана, ДР Конго, Россия.</a:t>
                      </a:r>
                      <a:endParaRPr b="0" lang="en-US" sz="1600" spc="-1" strike="noStrike">
                        <a:solidFill>
                          <a:srgbClr val="464646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ликие горнодобывающие державы мир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357120" y="1928880"/>
            <a:ext cx="8643960" cy="204372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3500000"/>
          </a:gradFill>
          <a:ln w="93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олю этих стран  приходитс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ее 2/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й добычи сырья и топлива: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ША, КАНАДА, АВСТРАЛИЯ, ЮАР, КИТАЙ, РОССИЯ, БРАЗИЛИЯ И ИНДИЯ</a:t>
            </a:r>
            <a:r>
              <a:rPr b="1" i="1" lang="en-US" sz="3200" spc="-1" strike="noStrike">
                <a:solidFill>
                  <a:srgbClr val="464646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3" name="Picture 12" descr="vis5"/>
          <p:cNvPicPr/>
          <p:nvPr/>
        </p:nvPicPr>
        <p:blipFill>
          <a:blip r:embed="rId2"/>
          <a:stretch/>
        </p:blipFill>
        <p:spPr>
          <a:xfrm>
            <a:off x="3071880" y="4143240"/>
            <a:ext cx="3143160" cy="23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Металлург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57520" y="1714680"/>
            <a:ext cx="3560760" cy="471960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Значение отрасли</a:t>
            </a: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: обеспечивает человечество конструкционными материалами – черными и цветными металлами. 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</a:rPr>
              <a:t>Несмотря  на усиливающуюся  конкуренцию   пластмасс, сталь остается пока основным  конструк-ционным материалом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6" name="Picture 12" descr="dri8"/>
          <p:cNvPicPr/>
          <p:nvPr/>
        </p:nvPicPr>
        <p:blipFill>
          <a:blip r:embed="rId2"/>
          <a:stretch/>
        </p:blipFill>
        <p:spPr>
          <a:xfrm>
            <a:off x="1643040" y="4071960"/>
            <a:ext cx="3559320" cy="25272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67" name="Picture 10" descr="Литье металла"/>
          <p:cNvPicPr/>
          <p:nvPr/>
        </p:nvPicPr>
        <p:blipFill>
          <a:blip r:embed="rId3"/>
          <a:stretch/>
        </p:blipFill>
        <p:spPr>
          <a:xfrm>
            <a:off x="285840" y="1428840"/>
            <a:ext cx="3708360" cy="24922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72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меры производств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14200" y="1785960"/>
            <a:ext cx="8786880" cy="1618560"/>
          </a:xfrm>
          <a:prstGeom prst="rect">
            <a:avLst/>
          </a:prstGeom>
          <a:gradFill rotWithShape="0">
            <a:gsLst>
              <a:gs pos="0">
                <a:srgbClr val="ff9697"/>
              </a:gs>
              <a:gs pos="100000">
                <a:srgbClr val="ffdfe0"/>
              </a:gs>
            </a:gsLst>
            <a:lin ang="108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61645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161645"/>
                </a:solidFill>
                <a:latin typeface="Arial"/>
              </a:rPr>
              <a:t>Мировое производство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ТАЛИ</a:t>
            </a:r>
            <a:r>
              <a:rPr b="1" lang="en-US" sz="2000" spc="-1" strike="noStrike">
                <a:solidFill>
                  <a:srgbClr val="161645"/>
                </a:solidFill>
                <a:latin typeface="Arial"/>
              </a:rPr>
              <a:t> составляет  около  750  млн.т ежегодно.  При этом на экономически развитые  страны  приходится  около  80%  её производства, на развивающиеся – 20%. Однако черная металлургия в развивающихся странах быстро набирает темпы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70" name="Picture 12" descr="На сталелитейном заводе"/>
          <p:cNvPicPr/>
          <p:nvPr/>
        </p:nvPicPr>
        <p:blipFill>
          <a:blip r:embed="rId2"/>
          <a:stretch/>
        </p:blipFill>
        <p:spPr>
          <a:xfrm>
            <a:off x="2357280" y="3571920"/>
            <a:ext cx="4357800" cy="2905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Arial"/>
              </a:rPr>
              <a:t>Центры черной металлурги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Черная металлургия"/>
          <p:cNvPicPr/>
          <p:nvPr/>
        </p:nvPicPr>
        <p:blipFill>
          <a:blip r:embed="rId2"/>
          <a:stretch/>
        </p:blipFill>
        <p:spPr>
          <a:xfrm>
            <a:off x="428760" y="1357200"/>
            <a:ext cx="8294400" cy="535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53:44Z</dcterms:created>
  <dc:creator>starostina</dc:creator>
  <dc:description/>
  <cp:keywords/>
  <dc:language>en-US</dc:language>
  <cp:lastModifiedBy>starostina</cp:lastModifiedBy>
  <dcterms:modified xsi:type="dcterms:W3CDTF">2010-05-06T06:30:42Z</dcterms:modified>
  <cp:revision>25</cp:revision>
  <dc:subject/>
  <dc:title>Огл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0000000000001024140</vt:lpwstr>
  </property>
  <property fmtid="{D5CDD505-2E9C-101B-9397-08002B2CF9AE}" pid="3" name="_TemplateID">
    <vt:lpwstr>TC101950851049</vt:lpwstr>
  </property>
</Properties>
</file>