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6.wmf" ContentType="image/x-wmf"/>
  <Override PartName="/ppt/media/image19.jpeg" ContentType="image/jpeg"/>
  <Override PartName="/ppt/media/image1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png" ContentType="image/png"/>
  <Override PartName="/ppt/media/image16.wmf" ContentType="image/x-wmf"/>
  <Override PartName="/ppt/media/image14.jpeg" ContentType="image/jpeg"/>
  <Override PartName="/ppt/media/image2.jpeg" ContentType="image/jpeg"/>
  <Override PartName="/ppt/media/image3.jpeg" ContentType="image/jpeg"/>
  <Override PartName="/ppt/media/image15.wmf" ContentType="image/x-wmf"/>
  <Override PartName="/ppt/media/image1.jpeg" ContentType="image/jpeg"/>
  <Override PartName="/ppt/media/image4.gif" ContentType="image/gif"/>
  <Override PartName="/ppt/media/image5.wmf" ContentType="image/x-wm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CFCA-A81C-4F0F-BA94-6C6D1D9F31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4CC9-E223-4FA9-9DD4-E39ADFFEB3D0}" type="slidenum">
              <a:rPr b="0" lang="ru-RU" sz="1200" spc="-1" strike="noStrike">
                <a:solidFill>
                  <a:srgbClr val="46464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E3FC5-06C6-4B5C-950D-120D73C101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439640" y="411156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164F9-EF48-45D3-B3E7-3AB59F6C45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6636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9D750-6B92-4E30-ABE3-0EFFBC52B1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9844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5760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43964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9844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5760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2F0C0-63C4-4EE2-803D-20C9D0F686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2AD5C-109A-4767-8595-D8169B2389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7E7F1-BC79-4F28-988C-B44324BAA0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2712B-BD72-437B-8039-C29F262C7B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296A5-DAD3-4B98-AFB5-4CF6EE135E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39640" y="213840"/>
            <a:ext cx="7272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B5E0F-7739-4E11-B830-3D974DF40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0F314-096C-4E9C-935B-7A9ED7FA66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6636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CD8BB-669B-4ED0-A30F-9E6624B9D6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7CEE4-8358-4750-9B96-A8C2A4CF30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29200" y="6237360"/>
            <a:ext cx="57636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7E65-C46F-41D6-8958-8CD5695A2964}" type="slidenum">
              <a:rPr b="1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179a_shool36"/>
          <p:cNvPicPr/>
          <p:nvPr/>
        </p:nvPicPr>
        <p:blipFill>
          <a:blip r:embed="rId2">
            <a:lum bright="-4000"/>
          </a:blip>
          <a:stretch/>
        </p:blipFill>
        <p:spPr>
          <a:xfrm>
            <a:off x="142920" y="142920"/>
            <a:ext cx="1884240" cy="1417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47" name="Picture 2" descr="J:\Краеведение в школе\Вики-Владимир\Starostina T.V..jpg"/>
          <p:cNvPicPr/>
          <p:nvPr/>
        </p:nvPicPr>
        <p:blipFill>
          <a:blip r:embed="rId3"/>
          <a:stretch/>
        </p:blipFill>
        <p:spPr>
          <a:xfrm>
            <a:off x="2771640" y="1916280"/>
            <a:ext cx="4176720" cy="313056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48" name="Rectangle 3"/>
          <p:cNvSpPr/>
          <p:nvPr/>
        </p:nvSpPr>
        <p:spPr>
          <a:xfrm>
            <a:off x="2627280" y="5167440"/>
            <a:ext cx="4319640" cy="1310760"/>
          </a:xfrm>
          <a:prstGeom prst="rect">
            <a:avLst/>
          </a:prstGeom>
          <a:gradFill rotWithShape="0">
            <a:gsLst>
              <a:gs pos="0">
                <a:srgbClr val="c6d9f1"/>
              </a:gs>
              <a:gs pos="50000">
                <a:srgbClr val="ffffff"/>
              </a:gs>
              <a:gs pos="100000">
                <a:srgbClr val="c6d9f1"/>
              </a:gs>
            </a:gsLst>
            <a:lin ang="81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Старостина Татьяна Владимировна, </a:t>
            </a:r>
            <a:endParaRPr b="0" lang="en-US" sz="16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зам. директора по УВР, учитель географии высшей категории,</a:t>
            </a:r>
            <a:endParaRPr b="0" lang="en-US" sz="16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обедитель конкурса лучших учителей </a:t>
            </a:r>
            <a:endParaRPr b="0" lang="en-US" sz="16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НП  «Образование»</a:t>
            </a:r>
            <a:endParaRPr b="0" lang="en-US" sz="16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340000" y="333360"/>
          <a:ext cx="6337080" cy="1271160"/>
        </p:xfrm>
        <a:graphic>
          <a:graphicData uri="http://schemas.openxmlformats.org/drawingml/2006/table">
            <a:tbl>
              <a:tblPr/>
              <a:tblGrid>
                <a:gridCol w="6337080"/>
              </a:tblGrid>
              <a:tr h="12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Муниципальное образовательное учреждение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средняя общеобразовательная школа  № 36 г. Владимира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11" descr="D:\КАРТИНКИ\Коллекция картинок1\j0285333.gif"/>
          <p:cNvPicPr/>
          <p:nvPr/>
        </p:nvPicPr>
        <p:blipFill>
          <a:blip r:embed="rId4"/>
          <a:stretch/>
        </p:blipFill>
        <p:spPr>
          <a:xfrm>
            <a:off x="684360" y="3860640"/>
            <a:ext cx="2290680" cy="2291040"/>
          </a:xfrm>
          <a:prstGeom prst="rect">
            <a:avLst/>
          </a:prstGeom>
          <a:ln w="0">
            <a:noFill/>
          </a:ln>
        </p:spPr>
      </p:pic>
    </p:spTree>
  </p:cSld>
  <p:transition advTm="30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32323"/>
                </a:solidFill>
                <a:latin typeface="Arial"/>
                <a:ea typeface="Times New Roman"/>
              </a:rPr>
              <a:t>Международная торговля </a:t>
            </a:r>
            <a:br>
              <a:rPr sz="3600"/>
            </a:br>
            <a:r>
              <a:rPr b="1" i="1" lang="en-US" sz="3600" spc="-1" strike="noStrike">
                <a:solidFill>
                  <a:srgbClr val="232323"/>
                </a:solidFill>
                <a:latin typeface="Arial"/>
                <a:ea typeface="Times New Roman"/>
              </a:rPr>
              <a:t>железной рудой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1357200"/>
          <a:ext cx="9144000" cy="5397480"/>
        </p:xfrm>
        <a:graphic>
          <a:graphicData uri="http://schemas.openxmlformats.org/drawingml/2006/table">
            <a:tbl>
              <a:tblPr/>
              <a:tblGrid>
                <a:gridCol w="4235400"/>
                <a:gridCol w="490860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траны-экспортеры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траны-импортеры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Г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Коре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АР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обритан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вритан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ал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есуэл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ьгия и Люксембург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ш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</a:tbl>
          </a:graphicData>
        </a:graphic>
      </p:graphicFrame>
      <p:pic>
        <p:nvPicPr>
          <p:cNvPr id="75" name="Picture 1" descr="D:\КАРТИНКИ\Коллекция картинок 5\j0238090.wmf"/>
          <p:cNvPicPr/>
          <p:nvPr/>
        </p:nvPicPr>
        <p:blipFill>
          <a:blip r:embed="rId4"/>
          <a:stretch/>
        </p:blipFill>
        <p:spPr>
          <a:xfrm>
            <a:off x="6858000" y="2643120"/>
            <a:ext cx="2286000" cy="2928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D:\КАРТИНКИ\Коллекция картинок 5\j0298113.wmf"/>
          <p:cNvPicPr/>
          <p:nvPr/>
        </p:nvPicPr>
        <p:blipFill>
          <a:blip r:embed="rId5"/>
          <a:stretch/>
        </p:blipFill>
        <p:spPr>
          <a:xfrm>
            <a:off x="1857240" y="2500200"/>
            <a:ext cx="2070360" cy="3067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Факторы производств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Схема 4" descr=""/>
          <p:cNvPicPr/>
          <p:nvPr/>
        </p:nvPicPr>
        <p:blipFill>
          <a:blip r:embed="rId2"/>
          <a:stretch/>
        </p:blipFill>
        <p:spPr>
          <a:xfrm>
            <a:off x="-55440" y="1200240"/>
            <a:ext cx="9040680" cy="534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72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Размеры производств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14200" y="4143240"/>
            <a:ext cx="8929800" cy="256284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10800000"/>
          </a:gradFill>
          <a:ln w="9360">
            <a:solidFill>
              <a:srgbClr val="9a0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71417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161645"/>
                </a:solidFill>
                <a:latin typeface="Arial"/>
              </a:rPr>
              <a:t>Цветная металлургия производит около 40 млн.т различных металлов в год. Это прежде всего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АЛЮМИНИЙ</a:t>
            </a:r>
            <a:r>
              <a:rPr b="1" lang="en-US" sz="1800" spc="-1" strike="noStrike">
                <a:solidFill>
                  <a:srgbClr val="161645"/>
                </a:solidFill>
                <a:latin typeface="Arial"/>
              </a:rPr>
              <a:t> (около 20 млн.т/г), находящий самое широкое применение в современной жизни. </a:t>
            </a: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45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161645"/>
                </a:solidFill>
                <a:latin typeface="Arial"/>
              </a:rPr>
              <a:t>Алюминиевая  промышленность  представлена  двумя  территориально разорванными производственными звеньями.  Первое из них  – получение глинозема (окисла алюминия),  география которого тяготеет к странам, добывающим бокситы (алюминиевые руды).  Второе,  более энергоемкое – производство алюминия, география  которого тяготеет к источникам дешевой электроэнергии).</a:t>
            </a: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429000" y="1500120"/>
          <a:ext cx="5286240" cy="2621160"/>
        </p:xfrm>
        <a:graphic>
          <a:graphicData uri="http://schemas.openxmlformats.org/drawingml/2006/table">
            <a:tbl>
              <a:tblPr/>
              <a:tblGrid>
                <a:gridCol w="1887480"/>
                <a:gridCol w="755640"/>
                <a:gridCol w="1887480"/>
                <a:gridCol w="75564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Добыча бокситов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Выплавка алюминия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траны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ля в %</a:t>
                      </a:r>
                      <a:endParaRPr b="0" lang="en-US" sz="12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страны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Доля в %</a:t>
                      </a:r>
                      <a:endParaRPr b="0" lang="en-US" sz="12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</a:tr>
              <a:tr h="180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Австрал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Гвине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Ямайка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Бразилия 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итай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ША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итай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анада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Австрал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Бразил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5,9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3,3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,1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,3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,3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2" name="Picture 9" descr="wer6"/>
          <p:cNvPicPr/>
          <p:nvPr/>
        </p:nvPicPr>
        <p:blipFill>
          <a:blip r:embed="rId4"/>
          <a:stretch/>
        </p:blipFill>
        <p:spPr>
          <a:xfrm>
            <a:off x="214200" y="1643040"/>
            <a:ext cx="3048120" cy="2357640"/>
          </a:xfrm>
          <a:prstGeom prst="rect">
            <a:avLst/>
          </a:prstGeom>
          <a:ln w="9360">
            <a:solidFill>
              <a:srgbClr val="3a3a3a"/>
            </a:solidFill>
            <a:miter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Цветная металлургия"/>
          <p:cNvPicPr/>
          <p:nvPr/>
        </p:nvPicPr>
        <p:blipFill>
          <a:blip r:embed="rId2"/>
          <a:stretch/>
        </p:blipFill>
        <p:spPr>
          <a:xfrm>
            <a:off x="500040" y="1285920"/>
            <a:ext cx="8072640" cy="540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Центры цветной металлурги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Главные страны по производству цветных металлов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57120" y="1643040"/>
          <a:ext cx="8286840" cy="4832280"/>
        </p:xfrm>
        <a:graphic>
          <a:graphicData uri="http://schemas.openxmlformats.org/drawingml/2006/table">
            <a:tbl>
              <a:tblPr/>
              <a:tblGrid>
                <a:gridCol w="1657440"/>
                <a:gridCol w="1657440"/>
                <a:gridCol w="1657080"/>
                <a:gridCol w="1657440"/>
                <a:gridCol w="165744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таль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Алюмини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Медь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винец 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и цинк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Олово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</a:tr>
              <a:tr h="4222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pic>
        <p:nvPicPr>
          <p:cNvPr id="87" name="Picture 10" descr="Саянский алюминиевый завод"/>
          <p:cNvPicPr/>
          <p:nvPr/>
        </p:nvPicPr>
        <p:blipFill>
          <a:blip r:embed="rId2"/>
          <a:stretch/>
        </p:blipFill>
        <p:spPr>
          <a:xfrm>
            <a:off x="1571760" y="2857680"/>
            <a:ext cx="6000480" cy="377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Главные страны по производству цветных металлов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57120" y="1643040"/>
          <a:ext cx="8286840" cy="4832280"/>
        </p:xfrm>
        <a:graphic>
          <a:graphicData uri="http://schemas.openxmlformats.org/drawingml/2006/table">
            <a:tbl>
              <a:tblPr/>
              <a:tblGrid>
                <a:gridCol w="1657440"/>
                <a:gridCol w="1657440"/>
                <a:gridCol w="1657080"/>
                <a:gridCol w="1657440"/>
                <a:gridCol w="165744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таль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Алюмини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Медь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винец 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и цинк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Олово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</a:tr>
              <a:tr h="4222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. Коре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страл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ли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у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б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. Коре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айз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онез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pic>
        <p:nvPicPr>
          <p:cNvPr id="90" name="Picture 10" descr="Саянский алюминиевый завод"/>
          <p:cNvPicPr/>
          <p:nvPr/>
        </p:nvPicPr>
        <p:blipFill>
          <a:blip r:embed="rId2"/>
          <a:stretch/>
        </p:blipFill>
        <p:spPr>
          <a:xfrm>
            <a:off x="2786040" y="4572000"/>
            <a:ext cx="3214800" cy="178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3500280"/>
            <a:ext cx="7772400" cy="294192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10b0b"/>
                </a:solidFill>
                <a:latin typeface="Arial"/>
              </a:rPr>
              <a:t>Горнодобывающая промышленность</a:t>
            </a:r>
            <a:br>
              <a:rPr sz="5400"/>
            </a:br>
            <a:r>
              <a:rPr b="1" lang="en-US" sz="5400" spc="-1" strike="noStrike">
                <a:solidFill>
                  <a:srgbClr val="610b0b"/>
                </a:solidFill>
                <a:latin typeface="Arial"/>
              </a:rPr>
              <a:t> и металлургия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16" descr="D:\КАРТИНКИ\Коллекция картинок 5\in00689_.wmf"/>
          <p:cNvPicPr/>
          <p:nvPr/>
        </p:nvPicPr>
        <p:blipFill>
          <a:blip r:embed="rId2"/>
          <a:stretch/>
        </p:blipFill>
        <p:spPr>
          <a:xfrm>
            <a:off x="1285920" y="142920"/>
            <a:ext cx="6215040" cy="3857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D:\КАРТИНКИ\Коллекция картинок 5\j0195826.wmf"/>
          <p:cNvPicPr/>
          <p:nvPr/>
        </p:nvPicPr>
        <p:blipFill>
          <a:blip r:embed="rId3"/>
          <a:stretch/>
        </p:blipFill>
        <p:spPr>
          <a:xfrm>
            <a:off x="7143840" y="4357800"/>
            <a:ext cx="2000160" cy="214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928680" y="1709280"/>
            <a:ext cx="5072040" cy="479124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5400000"/>
          </a:gradFill>
          <a:ln w="9360">
            <a:solidFill>
              <a:srgbClr val="3a3a3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660066"/>
                </a:solidFill>
                <a:uFillTx/>
                <a:latin typeface="Arial"/>
                <a:ea typeface="Times New Roman"/>
              </a:rPr>
              <a:t>Горнодобывающая промышленность обеспечивает 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добычу минерального топлива, руд черных, цветных, редких и благородных металлов, а так же неметаллического сырья. 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Хотя доля горнодобывающей промышленности в мировом промышленном производстве постепенно снижается, она продолжает оказывать очень большое воздействие на международное географическое разделение труда и мировое хозяйство</a:t>
            </a:r>
            <a:r>
              <a:rPr b="1" i="1" lang="en-US" sz="2000" spc="-1" strike="noStrike">
                <a:solidFill>
                  <a:srgbClr val="7030a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55" name="Picture 11" descr="wer1"/>
          <p:cNvPicPr/>
          <p:nvPr/>
        </p:nvPicPr>
        <p:blipFill>
          <a:blip r:embed="rId2"/>
          <a:stretch/>
        </p:blipFill>
        <p:spPr>
          <a:xfrm>
            <a:off x="142920" y="2500200"/>
            <a:ext cx="3630600" cy="2722680"/>
          </a:xfrm>
          <a:prstGeom prst="rect">
            <a:avLst/>
          </a:prstGeom>
          <a:ln w="9360">
            <a:solidFill>
              <a:srgbClr val="3a3a3a"/>
            </a:solidFill>
            <a:miter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Горнодобывающая промышленность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Admin\Рабочий стол\Рисунок1.jpg"/>
          <p:cNvPicPr/>
          <p:nvPr/>
        </p:nvPicPr>
        <p:blipFill>
          <a:blip r:embed="rId2"/>
          <a:stretch/>
        </p:blipFill>
        <p:spPr>
          <a:xfrm>
            <a:off x="428760" y="1357200"/>
            <a:ext cx="8440560" cy="535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7136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Центры горнодобывающей промышленност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28440" y="-36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Мировая добыча основных видов сырья  в конце ХХ век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1500120"/>
          <a:ext cx="9144000" cy="5121360"/>
        </p:xfrm>
        <a:graphic>
          <a:graphicData uri="http://schemas.openxmlformats.org/drawingml/2006/table">
            <a:tbl>
              <a:tblPr/>
              <a:tblGrid>
                <a:gridCol w="2143080"/>
                <a:gridCol w="1928880"/>
                <a:gridCol w="5072040"/>
              </a:tblGrid>
              <a:tr h="48708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d2d8a"/>
                          </a:solidFill>
                          <a:latin typeface="Times New Roman"/>
                          <a:ea typeface="Times New Roman"/>
                        </a:rPr>
                        <a:t>ВИД  СЫРЬ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d2d8a"/>
                          </a:solidFill>
                          <a:latin typeface="Times New Roman"/>
                          <a:ea typeface="Times New Roman"/>
                        </a:rPr>
                        <a:t>ДОБЫЧА, МЛН. Т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d2d8a"/>
                          </a:solidFill>
                          <a:latin typeface="Times New Roman"/>
                          <a:ea typeface="Times New Roman"/>
                        </a:rPr>
                        <a:t>ГЛАВНЫЕ  СТРАНЫ  ДОБЫЧИ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43720">
                <a:tc gridSpan="3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ДНОЕ СЫРЬЕ: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697"/>
                        </a:gs>
                        <a:gs pos="100000">
                          <a:srgbClr val="ffdfe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Железн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7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итай, Бразилия, Австралия, Россия, Украина, США, Канада, ЮАР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арганце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Украина, Китай, ЮАР, Австралия, Бразилия, Инд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ромо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захстан, ЮАР, Инд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Боксит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встралия, Гвинея, Ямайка, Бразилия, Инд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едн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Чили, США, Канада, Замбия, Конго (б. Заир), Перу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Цинко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нада, Австралия, Китай, Перу, США, Мексика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винцо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встралия, США, Китай, Канада, Перу, Мексика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ловянные руды 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итай, Бразилия, Индонезия, Малайзия, Таиланд, Болив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икеле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Россия, Канада, Новая Каледон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 gridSpan="3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РУДНОЕ СЫРЬЕ: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697"/>
                        </a:gs>
                        <a:gs pos="100000">
                          <a:srgbClr val="ffdfe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Фосфориты, апатит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ША, Китай, Марокко, Иордания, Тунис, Росс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лийные соли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нада, ФРГ, США, Франция, Израиль, Росс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ера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ША, Канада, Польша, Китай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52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лмазы (тыс. каратов)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встралия, Ботсвана, ДР Конго, Росс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Великие горнодобывающие державы мир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357120" y="1928880"/>
            <a:ext cx="8643960" cy="204372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13500000"/>
          </a:gradFill>
          <a:ln w="93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долю этих стран  приходитс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олее 2/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й добычи сырья и топлива: 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ША, КАНАДА, АВСТРАЛИЯ, ЮАР, КИТАЙ, РОССИЯ, БРАЗИЛИЯ И ИНДИЯ</a:t>
            </a:r>
            <a:r>
              <a:rPr b="1" i="1" lang="en-US" sz="3200" spc="-1" strike="noStrike">
                <a:solidFill>
                  <a:srgbClr val="464646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46464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63" name="Picture 12" descr="vis5"/>
          <p:cNvPicPr/>
          <p:nvPr/>
        </p:nvPicPr>
        <p:blipFill>
          <a:blip r:embed="rId2"/>
          <a:stretch/>
        </p:blipFill>
        <p:spPr>
          <a:xfrm>
            <a:off x="3071880" y="4143240"/>
            <a:ext cx="3143160" cy="235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Металлурги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357520" y="1714680"/>
            <a:ext cx="3560760" cy="471960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60066"/>
                </a:solidFill>
                <a:uFillTx/>
                <a:latin typeface="Arial"/>
              </a:rPr>
              <a:t>Значение отрасли</a:t>
            </a: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: обеспечивает человечество конструкционными материалами – черными и цветными металлами.  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Несмотря  на усиливающуюся  конкуренцию   пластмасс, сталь остается пока основным  конструк-ционным материалом.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66" name="Picture 12" descr="dri8"/>
          <p:cNvPicPr/>
          <p:nvPr/>
        </p:nvPicPr>
        <p:blipFill>
          <a:blip r:embed="rId2"/>
          <a:stretch/>
        </p:blipFill>
        <p:spPr>
          <a:xfrm>
            <a:off x="1643040" y="4071960"/>
            <a:ext cx="3559320" cy="252720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pic>
        <p:nvPicPr>
          <p:cNvPr id="67" name="Picture 10" descr="Литье металла"/>
          <p:cNvPicPr/>
          <p:nvPr/>
        </p:nvPicPr>
        <p:blipFill>
          <a:blip r:embed="rId3"/>
          <a:stretch/>
        </p:blipFill>
        <p:spPr>
          <a:xfrm>
            <a:off x="285840" y="1428840"/>
            <a:ext cx="3708360" cy="249228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72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Размеры производств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14200" y="1785960"/>
            <a:ext cx="8786880" cy="161856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1080000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61645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161645"/>
                </a:solidFill>
                <a:latin typeface="Arial"/>
              </a:rPr>
              <a:t>Мировое производство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ТАЛИ</a:t>
            </a:r>
            <a:r>
              <a:rPr b="1" lang="en-US" sz="2000" spc="-1" strike="noStrike">
                <a:solidFill>
                  <a:srgbClr val="161645"/>
                </a:solidFill>
                <a:latin typeface="Arial"/>
              </a:rPr>
              <a:t> составляет  около  750  млн.т ежегодно.  При этом на экономически развитые  страны  приходится  около  80%  её производства, на развивающиеся – 20%. Однако черная металлургия в развивающихся странах быстро набирает темпы. 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70" name="Picture 12" descr="На сталелитейном заводе"/>
          <p:cNvPicPr/>
          <p:nvPr/>
        </p:nvPicPr>
        <p:blipFill>
          <a:blip r:embed="rId2"/>
          <a:stretch/>
        </p:blipFill>
        <p:spPr>
          <a:xfrm>
            <a:off x="2357280" y="3571920"/>
            <a:ext cx="4357800" cy="2905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Центры черной металлурги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6" descr="Черная металлургия"/>
          <p:cNvPicPr/>
          <p:nvPr/>
        </p:nvPicPr>
        <p:blipFill>
          <a:blip r:embed="rId2"/>
          <a:stretch/>
        </p:blipFill>
        <p:spPr>
          <a:xfrm>
            <a:off x="428760" y="1357200"/>
            <a:ext cx="8294400" cy="535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1:53:44Z</dcterms:created>
  <dc:creator>starostina</dc:creator>
  <dc:description/>
  <cp:keywords/>
  <dc:language>en-US</dc:language>
  <cp:lastModifiedBy>starostina</cp:lastModifiedBy>
  <dcterms:modified xsi:type="dcterms:W3CDTF">2010-05-06T06:30:42Z</dcterms:modified>
  <cp:revision>25</cp:revision>
  <dc:subject/>
  <dc:title>Оглавл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10000000000001024140</vt:lpwstr>
  </property>
  <property fmtid="{D5CDD505-2E9C-101B-9397-08002B2CF9AE}" pid="3" name="_TemplateID">
    <vt:lpwstr>TC101950851049</vt:lpwstr>
  </property>
</Properties>
</file>