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510-79E6-4821-BDF3-D11C8439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99D-0658-438A-927C-8ADBA612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9B8-D8E5-4F24-9708-8DEA7D70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139-6940-4C51-AADB-9D8F1D8D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9A0-4B22-4590-8CE7-FF1AE00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197-8164-4F5D-950D-4D4D8787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281-636B-411E-AF95-B0D12AA4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978-4859-48FE-9183-142BA02E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250-9453-4E45-A396-E7D93D3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F00-CF61-4A42-B107-DF030E58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33D-F122-4857-8E99-2D553D6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B63-C091-4144-98C4-9251A6A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7C13-CE38-4C43-B860-F8718476A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81440" y="3333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ультация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989000"/>
            <a:ext cx="6192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Смысловая ц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речевая связ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последовательность и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179280" y="260280"/>
            <a:ext cx="1868760" cy="187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5805360"/>
            <a:ext cx="7920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ипичные ошибки речевого оформления части С (критерий К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197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3. Неоправданное  выделение абз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133720"/>
            <a:ext cx="838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  Кто из на не сталкивался с проблемой лени? Она вызывает интерес. Потому что лень живёт в каждом из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любом есть лень, но кто победит, зависит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ли лень берёт верх, или побежда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 если на эту проблему не обращать внимание, то  человек не увидит, как она его погуби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6720" y="1916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 част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95280" y="404640"/>
            <a:ext cx="1509840" cy="1513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5640" y="2565360"/>
            <a:ext cx="748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Основная часть (её надо делить на абза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 красных строчках част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859280"/>
            <a:ext cx="7775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яйте в две микротемы комментарий к проблеме и аргументированное су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 сочинения - аргументы - должен быть самым крупным микротек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476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енская муниципальная средняя общеобразовательная школа Архангель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256536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ультация для учащихся составлена учителем русского языка и литературы Селивановой Галиной Геннадье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68360" y="620640"/>
            <a:ext cx="6336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 определена,  проблема сформулирована и прокомментиров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формулирована позиция автора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ше мнение по этой пробл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едены два арг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250920" y="476280"/>
            <a:ext cx="1509480" cy="151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3141720"/>
            <a:ext cx="75596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вас готов черн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ьте написанное с точки зрения критерия К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сочинения должна быть характерна смысловая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ысловая цельность наблюдается тогда, когда вся работа подчинена единому коммуникативному замыс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сперт понял: о чём написана работа и для 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250920" y="404640"/>
            <a:ext cx="1509480" cy="151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50920" y="333360"/>
            <a:ext cx="6337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евая связность и последовательность изложения – это умение ученика все предложения и микротемы  сочинения последовательно изложить. В тексте нет нарушения речевого связного высказы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очинении не должно быть логических ошибок, нарушения абзацного чл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284640"/>
            <a:ext cx="7632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язность текста -  самая существенная характеристика текста. Она предполагает преемственность предложений, когда каждое следующее предложение строится на основе предыдущ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уют два способа связи предложений в тексте: цепная и параллельная.  Оба типа связи должны быть исполь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250920" y="404640"/>
            <a:ext cx="1509480" cy="1513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54936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476280"/>
            <a:ext cx="669780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ечевая связность обеспечи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сическими повтор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окоренными слов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онимами, антоним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оимениями, наречиями,  числитель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водными словами, союзами, частиц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рядком слов (синтаксический параллелизм, анафора, эпиф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ительные и побудительны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24000" y="404640"/>
            <a:ext cx="1509480" cy="151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11280" y="40464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 вступлении и заклю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1268280"/>
            <a:ext cx="66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ступлении следует высказать прямое отношение к сформулированной вами проблеме исходного текста и создать у читающего определённой эмоциональный на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997360"/>
            <a:ext cx="82803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ипичные ошибки вступительной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краткие сведения об авторе тек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 основных проблемах, которые автор затрагивает в своих произведени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одятся цитаты из разных источ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тупление должно иметь прямое отношение к сформулированной проблеме исходного текста. Оно не может повторять комментарий или аргументацию в сочи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62373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Stencil"/>
              </a:rPr>
              <a:t>ЛАКОНИЗМ</a:t>
            </a:r>
            <a:r>
              <a:rPr b="1" lang="en-US" sz="1800" spc="-1" strike="noStrike">
                <a:solidFill>
                  <a:srgbClr val="000066"/>
                </a:solidFill>
                <a:latin typeface="Stencil"/>
              </a:rPr>
              <a:t> И ЭМО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4911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24000" y="476280"/>
            <a:ext cx="1509480" cy="151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765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981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404640"/>
            <a:ext cx="67690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ак, вступление должно быть связано с проблематикой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не получается хорошее вступление или трудно сделать его правильным, не пишите его. Вы не потеряете баллы по критерию К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заключение обязате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лючение –это логическое завершение ваших рассуждений о пробеле текста, авторской позиции. Вы выражаете своё личностно – эмоциональное отношение к авторской 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95280" y="404640"/>
            <a:ext cx="1509840" cy="15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50920" y="333360"/>
            <a:ext cx="669636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ечевые клише завершения сочи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заключение хочу подчеркнуть (хотелось бы отметить, сказать, обратить внимание, ещё раз напомнить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жно отметить (подчеркнуть,  увидеть и понят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обо следует выделить (отметить, добавит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бщая сказанное, можно сделать вывод ( понять, обратить вним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933720"/>
            <a:ext cx="84960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т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потому, чтобы не…. ( стать «Иванами, не помнящими родства,)… следует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ипичные ошибки речевого оформления части С (критерий К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413000"/>
            <a:ext cx="82072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межные микротексты сочинений не связаны между собой, нет плавного перехода о одной микротемы к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Может ли человек жить без своей малой род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менно об этой проблеме рассказывает В. Распутин в повести «Прощание с Матёрой». Действительно, я согласна с автором. Нельзя у человека отнять его дом, его дерев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 и В. Распутин говорит об этом образами своих старух острова Матё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ипичные ошибки речевого оформления части С (критерий К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12536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.   В сочинении вообще нет деления на абзацы. Один большой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2201760"/>
            <a:ext cx="8424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блема  настоящей дружбы, о которой рассуждает В. Астафьев,  не новая в современной публицистике.  Но именно этот вопрос  будет всегда волновать умы и души и писателей, и читателей. Автор справедливо и, на мой взгляд, довольно глубоко и интересно рассуждает о том, что «настоящая дружба -  награда человеку  редкая и драгоценная». Именно ей не страшны  никакие годы и беды,  именно с другом хочется поделиться радостью и с ним сверять свои помыслы и поступ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8:58:56Z</dcterms:created>
  <dc:creator>User</dc:creator>
  <dc:description/>
  <dc:language>en-US</dc:language>
  <cp:lastModifiedBy>User</cp:lastModifiedBy>
  <dcterms:modified xsi:type="dcterms:W3CDTF">2010-09-27T13:28:27Z</dcterms:modified>
  <cp:revision>3</cp:revision>
  <dc:subject/>
  <dc:title>Слайд 1</dc:title>
</cp:coreProperties>
</file>