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3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4A9-7981-40C5-AB26-4ACD821B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19F-A8A3-47C5-BFA3-D1A29DF8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82E-D345-41ED-8613-3AF99F64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AF5-7CA5-4E5F-9B34-719112AA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FB1-147A-482A-8A2E-5DBC354D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45A-7C5F-4DF6-A6F4-51156E84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3B8-7CB7-43BB-BD6C-4B67E595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2E7-4605-4B1D-9CD0-72E1AE6D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739-1FBE-4143-A792-790CD334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AE9-187B-4167-9EAB-E0B1AEDC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8B0-CCA1-4D14-AD2A-6D888698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FBA5-2F36-41F8-A1F9-8AE10218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9563-AA8E-4797-B394-7F747CC9D9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61057_800_600"/>
          <p:cNvPicPr/>
          <p:nvPr/>
        </p:nvPicPr>
        <p:blipFill>
          <a:blip r:embed="rId1">
            <a:lum contrast="-44000"/>
          </a:blip>
          <a:srcRect l="0" t="22993" r="28251" b="4602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0" y="2209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РЕКРЕАЦИОННО – ТУРИСТСКИЙ ПОТЕНЦИА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СТРАН ЮГО-ВОСТОЧНОЙ АЗ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64680" y="4495680"/>
            <a:ext cx="62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дина Валерия Алекс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читель географии МКУ «СОШ №106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. Трехгор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ДИАГРАММА ПРИБЫТИЯ ТУРИСТОВ В ЮГО-ВОСТОЧНУЮ АЗИЮ ИЗ ДРУГИХ РЕГИОНОВ (млн.чел.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19" name="Object 2048"/>
          <p:cNvGraphicFramePr/>
          <p:nvPr/>
        </p:nvGraphicFramePr>
        <p:xfrm>
          <a:off x="-228600" y="1600200"/>
          <a:ext cx="93726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600200"/>
                    <a:ext cx="9372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Bookman Old Style"/>
              </a:rPr>
              <a:t>СРАВНИТЕЛЬНАЯ ДИАГРАММА ПОКАЗАТЕЛЕЙ ВЫЕЗДА РОССКИЙСКИХ ГРАЖДАН В СТРАНЫ ЮГО-ВОСТОЧНОЙ АЗИИ С ЦЕЛЬЮ ТУРИЗМА (тыс.чел.)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22" name="Object 0"/>
          <p:cNvGraphicFramePr/>
          <p:nvPr/>
        </p:nvGraphicFramePr>
        <p:xfrm>
          <a:off x="0" y="1371600"/>
          <a:ext cx="88390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8390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СРАВНИТЕЛЬНАЯ ДИАГРАММА ПОКАЗАТЕЛЕЙ ВЫЕЗДА ЖИТЕЛЕЙ ЧЕЛЯБИНСКОЙ ОБЛАСТИ  В СТРАНЫ ЮГО-ВОСТОЧНОЙ АЗИИ С ЦЕЛЬЮ ТУРИЗМА (тыс.чел.) 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5" name="Object 1024" descr=""/>
          <p:cNvPicPr/>
          <p:nvPr/>
        </p:nvPicPr>
        <p:blipFill>
          <a:blip r:embed="rId1"/>
          <a:stretch/>
        </p:blipFill>
        <p:spPr>
          <a:xfrm>
            <a:off x="-762120" y="1809720"/>
            <a:ext cx="9906120" cy="50482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5"/>
          <p:cNvSpPr/>
          <p:nvPr/>
        </p:nvSpPr>
        <p:spPr>
          <a:xfrm>
            <a:off x="997920" y="60958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аилан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3004920" y="60958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Сингапу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5042160" y="60958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225920" y="60958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Малайз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50"/>
          <p:cNvSpPr/>
          <p:nvPr/>
        </p:nvSpPr>
        <p:spPr>
          <a:xfrm>
            <a:off x="533520" y="6172200"/>
            <a:ext cx="4572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50"/>
          <p:cNvSpPr/>
          <p:nvPr/>
        </p:nvSpPr>
        <p:spPr>
          <a:xfrm>
            <a:off x="6781680" y="617220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50"/>
          <p:cNvSpPr/>
          <p:nvPr/>
        </p:nvSpPr>
        <p:spPr>
          <a:xfrm>
            <a:off x="4572000" y="6172200"/>
            <a:ext cx="457200" cy="228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50"/>
          <p:cNvSpPr/>
          <p:nvPr/>
        </p:nvSpPr>
        <p:spPr>
          <a:xfrm>
            <a:off x="2514600" y="6172200"/>
            <a:ext cx="45720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ДОЛЯ СТРАН ЮГО-ВОСТОЧНОЙ АЗИИ В МИРОВОМ ЭКСПОРТЕ ТУРИСТИЧЕСКИХ УСЛУГ (%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35" name="Object 6144"/>
          <p:cNvGraphicFramePr/>
          <p:nvPr/>
        </p:nvGraphicFramePr>
        <p:xfrm>
          <a:off x="-361800" y="1181160"/>
          <a:ext cx="9505800" cy="56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1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1800" y="1181160"/>
                    <a:ext cx="9505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ВЫВОДЫ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04920" y="1905120"/>
            <a:ext cx="883908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ОСОБЕННОСТИ ПРИРОДНЫХ УСЛОВ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КУЛЬТУРНО-ИСТОРИЧЕСКОЕ РАЗВИТИЕ СТР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ЫСОКИЙ УРОВЕНЬ СЕРВЕСНЫХ УСЛ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РЕГИОН ВКЛЮЧЕН В ТРАНСКОНТЕНТАЛЬНУЮ СИСТЕМУ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99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ВЫВОДЫ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РЕКРЕАЦИОННО-ТУРИСТСКИЙ ПОТЕНЦИАЛ СТРАН ВЫСОК, НО ОН НЕ ИСПОЛЬЗУЕТСЯ В ПОЛНОЙ МЕ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Irian Ja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47_1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0" descr="4564581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thailand6[1]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82[1]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ЗАДАЧ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выявить специфику туристско-рекреационных ресурсов Юго-Восточной Ази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Bookman Old Style"/>
              </a:rPr>
              <a:t>ЗАДАЧ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491920"/>
            <a:ext cx="883908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определить роль и значение стран региона в мировом туристическом бизнес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E:\азия\Asia_map1[1].jpg"/>
          <p:cNvPicPr/>
          <p:nvPr/>
        </p:nvPicPr>
        <p:blipFill>
          <a:blip r:embed="rId1"/>
          <a:stretch/>
        </p:blipFill>
        <p:spPr>
          <a:xfrm>
            <a:off x="0" y="-76320"/>
            <a:ext cx="9296280" cy="6934320"/>
          </a:xfrm>
          <a:prstGeom prst="rect">
            <a:avLst/>
          </a:prstGeom>
          <a:ln w="0">
            <a:noFill/>
          </a:ln>
        </p:spPr>
      </p:pic>
      <p:sp>
        <p:nvSpPr>
          <p:cNvPr id="56" name="Freeform 6"/>
          <p:cNvSpPr/>
          <p:nvPr/>
        </p:nvSpPr>
        <p:spPr>
          <a:xfrm>
            <a:off x="2895480" y="2408400"/>
            <a:ext cx="6123240" cy="4545000"/>
          </a:xfrm>
          <a:custGeom>
            <a:avLst/>
            <a:gdLst>
              <a:gd name="textAreaLeft" fmla="*/ 0 w 6123240"/>
              <a:gd name="textAreaRight" fmla="*/ 6123600 w 6123240"/>
              <a:gd name="textAreaTop" fmla="*/ 0 h 4545000"/>
              <a:gd name="textAreaBottom" fmla="*/ 4545360 h 4545000"/>
            </a:gdLst>
            <a:ahLst/>
            <a:rect l="textAreaLeft" t="textAreaTop" r="textAreaRight" b="textAreaBottom"/>
            <a:pathLst>
              <a:path w="3857" h="2863">
                <a:moveTo>
                  <a:pt x="1164" y="451"/>
                </a:moveTo>
                <a:cubicBezTo>
                  <a:pt x="1096" y="405"/>
                  <a:pt x="1027" y="345"/>
                  <a:pt x="948" y="319"/>
                </a:cubicBezTo>
                <a:lnTo>
                  <a:pt x="768" y="379"/>
                </a:lnTo>
                <a:cubicBezTo>
                  <a:pt x="768" y="379"/>
                  <a:pt x="768" y="379"/>
                  <a:pt x="768" y="379"/>
                </a:cubicBezTo>
                <a:cubicBezTo>
                  <a:pt x="744" y="387"/>
                  <a:pt x="696" y="403"/>
                  <a:pt x="696" y="403"/>
                </a:cubicBezTo>
                <a:cubicBezTo>
                  <a:pt x="685" y="419"/>
                  <a:pt x="656" y="468"/>
                  <a:pt x="636" y="475"/>
                </a:cubicBezTo>
                <a:cubicBezTo>
                  <a:pt x="624" y="479"/>
                  <a:pt x="612" y="467"/>
                  <a:pt x="600" y="463"/>
                </a:cubicBezTo>
                <a:cubicBezTo>
                  <a:pt x="569" y="417"/>
                  <a:pt x="542" y="404"/>
                  <a:pt x="492" y="379"/>
                </a:cubicBezTo>
                <a:cubicBezTo>
                  <a:pt x="484" y="367"/>
                  <a:pt x="478" y="353"/>
                  <a:pt x="468" y="343"/>
                </a:cubicBezTo>
                <a:cubicBezTo>
                  <a:pt x="458" y="333"/>
                  <a:pt x="441" y="330"/>
                  <a:pt x="432" y="319"/>
                </a:cubicBezTo>
                <a:cubicBezTo>
                  <a:pt x="366" y="236"/>
                  <a:pt x="487" y="328"/>
                  <a:pt x="384" y="259"/>
                </a:cubicBezTo>
                <a:cubicBezTo>
                  <a:pt x="341" y="130"/>
                  <a:pt x="362" y="212"/>
                  <a:pt x="348" y="7"/>
                </a:cubicBezTo>
                <a:cubicBezTo>
                  <a:pt x="324" y="11"/>
                  <a:pt x="298" y="9"/>
                  <a:pt x="276" y="19"/>
                </a:cubicBezTo>
                <a:cubicBezTo>
                  <a:pt x="222" y="43"/>
                  <a:pt x="173" y="0"/>
                  <a:pt x="144" y="43"/>
                </a:cubicBezTo>
                <a:cubicBezTo>
                  <a:pt x="112" y="91"/>
                  <a:pt x="152" y="223"/>
                  <a:pt x="120" y="271"/>
                </a:cubicBezTo>
                <a:cubicBezTo>
                  <a:pt x="3" y="447"/>
                  <a:pt x="173" y="266"/>
                  <a:pt x="60" y="379"/>
                </a:cubicBezTo>
                <a:cubicBezTo>
                  <a:pt x="40" y="439"/>
                  <a:pt x="20" y="415"/>
                  <a:pt x="0" y="475"/>
                </a:cubicBezTo>
                <a:cubicBezTo>
                  <a:pt x="10" y="556"/>
                  <a:pt x="15" y="623"/>
                  <a:pt x="60" y="691"/>
                </a:cubicBezTo>
                <a:cubicBezTo>
                  <a:pt x="78" y="783"/>
                  <a:pt x="85" y="877"/>
                  <a:pt x="108" y="967"/>
                </a:cubicBezTo>
                <a:cubicBezTo>
                  <a:pt x="98" y="1024"/>
                  <a:pt x="90" y="1080"/>
                  <a:pt x="72" y="1135"/>
                </a:cubicBezTo>
                <a:cubicBezTo>
                  <a:pt x="76" y="1203"/>
                  <a:pt x="78" y="1271"/>
                  <a:pt x="84" y="1339"/>
                </a:cubicBezTo>
                <a:cubicBezTo>
                  <a:pt x="86" y="1355"/>
                  <a:pt x="91" y="1371"/>
                  <a:pt x="96" y="1387"/>
                </a:cubicBezTo>
                <a:cubicBezTo>
                  <a:pt x="103" y="1411"/>
                  <a:pt x="120" y="1459"/>
                  <a:pt x="120" y="1459"/>
                </a:cubicBezTo>
                <a:cubicBezTo>
                  <a:pt x="139" y="1590"/>
                  <a:pt x="150" y="1745"/>
                  <a:pt x="264" y="1831"/>
                </a:cubicBezTo>
                <a:cubicBezTo>
                  <a:pt x="289" y="1880"/>
                  <a:pt x="309" y="1912"/>
                  <a:pt x="348" y="1951"/>
                </a:cubicBezTo>
                <a:cubicBezTo>
                  <a:pt x="382" y="2054"/>
                  <a:pt x="320" y="1885"/>
                  <a:pt x="444" y="2071"/>
                </a:cubicBezTo>
                <a:cubicBezTo>
                  <a:pt x="452" y="2083"/>
                  <a:pt x="457" y="2098"/>
                  <a:pt x="468" y="2107"/>
                </a:cubicBezTo>
                <a:cubicBezTo>
                  <a:pt x="493" y="2127"/>
                  <a:pt x="524" y="2139"/>
                  <a:pt x="552" y="2155"/>
                </a:cubicBezTo>
                <a:cubicBezTo>
                  <a:pt x="603" y="2333"/>
                  <a:pt x="676" y="2432"/>
                  <a:pt x="828" y="2527"/>
                </a:cubicBezTo>
                <a:cubicBezTo>
                  <a:pt x="845" y="2538"/>
                  <a:pt x="858" y="2555"/>
                  <a:pt x="876" y="2563"/>
                </a:cubicBezTo>
                <a:cubicBezTo>
                  <a:pt x="981" y="2607"/>
                  <a:pt x="1101" y="2616"/>
                  <a:pt x="1212" y="2635"/>
                </a:cubicBezTo>
                <a:cubicBezTo>
                  <a:pt x="1286" y="2684"/>
                  <a:pt x="1367" y="2727"/>
                  <a:pt x="1440" y="2779"/>
                </a:cubicBezTo>
                <a:cubicBezTo>
                  <a:pt x="1483" y="2810"/>
                  <a:pt x="1500" y="2849"/>
                  <a:pt x="1560" y="2851"/>
                </a:cubicBezTo>
                <a:cubicBezTo>
                  <a:pt x="1784" y="2858"/>
                  <a:pt x="2008" y="2859"/>
                  <a:pt x="2232" y="2863"/>
                </a:cubicBezTo>
                <a:cubicBezTo>
                  <a:pt x="2284" y="2859"/>
                  <a:pt x="2337" y="2861"/>
                  <a:pt x="2388" y="2851"/>
                </a:cubicBezTo>
                <a:cubicBezTo>
                  <a:pt x="2420" y="2845"/>
                  <a:pt x="2441" y="2812"/>
                  <a:pt x="2472" y="2803"/>
                </a:cubicBezTo>
                <a:cubicBezTo>
                  <a:pt x="2601" y="2764"/>
                  <a:pt x="2772" y="2764"/>
                  <a:pt x="2904" y="2755"/>
                </a:cubicBezTo>
                <a:cubicBezTo>
                  <a:pt x="3058" y="2704"/>
                  <a:pt x="2745" y="2804"/>
                  <a:pt x="3240" y="2731"/>
                </a:cubicBezTo>
                <a:cubicBezTo>
                  <a:pt x="3254" y="2729"/>
                  <a:pt x="3254" y="2705"/>
                  <a:pt x="3264" y="2695"/>
                </a:cubicBezTo>
                <a:cubicBezTo>
                  <a:pt x="3274" y="2685"/>
                  <a:pt x="3288" y="2679"/>
                  <a:pt x="3300" y="2671"/>
                </a:cubicBezTo>
                <a:cubicBezTo>
                  <a:pt x="3356" y="2675"/>
                  <a:pt x="3412" y="2675"/>
                  <a:pt x="3468" y="2683"/>
                </a:cubicBezTo>
                <a:cubicBezTo>
                  <a:pt x="3493" y="2687"/>
                  <a:pt x="3540" y="2707"/>
                  <a:pt x="3540" y="2707"/>
                </a:cubicBezTo>
                <a:cubicBezTo>
                  <a:pt x="3580" y="2747"/>
                  <a:pt x="3630" y="2773"/>
                  <a:pt x="3684" y="2791"/>
                </a:cubicBezTo>
                <a:cubicBezTo>
                  <a:pt x="3720" y="2787"/>
                  <a:pt x="3760" y="2796"/>
                  <a:pt x="3792" y="2779"/>
                </a:cubicBezTo>
                <a:cubicBezTo>
                  <a:pt x="3826" y="2761"/>
                  <a:pt x="3840" y="2706"/>
                  <a:pt x="3852" y="2671"/>
                </a:cubicBezTo>
                <a:cubicBezTo>
                  <a:pt x="3824" y="2192"/>
                  <a:pt x="3852" y="2787"/>
                  <a:pt x="3852" y="2179"/>
                </a:cubicBezTo>
                <a:cubicBezTo>
                  <a:pt x="3852" y="2123"/>
                  <a:pt x="3857" y="2065"/>
                  <a:pt x="3840" y="2011"/>
                </a:cubicBezTo>
                <a:cubicBezTo>
                  <a:pt x="3837" y="2002"/>
                  <a:pt x="3769" y="1978"/>
                  <a:pt x="3756" y="1975"/>
                </a:cubicBezTo>
                <a:cubicBezTo>
                  <a:pt x="3668" y="1953"/>
                  <a:pt x="3595" y="1918"/>
                  <a:pt x="3504" y="1903"/>
                </a:cubicBezTo>
                <a:cubicBezTo>
                  <a:pt x="3423" y="1849"/>
                  <a:pt x="3321" y="1842"/>
                  <a:pt x="3228" y="1819"/>
                </a:cubicBezTo>
                <a:cubicBezTo>
                  <a:pt x="3216" y="1807"/>
                  <a:pt x="3200" y="1798"/>
                  <a:pt x="3192" y="1783"/>
                </a:cubicBezTo>
                <a:cubicBezTo>
                  <a:pt x="3170" y="1745"/>
                  <a:pt x="3191" y="1698"/>
                  <a:pt x="3156" y="1663"/>
                </a:cubicBezTo>
                <a:cubicBezTo>
                  <a:pt x="3144" y="1651"/>
                  <a:pt x="3132" y="1639"/>
                  <a:pt x="3120" y="1627"/>
                </a:cubicBezTo>
                <a:cubicBezTo>
                  <a:pt x="3107" y="1588"/>
                  <a:pt x="3085" y="1558"/>
                  <a:pt x="3072" y="1519"/>
                </a:cubicBezTo>
                <a:cubicBezTo>
                  <a:pt x="3086" y="1449"/>
                  <a:pt x="3108" y="1385"/>
                  <a:pt x="3120" y="1315"/>
                </a:cubicBezTo>
                <a:cubicBezTo>
                  <a:pt x="3114" y="1203"/>
                  <a:pt x="3139" y="1008"/>
                  <a:pt x="3024" y="931"/>
                </a:cubicBezTo>
                <a:cubicBezTo>
                  <a:pt x="2960" y="835"/>
                  <a:pt x="3044" y="951"/>
                  <a:pt x="2964" y="871"/>
                </a:cubicBezTo>
                <a:cubicBezTo>
                  <a:pt x="2927" y="834"/>
                  <a:pt x="2913" y="793"/>
                  <a:pt x="2868" y="763"/>
                </a:cubicBezTo>
                <a:cubicBezTo>
                  <a:pt x="2833" y="711"/>
                  <a:pt x="2775" y="679"/>
                  <a:pt x="2724" y="643"/>
                </a:cubicBezTo>
                <a:cubicBezTo>
                  <a:pt x="2700" y="626"/>
                  <a:pt x="2652" y="595"/>
                  <a:pt x="2652" y="595"/>
                </a:cubicBezTo>
                <a:cubicBezTo>
                  <a:pt x="2558" y="454"/>
                  <a:pt x="2440" y="476"/>
                  <a:pt x="2292" y="439"/>
                </a:cubicBezTo>
                <a:cubicBezTo>
                  <a:pt x="2256" y="443"/>
                  <a:pt x="2218" y="439"/>
                  <a:pt x="2184" y="451"/>
                </a:cubicBezTo>
                <a:cubicBezTo>
                  <a:pt x="2158" y="461"/>
                  <a:pt x="2134" y="565"/>
                  <a:pt x="2124" y="595"/>
                </a:cubicBezTo>
                <a:cubicBezTo>
                  <a:pt x="2116" y="620"/>
                  <a:pt x="2063" y="652"/>
                  <a:pt x="2040" y="667"/>
                </a:cubicBezTo>
                <a:cubicBezTo>
                  <a:pt x="1983" y="753"/>
                  <a:pt x="2012" y="719"/>
                  <a:pt x="1956" y="775"/>
                </a:cubicBezTo>
                <a:cubicBezTo>
                  <a:pt x="1940" y="823"/>
                  <a:pt x="1924" y="871"/>
                  <a:pt x="1908" y="919"/>
                </a:cubicBezTo>
                <a:cubicBezTo>
                  <a:pt x="1903" y="933"/>
                  <a:pt x="1890" y="942"/>
                  <a:pt x="1884" y="955"/>
                </a:cubicBezTo>
                <a:cubicBezTo>
                  <a:pt x="1878" y="966"/>
                  <a:pt x="1881" y="982"/>
                  <a:pt x="1872" y="991"/>
                </a:cubicBezTo>
                <a:cubicBezTo>
                  <a:pt x="1863" y="1000"/>
                  <a:pt x="1848" y="999"/>
                  <a:pt x="1836" y="1003"/>
                </a:cubicBezTo>
                <a:cubicBezTo>
                  <a:pt x="1806" y="1025"/>
                  <a:pt x="1784" y="1057"/>
                  <a:pt x="1752" y="1075"/>
                </a:cubicBezTo>
                <a:cubicBezTo>
                  <a:pt x="1730" y="1087"/>
                  <a:pt x="1680" y="1099"/>
                  <a:pt x="1680" y="1099"/>
                </a:cubicBezTo>
                <a:cubicBezTo>
                  <a:pt x="1644" y="1095"/>
                  <a:pt x="1605" y="1101"/>
                  <a:pt x="1572" y="1087"/>
                </a:cubicBezTo>
                <a:cubicBezTo>
                  <a:pt x="1554" y="1079"/>
                  <a:pt x="1547" y="1055"/>
                  <a:pt x="1536" y="1039"/>
                </a:cubicBezTo>
                <a:cubicBezTo>
                  <a:pt x="1497" y="983"/>
                  <a:pt x="1455" y="938"/>
                  <a:pt x="1416" y="883"/>
                </a:cubicBezTo>
                <a:cubicBezTo>
                  <a:pt x="1382" y="835"/>
                  <a:pt x="1401" y="818"/>
                  <a:pt x="1344" y="799"/>
                </a:cubicBezTo>
                <a:cubicBezTo>
                  <a:pt x="1336" y="787"/>
                  <a:pt x="1331" y="772"/>
                  <a:pt x="1320" y="763"/>
                </a:cubicBezTo>
                <a:cubicBezTo>
                  <a:pt x="1298" y="744"/>
                  <a:pt x="1248" y="715"/>
                  <a:pt x="1248" y="715"/>
                </a:cubicBezTo>
                <a:cubicBezTo>
                  <a:pt x="1193" y="632"/>
                  <a:pt x="1209" y="670"/>
                  <a:pt x="1188" y="607"/>
                </a:cubicBezTo>
                <a:cubicBezTo>
                  <a:pt x="1173" y="458"/>
                  <a:pt x="1198" y="520"/>
                  <a:pt x="1128" y="415"/>
                </a:cubicBezTo>
                <a:cubicBezTo>
                  <a:pt x="1118" y="400"/>
                  <a:pt x="1093" y="404"/>
                  <a:pt x="1080" y="391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304920" y="4876920"/>
            <a:ext cx="319068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ИНДИЙСКИ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ОКЕА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6781680" y="205740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ТИХИ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Bookman Old Style"/>
              </a:rPr>
              <a:t>ОКЕАН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ИЗИКО-ГЕОГРАФИЧЕСКОЕ ПОЛОЖЕНИЕ ЮГО-ВОСТОЧНОЙ АЗ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7"/>
          <p:cNvSpPr/>
          <p:nvPr/>
        </p:nvSpPr>
        <p:spPr>
          <a:xfrm>
            <a:off x="3429000" y="1676520"/>
            <a:ext cx="838080" cy="1726920"/>
          </a:xfrm>
          <a:custGeom>
            <a:avLst/>
            <a:gdLst>
              <a:gd name="textAreaLeft" fmla="*/ 0 w 838080"/>
              <a:gd name="textAreaRight" fmla="*/ 838440 w 83808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507" h="1088">
                <a:moveTo>
                  <a:pt x="162" y="962"/>
                </a:moveTo>
                <a:cubicBezTo>
                  <a:pt x="167" y="978"/>
                  <a:pt x="162" y="969"/>
                  <a:pt x="183" y="983"/>
                </a:cubicBezTo>
                <a:cubicBezTo>
                  <a:pt x="186" y="985"/>
                  <a:pt x="192" y="989"/>
                  <a:pt x="192" y="989"/>
                </a:cubicBezTo>
                <a:cubicBezTo>
                  <a:pt x="198" y="1006"/>
                  <a:pt x="184" y="1029"/>
                  <a:pt x="174" y="1043"/>
                </a:cubicBezTo>
                <a:cubicBezTo>
                  <a:pt x="175" y="1050"/>
                  <a:pt x="174" y="1058"/>
                  <a:pt x="177" y="1064"/>
                </a:cubicBezTo>
                <a:cubicBezTo>
                  <a:pt x="178" y="1067"/>
                  <a:pt x="184" y="1067"/>
                  <a:pt x="186" y="1070"/>
                </a:cubicBezTo>
                <a:cubicBezTo>
                  <a:pt x="189" y="1075"/>
                  <a:pt x="192" y="1088"/>
                  <a:pt x="192" y="1088"/>
                </a:cubicBezTo>
                <a:cubicBezTo>
                  <a:pt x="201" y="1086"/>
                  <a:pt x="215" y="1083"/>
                  <a:pt x="222" y="1079"/>
                </a:cubicBezTo>
                <a:cubicBezTo>
                  <a:pt x="236" y="1072"/>
                  <a:pt x="224" y="1047"/>
                  <a:pt x="240" y="1043"/>
                </a:cubicBezTo>
                <a:cubicBezTo>
                  <a:pt x="266" y="1024"/>
                  <a:pt x="274" y="1024"/>
                  <a:pt x="306" y="1016"/>
                </a:cubicBezTo>
                <a:cubicBezTo>
                  <a:pt x="314" y="1005"/>
                  <a:pt x="312" y="1009"/>
                  <a:pt x="315" y="995"/>
                </a:cubicBezTo>
                <a:cubicBezTo>
                  <a:pt x="317" y="985"/>
                  <a:pt x="311" y="966"/>
                  <a:pt x="321" y="965"/>
                </a:cubicBezTo>
                <a:cubicBezTo>
                  <a:pt x="333" y="964"/>
                  <a:pt x="345" y="963"/>
                  <a:pt x="357" y="962"/>
                </a:cubicBezTo>
                <a:cubicBezTo>
                  <a:pt x="379" y="932"/>
                  <a:pt x="420" y="925"/>
                  <a:pt x="453" y="914"/>
                </a:cubicBezTo>
                <a:cubicBezTo>
                  <a:pt x="465" y="895"/>
                  <a:pt x="464" y="870"/>
                  <a:pt x="486" y="863"/>
                </a:cubicBezTo>
                <a:cubicBezTo>
                  <a:pt x="498" y="826"/>
                  <a:pt x="499" y="834"/>
                  <a:pt x="489" y="803"/>
                </a:cubicBezTo>
                <a:cubicBezTo>
                  <a:pt x="496" y="775"/>
                  <a:pt x="501" y="752"/>
                  <a:pt x="501" y="752"/>
                </a:cubicBezTo>
                <a:cubicBezTo>
                  <a:pt x="503" y="746"/>
                  <a:pt x="493" y="738"/>
                  <a:pt x="498" y="734"/>
                </a:cubicBezTo>
                <a:cubicBezTo>
                  <a:pt x="501" y="746"/>
                  <a:pt x="498" y="754"/>
                  <a:pt x="507" y="728"/>
                </a:cubicBezTo>
                <a:cubicBezTo>
                  <a:pt x="496" y="725"/>
                  <a:pt x="491" y="709"/>
                  <a:pt x="486" y="695"/>
                </a:cubicBezTo>
                <a:cubicBezTo>
                  <a:pt x="481" y="681"/>
                  <a:pt x="482" y="662"/>
                  <a:pt x="477" y="644"/>
                </a:cubicBezTo>
                <a:cubicBezTo>
                  <a:pt x="487" y="621"/>
                  <a:pt x="443" y="607"/>
                  <a:pt x="456" y="587"/>
                </a:cubicBezTo>
                <a:cubicBezTo>
                  <a:pt x="454" y="560"/>
                  <a:pt x="440" y="549"/>
                  <a:pt x="411" y="539"/>
                </a:cubicBezTo>
                <a:cubicBezTo>
                  <a:pt x="404" y="516"/>
                  <a:pt x="381" y="515"/>
                  <a:pt x="357" y="509"/>
                </a:cubicBezTo>
                <a:cubicBezTo>
                  <a:pt x="349" y="498"/>
                  <a:pt x="355" y="493"/>
                  <a:pt x="348" y="482"/>
                </a:cubicBezTo>
                <a:cubicBezTo>
                  <a:pt x="343" y="474"/>
                  <a:pt x="323" y="460"/>
                  <a:pt x="318" y="452"/>
                </a:cubicBezTo>
                <a:cubicBezTo>
                  <a:pt x="315" y="443"/>
                  <a:pt x="303" y="446"/>
                  <a:pt x="300" y="437"/>
                </a:cubicBezTo>
                <a:cubicBezTo>
                  <a:pt x="297" y="428"/>
                  <a:pt x="306" y="410"/>
                  <a:pt x="300" y="398"/>
                </a:cubicBezTo>
                <a:cubicBezTo>
                  <a:pt x="291" y="382"/>
                  <a:pt x="270" y="377"/>
                  <a:pt x="261" y="365"/>
                </a:cubicBezTo>
                <a:cubicBezTo>
                  <a:pt x="252" y="353"/>
                  <a:pt x="250" y="343"/>
                  <a:pt x="249" y="326"/>
                </a:cubicBezTo>
                <a:cubicBezTo>
                  <a:pt x="251" y="305"/>
                  <a:pt x="249" y="283"/>
                  <a:pt x="255" y="263"/>
                </a:cubicBezTo>
                <a:cubicBezTo>
                  <a:pt x="259" y="249"/>
                  <a:pt x="274" y="261"/>
                  <a:pt x="285" y="251"/>
                </a:cubicBezTo>
                <a:cubicBezTo>
                  <a:pt x="296" y="241"/>
                  <a:pt x="310" y="216"/>
                  <a:pt x="321" y="203"/>
                </a:cubicBezTo>
                <a:cubicBezTo>
                  <a:pt x="330" y="190"/>
                  <a:pt x="343" y="184"/>
                  <a:pt x="354" y="173"/>
                </a:cubicBezTo>
                <a:cubicBezTo>
                  <a:pt x="358" y="161"/>
                  <a:pt x="363" y="156"/>
                  <a:pt x="375" y="152"/>
                </a:cubicBezTo>
                <a:cubicBezTo>
                  <a:pt x="379" y="147"/>
                  <a:pt x="410" y="144"/>
                  <a:pt x="399" y="137"/>
                </a:cubicBezTo>
                <a:cubicBezTo>
                  <a:pt x="398" y="135"/>
                  <a:pt x="383" y="142"/>
                  <a:pt x="369" y="137"/>
                </a:cubicBezTo>
                <a:cubicBezTo>
                  <a:pt x="355" y="132"/>
                  <a:pt x="322" y="116"/>
                  <a:pt x="312" y="107"/>
                </a:cubicBezTo>
                <a:cubicBezTo>
                  <a:pt x="319" y="97"/>
                  <a:pt x="301" y="90"/>
                  <a:pt x="309" y="80"/>
                </a:cubicBezTo>
                <a:cubicBezTo>
                  <a:pt x="314" y="64"/>
                  <a:pt x="332" y="56"/>
                  <a:pt x="312" y="44"/>
                </a:cubicBezTo>
                <a:cubicBezTo>
                  <a:pt x="306" y="40"/>
                  <a:pt x="276" y="50"/>
                  <a:pt x="276" y="50"/>
                </a:cubicBezTo>
                <a:cubicBezTo>
                  <a:pt x="263" y="31"/>
                  <a:pt x="249" y="14"/>
                  <a:pt x="228" y="11"/>
                </a:cubicBezTo>
                <a:cubicBezTo>
                  <a:pt x="207" y="0"/>
                  <a:pt x="197" y="17"/>
                  <a:pt x="174" y="23"/>
                </a:cubicBezTo>
                <a:cubicBezTo>
                  <a:pt x="171" y="37"/>
                  <a:pt x="170" y="42"/>
                  <a:pt x="156" y="47"/>
                </a:cubicBezTo>
                <a:cubicBezTo>
                  <a:pt x="144" y="65"/>
                  <a:pt x="138" y="56"/>
                  <a:pt x="114" y="53"/>
                </a:cubicBezTo>
                <a:cubicBezTo>
                  <a:pt x="99" y="54"/>
                  <a:pt x="73" y="64"/>
                  <a:pt x="60" y="65"/>
                </a:cubicBezTo>
                <a:cubicBezTo>
                  <a:pt x="47" y="66"/>
                  <a:pt x="46" y="56"/>
                  <a:pt x="36" y="56"/>
                </a:cubicBezTo>
                <a:cubicBezTo>
                  <a:pt x="30" y="58"/>
                  <a:pt x="0" y="56"/>
                  <a:pt x="0" y="62"/>
                </a:cubicBezTo>
                <a:cubicBezTo>
                  <a:pt x="3" y="101"/>
                  <a:pt x="17" y="107"/>
                  <a:pt x="45" y="128"/>
                </a:cubicBezTo>
                <a:cubicBezTo>
                  <a:pt x="56" y="150"/>
                  <a:pt x="63" y="180"/>
                  <a:pt x="84" y="194"/>
                </a:cubicBezTo>
                <a:cubicBezTo>
                  <a:pt x="72" y="200"/>
                  <a:pt x="121" y="194"/>
                  <a:pt x="132" y="197"/>
                </a:cubicBezTo>
                <a:cubicBezTo>
                  <a:pt x="138" y="199"/>
                  <a:pt x="150" y="203"/>
                  <a:pt x="150" y="203"/>
                </a:cubicBezTo>
                <a:cubicBezTo>
                  <a:pt x="161" y="214"/>
                  <a:pt x="184" y="219"/>
                  <a:pt x="189" y="233"/>
                </a:cubicBezTo>
                <a:cubicBezTo>
                  <a:pt x="185" y="298"/>
                  <a:pt x="182" y="279"/>
                  <a:pt x="141" y="293"/>
                </a:cubicBezTo>
                <a:cubicBezTo>
                  <a:pt x="136" y="309"/>
                  <a:pt x="141" y="311"/>
                  <a:pt x="150" y="323"/>
                </a:cubicBezTo>
                <a:cubicBezTo>
                  <a:pt x="155" y="330"/>
                  <a:pt x="164" y="352"/>
                  <a:pt x="171" y="359"/>
                </a:cubicBezTo>
                <a:cubicBezTo>
                  <a:pt x="176" y="366"/>
                  <a:pt x="189" y="353"/>
                  <a:pt x="198" y="359"/>
                </a:cubicBezTo>
                <a:cubicBezTo>
                  <a:pt x="207" y="365"/>
                  <a:pt x="213" y="380"/>
                  <a:pt x="225" y="395"/>
                </a:cubicBezTo>
                <a:cubicBezTo>
                  <a:pt x="237" y="414"/>
                  <a:pt x="255" y="432"/>
                  <a:pt x="270" y="449"/>
                </a:cubicBezTo>
                <a:cubicBezTo>
                  <a:pt x="279" y="459"/>
                  <a:pt x="294" y="482"/>
                  <a:pt x="294" y="482"/>
                </a:cubicBezTo>
                <a:cubicBezTo>
                  <a:pt x="300" y="499"/>
                  <a:pt x="312" y="521"/>
                  <a:pt x="330" y="527"/>
                </a:cubicBezTo>
                <a:cubicBezTo>
                  <a:pt x="353" y="550"/>
                  <a:pt x="343" y="538"/>
                  <a:pt x="360" y="563"/>
                </a:cubicBezTo>
                <a:cubicBezTo>
                  <a:pt x="362" y="566"/>
                  <a:pt x="366" y="572"/>
                  <a:pt x="366" y="572"/>
                </a:cubicBezTo>
                <a:cubicBezTo>
                  <a:pt x="367" y="581"/>
                  <a:pt x="384" y="602"/>
                  <a:pt x="384" y="620"/>
                </a:cubicBezTo>
                <a:cubicBezTo>
                  <a:pt x="384" y="638"/>
                  <a:pt x="370" y="661"/>
                  <a:pt x="369" y="680"/>
                </a:cubicBezTo>
                <a:cubicBezTo>
                  <a:pt x="368" y="699"/>
                  <a:pt x="376" y="719"/>
                  <a:pt x="378" y="737"/>
                </a:cubicBezTo>
                <a:cubicBezTo>
                  <a:pt x="380" y="758"/>
                  <a:pt x="374" y="771"/>
                  <a:pt x="381" y="791"/>
                </a:cubicBezTo>
                <a:cubicBezTo>
                  <a:pt x="380" y="803"/>
                  <a:pt x="367" y="813"/>
                  <a:pt x="363" y="824"/>
                </a:cubicBezTo>
                <a:cubicBezTo>
                  <a:pt x="361" y="830"/>
                  <a:pt x="336" y="834"/>
                  <a:pt x="330" y="836"/>
                </a:cubicBezTo>
                <a:cubicBezTo>
                  <a:pt x="322" y="838"/>
                  <a:pt x="306" y="842"/>
                  <a:pt x="306" y="842"/>
                </a:cubicBezTo>
                <a:cubicBezTo>
                  <a:pt x="303" y="844"/>
                  <a:pt x="300" y="847"/>
                  <a:pt x="297" y="848"/>
                </a:cubicBezTo>
                <a:cubicBezTo>
                  <a:pt x="291" y="850"/>
                  <a:pt x="284" y="848"/>
                  <a:pt x="279" y="851"/>
                </a:cubicBezTo>
                <a:cubicBezTo>
                  <a:pt x="228" y="876"/>
                  <a:pt x="299" y="868"/>
                  <a:pt x="258" y="875"/>
                </a:cubicBezTo>
                <a:cubicBezTo>
                  <a:pt x="245" y="894"/>
                  <a:pt x="259" y="886"/>
                  <a:pt x="273" y="887"/>
                </a:cubicBezTo>
                <a:cubicBezTo>
                  <a:pt x="274" y="894"/>
                  <a:pt x="288" y="918"/>
                  <a:pt x="279" y="923"/>
                </a:cubicBezTo>
                <a:cubicBezTo>
                  <a:pt x="270" y="928"/>
                  <a:pt x="239" y="914"/>
                  <a:pt x="219" y="920"/>
                </a:cubicBezTo>
                <a:cubicBezTo>
                  <a:pt x="203" y="936"/>
                  <a:pt x="178" y="952"/>
                  <a:pt x="156" y="959"/>
                </a:cubicBezTo>
                <a:cubicBezTo>
                  <a:pt x="162" y="963"/>
                  <a:pt x="170" y="962"/>
                  <a:pt x="174" y="968"/>
                </a:cubicBezTo>
                <a:cubicBezTo>
                  <a:pt x="185" y="984"/>
                  <a:pt x="170" y="983"/>
                  <a:pt x="180" y="983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Freeform 9"/>
          <p:cNvSpPr/>
          <p:nvPr/>
        </p:nvSpPr>
        <p:spPr>
          <a:xfrm>
            <a:off x="3276720" y="1752480"/>
            <a:ext cx="838080" cy="1111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539" h="652">
                <a:moveTo>
                  <a:pt x="516" y="610"/>
                </a:moveTo>
                <a:cubicBezTo>
                  <a:pt x="511" y="595"/>
                  <a:pt x="508" y="580"/>
                  <a:pt x="525" y="574"/>
                </a:cubicBezTo>
                <a:cubicBezTo>
                  <a:pt x="533" y="562"/>
                  <a:pt x="539" y="558"/>
                  <a:pt x="528" y="538"/>
                </a:cubicBezTo>
                <a:cubicBezTo>
                  <a:pt x="525" y="532"/>
                  <a:pt x="510" y="526"/>
                  <a:pt x="510" y="526"/>
                </a:cubicBezTo>
                <a:cubicBezTo>
                  <a:pt x="507" y="517"/>
                  <a:pt x="513" y="499"/>
                  <a:pt x="513" y="499"/>
                </a:cubicBezTo>
                <a:cubicBezTo>
                  <a:pt x="506" y="489"/>
                  <a:pt x="497" y="476"/>
                  <a:pt x="486" y="472"/>
                </a:cubicBezTo>
                <a:cubicBezTo>
                  <a:pt x="483" y="469"/>
                  <a:pt x="481" y="465"/>
                  <a:pt x="477" y="463"/>
                </a:cubicBezTo>
                <a:cubicBezTo>
                  <a:pt x="474" y="461"/>
                  <a:pt x="470" y="462"/>
                  <a:pt x="468" y="460"/>
                </a:cubicBezTo>
                <a:cubicBezTo>
                  <a:pt x="454" y="449"/>
                  <a:pt x="469" y="454"/>
                  <a:pt x="459" y="442"/>
                </a:cubicBezTo>
                <a:cubicBezTo>
                  <a:pt x="452" y="433"/>
                  <a:pt x="440" y="423"/>
                  <a:pt x="432" y="415"/>
                </a:cubicBezTo>
                <a:cubicBezTo>
                  <a:pt x="427" y="399"/>
                  <a:pt x="405" y="360"/>
                  <a:pt x="393" y="352"/>
                </a:cubicBezTo>
                <a:cubicBezTo>
                  <a:pt x="387" y="348"/>
                  <a:pt x="381" y="344"/>
                  <a:pt x="375" y="340"/>
                </a:cubicBezTo>
                <a:cubicBezTo>
                  <a:pt x="372" y="338"/>
                  <a:pt x="366" y="334"/>
                  <a:pt x="366" y="334"/>
                </a:cubicBezTo>
                <a:cubicBezTo>
                  <a:pt x="362" y="329"/>
                  <a:pt x="354" y="328"/>
                  <a:pt x="351" y="322"/>
                </a:cubicBezTo>
                <a:cubicBezTo>
                  <a:pt x="342" y="306"/>
                  <a:pt x="357" y="302"/>
                  <a:pt x="336" y="295"/>
                </a:cubicBezTo>
                <a:cubicBezTo>
                  <a:pt x="320" y="290"/>
                  <a:pt x="302" y="289"/>
                  <a:pt x="285" y="286"/>
                </a:cubicBezTo>
                <a:cubicBezTo>
                  <a:pt x="276" y="277"/>
                  <a:pt x="268" y="277"/>
                  <a:pt x="264" y="265"/>
                </a:cubicBezTo>
                <a:cubicBezTo>
                  <a:pt x="278" y="222"/>
                  <a:pt x="301" y="242"/>
                  <a:pt x="333" y="220"/>
                </a:cubicBezTo>
                <a:cubicBezTo>
                  <a:pt x="345" y="185"/>
                  <a:pt x="344" y="198"/>
                  <a:pt x="318" y="181"/>
                </a:cubicBezTo>
                <a:cubicBezTo>
                  <a:pt x="313" y="171"/>
                  <a:pt x="316" y="140"/>
                  <a:pt x="303" y="133"/>
                </a:cubicBezTo>
                <a:cubicBezTo>
                  <a:pt x="290" y="126"/>
                  <a:pt x="254" y="144"/>
                  <a:pt x="237" y="139"/>
                </a:cubicBezTo>
                <a:cubicBezTo>
                  <a:pt x="207" y="129"/>
                  <a:pt x="223" y="122"/>
                  <a:pt x="201" y="100"/>
                </a:cubicBezTo>
                <a:cubicBezTo>
                  <a:pt x="192" y="72"/>
                  <a:pt x="169" y="39"/>
                  <a:pt x="144" y="22"/>
                </a:cubicBezTo>
                <a:cubicBezTo>
                  <a:pt x="117" y="25"/>
                  <a:pt x="115" y="0"/>
                  <a:pt x="108" y="22"/>
                </a:cubicBezTo>
                <a:cubicBezTo>
                  <a:pt x="109" y="37"/>
                  <a:pt x="117" y="89"/>
                  <a:pt x="111" y="106"/>
                </a:cubicBezTo>
                <a:cubicBezTo>
                  <a:pt x="97" y="104"/>
                  <a:pt x="85" y="100"/>
                  <a:pt x="72" y="97"/>
                </a:cubicBezTo>
                <a:cubicBezTo>
                  <a:pt x="61" y="99"/>
                  <a:pt x="51" y="99"/>
                  <a:pt x="42" y="106"/>
                </a:cubicBezTo>
                <a:cubicBezTo>
                  <a:pt x="33" y="113"/>
                  <a:pt x="23" y="131"/>
                  <a:pt x="18" y="139"/>
                </a:cubicBezTo>
                <a:cubicBezTo>
                  <a:pt x="16" y="145"/>
                  <a:pt x="16" y="152"/>
                  <a:pt x="12" y="157"/>
                </a:cubicBezTo>
                <a:cubicBezTo>
                  <a:pt x="8" y="163"/>
                  <a:pt x="0" y="175"/>
                  <a:pt x="0" y="175"/>
                </a:cubicBezTo>
                <a:cubicBezTo>
                  <a:pt x="2" y="180"/>
                  <a:pt x="33" y="183"/>
                  <a:pt x="39" y="193"/>
                </a:cubicBezTo>
                <a:cubicBezTo>
                  <a:pt x="45" y="203"/>
                  <a:pt x="31" y="228"/>
                  <a:pt x="36" y="235"/>
                </a:cubicBezTo>
                <a:cubicBezTo>
                  <a:pt x="37" y="237"/>
                  <a:pt x="65" y="237"/>
                  <a:pt x="72" y="238"/>
                </a:cubicBezTo>
                <a:cubicBezTo>
                  <a:pt x="93" y="252"/>
                  <a:pt x="79" y="269"/>
                  <a:pt x="75" y="295"/>
                </a:cubicBezTo>
                <a:cubicBezTo>
                  <a:pt x="74" y="301"/>
                  <a:pt x="69" y="313"/>
                  <a:pt x="69" y="313"/>
                </a:cubicBezTo>
                <a:cubicBezTo>
                  <a:pt x="68" y="327"/>
                  <a:pt x="69" y="341"/>
                  <a:pt x="66" y="355"/>
                </a:cubicBezTo>
                <a:cubicBezTo>
                  <a:pt x="65" y="359"/>
                  <a:pt x="58" y="360"/>
                  <a:pt x="57" y="364"/>
                </a:cubicBezTo>
                <a:cubicBezTo>
                  <a:pt x="55" y="376"/>
                  <a:pt x="90" y="382"/>
                  <a:pt x="90" y="382"/>
                </a:cubicBezTo>
                <a:cubicBezTo>
                  <a:pt x="105" y="374"/>
                  <a:pt x="109" y="361"/>
                  <a:pt x="123" y="352"/>
                </a:cubicBezTo>
                <a:cubicBezTo>
                  <a:pt x="136" y="348"/>
                  <a:pt x="146" y="343"/>
                  <a:pt x="159" y="343"/>
                </a:cubicBezTo>
                <a:cubicBezTo>
                  <a:pt x="172" y="343"/>
                  <a:pt x="189" y="357"/>
                  <a:pt x="201" y="355"/>
                </a:cubicBezTo>
                <a:cubicBezTo>
                  <a:pt x="210" y="341"/>
                  <a:pt x="221" y="340"/>
                  <a:pt x="234" y="331"/>
                </a:cubicBezTo>
                <a:cubicBezTo>
                  <a:pt x="247" y="332"/>
                  <a:pt x="261" y="329"/>
                  <a:pt x="273" y="334"/>
                </a:cubicBezTo>
                <a:cubicBezTo>
                  <a:pt x="283" y="338"/>
                  <a:pt x="285" y="352"/>
                  <a:pt x="294" y="358"/>
                </a:cubicBezTo>
                <a:cubicBezTo>
                  <a:pt x="295" y="361"/>
                  <a:pt x="294" y="365"/>
                  <a:pt x="297" y="367"/>
                </a:cubicBezTo>
                <a:cubicBezTo>
                  <a:pt x="302" y="371"/>
                  <a:pt x="315" y="373"/>
                  <a:pt x="315" y="373"/>
                </a:cubicBezTo>
                <a:cubicBezTo>
                  <a:pt x="318" y="383"/>
                  <a:pt x="324" y="403"/>
                  <a:pt x="324" y="403"/>
                </a:cubicBezTo>
                <a:cubicBezTo>
                  <a:pt x="323" y="417"/>
                  <a:pt x="320" y="431"/>
                  <a:pt x="321" y="445"/>
                </a:cubicBezTo>
                <a:cubicBezTo>
                  <a:pt x="322" y="467"/>
                  <a:pt x="377" y="506"/>
                  <a:pt x="390" y="526"/>
                </a:cubicBezTo>
                <a:cubicBezTo>
                  <a:pt x="394" y="564"/>
                  <a:pt x="398" y="555"/>
                  <a:pt x="387" y="589"/>
                </a:cubicBezTo>
                <a:cubicBezTo>
                  <a:pt x="386" y="597"/>
                  <a:pt x="366" y="605"/>
                  <a:pt x="363" y="613"/>
                </a:cubicBezTo>
                <a:cubicBezTo>
                  <a:pt x="361" y="620"/>
                  <a:pt x="351" y="631"/>
                  <a:pt x="351" y="631"/>
                </a:cubicBezTo>
                <a:cubicBezTo>
                  <a:pt x="394" y="635"/>
                  <a:pt x="372" y="631"/>
                  <a:pt x="399" y="646"/>
                </a:cubicBezTo>
                <a:cubicBezTo>
                  <a:pt x="405" y="649"/>
                  <a:pt x="417" y="652"/>
                  <a:pt x="417" y="652"/>
                </a:cubicBezTo>
                <a:cubicBezTo>
                  <a:pt x="429" y="640"/>
                  <a:pt x="426" y="629"/>
                  <a:pt x="435" y="616"/>
                </a:cubicBezTo>
                <a:cubicBezTo>
                  <a:pt x="441" y="610"/>
                  <a:pt x="441" y="614"/>
                  <a:pt x="453" y="613"/>
                </a:cubicBezTo>
                <a:cubicBezTo>
                  <a:pt x="465" y="612"/>
                  <a:pt x="500" y="613"/>
                  <a:pt x="510" y="610"/>
                </a:cubicBezTo>
                <a:cubicBezTo>
                  <a:pt x="512" y="604"/>
                  <a:pt x="516" y="592"/>
                  <a:pt x="516" y="592"/>
                </a:cubicBezTo>
              </a:path>
            </a:pathLst>
          </a:custGeom>
          <a:solidFill>
            <a:srgbClr val="00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2971800" y="2057400"/>
            <a:ext cx="990720" cy="168768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ff66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Freeform 13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Freeform 14"/>
          <p:cNvSpPr/>
          <p:nvPr/>
        </p:nvSpPr>
        <p:spPr>
          <a:xfrm>
            <a:off x="3505320" y="274320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76" h="306">
                <a:moveTo>
                  <a:pt x="366" y="0"/>
                </a:moveTo>
                <a:cubicBezTo>
                  <a:pt x="329" y="4"/>
                  <a:pt x="347" y="6"/>
                  <a:pt x="321" y="15"/>
                </a:cubicBezTo>
                <a:cubicBezTo>
                  <a:pt x="310" y="12"/>
                  <a:pt x="302" y="7"/>
                  <a:pt x="291" y="3"/>
                </a:cubicBezTo>
                <a:cubicBezTo>
                  <a:pt x="269" y="6"/>
                  <a:pt x="275" y="13"/>
                  <a:pt x="264" y="30"/>
                </a:cubicBezTo>
                <a:cubicBezTo>
                  <a:pt x="260" y="61"/>
                  <a:pt x="229" y="43"/>
                  <a:pt x="213" y="30"/>
                </a:cubicBezTo>
                <a:cubicBezTo>
                  <a:pt x="211" y="28"/>
                  <a:pt x="228" y="31"/>
                  <a:pt x="225" y="30"/>
                </a:cubicBezTo>
                <a:cubicBezTo>
                  <a:pt x="199" y="4"/>
                  <a:pt x="160" y="13"/>
                  <a:pt x="126" y="12"/>
                </a:cubicBezTo>
                <a:cubicBezTo>
                  <a:pt x="104" y="13"/>
                  <a:pt x="82" y="12"/>
                  <a:pt x="60" y="15"/>
                </a:cubicBezTo>
                <a:cubicBezTo>
                  <a:pt x="50" y="17"/>
                  <a:pt x="40" y="44"/>
                  <a:pt x="33" y="51"/>
                </a:cubicBezTo>
                <a:cubicBezTo>
                  <a:pt x="25" y="63"/>
                  <a:pt x="11" y="66"/>
                  <a:pt x="6" y="75"/>
                </a:cubicBezTo>
                <a:cubicBezTo>
                  <a:pt x="1" y="84"/>
                  <a:pt x="0" y="93"/>
                  <a:pt x="3" y="105"/>
                </a:cubicBezTo>
                <a:cubicBezTo>
                  <a:pt x="6" y="132"/>
                  <a:pt x="4" y="134"/>
                  <a:pt x="24" y="147"/>
                </a:cubicBezTo>
                <a:cubicBezTo>
                  <a:pt x="32" y="170"/>
                  <a:pt x="31" y="183"/>
                  <a:pt x="45" y="204"/>
                </a:cubicBezTo>
                <a:cubicBezTo>
                  <a:pt x="49" y="209"/>
                  <a:pt x="51" y="222"/>
                  <a:pt x="51" y="222"/>
                </a:cubicBezTo>
                <a:cubicBezTo>
                  <a:pt x="54" y="251"/>
                  <a:pt x="56" y="268"/>
                  <a:pt x="81" y="285"/>
                </a:cubicBezTo>
                <a:cubicBezTo>
                  <a:pt x="95" y="306"/>
                  <a:pt x="88" y="283"/>
                  <a:pt x="117" y="285"/>
                </a:cubicBezTo>
                <a:cubicBezTo>
                  <a:pt x="136" y="281"/>
                  <a:pt x="170" y="294"/>
                  <a:pt x="189" y="288"/>
                </a:cubicBezTo>
                <a:cubicBezTo>
                  <a:pt x="204" y="286"/>
                  <a:pt x="180" y="268"/>
                  <a:pt x="186" y="264"/>
                </a:cubicBezTo>
                <a:cubicBezTo>
                  <a:pt x="192" y="260"/>
                  <a:pt x="210" y="260"/>
                  <a:pt x="225" y="261"/>
                </a:cubicBezTo>
                <a:cubicBezTo>
                  <a:pt x="240" y="262"/>
                  <a:pt x="272" y="275"/>
                  <a:pt x="276" y="267"/>
                </a:cubicBezTo>
                <a:cubicBezTo>
                  <a:pt x="270" y="242"/>
                  <a:pt x="215" y="216"/>
                  <a:pt x="252" y="210"/>
                </a:cubicBezTo>
                <a:cubicBezTo>
                  <a:pt x="263" y="194"/>
                  <a:pt x="283" y="195"/>
                  <a:pt x="303" y="192"/>
                </a:cubicBezTo>
                <a:cubicBezTo>
                  <a:pt x="321" y="180"/>
                  <a:pt x="342" y="170"/>
                  <a:pt x="363" y="165"/>
                </a:cubicBezTo>
                <a:cubicBezTo>
                  <a:pt x="376" y="145"/>
                  <a:pt x="369" y="161"/>
                  <a:pt x="366" y="117"/>
                </a:cubicBezTo>
                <a:cubicBezTo>
                  <a:pt x="367" y="101"/>
                  <a:pt x="374" y="97"/>
                  <a:pt x="372" y="84"/>
                </a:cubicBezTo>
                <a:cubicBezTo>
                  <a:pt x="370" y="71"/>
                  <a:pt x="352" y="48"/>
                  <a:pt x="351" y="36"/>
                </a:cubicBezTo>
                <a:cubicBezTo>
                  <a:pt x="355" y="22"/>
                  <a:pt x="362" y="22"/>
                  <a:pt x="366" y="9"/>
                </a:cubicBezTo>
                <a:cubicBezTo>
                  <a:pt x="354" y="5"/>
                  <a:pt x="354" y="8"/>
                  <a:pt x="3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Freeform 16"/>
          <p:cNvSpPr/>
          <p:nvPr/>
        </p:nvSpPr>
        <p:spPr>
          <a:xfrm>
            <a:off x="3276720" y="358128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Freeform 17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Freeform 18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Freeform 20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Freeform 21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Freeform 22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Freeform 23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Freeform 24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Freeform 26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Freeform 28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Freeform 29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Freeform 30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Freeform 31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Freeform 32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Freeform 33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Freeform 35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Freeform 36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Freeform 38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Freeform 39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Freeform 44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45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Freeform 46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Freeform 47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Freeform 48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Freeform 49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Freeform 50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Freeform 51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Freeform 52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Freeform 54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Freeform 55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Freeform 56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Freeform 57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Freeform 58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Freeform 59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Freeform 60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Freeform 61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Freeform 62"/>
          <p:cNvSpPr/>
          <p:nvPr/>
        </p:nvSpPr>
        <p:spPr>
          <a:xfrm>
            <a:off x="6248520" y="3048120"/>
            <a:ext cx="106200" cy="71280"/>
          </a:xfrm>
          <a:custGeom>
            <a:avLst/>
            <a:gdLst>
              <a:gd name="textAreaLeft" fmla="*/ 0 w 106200"/>
              <a:gd name="textAreaRight" fmla="*/ 106560 w 106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7" h="45">
                <a:moveTo>
                  <a:pt x="50" y="7"/>
                </a:moveTo>
                <a:cubicBezTo>
                  <a:pt x="43" y="8"/>
                  <a:pt x="42" y="0"/>
                  <a:pt x="36" y="3"/>
                </a:cubicBezTo>
                <a:cubicBezTo>
                  <a:pt x="32" y="5"/>
                  <a:pt x="25" y="17"/>
                  <a:pt x="22" y="21"/>
                </a:cubicBezTo>
                <a:cubicBezTo>
                  <a:pt x="18" y="26"/>
                  <a:pt x="9" y="25"/>
                  <a:pt x="4" y="29"/>
                </a:cubicBezTo>
                <a:cubicBezTo>
                  <a:pt x="2" y="38"/>
                  <a:pt x="0" y="42"/>
                  <a:pt x="10" y="45"/>
                </a:cubicBezTo>
                <a:cubicBezTo>
                  <a:pt x="24" y="44"/>
                  <a:pt x="33" y="43"/>
                  <a:pt x="46" y="39"/>
                </a:cubicBezTo>
                <a:cubicBezTo>
                  <a:pt x="50" y="38"/>
                  <a:pt x="58" y="35"/>
                  <a:pt x="58" y="35"/>
                </a:cubicBezTo>
                <a:cubicBezTo>
                  <a:pt x="62" y="29"/>
                  <a:pt x="67" y="21"/>
                  <a:pt x="62" y="13"/>
                </a:cubicBezTo>
                <a:cubicBezTo>
                  <a:pt x="59" y="9"/>
                  <a:pt x="44" y="13"/>
                  <a:pt x="5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Freeform 63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Freeform 65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Freeform 66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Freeform 67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Freeform 68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Freeform 69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Freeform 70"/>
          <p:cNvSpPr/>
          <p:nvPr/>
        </p:nvSpPr>
        <p:spPr>
          <a:xfrm>
            <a:off x="6324480" y="28954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70" y="16"/>
                </a:moveTo>
                <a:cubicBezTo>
                  <a:pt x="66" y="0"/>
                  <a:pt x="15" y="12"/>
                  <a:pt x="8" y="12"/>
                </a:cubicBezTo>
                <a:cubicBezTo>
                  <a:pt x="0" y="18"/>
                  <a:pt x="31" y="32"/>
                  <a:pt x="38" y="42"/>
                </a:cubicBezTo>
                <a:cubicBezTo>
                  <a:pt x="45" y="52"/>
                  <a:pt x="44" y="62"/>
                  <a:pt x="48" y="72"/>
                </a:cubicBezTo>
                <a:cubicBezTo>
                  <a:pt x="55" y="82"/>
                  <a:pt x="47" y="96"/>
                  <a:pt x="60" y="100"/>
                </a:cubicBezTo>
                <a:cubicBezTo>
                  <a:pt x="66" y="106"/>
                  <a:pt x="71" y="107"/>
                  <a:pt x="78" y="112"/>
                </a:cubicBezTo>
                <a:cubicBezTo>
                  <a:pt x="83" y="120"/>
                  <a:pt x="95" y="120"/>
                  <a:pt x="104" y="122"/>
                </a:cubicBezTo>
                <a:cubicBezTo>
                  <a:pt x="110" y="113"/>
                  <a:pt x="100" y="105"/>
                  <a:pt x="94" y="96"/>
                </a:cubicBezTo>
                <a:cubicBezTo>
                  <a:pt x="92" y="86"/>
                  <a:pt x="90" y="77"/>
                  <a:pt x="88" y="66"/>
                </a:cubicBezTo>
                <a:cubicBezTo>
                  <a:pt x="90" y="59"/>
                  <a:pt x="86" y="57"/>
                  <a:pt x="88" y="50"/>
                </a:cubicBezTo>
                <a:cubicBezTo>
                  <a:pt x="81" y="30"/>
                  <a:pt x="102" y="58"/>
                  <a:pt x="90" y="36"/>
                </a:cubicBezTo>
                <a:cubicBezTo>
                  <a:pt x="81" y="20"/>
                  <a:pt x="83" y="13"/>
                  <a:pt x="64" y="8"/>
                </a:cubicBezTo>
                <a:cubicBezTo>
                  <a:pt x="47" y="10"/>
                  <a:pt x="52" y="6"/>
                  <a:pt x="46" y="1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Freeform 71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Freeform 72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9"/>
          <p:cNvSpPr/>
          <p:nvPr/>
        </p:nvSpPr>
        <p:spPr>
          <a:xfrm>
            <a:off x="228600" y="1600200"/>
            <a:ext cx="457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80"/>
          <p:cNvSpPr/>
          <p:nvPr/>
        </p:nvSpPr>
        <p:spPr>
          <a:xfrm>
            <a:off x="228600" y="320040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1"/>
          <p:cNvSpPr/>
          <p:nvPr/>
        </p:nvSpPr>
        <p:spPr>
          <a:xfrm>
            <a:off x="228600" y="3581280"/>
            <a:ext cx="4572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82"/>
          <p:cNvSpPr/>
          <p:nvPr/>
        </p:nvSpPr>
        <p:spPr>
          <a:xfrm>
            <a:off x="228600" y="4495680"/>
            <a:ext cx="457200" cy="228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83"/>
          <p:cNvSpPr/>
          <p:nvPr/>
        </p:nvSpPr>
        <p:spPr>
          <a:xfrm>
            <a:off x="228600" y="4038480"/>
            <a:ext cx="457200" cy="228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84"/>
          <p:cNvSpPr/>
          <p:nvPr/>
        </p:nvSpPr>
        <p:spPr>
          <a:xfrm>
            <a:off x="228600" y="27432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5"/>
          <p:cNvSpPr/>
          <p:nvPr/>
        </p:nvSpPr>
        <p:spPr>
          <a:xfrm>
            <a:off x="228600" y="2362320"/>
            <a:ext cx="457200" cy="228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6"/>
          <p:cNvSpPr/>
          <p:nvPr/>
        </p:nvSpPr>
        <p:spPr>
          <a:xfrm>
            <a:off x="228600" y="1981080"/>
            <a:ext cx="457200" cy="228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88"/>
          <p:cNvSpPr/>
          <p:nvPr/>
        </p:nvSpPr>
        <p:spPr>
          <a:xfrm>
            <a:off x="68580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ай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89"/>
          <p:cNvSpPr/>
          <p:nvPr/>
        </p:nvSpPr>
        <p:spPr>
          <a:xfrm>
            <a:off x="685800" y="3962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Филипп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0"/>
          <p:cNvSpPr/>
          <p:nvPr/>
        </p:nvSpPr>
        <p:spPr>
          <a:xfrm>
            <a:off x="762120" y="4419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Индоне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92"/>
          <p:cNvSpPr/>
          <p:nvPr/>
        </p:nvSpPr>
        <p:spPr>
          <a:xfrm>
            <a:off x="770040" y="3124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Б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93"/>
          <p:cNvSpPr/>
          <p:nvPr/>
        </p:nvSpPr>
        <p:spPr>
          <a:xfrm>
            <a:off x="762120" y="1905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Ла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94"/>
          <p:cNvSpPr/>
          <p:nvPr/>
        </p:nvSpPr>
        <p:spPr>
          <a:xfrm>
            <a:off x="762120" y="2666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мбод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96"/>
          <p:cNvSpPr/>
          <p:nvPr/>
        </p:nvSpPr>
        <p:spPr>
          <a:xfrm>
            <a:off x="692280" y="228600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Таилан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97"/>
          <p:cNvSpPr/>
          <p:nvPr/>
        </p:nvSpPr>
        <p:spPr>
          <a:xfrm>
            <a:off x="762120" y="15238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ьетн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99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02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03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06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07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108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109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10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11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12"/>
          <p:cNvSpPr/>
          <p:nvPr/>
        </p:nvSpPr>
        <p:spPr>
          <a:xfrm>
            <a:off x="3200400" y="6095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114"/>
          <p:cNvSpPr/>
          <p:nvPr/>
        </p:nvSpPr>
        <p:spPr>
          <a:xfrm>
            <a:off x="3886200" y="495288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15"/>
          <p:cNvSpPr/>
          <p:nvPr/>
        </p:nvSpPr>
        <p:spPr>
          <a:xfrm>
            <a:off x="4082040" y="4952880"/>
            <a:ext cx="8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ДЖАКАР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116"/>
          <p:cNvSpPr/>
          <p:nvPr/>
        </p:nvSpPr>
        <p:spPr>
          <a:xfrm>
            <a:off x="3305880" y="274320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БАНГО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17"/>
          <p:cNvSpPr/>
          <p:nvPr/>
        </p:nvSpPr>
        <p:spPr>
          <a:xfrm>
            <a:off x="3200400" y="27432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18"/>
          <p:cNvSpPr/>
          <p:nvPr/>
        </p:nvSpPr>
        <p:spPr>
          <a:xfrm>
            <a:off x="3657600" y="4114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19"/>
          <p:cNvSpPr/>
          <p:nvPr/>
        </p:nvSpPr>
        <p:spPr>
          <a:xfrm>
            <a:off x="3759840" y="4127400"/>
            <a:ext cx="81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Bookman Old Style"/>
              </a:rPr>
              <a:t>СИНГАПУР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20"/>
          <p:cNvSpPr/>
          <p:nvPr/>
        </p:nvSpPr>
        <p:spPr>
          <a:xfrm>
            <a:off x="3429000" y="396252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121"/>
          <p:cNvSpPr/>
          <p:nvPr/>
        </p:nvSpPr>
        <p:spPr>
          <a:xfrm>
            <a:off x="3533040" y="388620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КУАЛА-ЛУМПУ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12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ПОЛИТИКО-АДМИНИСТРАТИВНОЕ ДЕЛЕНИЕ ЮГО-ВОСТОЧНОЙ А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123"/>
          <p:cNvSpPr/>
          <p:nvPr/>
        </p:nvSpPr>
        <p:spPr>
          <a:xfrm>
            <a:off x="228600" y="48769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24"/>
          <p:cNvSpPr/>
          <p:nvPr/>
        </p:nvSpPr>
        <p:spPr>
          <a:xfrm>
            <a:off x="762120" y="4876920"/>
            <a:ext cx="13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Freeform 129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Freeform 130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35"/>
          <p:cNvSpPr/>
          <p:nvPr/>
        </p:nvSpPr>
        <p:spPr>
          <a:xfrm>
            <a:off x="5867280" y="2514600"/>
            <a:ext cx="152640" cy="152280"/>
          </a:xfrm>
          <a:custGeom>
            <a:avLst/>
            <a:gdLst>
              <a:gd name="textAreaLeft" fmla="*/ 47160 w 152640"/>
              <a:gd name="textAreaRight" fmla="*/ 105480 w 15264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37"/>
          <p:cNvSpPr/>
          <p:nvPr/>
        </p:nvSpPr>
        <p:spPr>
          <a:xfrm>
            <a:off x="5943600" y="2438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МАНИ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139"/>
          <p:cNvSpPr/>
          <p:nvPr/>
        </p:nvSpPr>
        <p:spPr>
          <a:xfrm>
            <a:off x="3886200" y="1828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0"/>
          <p:cNvSpPr/>
          <p:nvPr/>
        </p:nvSpPr>
        <p:spPr>
          <a:xfrm>
            <a:off x="3979080" y="175248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ХА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143"/>
          <p:cNvSpPr/>
          <p:nvPr/>
        </p:nvSpPr>
        <p:spPr>
          <a:xfrm>
            <a:off x="3581280" y="2895480"/>
            <a:ext cx="152640" cy="152640"/>
          </a:xfrm>
          <a:custGeom>
            <a:avLst/>
            <a:gdLst>
              <a:gd name="textAreaLeft" fmla="*/ 47160 w 152640"/>
              <a:gd name="textAreaRight" fmla="*/ 105480 w 15264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44"/>
          <p:cNvSpPr/>
          <p:nvPr/>
        </p:nvSpPr>
        <p:spPr>
          <a:xfrm>
            <a:off x="3615120" y="28954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ПНОМПЕН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03"/>
          <p:cNvSpPr/>
          <p:nvPr/>
        </p:nvSpPr>
        <p:spPr>
          <a:xfrm>
            <a:off x="326160" y="617220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3429000" y="1676520"/>
            <a:ext cx="838080" cy="1726920"/>
          </a:xfrm>
          <a:custGeom>
            <a:avLst/>
            <a:gdLst>
              <a:gd name="textAreaLeft" fmla="*/ 0 w 838080"/>
              <a:gd name="textAreaRight" fmla="*/ 838440 w 83808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507" h="1088">
                <a:moveTo>
                  <a:pt x="162" y="962"/>
                </a:moveTo>
                <a:cubicBezTo>
                  <a:pt x="167" y="978"/>
                  <a:pt x="162" y="969"/>
                  <a:pt x="183" y="983"/>
                </a:cubicBezTo>
                <a:cubicBezTo>
                  <a:pt x="186" y="985"/>
                  <a:pt x="192" y="989"/>
                  <a:pt x="192" y="989"/>
                </a:cubicBezTo>
                <a:cubicBezTo>
                  <a:pt x="198" y="1006"/>
                  <a:pt x="184" y="1029"/>
                  <a:pt x="174" y="1043"/>
                </a:cubicBezTo>
                <a:cubicBezTo>
                  <a:pt x="175" y="1050"/>
                  <a:pt x="174" y="1058"/>
                  <a:pt x="177" y="1064"/>
                </a:cubicBezTo>
                <a:cubicBezTo>
                  <a:pt x="178" y="1067"/>
                  <a:pt x="184" y="1067"/>
                  <a:pt x="186" y="1070"/>
                </a:cubicBezTo>
                <a:cubicBezTo>
                  <a:pt x="189" y="1075"/>
                  <a:pt x="192" y="1088"/>
                  <a:pt x="192" y="1088"/>
                </a:cubicBezTo>
                <a:cubicBezTo>
                  <a:pt x="201" y="1086"/>
                  <a:pt x="215" y="1083"/>
                  <a:pt x="222" y="1079"/>
                </a:cubicBezTo>
                <a:cubicBezTo>
                  <a:pt x="236" y="1072"/>
                  <a:pt x="224" y="1047"/>
                  <a:pt x="240" y="1043"/>
                </a:cubicBezTo>
                <a:cubicBezTo>
                  <a:pt x="266" y="1024"/>
                  <a:pt x="274" y="1024"/>
                  <a:pt x="306" y="1016"/>
                </a:cubicBezTo>
                <a:cubicBezTo>
                  <a:pt x="314" y="1005"/>
                  <a:pt x="312" y="1009"/>
                  <a:pt x="315" y="995"/>
                </a:cubicBezTo>
                <a:cubicBezTo>
                  <a:pt x="317" y="985"/>
                  <a:pt x="311" y="966"/>
                  <a:pt x="321" y="965"/>
                </a:cubicBezTo>
                <a:cubicBezTo>
                  <a:pt x="333" y="964"/>
                  <a:pt x="345" y="963"/>
                  <a:pt x="357" y="962"/>
                </a:cubicBezTo>
                <a:cubicBezTo>
                  <a:pt x="379" y="932"/>
                  <a:pt x="420" y="925"/>
                  <a:pt x="453" y="914"/>
                </a:cubicBezTo>
                <a:cubicBezTo>
                  <a:pt x="465" y="895"/>
                  <a:pt x="464" y="870"/>
                  <a:pt x="486" y="863"/>
                </a:cubicBezTo>
                <a:cubicBezTo>
                  <a:pt x="498" y="826"/>
                  <a:pt x="499" y="834"/>
                  <a:pt x="489" y="803"/>
                </a:cubicBezTo>
                <a:cubicBezTo>
                  <a:pt x="496" y="775"/>
                  <a:pt x="501" y="752"/>
                  <a:pt x="501" y="752"/>
                </a:cubicBezTo>
                <a:cubicBezTo>
                  <a:pt x="503" y="746"/>
                  <a:pt x="493" y="738"/>
                  <a:pt x="498" y="734"/>
                </a:cubicBezTo>
                <a:cubicBezTo>
                  <a:pt x="501" y="746"/>
                  <a:pt x="498" y="754"/>
                  <a:pt x="507" y="728"/>
                </a:cubicBezTo>
                <a:cubicBezTo>
                  <a:pt x="496" y="725"/>
                  <a:pt x="491" y="709"/>
                  <a:pt x="486" y="695"/>
                </a:cubicBezTo>
                <a:cubicBezTo>
                  <a:pt x="481" y="681"/>
                  <a:pt x="482" y="662"/>
                  <a:pt x="477" y="644"/>
                </a:cubicBezTo>
                <a:cubicBezTo>
                  <a:pt x="487" y="621"/>
                  <a:pt x="443" y="607"/>
                  <a:pt x="456" y="587"/>
                </a:cubicBezTo>
                <a:cubicBezTo>
                  <a:pt x="454" y="560"/>
                  <a:pt x="440" y="549"/>
                  <a:pt x="411" y="539"/>
                </a:cubicBezTo>
                <a:cubicBezTo>
                  <a:pt x="404" y="516"/>
                  <a:pt x="381" y="515"/>
                  <a:pt x="357" y="509"/>
                </a:cubicBezTo>
                <a:cubicBezTo>
                  <a:pt x="349" y="498"/>
                  <a:pt x="355" y="493"/>
                  <a:pt x="348" y="482"/>
                </a:cubicBezTo>
                <a:cubicBezTo>
                  <a:pt x="343" y="474"/>
                  <a:pt x="323" y="460"/>
                  <a:pt x="318" y="452"/>
                </a:cubicBezTo>
                <a:cubicBezTo>
                  <a:pt x="315" y="443"/>
                  <a:pt x="303" y="446"/>
                  <a:pt x="300" y="437"/>
                </a:cubicBezTo>
                <a:cubicBezTo>
                  <a:pt x="297" y="428"/>
                  <a:pt x="306" y="410"/>
                  <a:pt x="300" y="398"/>
                </a:cubicBezTo>
                <a:cubicBezTo>
                  <a:pt x="291" y="382"/>
                  <a:pt x="270" y="377"/>
                  <a:pt x="261" y="365"/>
                </a:cubicBezTo>
                <a:cubicBezTo>
                  <a:pt x="252" y="353"/>
                  <a:pt x="250" y="343"/>
                  <a:pt x="249" y="326"/>
                </a:cubicBezTo>
                <a:cubicBezTo>
                  <a:pt x="251" y="305"/>
                  <a:pt x="249" y="283"/>
                  <a:pt x="255" y="263"/>
                </a:cubicBezTo>
                <a:cubicBezTo>
                  <a:pt x="259" y="249"/>
                  <a:pt x="274" y="261"/>
                  <a:pt x="285" y="251"/>
                </a:cubicBezTo>
                <a:cubicBezTo>
                  <a:pt x="296" y="241"/>
                  <a:pt x="310" y="216"/>
                  <a:pt x="321" y="203"/>
                </a:cubicBezTo>
                <a:cubicBezTo>
                  <a:pt x="330" y="190"/>
                  <a:pt x="343" y="184"/>
                  <a:pt x="354" y="173"/>
                </a:cubicBezTo>
                <a:cubicBezTo>
                  <a:pt x="358" y="161"/>
                  <a:pt x="363" y="156"/>
                  <a:pt x="375" y="152"/>
                </a:cubicBezTo>
                <a:cubicBezTo>
                  <a:pt x="379" y="147"/>
                  <a:pt x="410" y="144"/>
                  <a:pt x="399" y="137"/>
                </a:cubicBezTo>
                <a:cubicBezTo>
                  <a:pt x="398" y="135"/>
                  <a:pt x="383" y="142"/>
                  <a:pt x="369" y="137"/>
                </a:cubicBezTo>
                <a:cubicBezTo>
                  <a:pt x="355" y="132"/>
                  <a:pt x="322" y="116"/>
                  <a:pt x="312" y="107"/>
                </a:cubicBezTo>
                <a:cubicBezTo>
                  <a:pt x="319" y="97"/>
                  <a:pt x="301" y="90"/>
                  <a:pt x="309" y="80"/>
                </a:cubicBezTo>
                <a:cubicBezTo>
                  <a:pt x="314" y="64"/>
                  <a:pt x="332" y="56"/>
                  <a:pt x="312" y="44"/>
                </a:cubicBezTo>
                <a:cubicBezTo>
                  <a:pt x="306" y="40"/>
                  <a:pt x="276" y="50"/>
                  <a:pt x="276" y="50"/>
                </a:cubicBezTo>
                <a:cubicBezTo>
                  <a:pt x="263" y="31"/>
                  <a:pt x="249" y="14"/>
                  <a:pt x="228" y="11"/>
                </a:cubicBezTo>
                <a:cubicBezTo>
                  <a:pt x="207" y="0"/>
                  <a:pt x="197" y="17"/>
                  <a:pt x="174" y="23"/>
                </a:cubicBezTo>
                <a:cubicBezTo>
                  <a:pt x="171" y="37"/>
                  <a:pt x="170" y="42"/>
                  <a:pt x="156" y="47"/>
                </a:cubicBezTo>
                <a:cubicBezTo>
                  <a:pt x="144" y="65"/>
                  <a:pt x="138" y="56"/>
                  <a:pt x="114" y="53"/>
                </a:cubicBezTo>
                <a:cubicBezTo>
                  <a:pt x="99" y="54"/>
                  <a:pt x="73" y="64"/>
                  <a:pt x="60" y="65"/>
                </a:cubicBezTo>
                <a:cubicBezTo>
                  <a:pt x="47" y="66"/>
                  <a:pt x="46" y="56"/>
                  <a:pt x="36" y="56"/>
                </a:cubicBezTo>
                <a:cubicBezTo>
                  <a:pt x="30" y="58"/>
                  <a:pt x="0" y="56"/>
                  <a:pt x="0" y="62"/>
                </a:cubicBezTo>
                <a:cubicBezTo>
                  <a:pt x="3" y="101"/>
                  <a:pt x="17" y="107"/>
                  <a:pt x="45" y="128"/>
                </a:cubicBezTo>
                <a:cubicBezTo>
                  <a:pt x="56" y="150"/>
                  <a:pt x="63" y="180"/>
                  <a:pt x="84" y="194"/>
                </a:cubicBezTo>
                <a:cubicBezTo>
                  <a:pt x="72" y="200"/>
                  <a:pt x="121" y="194"/>
                  <a:pt x="132" y="197"/>
                </a:cubicBezTo>
                <a:cubicBezTo>
                  <a:pt x="138" y="199"/>
                  <a:pt x="150" y="203"/>
                  <a:pt x="150" y="203"/>
                </a:cubicBezTo>
                <a:cubicBezTo>
                  <a:pt x="161" y="214"/>
                  <a:pt x="184" y="219"/>
                  <a:pt x="189" y="233"/>
                </a:cubicBezTo>
                <a:cubicBezTo>
                  <a:pt x="185" y="298"/>
                  <a:pt x="182" y="279"/>
                  <a:pt x="141" y="293"/>
                </a:cubicBezTo>
                <a:cubicBezTo>
                  <a:pt x="136" y="309"/>
                  <a:pt x="141" y="311"/>
                  <a:pt x="150" y="323"/>
                </a:cubicBezTo>
                <a:cubicBezTo>
                  <a:pt x="155" y="330"/>
                  <a:pt x="164" y="352"/>
                  <a:pt x="171" y="359"/>
                </a:cubicBezTo>
                <a:cubicBezTo>
                  <a:pt x="176" y="366"/>
                  <a:pt x="189" y="353"/>
                  <a:pt x="198" y="359"/>
                </a:cubicBezTo>
                <a:cubicBezTo>
                  <a:pt x="207" y="365"/>
                  <a:pt x="213" y="380"/>
                  <a:pt x="225" y="395"/>
                </a:cubicBezTo>
                <a:cubicBezTo>
                  <a:pt x="237" y="414"/>
                  <a:pt x="255" y="432"/>
                  <a:pt x="270" y="449"/>
                </a:cubicBezTo>
                <a:cubicBezTo>
                  <a:pt x="279" y="459"/>
                  <a:pt x="294" y="482"/>
                  <a:pt x="294" y="482"/>
                </a:cubicBezTo>
                <a:cubicBezTo>
                  <a:pt x="300" y="499"/>
                  <a:pt x="312" y="521"/>
                  <a:pt x="330" y="527"/>
                </a:cubicBezTo>
                <a:cubicBezTo>
                  <a:pt x="353" y="550"/>
                  <a:pt x="343" y="538"/>
                  <a:pt x="360" y="563"/>
                </a:cubicBezTo>
                <a:cubicBezTo>
                  <a:pt x="362" y="566"/>
                  <a:pt x="366" y="572"/>
                  <a:pt x="366" y="572"/>
                </a:cubicBezTo>
                <a:cubicBezTo>
                  <a:pt x="367" y="581"/>
                  <a:pt x="384" y="602"/>
                  <a:pt x="384" y="620"/>
                </a:cubicBezTo>
                <a:cubicBezTo>
                  <a:pt x="384" y="638"/>
                  <a:pt x="370" y="661"/>
                  <a:pt x="369" y="680"/>
                </a:cubicBezTo>
                <a:cubicBezTo>
                  <a:pt x="368" y="699"/>
                  <a:pt x="376" y="719"/>
                  <a:pt x="378" y="737"/>
                </a:cubicBezTo>
                <a:cubicBezTo>
                  <a:pt x="380" y="758"/>
                  <a:pt x="374" y="771"/>
                  <a:pt x="381" y="791"/>
                </a:cubicBezTo>
                <a:cubicBezTo>
                  <a:pt x="380" y="803"/>
                  <a:pt x="367" y="813"/>
                  <a:pt x="363" y="824"/>
                </a:cubicBezTo>
                <a:cubicBezTo>
                  <a:pt x="361" y="830"/>
                  <a:pt x="336" y="834"/>
                  <a:pt x="330" y="836"/>
                </a:cubicBezTo>
                <a:cubicBezTo>
                  <a:pt x="322" y="838"/>
                  <a:pt x="306" y="842"/>
                  <a:pt x="306" y="842"/>
                </a:cubicBezTo>
                <a:cubicBezTo>
                  <a:pt x="303" y="844"/>
                  <a:pt x="300" y="847"/>
                  <a:pt x="297" y="848"/>
                </a:cubicBezTo>
                <a:cubicBezTo>
                  <a:pt x="291" y="850"/>
                  <a:pt x="284" y="848"/>
                  <a:pt x="279" y="851"/>
                </a:cubicBezTo>
                <a:cubicBezTo>
                  <a:pt x="228" y="876"/>
                  <a:pt x="299" y="868"/>
                  <a:pt x="258" y="875"/>
                </a:cubicBezTo>
                <a:cubicBezTo>
                  <a:pt x="245" y="894"/>
                  <a:pt x="259" y="886"/>
                  <a:pt x="273" y="887"/>
                </a:cubicBezTo>
                <a:cubicBezTo>
                  <a:pt x="274" y="894"/>
                  <a:pt x="288" y="918"/>
                  <a:pt x="279" y="923"/>
                </a:cubicBezTo>
                <a:cubicBezTo>
                  <a:pt x="270" y="928"/>
                  <a:pt x="239" y="914"/>
                  <a:pt x="219" y="920"/>
                </a:cubicBezTo>
                <a:cubicBezTo>
                  <a:pt x="203" y="936"/>
                  <a:pt x="178" y="952"/>
                  <a:pt x="156" y="959"/>
                </a:cubicBezTo>
                <a:cubicBezTo>
                  <a:pt x="162" y="963"/>
                  <a:pt x="170" y="962"/>
                  <a:pt x="174" y="968"/>
                </a:cubicBezTo>
                <a:cubicBezTo>
                  <a:pt x="185" y="984"/>
                  <a:pt x="170" y="983"/>
                  <a:pt x="180" y="983"/>
                </a:cubicBezTo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Freeform 9"/>
          <p:cNvSpPr/>
          <p:nvPr/>
        </p:nvSpPr>
        <p:spPr>
          <a:xfrm>
            <a:off x="3276720" y="1752480"/>
            <a:ext cx="838080" cy="1111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539" h="652">
                <a:moveTo>
                  <a:pt x="516" y="610"/>
                </a:moveTo>
                <a:cubicBezTo>
                  <a:pt x="511" y="595"/>
                  <a:pt x="508" y="580"/>
                  <a:pt x="525" y="574"/>
                </a:cubicBezTo>
                <a:cubicBezTo>
                  <a:pt x="533" y="562"/>
                  <a:pt x="539" y="558"/>
                  <a:pt x="528" y="538"/>
                </a:cubicBezTo>
                <a:cubicBezTo>
                  <a:pt x="525" y="532"/>
                  <a:pt x="510" y="526"/>
                  <a:pt x="510" y="526"/>
                </a:cubicBezTo>
                <a:cubicBezTo>
                  <a:pt x="507" y="517"/>
                  <a:pt x="513" y="499"/>
                  <a:pt x="513" y="499"/>
                </a:cubicBezTo>
                <a:cubicBezTo>
                  <a:pt x="506" y="489"/>
                  <a:pt x="497" y="476"/>
                  <a:pt x="486" y="472"/>
                </a:cubicBezTo>
                <a:cubicBezTo>
                  <a:pt x="483" y="469"/>
                  <a:pt x="481" y="465"/>
                  <a:pt x="477" y="463"/>
                </a:cubicBezTo>
                <a:cubicBezTo>
                  <a:pt x="474" y="461"/>
                  <a:pt x="470" y="462"/>
                  <a:pt x="468" y="460"/>
                </a:cubicBezTo>
                <a:cubicBezTo>
                  <a:pt x="454" y="449"/>
                  <a:pt x="469" y="454"/>
                  <a:pt x="459" y="442"/>
                </a:cubicBezTo>
                <a:cubicBezTo>
                  <a:pt x="452" y="433"/>
                  <a:pt x="440" y="423"/>
                  <a:pt x="432" y="415"/>
                </a:cubicBezTo>
                <a:cubicBezTo>
                  <a:pt x="427" y="399"/>
                  <a:pt x="405" y="360"/>
                  <a:pt x="393" y="352"/>
                </a:cubicBezTo>
                <a:cubicBezTo>
                  <a:pt x="387" y="348"/>
                  <a:pt x="381" y="344"/>
                  <a:pt x="375" y="340"/>
                </a:cubicBezTo>
                <a:cubicBezTo>
                  <a:pt x="372" y="338"/>
                  <a:pt x="366" y="334"/>
                  <a:pt x="366" y="334"/>
                </a:cubicBezTo>
                <a:cubicBezTo>
                  <a:pt x="362" y="329"/>
                  <a:pt x="354" y="328"/>
                  <a:pt x="351" y="322"/>
                </a:cubicBezTo>
                <a:cubicBezTo>
                  <a:pt x="342" y="306"/>
                  <a:pt x="357" y="302"/>
                  <a:pt x="336" y="295"/>
                </a:cubicBezTo>
                <a:cubicBezTo>
                  <a:pt x="320" y="290"/>
                  <a:pt x="302" y="289"/>
                  <a:pt x="285" y="286"/>
                </a:cubicBezTo>
                <a:cubicBezTo>
                  <a:pt x="276" y="277"/>
                  <a:pt x="268" y="277"/>
                  <a:pt x="264" y="265"/>
                </a:cubicBezTo>
                <a:cubicBezTo>
                  <a:pt x="278" y="222"/>
                  <a:pt x="301" y="242"/>
                  <a:pt x="333" y="220"/>
                </a:cubicBezTo>
                <a:cubicBezTo>
                  <a:pt x="345" y="185"/>
                  <a:pt x="344" y="198"/>
                  <a:pt x="318" y="181"/>
                </a:cubicBezTo>
                <a:cubicBezTo>
                  <a:pt x="313" y="171"/>
                  <a:pt x="316" y="140"/>
                  <a:pt x="303" y="133"/>
                </a:cubicBezTo>
                <a:cubicBezTo>
                  <a:pt x="290" y="126"/>
                  <a:pt x="254" y="144"/>
                  <a:pt x="237" y="139"/>
                </a:cubicBezTo>
                <a:cubicBezTo>
                  <a:pt x="207" y="129"/>
                  <a:pt x="223" y="122"/>
                  <a:pt x="201" y="100"/>
                </a:cubicBezTo>
                <a:cubicBezTo>
                  <a:pt x="192" y="72"/>
                  <a:pt x="169" y="39"/>
                  <a:pt x="144" y="22"/>
                </a:cubicBezTo>
                <a:cubicBezTo>
                  <a:pt x="117" y="25"/>
                  <a:pt x="115" y="0"/>
                  <a:pt x="108" y="22"/>
                </a:cubicBezTo>
                <a:cubicBezTo>
                  <a:pt x="109" y="37"/>
                  <a:pt x="117" y="89"/>
                  <a:pt x="111" y="106"/>
                </a:cubicBezTo>
                <a:cubicBezTo>
                  <a:pt x="97" y="104"/>
                  <a:pt x="85" y="100"/>
                  <a:pt x="72" y="97"/>
                </a:cubicBezTo>
                <a:cubicBezTo>
                  <a:pt x="61" y="99"/>
                  <a:pt x="51" y="99"/>
                  <a:pt x="42" y="106"/>
                </a:cubicBezTo>
                <a:cubicBezTo>
                  <a:pt x="33" y="113"/>
                  <a:pt x="23" y="131"/>
                  <a:pt x="18" y="139"/>
                </a:cubicBezTo>
                <a:cubicBezTo>
                  <a:pt x="16" y="145"/>
                  <a:pt x="16" y="152"/>
                  <a:pt x="12" y="157"/>
                </a:cubicBezTo>
                <a:cubicBezTo>
                  <a:pt x="8" y="163"/>
                  <a:pt x="0" y="175"/>
                  <a:pt x="0" y="175"/>
                </a:cubicBezTo>
                <a:cubicBezTo>
                  <a:pt x="2" y="180"/>
                  <a:pt x="33" y="183"/>
                  <a:pt x="39" y="193"/>
                </a:cubicBezTo>
                <a:cubicBezTo>
                  <a:pt x="45" y="203"/>
                  <a:pt x="31" y="228"/>
                  <a:pt x="36" y="235"/>
                </a:cubicBezTo>
                <a:cubicBezTo>
                  <a:pt x="37" y="237"/>
                  <a:pt x="65" y="237"/>
                  <a:pt x="72" y="238"/>
                </a:cubicBezTo>
                <a:cubicBezTo>
                  <a:pt x="93" y="252"/>
                  <a:pt x="79" y="269"/>
                  <a:pt x="75" y="295"/>
                </a:cubicBezTo>
                <a:cubicBezTo>
                  <a:pt x="74" y="301"/>
                  <a:pt x="69" y="313"/>
                  <a:pt x="69" y="313"/>
                </a:cubicBezTo>
                <a:cubicBezTo>
                  <a:pt x="68" y="327"/>
                  <a:pt x="69" y="341"/>
                  <a:pt x="66" y="355"/>
                </a:cubicBezTo>
                <a:cubicBezTo>
                  <a:pt x="65" y="359"/>
                  <a:pt x="58" y="360"/>
                  <a:pt x="57" y="364"/>
                </a:cubicBezTo>
                <a:cubicBezTo>
                  <a:pt x="55" y="376"/>
                  <a:pt x="90" y="382"/>
                  <a:pt x="90" y="382"/>
                </a:cubicBezTo>
                <a:cubicBezTo>
                  <a:pt x="105" y="374"/>
                  <a:pt x="109" y="361"/>
                  <a:pt x="123" y="352"/>
                </a:cubicBezTo>
                <a:cubicBezTo>
                  <a:pt x="136" y="348"/>
                  <a:pt x="146" y="343"/>
                  <a:pt x="159" y="343"/>
                </a:cubicBezTo>
                <a:cubicBezTo>
                  <a:pt x="172" y="343"/>
                  <a:pt x="189" y="357"/>
                  <a:pt x="201" y="355"/>
                </a:cubicBezTo>
                <a:cubicBezTo>
                  <a:pt x="210" y="341"/>
                  <a:pt x="221" y="340"/>
                  <a:pt x="234" y="331"/>
                </a:cubicBezTo>
                <a:cubicBezTo>
                  <a:pt x="247" y="332"/>
                  <a:pt x="261" y="329"/>
                  <a:pt x="273" y="334"/>
                </a:cubicBezTo>
                <a:cubicBezTo>
                  <a:pt x="283" y="338"/>
                  <a:pt x="285" y="352"/>
                  <a:pt x="294" y="358"/>
                </a:cubicBezTo>
                <a:cubicBezTo>
                  <a:pt x="295" y="361"/>
                  <a:pt x="294" y="365"/>
                  <a:pt x="297" y="367"/>
                </a:cubicBezTo>
                <a:cubicBezTo>
                  <a:pt x="302" y="371"/>
                  <a:pt x="315" y="373"/>
                  <a:pt x="315" y="373"/>
                </a:cubicBezTo>
                <a:cubicBezTo>
                  <a:pt x="318" y="383"/>
                  <a:pt x="324" y="403"/>
                  <a:pt x="324" y="403"/>
                </a:cubicBezTo>
                <a:cubicBezTo>
                  <a:pt x="323" y="417"/>
                  <a:pt x="320" y="431"/>
                  <a:pt x="321" y="445"/>
                </a:cubicBezTo>
                <a:cubicBezTo>
                  <a:pt x="322" y="467"/>
                  <a:pt x="377" y="506"/>
                  <a:pt x="390" y="526"/>
                </a:cubicBezTo>
                <a:cubicBezTo>
                  <a:pt x="394" y="564"/>
                  <a:pt x="398" y="555"/>
                  <a:pt x="387" y="589"/>
                </a:cubicBezTo>
                <a:cubicBezTo>
                  <a:pt x="386" y="597"/>
                  <a:pt x="366" y="605"/>
                  <a:pt x="363" y="613"/>
                </a:cubicBezTo>
                <a:cubicBezTo>
                  <a:pt x="361" y="620"/>
                  <a:pt x="351" y="631"/>
                  <a:pt x="351" y="631"/>
                </a:cubicBezTo>
                <a:cubicBezTo>
                  <a:pt x="394" y="635"/>
                  <a:pt x="372" y="631"/>
                  <a:pt x="399" y="646"/>
                </a:cubicBezTo>
                <a:cubicBezTo>
                  <a:pt x="405" y="649"/>
                  <a:pt x="417" y="652"/>
                  <a:pt x="417" y="652"/>
                </a:cubicBezTo>
                <a:cubicBezTo>
                  <a:pt x="429" y="640"/>
                  <a:pt x="426" y="629"/>
                  <a:pt x="435" y="616"/>
                </a:cubicBezTo>
                <a:cubicBezTo>
                  <a:pt x="441" y="610"/>
                  <a:pt x="441" y="614"/>
                  <a:pt x="453" y="613"/>
                </a:cubicBezTo>
                <a:cubicBezTo>
                  <a:pt x="465" y="612"/>
                  <a:pt x="500" y="613"/>
                  <a:pt x="510" y="610"/>
                </a:cubicBezTo>
                <a:cubicBezTo>
                  <a:pt x="512" y="604"/>
                  <a:pt x="516" y="592"/>
                  <a:pt x="516" y="592"/>
                </a:cubicBezTo>
              </a:path>
            </a:pathLst>
          </a:custGeom>
          <a:solidFill>
            <a:srgbClr val="00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2971800" y="2057400"/>
            <a:ext cx="990720" cy="168768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680"/>
              <a:gd name="textAreaBottom" fmla="*/ 1688040 h 168768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ff66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Freeform 13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Freeform 14"/>
          <p:cNvSpPr/>
          <p:nvPr/>
        </p:nvSpPr>
        <p:spPr>
          <a:xfrm>
            <a:off x="3505320" y="274320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76" h="306">
                <a:moveTo>
                  <a:pt x="366" y="0"/>
                </a:moveTo>
                <a:cubicBezTo>
                  <a:pt x="329" y="4"/>
                  <a:pt x="347" y="6"/>
                  <a:pt x="321" y="15"/>
                </a:cubicBezTo>
                <a:cubicBezTo>
                  <a:pt x="310" y="12"/>
                  <a:pt x="302" y="7"/>
                  <a:pt x="291" y="3"/>
                </a:cubicBezTo>
                <a:cubicBezTo>
                  <a:pt x="269" y="6"/>
                  <a:pt x="275" y="13"/>
                  <a:pt x="264" y="30"/>
                </a:cubicBezTo>
                <a:cubicBezTo>
                  <a:pt x="260" y="61"/>
                  <a:pt x="229" y="43"/>
                  <a:pt x="213" y="30"/>
                </a:cubicBezTo>
                <a:cubicBezTo>
                  <a:pt x="211" y="28"/>
                  <a:pt x="228" y="31"/>
                  <a:pt x="225" y="30"/>
                </a:cubicBezTo>
                <a:cubicBezTo>
                  <a:pt x="199" y="4"/>
                  <a:pt x="160" y="13"/>
                  <a:pt x="126" y="12"/>
                </a:cubicBezTo>
                <a:cubicBezTo>
                  <a:pt x="104" y="13"/>
                  <a:pt x="82" y="12"/>
                  <a:pt x="60" y="15"/>
                </a:cubicBezTo>
                <a:cubicBezTo>
                  <a:pt x="50" y="17"/>
                  <a:pt x="40" y="44"/>
                  <a:pt x="33" y="51"/>
                </a:cubicBezTo>
                <a:cubicBezTo>
                  <a:pt x="25" y="63"/>
                  <a:pt x="11" y="66"/>
                  <a:pt x="6" y="75"/>
                </a:cubicBezTo>
                <a:cubicBezTo>
                  <a:pt x="1" y="84"/>
                  <a:pt x="0" y="93"/>
                  <a:pt x="3" y="105"/>
                </a:cubicBezTo>
                <a:cubicBezTo>
                  <a:pt x="6" y="132"/>
                  <a:pt x="4" y="134"/>
                  <a:pt x="24" y="147"/>
                </a:cubicBezTo>
                <a:cubicBezTo>
                  <a:pt x="32" y="170"/>
                  <a:pt x="31" y="183"/>
                  <a:pt x="45" y="204"/>
                </a:cubicBezTo>
                <a:cubicBezTo>
                  <a:pt x="49" y="209"/>
                  <a:pt x="51" y="222"/>
                  <a:pt x="51" y="222"/>
                </a:cubicBezTo>
                <a:cubicBezTo>
                  <a:pt x="54" y="251"/>
                  <a:pt x="56" y="268"/>
                  <a:pt x="81" y="285"/>
                </a:cubicBezTo>
                <a:cubicBezTo>
                  <a:pt x="95" y="306"/>
                  <a:pt x="88" y="283"/>
                  <a:pt x="117" y="285"/>
                </a:cubicBezTo>
                <a:cubicBezTo>
                  <a:pt x="136" y="281"/>
                  <a:pt x="170" y="294"/>
                  <a:pt x="189" y="288"/>
                </a:cubicBezTo>
                <a:cubicBezTo>
                  <a:pt x="204" y="286"/>
                  <a:pt x="180" y="268"/>
                  <a:pt x="186" y="264"/>
                </a:cubicBezTo>
                <a:cubicBezTo>
                  <a:pt x="192" y="260"/>
                  <a:pt x="210" y="260"/>
                  <a:pt x="225" y="261"/>
                </a:cubicBezTo>
                <a:cubicBezTo>
                  <a:pt x="240" y="262"/>
                  <a:pt x="272" y="275"/>
                  <a:pt x="276" y="267"/>
                </a:cubicBezTo>
                <a:cubicBezTo>
                  <a:pt x="270" y="242"/>
                  <a:pt x="215" y="216"/>
                  <a:pt x="252" y="210"/>
                </a:cubicBezTo>
                <a:cubicBezTo>
                  <a:pt x="263" y="194"/>
                  <a:pt x="283" y="195"/>
                  <a:pt x="303" y="192"/>
                </a:cubicBezTo>
                <a:cubicBezTo>
                  <a:pt x="321" y="180"/>
                  <a:pt x="342" y="170"/>
                  <a:pt x="363" y="165"/>
                </a:cubicBezTo>
                <a:cubicBezTo>
                  <a:pt x="376" y="145"/>
                  <a:pt x="369" y="161"/>
                  <a:pt x="366" y="117"/>
                </a:cubicBezTo>
                <a:cubicBezTo>
                  <a:pt x="367" y="101"/>
                  <a:pt x="374" y="97"/>
                  <a:pt x="372" y="84"/>
                </a:cubicBezTo>
                <a:cubicBezTo>
                  <a:pt x="370" y="71"/>
                  <a:pt x="352" y="48"/>
                  <a:pt x="351" y="36"/>
                </a:cubicBezTo>
                <a:cubicBezTo>
                  <a:pt x="355" y="22"/>
                  <a:pt x="362" y="22"/>
                  <a:pt x="366" y="9"/>
                </a:cubicBezTo>
                <a:cubicBezTo>
                  <a:pt x="354" y="5"/>
                  <a:pt x="354" y="8"/>
                  <a:pt x="3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Freeform 16"/>
          <p:cNvSpPr/>
          <p:nvPr/>
        </p:nvSpPr>
        <p:spPr>
          <a:xfrm>
            <a:off x="3276720" y="358128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Freeform 17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Freeform 18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Freeform 19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Freeform 20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Freeform 24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Freeform 26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Freeform 28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Freeform 29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Freeform 30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Freeform 31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Freeform 32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Freeform 33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Freeform 35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Freeform 36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Freeform 38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39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reeform 41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Freeform 44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Freeform 45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Freeform 46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Freeform 49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Freeform 50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Freeform 51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Freeform 52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Freeform 54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Freeform 55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56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Freeform 57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Freeform 58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Freeform 59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Freeform 60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Freeform 61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Freeform 62"/>
          <p:cNvSpPr/>
          <p:nvPr/>
        </p:nvSpPr>
        <p:spPr>
          <a:xfrm>
            <a:off x="6248520" y="3048120"/>
            <a:ext cx="106200" cy="71280"/>
          </a:xfrm>
          <a:custGeom>
            <a:avLst/>
            <a:gdLst>
              <a:gd name="textAreaLeft" fmla="*/ 0 w 106200"/>
              <a:gd name="textAreaRight" fmla="*/ 106560 w 106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67" h="45">
                <a:moveTo>
                  <a:pt x="50" y="7"/>
                </a:moveTo>
                <a:cubicBezTo>
                  <a:pt x="43" y="8"/>
                  <a:pt x="42" y="0"/>
                  <a:pt x="36" y="3"/>
                </a:cubicBezTo>
                <a:cubicBezTo>
                  <a:pt x="32" y="5"/>
                  <a:pt x="25" y="17"/>
                  <a:pt x="22" y="21"/>
                </a:cubicBezTo>
                <a:cubicBezTo>
                  <a:pt x="18" y="26"/>
                  <a:pt x="9" y="25"/>
                  <a:pt x="4" y="29"/>
                </a:cubicBezTo>
                <a:cubicBezTo>
                  <a:pt x="2" y="38"/>
                  <a:pt x="0" y="42"/>
                  <a:pt x="10" y="45"/>
                </a:cubicBezTo>
                <a:cubicBezTo>
                  <a:pt x="24" y="44"/>
                  <a:pt x="33" y="43"/>
                  <a:pt x="46" y="39"/>
                </a:cubicBezTo>
                <a:cubicBezTo>
                  <a:pt x="50" y="38"/>
                  <a:pt x="58" y="35"/>
                  <a:pt x="58" y="35"/>
                </a:cubicBezTo>
                <a:cubicBezTo>
                  <a:pt x="62" y="29"/>
                  <a:pt x="67" y="21"/>
                  <a:pt x="62" y="13"/>
                </a:cubicBezTo>
                <a:cubicBezTo>
                  <a:pt x="59" y="9"/>
                  <a:pt x="44" y="13"/>
                  <a:pt x="5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Freeform 63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Freeform 65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Freeform 66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Freeform 67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Freeform 68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Freeform 69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reeform 70"/>
          <p:cNvSpPr/>
          <p:nvPr/>
        </p:nvSpPr>
        <p:spPr>
          <a:xfrm>
            <a:off x="6324480" y="28954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70" y="16"/>
                </a:moveTo>
                <a:cubicBezTo>
                  <a:pt x="66" y="0"/>
                  <a:pt x="15" y="12"/>
                  <a:pt x="8" y="12"/>
                </a:cubicBezTo>
                <a:cubicBezTo>
                  <a:pt x="0" y="18"/>
                  <a:pt x="31" y="32"/>
                  <a:pt x="38" y="42"/>
                </a:cubicBezTo>
                <a:cubicBezTo>
                  <a:pt x="45" y="52"/>
                  <a:pt x="44" y="62"/>
                  <a:pt x="48" y="72"/>
                </a:cubicBezTo>
                <a:cubicBezTo>
                  <a:pt x="55" y="82"/>
                  <a:pt x="47" y="96"/>
                  <a:pt x="60" y="100"/>
                </a:cubicBezTo>
                <a:cubicBezTo>
                  <a:pt x="66" y="106"/>
                  <a:pt x="71" y="107"/>
                  <a:pt x="78" y="112"/>
                </a:cubicBezTo>
                <a:cubicBezTo>
                  <a:pt x="83" y="120"/>
                  <a:pt x="95" y="120"/>
                  <a:pt x="104" y="122"/>
                </a:cubicBezTo>
                <a:cubicBezTo>
                  <a:pt x="110" y="113"/>
                  <a:pt x="100" y="105"/>
                  <a:pt x="94" y="96"/>
                </a:cubicBezTo>
                <a:cubicBezTo>
                  <a:pt x="92" y="86"/>
                  <a:pt x="90" y="77"/>
                  <a:pt x="88" y="66"/>
                </a:cubicBezTo>
                <a:cubicBezTo>
                  <a:pt x="90" y="59"/>
                  <a:pt x="86" y="57"/>
                  <a:pt x="88" y="50"/>
                </a:cubicBezTo>
                <a:cubicBezTo>
                  <a:pt x="81" y="30"/>
                  <a:pt x="102" y="58"/>
                  <a:pt x="90" y="36"/>
                </a:cubicBezTo>
                <a:cubicBezTo>
                  <a:pt x="81" y="20"/>
                  <a:pt x="83" y="13"/>
                  <a:pt x="64" y="8"/>
                </a:cubicBezTo>
                <a:cubicBezTo>
                  <a:pt x="47" y="10"/>
                  <a:pt x="52" y="6"/>
                  <a:pt x="46" y="12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reeform 71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Freeform 72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79"/>
          <p:cNvSpPr/>
          <p:nvPr/>
        </p:nvSpPr>
        <p:spPr>
          <a:xfrm>
            <a:off x="228600" y="1600200"/>
            <a:ext cx="457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80"/>
          <p:cNvSpPr/>
          <p:nvPr/>
        </p:nvSpPr>
        <p:spPr>
          <a:xfrm>
            <a:off x="228600" y="320040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1"/>
          <p:cNvSpPr/>
          <p:nvPr/>
        </p:nvSpPr>
        <p:spPr>
          <a:xfrm>
            <a:off x="228600" y="3581280"/>
            <a:ext cx="4572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82"/>
          <p:cNvSpPr/>
          <p:nvPr/>
        </p:nvSpPr>
        <p:spPr>
          <a:xfrm>
            <a:off x="228600" y="4495680"/>
            <a:ext cx="457200" cy="228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83"/>
          <p:cNvSpPr/>
          <p:nvPr/>
        </p:nvSpPr>
        <p:spPr>
          <a:xfrm>
            <a:off x="228600" y="4038480"/>
            <a:ext cx="457200" cy="228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84"/>
          <p:cNvSpPr/>
          <p:nvPr/>
        </p:nvSpPr>
        <p:spPr>
          <a:xfrm>
            <a:off x="228600" y="274320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85"/>
          <p:cNvSpPr/>
          <p:nvPr/>
        </p:nvSpPr>
        <p:spPr>
          <a:xfrm>
            <a:off x="228600" y="2362320"/>
            <a:ext cx="457200" cy="228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86"/>
          <p:cNvSpPr/>
          <p:nvPr/>
        </p:nvSpPr>
        <p:spPr>
          <a:xfrm>
            <a:off x="228600" y="1981080"/>
            <a:ext cx="457200" cy="228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88"/>
          <p:cNvSpPr/>
          <p:nvPr/>
        </p:nvSpPr>
        <p:spPr>
          <a:xfrm>
            <a:off x="685800" y="3505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ай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9"/>
          <p:cNvSpPr/>
          <p:nvPr/>
        </p:nvSpPr>
        <p:spPr>
          <a:xfrm>
            <a:off x="685800" y="3962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Филипп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90"/>
          <p:cNvSpPr/>
          <p:nvPr/>
        </p:nvSpPr>
        <p:spPr>
          <a:xfrm>
            <a:off x="762120" y="44197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Индонез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92"/>
          <p:cNvSpPr/>
          <p:nvPr/>
        </p:nvSpPr>
        <p:spPr>
          <a:xfrm>
            <a:off x="770040" y="3124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Б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93"/>
          <p:cNvSpPr/>
          <p:nvPr/>
        </p:nvSpPr>
        <p:spPr>
          <a:xfrm>
            <a:off x="762120" y="19051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Лао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94"/>
          <p:cNvSpPr/>
          <p:nvPr/>
        </p:nvSpPr>
        <p:spPr>
          <a:xfrm>
            <a:off x="762120" y="2666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мбод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96"/>
          <p:cNvSpPr/>
          <p:nvPr/>
        </p:nvSpPr>
        <p:spPr>
          <a:xfrm>
            <a:off x="692280" y="228600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Таилан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7"/>
          <p:cNvSpPr/>
          <p:nvPr/>
        </p:nvSpPr>
        <p:spPr>
          <a:xfrm>
            <a:off x="762120" y="1523880"/>
            <a:ext cx="14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ьетн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99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Line 102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Line 103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106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Line 107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108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Line 109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Line 110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11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112"/>
          <p:cNvSpPr/>
          <p:nvPr/>
        </p:nvSpPr>
        <p:spPr>
          <a:xfrm>
            <a:off x="3200400" y="6095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114"/>
          <p:cNvSpPr/>
          <p:nvPr/>
        </p:nvSpPr>
        <p:spPr>
          <a:xfrm>
            <a:off x="3886200" y="495288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Text Box 115"/>
          <p:cNvSpPr/>
          <p:nvPr/>
        </p:nvSpPr>
        <p:spPr>
          <a:xfrm>
            <a:off x="4082040" y="4952880"/>
            <a:ext cx="89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ДЖАКАР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116"/>
          <p:cNvSpPr/>
          <p:nvPr/>
        </p:nvSpPr>
        <p:spPr>
          <a:xfrm>
            <a:off x="3305880" y="274320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БАНГО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117"/>
          <p:cNvSpPr/>
          <p:nvPr/>
        </p:nvSpPr>
        <p:spPr>
          <a:xfrm>
            <a:off x="3200400" y="27432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118"/>
          <p:cNvSpPr/>
          <p:nvPr/>
        </p:nvSpPr>
        <p:spPr>
          <a:xfrm>
            <a:off x="3657600" y="4114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19"/>
          <p:cNvSpPr/>
          <p:nvPr/>
        </p:nvSpPr>
        <p:spPr>
          <a:xfrm>
            <a:off x="3759840" y="4127400"/>
            <a:ext cx="81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 u="sng">
                <a:solidFill>
                  <a:srgbClr val="ffffff"/>
                </a:solidFill>
                <a:uFillTx/>
                <a:latin typeface="Bookman Old Style"/>
              </a:rPr>
              <a:t>СИНГАПУР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20"/>
          <p:cNvSpPr/>
          <p:nvPr/>
        </p:nvSpPr>
        <p:spPr>
          <a:xfrm>
            <a:off x="3429000" y="396252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21"/>
          <p:cNvSpPr/>
          <p:nvPr/>
        </p:nvSpPr>
        <p:spPr>
          <a:xfrm>
            <a:off x="3533040" y="3886200"/>
            <a:ext cx="121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Bookman Old Style"/>
              </a:rPr>
              <a:t>КУАЛА-ЛУМПУ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12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ПОЛИТИКО-АДМИНИСТРАТИВНОЕ ДЕЛЕНИЕ ЮГО-ВОСТОЧНОЙ АЗ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123"/>
          <p:cNvSpPr/>
          <p:nvPr/>
        </p:nvSpPr>
        <p:spPr>
          <a:xfrm>
            <a:off x="228600" y="4876920"/>
            <a:ext cx="457200" cy="380880"/>
          </a:xfrm>
          <a:custGeom>
            <a:avLst/>
            <a:gdLst>
              <a:gd name="textAreaLeft" fmla="*/ 141120 w 457200"/>
              <a:gd name="textAreaRight" fmla="*/ 316080 w 45720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457200" h="381000">
                <a:moveTo>
                  <a:pt x="0" y="145529"/>
                </a:moveTo>
                <a:lnTo>
                  <a:pt x="174636" y="145530"/>
                </a:lnTo>
                <a:lnTo>
                  <a:pt x="228600" y="0"/>
                </a:lnTo>
                <a:lnTo>
                  <a:pt x="282564" y="145530"/>
                </a:lnTo>
                <a:lnTo>
                  <a:pt x="457200" y="145529"/>
                </a:lnTo>
                <a:lnTo>
                  <a:pt x="315916" y="235470"/>
                </a:lnTo>
                <a:lnTo>
                  <a:pt x="369883" y="380999"/>
                </a:lnTo>
                <a:lnTo>
                  <a:pt x="228600" y="291056"/>
                </a:lnTo>
                <a:lnTo>
                  <a:pt x="87317" y="380999"/>
                </a:lnTo>
                <a:lnTo>
                  <a:pt x="141284" y="2354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124"/>
          <p:cNvSpPr/>
          <p:nvPr/>
        </p:nvSpPr>
        <p:spPr>
          <a:xfrm>
            <a:off x="762120" y="4876920"/>
            <a:ext cx="13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тол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Freeform 129"/>
          <p:cNvSpPr/>
          <p:nvPr/>
        </p:nvSpPr>
        <p:spPr>
          <a:xfrm>
            <a:off x="2362320" y="1066680"/>
            <a:ext cx="1066680" cy="22100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Freeform 130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AutoShape 135"/>
          <p:cNvSpPr/>
          <p:nvPr/>
        </p:nvSpPr>
        <p:spPr>
          <a:xfrm>
            <a:off x="5867280" y="2514600"/>
            <a:ext cx="152640" cy="152280"/>
          </a:xfrm>
          <a:custGeom>
            <a:avLst/>
            <a:gdLst>
              <a:gd name="textAreaLeft" fmla="*/ 47160 w 152640"/>
              <a:gd name="textAreaRight" fmla="*/ 105480 w 15264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137"/>
          <p:cNvSpPr/>
          <p:nvPr/>
        </p:nvSpPr>
        <p:spPr>
          <a:xfrm>
            <a:off x="5943600" y="2438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МАНИ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utoShape 139"/>
          <p:cNvSpPr/>
          <p:nvPr/>
        </p:nvSpPr>
        <p:spPr>
          <a:xfrm>
            <a:off x="3886200" y="182880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140"/>
          <p:cNvSpPr/>
          <p:nvPr/>
        </p:nvSpPr>
        <p:spPr>
          <a:xfrm>
            <a:off x="3979080" y="175248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Bookman Old Style"/>
              </a:rPr>
              <a:t>ХА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AutoShape 143"/>
          <p:cNvSpPr/>
          <p:nvPr/>
        </p:nvSpPr>
        <p:spPr>
          <a:xfrm>
            <a:off x="3581280" y="2895480"/>
            <a:ext cx="152640" cy="152640"/>
          </a:xfrm>
          <a:custGeom>
            <a:avLst/>
            <a:gdLst>
              <a:gd name="textAreaLeft" fmla="*/ 47160 w 152640"/>
              <a:gd name="textAreaRight" fmla="*/ 105480 w 152640"/>
              <a:gd name="textAreaTop" fmla="*/ 58320 h 152640"/>
              <a:gd name="textAreaBottom" fmla="*/ 116640 h 15264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144"/>
          <p:cNvSpPr/>
          <p:nvPr/>
        </p:nvSpPr>
        <p:spPr>
          <a:xfrm>
            <a:off x="3615120" y="28954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Bookman Old Style"/>
              </a:rPr>
              <a:t>ПНОМПЕН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03"/>
          <p:cNvSpPr/>
          <p:nvPr/>
        </p:nvSpPr>
        <p:spPr>
          <a:xfrm>
            <a:off x="326160" y="617220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ДОЛЯ ЮГО-ВОСТОЧНОЙ АЗИИ В МИРОВОМ ТУРИСТИЧЕСКОМ БИЗНЕСЕ на 2010 год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-2514600" y="1523880"/>
          <a:ext cx="14325480" cy="845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14600" y="1523880"/>
                    <a:ext cx="14325480" cy="84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7"/>
          <p:cNvSpPr/>
          <p:nvPr/>
        </p:nvSpPr>
        <p:spPr>
          <a:xfrm>
            <a:off x="685800" y="5791320"/>
            <a:ext cx="457200" cy="228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410080" y="6248520"/>
            <a:ext cx="4572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124080" y="6248520"/>
            <a:ext cx="45720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124080" y="5791320"/>
            <a:ext cx="457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85800" y="624852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1175040" y="563868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Евро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1149120" y="60958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Амер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3592800" y="609588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Афр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5993280" y="60958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лижний Вос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16"/>
          <p:cNvSpPr/>
          <p:nvPr/>
        </p:nvSpPr>
        <p:spPr>
          <a:xfrm>
            <a:off x="3742920" y="5638680"/>
            <a:ext cx="34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Юго-Восточная А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НАИБОЛЕЕ ПОСЕЩАЕМЫЕ СТРАНЫ ЮГО-ВОСТОЧНОЙ АЗИ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Freeform 1028"/>
          <p:cNvSpPr/>
          <p:nvPr/>
        </p:nvSpPr>
        <p:spPr>
          <a:xfrm>
            <a:off x="3429000" y="1752480"/>
            <a:ext cx="838080" cy="1727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507" h="1088">
                <a:moveTo>
                  <a:pt x="162" y="962"/>
                </a:moveTo>
                <a:cubicBezTo>
                  <a:pt x="167" y="978"/>
                  <a:pt x="162" y="969"/>
                  <a:pt x="183" y="983"/>
                </a:cubicBezTo>
                <a:cubicBezTo>
                  <a:pt x="186" y="985"/>
                  <a:pt x="192" y="989"/>
                  <a:pt x="192" y="989"/>
                </a:cubicBezTo>
                <a:cubicBezTo>
                  <a:pt x="198" y="1006"/>
                  <a:pt x="184" y="1029"/>
                  <a:pt x="174" y="1043"/>
                </a:cubicBezTo>
                <a:cubicBezTo>
                  <a:pt x="175" y="1050"/>
                  <a:pt x="174" y="1058"/>
                  <a:pt x="177" y="1064"/>
                </a:cubicBezTo>
                <a:cubicBezTo>
                  <a:pt x="178" y="1067"/>
                  <a:pt x="184" y="1067"/>
                  <a:pt x="186" y="1070"/>
                </a:cubicBezTo>
                <a:cubicBezTo>
                  <a:pt x="189" y="1075"/>
                  <a:pt x="192" y="1088"/>
                  <a:pt x="192" y="1088"/>
                </a:cubicBezTo>
                <a:cubicBezTo>
                  <a:pt x="201" y="1086"/>
                  <a:pt x="215" y="1083"/>
                  <a:pt x="222" y="1079"/>
                </a:cubicBezTo>
                <a:cubicBezTo>
                  <a:pt x="236" y="1072"/>
                  <a:pt x="224" y="1047"/>
                  <a:pt x="240" y="1043"/>
                </a:cubicBezTo>
                <a:cubicBezTo>
                  <a:pt x="266" y="1024"/>
                  <a:pt x="274" y="1024"/>
                  <a:pt x="306" y="1016"/>
                </a:cubicBezTo>
                <a:cubicBezTo>
                  <a:pt x="314" y="1005"/>
                  <a:pt x="312" y="1009"/>
                  <a:pt x="315" y="995"/>
                </a:cubicBezTo>
                <a:cubicBezTo>
                  <a:pt x="317" y="985"/>
                  <a:pt x="311" y="966"/>
                  <a:pt x="321" y="965"/>
                </a:cubicBezTo>
                <a:cubicBezTo>
                  <a:pt x="333" y="964"/>
                  <a:pt x="345" y="963"/>
                  <a:pt x="357" y="962"/>
                </a:cubicBezTo>
                <a:cubicBezTo>
                  <a:pt x="379" y="932"/>
                  <a:pt x="420" y="925"/>
                  <a:pt x="453" y="914"/>
                </a:cubicBezTo>
                <a:cubicBezTo>
                  <a:pt x="465" y="895"/>
                  <a:pt x="464" y="870"/>
                  <a:pt x="486" y="863"/>
                </a:cubicBezTo>
                <a:cubicBezTo>
                  <a:pt x="498" y="826"/>
                  <a:pt x="499" y="834"/>
                  <a:pt x="489" y="803"/>
                </a:cubicBezTo>
                <a:cubicBezTo>
                  <a:pt x="496" y="775"/>
                  <a:pt x="501" y="752"/>
                  <a:pt x="501" y="752"/>
                </a:cubicBezTo>
                <a:cubicBezTo>
                  <a:pt x="503" y="746"/>
                  <a:pt x="493" y="738"/>
                  <a:pt x="498" y="734"/>
                </a:cubicBezTo>
                <a:cubicBezTo>
                  <a:pt x="501" y="746"/>
                  <a:pt x="498" y="754"/>
                  <a:pt x="507" y="728"/>
                </a:cubicBezTo>
                <a:cubicBezTo>
                  <a:pt x="496" y="725"/>
                  <a:pt x="491" y="709"/>
                  <a:pt x="486" y="695"/>
                </a:cubicBezTo>
                <a:cubicBezTo>
                  <a:pt x="481" y="681"/>
                  <a:pt x="482" y="662"/>
                  <a:pt x="477" y="644"/>
                </a:cubicBezTo>
                <a:cubicBezTo>
                  <a:pt x="487" y="621"/>
                  <a:pt x="443" y="607"/>
                  <a:pt x="456" y="587"/>
                </a:cubicBezTo>
                <a:cubicBezTo>
                  <a:pt x="454" y="560"/>
                  <a:pt x="440" y="549"/>
                  <a:pt x="411" y="539"/>
                </a:cubicBezTo>
                <a:cubicBezTo>
                  <a:pt x="404" y="516"/>
                  <a:pt x="381" y="515"/>
                  <a:pt x="357" y="509"/>
                </a:cubicBezTo>
                <a:cubicBezTo>
                  <a:pt x="349" y="498"/>
                  <a:pt x="355" y="493"/>
                  <a:pt x="348" y="482"/>
                </a:cubicBezTo>
                <a:cubicBezTo>
                  <a:pt x="343" y="474"/>
                  <a:pt x="323" y="460"/>
                  <a:pt x="318" y="452"/>
                </a:cubicBezTo>
                <a:cubicBezTo>
                  <a:pt x="315" y="443"/>
                  <a:pt x="303" y="446"/>
                  <a:pt x="300" y="437"/>
                </a:cubicBezTo>
                <a:cubicBezTo>
                  <a:pt x="297" y="428"/>
                  <a:pt x="306" y="410"/>
                  <a:pt x="300" y="398"/>
                </a:cubicBezTo>
                <a:cubicBezTo>
                  <a:pt x="291" y="382"/>
                  <a:pt x="270" y="377"/>
                  <a:pt x="261" y="365"/>
                </a:cubicBezTo>
                <a:cubicBezTo>
                  <a:pt x="252" y="353"/>
                  <a:pt x="250" y="343"/>
                  <a:pt x="249" y="326"/>
                </a:cubicBezTo>
                <a:cubicBezTo>
                  <a:pt x="251" y="305"/>
                  <a:pt x="249" y="283"/>
                  <a:pt x="255" y="263"/>
                </a:cubicBezTo>
                <a:cubicBezTo>
                  <a:pt x="259" y="249"/>
                  <a:pt x="274" y="261"/>
                  <a:pt x="285" y="251"/>
                </a:cubicBezTo>
                <a:cubicBezTo>
                  <a:pt x="296" y="241"/>
                  <a:pt x="310" y="216"/>
                  <a:pt x="321" y="203"/>
                </a:cubicBezTo>
                <a:cubicBezTo>
                  <a:pt x="330" y="190"/>
                  <a:pt x="343" y="184"/>
                  <a:pt x="354" y="173"/>
                </a:cubicBezTo>
                <a:cubicBezTo>
                  <a:pt x="358" y="161"/>
                  <a:pt x="363" y="156"/>
                  <a:pt x="375" y="152"/>
                </a:cubicBezTo>
                <a:cubicBezTo>
                  <a:pt x="379" y="147"/>
                  <a:pt x="410" y="144"/>
                  <a:pt x="399" y="137"/>
                </a:cubicBezTo>
                <a:cubicBezTo>
                  <a:pt x="398" y="135"/>
                  <a:pt x="383" y="142"/>
                  <a:pt x="369" y="137"/>
                </a:cubicBezTo>
                <a:cubicBezTo>
                  <a:pt x="355" y="132"/>
                  <a:pt x="322" y="116"/>
                  <a:pt x="312" y="107"/>
                </a:cubicBezTo>
                <a:cubicBezTo>
                  <a:pt x="319" y="97"/>
                  <a:pt x="301" y="90"/>
                  <a:pt x="309" y="80"/>
                </a:cubicBezTo>
                <a:cubicBezTo>
                  <a:pt x="314" y="64"/>
                  <a:pt x="332" y="56"/>
                  <a:pt x="312" y="44"/>
                </a:cubicBezTo>
                <a:cubicBezTo>
                  <a:pt x="306" y="40"/>
                  <a:pt x="276" y="50"/>
                  <a:pt x="276" y="50"/>
                </a:cubicBezTo>
                <a:cubicBezTo>
                  <a:pt x="263" y="31"/>
                  <a:pt x="249" y="14"/>
                  <a:pt x="228" y="11"/>
                </a:cubicBezTo>
                <a:cubicBezTo>
                  <a:pt x="207" y="0"/>
                  <a:pt x="197" y="17"/>
                  <a:pt x="174" y="23"/>
                </a:cubicBezTo>
                <a:cubicBezTo>
                  <a:pt x="171" y="37"/>
                  <a:pt x="170" y="42"/>
                  <a:pt x="156" y="47"/>
                </a:cubicBezTo>
                <a:cubicBezTo>
                  <a:pt x="144" y="65"/>
                  <a:pt x="138" y="56"/>
                  <a:pt x="114" y="53"/>
                </a:cubicBezTo>
                <a:cubicBezTo>
                  <a:pt x="99" y="54"/>
                  <a:pt x="73" y="64"/>
                  <a:pt x="60" y="65"/>
                </a:cubicBezTo>
                <a:cubicBezTo>
                  <a:pt x="47" y="66"/>
                  <a:pt x="46" y="56"/>
                  <a:pt x="36" y="56"/>
                </a:cubicBezTo>
                <a:cubicBezTo>
                  <a:pt x="30" y="58"/>
                  <a:pt x="0" y="56"/>
                  <a:pt x="0" y="62"/>
                </a:cubicBezTo>
                <a:cubicBezTo>
                  <a:pt x="3" y="101"/>
                  <a:pt x="17" y="107"/>
                  <a:pt x="45" y="128"/>
                </a:cubicBezTo>
                <a:cubicBezTo>
                  <a:pt x="56" y="150"/>
                  <a:pt x="63" y="180"/>
                  <a:pt x="84" y="194"/>
                </a:cubicBezTo>
                <a:cubicBezTo>
                  <a:pt x="72" y="200"/>
                  <a:pt x="121" y="194"/>
                  <a:pt x="132" y="197"/>
                </a:cubicBezTo>
                <a:cubicBezTo>
                  <a:pt x="138" y="199"/>
                  <a:pt x="150" y="203"/>
                  <a:pt x="150" y="203"/>
                </a:cubicBezTo>
                <a:cubicBezTo>
                  <a:pt x="161" y="214"/>
                  <a:pt x="184" y="219"/>
                  <a:pt x="189" y="233"/>
                </a:cubicBezTo>
                <a:cubicBezTo>
                  <a:pt x="185" y="298"/>
                  <a:pt x="182" y="279"/>
                  <a:pt x="141" y="293"/>
                </a:cubicBezTo>
                <a:cubicBezTo>
                  <a:pt x="136" y="309"/>
                  <a:pt x="141" y="311"/>
                  <a:pt x="150" y="323"/>
                </a:cubicBezTo>
                <a:cubicBezTo>
                  <a:pt x="155" y="330"/>
                  <a:pt x="164" y="352"/>
                  <a:pt x="171" y="359"/>
                </a:cubicBezTo>
                <a:cubicBezTo>
                  <a:pt x="176" y="366"/>
                  <a:pt x="189" y="353"/>
                  <a:pt x="198" y="359"/>
                </a:cubicBezTo>
                <a:cubicBezTo>
                  <a:pt x="207" y="365"/>
                  <a:pt x="213" y="380"/>
                  <a:pt x="225" y="395"/>
                </a:cubicBezTo>
                <a:cubicBezTo>
                  <a:pt x="237" y="414"/>
                  <a:pt x="255" y="432"/>
                  <a:pt x="270" y="449"/>
                </a:cubicBezTo>
                <a:cubicBezTo>
                  <a:pt x="279" y="459"/>
                  <a:pt x="294" y="482"/>
                  <a:pt x="294" y="482"/>
                </a:cubicBezTo>
                <a:cubicBezTo>
                  <a:pt x="300" y="499"/>
                  <a:pt x="312" y="521"/>
                  <a:pt x="330" y="527"/>
                </a:cubicBezTo>
                <a:cubicBezTo>
                  <a:pt x="353" y="550"/>
                  <a:pt x="343" y="538"/>
                  <a:pt x="360" y="563"/>
                </a:cubicBezTo>
                <a:cubicBezTo>
                  <a:pt x="362" y="566"/>
                  <a:pt x="366" y="572"/>
                  <a:pt x="366" y="572"/>
                </a:cubicBezTo>
                <a:cubicBezTo>
                  <a:pt x="367" y="581"/>
                  <a:pt x="384" y="602"/>
                  <a:pt x="384" y="620"/>
                </a:cubicBezTo>
                <a:cubicBezTo>
                  <a:pt x="384" y="638"/>
                  <a:pt x="370" y="661"/>
                  <a:pt x="369" y="680"/>
                </a:cubicBezTo>
                <a:cubicBezTo>
                  <a:pt x="368" y="699"/>
                  <a:pt x="376" y="719"/>
                  <a:pt x="378" y="737"/>
                </a:cubicBezTo>
                <a:cubicBezTo>
                  <a:pt x="380" y="758"/>
                  <a:pt x="374" y="771"/>
                  <a:pt x="381" y="791"/>
                </a:cubicBezTo>
                <a:cubicBezTo>
                  <a:pt x="380" y="803"/>
                  <a:pt x="367" y="813"/>
                  <a:pt x="363" y="824"/>
                </a:cubicBezTo>
                <a:cubicBezTo>
                  <a:pt x="361" y="830"/>
                  <a:pt x="336" y="834"/>
                  <a:pt x="330" y="836"/>
                </a:cubicBezTo>
                <a:cubicBezTo>
                  <a:pt x="322" y="838"/>
                  <a:pt x="306" y="842"/>
                  <a:pt x="306" y="842"/>
                </a:cubicBezTo>
                <a:cubicBezTo>
                  <a:pt x="303" y="844"/>
                  <a:pt x="300" y="847"/>
                  <a:pt x="297" y="848"/>
                </a:cubicBezTo>
                <a:cubicBezTo>
                  <a:pt x="291" y="850"/>
                  <a:pt x="284" y="848"/>
                  <a:pt x="279" y="851"/>
                </a:cubicBezTo>
                <a:cubicBezTo>
                  <a:pt x="228" y="876"/>
                  <a:pt x="299" y="868"/>
                  <a:pt x="258" y="875"/>
                </a:cubicBezTo>
                <a:cubicBezTo>
                  <a:pt x="245" y="894"/>
                  <a:pt x="259" y="886"/>
                  <a:pt x="273" y="887"/>
                </a:cubicBezTo>
                <a:cubicBezTo>
                  <a:pt x="274" y="894"/>
                  <a:pt x="288" y="918"/>
                  <a:pt x="279" y="923"/>
                </a:cubicBezTo>
                <a:cubicBezTo>
                  <a:pt x="270" y="928"/>
                  <a:pt x="239" y="914"/>
                  <a:pt x="219" y="920"/>
                </a:cubicBezTo>
                <a:cubicBezTo>
                  <a:pt x="203" y="936"/>
                  <a:pt x="178" y="952"/>
                  <a:pt x="156" y="959"/>
                </a:cubicBezTo>
                <a:cubicBezTo>
                  <a:pt x="162" y="963"/>
                  <a:pt x="170" y="962"/>
                  <a:pt x="174" y="968"/>
                </a:cubicBezTo>
                <a:cubicBezTo>
                  <a:pt x="185" y="984"/>
                  <a:pt x="170" y="983"/>
                  <a:pt x="180" y="983"/>
                </a:cubicBezTo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Freeform 1029"/>
          <p:cNvSpPr/>
          <p:nvPr/>
        </p:nvSpPr>
        <p:spPr>
          <a:xfrm>
            <a:off x="3276720" y="1828800"/>
            <a:ext cx="838080" cy="1111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539" h="652">
                <a:moveTo>
                  <a:pt x="516" y="610"/>
                </a:moveTo>
                <a:cubicBezTo>
                  <a:pt x="511" y="595"/>
                  <a:pt x="508" y="580"/>
                  <a:pt x="525" y="574"/>
                </a:cubicBezTo>
                <a:cubicBezTo>
                  <a:pt x="533" y="562"/>
                  <a:pt x="539" y="558"/>
                  <a:pt x="528" y="538"/>
                </a:cubicBezTo>
                <a:cubicBezTo>
                  <a:pt x="525" y="532"/>
                  <a:pt x="510" y="526"/>
                  <a:pt x="510" y="526"/>
                </a:cubicBezTo>
                <a:cubicBezTo>
                  <a:pt x="507" y="517"/>
                  <a:pt x="513" y="499"/>
                  <a:pt x="513" y="499"/>
                </a:cubicBezTo>
                <a:cubicBezTo>
                  <a:pt x="506" y="489"/>
                  <a:pt x="497" y="476"/>
                  <a:pt x="486" y="472"/>
                </a:cubicBezTo>
                <a:cubicBezTo>
                  <a:pt x="483" y="469"/>
                  <a:pt x="481" y="465"/>
                  <a:pt x="477" y="463"/>
                </a:cubicBezTo>
                <a:cubicBezTo>
                  <a:pt x="474" y="461"/>
                  <a:pt x="470" y="462"/>
                  <a:pt x="468" y="460"/>
                </a:cubicBezTo>
                <a:cubicBezTo>
                  <a:pt x="454" y="449"/>
                  <a:pt x="469" y="454"/>
                  <a:pt x="459" y="442"/>
                </a:cubicBezTo>
                <a:cubicBezTo>
                  <a:pt x="452" y="433"/>
                  <a:pt x="440" y="423"/>
                  <a:pt x="432" y="415"/>
                </a:cubicBezTo>
                <a:cubicBezTo>
                  <a:pt x="427" y="399"/>
                  <a:pt x="405" y="360"/>
                  <a:pt x="393" y="352"/>
                </a:cubicBezTo>
                <a:cubicBezTo>
                  <a:pt x="387" y="348"/>
                  <a:pt x="381" y="344"/>
                  <a:pt x="375" y="340"/>
                </a:cubicBezTo>
                <a:cubicBezTo>
                  <a:pt x="372" y="338"/>
                  <a:pt x="366" y="334"/>
                  <a:pt x="366" y="334"/>
                </a:cubicBezTo>
                <a:cubicBezTo>
                  <a:pt x="362" y="329"/>
                  <a:pt x="354" y="328"/>
                  <a:pt x="351" y="322"/>
                </a:cubicBezTo>
                <a:cubicBezTo>
                  <a:pt x="342" y="306"/>
                  <a:pt x="357" y="302"/>
                  <a:pt x="336" y="295"/>
                </a:cubicBezTo>
                <a:cubicBezTo>
                  <a:pt x="320" y="290"/>
                  <a:pt x="302" y="289"/>
                  <a:pt x="285" y="286"/>
                </a:cubicBezTo>
                <a:cubicBezTo>
                  <a:pt x="276" y="277"/>
                  <a:pt x="268" y="277"/>
                  <a:pt x="264" y="265"/>
                </a:cubicBezTo>
                <a:cubicBezTo>
                  <a:pt x="278" y="222"/>
                  <a:pt x="301" y="242"/>
                  <a:pt x="333" y="220"/>
                </a:cubicBezTo>
                <a:cubicBezTo>
                  <a:pt x="345" y="185"/>
                  <a:pt x="344" y="198"/>
                  <a:pt x="318" y="181"/>
                </a:cubicBezTo>
                <a:cubicBezTo>
                  <a:pt x="313" y="171"/>
                  <a:pt x="316" y="140"/>
                  <a:pt x="303" y="133"/>
                </a:cubicBezTo>
                <a:cubicBezTo>
                  <a:pt x="290" y="126"/>
                  <a:pt x="254" y="144"/>
                  <a:pt x="237" y="139"/>
                </a:cubicBezTo>
                <a:cubicBezTo>
                  <a:pt x="207" y="129"/>
                  <a:pt x="223" y="122"/>
                  <a:pt x="201" y="100"/>
                </a:cubicBezTo>
                <a:cubicBezTo>
                  <a:pt x="192" y="72"/>
                  <a:pt x="169" y="39"/>
                  <a:pt x="144" y="22"/>
                </a:cubicBezTo>
                <a:cubicBezTo>
                  <a:pt x="117" y="25"/>
                  <a:pt x="115" y="0"/>
                  <a:pt x="108" y="22"/>
                </a:cubicBezTo>
                <a:cubicBezTo>
                  <a:pt x="109" y="37"/>
                  <a:pt x="117" y="89"/>
                  <a:pt x="111" y="106"/>
                </a:cubicBezTo>
                <a:cubicBezTo>
                  <a:pt x="97" y="104"/>
                  <a:pt x="85" y="100"/>
                  <a:pt x="72" y="97"/>
                </a:cubicBezTo>
                <a:cubicBezTo>
                  <a:pt x="61" y="99"/>
                  <a:pt x="51" y="99"/>
                  <a:pt x="42" y="106"/>
                </a:cubicBezTo>
                <a:cubicBezTo>
                  <a:pt x="33" y="113"/>
                  <a:pt x="23" y="131"/>
                  <a:pt x="18" y="139"/>
                </a:cubicBezTo>
                <a:cubicBezTo>
                  <a:pt x="16" y="145"/>
                  <a:pt x="16" y="152"/>
                  <a:pt x="12" y="157"/>
                </a:cubicBezTo>
                <a:cubicBezTo>
                  <a:pt x="8" y="163"/>
                  <a:pt x="0" y="175"/>
                  <a:pt x="0" y="175"/>
                </a:cubicBezTo>
                <a:cubicBezTo>
                  <a:pt x="2" y="180"/>
                  <a:pt x="33" y="183"/>
                  <a:pt x="39" y="193"/>
                </a:cubicBezTo>
                <a:cubicBezTo>
                  <a:pt x="45" y="203"/>
                  <a:pt x="31" y="228"/>
                  <a:pt x="36" y="235"/>
                </a:cubicBezTo>
                <a:cubicBezTo>
                  <a:pt x="37" y="237"/>
                  <a:pt x="65" y="237"/>
                  <a:pt x="72" y="238"/>
                </a:cubicBezTo>
                <a:cubicBezTo>
                  <a:pt x="93" y="252"/>
                  <a:pt x="79" y="269"/>
                  <a:pt x="75" y="295"/>
                </a:cubicBezTo>
                <a:cubicBezTo>
                  <a:pt x="74" y="301"/>
                  <a:pt x="69" y="313"/>
                  <a:pt x="69" y="313"/>
                </a:cubicBezTo>
                <a:cubicBezTo>
                  <a:pt x="68" y="327"/>
                  <a:pt x="69" y="341"/>
                  <a:pt x="66" y="355"/>
                </a:cubicBezTo>
                <a:cubicBezTo>
                  <a:pt x="65" y="359"/>
                  <a:pt x="58" y="360"/>
                  <a:pt x="57" y="364"/>
                </a:cubicBezTo>
                <a:cubicBezTo>
                  <a:pt x="55" y="376"/>
                  <a:pt x="90" y="382"/>
                  <a:pt x="90" y="382"/>
                </a:cubicBezTo>
                <a:cubicBezTo>
                  <a:pt x="105" y="374"/>
                  <a:pt x="109" y="361"/>
                  <a:pt x="123" y="352"/>
                </a:cubicBezTo>
                <a:cubicBezTo>
                  <a:pt x="136" y="348"/>
                  <a:pt x="146" y="343"/>
                  <a:pt x="159" y="343"/>
                </a:cubicBezTo>
                <a:cubicBezTo>
                  <a:pt x="172" y="343"/>
                  <a:pt x="189" y="357"/>
                  <a:pt x="201" y="355"/>
                </a:cubicBezTo>
                <a:cubicBezTo>
                  <a:pt x="210" y="341"/>
                  <a:pt x="221" y="340"/>
                  <a:pt x="234" y="331"/>
                </a:cubicBezTo>
                <a:cubicBezTo>
                  <a:pt x="247" y="332"/>
                  <a:pt x="261" y="329"/>
                  <a:pt x="273" y="334"/>
                </a:cubicBezTo>
                <a:cubicBezTo>
                  <a:pt x="283" y="338"/>
                  <a:pt x="285" y="352"/>
                  <a:pt x="294" y="358"/>
                </a:cubicBezTo>
                <a:cubicBezTo>
                  <a:pt x="295" y="361"/>
                  <a:pt x="294" y="365"/>
                  <a:pt x="297" y="367"/>
                </a:cubicBezTo>
                <a:cubicBezTo>
                  <a:pt x="302" y="371"/>
                  <a:pt x="315" y="373"/>
                  <a:pt x="315" y="373"/>
                </a:cubicBezTo>
                <a:cubicBezTo>
                  <a:pt x="318" y="383"/>
                  <a:pt x="324" y="403"/>
                  <a:pt x="324" y="403"/>
                </a:cubicBezTo>
                <a:cubicBezTo>
                  <a:pt x="323" y="417"/>
                  <a:pt x="320" y="431"/>
                  <a:pt x="321" y="445"/>
                </a:cubicBezTo>
                <a:cubicBezTo>
                  <a:pt x="322" y="467"/>
                  <a:pt x="377" y="506"/>
                  <a:pt x="390" y="526"/>
                </a:cubicBezTo>
                <a:cubicBezTo>
                  <a:pt x="394" y="564"/>
                  <a:pt x="398" y="555"/>
                  <a:pt x="387" y="589"/>
                </a:cubicBezTo>
                <a:cubicBezTo>
                  <a:pt x="386" y="597"/>
                  <a:pt x="366" y="605"/>
                  <a:pt x="363" y="613"/>
                </a:cubicBezTo>
                <a:cubicBezTo>
                  <a:pt x="361" y="620"/>
                  <a:pt x="351" y="631"/>
                  <a:pt x="351" y="631"/>
                </a:cubicBezTo>
                <a:cubicBezTo>
                  <a:pt x="394" y="635"/>
                  <a:pt x="372" y="631"/>
                  <a:pt x="399" y="646"/>
                </a:cubicBezTo>
                <a:cubicBezTo>
                  <a:pt x="405" y="649"/>
                  <a:pt x="417" y="652"/>
                  <a:pt x="417" y="652"/>
                </a:cubicBezTo>
                <a:cubicBezTo>
                  <a:pt x="429" y="640"/>
                  <a:pt x="426" y="629"/>
                  <a:pt x="435" y="616"/>
                </a:cubicBezTo>
                <a:cubicBezTo>
                  <a:pt x="441" y="610"/>
                  <a:pt x="441" y="614"/>
                  <a:pt x="453" y="613"/>
                </a:cubicBezTo>
                <a:cubicBezTo>
                  <a:pt x="465" y="612"/>
                  <a:pt x="500" y="613"/>
                  <a:pt x="510" y="610"/>
                </a:cubicBezTo>
                <a:cubicBezTo>
                  <a:pt x="512" y="604"/>
                  <a:pt x="516" y="592"/>
                  <a:pt x="516" y="592"/>
                </a:cubicBezTo>
              </a:path>
            </a:pathLst>
          </a:custGeom>
          <a:solidFill>
            <a:srgbClr val="ffcc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Freeform 1030"/>
          <p:cNvSpPr/>
          <p:nvPr/>
        </p:nvSpPr>
        <p:spPr>
          <a:xfrm>
            <a:off x="2971800" y="2133720"/>
            <a:ext cx="990720" cy="1687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800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1031"/>
          <p:cNvSpPr/>
          <p:nvPr/>
        </p:nvSpPr>
        <p:spPr>
          <a:xfrm>
            <a:off x="2362320" y="1143000"/>
            <a:ext cx="1066680" cy="22096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613" h="1382">
                <a:moveTo>
                  <a:pt x="585" y="519"/>
                </a:moveTo>
                <a:cubicBezTo>
                  <a:pt x="574" y="502"/>
                  <a:pt x="606" y="510"/>
                  <a:pt x="600" y="528"/>
                </a:cubicBezTo>
                <a:cubicBezTo>
                  <a:pt x="598" y="528"/>
                  <a:pt x="557" y="528"/>
                  <a:pt x="546" y="525"/>
                </a:cubicBezTo>
                <a:cubicBezTo>
                  <a:pt x="535" y="522"/>
                  <a:pt x="542" y="514"/>
                  <a:pt x="534" y="507"/>
                </a:cubicBezTo>
                <a:cubicBezTo>
                  <a:pt x="520" y="497"/>
                  <a:pt x="512" y="489"/>
                  <a:pt x="496" y="484"/>
                </a:cubicBezTo>
                <a:cubicBezTo>
                  <a:pt x="490" y="471"/>
                  <a:pt x="496" y="452"/>
                  <a:pt x="498" y="441"/>
                </a:cubicBezTo>
                <a:cubicBezTo>
                  <a:pt x="500" y="430"/>
                  <a:pt x="515" y="425"/>
                  <a:pt x="510" y="417"/>
                </a:cubicBezTo>
                <a:cubicBezTo>
                  <a:pt x="505" y="409"/>
                  <a:pt x="481" y="406"/>
                  <a:pt x="468" y="393"/>
                </a:cubicBezTo>
                <a:cubicBezTo>
                  <a:pt x="457" y="360"/>
                  <a:pt x="463" y="361"/>
                  <a:pt x="432" y="340"/>
                </a:cubicBezTo>
                <a:cubicBezTo>
                  <a:pt x="428" y="337"/>
                  <a:pt x="420" y="332"/>
                  <a:pt x="420" y="332"/>
                </a:cubicBezTo>
                <a:cubicBezTo>
                  <a:pt x="413" y="332"/>
                  <a:pt x="381" y="345"/>
                  <a:pt x="372" y="342"/>
                </a:cubicBezTo>
                <a:cubicBezTo>
                  <a:pt x="363" y="339"/>
                  <a:pt x="361" y="336"/>
                  <a:pt x="368" y="316"/>
                </a:cubicBezTo>
                <a:cubicBezTo>
                  <a:pt x="372" y="256"/>
                  <a:pt x="360" y="233"/>
                  <a:pt x="416" y="224"/>
                </a:cubicBezTo>
                <a:cubicBezTo>
                  <a:pt x="454" y="205"/>
                  <a:pt x="454" y="185"/>
                  <a:pt x="440" y="144"/>
                </a:cubicBezTo>
                <a:cubicBezTo>
                  <a:pt x="443" y="121"/>
                  <a:pt x="454" y="108"/>
                  <a:pt x="453" y="96"/>
                </a:cubicBezTo>
                <a:cubicBezTo>
                  <a:pt x="452" y="84"/>
                  <a:pt x="438" y="77"/>
                  <a:pt x="432" y="72"/>
                </a:cubicBezTo>
                <a:cubicBezTo>
                  <a:pt x="431" y="68"/>
                  <a:pt x="424" y="70"/>
                  <a:pt x="420" y="68"/>
                </a:cubicBezTo>
                <a:cubicBezTo>
                  <a:pt x="415" y="66"/>
                  <a:pt x="410" y="17"/>
                  <a:pt x="408" y="15"/>
                </a:cubicBezTo>
                <a:cubicBezTo>
                  <a:pt x="393" y="0"/>
                  <a:pt x="386" y="15"/>
                  <a:pt x="364" y="8"/>
                </a:cubicBezTo>
                <a:cubicBezTo>
                  <a:pt x="336" y="17"/>
                  <a:pt x="342" y="42"/>
                  <a:pt x="321" y="63"/>
                </a:cubicBezTo>
                <a:cubicBezTo>
                  <a:pt x="309" y="77"/>
                  <a:pt x="302" y="77"/>
                  <a:pt x="291" y="84"/>
                </a:cubicBezTo>
                <a:cubicBezTo>
                  <a:pt x="280" y="91"/>
                  <a:pt x="272" y="92"/>
                  <a:pt x="256" y="104"/>
                </a:cubicBezTo>
                <a:cubicBezTo>
                  <a:pt x="233" y="116"/>
                  <a:pt x="214" y="138"/>
                  <a:pt x="196" y="156"/>
                </a:cubicBezTo>
                <a:cubicBezTo>
                  <a:pt x="187" y="184"/>
                  <a:pt x="184" y="206"/>
                  <a:pt x="168" y="231"/>
                </a:cubicBezTo>
                <a:cubicBezTo>
                  <a:pt x="156" y="281"/>
                  <a:pt x="158" y="322"/>
                  <a:pt x="112" y="352"/>
                </a:cubicBezTo>
                <a:cubicBezTo>
                  <a:pt x="97" y="337"/>
                  <a:pt x="94" y="332"/>
                  <a:pt x="76" y="344"/>
                </a:cubicBezTo>
                <a:cubicBezTo>
                  <a:pt x="73" y="352"/>
                  <a:pt x="78" y="391"/>
                  <a:pt x="75" y="399"/>
                </a:cubicBezTo>
                <a:cubicBezTo>
                  <a:pt x="74" y="403"/>
                  <a:pt x="64" y="380"/>
                  <a:pt x="64" y="380"/>
                </a:cubicBezTo>
                <a:cubicBezTo>
                  <a:pt x="61" y="437"/>
                  <a:pt x="64" y="455"/>
                  <a:pt x="36" y="496"/>
                </a:cubicBezTo>
                <a:cubicBezTo>
                  <a:pt x="10" y="535"/>
                  <a:pt x="51" y="474"/>
                  <a:pt x="16" y="524"/>
                </a:cubicBezTo>
                <a:cubicBezTo>
                  <a:pt x="10" y="532"/>
                  <a:pt x="0" y="548"/>
                  <a:pt x="0" y="548"/>
                </a:cubicBezTo>
                <a:cubicBezTo>
                  <a:pt x="6" y="611"/>
                  <a:pt x="13" y="617"/>
                  <a:pt x="60" y="648"/>
                </a:cubicBezTo>
                <a:cubicBezTo>
                  <a:pt x="63" y="652"/>
                  <a:pt x="65" y="657"/>
                  <a:pt x="68" y="660"/>
                </a:cubicBezTo>
                <a:cubicBezTo>
                  <a:pt x="71" y="663"/>
                  <a:pt x="77" y="664"/>
                  <a:pt x="80" y="668"/>
                </a:cubicBezTo>
                <a:cubicBezTo>
                  <a:pt x="83" y="671"/>
                  <a:pt x="82" y="676"/>
                  <a:pt x="84" y="680"/>
                </a:cubicBezTo>
                <a:cubicBezTo>
                  <a:pt x="87" y="685"/>
                  <a:pt x="95" y="710"/>
                  <a:pt x="99" y="714"/>
                </a:cubicBezTo>
                <a:cubicBezTo>
                  <a:pt x="104" y="727"/>
                  <a:pt x="134" y="742"/>
                  <a:pt x="141" y="756"/>
                </a:cubicBezTo>
                <a:cubicBezTo>
                  <a:pt x="148" y="770"/>
                  <a:pt x="140" y="777"/>
                  <a:pt x="140" y="796"/>
                </a:cubicBezTo>
                <a:cubicBezTo>
                  <a:pt x="150" y="827"/>
                  <a:pt x="147" y="812"/>
                  <a:pt x="140" y="872"/>
                </a:cubicBezTo>
                <a:cubicBezTo>
                  <a:pt x="138" y="886"/>
                  <a:pt x="132" y="912"/>
                  <a:pt x="132" y="912"/>
                </a:cubicBezTo>
                <a:cubicBezTo>
                  <a:pt x="132" y="924"/>
                  <a:pt x="147" y="930"/>
                  <a:pt x="162" y="936"/>
                </a:cubicBezTo>
                <a:cubicBezTo>
                  <a:pt x="177" y="942"/>
                  <a:pt x="208" y="950"/>
                  <a:pt x="222" y="948"/>
                </a:cubicBezTo>
                <a:cubicBezTo>
                  <a:pt x="241" y="951"/>
                  <a:pt x="240" y="932"/>
                  <a:pt x="246" y="927"/>
                </a:cubicBezTo>
                <a:cubicBezTo>
                  <a:pt x="252" y="922"/>
                  <a:pt x="254" y="922"/>
                  <a:pt x="261" y="918"/>
                </a:cubicBezTo>
                <a:cubicBezTo>
                  <a:pt x="268" y="914"/>
                  <a:pt x="276" y="911"/>
                  <a:pt x="288" y="900"/>
                </a:cubicBezTo>
                <a:cubicBezTo>
                  <a:pt x="293" y="879"/>
                  <a:pt x="312" y="840"/>
                  <a:pt x="330" y="852"/>
                </a:cubicBezTo>
                <a:cubicBezTo>
                  <a:pt x="336" y="870"/>
                  <a:pt x="353" y="905"/>
                  <a:pt x="366" y="918"/>
                </a:cubicBezTo>
                <a:cubicBezTo>
                  <a:pt x="379" y="958"/>
                  <a:pt x="380" y="1014"/>
                  <a:pt x="388" y="1056"/>
                </a:cubicBezTo>
                <a:cubicBezTo>
                  <a:pt x="393" y="1079"/>
                  <a:pt x="422" y="1117"/>
                  <a:pt x="435" y="1137"/>
                </a:cubicBezTo>
                <a:cubicBezTo>
                  <a:pt x="453" y="1165"/>
                  <a:pt x="425" y="1151"/>
                  <a:pt x="432" y="1172"/>
                </a:cubicBezTo>
                <a:cubicBezTo>
                  <a:pt x="430" y="1195"/>
                  <a:pt x="441" y="1248"/>
                  <a:pt x="444" y="1281"/>
                </a:cubicBezTo>
                <a:cubicBezTo>
                  <a:pt x="444" y="1315"/>
                  <a:pt x="425" y="1376"/>
                  <a:pt x="429" y="1377"/>
                </a:cubicBezTo>
                <a:cubicBezTo>
                  <a:pt x="435" y="1382"/>
                  <a:pt x="457" y="1301"/>
                  <a:pt x="468" y="1287"/>
                </a:cubicBezTo>
                <a:cubicBezTo>
                  <a:pt x="480" y="1270"/>
                  <a:pt x="492" y="1281"/>
                  <a:pt x="498" y="1278"/>
                </a:cubicBezTo>
                <a:cubicBezTo>
                  <a:pt x="492" y="1260"/>
                  <a:pt x="501" y="1276"/>
                  <a:pt x="504" y="1268"/>
                </a:cubicBezTo>
                <a:cubicBezTo>
                  <a:pt x="505" y="1264"/>
                  <a:pt x="508" y="1256"/>
                  <a:pt x="508" y="1256"/>
                </a:cubicBezTo>
                <a:cubicBezTo>
                  <a:pt x="504" y="1231"/>
                  <a:pt x="503" y="1224"/>
                  <a:pt x="488" y="1204"/>
                </a:cubicBezTo>
                <a:cubicBezTo>
                  <a:pt x="475" y="1166"/>
                  <a:pt x="486" y="1120"/>
                  <a:pt x="468" y="1084"/>
                </a:cubicBezTo>
                <a:cubicBezTo>
                  <a:pt x="461" y="1058"/>
                  <a:pt x="449" y="1069"/>
                  <a:pt x="441" y="1056"/>
                </a:cubicBezTo>
                <a:cubicBezTo>
                  <a:pt x="433" y="1043"/>
                  <a:pt x="418" y="1025"/>
                  <a:pt x="420" y="1004"/>
                </a:cubicBezTo>
                <a:cubicBezTo>
                  <a:pt x="425" y="980"/>
                  <a:pt x="448" y="953"/>
                  <a:pt x="456" y="930"/>
                </a:cubicBezTo>
                <a:cubicBezTo>
                  <a:pt x="455" y="902"/>
                  <a:pt x="426" y="907"/>
                  <a:pt x="423" y="879"/>
                </a:cubicBezTo>
                <a:cubicBezTo>
                  <a:pt x="420" y="854"/>
                  <a:pt x="399" y="826"/>
                  <a:pt x="388" y="804"/>
                </a:cubicBezTo>
                <a:cubicBezTo>
                  <a:pt x="379" y="785"/>
                  <a:pt x="381" y="770"/>
                  <a:pt x="368" y="752"/>
                </a:cubicBezTo>
                <a:cubicBezTo>
                  <a:pt x="362" y="733"/>
                  <a:pt x="373" y="729"/>
                  <a:pt x="380" y="712"/>
                </a:cubicBezTo>
                <a:cubicBezTo>
                  <a:pt x="382" y="708"/>
                  <a:pt x="388" y="681"/>
                  <a:pt x="396" y="676"/>
                </a:cubicBezTo>
                <a:cubicBezTo>
                  <a:pt x="413" y="665"/>
                  <a:pt x="448" y="665"/>
                  <a:pt x="464" y="664"/>
                </a:cubicBezTo>
                <a:cubicBezTo>
                  <a:pt x="480" y="648"/>
                  <a:pt x="486" y="635"/>
                  <a:pt x="508" y="628"/>
                </a:cubicBezTo>
                <a:cubicBezTo>
                  <a:pt x="524" y="612"/>
                  <a:pt x="530" y="608"/>
                  <a:pt x="552" y="604"/>
                </a:cubicBezTo>
                <a:cubicBezTo>
                  <a:pt x="553" y="596"/>
                  <a:pt x="551" y="587"/>
                  <a:pt x="556" y="580"/>
                </a:cubicBezTo>
                <a:cubicBezTo>
                  <a:pt x="559" y="576"/>
                  <a:pt x="567" y="579"/>
                  <a:pt x="572" y="576"/>
                </a:cubicBezTo>
                <a:cubicBezTo>
                  <a:pt x="586" y="567"/>
                  <a:pt x="584" y="559"/>
                  <a:pt x="604" y="552"/>
                </a:cubicBezTo>
                <a:cubicBezTo>
                  <a:pt x="605" y="549"/>
                  <a:pt x="613" y="526"/>
                  <a:pt x="612" y="524"/>
                </a:cubicBezTo>
                <a:cubicBezTo>
                  <a:pt x="605" y="513"/>
                  <a:pt x="596" y="535"/>
                  <a:pt x="596" y="536"/>
                </a:cubicBezTo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Freeform 1032"/>
          <p:cNvSpPr/>
          <p:nvPr/>
        </p:nvSpPr>
        <p:spPr>
          <a:xfrm>
            <a:off x="3505320" y="274320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76" h="306">
                <a:moveTo>
                  <a:pt x="366" y="0"/>
                </a:moveTo>
                <a:cubicBezTo>
                  <a:pt x="329" y="4"/>
                  <a:pt x="347" y="6"/>
                  <a:pt x="321" y="15"/>
                </a:cubicBezTo>
                <a:cubicBezTo>
                  <a:pt x="310" y="12"/>
                  <a:pt x="302" y="7"/>
                  <a:pt x="291" y="3"/>
                </a:cubicBezTo>
                <a:cubicBezTo>
                  <a:pt x="269" y="6"/>
                  <a:pt x="275" y="13"/>
                  <a:pt x="264" y="30"/>
                </a:cubicBezTo>
                <a:cubicBezTo>
                  <a:pt x="260" y="61"/>
                  <a:pt x="229" y="43"/>
                  <a:pt x="213" y="30"/>
                </a:cubicBezTo>
                <a:cubicBezTo>
                  <a:pt x="211" y="28"/>
                  <a:pt x="228" y="31"/>
                  <a:pt x="225" y="30"/>
                </a:cubicBezTo>
                <a:cubicBezTo>
                  <a:pt x="199" y="4"/>
                  <a:pt x="160" y="13"/>
                  <a:pt x="126" y="12"/>
                </a:cubicBezTo>
                <a:cubicBezTo>
                  <a:pt x="104" y="13"/>
                  <a:pt x="82" y="12"/>
                  <a:pt x="60" y="15"/>
                </a:cubicBezTo>
                <a:cubicBezTo>
                  <a:pt x="50" y="17"/>
                  <a:pt x="40" y="44"/>
                  <a:pt x="33" y="51"/>
                </a:cubicBezTo>
                <a:cubicBezTo>
                  <a:pt x="25" y="63"/>
                  <a:pt x="11" y="66"/>
                  <a:pt x="6" y="75"/>
                </a:cubicBezTo>
                <a:cubicBezTo>
                  <a:pt x="1" y="84"/>
                  <a:pt x="0" y="93"/>
                  <a:pt x="3" y="105"/>
                </a:cubicBezTo>
                <a:cubicBezTo>
                  <a:pt x="6" y="132"/>
                  <a:pt x="4" y="134"/>
                  <a:pt x="24" y="147"/>
                </a:cubicBezTo>
                <a:cubicBezTo>
                  <a:pt x="32" y="170"/>
                  <a:pt x="31" y="183"/>
                  <a:pt x="45" y="204"/>
                </a:cubicBezTo>
                <a:cubicBezTo>
                  <a:pt x="49" y="209"/>
                  <a:pt x="51" y="222"/>
                  <a:pt x="51" y="222"/>
                </a:cubicBezTo>
                <a:cubicBezTo>
                  <a:pt x="54" y="251"/>
                  <a:pt x="56" y="268"/>
                  <a:pt x="81" y="285"/>
                </a:cubicBezTo>
                <a:cubicBezTo>
                  <a:pt x="95" y="306"/>
                  <a:pt x="88" y="283"/>
                  <a:pt x="117" y="285"/>
                </a:cubicBezTo>
                <a:cubicBezTo>
                  <a:pt x="136" y="281"/>
                  <a:pt x="170" y="294"/>
                  <a:pt x="189" y="288"/>
                </a:cubicBezTo>
                <a:cubicBezTo>
                  <a:pt x="204" y="286"/>
                  <a:pt x="180" y="268"/>
                  <a:pt x="186" y="264"/>
                </a:cubicBezTo>
                <a:cubicBezTo>
                  <a:pt x="192" y="260"/>
                  <a:pt x="210" y="260"/>
                  <a:pt x="225" y="261"/>
                </a:cubicBezTo>
                <a:cubicBezTo>
                  <a:pt x="240" y="262"/>
                  <a:pt x="272" y="275"/>
                  <a:pt x="276" y="267"/>
                </a:cubicBezTo>
                <a:cubicBezTo>
                  <a:pt x="270" y="242"/>
                  <a:pt x="215" y="216"/>
                  <a:pt x="252" y="210"/>
                </a:cubicBezTo>
                <a:cubicBezTo>
                  <a:pt x="263" y="194"/>
                  <a:pt x="283" y="195"/>
                  <a:pt x="303" y="192"/>
                </a:cubicBezTo>
                <a:cubicBezTo>
                  <a:pt x="321" y="180"/>
                  <a:pt x="342" y="170"/>
                  <a:pt x="363" y="165"/>
                </a:cubicBezTo>
                <a:cubicBezTo>
                  <a:pt x="376" y="145"/>
                  <a:pt x="369" y="161"/>
                  <a:pt x="366" y="117"/>
                </a:cubicBezTo>
                <a:cubicBezTo>
                  <a:pt x="367" y="101"/>
                  <a:pt x="374" y="97"/>
                  <a:pt x="372" y="84"/>
                </a:cubicBezTo>
                <a:cubicBezTo>
                  <a:pt x="370" y="71"/>
                  <a:pt x="352" y="48"/>
                  <a:pt x="351" y="36"/>
                </a:cubicBezTo>
                <a:cubicBezTo>
                  <a:pt x="355" y="22"/>
                  <a:pt x="362" y="22"/>
                  <a:pt x="366" y="9"/>
                </a:cubicBezTo>
                <a:cubicBezTo>
                  <a:pt x="354" y="5"/>
                  <a:pt x="354" y="8"/>
                  <a:pt x="366" y="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Freeform 1033"/>
          <p:cNvSpPr/>
          <p:nvPr/>
        </p:nvSpPr>
        <p:spPr>
          <a:xfrm>
            <a:off x="3276720" y="365760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Freeform 1034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Freeform 1035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Freeform 1036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Freeform 1037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Freeform 1038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Freeform 1039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Freeform 1040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Freeform 1041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Freeform 1042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Freeform 1043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Freeform 1044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Freeform 1045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Freeform 1046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Freeform 1047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Freeform 1048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Freeform 1049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Freeform 1050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Freeform 1051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Freeform 1052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053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Freeform 1054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Freeform 1055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Freeform 1056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Freeform 1057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Freeform 1058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Freeform 1059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Freeform 1060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Freeform 1061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Freeform 1062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Freeform 1063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Freeform 1064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Freeform 1065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Freeform 1066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Freeform 1067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Freeform 1068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Freeform 1069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ff9999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Freeform 1070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Freeform 1071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Freeform 1072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Freeform 1073"/>
          <p:cNvSpPr/>
          <p:nvPr/>
        </p:nvSpPr>
        <p:spPr>
          <a:xfrm>
            <a:off x="6324480" y="28954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70" y="16"/>
                </a:moveTo>
                <a:cubicBezTo>
                  <a:pt x="66" y="0"/>
                  <a:pt x="15" y="12"/>
                  <a:pt x="8" y="12"/>
                </a:cubicBezTo>
                <a:cubicBezTo>
                  <a:pt x="0" y="18"/>
                  <a:pt x="31" y="32"/>
                  <a:pt x="38" y="42"/>
                </a:cubicBezTo>
                <a:cubicBezTo>
                  <a:pt x="45" y="52"/>
                  <a:pt x="44" y="62"/>
                  <a:pt x="48" y="72"/>
                </a:cubicBezTo>
                <a:cubicBezTo>
                  <a:pt x="55" y="82"/>
                  <a:pt x="47" y="96"/>
                  <a:pt x="60" y="100"/>
                </a:cubicBezTo>
                <a:cubicBezTo>
                  <a:pt x="66" y="106"/>
                  <a:pt x="71" y="107"/>
                  <a:pt x="78" y="112"/>
                </a:cubicBezTo>
                <a:cubicBezTo>
                  <a:pt x="83" y="120"/>
                  <a:pt x="95" y="120"/>
                  <a:pt x="104" y="122"/>
                </a:cubicBezTo>
                <a:cubicBezTo>
                  <a:pt x="110" y="113"/>
                  <a:pt x="100" y="105"/>
                  <a:pt x="94" y="96"/>
                </a:cubicBezTo>
                <a:cubicBezTo>
                  <a:pt x="92" y="86"/>
                  <a:pt x="90" y="77"/>
                  <a:pt x="88" y="66"/>
                </a:cubicBezTo>
                <a:cubicBezTo>
                  <a:pt x="90" y="59"/>
                  <a:pt x="86" y="57"/>
                  <a:pt x="88" y="50"/>
                </a:cubicBezTo>
                <a:cubicBezTo>
                  <a:pt x="81" y="30"/>
                  <a:pt x="102" y="58"/>
                  <a:pt x="90" y="36"/>
                </a:cubicBezTo>
                <a:cubicBezTo>
                  <a:pt x="81" y="20"/>
                  <a:pt x="83" y="13"/>
                  <a:pt x="64" y="8"/>
                </a:cubicBezTo>
                <a:cubicBezTo>
                  <a:pt x="47" y="10"/>
                  <a:pt x="52" y="6"/>
                  <a:pt x="46" y="1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Freeform 1074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Freeform 1076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Freeform 1077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Freeform 1078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Freeform 1079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Freeform 1080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Freeform 1081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Freeform 1083"/>
          <p:cNvSpPr/>
          <p:nvPr/>
        </p:nvSpPr>
        <p:spPr>
          <a:xfrm>
            <a:off x="3605040" y="4243320"/>
            <a:ext cx="142920" cy="92160"/>
          </a:xfrm>
          <a:custGeom>
            <a:avLst/>
            <a:gdLst>
              <a:gd name="textAreaLeft" fmla="*/ 0 w 142920"/>
              <a:gd name="textAreaRight" fmla="*/ 143280 w 1429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90" h="58">
                <a:moveTo>
                  <a:pt x="3" y="24"/>
                </a:moveTo>
                <a:cubicBezTo>
                  <a:pt x="7" y="13"/>
                  <a:pt x="12" y="9"/>
                  <a:pt x="24" y="6"/>
                </a:cubicBezTo>
                <a:cubicBezTo>
                  <a:pt x="34" y="4"/>
                  <a:pt x="54" y="0"/>
                  <a:pt x="54" y="0"/>
                </a:cubicBezTo>
                <a:cubicBezTo>
                  <a:pt x="71" y="4"/>
                  <a:pt x="75" y="16"/>
                  <a:pt x="84" y="30"/>
                </a:cubicBezTo>
                <a:cubicBezTo>
                  <a:pt x="88" y="35"/>
                  <a:pt x="90" y="48"/>
                  <a:pt x="90" y="48"/>
                </a:cubicBezTo>
                <a:cubicBezTo>
                  <a:pt x="83" y="49"/>
                  <a:pt x="76" y="49"/>
                  <a:pt x="69" y="51"/>
                </a:cubicBezTo>
                <a:cubicBezTo>
                  <a:pt x="63" y="52"/>
                  <a:pt x="51" y="57"/>
                  <a:pt x="51" y="57"/>
                </a:cubicBezTo>
                <a:cubicBezTo>
                  <a:pt x="44" y="56"/>
                  <a:pt x="36" y="58"/>
                  <a:pt x="30" y="54"/>
                </a:cubicBezTo>
                <a:cubicBezTo>
                  <a:pt x="11" y="42"/>
                  <a:pt x="22" y="34"/>
                  <a:pt x="0" y="27"/>
                </a:cubicBezTo>
                <a:cubicBezTo>
                  <a:pt x="3" y="18"/>
                  <a:pt x="22" y="5"/>
                  <a:pt x="3" y="2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1084"/>
          <p:cNvSpPr/>
          <p:nvPr/>
        </p:nvSpPr>
        <p:spPr>
          <a:xfrm>
            <a:off x="152280" y="2514600"/>
            <a:ext cx="457200" cy="228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Rectangle 1085"/>
          <p:cNvSpPr/>
          <p:nvPr/>
        </p:nvSpPr>
        <p:spPr>
          <a:xfrm>
            <a:off x="152280" y="2895480"/>
            <a:ext cx="457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Rectangle 1086"/>
          <p:cNvSpPr/>
          <p:nvPr/>
        </p:nvSpPr>
        <p:spPr>
          <a:xfrm>
            <a:off x="152280" y="3276720"/>
            <a:ext cx="457200" cy="228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1089"/>
          <p:cNvSpPr/>
          <p:nvPr/>
        </p:nvSpPr>
        <p:spPr>
          <a:xfrm>
            <a:off x="152280" y="3657600"/>
            <a:ext cx="457200" cy="2286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1090"/>
          <p:cNvSpPr/>
          <p:nvPr/>
        </p:nvSpPr>
        <p:spPr>
          <a:xfrm>
            <a:off x="152280" y="4038480"/>
            <a:ext cx="457200" cy="228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1092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093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Line 1094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095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1096"/>
          <p:cNvSpPr/>
          <p:nvPr/>
        </p:nvSpPr>
        <p:spPr>
          <a:xfrm>
            <a:off x="3200400" y="6095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1097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1098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Line 1099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1100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103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Text Box 1104"/>
          <p:cNvSpPr/>
          <p:nvPr/>
        </p:nvSpPr>
        <p:spPr>
          <a:xfrm>
            <a:off x="703080" y="243828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&gt;130  тыс. ч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105"/>
          <p:cNvSpPr/>
          <p:nvPr/>
        </p:nvSpPr>
        <p:spPr>
          <a:xfrm>
            <a:off x="726120" y="274320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130-100 тыс.чел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106"/>
          <p:cNvSpPr/>
          <p:nvPr/>
        </p:nvSpPr>
        <p:spPr>
          <a:xfrm>
            <a:off x="758520" y="39625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&lt;15 тыс. ч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107"/>
          <p:cNvSpPr/>
          <p:nvPr/>
        </p:nvSpPr>
        <p:spPr>
          <a:xfrm>
            <a:off x="723240" y="320040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100-60 тыс. че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Text Box 1108"/>
          <p:cNvSpPr/>
          <p:nvPr/>
        </p:nvSpPr>
        <p:spPr>
          <a:xfrm>
            <a:off x="702000" y="358128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60-20 тыс.че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78"/>
          <p:cNvSpPr/>
          <p:nvPr/>
        </p:nvSpPr>
        <p:spPr>
          <a:xfrm>
            <a:off x="328320" y="6172200"/>
            <a:ext cx="14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КЛАССИФИКАЦИЯ СТРАН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ЮГО-ВОСТОЧНОЙ АЗИ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ПО ПРЕОБЛАДАЮЩИМ ТИПАМ ТУРИЗМ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Freeform 5"/>
          <p:cNvSpPr/>
          <p:nvPr/>
        </p:nvSpPr>
        <p:spPr>
          <a:xfrm>
            <a:off x="2971800" y="2133720"/>
            <a:ext cx="990720" cy="1687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576" h="1063">
                <a:moveTo>
                  <a:pt x="352" y="607"/>
                </a:moveTo>
                <a:cubicBezTo>
                  <a:pt x="362" y="593"/>
                  <a:pt x="357" y="578"/>
                  <a:pt x="352" y="562"/>
                </a:cubicBezTo>
                <a:cubicBezTo>
                  <a:pt x="349" y="553"/>
                  <a:pt x="343" y="535"/>
                  <a:pt x="343" y="535"/>
                </a:cubicBezTo>
                <a:cubicBezTo>
                  <a:pt x="344" y="520"/>
                  <a:pt x="341" y="504"/>
                  <a:pt x="346" y="490"/>
                </a:cubicBezTo>
                <a:cubicBezTo>
                  <a:pt x="354" y="477"/>
                  <a:pt x="396" y="441"/>
                  <a:pt x="412" y="433"/>
                </a:cubicBezTo>
                <a:cubicBezTo>
                  <a:pt x="428" y="425"/>
                  <a:pt x="427" y="436"/>
                  <a:pt x="445" y="439"/>
                </a:cubicBezTo>
                <a:cubicBezTo>
                  <a:pt x="483" y="441"/>
                  <a:pt x="498" y="434"/>
                  <a:pt x="523" y="451"/>
                </a:cubicBezTo>
                <a:cubicBezTo>
                  <a:pt x="530" y="450"/>
                  <a:pt x="538" y="452"/>
                  <a:pt x="544" y="448"/>
                </a:cubicBezTo>
                <a:cubicBezTo>
                  <a:pt x="547" y="446"/>
                  <a:pt x="554" y="419"/>
                  <a:pt x="559" y="412"/>
                </a:cubicBezTo>
                <a:cubicBezTo>
                  <a:pt x="556" y="394"/>
                  <a:pt x="576" y="359"/>
                  <a:pt x="556" y="352"/>
                </a:cubicBezTo>
                <a:cubicBezTo>
                  <a:pt x="519" y="315"/>
                  <a:pt x="565" y="346"/>
                  <a:pt x="526" y="319"/>
                </a:cubicBezTo>
                <a:cubicBezTo>
                  <a:pt x="523" y="317"/>
                  <a:pt x="522" y="311"/>
                  <a:pt x="526" y="304"/>
                </a:cubicBezTo>
                <a:cubicBezTo>
                  <a:pt x="527" y="301"/>
                  <a:pt x="508" y="297"/>
                  <a:pt x="511" y="295"/>
                </a:cubicBezTo>
                <a:cubicBezTo>
                  <a:pt x="517" y="291"/>
                  <a:pt x="511" y="295"/>
                  <a:pt x="511" y="295"/>
                </a:cubicBezTo>
                <a:cubicBezTo>
                  <a:pt x="507" y="277"/>
                  <a:pt x="502" y="279"/>
                  <a:pt x="493" y="265"/>
                </a:cubicBezTo>
                <a:cubicBezTo>
                  <a:pt x="490" y="257"/>
                  <a:pt x="510" y="235"/>
                  <a:pt x="508" y="226"/>
                </a:cubicBezTo>
                <a:cubicBezTo>
                  <a:pt x="506" y="215"/>
                  <a:pt x="489" y="208"/>
                  <a:pt x="478" y="196"/>
                </a:cubicBezTo>
                <a:cubicBezTo>
                  <a:pt x="466" y="169"/>
                  <a:pt x="469" y="161"/>
                  <a:pt x="439" y="151"/>
                </a:cubicBezTo>
                <a:cubicBezTo>
                  <a:pt x="432" y="152"/>
                  <a:pt x="415" y="139"/>
                  <a:pt x="409" y="142"/>
                </a:cubicBezTo>
                <a:cubicBezTo>
                  <a:pt x="397" y="147"/>
                  <a:pt x="385" y="151"/>
                  <a:pt x="376" y="178"/>
                </a:cubicBezTo>
                <a:cubicBezTo>
                  <a:pt x="360" y="175"/>
                  <a:pt x="363" y="183"/>
                  <a:pt x="349" y="178"/>
                </a:cubicBezTo>
                <a:cubicBezTo>
                  <a:pt x="342" y="179"/>
                  <a:pt x="317" y="157"/>
                  <a:pt x="304" y="163"/>
                </a:cubicBezTo>
                <a:cubicBezTo>
                  <a:pt x="285" y="173"/>
                  <a:pt x="269" y="204"/>
                  <a:pt x="247" y="208"/>
                </a:cubicBezTo>
                <a:cubicBezTo>
                  <a:pt x="244" y="210"/>
                  <a:pt x="241" y="217"/>
                  <a:pt x="238" y="214"/>
                </a:cubicBezTo>
                <a:cubicBezTo>
                  <a:pt x="235" y="211"/>
                  <a:pt x="240" y="206"/>
                  <a:pt x="241" y="202"/>
                </a:cubicBezTo>
                <a:cubicBezTo>
                  <a:pt x="245" y="189"/>
                  <a:pt x="249" y="176"/>
                  <a:pt x="253" y="163"/>
                </a:cubicBezTo>
                <a:cubicBezTo>
                  <a:pt x="249" y="136"/>
                  <a:pt x="283" y="97"/>
                  <a:pt x="265" y="82"/>
                </a:cubicBezTo>
                <a:cubicBezTo>
                  <a:pt x="263" y="69"/>
                  <a:pt x="262" y="64"/>
                  <a:pt x="256" y="64"/>
                </a:cubicBezTo>
                <a:cubicBezTo>
                  <a:pt x="248" y="60"/>
                  <a:pt x="218" y="57"/>
                  <a:pt x="214" y="58"/>
                </a:cubicBezTo>
                <a:cubicBezTo>
                  <a:pt x="214" y="53"/>
                  <a:pt x="233" y="72"/>
                  <a:pt x="232" y="67"/>
                </a:cubicBezTo>
                <a:cubicBezTo>
                  <a:pt x="230" y="57"/>
                  <a:pt x="205" y="52"/>
                  <a:pt x="205" y="52"/>
                </a:cubicBezTo>
                <a:cubicBezTo>
                  <a:pt x="202" y="43"/>
                  <a:pt x="206" y="15"/>
                  <a:pt x="202" y="7"/>
                </a:cubicBezTo>
                <a:cubicBezTo>
                  <a:pt x="198" y="0"/>
                  <a:pt x="180" y="9"/>
                  <a:pt x="175" y="1"/>
                </a:cubicBezTo>
                <a:cubicBezTo>
                  <a:pt x="163" y="3"/>
                  <a:pt x="156" y="2"/>
                  <a:pt x="148" y="10"/>
                </a:cubicBezTo>
                <a:cubicBezTo>
                  <a:pt x="137" y="21"/>
                  <a:pt x="127" y="23"/>
                  <a:pt x="112" y="28"/>
                </a:cubicBezTo>
                <a:cubicBezTo>
                  <a:pt x="96" y="44"/>
                  <a:pt x="59" y="46"/>
                  <a:pt x="37" y="49"/>
                </a:cubicBezTo>
                <a:cubicBezTo>
                  <a:pt x="29" y="61"/>
                  <a:pt x="37" y="83"/>
                  <a:pt x="25" y="91"/>
                </a:cubicBezTo>
                <a:cubicBezTo>
                  <a:pt x="22" y="101"/>
                  <a:pt x="16" y="111"/>
                  <a:pt x="13" y="121"/>
                </a:cubicBezTo>
                <a:cubicBezTo>
                  <a:pt x="11" y="129"/>
                  <a:pt x="0" y="136"/>
                  <a:pt x="1" y="145"/>
                </a:cubicBezTo>
                <a:cubicBezTo>
                  <a:pt x="1" y="155"/>
                  <a:pt x="1" y="157"/>
                  <a:pt x="13" y="181"/>
                </a:cubicBezTo>
                <a:cubicBezTo>
                  <a:pt x="39" y="220"/>
                  <a:pt x="58" y="243"/>
                  <a:pt x="70" y="289"/>
                </a:cubicBezTo>
                <a:cubicBezTo>
                  <a:pt x="79" y="309"/>
                  <a:pt x="92" y="281"/>
                  <a:pt x="88" y="298"/>
                </a:cubicBezTo>
                <a:cubicBezTo>
                  <a:pt x="84" y="315"/>
                  <a:pt x="50" y="375"/>
                  <a:pt x="46" y="394"/>
                </a:cubicBezTo>
                <a:cubicBezTo>
                  <a:pt x="47" y="406"/>
                  <a:pt x="58" y="403"/>
                  <a:pt x="61" y="415"/>
                </a:cubicBezTo>
                <a:cubicBezTo>
                  <a:pt x="62" y="418"/>
                  <a:pt x="67" y="419"/>
                  <a:pt x="70" y="421"/>
                </a:cubicBezTo>
                <a:cubicBezTo>
                  <a:pt x="81" y="430"/>
                  <a:pt x="83" y="435"/>
                  <a:pt x="91" y="448"/>
                </a:cubicBezTo>
                <a:cubicBezTo>
                  <a:pt x="95" y="454"/>
                  <a:pt x="101" y="459"/>
                  <a:pt x="103" y="466"/>
                </a:cubicBezTo>
                <a:cubicBezTo>
                  <a:pt x="105" y="472"/>
                  <a:pt x="109" y="484"/>
                  <a:pt x="109" y="484"/>
                </a:cubicBezTo>
                <a:cubicBezTo>
                  <a:pt x="111" y="499"/>
                  <a:pt x="113" y="512"/>
                  <a:pt x="118" y="526"/>
                </a:cubicBezTo>
                <a:cubicBezTo>
                  <a:pt x="121" y="548"/>
                  <a:pt x="129" y="568"/>
                  <a:pt x="133" y="589"/>
                </a:cubicBezTo>
                <a:cubicBezTo>
                  <a:pt x="135" y="600"/>
                  <a:pt x="142" y="622"/>
                  <a:pt x="142" y="622"/>
                </a:cubicBezTo>
                <a:cubicBezTo>
                  <a:pt x="133" y="659"/>
                  <a:pt x="103" y="678"/>
                  <a:pt x="91" y="715"/>
                </a:cubicBezTo>
                <a:cubicBezTo>
                  <a:pt x="89" y="721"/>
                  <a:pt x="90" y="740"/>
                  <a:pt x="85" y="745"/>
                </a:cubicBezTo>
                <a:cubicBezTo>
                  <a:pt x="80" y="750"/>
                  <a:pt x="67" y="757"/>
                  <a:pt x="67" y="757"/>
                </a:cubicBezTo>
                <a:cubicBezTo>
                  <a:pt x="61" y="786"/>
                  <a:pt x="68" y="759"/>
                  <a:pt x="58" y="784"/>
                </a:cubicBezTo>
                <a:cubicBezTo>
                  <a:pt x="54" y="793"/>
                  <a:pt x="49" y="811"/>
                  <a:pt x="49" y="811"/>
                </a:cubicBezTo>
                <a:cubicBezTo>
                  <a:pt x="53" y="921"/>
                  <a:pt x="27" y="883"/>
                  <a:pt x="70" y="883"/>
                </a:cubicBezTo>
                <a:cubicBezTo>
                  <a:pt x="73" y="883"/>
                  <a:pt x="76" y="885"/>
                  <a:pt x="79" y="886"/>
                </a:cubicBezTo>
                <a:cubicBezTo>
                  <a:pt x="93" y="907"/>
                  <a:pt x="110" y="923"/>
                  <a:pt x="127" y="940"/>
                </a:cubicBezTo>
                <a:cubicBezTo>
                  <a:pt x="132" y="954"/>
                  <a:pt x="163" y="995"/>
                  <a:pt x="175" y="1003"/>
                </a:cubicBezTo>
                <a:cubicBezTo>
                  <a:pt x="186" y="1014"/>
                  <a:pt x="185" y="999"/>
                  <a:pt x="193" y="1000"/>
                </a:cubicBezTo>
                <a:cubicBezTo>
                  <a:pt x="201" y="1001"/>
                  <a:pt x="217" y="1001"/>
                  <a:pt x="226" y="1009"/>
                </a:cubicBezTo>
                <a:cubicBezTo>
                  <a:pt x="241" y="1024"/>
                  <a:pt x="241" y="1029"/>
                  <a:pt x="247" y="1051"/>
                </a:cubicBezTo>
                <a:cubicBezTo>
                  <a:pt x="249" y="1057"/>
                  <a:pt x="253" y="1051"/>
                  <a:pt x="253" y="1051"/>
                </a:cubicBezTo>
                <a:cubicBezTo>
                  <a:pt x="257" y="1047"/>
                  <a:pt x="263" y="1056"/>
                  <a:pt x="271" y="1057"/>
                </a:cubicBezTo>
                <a:cubicBezTo>
                  <a:pt x="277" y="1058"/>
                  <a:pt x="289" y="1063"/>
                  <a:pt x="289" y="1063"/>
                </a:cubicBezTo>
                <a:cubicBezTo>
                  <a:pt x="307" y="1059"/>
                  <a:pt x="313" y="1057"/>
                  <a:pt x="319" y="1039"/>
                </a:cubicBezTo>
                <a:cubicBezTo>
                  <a:pt x="313" y="1020"/>
                  <a:pt x="299" y="1008"/>
                  <a:pt x="283" y="997"/>
                </a:cubicBezTo>
                <a:cubicBezTo>
                  <a:pt x="279" y="991"/>
                  <a:pt x="278" y="984"/>
                  <a:pt x="274" y="979"/>
                </a:cubicBezTo>
                <a:cubicBezTo>
                  <a:pt x="268" y="972"/>
                  <a:pt x="251" y="984"/>
                  <a:pt x="244" y="979"/>
                </a:cubicBezTo>
                <a:cubicBezTo>
                  <a:pt x="234" y="964"/>
                  <a:pt x="212" y="960"/>
                  <a:pt x="196" y="949"/>
                </a:cubicBezTo>
                <a:cubicBezTo>
                  <a:pt x="190" y="931"/>
                  <a:pt x="184" y="905"/>
                  <a:pt x="178" y="886"/>
                </a:cubicBezTo>
                <a:cubicBezTo>
                  <a:pt x="166" y="850"/>
                  <a:pt x="169" y="813"/>
                  <a:pt x="127" y="802"/>
                </a:cubicBezTo>
                <a:cubicBezTo>
                  <a:pt x="116" y="795"/>
                  <a:pt x="110" y="782"/>
                  <a:pt x="106" y="769"/>
                </a:cubicBezTo>
                <a:cubicBezTo>
                  <a:pt x="110" y="738"/>
                  <a:pt x="105" y="752"/>
                  <a:pt x="121" y="727"/>
                </a:cubicBezTo>
                <a:cubicBezTo>
                  <a:pt x="125" y="721"/>
                  <a:pt x="133" y="709"/>
                  <a:pt x="133" y="709"/>
                </a:cubicBezTo>
                <a:cubicBezTo>
                  <a:pt x="133" y="708"/>
                  <a:pt x="138" y="678"/>
                  <a:pt x="139" y="676"/>
                </a:cubicBezTo>
                <a:lnTo>
                  <a:pt x="157" y="649"/>
                </a:lnTo>
                <a:cubicBezTo>
                  <a:pt x="148" y="655"/>
                  <a:pt x="166" y="622"/>
                  <a:pt x="166" y="622"/>
                </a:cubicBezTo>
                <a:cubicBezTo>
                  <a:pt x="167" y="619"/>
                  <a:pt x="169" y="613"/>
                  <a:pt x="169" y="613"/>
                </a:cubicBezTo>
                <a:cubicBezTo>
                  <a:pt x="171" y="595"/>
                  <a:pt x="168" y="529"/>
                  <a:pt x="175" y="511"/>
                </a:cubicBezTo>
                <a:cubicBezTo>
                  <a:pt x="182" y="493"/>
                  <a:pt x="202" y="502"/>
                  <a:pt x="211" y="502"/>
                </a:cubicBezTo>
                <a:cubicBezTo>
                  <a:pt x="221" y="488"/>
                  <a:pt x="227" y="504"/>
                  <a:pt x="232" y="514"/>
                </a:cubicBezTo>
                <a:cubicBezTo>
                  <a:pt x="237" y="524"/>
                  <a:pt x="234" y="556"/>
                  <a:pt x="244" y="565"/>
                </a:cubicBezTo>
                <a:cubicBezTo>
                  <a:pt x="257" y="578"/>
                  <a:pt x="273" y="563"/>
                  <a:pt x="292" y="571"/>
                </a:cubicBezTo>
                <a:cubicBezTo>
                  <a:pt x="311" y="579"/>
                  <a:pt x="347" y="610"/>
                  <a:pt x="358" y="613"/>
                </a:cubicBezTo>
                <a:cubicBezTo>
                  <a:pt x="375" y="607"/>
                  <a:pt x="361" y="603"/>
                  <a:pt x="361" y="589"/>
                </a:cubicBezTo>
              </a:path>
            </a:pathLst>
          </a:custGeom>
          <a:solidFill>
            <a:srgbClr val="cc66f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Freeform 8"/>
          <p:cNvSpPr/>
          <p:nvPr/>
        </p:nvSpPr>
        <p:spPr>
          <a:xfrm>
            <a:off x="3276720" y="3657600"/>
            <a:ext cx="476280" cy="676440"/>
          </a:xfrm>
          <a:custGeom>
            <a:avLst/>
            <a:gdLst>
              <a:gd name="textAreaLeft" fmla="*/ 0 w 476280"/>
              <a:gd name="textAreaRight" fmla="*/ 476640 w 4762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300" h="378">
                <a:moveTo>
                  <a:pt x="147" y="24"/>
                </a:moveTo>
                <a:cubicBezTo>
                  <a:pt x="142" y="35"/>
                  <a:pt x="132" y="52"/>
                  <a:pt x="127" y="62"/>
                </a:cubicBezTo>
                <a:cubicBezTo>
                  <a:pt x="107" y="61"/>
                  <a:pt x="122" y="61"/>
                  <a:pt x="108" y="56"/>
                </a:cubicBezTo>
                <a:cubicBezTo>
                  <a:pt x="97" y="58"/>
                  <a:pt x="93" y="49"/>
                  <a:pt x="88" y="60"/>
                </a:cubicBezTo>
                <a:cubicBezTo>
                  <a:pt x="80" y="58"/>
                  <a:pt x="76" y="72"/>
                  <a:pt x="72" y="64"/>
                </a:cubicBezTo>
                <a:cubicBezTo>
                  <a:pt x="69" y="62"/>
                  <a:pt x="78" y="39"/>
                  <a:pt x="76" y="34"/>
                </a:cubicBezTo>
                <a:cubicBezTo>
                  <a:pt x="74" y="29"/>
                  <a:pt x="64" y="38"/>
                  <a:pt x="61" y="35"/>
                </a:cubicBezTo>
                <a:cubicBezTo>
                  <a:pt x="58" y="32"/>
                  <a:pt x="59" y="19"/>
                  <a:pt x="57" y="15"/>
                </a:cubicBezTo>
                <a:cubicBezTo>
                  <a:pt x="51" y="11"/>
                  <a:pt x="53" y="13"/>
                  <a:pt x="48" y="7"/>
                </a:cubicBezTo>
                <a:cubicBezTo>
                  <a:pt x="45" y="4"/>
                  <a:pt x="38" y="17"/>
                  <a:pt x="33" y="16"/>
                </a:cubicBezTo>
                <a:cubicBezTo>
                  <a:pt x="28" y="15"/>
                  <a:pt x="19" y="0"/>
                  <a:pt x="16" y="2"/>
                </a:cubicBezTo>
                <a:cubicBezTo>
                  <a:pt x="0" y="4"/>
                  <a:pt x="10" y="15"/>
                  <a:pt x="15" y="27"/>
                </a:cubicBezTo>
                <a:cubicBezTo>
                  <a:pt x="17" y="40"/>
                  <a:pt x="17" y="53"/>
                  <a:pt x="21" y="65"/>
                </a:cubicBezTo>
                <a:cubicBezTo>
                  <a:pt x="24" y="84"/>
                  <a:pt x="22" y="99"/>
                  <a:pt x="25" y="122"/>
                </a:cubicBezTo>
                <a:cubicBezTo>
                  <a:pt x="25" y="125"/>
                  <a:pt x="35" y="131"/>
                  <a:pt x="37" y="134"/>
                </a:cubicBezTo>
                <a:cubicBezTo>
                  <a:pt x="40" y="143"/>
                  <a:pt x="39" y="151"/>
                  <a:pt x="42" y="159"/>
                </a:cubicBezTo>
                <a:cubicBezTo>
                  <a:pt x="44" y="183"/>
                  <a:pt x="43" y="166"/>
                  <a:pt x="51" y="180"/>
                </a:cubicBezTo>
                <a:cubicBezTo>
                  <a:pt x="52" y="187"/>
                  <a:pt x="42" y="197"/>
                  <a:pt x="54" y="200"/>
                </a:cubicBezTo>
                <a:cubicBezTo>
                  <a:pt x="62" y="204"/>
                  <a:pt x="64" y="208"/>
                  <a:pt x="69" y="215"/>
                </a:cubicBezTo>
                <a:cubicBezTo>
                  <a:pt x="70" y="222"/>
                  <a:pt x="75" y="227"/>
                  <a:pt x="78" y="234"/>
                </a:cubicBezTo>
                <a:cubicBezTo>
                  <a:pt x="80" y="243"/>
                  <a:pt x="83" y="255"/>
                  <a:pt x="91" y="261"/>
                </a:cubicBezTo>
                <a:cubicBezTo>
                  <a:pt x="93" y="265"/>
                  <a:pt x="93" y="271"/>
                  <a:pt x="96" y="274"/>
                </a:cubicBezTo>
                <a:cubicBezTo>
                  <a:pt x="100" y="279"/>
                  <a:pt x="109" y="282"/>
                  <a:pt x="114" y="286"/>
                </a:cubicBezTo>
                <a:cubicBezTo>
                  <a:pt x="121" y="291"/>
                  <a:pt x="125" y="297"/>
                  <a:pt x="132" y="302"/>
                </a:cubicBezTo>
                <a:cubicBezTo>
                  <a:pt x="141" y="310"/>
                  <a:pt x="164" y="317"/>
                  <a:pt x="172" y="323"/>
                </a:cubicBezTo>
                <a:cubicBezTo>
                  <a:pt x="180" y="329"/>
                  <a:pt x="179" y="336"/>
                  <a:pt x="183" y="340"/>
                </a:cubicBezTo>
                <a:cubicBezTo>
                  <a:pt x="195" y="346"/>
                  <a:pt x="189" y="344"/>
                  <a:pt x="198" y="346"/>
                </a:cubicBezTo>
                <a:cubicBezTo>
                  <a:pt x="214" y="354"/>
                  <a:pt x="227" y="371"/>
                  <a:pt x="246" y="374"/>
                </a:cubicBezTo>
                <a:cubicBezTo>
                  <a:pt x="254" y="378"/>
                  <a:pt x="260" y="372"/>
                  <a:pt x="268" y="371"/>
                </a:cubicBezTo>
                <a:cubicBezTo>
                  <a:pt x="279" y="370"/>
                  <a:pt x="289" y="370"/>
                  <a:pt x="300" y="370"/>
                </a:cubicBezTo>
                <a:cubicBezTo>
                  <a:pt x="298" y="359"/>
                  <a:pt x="298" y="352"/>
                  <a:pt x="289" y="346"/>
                </a:cubicBezTo>
                <a:cubicBezTo>
                  <a:pt x="278" y="331"/>
                  <a:pt x="273" y="311"/>
                  <a:pt x="262" y="295"/>
                </a:cubicBezTo>
                <a:cubicBezTo>
                  <a:pt x="255" y="283"/>
                  <a:pt x="247" y="287"/>
                  <a:pt x="243" y="280"/>
                </a:cubicBezTo>
                <a:cubicBezTo>
                  <a:pt x="239" y="273"/>
                  <a:pt x="236" y="274"/>
                  <a:pt x="235" y="255"/>
                </a:cubicBezTo>
                <a:cubicBezTo>
                  <a:pt x="231" y="228"/>
                  <a:pt x="225" y="193"/>
                  <a:pt x="237" y="167"/>
                </a:cubicBezTo>
                <a:cubicBezTo>
                  <a:pt x="239" y="155"/>
                  <a:pt x="238" y="139"/>
                  <a:pt x="232" y="127"/>
                </a:cubicBezTo>
                <a:cubicBezTo>
                  <a:pt x="230" y="114"/>
                  <a:pt x="218" y="95"/>
                  <a:pt x="208" y="86"/>
                </a:cubicBezTo>
                <a:cubicBezTo>
                  <a:pt x="200" y="72"/>
                  <a:pt x="193" y="78"/>
                  <a:pt x="180" y="70"/>
                </a:cubicBezTo>
                <a:cubicBezTo>
                  <a:pt x="172" y="58"/>
                  <a:pt x="167" y="42"/>
                  <a:pt x="157" y="34"/>
                </a:cubicBezTo>
                <a:cubicBezTo>
                  <a:pt x="157" y="34"/>
                  <a:pt x="152" y="24"/>
                  <a:pt x="151" y="24"/>
                </a:cubicBezTo>
                <a:cubicBezTo>
                  <a:pt x="148" y="23"/>
                  <a:pt x="142" y="27"/>
                  <a:pt x="147" y="2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Freeform 9"/>
          <p:cNvSpPr/>
          <p:nvPr/>
        </p:nvSpPr>
        <p:spPr>
          <a:xfrm>
            <a:off x="3809880" y="4495680"/>
            <a:ext cx="174600" cy="193680"/>
          </a:xfrm>
          <a:custGeom>
            <a:avLst/>
            <a:gdLst>
              <a:gd name="textAreaLeft" fmla="*/ 0 w 174600"/>
              <a:gd name="textAreaRight" fmla="*/ 174960 w 17460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10" h="122">
                <a:moveTo>
                  <a:pt x="34" y="14"/>
                </a:moveTo>
                <a:cubicBezTo>
                  <a:pt x="30" y="13"/>
                  <a:pt x="26" y="7"/>
                  <a:pt x="22" y="8"/>
                </a:cubicBezTo>
                <a:cubicBezTo>
                  <a:pt x="16" y="9"/>
                  <a:pt x="12" y="15"/>
                  <a:pt x="8" y="20"/>
                </a:cubicBezTo>
                <a:cubicBezTo>
                  <a:pt x="5" y="24"/>
                  <a:pt x="0" y="32"/>
                  <a:pt x="0" y="32"/>
                </a:cubicBezTo>
                <a:cubicBezTo>
                  <a:pt x="3" y="59"/>
                  <a:pt x="9" y="50"/>
                  <a:pt x="42" y="52"/>
                </a:cubicBezTo>
                <a:cubicBezTo>
                  <a:pt x="48" y="61"/>
                  <a:pt x="51" y="68"/>
                  <a:pt x="60" y="74"/>
                </a:cubicBezTo>
                <a:cubicBezTo>
                  <a:pt x="65" y="88"/>
                  <a:pt x="82" y="103"/>
                  <a:pt x="96" y="108"/>
                </a:cubicBezTo>
                <a:cubicBezTo>
                  <a:pt x="110" y="122"/>
                  <a:pt x="106" y="97"/>
                  <a:pt x="104" y="88"/>
                </a:cubicBezTo>
                <a:cubicBezTo>
                  <a:pt x="102" y="78"/>
                  <a:pt x="90" y="57"/>
                  <a:pt x="82" y="52"/>
                </a:cubicBezTo>
                <a:cubicBezTo>
                  <a:pt x="78" y="43"/>
                  <a:pt x="75" y="34"/>
                  <a:pt x="70" y="26"/>
                </a:cubicBezTo>
                <a:cubicBezTo>
                  <a:pt x="67" y="15"/>
                  <a:pt x="68" y="8"/>
                  <a:pt x="60" y="0"/>
                </a:cubicBezTo>
                <a:cubicBezTo>
                  <a:pt x="55" y="1"/>
                  <a:pt x="49" y="0"/>
                  <a:pt x="44" y="2"/>
                </a:cubicBezTo>
                <a:cubicBezTo>
                  <a:pt x="37" y="5"/>
                  <a:pt x="45" y="18"/>
                  <a:pt x="34" y="22"/>
                </a:cubicBezTo>
                <a:cubicBezTo>
                  <a:pt x="32" y="16"/>
                  <a:pt x="33" y="15"/>
                  <a:pt x="26" y="12"/>
                </a:cubicBezTo>
                <a:cubicBezTo>
                  <a:pt x="23" y="11"/>
                  <a:pt x="18" y="10"/>
                  <a:pt x="18" y="10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Freeform 10"/>
          <p:cNvSpPr/>
          <p:nvPr/>
        </p:nvSpPr>
        <p:spPr>
          <a:xfrm>
            <a:off x="4038480" y="4724280"/>
            <a:ext cx="92160" cy="98640"/>
          </a:xfrm>
          <a:custGeom>
            <a:avLst/>
            <a:gdLst>
              <a:gd name="textAreaLeft" fmla="*/ 0 w 92160"/>
              <a:gd name="textAreaRight" fmla="*/ 92520 w 921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58" h="62">
                <a:moveTo>
                  <a:pt x="8" y="26"/>
                </a:moveTo>
                <a:cubicBezTo>
                  <a:pt x="3" y="29"/>
                  <a:pt x="0" y="30"/>
                  <a:pt x="0" y="36"/>
                </a:cubicBezTo>
                <a:cubicBezTo>
                  <a:pt x="0" y="60"/>
                  <a:pt x="23" y="56"/>
                  <a:pt x="40" y="62"/>
                </a:cubicBezTo>
                <a:cubicBezTo>
                  <a:pt x="48" y="59"/>
                  <a:pt x="53" y="55"/>
                  <a:pt x="58" y="48"/>
                </a:cubicBezTo>
                <a:cubicBezTo>
                  <a:pt x="51" y="30"/>
                  <a:pt x="40" y="7"/>
                  <a:pt x="20" y="0"/>
                </a:cubicBezTo>
                <a:cubicBezTo>
                  <a:pt x="5" y="5"/>
                  <a:pt x="12" y="13"/>
                  <a:pt x="16" y="24"/>
                </a:cubicBezTo>
                <a:cubicBezTo>
                  <a:pt x="9" y="26"/>
                  <a:pt x="12" y="26"/>
                  <a:pt x="8" y="2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Freeform 11"/>
          <p:cNvSpPr/>
          <p:nvPr/>
        </p:nvSpPr>
        <p:spPr>
          <a:xfrm>
            <a:off x="2590920" y="3733920"/>
            <a:ext cx="1217520" cy="13316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331640"/>
              <a:gd name="textAreaBottom" fmla="*/ 1331640 h 1331640"/>
            </a:gdLst>
            <a:ahLst/>
            <a:rect l="textAreaLeft" t="textAreaTop" r="textAreaRight" b="textAreaBottom"/>
            <a:pathLst>
              <a:path w="767" h="839">
                <a:moveTo>
                  <a:pt x="674" y="821"/>
                </a:moveTo>
                <a:cubicBezTo>
                  <a:pt x="675" y="810"/>
                  <a:pt x="671" y="797"/>
                  <a:pt x="677" y="788"/>
                </a:cubicBezTo>
                <a:cubicBezTo>
                  <a:pt x="680" y="783"/>
                  <a:pt x="683" y="806"/>
                  <a:pt x="683" y="806"/>
                </a:cubicBezTo>
                <a:cubicBezTo>
                  <a:pt x="693" y="803"/>
                  <a:pt x="710" y="791"/>
                  <a:pt x="710" y="791"/>
                </a:cubicBezTo>
                <a:cubicBezTo>
                  <a:pt x="737" y="795"/>
                  <a:pt x="728" y="794"/>
                  <a:pt x="740" y="812"/>
                </a:cubicBezTo>
                <a:cubicBezTo>
                  <a:pt x="747" y="839"/>
                  <a:pt x="740" y="800"/>
                  <a:pt x="749" y="788"/>
                </a:cubicBezTo>
                <a:cubicBezTo>
                  <a:pt x="748" y="781"/>
                  <a:pt x="767" y="792"/>
                  <a:pt x="764" y="785"/>
                </a:cubicBezTo>
                <a:cubicBezTo>
                  <a:pt x="761" y="778"/>
                  <a:pt x="752" y="767"/>
                  <a:pt x="752" y="767"/>
                </a:cubicBezTo>
                <a:cubicBezTo>
                  <a:pt x="755" y="673"/>
                  <a:pt x="748" y="711"/>
                  <a:pt x="758" y="662"/>
                </a:cubicBezTo>
                <a:cubicBezTo>
                  <a:pt x="760" y="634"/>
                  <a:pt x="763" y="619"/>
                  <a:pt x="761" y="605"/>
                </a:cubicBezTo>
                <a:cubicBezTo>
                  <a:pt x="759" y="591"/>
                  <a:pt x="754" y="583"/>
                  <a:pt x="743" y="575"/>
                </a:cubicBezTo>
                <a:cubicBezTo>
                  <a:pt x="737" y="562"/>
                  <a:pt x="709" y="562"/>
                  <a:pt x="695" y="557"/>
                </a:cubicBezTo>
                <a:cubicBezTo>
                  <a:pt x="689" y="558"/>
                  <a:pt x="682" y="564"/>
                  <a:pt x="677" y="560"/>
                </a:cubicBezTo>
                <a:cubicBezTo>
                  <a:pt x="669" y="554"/>
                  <a:pt x="674" y="540"/>
                  <a:pt x="671" y="530"/>
                </a:cubicBezTo>
                <a:cubicBezTo>
                  <a:pt x="665" y="517"/>
                  <a:pt x="665" y="492"/>
                  <a:pt x="656" y="482"/>
                </a:cubicBezTo>
                <a:cubicBezTo>
                  <a:pt x="644" y="472"/>
                  <a:pt x="610" y="474"/>
                  <a:pt x="599" y="467"/>
                </a:cubicBezTo>
                <a:cubicBezTo>
                  <a:pt x="587" y="455"/>
                  <a:pt x="596" y="454"/>
                  <a:pt x="590" y="437"/>
                </a:cubicBezTo>
                <a:cubicBezTo>
                  <a:pt x="593" y="420"/>
                  <a:pt x="595" y="418"/>
                  <a:pt x="611" y="413"/>
                </a:cubicBezTo>
                <a:cubicBezTo>
                  <a:pt x="614" y="404"/>
                  <a:pt x="618" y="396"/>
                  <a:pt x="611" y="386"/>
                </a:cubicBezTo>
                <a:cubicBezTo>
                  <a:pt x="607" y="380"/>
                  <a:pt x="593" y="374"/>
                  <a:pt x="593" y="374"/>
                </a:cubicBezTo>
                <a:cubicBezTo>
                  <a:pt x="586" y="363"/>
                  <a:pt x="557" y="359"/>
                  <a:pt x="557" y="359"/>
                </a:cubicBezTo>
                <a:cubicBezTo>
                  <a:pt x="550" y="353"/>
                  <a:pt x="572" y="339"/>
                  <a:pt x="566" y="332"/>
                </a:cubicBezTo>
                <a:cubicBezTo>
                  <a:pt x="560" y="325"/>
                  <a:pt x="525" y="322"/>
                  <a:pt x="518" y="317"/>
                </a:cubicBezTo>
                <a:cubicBezTo>
                  <a:pt x="512" y="313"/>
                  <a:pt x="532" y="310"/>
                  <a:pt x="527" y="305"/>
                </a:cubicBezTo>
                <a:cubicBezTo>
                  <a:pt x="519" y="297"/>
                  <a:pt x="487" y="294"/>
                  <a:pt x="476" y="287"/>
                </a:cubicBezTo>
                <a:cubicBezTo>
                  <a:pt x="465" y="280"/>
                  <a:pt x="465" y="267"/>
                  <a:pt x="458" y="260"/>
                </a:cubicBezTo>
                <a:cubicBezTo>
                  <a:pt x="450" y="254"/>
                  <a:pt x="440" y="249"/>
                  <a:pt x="431" y="245"/>
                </a:cubicBezTo>
                <a:cubicBezTo>
                  <a:pt x="425" y="242"/>
                  <a:pt x="413" y="239"/>
                  <a:pt x="413" y="239"/>
                </a:cubicBezTo>
                <a:cubicBezTo>
                  <a:pt x="407" y="241"/>
                  <a:pt x="402" y="248"/>
                  <a:pt x="395" y="248"/>
                </a:cubicBezTo>
                <a:cubicBezTo>
                  <a:pt x="388" y="248"/>
                  <a:pt x="383" y="241"/>
                  <a:pt x="377" y="239"/>
                </a:cubicBezTo>
                <a:cubicBezTo>
                  <a:pt x="363" y="225"/>
                  <a:pt x="372" y="221"/>
                  <a:pt x="356" y="209"/>
                </a:cubicBezTo>
                <a:cubicBezTo>
                  <a:pt x="350" y="205"/>
                  <a:pt x="332" y="182"/>
                  <a:pt x="332" y="182"/>
                </a:cubicBezTo>
                <a:cubicBezTo>
                  <a:pt x="329" y="177"/>
                  <a:pt x="302" y="160"/>
                  <a:pt x="296" y="155"/>
                </a:cubicBezTo>
                <a:cubicBezTo>
                  <a:pt x="286" y="146"/>
                  <a:pt x="271" y="139"/>
                  <a:pt x="260" y="131"/>
                </a:cubicBezTo>
                <a:cubicBezTo>
                  <a:pt x="251" y="125"/>
                  <a:pt x="242" y="116"/>
                  <a:pt x="233" y="110"/>
                </a:cubicBezTo>
                <a:cubicBezTo>
                  <a:pt x="230" y="108"/>
                  <a:pt x="224" y="104"/>
                  <a:pt x="224" y="104"/>
                </a:cubicBezTo>
                <a:cubicBezTo>
                  <a:pt x="218" y="87"/>
                  <a:pt x="220" y="75"/>
                  <a:pt x="209" y="62"/>
                </a:cubicBezTo>
                <a:cubicBezTo>
                  <a:pt x="200" y="52"/>
                  <a:pt x="187" y="38"/>
                  <a:pt x="173" y="32"/>
                </a:cubicBezTo>
                <a:cubicBezTo>
                  <a:pt x="159" y="26"/>
                  <a:pt x="139" y="26"/>
                  <a:pt x="128" y="26"/>
                </a:cubicBezTo>
                <a:cubicBezTo>
                  <a:pt x="117" y="26"/>
                  <a:pt x="121" y="39"/>
                  <a:pt x="104" y="35"/>
                </a:cubicBezTo>
                <a:cubicBezTo>
                  <a:pt x="80" y="27"/>
                  <a:pt x="48" y="6"/>
                  <a:pt x="23" y="2"/>
                </a:cubicBezTo>
                <a:cubicBezTo>
                  <a:pt x="17" y="3"/>
                  <a:pt x="8" y="0"/>
                  <a:pt x="5" y="5"/>
                </a:cubicBezTo>
                <a:cubicBezTo>
                  <a:pt x="0" y="13"/>
                  <a:pt x="9" y="28"/>
                  <a:pt x="14" y="35"/>
                </a:cubicBezTo>
                <a:cubicBezTo>
                  <a:pt x="35" y="60"/>
                  <a:pt x="63" y="93"/>
                  <a:pt x="86" y="116"/>
                </a:cubicBezTo>
                <a:cubicBezTo>
                  <a:pt x="102" y="134"/>
                  <a:pt x="107" y="131"/>
                  <a:pt x="119" y="140"/>
                </a:cubicBezTo>
                <a:cubicBezTo>
                  <a:pt x="131" y="149"/>
                  <a:pt x="147" y="155"/>
                  <a:pt x="158" y="170"/>
                </a:cubicBezTo>
                <a:cubicBezTo>
                  <a:pt x="181" y="193"/>
                  <a:pt x="162" y="207"/>
                  <a:pt x="185" y="230"/>
                </a:cubicBezTo>
                <a:cubicBezTo>
                  <a:pt x="203" y="248"/>
                  <a:pt x="239" y="267"/>
                  <a:pt x="254" y="287"/>
                </a:cubicBezTo>
                <a:cubicBezTo>
                  <a:pt x="265" y="301"/>
                  <a:pt x="266" y="318"/>
                  <a:pt x="269" y="335"/>
                </a:cubicBezTo>
                <a:cubicBezTo>
                  <a:pt x="269" y="336"/>
                  <a:pt x="273" y="361"/>
                  <a:pt x="275" y="365"/>
                </a:cubicBezTo>
                <a:cubicBezTo>
                  <a:pt x="282" y="378"/>
                  <a:pt x="319" y="400"/>
                  <a:pt x="332" y="416"/>
                </a:cubicBezTo>
                <a:cubicBezTo>
                  <a:pt x="345" y="432"/>
                  <a:pt x="348" y="446"/>
                  <a:pt x="356" y="458"/>
                </a:cubicBezTo>
                <a:cubicBezTo>
                  <a:pt x="361" y="474"/>
                  <a:pt x="374" y="473"/>
                  <a:pt x="380" y="491"/>
                </a:cubicBezTo>
                <a:cubicBezTo>
                  <a:pt x="385" y="507"/>
                  <a:pt x="393" y="521"/>
                  <a:pt x="398" y="536"/>
                </a:cubicBezTo>
                <a:cubicBezTo>
                  <a:pt x="401" y="558"/>
                  <a:pt x="430" y="583"/>
                  <a:pt x="446" y="599"/>
                </a:cubicBezTo>
                <a:cubicBezTo>
                  <a:pt x="450" y="611"/>
                  <a:pt x="448" y="616"/>
                  <a:pt x="458" y="623"/>
                </a:cubicBezTo>
                <a:cubicBezTo>
                  <a:pt x="467" y="642"/>
                  <a:pt x="455" y="632"/>
                  <a:pt x="470" y="647"/>
                </a:cubicBezTo>
                <a:cubicBezTo>
                  <a:pt x="476" y="653"/>
                  <a:pt x="500" y="638"/>
                  <a:pt x="503" y="653"/>
                </a:cubicBezTo>
                <a:cubicBezTo>
                  <a:pt x="518" y="647"/>
                  <a:pt x="508" y="679"/>
                  <a:pt x="518" y="689"/>
                </a:cubicBezTo>
                <a:cubicBezTo>
                  <a:pt x="542" y="713"/>
                  <a:pt x="608" y="737"/>
                  <a:pt x="614" y="773"/>
                </a:cubicBezTo>
                <a:cubicBezTo>
                  <a:pt x="636" y="788"/>
                  <a:pt x="631" y="788"/>
                  <a:pt x="653" y="803"/>
                </a:cubicBezTo>
                <a:cubicBezTo>
                  <a:pt x="660" y="808"/>
                  <a:pt x="687" y="814"/>
                  <a:pt x="674" y="821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Freeform 12"/>
          <p:cNvSpPr/>
          <p:nvPr/>
        </p:nvSpPr>
        <p:spPr>
          <a:xfrm>
            <a:off x="2666880" y="4038480"/>
            <a:ext cx="100080" cy="76320"/>
          </a:xfrm>
          <a:custGeom>
            <a:avLst/>
            <a:gdLst>
              <a:gd name="textAreaLeft" fmla="*/ 0 w 100080"/>
              <a:gd name="textAreaRight" fmla="*/ 100440 w 1000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63" h="48">
                <a:moveTo>
                  <a:pt x="22" y="2"/>
                </a:moveTo>
                <a:cubicBezTo>
                  <a:pt x="20" y="2"/>
                  <a:pt x="0" y="0"/>
                  <a:pt x="0" y="10"/>
                </a:cubicBezTo>
                <a:cubicBezTo>
                  <a:pt x="0" y="22"/>
                  <a:pt x="28" y="28"/>
                  <a:pt x="36" y="34"/>
                </a:cubicBezTo>
                <a:cubicBezTo>
                  <a:pt x="43" y="39"/>
                  <a:pt x="56" y="48"/>
                  <a:pt x="56" y="48"/>
                </a:cubicBezTo>
                <a:cubicBezTo>
                  <a:pt x="63" y="26"/>
                  <a:pt x="43" y="2"/>
                  <a:pt x="22" y="2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Freeform 13"/>
          <p:cNvSpPr/>
          <p:nvPr/>
        </p:nvSpPr>
        <p:spPr>
          <a:xfrm>
            <a:off x="2819520" y="4191120"/>
            <a:ext cx="93600" cy="108000"/>
          </a:xfrm>
          <a:custGeom>
            <a:avLst/>
            <a:gdLst>
              <a:gd name="textAreaLeft" fmla="*/ 0 w 93600"/>
              <a:gd name="textAreaRight" fmla="*/ 93960 w 936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9" h="68">
                <a:moveTo>
                  <a:pt x="10" y="10"/>
                </a:moveTo>
                <a:cubicBezTo>
                  <a:pt x="0" y="39"/>
                  <a:pt x="19" y="56"/>
                  <a:pt x="42" y="68"/>
                </a:cubicBezTo>
                <a:cubicBezTo>
                  <a:pt x="59" y="56"/>
                  <a:pt x="45" y="7"/>
                  <a:pt x="24" y="0"/>
                </a:cubicBezTo>
                <a:cubicBezTo>
                  <a:pt x="21" y="1"/>
                  <a:pt x="18" y="2"/>
                  <a:pt x="16" y="4"/>
                </a:cubicBezTo>
                <a:cubicBezTo>
                  <a:pt x="10" y="13"/>
                  <a:pt x="14" y="23"/>
                  <a:pt x="10" y="1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Freeform 14"/>
          <p:cNvSpPr/>
          <p:nvPr/>
        </p:nvSpPr>
        <p:spPr>
          <a:xfrm>
            <a:off x="3048120" y="4495680"/>
            <a:ext cx="79200" cy="101880"/>
          </a:xfrm>
          <a:custGeom>
            <a:avLst/>
            <a:gdLst>
              <a:gd name="textAreaLeft" fmla="*/ 0 w 79200"/>
              <a:gd name="textAreaRight" fmla="*/ 79560 w 792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0" h="64">
                <a:moveTo>
                  <a:pt x="0" y="0"/>
                </a:moveTo>
                <a:cubicBezTo>
                  <a:pt x="2" y="29"/>
                  <a:pt x="0" y="58"/>
                  <a:pt x="34" y="64"/>
                </a:cubicBezTo>
                <a:cubicBezTo>
                  <a:pt x="50" y="59"/>
                  <a:pt x="43" y="63"/>
                  <a:pt x="38" y="28"/>
                </a:cubicBezTo>
                <a:cubicBezTo>
                  <a:pt x="35" y="5"/>
                  <a:pt x="11" y="11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Freeform 15"/>
          <p:cNvSpPr/>
          <p:nvPr/>
        </p:nvSpPr>
        <p:spPr>
          <a:xfrm>
            <a:off x="3200400" y="4800600"/>
            <a:ext cx="76320" cy="228600"/>
          </a:xfrm>
          <a:custGeom>
            <a:avLst/>
            <a:gdLst>
              <a:gd name="textAreaLeft" fmla="*/ 0 w 76320"/>
              <a:gd name="textAreaRight" fmla="*/ 76680 w 76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" h="28">
                <a:moveTo>
                  <a:pt x="7" y="4"/>
                </a:moveTo>
                <a:cubicBezTo>
                  <a:pt x="2" y="20"/>
                  <a:pt x="2" y="22"/>
                  <a:pt x="19" y="28"/>
                </a:cubicBezTo>
                <a:cubicBezTo>
                  <a:pt x="21" y="16"/>
                  <a:pt x="24" y="7"/>
                  <a:pt x="13" y="0"/>
                </a:cubicBezTo>
                <a:cubicBezTo>
                  <a:pt x="0" y="4"/>
                  <a:pt x="12" y="14"/>
                  <a:pt x="7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Freeform 16"/>
          <p:cNvSpPr/>
          <p:nvPr/>
        </p:nvSpPr>
        <p:spPr>
          <a:xfrm>
            <a:off x="3733920" y="5105520"/>
            <a:ext cx="1031760" cy="32688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650" h="206">
                <a:moveTo>
                  <a:pt x="380" y="48"/>
                </a:moveTo>
                <a:cubicBezTo>
                  <a:pt x="371" y="57"/>
                  <a:pt x="367" y="70"/>
                  <a:pt x="356" y="78"/>
                </a:cubicBezTo>
                <a:cubicBezTo>
                  <a:pt x="323" y="76"/>
                  <a:pt x="291" y="72"/>
                  <a:pt x="258" y="70"/>
                </a:cubicBezTo>
                <a:cubicBezTo>
                  <a:pt x="250" y="67"/>
                  <a:pt x="247" y="62"/>
                  <a:pt x="240" y="58"/>
                </a:cubicBezTo>
                <a:cubicBezTo>
                  <a:pt x="236" y="56"/>
                  <a:pt x="228" y="54"/>
                  <a:pt x="228" y="54"/>
                </a:cubicBezTo>
                <a:cubicBezTo>
                  <a:pt x="222" y="50"/>
                  <a:pt x="238" y="38"/>
                  <a:pt x="222" y="30"/>
                </a:cubicBezTo>
                <a:cubicBezTo>
                  <a:pt x="215" y="25"/>
                  <a:pt x="201" y="28"/>
                  <a:pt x="186" y="24"/>
                </a:cubicBezTo>
                <a:cubicBezTo>
                  <a:pt x="171" y="20"/>
                  <a:pt x="147" y="12"/>
                  <a:pt x="132" y="8"/>
                </a:cubicBezTo>
                <a:cubicBezTo>
                  <a:pt x="124" y="0"/>
                  <a:pt x="108" y="9"/>
                  <a:pt x="98" y="2"/>
                </a:cubicBezTo>
                <a:cubicBezTo>
                  <a:pt x="77" y="5"/>
                  <a:pt x="64" y="3"/>
                  <a:pt x="44" y="10"/>
                </a:cubicBezTo>
                <a:cubicBezTo>
                  <a:pt x="30" y="24"/>
                  <a:pt x="44" y="22"/>
                  <a:pt x="32" y="36"/>
                </a:cubicBezTo>
                <a:cubicBezTo>
                  <a:pt x="28" y="41"/>
                  <a:pt x="33" y="49"/>
                  <a:pt x="28" y="52"/>
                </a:cubicBezTo>
                <a:cubicBezTo>
                  <a:pt x="23" y="55"/>
                  <a:pt x="1" y="53"/>
                  <a:pt x="0" y="56"/>
                </a:cubicBezTo>
                <a:cubicBezTo>
                  <a:pt x="2" y="75"/>
                  <a:pt x="6" y="72"/>
                  <a:pt x="24" y="68"/>
                </a:cubicBezTo>
                <a:cubicBezTo>
                  <a:pt x="36" y="56"/>
                  <a:pt x="35" y="68"/>
                  <a:pt x="54" y="70"/>
                </a:cubicBezTo>
                <a:cubicBezTo>
                  <a:pt x="69" y="74"/>
                  <a:pt x="83" y="72"/>
                  <a:pt x="98" y="76"/>
                </a:cubicBezTo>
                <a:cubicBezTo>
                  <a:pt x="96" y="83"/>
                  <a:pt x="74" y="96"/>
                  <a:pt x="74" y="96"/>
                </a:cubicBezTo>
                <a:cubicBezTo>
                  <a:pt x="78" y="102"/>
                  <a:pt x="118" y="106"/>
                  <a:pt x="134" y="110"/>
                </a:cubicBezTo>
                <a:cubicBezTo>
                  <a:pt x="150" y="114"/>
                  <a:pt x="161" y="116"/>
                  <a:pt x="172" y="120"/>
                </a:cubicBezTo>
                <a:cubicBezTo>
                  <a:pt x="178" y="121"/>
                  <a:pt x="200" y="134"/>
                  <a:pt x="202" y="134"/>
                </a:cubicBezTo>
                <a:cubicBezTo>
                  <a:pt x="223" y="136"/>
                  <a:pt x="247" y="127"/>
                  <a:pt x="268" y="128"/>
                </a:cubicBezTo>
                <a:cubicBezTo>
                  <a:pt x="312" y="131"/>
                  <a:pt x="348" y="161"/>
                  <a:pt x="394" y="166"/>
                </a:cubicBezTo>
                <a:cubicBezTo>
                  <a:pt x="430" y="175"/>
                  <a:pt x="461" y="169"/>
                  <a:pt x="482" y="172"/>
                </a:cubicBezTo>
                <a:cubicBezTo>
                  <a:pt x="503" y="175"/>
                  <a:pt x="508" y="183"/>
                  <a:pt x="520" y="182"/>
                </a:cubicBezTo>
                <a:cubicBezTo>
                  <a:pt x="549" y="184"/>
                  <a:pt x="540" y="168"/>
                  <a:pt x="552" y="168"/>
                </a:cubicBezTo>
                <a:cubicBezTo>
                  <a:pt x="564" y="168"/>
                  <a:pt x="579" y="176"/>
                  <a:pt x="594" y="182"/>
                </a:cubicBezTo>
                <a:cubicBezTo>
                  <a:pt x="612" y="196"/>
                  <a:pt x="622" y="199"/>
                  <a:pt x="644" y="206"/>
                </a:cubicBezTo>
                <a:cubicBezTo>
                  <a:pt x="650" y="197"/>
                  <a:pt x="648" y="203"/>
                  <a:pt x="644" y="192"/>
                </a:cubicBezTo>
                <a:cubicBezTo>
                  <a:pt x="642" y="188"/>
                  <a:pt x="640" y="180"/>
                  <a:pt x="640" y="180"/>
                </a:cubicBezTo>
                <a:cubicBezTo>
                  <a:pt x="637" y="172"/>
                  <a:pt x="644" y="157"/>
                  <a:pt x="640" y="148"/>
                </a:cubicBezTo>
                <a:cubicBezTo>
                  <a:pt x="636" y="139"/>
                  <a:pt x="627" y="126"/>
                  <a:pt x="614" y="124"/>
                </a:cubicBezTo>
                <a:cubicBezTo>
                  <a:pt x="601" y="122"/>
                  <a:pt x="573" y="137"/>
                  <a:pt x="560" y="138"/>
                </a:cubicBezTo>
                <a:cubicBezTo>
                  <a:pt x="551" y="135"/>
                  <a:pt x="545" y="131"/>
                  <a:pt x="536" y="128"/>
                </a:cubicBezTo>
                <a:cubicBezTo>
                  <a:pt x="529" y="121"/>
                  <a:pt x="530" y="123"/>
                  <a:pt x="524" y="114"/>
                </a:cubicBezTo>
                <a:cubicBezTo>
                  <a:pt x="521" y="110"/>
                  <a:pt x="516" y="102"/>
                  <a:pt x="516" y="102"/>
                </a:cubicBezTo>
                <a:cubicBezTo>
                  <a:pt x="509" y="62"/>
                  <a:pt x="493" y="68"/>
                  <a:pt x="452" y="66"/>
                </a:cubicBezTo>
                <a:cubicBezTo>
                  <a:pt x="437" y="64"/>
                  <a:pt x="428" y="55"/>
                  <a:pt x="414" y="52"/>
                </a:cubicBezTo>
                <a:cubicBezTo>
                  <a:pt x="397" y="41"/>
                  <a:pt x="398" y="44"/>
                  <a:pt x="372" y="48"/>
                </a:cubicBezTo>
                <a:cubicBezTo>
                  <a:pt x="365" y="68"/>
                  <a:pt x="367" y="67"/>
                  <a:pt x="352" y="82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Freeform 17"/>
          <p:cNvSpPr/>
          <p:nvPr/>
        </p:nvSpPr>
        <p:spPr>
          <a:xfrm>
            <a:off x="4572000" y="5181480"/>
            <a:ext cx="155520" cy="63720"/>
          </a:xfrm>
          <a:custGeom>
            <a:avLst/>
            <a:gdLst>
              <a:gd name="textAreaLeft" fmla="*/ 0 w 155520"/>
              <a:gd name="textAreaRight" fmla="*/ 155880 w 1555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98" h="40">
                <a:moveTo>
                  <a:pt x="12" y="10"/>
                </a:moveTo>
                <a:cubicBezTo>
                  <a:pt x="31" y="7"/>
                  <a:pt x="51" y="3"/>
                  <a:pt x="70" y="0"/>
                </a:cubicBezTo>
                <a:cubicBezTo>
                  <a:pt x="75" y="0"/>
                  <a:pt x="97" y="1"/>
                  <a:pt x="98" y="4"/>
                </a:cubicBezTo>
                <a:cubicBezTo>
                  <a:pt x="97" y="10"/>
                  <a:pt x="69" y="14"/>
                  <a:pt x="62" y="20"/>
                </a:cubicBezTo>
                <a:cubicBezTo>
                  <a:pt x="55" y="26"/>
                  <a:pt x="67" y="39"/>
                  <a:pt x="58" y="40"/>
                </a:cubicBezTo>
                <a:cubicBezTo>
                  <a:pt x="39" y="38"/>
                  <a:pt x="26" y="32"/>
                  <a:pt x="8" y="28"/>
                </a:cubicBezTo>
                <a:cubicBezTo>
                  <a:pt x="4" y="15"/>
                  <a:pt x="0" y="17"/>
                  <a:pt x="12" y="12"/>
                </a:cubicBezTo>
                <a:cubicBezTo>
                  <a:pt x="15" y="11"/>
                  <a:pt x="20" y="13"/>
                  <a:pt x="20" y="10"/>
                </a:cubicBezTo>
                <a:cubicBezTo>
                  <a:pt x="20" y="7"/>
                  <a:pt x="15" y="10"/>
                  <a:pt x="12" y="1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Freeform 18"/>
          <p:cNvSpPr/>
          <p:nvPr/>
        </p:nvSpPr>
        <p:spPr>
          <a:xfrm>
            <a:off x="4800600" y="5334120"/>
            <a:ext cx="133200" cy="81000"/>
          </a:xfrm>
          <a:custGeom>
            <a:avLst/>
            <a:gdLst>
              <a:gd name="textAreaLeft" fmla="*/ 0 w 133200"/>
              <a:gd name="textAreaRight" fmla="*/ 133560 w 1332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84" h="51">
                <a:moveTo>
                  <a:pt x="0" y="5"/>
                </a:moveTo>
                <a:cubicBezTo>
                  <a:pt x="13" y="8"/>
                  <a:pt x="18" y="9"/>
                  <a:pt x="30" y="5"/>
                </a:cubicBezTo>
                <a:cubicBezTo>
                  <a:pt x="55" y="6"/>
                  <a:pt x="65" y="0"/>
                  <a:pt x="80" y="15"/>
                </a:cubicBezTo>
                <a:cubicBezTo>
                  <a:pt x="84" y="26"/>
                  <a:pt x="74" y="31"/>
                  <a:pt x="66" y="37"/>
                </a:cubicBezTo>
                <a:cubicBezTo>
                  <a:pt x="57" y="51"/>
                  <a:pt x="63" y="47"/>
                  <a:pt x="52" y="51"/>
                </a:cubicBezTo>
                <a:cubicBezTo>
                  <a:pt x="28" y="43"/>
                  <a:pt x="45" y="38"/>
                  <a:pt x="28" y="27"/>
                </a:cubicBezTo>
                <a:cubicBezTo>
                  <a:pt x="22" y="23"/>
                  <a:pt x="16" y="21"/>
                  <a:pt x="10" y="17"/>
                </a:cubicBezTo>
                <a:cubicBezTo>
                  <a:pt x="4" y="9"/>
                  <a:pt x="8" y="13"/>
                  <a:pt x="0" y="5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Freeform 19"/>
          <p:cNvSpPr/>
          <p:nvPr/>
        </p:nvSpPr>
        <p:spPr>
          <a:xfrm>
            <a:off x="4952880" y="5334120"/>
            <a:ext cx="119160" cy="88920"/>
          </a:xfrm>
          <a:custGeom>
            <a:avLst/>
            <a:gdLst>
              <a:gd name="textAreaLeft" fmla="*/ 0 w 119160"/>
              <a:gd name="textAreaRight" fmla="*/ 119520 w 1191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75" h="56">
                <a:moveTo>
                  <a:pt x="43" y="8"/>
                </a:moveTo>
                <a:cubicBezTo>
                  <a:pt x="42" y="10"/>
                  <a:pt x="41" y="13"/>
                  <a:pt x="39" y="14"/>
                </a:cubicBezTo>
                <a:cubicBezTo>
                  <a:pt x="37" y="16"/>
                  <a:pt x="33" y="14"/>
                  <a:pt x="31" y="16"/>
                </a:cubicBezTo>
                <a:cubicBezTo>
                  <a:pt x="16" y="33"/>
                  <a:pt x="38" y="25"/>
                  <a:pt x="19" y="32"/>
                </a:cubicBezTo>
                <a:cubicBezTo>
                  <a:pt x="15" y="34"/>
                  <a:pt x="11" y="35"/>
                  <a:pt x="7" y="36"/>
                </a:cubicBezTo>
                <a:cubicBezTo>
                  <a:pt x="0" y="56"/>
                  <a:pt x="40" y="55"/>
                  <a:pt x="49" y="56"/>
                </a:cubicBezTo>
                <a:cubicBezTo>
                  <a:pt x="63" y="51"/>
                  <a:pt x="62" y="45"/>
                  <a:pt x="69" y="34"/>
                </a:cubicBezTo>
                <a:cubicBezTo>
                  <a:pt x="71" y="25"/>
                  <a:pt x="75" y="16"/>
                  <a:pt x="69" y="6"/>
                </a:cubicBezTo>
                <a:cubicBezTo>
                  <a:pt x="66" y="1"/>
                  <a:pt x="51" y="0"/>
                  <a:pt x="51" y="0"/>
                </a:cubicBezTo>
                <a:cubicBezTo>
                  <a:pt x="48" y="3"/>
                  <a:pt x="46" y="5"/>
                  <a:pt x="43" y="8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Freeform 20"/>
          <p:cNvSpPr/>
          <p:nvPr/>
        </p:nvSpPr>
        <p:spPr>
          <a:xfrm>
            <a:off x="5105520" y="5334120"/>
            <a:ext cx="276120" cy="114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74" h="72">
                <a:moveTo>
                  <a:pt x="164" y="26"/>
                </a:moveTo>
                <a:cubicBezTo>
                  <a:pt x="138" y="19"/>
                  <a:pt x="112" y="4"/>
                  <a:pt x="86" y="0"/>
                </a:cubicBezTo>
                <a:cubicBezTo>
                  <a:pt x="70" y="2"/>
                  <a:pt x="59" y="2"/>
                  <a:pt x="68" y="24"/>
                </a:cubicBezTo>
                <a:cubicBezTo>
                  <a:pt x="70" y="28"/>
                  <a:pt x="51" y="14"/>
                  <a:pt x="56" y="16"/>
                </a:cubicBezTo>
                <a:cubicBezTo>
                  <a:pt x="68" y="28"/>
                  <a:pt x="74" y="20"/>
                  <a:pt x="60" y="18"/>
                </a:cubicBezTo>
                <a:cubicBezTo>
                  <a:pt x="96" y="42"/>
                  <a:pt x="85" y="44"/>
                  <a:pt x="78" y="42"/>
                </a:cubicBezTo>
                <a:cubicBezTo>
                  <a:pt x="74" y="41"/>
                  <a:pt x="53" y="19"/>
                  <a:pt x="40" y="22"/>
                </a:cubicBezTo>
                <a:cubicBezTo>
                  <a:pt x="27" y="25"/>
                  <a:pt x="1" y="50"/>
                  <a:pt x="0" y="58"/>
                </a:cubicBezTo>
                <a:cubicBezTo>
                  <a:pt x="2" y="71"/>
                  <a:pt x="20" y="68"/>
                  <a:pt x="32" y="72"/>
                </a:cubicBezTo>
                <a:cubicBezTo>
                  <a:pt x="79" y="70"/>
                  <a:pt x="114" y="58"/>
                  <a:pt x="160" y="56"/>
                </a:cubicBezTo>
                <a:cubicBezTo>
                  <a:pt x="163" y="55"/>
                  <a:pt x="168" y="57"/>
                  <a:pt x="170" y="54"/>
                </a:cubicBezTo>
                <a:cubicBezTo>
                  <a:pt x="174" y="48"/>
                  <a:pt x="159" y="26"/>
                  <a:pt x="152" y="26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Freeform 21"/>
          <p:cNvSpPr/>
          <p:nvPr/>
        </p:nvSpPr>
        <p:spPr>
          <a:xfrm>
            <a:off x="5181480" y="5486400"/>
            <a:ext cx="238320" cy="125280"/>
          </a:xfrm>
          <a:custGeom>
            <a:avLst/>
            <a:gdLst>
              <a:gd name="textAreaLeft" fmla="*/ 0 w 238320"/>
              <a:gd name="textAreaRight" fmla="*/ 238680 w 23832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50" h="79">
                <a:moveTo>
                  <a:pt x="107" y="26"/>
                </a:moveTo>
                <a:cubicBezTo>
                  <a:pt x="99" y="19"/>
                  <a:pt x="100" y="4"/>
                  <a:pt x="93" y="2"/>
                </a:cubicBezTo>
                <a:cubicBezTo>
                  <a:pt x="86" y="0"/>
                  <a:pt x="79" y="12"/>
                  <a:pt x="67" y="12"/>
                </a:cubicBezTo>
                <a:cubicBezTo>
                  <a:pt x="37" y="14"/>
                  <a:pt x="50" y="0"/>
                  <a:pt x="21" y="4"/>
                </a:cubicBezTo>
                <a:cubicBezTo>
                  <a:pt x="21" y="4"/>
                  <a:pt x="0" y="21"/>
                  <a:pt x="15" y="24"/>
                </a:cubicBezTo>
                <a:cubicBezTo>
                  <a:pt x="29" y="27"/>
                  <a:pt x="12" y="37"/>
                  <a:pt x="27" y="38"/>
                </a:cubicBezTo>
                <a:cubicBezTo>
                  <a:pt x="40" y="40"/>
                  <a:pt x="54" y="42"/>
                  <a:pt x="67" y="44"/>
                </a:cubicBezTo>
                <a:cubicBezTo>
                  <a:pt x="75" y="45"/>
                  <a:pt x="91" y="48"/>
                  <a:pt x="91" y="48"/>
                </a:cubicBezTo>
                <a:cubicBezTo>
                  <a:pt x="102" y="65"/>
                  <a:pt x="118" y="72"/>
                  <a:pt x="137" y="78"/>
                </a:cubicBezTo>
                <a:cubicBezTo>
                  <a:pt x="150" y="75"/>
                  <a:pt x="146" y="79"/>
                  <a:pt x="143" y="60"/>
                </a:cubicBezTo>
                <a:cubicBezTo>
                  <a:pt x="142" y="54"/>
                  <a:pt x="139" y="44"/>
                  <a:pt x="133" y="38"/>
                </a:cubicBezTo>
                <a:cubicBezTo>
                  <a:pt x="127" y="32"/>
                  <a:pt x="112" y="28"/>
                  <a:pt x="107" y="2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reeform 22"/>
          <p:cNvSpPr/>
          <p:nvPr/>
        </p:nvSpPr>
        <p:spPr>
          <a:xfrm>
            <a:off x="5410080" y="5410080"/>
            <a:ext cx="436680" cy="79560"/>
          </a:xfrm>
          <a:custGeom>
            <a:avLst/>
            <a:gdLst>
              <a:gd name="textAreaLeft" fmla="*/ 0 w 436680"/>
              <a:gd name="textAreaRight" fmla="*/ 436680 w 4366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275" h="50">
                <a:moveTo>
                  <a:pt x="275" y="15"/>
                </a:moveTo>
                <a:cubicBezTo>
                  <a:pt x="263" y="9"/>
                  <a:pt x="252" y="6"/>
                  <a:pt x="239" y="3"/>
                </a:cubicBezTo>
                <a:cubicBezTo>
                  <a:pt x="236" y="2"/>
                  <a:pt x="231" y="1"/>
                  <a:pt x="231" y="1"/>
                </a:cubicBezTo>
                <a:cubicBezTo>
                  <a:pt x="216" y="4"/>
                  <a:pt x="203" y="16"/>
                  <a:pt x="189" y="23"/>
                </a:cubicBezTo>
                <a:cubicBezTo>
                  <a:pt x="156" y="20"/>
                  <a:pt x="160" y="15"/>
                  <a:pt x="121" y="17"/>
                </a:cubicBezTo>
                <a:cubicBezTo>
                  <a:pt x="100" y="16"/>
                  <a:pt x="91" y="15"/>
                  <a:pt x="73" y="9"/>
                </a:cubicBezTo>
                <a:cubicBezTo>
                  <a:pt x="65" y="6"/>
                  <a:pt x="49" y="3"/>
                  <a:pt x="49" y="3"/>
                </a:cubicBezTo>
                <a:cubicBezTo>
                  <a:pt x="4" y="5"/>
                  <a:pt x="10" y="0"/>
                  <a:pt x="1" y="37"/>
                </a:cubicBezTo>
                <a:cubicBezTo>
                  <a:pt x="5" y="49"/>
                  <a:pt x="0" y="40"/>
                  <a:pt x="19" y="41"/>
                </a:cubicBezTo>
                <a:cubicBezTo>
                  <a:pt x="42" y="42"/>
                  <a:pt x="64" y="46"/>
                  <a:pt x="87" y="49"/>
                </a:cubicBezTo>
                <a:cubicBezTo>
                  <a:pt x="116" y="50"/>
                  <a:pt x="166" y="39"/>
                  <a:pt x="187" y="39"/>
                </a:cubicBezTo>
                <a:cubicBezTo>
                  <a:pt x="208" y="39"/>
                  <a:pt x="206" y="48"/>
                  <a:pt x="211" y="47"/>
                </a:cubicBezTo>
                <a:cubicBezTo>
                  <a:pt x="215" y="47"/>
                  <a:pt x="215" y="37"/>
                  <a:pt x="217" y="35"/>
                </a:cubicBezTo>
                <a:cubicBezTo>
                  <a:pt x="229" y="23"/>
                  <a:pt x="250" y="31"/>
                  <a:pt x="267" y="29"/>
                </a:cubicBezTo>
                <a:cubicBezTo>
                  <a:pt x="273" y="21"/>
                  <a:pt x="270" y="25"/>
                  <a:pt x="275" y="15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Freeform 23"/>
          <p:cNvSpPr/>
          <p:nvPr/>
        </p:nvSpPr>
        <p:spPr>
          <a:xfrm>
            <a:off x="5867280" y="5410080"/>
            <a:ext cx="92160" cy="68400"/>
          </a:xfrm>
          <a:custGeom>
            <a:avLst/>
            <a:gdLst>
              <a:gd name="textAreaLeft" fmla="*/ 0 w 92160"/>
              <a:gd name="textAreaRight" fmla="*/ 92520 w 921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58" h="43">
                <a:moveTo>
                  <a:pt x="50" y="4"/>
                </a:moveTo>
                <a:cubicBezTo>
                  <a:pt x="5" y="6"/>
                  <a:pt x="20" y="0"/>
                  <a:pt x="0" y="20"/>
                </a:cubicBezTo>
                <a:cubicBezTo>
                  <a:pt x="14" y="37"/>
                  <a:pt x="28" y="43"/>
                  <a:pt x="50" y="28"/>
                </a:cubicBezTo>
                <a:cubicBezTo>
                  <a:pt x="54" y="23"/>
                  <a:pt x="58" y="10"/>
                  <a:pt x="58" y="10"/>
                </a:cubicBezTo>
                <a:cubicBezTo>
                  <a:pt x="52" y="4"/>
                  <a:pt x="55" y="4"/>
                  <a:pt x="50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Freeform 24"/>
          <p:cNvSpPr/>
          <p:nvPr/>
        </p:nvSpPr>
        <p:spPr>
          <a:xfrm>
            <a:off x="6095880" y="5334120"/>
            <a:ext cx="115920" cy="54000"/>
          </a:xfrm>
          <a:custGeom>
            <a:avLst/>
            <a:gdLst>
              <a:gd name="textAreaLeft" fmla="*/ 0 w 115920"/>
              <a:gd name="textAreaRight" fmla="*/ 116280 w 1159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3" h="34">
                <a:moveTo>
                  <a:pt x="48" y="6"/>
                </a:moveTo>
                <a:cubicBezTo>
                  <a:pt x="38" y="0"/>
                  <a:pt x="43" y="0"/>
                  <a:pt x="26" y="4"/>
                </a:cubicBezTo>
                <a:cubicBezTo>
                  <a:pt x="22" y="5"/>
                  <a:pt x="14" y="8"/>
                  <a:pt x="14" y="8"/>
                </a:cubicBezTo>
                <a:cubicBezTo>
                  <a:pt x="8" y="14"/>
                  <a:pt x="3" y="14"/>
                  <a:pt x="0" y="22"/>
                </a:cubicBezTo>
                <a:cubicBezTo>
                  <a:pt x="10" y="29"/>
                  <a:pt x="15" y="30"/>
                  <a:pt x="26" y="34"/>
                </a:cubicBezTo>
                <a:cubicBezTo>
                  <a:pt x="41" y="32"/>
                  <a:pt x="55" y="31"/>
                  <a:pt x="68" y="22"/>
                </a:cubicBezTo>
                <a:cubicBezTo>
                  <a:pt x="73" y="8"/>
                  <a:pt x="66" y="13"/>
                  <a:pt x="56" y="6"/>
                </a:cubicBezTo>
                <a:cubicBezTo>
                  <a:pt x="54" y="5"/>
                  <a:pt x="52" y="2"/>
                  <a:pt x="50" y="2"/>
                </a:cubicBezTo>
                <a:cubicBezTo>
                  <a:pt x="49" y="2"/>
                  <a:pt x="49" y="5"/>
                  <a:pt x="48" y="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Freeform 25"/>
          <p:cNvSpPr/>
          <p:nvPr/>
        </p:nvSpPr>
        <p:spPr>
          <a:xfrm>
            <a:off x="5867280" y="5410080"/>
            <a:ext cx="405000" cy="247680"/>
          </a:xfrm>
          <a:custGeom>
            <a:avLst/>
            <a:gdLst>
              <a:gd name="textAreaLeft" fmla="*/ 0 w 405000"/>
              <a:gd name="textAreaRight" fmla="*/ 405360 w 405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55" h="156">
                <a:moveTo>
                  <a:pt x="219" y="21"/>
                </a:moveTo>
                <a:cubicBezTo>
                  <a:pt x="188" y="22"/>
                  <a:pt x="154" y="32"/>
                  <a:pt x="123" y="33"/>
                </a:cubicBezTo>
                <a:cubicBezTo>
                  <a:pt x="118" y="33"/>
                  <a:pt x="113" y="22"/>
                  <a:pt x="109" y="25"/>
                </a:cubicBezTo>
                <a:cubicBezTo>
                  <a:pt x="106" y="27"/>
                  <a:pt x="108" y="34"/>
                  <a:pt x="105" y="37"/>
                </a:cubicBezTo>
                <a:cubicBezTo>
                  <a:pt x="94" y="51"/>
                  <a:pt x="86" y="65"/>
                  <a:pt x="69" y="71"/>
                </a:cubicBezTo>
                <a:cubicBezTo>
                  <a:pt x="60" y="84"/>
                  <a:pt x="69" y="74"/>
                  <a:pt x="43" y="79"/>
                </a:cubicBezTo>
                <a:cubicBezTo>
                  <a:pt x="39" y="80"/>
                  <a:pt x="31" y="83"/>
                  <a:pt x="31" y="83"/>
                </a:cubicBezTo>
                <a:cubicBezTo>
                  <a:pt x="23" y="91"/>
                  <a:pt x="20" y="97"/>
                  <a:pt x="9" y="101"/>
                </a:cubicBezTo>
                <a:cubicBezTo>
                  <a:pt x="5" y="106"/>
                  <a:pt x="1" y="119"/>
                  <a:pt x="1" y="119"/>
                </a:cubicBezTo>
                <a:cubicBezTo>
                  <a:pt x="4" y="143"/>
                  <a:pt x="0" y="142"/>
                  <a:pt x="19" y="155"/>
                </a:cubicBezTo>
                <a:cubicBezTo>
                  <a:pt x="51" y="152"/>
                  <a:pt x="28" y="156"/>
                  <a:pt x="51" y="149"/>
                </a:cubicBezTo>
                <a:cubicBezTo>
                  <a:pt x="56" y="147"/>
                  <a:pt x="67" y="145"/>
                  <a:pt x="67" y="145"/>
                </a:cubicBezTo>
                <a:cubicBezTo>
                  <a:pt x="84" y="134"/>
                  <a:pt x="77" y="146"/>
                  <a:pt x="85" y="115"/>
                </a:cubicBezTo>
                <a:cubicBezTo>
                  <a:pt x="88" y="104"/>
                  <a:pt x="103" y="103"/>
                  <a:pt x="111" y="95"/>
                </a:cubicBezTo>
                <a:cubicBezTo>
                  <a:pt x="115" y="91"/>
                  <a:pt x="118" y="86"/>
                  <a:pt x="123" y="83"/>
                </a:cubicBezTo>
                <a:cubicBezTo>
                  <a:pt x="128" y="80"/>
                  <a:pt x="147" y="78"/>
                  <a:pt x="153" y="77"/>
                </a:cubicBezTo>
                <a:cubicBezTo>
                  <a:pt x="155" y="76"/>
                  <a:pt x="157" y="74"/>
                  <a:pt x="159" y="73"/>
                </a:cubicBezTo>
                <a:cubicBezTo>
                  <a:pt x="163" y="72"/>
                  <a:pt x="167" y="73"/>
                  <a:pt x="171" y="71"/>
                </a:cubicBezTo>
                <a:cubicBezTo>
                  <a:pt x="201" y="56"/>
                  <a:pt x="178" y="58"/>
                  <a:pt x="217" y="55"/>
                </a:cubicBezTo>
                <a:cubicBezTo>
                  <a:pt x="237" y="45"/>
                  <a:pt x="243" y="38"/>
                  <a:pt x="255" y="21"/>
                </a:cubicBezTo>
                <a:cubicBezTo>
                  <a:pt x="251" y="0"/>
                  <a:pt x="233" y="18"/>
                  <a:pt x="219" y="2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Freeform 26"/>
          <p:cNvSpPr/>
          <p:nvPr/>
        </p:nvSpPr>
        <p:spPr>
          <a:xfrm>
            <a:off x="6505560" y="538956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" h="37">
                <a:moveTo>
                  <a:pt x="0" y="13"/>
                </a:moveTo>
                <a:cubicBezTo>
                  <a:pt x="33" y="2"/>
                  <a:pt x="39" y="0"/>
                  <a:pt x="30" y="37"/>
                </a:cubicBezTo>
                <a:cubicBezTo>
                  <a:pt x="5" y="29"/>
                  <a:pt x="16" y="36"/>
                  <a:pt x="0" y="1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reeform 27"/>
          <p:cNvSpPr/>
          <p:nvPr/>
        </p:nvSpPr>
        <p:spPr>
          <a:xfrm>
            <a:off x="6848640" y="5495760"/>
            <a:ext cx="85680" cy="86040"/>
          </a:xfrm>
          <a:custGeom>
            <a:avLst/>
            <a:gdLst>
              <a:gd name="textAreaLeft" fmla="*/ 0 w 85680"/>
              <a:gd name="textAreaRight" fmla="*/ 85680 w 8568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Freeform 28"/>
          <p:cNvSpPr/>
          <p:nvPr/>
        </p:nvSpPr>
        <p:spPr>
          <a:xfrm>
            <a:off x="6696000" y="534348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30"/>
                </a:moveTo>
                <a:cubicBezTo>
                  <a:pt x="8" y="24"/>
                  <a:pt x="15" y="17"/>
                  <a:pt x="24" y="12"/>
                </a:cubicBezTo>
                <a:cubicBezTo>
                  <a:pt x="29" y="9"/>
                  <a:pt x="40" y="0"/>
                  <a:pt x="42" y="6"/>
                </a:cubicBezTo>
                <a:cubicBezTo>
                  <a:pt x="54" y="36"/>
                  <a:pt x="35" y="43"/>
                  <a:pt x="18" y="54"/>
                </a:cubicBezTo>
                <a:cubicBezTo>
                  <a:pt x="11" y="32"/>
                  <a:pt x="18" y="39"/>
                  <a:pt x="0" y="3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Freeform 29"/>
          <p:cNvSpPr/>
          <p:nvPr/>
        </p:nvSpPr>
        <p:spPr>
          <a:xfrm>
            <a:off x="6781680" y="5181480"/>
            <a:ext cx="88920" cy="108000"/>
          </a:xfrm>
          <a:custGeom>
            <a:avLst/>
            <a:gdLst>
              <a:gd name="textAreaLeft" fmla="*/ 0 w 88920"/>
              <a:gd name="textAreaRight" fmla="*/ 89280 w 889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56" h="68">
                <a:moveTo>
                  <a:pt x="36" y="6"/>
                </a:moveTo>
                <a:cubicBezTo>
                  <a:pt x="28" y="9"/>
                  <a:pt x="12" y="18"/>
                  <a:pt x="12" y="18"/>
                </a:cubicBezTo>
                <a:cubicBezTo>
                  <a:pt x="3" y="32"/>
                  <a:pt x="6" y="25"/>
                  <a:pt x="2" y="36"/>
                </a:cubicBezTo>
                <a:cubicBezTo>
                  <a:pt x="4" y="47"/>
                  <a:pt x="0" y="64"/>
                  <a:pt x="12" y="68"/>
                </a:cubicBezTo>
                <a:cubicBezTo>
                  <a:pt x="23" y="61"/>
                  <a:pt x="30" y="50"/>
                  <a:pt x="42" y="46"/>
                </a:cubicBezTo>
                <a:cubicBezTo>
                  <a:pt x="55" y="36"/>
                  <a:pt x="56" y="29"/>
                  <a:pt x="50" y="10"/>
                </a:cubicBezTo>
                <a:cubicBezTo>
                  <a:pt x="49" y="6"/>
                  <a:pt x="38" y="5"/>
                  <a:pt x="36" y="4"/>
                </a:cubicBezTo>
                <a:cubicBezTo>
                  <a:pt x="34" y="3"/>
                  <a:pt x="30" y="0"/>
                  <a:pt x="30" y="2"/>
                </a:cubicBezTo>
                <a:cubicBezTo>
                  <a:pt x="30" y="4"/>
                  <a:pt x="34" y="5"/>
                  <a:pt x="36" y="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Freeform 30"/>
          <p:cNvSpPr/>
          <p:nvPr/>
        </p:nvSpPr>
        <p:spPr>
          <a:xfrm>
            <a:off x="7086600" y="5029200"/>
            <a:ext cx="98280" cy="155520"/>
          </a:xfrm>
          <a:custGeom>
            <a:avLst/>
            <a:gdLst>
              <a:gd name="textAreaLeft" fmla="*/ 0 w 98280"/>
              <a:gd name="textAreaRight" fmla="*/ 98640 w 982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62" h="98">
                <a:moveTo>
                  <a:pt x="40" y="0"/>
                </a:moveTo>
                <a:cubicBezTo>
                  <a:pt x="37" y="8"/>
                  <a:pt x="32" y="11"/>
                  <a:pt x="28" y="18"/>
                </a:cubicBezTo>
                <a:cubicBezTo>
                  <a:pt x="25" y="56"/>
                  <a:pt x="33" y="35"/>
                  <a:pt x="6" y="44"/>
                </a:cubicBezTo>
                <a:cubicBezTo>
                  <a:pt x="0" y="56"/>
                  <a:pt x="4" y="64"/>
                  <a:pt x="12" y="74"/>
                </a:cubicBezTo>
                <a:cubicBezTo>
                  <a:pt x="15" y="82"/>
                  <a:pt x="15" y="93"/>
                  <a:pt x="22" y="98"/>
                </a:cubicBezTo>
                <a:cubicBezTo>
                  <a:pt x="35" y="95"/>
                  <a:pt x="32" y="79"/>
                  <a:pt x="48" y="74"/>
                </a:cubicBezTo>
                <a:cubicBezTo>
                  <a:pt x="58" y="61"/>
                  <a:pt x="55" y="48"/>
                  <a:pt x="60" y="32"/>
                </a:cubicBezTo>
                <a:cubicBezTo>
                  <a:pt x="57" y="10"/>
                  <a:pt x="62" y="25"/>
                  <a:pt x="52" y="12"/>
                </a:cubicBezTo>
                <a:cubicBezTo>
                  <a:pt x="49" y="8"/>
                  <a:pt x="44" y="0"/>
                  <a:pt x="44" y="0"/>
                </a:cubicBezTo>
                <a:cubicBezTo>
                  <a:pt x="39" y="10"/>
                  <a:pt x="40" y="11"/>
                  <a:pt x="4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Freeform 31"/>
          <p:cNvSpPr/>
          <p:nvPr/>
        </p:nvSpPr>
        <p:spPr>
          <a:xfrm>
            <a:off x="4495680" y="3657600"/>
            <a:ext cx="1087560" cy="692280"/>
          </a:xfrm>
          <a:custGeom>
            <a:avLst/>
            <a:gdLst>
              <a:gd name="textAreaLeft" fmla="*/ 0 w 1087560"/>
              <a:gd name="textAreaRight" fmla="*/ 1087920 w 108756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685" h="436">
                <a:moveTo>
                  <a:pt x="516" y="23"/>
                </a:moveTo>
                <a:cubicBezTo>
                  <a:pt x="511" y="22"/>
                  <a:pt x="516" y="5"/>
                  <a:pt x="513" y="4"/>
                </a:cubicBezTo>
                <a:cubicBezTo>
                  <a:pt x="510" y="3"/>
                  <a:pt x="504" y="11"/>
                  <a:pt x="500" y="16"/>
                </a:cubicBezTo>
                <a:cubicBezTo>
                  <a:pt x="496" y="21"/>
                  <a:pt x="496" y="26"/>
                  <a:pt x="491" y="32"/>
                </a:cubicBezTo>
                <a:cubicBezTo>
                  <a:pt x="490" y="44"/>
                  <a:pt x="471" y="41"/>
                  <a:pt x="468" y="53"/>
                </a:cubicBezTo>
                <a:cubicBezTo>
                  <a:pt x="466" y="61"/>
                  <a:pt x="461" y="65"/>
                  <a:pt x="456" y="71"/>
                </a:cubicBezTo>
                <a:cubicBezTo>
                  <a:pt x="455" y="73"/>
                  <a:pt x="439" y="98"/>
                  <a:pt x="435" y="101"/>
                </a:cubicBezTo>
                <a:cubicBezTo>
                  <a:pt x="430" y="106"/>
                  <a:pt x="416" y="104"/>
                  <a:pt x="411" y="109"/>
                </a:cubicBezTo>
                <a:cubicBezTo>
                  <a:pt x="408" y="112"/>
                  <a:pt x="422" y="128"/>
                  <a:pt x="419" y="131"/>
                </a:cubicBezTo>
                <a:cubicBezTo>
                  <a:pt x="418" y="135"/>
                  <a:pt x="416" y="141"/>
                  <a:pt x="411" y="143"/>
                </a:cubicBezTo>
                <a:cubicBezTo>
                  <a:pt x="406" y="145"/>
                  <a:pt x="397" y="140"/>
                  <a:pt x="387" y="143"/>
                </a:cubicBezTo>
                <a:cubicBezTo>
                  <a:pt x="377" y="146"/>
                  <a:pt x="362" y="156"/>
                  <a:pt x="353" y="160"/>
                </a:cubicBezTo>
                <a:cubicBezTo>
                  <a:pt x="344" y="164"/>
                  <a:pt x="341" y="162"/>
                  <a:pt x="333" y="167"/>
                </a:cubicBezTo>
                <a:cubicBezTo>
                  <a:pt x="325" y="175"/>
                  <a:pt x="306" y="191"/>
                  <a:pt x="306" y="191"/>
                </a:cubicBezTo>
                <a:cubicBezTo>
                  <a:pt x="290" y="216"/>
                  <a:pt x="270" y="244"/>
                  <a:pt x="240" y="254"/>
                </a:cubicBezTo>
                <a:cubicBezTo>
                  <a:pt x="229" y="270"/>
                  <a:pt x="207" y="279"/>
                  <a:pt x="189" y="284"/>
                </a:cubicBezTo>
                <a:cubicBezTo>
                  <a:pt x="176" y="291"/>
                  <a:pt x="170" y="282"/>
                  <a:pt x="158" y="287"/>
                </a:cubicBezTo>
                <a:cubicBezTo>
                  <a:pt x="146" y="292"/>
                  <a:pt x="126" y="299"/>
                  <a:pt x="117" y="314"/>
                </a:cubicBezTo>
                <a:cubicBezTo>
                  <a:pt x="102" y="328"/>
                  <a:pt x="108" y="368"/>
                  <a:pt x="102" y="379"/>
                </a:cubicBezTo>
                <a:cubicBezTo>
                  <a:pt x="96" y="390"/>
                  <a:pt x="89" y="386"/>
                  <a:pt x="81" y="383"/>
                </a:cubicBezTo>
                <a:cubicBezTo>
                  <a:pt x="65" y="379"/>
                  <a:pt x="66" y="372"/>
                  <a:pt x="54" y="362"/>
                </a:cubicBezTo>
                <a:cubicBezTo>
                  <a:pt x="48" y="358"/>
                  <a:pt x="51" y="367"/>
                  <a:pt x="45" y="365"/>
                </a:cubicBezTo>
                <a:cubicBezTo>
                  <a:pt x="39" y="365"/>
                  <a:pt x="27" y="364"/>
                  <a:pt x="20" y="362"/>
                </a:cubicBezTo>
                <a:cubicBezTo>
                  <a:pt x="14" y="361"/>
                  <a:pt x="0" y="346"/>
                  <a:pt x="0" y="350"/>
                </a:cubicBezTo>
                <a:cubicBezTo>
                  <a:pt x="0" y="354"/>
                  <a:pt x="15" y="379"/>
                  <a:pt x="21" y="386"/>
                </a:cubicBezTo>
                <a:cubicBezTo>
                  <a:pt x="23" y="392"/>
                  <a:pt x="35" y="393"/>
                  <a:pt x="39" y="395"/>
                </a:cubicBezTo>
                <a:cubicBezTo>
                  <a:pt x="43" y="398"/>
                  <a:pt x="39" y="406"/>
                  <a:pt x="44" y="412"/>
                </a:cubicBezTo>
                <a:cubicBezTo>
                  <a:pt x="49" y="418"/>
                  <a:pt x="65" y="432"/>
                  <a:pt x="72" y="434"/>
                </a:cubicBezTo>
                <a:cubicBezTo>
                  <a:pt x="79" y="436"/>
                  <a:pt x="72" y="427"/>
                  <a:pt x="87" y="425"/>
                </a:cubicBezTo>
                <a:cubicBezTo>
                  <a:pt x="128" y="417"/>
                  <a:pt x="76" y="426"/>
                  <a:pt x="165" y="419"/>
                </a:cubicBezTo>
                <a:cubicBezTo>
                  <a:pt x="175" y="418"/>
                  <a:pt x="183" y="406"/>
                  <a:pt x="183" y="406"/>
                </a:cubicBezTo>
                <a:cubicBezTo>
                  <a:pt x="189" y="402"/>
                  <a:pt x="182" y="384"/>
                  <a:pt x="192" y="380"/>
                </a:cubicBezTo>
                <a:cubicBezTo>
                  <a:pt x="202" y="376"/>
                  <a:pt x="230" y="379"/>
                  <a:pt x="242" y="383"/>
                </a:cubicBezTo>
                <a:cubicBezTo>
                  <a:pt x="255" y="385"/>
                  <a:pt x="255" y="400"/>
                  <a:pt x="264" y="403"/>
                </a:cubicBezTo>
                <a:cubicBezTo>
                  <a:pt x="273" y="406"/>
                  <a:pt x="290" y="404"/>
                  <a:pt x="299" y="401"/>
                </a:cubicBezTo>
                <a:cubicBezTo>
                  <a:pt x="314" y="404"/>
                  <a:pt x="312" y="387"/>
                  <a:pt x="321" y="385"/>
                </a:cubicBezTo>
                <a:cubicBezTo>
                  <a:pt x="330" y="383"/>
                  <a:pt x="344" y="392"/>
                  <a:pt x="351" y="388"/>
                </a:cubicBezTo>
                <a:cubicBezTo>
                  <a:pt x="358" y="384"/>
                  <a:pt x="358" y="372"/>
                  <a:pt x="360" y="362"/>
                </a:cubicBezTo>
                <a:cubicBezTo>
                  <a:pt x="361" y="351"/>
                  <a:pt x="358" y="339"/>
                  <a:pt x="363" y="329"/>
                </a:cubicBezTo>
                <a:cubicBezTo>
                  <a:pt x="366" y="323"/>
                  <a:pt x="381" y="323"/>
                  <a:pt x="381" y="323"/>
                </a:cubicBezTo>
                <a:cubicBezTo>
                  <a:pt x="386" y="318"/>
                  <a:pt x="389" y="296"/>
                  <a:pt x="395" y="287"/>
                </a:cubicBezTo>
                <a:cubicBezTo>
                  <a:pt x="401" y="278"/>
                  <a:pt x="409" y="275"/>
                  <a:pt x="414" y="269"/>
                </a:cubicBezTo>
                <a:cubicBezTo>
                  <a:pt x="417" y="261"/>
                  <a:pt x="424" y="256"/>
                  <a:pt x="426" y="248"/>
                </a:cubicBezTo>
                <a:cubicBezTo>
                  <a:pt x="433" y="221"/>
                  <a:pt x="424" y="196"/>
                  <a:pt x="456" y="185"/>
                </a:cubicBezTo>
                <a:cubicBezTo>
                  <a:pt x="482" y="188"/>
                  <a:pt x="514" y="181"/>
                  <a:pt x="540" y="187"/>
                </a:cubicBezTo>
                <a:cubicBezTo>
                  <a:pt x="567" y="205"/>
                  <a:pt x="595" y="187"/>
                  <a:pt x="626" y="184"/>
                </a:cubicBezTo>
                <a:cubicBezTo>
                  <a:pt x="638" y="166"/>
                  <a:pt x="630" y="174"/>
                  <a:pt x="615" y="170"/>
                </a:cubicBezTo>
                <a:cubicBezTo>
                  <a:pt x="612" y="164"/>
                  <a:pt x="606" y="157"/>
                  <a:pt x="606" y="152"/>
                </a:cubicBezTo>
                <a:cubicBezTo>
                  <a:pt x="606" y="147"/>
                  <a:pt x="604" y="144"/>
                  <a:pt x="615" y="142"/>
                </a:cubicBezTo>
                <a:cubicBezTo>
                  <a:pt x="626" y="140"/>
                  <a:pt x="662" y="144"/>
                  <a:pt x="672" y="143"/>
                </a:cubicBezTo>
                <a:cubicBezTo>
                  <a:pt x="674" y="140"/>
                  <a:pt x="679" y="138"/>
                  <a:pt x="678" y="134"/>
                </a:cubicBezTo>
                <a:cubicBezTo>
                  <a:pt x="677" y="130"/>
                  <a:pt x="685" y="117"/>
                  <a:pt x="681" y="115"/>
                </a:cubicBezTo>
                <a:cubicBezTo>
                  <a:pt x="664" y="106"/>
                  <a:pt x="680" y="110"/>
                  <a:pt x="647" y="103"/>
                </a:cubicBezTo>
                <a:cubicBezTo>
                  <a:pt x="641" y="98"/>
                  <a:pt x="640" y="94"/>
                  <a:pt x="632" y="92"/>
                </a:cubicBezTo>
                <a:cubicBezTo>
                  <a:pt x="624" y="90"/>
                  <a:pt x="606" y="91"/>
                  <a:pt x="600" y="88"/>
                </a:cubicBezTo>
                <a:cubicBezTo>
                  <a:pt x="594" y="85"/>
                  <a:pt x="604" y="73"/>
                  <a:pt x="597" y="71"/>
                </a:cubicBezTo>
                <a:cubicBezTo>
                  <a:pt x="584" y="72"/>
                  <a:pt x="571" y="76"/>
                  <a:pt x="558" y="74"/>
                </a:cubicBezTo>
                <a:cubicBezTo>
                  <a:pt x="549" y="73"/>
                  <a:pt x="572" y="37"/>
                  <a:pt x="572" y="37"/>
                </a:cubicBezTo>
                <a:cubicBezTo>
                  <a:pt x="567" y="28"/>
                  <a:pt x="554" y="27"/>
                  <a:pt x="546" y="20"/>
                </a:cubicBezTo>
                <a:cubicBezTo>
                  <a:pt x="541" y="15"/>
                  <a:pt x="539" y="0"/>
                  <a:pt x="534" y="1"/>
                </a:cubicBezTo>
                <a:cubicBezTo>
                  <a:pt x="529" y="2"/>
                  <a:pt x="520" y="18"/>
                  <a:pt x="516" y="23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Freeform 32"/>
          <p:cNvSpPr/>
          <p:nvPr/>
        </p:nvSpPr>
        <p:spPr>
          <a:xfrm>
            <a:off x="4419720" y="3886200"/>
            <a:ext cx="1125360" cy="102564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1025640"/>
              <a:gd name="textAreaBottom" fmla="*/ 1026000 h 1025640"/>
            </a:gdLst>
            <a:ahLst/>
            <a:rect l="textAreaLeft" t="textAreaTop" r="textAreaRight" b="textAreaBottom"/>
            <a:pathLst>
              <a:path w="709" h="598">
                <a:moveTo>
                  <a:pt x="609" y="18"/>
                </a:moveTo>
                <a:cubicBezTo>
                  <a:pt x="600" y="5"/>
                  <a:pt x="584" y="3"/>
                  <a:pt x="569" y="0"/>
                </a:cubicBezTo>
                <a:cubicBezTo>
                  <a:pt x="542" y="2"/>
                  <a:pt x="518" y="5"/>
                  <a:pt x="491" y="6"/>
                </a:cubicBezTo>
                <a:cubicBezTo>
                  <a:pt x="481" y="16"/>
                  <a:pt x="471" y="25"/>
                  <a:pt x="467" y="38"/>
                </a:cubicBezTo>
                <a:cubicBezTo>
                  <a:pt x="465" y="52"/>
                  <a:pt x="465" y="68"/>
                  <a:pt x="457" y="80"/>
                </a:cubicBezTo>
                <a:cubicBezTo>
                  <a:pt x="454" y="100"/>
                  <a:pt x="452" y="99"/>
                  <a:pt x="439" y="112"/>
                </a:cubicBezTo>
                <a:cubicBezTo>
                  <a:pt x="436" y="122"/>
                  <a:pt x="428" y="140"/>
                  <a:pt x="419" y="146"/>
                </a:cubicBezTo>
                <a:cubicBezTo>
                  <a:pt x="415" y="152"/>
                  <a:pt x="407" y="164"/>
                  <a:pt x="407" y="164"/>
                </a:cubicBezTo>
                <a:cubicBezTo>
                  <a:pt x="402" y="170"/>
                  <a:pt x="407" y="187"/>
                  <a:pt x="401" y="194"/>
                </a:cubicBezTo>
                <a:cubicBezTo>
                  <a:pt x="395" y="201"/>
                  <a:pt x="381" y="201"/>
                  <a:pt x="373" y="204"/>
                </a:cubicBezTo>
                <a:cubicBezTo>
                  <a:pt x="365" y="207"/>
                  <a:pt x="359" y="209"/>
                  <a:pt x="353" y="212"/>
                </a:cubicBezTo>
                <a:cubicBezTo>
                  <a:pt x="348" y="216"/>
                  <a:pt x="335" y="220"/>
                  <a:pt x="335" y="220"/>
                </a:cubicBezTo>
                <a:cubicBezTo>
                  <a:pt x="320" y="217"/>
                  <a:pt x="308" y="209"/>
                  <a:pt x="295" y="202"/>
                </a:cubicBezTo>
                <a:cubicBezTo>
                  <a:pt x="288" y="199"/>
                  <a:pt x="273" y="194"/>
                  <a:pt x="273" y="194"/>
                </a:cubicBezTo>
                <a:cubicBezTo>
                  <a:pt x="266" y="195"/>
                  <a:pt x="259" y="194"/>
                  <a:pt x="253" y="196"/>
                </a:cubicBezTo>
                <a:cubicBezTo>
                  <a:pt x="248" y="198"/>
                  <a:pt x="243" y="211"/>
                  <a:pt x="239" y="214"/>
                </a:cubicBezTo>
                <a:cubicBezTo>
                  <a:pt x="235" y="218"/>
                  <a:pt x="240" y="209"/>
                  <a:pt x="233" y="212"/>
                </a:cubicBezTo>
                <a:cubicBezTo>
                  <a:pt x="226" y="215"/>
                  <a:pt x="210" y="226"/>
                  <a:pt x="199" y="230"/>
                </a:cubicBezTo>
                <a:cubicBezTo>
                  <a:pt x="189" y="233"/>
                  <a:pt x="169" y="236"/>
                  <a:pt x="169" y="236"/>
                </a:cubicBezTo>
                <a:cubicBezTo>
                  <a:pt x="158" y="237"/>
                  <a:pt x="139" y="245"/>
                  <a:pt x="125" y="244"/>
                </a:cubicBezTo>
                <a:cubicBezTo>
                  <a:pt x="111" y="243"/>
                  <a:pt x="97" y="235"/>
                  <a:pt x="87" y="228"/>
                </a:cubicBezTo>
                <a:cubicBezTo>
                  <a:pt x="79" y="215"/>
                  <a:pt x="78" y="205"/>
                  <a:pt x="63" y="200"/>
                </a:cubicBezTo>
                <a:cubicBezTo>
                  <a:pt x="58" y="193"/>
                  <a:pt x="66" y="177"/>
                  <a:pt x="59" y="172"/>
                </a:cubicBezTo>
                <a:cubicBezTo>
                  <a:pt x="28" y="174"/>
                  <a:pt x="28" y="176"/>
                  <a:pt x="13" y="198"/>
                </a:cubicBezTo>
                <a:cubicBezTo>
                  <a:pt x="11" y="221"/>
                  <a:pt x="8" y="214"/>
                  <a:pt x="3" y="230"/>
                </a:cubicBezTo>
                <a:cubicBezTo>
                  <a:pt x="4" y="247"/>
                  <a:pt x="0" y="266"/>
                  <a:pt x="7" y="282"/>
                </a:cubicBezTo>
                <a:cubicBezTo>
                  <a:pt x="10" y="289"/>
                  <a:pt x="23" y="300"/>
                  <a:pt x="23" y="300"/>
                </a:cubicBezTo>
                <a:cubicBezTo>
                  <a:pt x="26" y="312"/>
                  <a:pt x="31" y="322"/>
                  <a:pt x="19" y="330"/>
                </a:cubicBezTo>
                <a:cubicBezTo>
                  <a:pt x="15" y="336"/>
                  <a:pt x="9" y="344"/>
                  <a:pt x="15" y="352"/>
                </a:cubicBezTo>
                <a:cubicBezTo>
                  <a:pt x="19" y="358"/>
                  <a:pt x="33" y="364"/>
                  <a:pt x="33" y="364"/>
                </a:cubicBezTo>
                <a:cubicBezTo>
                  <a:pt x="46" y="383"/>
                  <a:pt x="24" y="349"/>
                  <a:pt x="39" y="386"/>
                </a:cubicBezTo>
                <a:cubicBezTo>
                  <a:pt x="42" y="393"/>
                  <a:pt x="67" y="394"/>
                  <a:pt x="69" y="394"/>
                </a:cubicBezTo>
                <a:cubicBezTo>
                  <a:pt x="71" y="401"/>
                  <a:pt x="75" y="405"/>
                  <a:pt x="77" y="412"/>
                </a:cubicBezTo>
                <a:cubicBezTo>
                  <a:pt x="79" y="438"/>
                  <a:pt x="84" y="459"/>
                  <a:pt x="87" y="484"/>
                </a:cubicBezTo>
                <a:cubicBezTo>
                  <a:pt x="88" y="493"/>
                  <a:pt x="86" y="503"/>
                  <a:pt x="91" y="510"/>
                </a:cubicBezTo>
                <a:cubicBezTo>
                  <a:pt x="97" y="517"/>
                  <a:pt x="112" y="517"/>
                  <a:pt x="119" y="518"/>
                </a:cubicBezTo>
                <a:cubicBezTo>
                  <a:pt x="130" y="522"/>
                  <a:pt x="142" y="524"/>
                  <a:pt x="153" y="528"/>
                </a:cubicBezTo>
                <a:cubicBezTo>
                  <a:pt x="161" y="529"/>
                  <a:pt x="163" y="516"/>
                  <a:pt x="169" y="514"/>
                </a:cubicBezTo>
                <a:cubicBezTo>
                  <a:pt x="175" y="512"/>
                  <a:pt x="185" y="512"/>
                  <a:pt x="191" y="514"/>
                </a:cubicBezTo>
                <a:cubicBezTo>
                  <a:pt x="198" y="515"/>
                  <a:pt x="203" y="519"/>
                  <a:pt x="205" y="526"/>
                </a:cubicBezTo>
                <a:cubicBezTo>
                  <a:pt x="207" y="533"/>
                  <a:pt x="198" y="556"/>
                  <a:pt x="203" y="558"/>
                </a:cubicBezTo>
                <a:cubicBezTo>
                  <a:pt x="211" y="564"/>
                  <a:pt x="229" y="542"/>
                  <a:pt x="239" y="540"/>
                </a:cubicBezTo>
                <a:cubicBezTo>
                  <a:pt x="249" y="538"/>
                  <a:pt x="256" y="548"/>
                  <a:pt x="263" y="546"/>
                </a:cubicBezTo>
                <a:cubicBezTo>
                  <a:pt x="273" y="543"/>
                  <a:pt x="278" y="538"/>
                  <a:pt x="281" y="528"/>
                </a:cubicBezTo>
                <a:cubicBezTo>
                  <a:pt x="286" y="525"/>
                  <a:pt x="285" y="515"/>
                  <a:pt x="293" y="516"/>
                </a:cubicBezTo>
                <a:cubicBezTo>
                  <a:pt x="297" y="517"/>
                  <a:pt x="301" y="531"/>
                  <a:pt x="307" y="534"/>
                </a:cubicBezTo>
                <a:cubicBezTo>
                  <a:pt x="313" y="537"/>
                  <a:pt x="326" y="534"/>
                  <a:pt x="329" y="536"/>
                </a:cubicBezTo>
                <a:cubicBezTo>
                  <a:pt x="328" y="539"/>
                  <a:pt x="329" y="542"/>
                  <a:pt x="327" y="544"/>
                </a:cubicBezTo>
                <a:cubicBezTo>
                  <a:pt x="326" y="546"/>
                  <a:pt x="319" y="548"/>
                  <a:pt x="321" y="548"/>
                </a:cubicBezTo>
                <a:cubicBezTo>
                  <a:pt x="328" y="549"/>
                  <a:pt x="359" y="540"/>
                  <a:pt x="369" y="540"/>
                </a:cubicBezTo>
                <a:cubicBezTo>
                  <a:pt x="379" y="540"/>
                  <a:pt x="377" y="546"/>
                  <a:pt x="383" y="550"/>
                </a:cubicBezTo>
                <a:cubicBezTo>
                  <a:pt x="394" y="555"/>
                  <a:pt x="399" y="554"/>
                  <a:pt x="403" y="562"/>
                </a:cubicBezTo>
                <a:cubicBezTo>
                  <a:pt x="407" y="570"/>
                  <a:pt x="396" y="595"/>
                  <a:pt x="407" y="598"/>
                </a:cubicBezTo>
                <a:cubicBezTo>
                  <a:pt x="431" y="595"/>
                  <a:pt x="446" y="585"/>
                  <a:pt x="467" y="578"/>
                </a:cubicBezTo>
                <a:cubicBezTo>
                  <a:pt x="473" y="576"/>
                  <a:pt x="479" y="574"/>
                  <a:pt x="485" y="572"/>
                </a:cubicBezTo>
                <a:cubicBezTo>
                  <a:pt x="487" y="571"/>
                  <a:pt x="491" y="570"/>
                  <a:pt x="491" y="570"/>
                </a:cubicBezTo>
                <a:cubicBezTo>
                  <a:pt x="500" y="584"/>
                  <a:pt x="492" y="581"/>
                  <a:pt x="515" y="584"/>
                </a:cubicBezTo>
                <a:cubicBezTo>
                  <a:pt x="524" y="566"/>
                  <a:pt x="513" y="546"/>
                  <a:pt x="507" y="528"/>
                </a:cubicBezTo>
                <a:cubicBezTo>
                  <a:pt x="508" y="521"/>
                  <a:pt x="506" y="514"/>
                  <a:pt x="509" y="508"/>
                </a:cubicBezTo>
                <a:cubicBezTo>
                  <a:pt x="511" y="505"/>
                  <a:pt x="516" y="508"/>
                  <a:pt x="519" y="506"/>
                </a:cubicBezTo>
                <a:cubicBezTo>
                  <a:pt x="523" y="503"/>
                  <a:pt x="527" y="494"/>
                  <a:pt x="527" y="494"/>
                </a:cubicBezTo>
                <a:cubicBezTo>
                  <a:pt x="531" y="469"/>
                  <a:pt x="535" y="491"/>
                  <a:pt x="541" y="474"/>
                </a:cubicBezTo>
                <a:cubicBezTo>
                  <a:pt x="540" y="472"/>
                  <a:pt x="541" y="469"/>
                  <a:pt x="539" y="468"/>
                </a:cubicBezTo>
                <a:cubicBezTo>
                  <a:pt x="536" y="466"/>
                  <a:pt x="527" y="464"/>
                  <a:pt x="527" y="464"/>
                </a:cubicBezTo>
                <a:cubicBezTo>
                  <a:pt x="522" y="457"/>
                  <a:pt x="542" y="446"/>
                  <a:pt x="535" y="442"/>
                </a:cubicBezTo>
                <a:cubicBezTo>
                  <a:pt x="529" y="439"/>
                  <a:pt x="497" y="430"/>
                  <a:pt x="497" y="430"/>
                </a:cubicBezTo>
                <a:cubicBezTo>
                  <a:pt x="508" y="426"/>
                  <a:pt x="520" y="428"/>
                  <a:pt x="531" y="424"/>
                </a:cubicBezTo>
                <a:cubicBezTo>
                  <a:pt x="541" y="410"/>
                  <a:pt x="537" y="407"/>
                  <a:pt x="555" y="404"/>
                </a:cubicBezTo>
                <a:cubicBezTo>
                  <a:pt x="566" y="400"/>
                  <a:pt x="558" y="395"/>
                  <a:pt x="565" y="388"/>
                </a:cubicBezTo>
                <a:cubicBezTo>
                  <a:pt x="570" y="383"/>
                  <a:pt x="584" y="384"/>
                  <a:pt x="591" y="382"/>
                </a:cubicBezTo>
                <a:cubicBezTo>
                  <a:pt x="604" y="374"/>
                  <a:pt x="612" y="365"/>
                  <a:pt x="617" y="350"/>
                </a:cubicBezTo>
                <a:cubicBezTo>
                  <a:pt x="610" y="343"/>
                  <a:pt x="604" y="344"/>
                  <a:pt x="599" y="336"/>
                </a:cubicBezTo>
                <a:cubicBezTo>
                  <a:pt x="599" y="329"/>
                  <a:pt x="599" y="310"/>
                  <a:pt x="603" y="300"/>
                </a:cubicBezTo>
                <a:cubicBezTo>
                  <a:pt x="606" y="293"/>
                  <a:pt x="615" y="280"/>
                  <a:pt x="615" y="280"/>
                </a:cubicBezTo>
                <a:cubicBezTo>
                  <a:pt x="617" y="268"/>
                  <a:pt x="615" y="262"/>
                  <a:pt x="627" y="258"/>
                </a:cubicBezTo>
                <a:cubicBezTo>
                  <a:pt x="634" y="251"/>
                  <a:pt x="635" y="247"/>
                  <a:pt x="645" y="244"/>
                </a:cubicBezTo>
                <a:cubicBezTo>
                  <a:pt x="660" y="246"/>
                  <a:pt x="670" y="252"/>
                  <a:pt x="685" y="254"/>
                </a:cubicBezTo>
                <a:cubicBezTo>
                  <a:pt x="701" y="259"/>
                  <a:pt x="681" y="245"/>
                  <a:pt x="697" y="242"/>
                </a:cubicBezTo>
                <a:cubicBezTo>
                  <a:pt x="709" y="242"/>
                  <a:pt x="699" y="240"/>
                  <a:pt x="697" y="236"/>
                </a:cubicBezTo>
                <a:cubicBezTo>
                  <a:pt x="695" y="232"/>
                  <a:pt x="689" y="236"/>
                  <a:pt x="687" y="236"/>
                </a:cubicBezTo>
                <a:cubicBezTo>
                  <a:pt x="675" y="234"/>
                  <a:pt x="709" y="222"/>
                  <a:pt x="699" y="220"/>
                </a:cubicBezTo>
                <a:cubicBezTo>
                  <a:pt x="698" y="216"/>
                  <a:pt x="684" y="215"/>
                  <a:pt x="679" y="212"/>
                </a:cubicBezTo>
                <a:cubicBezTo>
                  <a:pt x="685" y="208"/>
                  <a:pt x="665" y="204"/>
                  <a:pt x="671" y="200"/>
                </a:cubicBezTo>
                <a:cubicBezTo>
                  <a:pt x="666" y="189"/>
                  <a:pt x="652" y="194"/>
                  <a:pt x="641" y="190"/>
                </a:cubicBezTo>
                <a:cubicBezTo>
                  <a:pt x="633" y="178"/>
                  <a:pt x="625" y="183"/>
                  <a:pt x="635" y="176"/>
                </a:cubicBezTo>
                <a:cubicBezTo>
                  <a:pt x="641" y="157"/>
                  <a:pt x="647" y="163"/>
                  <a:pt x="641" y="146"/>
                </a:cubicBezTo>
                <a:cubicBezTo>
                  <a:pt x="625" y="120"/>
                  <a:pt x="628" y="112"/>
                  <a:pt x="607" y="84"/>
                </a:cubicBezTo>
                <a:cubicBezTo>
                  <a:pt x="603" y="73"/>
                  <a:pt x="598" y="62"/>
                  <a:pt x="589" y="56"/>
                </a:cubicBezTo>
                <a:cubicBezTo>
                  <a:pt x="585" y="45"/>
                  <a:pt x="614" y="53"/>
                  <a:pt x="625" y="50"/>
                </a:cubicBezTo>
                <a:cubicBezTo>
                  <a:pt x="646" y="52"/>
                  <a:pt x="633" y="54"/>
                  <a:pt x="621" y="34"/>
                </a:cubicBezTo>
                <a:cubicBezTo>
                  <a:pt x="619" y="27"/>
                  <a:pt x="603" y="21"/>
                  <a:pt x="609" y="1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Freeform 33"/>
          <p:cNvSpPr/>
          <p:nvPr/>
        </p:nvSpPr>
        <p:spPr>
          <a:xfrm>
            <a:off x="5638680" y="4191120"/>
            <a:ext cx="739800" cy="833400"/>
          </a:xfrm>
          <a:custGeom>
            <a:avLst/>
            <a:gdLst>
              <a:gd name="textAreaLeft" fmla="*/ 0 w 739800"/>
              <a:gd name="textAreaRight" fmla="*/ 740160 w 73980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466" h="525">
                <a:moveTo>
                  <a:pt x="444" y="11"/>
                </a:moveTo>
                <a:cubicBezTo>
                  <a:pt x="433" y="12"/>
                  <a:pt x="422" y="9"/>
                  <a:pt x="412" y="13"/>
                </a:cubicBezTo>
                <a:cubicBezTo>
                  <a:pt x="408" y="15"/>
                  <a:pt x="409" y="21"/>
                  <a:pt x="408" y="25"/>
                </a:cubicBezTo>
                <a:cubicBezTo>
                  <a:pt x="405" y="35"/>
                  <a:pt x="399" y="41"/>
                  <a:pt x="390" y="47"/>
                </a:cubicBezTo>
                <a:cubicBezTo>
                  <a:pt x="383" y="61"/>
                  <a:pt x="372" y="63"/>
                  <a:pt x="360" y="69"/>
                </a:cubicBezTo>
                <a:cubicBezTo>
                  <a:pt x="338" y="68"/>
                  <a:pt x="316" y="70"/>
                  <a:pt x="294" y="67"/>
                </a:cubicBezTo>
                <a:cubicBezTo>
                  <a:pt x="273" y="64"/>
                  <a:pt x="284" y="56"/>
                  <a:pt x="252" y="53"/>
                </a:cubicBezTo>
                <a:cubicBezTo>
                  <a:pt x="224" y="46"/>
                  <a:pt x="228" y="45"/>
                  <a:pt x="186" y="43"/>
                </a:cubicBezTo>
                <a:cubicBezTo>
                  <a:pt x="175" y="39"/>
                  <a:pt x="170" y="36"/>
                  <a:pt x="160" y="29"/>
                </a:cubicBezTo>
                <a:cubicBezTo>
                  <a:pt x="155" y="30"/>
                  <a:pt x="149" y="29"/>
                  <a:pt x="144" y="31"/>
                </a:cubicBezTo>
                <a:cubicBezTo>
                  <a:pt x="135" y="35"/>
                  <a:pt x="136" y="62"/>
                  <a:pt x="124" y="65"/>
                </a:cubicBezTo>
                <a:cubicBezTo>
                  <a:pt x="117" y="67"/>
                  <a:pt x="109" y="66"/>
                  <a:pt x="102" y="67"/>
                </a:cubicBezTo>
                <a:cubicBezTo>
                  <a:pt x="92" y="72"/>
                  <a:pt x="91" y="78"/>
                  <a:pt x="84" y="85"/>
                </a:cubicBezTo>
                <a:cubicBezTo>
                  <a:pt x="80" y="97"/>
                  <a:pt x="71" y="110"/>
                  <a:pt x="62" y="119"/>
                </a:cubicBezTo>
                <a:cubicBezTo>
                  <a:pt x="59" y="128"/>
                  <a:pt x="59" y="125"/>
                  <a:pt x="62" y="137"/>
                </a:cubicBezTo>
                <a:cubicBezTo>
                  <a:pt x="63" y="141"/>
                  <a:pt x="66" y="149"/>
                  <a:pt x="66" y="149"/>
                </a:cubicBezTo>
                <a:cubicBezTo>
                  <a:pt x="64" y="173"/>
                  <a:pt x="65" y="182"/>
                  <a:pt x="50" y="197"/>
                </a:cubicBezTo>
                <a:cubicBezTo>
                  <a:pt x="43" y="218"/>
                  <a:pt x="43" y="240"/>
                  <a:pt x="36" y="261"/>
                </a:cubicBezTo>
                <a:cubicBezTo>
                  <a:pt x="33" y="284"/>
                  <a:pt x="18" y="296"/>
                  <a:pt x="6" y="315"/>
                </a:cubicBezTo>
                <a:cubicBezTo>
                  <a:pt x="4" y="322"/>
                  <a:pt x="0" y="335"/>
                  <a:pt x="0" y="335"/>
                </a:cubicBezTo>
                <a:cubicBezTo>
                  <a:pt x="3" y="364"/>
                  <a:pt x="7" y="367"/>
                  <a:pt x="36" y="371"/>
                </a:cubicBezTo>
                <a:cubicBezTo>
                  <a:pt x="50" y="376"/>
                  <a:pt x="48" y="375"/>
                  <a:pt x="54" y="385"/>
                </a:cubicBezTo>
                <a:cubicBezTo>
                  <a:pt x="57" y="395"/>
                  <a:pt x="62" y="421"/>
                  <a:pt x="62" y="435"/>
                </a:cubicBezTo>
                <a:cubicBezTo>
                  <a:pt x="62" y="449"/>
                  <a:pt x="56" y="462"/>
                  <a:pt x="52" y="471"/>
                </a:cubicBezTo>
                <a:cubicBezTo>
                  <a:pt x="51" y="478"/>
                  <a:pt x="40" y="489"/>
                  <a:pt x="40" y="489"/>
                </a:cubicBezTo>
                <a:cubicBezTo>
                  <a:pt x="43" y="514"/>
                  <a:pt x="53" y="518"/>
                  <a:pt x="74" y="523"/>
                </a:cubicBezTo>
                <a:cubicBezTo>
                  <a:pt x="84" y="525"/>
                  <a:pt x="113" y="521"/>
                  <a:pt x="120" y="513"/>
                </a:cubicBezTo>
                <a:cubicBezTo>
                  <a:pt x="127" y="505"/>
                  <a:pt x="115" y="493"/>
                  <a:pt x="114" y="475"/>
                </a:cubicBezTo>
                <a:cubicBezTo>
                  <a:pt x="113" y="457"/>
                  <a:pt x="110" y="423"/>
                  <a:pt x="112" y="407"/>
                </a:cubicBezTo>
                <a:cubicBezTo>
                  <a:pt x="111" y="392"/>
                  <a:pt x="128" y="391"/>
                  <a:pt x="124" y="377"/>
                </a:cubicBezTo>
                <a:cubicBezTo>
                  <a:pt x="125" y="369"/>
                  <a:pt x="105" y="349"/>
                  <a:pt x="108" y="341"/>
                </a:cubicBezTo>
                <a:cubicBezTo>
                  <a:pt x="109" y="336"/>
                  <a:pt x="108" y="327"/>
                  <a:pt x="114" y="321"/>
                </a:cubicBezTo>
                <a:cubicBezTo>
                  <a:pt x="120" y="315"/>
                  <a:pt x="138" y="299"/>
                  <a:pt x="146" y="305"/>
                </a:cubicBezTo>
                <a:cubicBezTo>
                  <a:pt x="165" y="310"/>
                  <a:pt x="171" y="331"/>
                  <a:pt x="164" y="355"/>
                </a:cubicBezTo>
                <a:cubicBezTo>
                  <a:pt x="162" y="361"/>
                  <a:pt x="149" y="368"/>
                  <a:pt x="146" y="377"/>
                </a:cubicBezTo>
                <a:cubicBezTo>
                  <a:pt x="144" y="382"/>
                  <a:pt x="151" y="379"/>
                  <a:pt x="160" y="385"/>
                </a:cubicBezTo>
                <a:cubicBezTo>
                  <a:pt x="169" y="391"/>
                  <a:pt x="192" y="399"/>
                  <a:pt x="198" y="411"/>
                </a:cubicBezTo>
                <a:cubicBezTo>
                  <a:pt x="199" y="422"/>
                  <a:pt x="192" y="445"/>
                  <a:pt x="196" y="455"/>
                </a:cubicBezTo>
                <a:cubicBezTo>
                  <a:pt x="198" y="460"/>
                  <a:pt x="208" y="463"/>
                  <a:pt x="208" y="463"/>
                </a:cubicBezTo>
                <a:cubicBezTo>
                  <a:pt x="213" y="462"/>
                  <a:pt x="219" y="462"/>
                  <a:pt x="224" y="459"/>
                </a:cubicBezTo>
                <a:cubicBezTo>
                  <a:pt x="230" y="455"/>
                  <a:pt x="229" y="443"/>
                  <a:pt x="236" y="441"/>
                </a:cubicBezTo>
                <a:cubicBezTo>
                  <a:pt x="253" y="435"/>
                  <a:pt x="271" y="436"/>
                  <a:pt x="288" y="433"/>
                </a:cubicBezTo>
                <a:cubicBezTo>
                  <a:pt x="284" y="403"/>
                  <a:pt x="271" y="406"/>
                  <a:pt x="256" y="383"/>
                </a:cubicBezTo>
                <a:cubicBezTo>
                  <a:pt x="255" y="369"/>
                  <a:pt x="250" y="325"/>
                  <a:pt x="232" y="307"/>
                </a:cubicBezTo>
                <a:cubicBezTo>
                  <a:pt x="225" y="300"/>
                  <a:pt x="220" y="284"/>
                  <a:pt x="212" y="279"/>
                </a:cubicBezTo>
                <a:cubicBezTo>
                  <a:pt x="206" y="275"/>
                  <a:pt x="194" y="267"/>
                  <a:pt x="194" y="267"/>
                </a:cubicBezTo>
                <a:cubicBezTo>
                  <a:pt x="198" y="250"/>
                  <a:pt x="213" y="245"/>
                  <a:pt x="228" y="241"/>
                </a:cubicBezTo>
                <a:cubicBezTo>
                  <a:pt x="236" y="233"/>
                  <a:pt x="247" y="235"/>
                  <a:pt x="258" y="231"/>
                </a:cubicBezTo>
                <a:cubicBezTo>
                  <a:pt x="263" y="223"/>
                  <a:pt x="267" y="214"/>
                  <a:pt x="274" y="207"/>
                </a:cubicBezTo>
                <a:cubicBezTo>
                  <a:pt x="277" y="197"/>
                  <a:pt x="284" y="192"/>
                  <a:pt x="294" y="189"/>
                </a:cubicBezTo>
                <a:cubicBezTo>
                  <a:pt x="303" y="192"/>
                  <a:pt x="308" y="200"/>
                  <a:pt x="318" y="203"/>
                </a:cubicBezTo>
                <a:cubicBezTo>
                  <a:pt x="322" y="202"/>
                  <a:pt x="328" y="205"/>
                  <a:pt x="330" y="201"/>
                </a:cubicBezTo>
                <a:cubicBezTo>
                  <a:pt x="335" y="190"/>
                  <a:pt x="326" y="168"/>
                  <a:pt x="316" y="165"/>
                </a:cubicBezTo>
                <a:cubicBezTo>
                  <a:pt x="304" y="162"/>
                  <a:pt x="274" y="177"/>
                  <a:pt x="260" y="181"/>
                </a:cubicBezTo>
                <a:cubicBezTo>
                  <a:pt x="246" y="185"/>
                  <a:pt x="244" y="188"/>
                  <a:pt x="234" y="189"/>
                </a:cubicBezTo>
                <a:cubicBezTo>
                  <a:pt x="224" y="190"/>
                  <a:pt x="210" y="184"/>
                  <a:pt x="200" y="187"/>
                </a:cubicBezTo>
                <a:cubicBezTo>
                  <a:pt x="185" y="192"/>
                  <a:pt x="187" y="195"/>
                  <a:pt x="176" y="205"/>
                </a:cubicBezTo>
                <a:cubicBezTo>
                  <a:pt x="171" y="210"/>
                  <a:pt x="158" y="217"/>
                  <a:pt x="158" y="217"/>
                </a:cubicBezTo>
                <a:cubicBezTo>
                  <a:pt x="122" y="212"/>
                  <a:pt x="120" y="184"/>
                  <a:pt x="94" y="167"/>
                </a:cubicBezTo>
                <a:cubicBezTo>
                  <a:pt x="90" y="162"/>
                  <a:pt x="86" y="149"/>
                  <a:pt x="86" y="149"/>
                </a:cubicBezTo>
                <a:cubicBezTo>
                  <a:pt x="93" y="120"/>
                  <a:pt x="91" y="104"/>
                  <a:pt x="114" y="89"/>
                </a:cubicBezTo>
                <a:cubicBezTo>
                  <a:pt x="118" y="76"/>
                  <a:pt x="136" y="99"/>
                  <a:pt x="150" y="97"/>
                </a:cubicBezTo>
                <a:cubicBezTo>
                  <a:pt x="189" y="84"/>
                  <a:pt x="158" y="93"/>
                  <a:pt x="248" y="95"/>
                </a:cubicBezTo>
                <a:cubicBezTo>
                  <a:pt x="271" y="96"/>
                  <a:pt x="284" y="87"/>
                  <a:pt x="296" y="89"/>
                </a:cubicBezTo>
                <a:cubicBezTo>
                  <a:pt x="308" y="91"/>
                  <a:pt x="299" y="106"/>
                  <a:pt x="318" y="105"/>
                </a:cubicBezTo>
                <a:cubicBezTo>
                  <a:pt x="359" y="111"/>
                  <a:pt x="384" y="109"/>
                  <a:pt x="412" y="81"/>
                </a:cubicBezTo>
                <a:cubicBezTo>
                  <a:pt x="415" y="73"/>
                  <a:pt x="416" y="70"/>
                  <a:pt x="424" y="67"/>
                </a:cubicBezTo>
                <a:cubicBezTo>
                  <a:pt x="436" y="55"/>
                  <a:pt x="444" y="45"/>
                  <a:pt x="458" y="35"/>
                </a:cubicBezTo>
                <a:cubicBezTo>
                  <a:pt x="462" y="30"/>
                  <a:pt x="466" y="17"/>
                  <a:pt x="466" y="17"/>
                </a:cubicBezTo>
                <a:cubicBezTo>
                  <a:pt x="463" y="0"/>
                  <a:pt x="461" y="3"/>
                  <a:pt x="444" y="5"/>
                </a:cubicBezTo>
                <a:cubicBezTo>
                  <a:pt x="439" y="12"/>
                  <a:pt x="438" y="11"/>
                  <a:pt x="444" y="1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Freeform 34"/>
          <p:cNvSpPr/>
          <p:nvPr/>
        </p:nvSpPr>
        <p:spPr>
          <a:xfrm>
            <a:off x="6858000" y="4267080"/>
            <a:ext cx="1149480" cy="99864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998640"/>
              <a:gd name="textAreaBottom" fmla="*/ 999000 h 998640"/>
            </a:gdLst>
            <a:ahLst/>
            <a:rect l="textAreaLeft" t="textAreaTop" r="textAreaRight" b="textAreaBottom"/>
            <a:pathLst>
              <a:path w="724" h="629">
                <a:moveTo>
                  <a:pt x="712" y="179"/>
                </a:moveTo>
                <a:cubicBezTo>
                  <a:pt x="707" y="173"/>
                  <a:pt x="706" y="162"/>
                  <a:pt x="700" y="157"/>
                </a:cubicBezTo>
                <a:cubicBezTo>
                  <a:pt x="691" y="151"/>
                  <a:pt x="668" y="154"/>
                  <a:pt x="654" y="151"/>
                </a:cubicBezTo>
                <a:cubicBezTo>
                  <a:pt x="640" y="148"/>
                  <a:pt x="627" y="142"/>
                  <a:pt x="616" y="139"/>
                </a:cubicBezTo>
                <a:cubicBezTo>
                  <a:pt x="604" y="136"/>
                  <a:pt x="602" y="136"/>
                  <a:pt x="590" y="131"/>
                </a:cubicBezTo>
                <a:cubicBezTo>
                  <a:pt x="583" y="127"/>
                  <a:pt x="581" y="132"/>
                  <a:pt x="566" y="125"/>
                </a:cubicBezTo>
                <a:cubicBezTo>
                  <a:pt x="551" y="118"/>
                  <a:pt x="522" y="94"/>
                  <a:pt x="502" y="91"/>
                </a:cubicBezTo>
                <a:cubicBezTo>
                  <a:pt x="456" y="93"/>
                  <a:pt x="470" y="90"/>
                  <a:pt x="444" y="107"/>
                </a:cubicBezTo>
                <a:cubicBezTo>
                  <a:pt x="431" y="127"/>
                  <a:pt x="422" y="133"/>
                  <a:pt x="400" y="139"/>
                </a:cubicBezTo>
                <a:cubicBezTo>
                  <a:pt x="388" y="147"/>
                  <a:pt x="373" y="156"/>
                  <a:pt x="364" y="167"/>
                </a:cubicBezTo>
                <a:cubicBezTo>
                  <a:pt x="347" y="189"/>
                  <a:pt x="343" y="210"/>
                  <a:pt x="312" y="215"/>
                </a:cubicBezTo>
                <a:cubicBezTo>
                  <a:pt x="302" y="223"/>
                  <a:pt x="295" y="222"/>
                  <a:pt x="284" y="215"/>
                </a:cubicBezTo>
                <a:cubicBezTo>
                  <a:pt x="278" y="207"/>
                  <a:pt x="272" y="200"/>
                  <a:pt x="266" y="191"/>
                </a:cubicBezTo>
                <a:cubicBezTo>
                  <a:pt x="259" y="181"/>
                  <a:pt x="265" y="170"/>
                  <a:pt x="254" y="163"/>
                </a:cubicBezTo>
                <a:cubicBezTo>
                  <a:pt x="246" y="173"/>
                  <a:pt x="249" y="181"/>
                  <a:pt x="240" y="169"/>
                </a:cubicBezTo>
                <a:cubicBezTo>
                  <a:pt x="236" y="158"/>
                  <a:pt x="229" y="150"/>
                  <a:pt x="220" y="143"/>
                </a:cubicBezTo>
                <a:cubicBezTo>
                  <a:pt x="216" y="137"/>
                  <a:pt x="241" y="144"/>
                  <a:pt x="240" y="141"/>
                </a:cubicBezTo>
                <a:cubicBezTo>
                  <a:pt x="239" y="138"/>
                  <a:pt x="216" y="131"/>
                  <a:pt x="214" y="127"/>
                </a:cubicBezTo>
                <a:cubicBezTo>
                  <a:pt x="213" y="123"/>
                  <a:pt x="230" y="119"/>
                  <a:pt x="230" y="119"/>
                </a:cubicBezTo>
                <a:cubicBezTo>
                  <a:pt x="234" y="103"/>
                  <a:pt x="227" y="92"/>
                  <a:pt x="232" y="77"/>
                </a:cubicBezTo>
                <a:cubicBezTo>
                  <a:pt x="227" y="36"/>
                  <a:pt x="200" y="32"/>
                  <a:pt x="164" y="27"/>
                </a:cubicBezTo>
                <a:cubicBezTo>
                  <a:pt x="147" y="17"/>
                  <a:pt x="154" y="12"/>
                  <a:pt x="142" y="9"/>
                </a:cubicBezTo>
                <a:cubicBezTo>
                  <a:pt x="130" y="6"/>
                  <a:pt x="114" y="0"/>
                  <a:pt x="92" y="9"/>
                </a:cubicBezTo>
                <a:cubicBezTo>
                  <a:pt x="72" y="12"/>
                  <a:pt x="27" y="47"/>
                  <a:pt x="8" y="61"/>
                </a:cubicBezTo>
                <a:cubicBezTo>
                  <a:pt x="0" y="85"/>
                  <a:pt x="56" y="91"/>
                  <a:pt x="72" y="95"/>
                </a:cubicBezTo>
                <a:cubicBezTo>
                  <a:pt x="78" y="104"/>
                  <a:pt x="72" y="117"/>
                  <a:pt x="80" y="125"/>
                </a:cubicBezTo>
                <a:cubicBezTo>
                  <a:pt x="84" y="129"/>
                  <a:pt x="85" y="136"/>
                  <a:pt x="90" y="137"/>
                </a:cubicBezTo>
                <a:cubicBezTo>
                  <a:pt x="127" y="143"/>
                  <a:pt x="166" y="139"/>
                  <a:pt x="204" y="145"/>
                </a:cubicBezTo>
                <a:cubicBezTo>
                  <a:pt x="205" y="149"/>
                  <a:pt x="207" y="153"/>
                  <a:pt x="208" y="157"/>
                </a:cubicBezTo>
                <a:cubicBezTo>
                  <a:pt x="209" y="161"/>
                  <a:pt x="200" y="160"/>
                  <a:pt x="196" y="161"/>
                </a:cubicBezTo>
                <a:cubicBezTo>
                  <a:pt x="188" y="162"/>
                  <a:pt x="171" y="153"/>
                  <a:pt x="162" y="153"/>
                </a:cubicBezTo>
                <a:cubicBezTo>
                  <a:pt x="153" y="153"/>
                  <a:pt x="154" y="160"/>
                  <a:pt x="144" y="163"/>
                </a:cubicBezTo>
                <a:cubicBezTo>
                  <a:pt x="134" y="167"/>
                  <a:pt x="114" y="167"/>
                  <a:pt x="104" y="169"/>
                </a:cubicBezTo>
                <a:cubicBezTo>
                  <a:pt x="94" y="171"/>
                  <a:pt x="85" y="173"/>
                  <a:pt x="82" y="177"/>
                </a:cubicBezTo>
                <a:cubicBezTo>
                  <a:pt x="70" y="181"/>
                  <a:pt x="74" y="190"/>
                  <a:pt x="84" y="193"/>
                </a:cubicBezTo>
                <a:cubicBezTo>
                  <a:pt x="87" y="198"/>
                  <a:pt x="111" y="195"/>
                  <a:pt x="118" y="199"/>
                </a:cubicBezTo>
                <a:cubicBezTo>
                  <a:pt x="125" y="203"/>
                  <a:pt x="120" y="207"/>
                  <a:pt x="124" y="219"/>
                </a:cubicBezTo>
                <a:cubicBezTo>
                  <a:pt x="129" y="235"/>
                  <a:pt x="121" y="266"/>
                  <a:pt x="142" y="273"/>
                </a:cubicBezTo>
                <a:cubicBezTo>
                  <a:pt x="153" y="270"/>
                  <a:pt x="160" y="271"/>
                  <a:pt x="168" y="263"/>
                </a:cubicBezTo>
                <a:cubicBezTo>
                  <a:pt x="171" y="244"/>
                  <a:pt x="178" y="244"/>
                  <a:pt x="188" y="229"/>
                </a:cubicBezTo>
                <a:cubicBezTo>
                  <a:pt x="198" y="234"/>
                  <a:pt x="202" y="242"/>
                  <a:pt x="208" y="251"/>
                </a:cubicBezTo>
                <a:cubicBezTo>
                  <a:pt x="210" y="253"/>
                  <a:pt x="213" y="254"/>
                  <a:pt x="216" y="255"/>
                </a:cubicBezTo>
                <a:cubicBezTo>
                  <a:pt x="223" y="259"/>
                  <a:pt x="233" y="268"/>
                  <a:pt x="240" y="271"/>
                </a:cubicBezTo>
                <a:cubicBezTo>
                  <a:pt x="244" y="273"/>
                  <a:pt x="249" y="272"/>
                  <a:pt x="254" y="273"/>
                </a:cubicBezTo>
                <a:cubicBezTo>
                  <a:pt x="260" y="275"/>
                  <a:pt x="278" y="281"/>
                  <a:pt x="282" y="283"/>
                </a:cubicBezTo>
                <a:cubicBezTo>
                  <a:pt x="284" y="284"/>
                  <a:pt x="285" y="288"/>
                  <a:pt x="288" y="289"/>
                </a:cubicBezTo>
                <a:cubicBezTo>
                  <a:pt x="304" y="294"/>
                  <a:pt x="320" y="295"/>
                  <a:pt x="338" y="301"/>
                </a:cubicBezTo>
                <a:cubicBezTo>
                  <a:pt x="350" y="305"/>
                  <a:pt x="355" y="297"/>
                  <a:pt x="360" y="299"/>
                </a:cubicBezTo>
                <a:cubicBezTo>
                  <a:pt x="365" y="301"/>
                  <a:pt x="367" y="312"/>
                  <a:pt x="370" y="315"/>
                </a:cubicBezTo>
                <a:cubicBezTo>
                  <a:pt x="372" y="316"/>
                  <a:pt x="374" y="319"/>
                  <a:pt x="376" y="319"/>
                </a:cubicBezTo>
                <a:cubicBezTo>
                  <a:pt x="380" y="319"/>
                  <a:pt x="388" y="315"/>
                  <a:pt x="388" y="315"/>
                </a:cubicBezTo>
                <a:cubicBezTo>
                  <a:pt x="396" y="318"/>
                  <a:pt x="400" y="322"/>
                  <a:pt x="408" y="325"/>
                </a:cubicBezTo>
                <a:cubicBezTo>
                  <a:pt x="410" y="327"/>
                  <a:pt x="428" y="329"/>
                  <a:pt x="434" y="331"/>
                </a:cubicBezTo>
                <a:cubicBezTo>
                  <a:pt x="442" y="334"/>
                  <a:pt x="464" y="343"/>
                  <a:pt x="464" y="343"/>
                </a:cubicBezTo>
                <a:cubicBezTo>
                  <a:pt x="506" y="349"/>
                  <a:pt x="497" y="397"/>
                  <a:pt x="528" y="409"/>
                </a:cubicBezTo>
                <a:cubicBezTo>
                  <a:pt x="541" y="419"/>
                  <a:pt x="523" y="417"/>
                  <a:pt x="526" y="427"/>
                </a:cubicBezTo>
                <a:cubicBezTo>
                  <a:pt x="529" y="437"/>
                  <a:pt x="545" y="455"/>
                  <a:pt x="544" y="469"/>
                </a:cubicBezTo>
                <a:cubicBezTo>
                  <a:pt x="538" y="501"/>
                  <a:pt x="557" y="505"/>
                  <a:pt x="520" y="509"/>
                </a:cubicBezTo>
                <a:cubicBezTo>
                  <a:pt x="510" y="516"/>
                  <a:pt x="498" y="516"/>
                  <a:pt x="488" y="523"/>
                </a:cubicBezTo>
                <a:cubicBezTo>
                  <a:pt x="481" y="533"/>
                  <a:pt x="481" y="545"/>
                  <a:pt x="478" y="557"/>
                </a:cubicBezTo>
                <a:cubicBezTo>
                  <a:pt x="476" y="564"/>
                  <a:pt x="474" y="570"/>
                  <a:pt x="472" y="577"/>
                </a:cubicBezTo>
                <a:cubicBezTo>
                  <a:pt x="471" y="579"/>
                  <a:pt x="468" y="583"/>
                  <a:pt x="470" y="583"/>
                </a:cubicBezTo>
                <a:cubicBezTo>
                  <a:pt x="471" y="584"/>
                  <a:pt x="478" y="569"/>
                  <a:pt x="486" y="569"/>
                </a:cubicBezTo>
                <a:cubicBezTo>
                  <a:pt x="494" y="569"/>
                  <a:pt x="499" y="582"/>
                  <a:pt x="516" y="581"/>
                </a:cubicBezTo>
                <a:cubicBezTo>
                  <a:pt x="542" y="574"/>
                  <a:pt x="556" y="562"/>
                  <a:pt x="586" y="561"/>
                </a:cubicBezTo>
                <a:cubicBezTo>
                  <a:pt x="597" y="557"/>
                  <a:pt x="611" y="564"/>
                  <a:pt x="622" y="561"/>
                </a:cubicBezTo>
                <a:cubicBezTo>
                  <a:pt x="643" y="564"/>
                  <a:pt x="636" y="570"/>
                  <a:pt x="652" y="581"/>
                </a:cubicBezTo>
                <a:cubicBezTo>
                  <a:pt x="663" y="598"/>
                  <a:pt x="669" y="607"/>
                  <a:pt x="686" y="617"/>
                </a:cubicBezTo>
                <a:cubicBezTo>
                  <a:pt x="690" y="619"/>
                  <a:pt x="693" y="623"/>
                  <a:pt x="698" y="625"/>
                </a:cubicBezTo>
                <a:cubicBezTo>
                  <a:pt x="702" y="626"/>
                  <a:pt x="710" y="629"/>
                  <a:pt x="710" y="629"/>
                </a:cubicBezTo>
                <a:cubicBezTo>
                  <a:pt x="724" y="601"/>
                  <a:pt x="707" y="539"/>
                  <a:pt x="704" y="507"/>
                </a:cubicBezTo>
                <a:cubicBezTo>
                  <a:pt x="705" y="496"/>
                  <a:pt x="709" y="480"/>
                  <a:pt x="706" y="469"/>
                </a:cubicBezTo>
                <a:cubicBezTo>
                  <a:pt x="700" y="448"/>
                  <a:pt x="710" y="478"/>
                  <a:pt x="700" y="449"/>
                </a:cubicBezTo>
                <a:cubicBezTo>
                  <a:pt x="699" y="447"/>
                  <a:pt x="698" y="443"/>
                  <a:pt x="698" y="443"/>
                </a:cubicBezTo>
                <a:cubicBezTo>
                  <a:pt x="707" y="379"/>
                  <a:pt x="699" y="437"/>
                  <a:pt x="702" y="279"/>
                </a:cubicBezTo>
                <a:cubicBezTo>
                  <a:pt x="703" y="248"/>
                  <a:pt x="703" y="216"/>
                  <a:pt x="704" y="185"/>
                </a:cubicBezTo>
                <a:cubicBezTo>
                  <a:pt x="704" y="176"/>
                  <a:pt x="705" y="166"/>
                  <a:pt x="712" y="179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Freeform 35"/>
          <p:cNvSpPr/>
          <p:nvPr/>
        </p:nvSpPr>
        <p:spPr>
          <a:xfrm>
            <a:off x="6019920" y="4952880"/>
            <a:ext cx="54000" cy="44640"/>
          </a:xfrm>
          <a:custGeom>
            <a:avLst/>
            <a:gdLst>
              <a:gd name="textAreaLeft" fmla="*/ 0 w 54000"/>
              <a:gd name="textAreaRight" fmla="*/ 54360 w 540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4" h="28">
                <a:moveTo>
                  <a:pt x="13" y="0"/>
                </a:moveTo>
                <a:cubicBezTo>
                  <a:pt x="0" y="9"/>
                  <a:pt x="6" y="20"/>
                  <a:pt x="17" y="28"/>
                </a:cubicBezTo>
                <a:cubicBezTo>
                  <a:pt x="34" y="25"/>
                  <a:pt x="29" y="20"/>
                  <a:pt x="27" y="2"/>
                </a:cubicBezTo>
                <a:cubicBezTo>
                  <a:pt x="5" y="4"/>
                  <a:pt x="1" y="8"/>
                  <a:pt x="13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Freeform 36"/>
          <p:cNvSpPr/>
          <p:nvPr/>
        </p:nvSpPr>
        <p:spPr>
          <a:xfrm>
            <a:off x="6095880" y="4876920"/>
            <a:ext cx="66960" cy="88920"/>
          </a:xfrm>
          <a:custGeom>
            <a:avLst/>
            <a:gdLst>
              <a:gd name="textAreaLeft" fmla="*/ 0 w 66960"/>
              <a:gd name="textAreaRight" fmla="*/ 67320 w 669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2" h="56">
                <a:moveTo>
                  <a:pt x="26" y="0"/>
                </a:moveTo>
                <a:cubicBezTo>
                  <a:pt x="24" y="6"/>
                  <a:pt x="12" y="14"/>
                  <a:pt x="12" y="14"/>
                </a:cubicBezTo>
                <a:cubicBezTo>
                  <a:pt x="4" y="26"/>
                  <a:pt x="0" y="47"/>
                  <a:pt x="14" y="56"/>
                </a:cubicBezTo>
                <a:cubicBezTo>
                  <a:pt x="31" y="54"/>
                  <a:pt x="37" y="45"/>
                  <a:pt x="42" y="30"/>
                </a:cubicBezTo>
                <a:cubicBezTo>
                  <a:pt x="39" y="21"/>
                  <a:pt x="34" y="14"/>
                  <a:pt x="32" y="4"/>
                </a:cubicBezTo>
                <a:cubicBezTo>
                  <a:pt x="22" y="7"/>
                  <a:pt x="23" y="9"/>
                  <a:pt x="26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Freeform 37"/>
          <p:cNvSpPr/>
          <p:nvPr/>
        </p:nvSpPr>
        <p:spPr>
          <a:xfrm>
            <a:off x="6172200" y="4876920"/>
            <a:ext cx="74520" cy="158760"/>
          </a:xfrm>
          <a:custGeom>
            <a:avLst/>
            <a:gdLst>
              <a:gd name="textAreaLeft" fmla="*/ 0 w 74520"/>
              <a:gd name="textAreaRight" fmla="*/ 74880 w 74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7" h="100">
                <a:moveTo>
                  <a:pt x="25" y="8"/>
                </a:moveTo>
                <a:cubicBezTo>
                  <a:pt x="28" y="17"/>
                  <a:pt x="27" y="19"/>
                  <a:pt x="19" y="24"/>
                </a:cubicBezTo>
                <a:cubicBezTo>
                  <a:pt x="16" y="32"/>
                  <a:pt x="18" y="40"/>
                  <a:pt x="15" y="48"/>
                </a:cubicBezTo>
                <a:cubicBezTo>
                  <a:pt x="13" y="53"/>
                  <a:pt x="7" y="60"/>
                  <a:pt x="7" y="60"/>
                </a:cubicBezTo>
                <a:cubicBezTo>
                  <a:pt x="5" y="75"/>
                  <a:pt x="0" y="87"/>
                  <a:pt x="9" y="100"/>
                </a:cubicBezTo>
                <a:cubicBezTo>
                  <a:pt x="25" y="96"/>
                  <a:pt x="17" y="90"/>
                  <a:pt x="25" y="80"/>
                </a:cubicBezTo>
                <a:cubicBezTo>
                  <a:pt x="29" y="75"/>
                  <a:pt x="37" y="77"/>
                  <a:pt x="43" y="76"/>
                </a:cubicBezTo>
                <a:cubicBezTo>
                  <a:pt x="41" y="61"/>
                  <a:pt x="43" y="55"/>
                  <a:pt x="35" y="44"/>
                </a:cubicBezTo>
                <a:cubicBezTo>
                  <a:pt x="39" y="36"/>
                  <a:pt x="44" y="34"/>
                  <a:pt x="47" y="26"/>
                </a:cubicBezTo>
                <a:cubicBezTo>
                  <a:pt x="46" y="21"/>
                  <a:pt x="47" y="15"/>
                  <a:pt x="45" y="10"/>
                </a:cubicBezTo>
                <a:cubicBezTo>
                  <a:pt x="40" y="0"/>
                  <a:pt x="25" y="20"/>
                  <a:pt x="25" y="8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Freeform 38"/>
          <p:cNvSpPr/>
          <p:nvPr/>
        </p:nvSpPr>
        <p:spPr>
          <a:xfrm>
            <a:off x="6248520" y="4572000"/>
            <a:ext cx="225360" cy="68400"/>
          </a:xfrm>
          <a:custGeom>
            <a:avLst/>
            <a:gdLst>
              <a:gd name="textAreaLeft" fmla="*/ 0 w 225360"/>
              <a:gd name="textAreaRight" fmla="*/ 225720 w 225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42" h="43">
                <a:moveTo>
                  <a:pt x="122" y="7"/>
                </a:moveTo>
                <a:cubicBezTo>
                  <a:pt x="92" y="0"/>
                  <a:pt x="61" y="13"/>
                  <a:pt x="32" y="3"/>
                </a:cubicBezTo>
                <a:cubicBezTo>
                  <a:pt x="24" y="4"/>
                  <a:pt x="15" y="2"/>
                  <a:pt x="8" y="5"/>
                </a:cubicBezTo>
                <a:cubicBezTo>
                  <a:pt x="4" y="7"/>
                  <a:pt x="0" y="17"/>
                  <a:pt x="0" y="17"/>
                </a:cubicBezTo>
                <a:cubicBezTo>
                  <a:pt x="3" y="43"/>
                  <a:pt x="4" y="22"/>
                  <a:pt x="24" y="29"/>
                </a:cubicBezTo>
                <a:cubicBezTo>
                  <a:pt x="56" y="21"/>
                  <a:pt x="58" y="23"/>
                  <a:pt x="100" y="21"/>
                </a:cubicBezTo>
                <a:cubicBezTo>
                  <a:pt x="114" y="18"/>
                  <a:pt x="133" y="30"/>
                  <a:pt x="142" y="17"/>
                </a:cubicBezTo>
                <a:cubicBezTo>
                  <a:pt x="132" y="16"/>
                  <a:pt x="115" y="17"/>
                  <a:pt x="110" y="7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Freeform 39"/>
          <p:cNvSpPr/>
          <p:nvPr/>
        </p:nvSpPr>
        <p:spPr>
          <a:xfrm>
            <a:off x="6553080" y="4724280"/>
            <a:ext cx="165240" cy="87480"/>
          </a:xfrm>
          <a:custGeom>
            <a:avLst/>
            <a:gdLst>
              <a:gd name="textAreaLeft" fmla="*/ 0 w 165240"/>
              <a:gd name="textAreaRight" fmla="*/ 165600 w 16524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04" h="55">
                <a:moveTo>
                  <a:pt x="75" y="4"/>
                </a:moveTo>
                <a:cubicBezTo>
                  <a:pt x="57" y="2"/>
                  <a:pt x="53" y="0"/>
                  <a:pt x="35" y="2"/>
                </a:cubicBezTo>
                <a:cubicBezTo>
                  <a:pt x="28" y="4"/>
                  <a:pt x="22" y="6"/>
                  <a:pt x="15" y="8"/>
                </a:cubicBezTo>
                <a:cubicBezTo>
                  <a:pt x="0" y="31"/>
                  <a:pt x="25" y="38"/>
                  <a:pt x="41" y="44"/>
                </a:cubicBezTo>
                <a:cubicBezTo>
                  <a:pt x="58" y="55"/>
                  <a:pt x="58" y="51"/>
                  <a:pt x="85" y="50"/>
                </a:cubicBezTo>
                <a:cubicBezTo>
                  <a:pt x="97" y="41"/>
                  <a:pt x="104" y="37"/>
                  <a:pt x="91" y="24"/>
                </a:cubicBezTo>
                <a:cubicBezTo>
                  <a:pt x="89" y="18"/>
                  <a:pt x="87" y="12"/>
                  <a:pt x="85" y="6"/>
                </a:cubicBezTo>
                <a:cubicBezTo>
                  <a:pt x="84" y="4"/>
                  <a:pt x="62" y="4"/>
                  <a:pt x="75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Freeform 40"/>
          <p:cNvSpPr/>
          <p:nvPr/>
        </p:nvSpPr>
        <p:spPr>
          <a:xfrm>
            <a:off x="6705720" y="4648320"/>
            <a:ext cx="341280" cy="118800"/>
          </a:xfrm>
          <a:custGeom>
            <a:avLst/>
            <a:gdLst>
              <a:gd name="textAreaLeft" fmla="*/ 0 w 341280"/>
              <a:gd name="textAreaRight" fmla="*/ 341640 w 3412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15" h="75">
                <a:moveTo>
                  <a:pt x="176" y="11"/>
                </a:moveTo>
                <a:cubicBezTo>
                  <a:pt x="164" y="19"/>
                  <a:pt x="147" y="13"/>
                  <a:pt x="134" y="9"/>
                </a:cubicBezTo>
                <a:cubicBezTo>
                  <a:pt x="125" y="0"/>
                  <a:pt x="108" y="7"/>
                  <a:pt x="94" y="5"/>
                </a:cubicBezTo>
                <a:cubicBezTo>
                  <a:pt x="69" y="9"/>
                  <a:pt x="60" y="6"/>
                  <a:pt x="34" y="7"/>
                </a:cubicBezTo>
                <a:cubicBezTo>
                  <a:pt x="16" y="12"/>
                  <a:pt x="23" y="9"/>
                  <a:pt x="12" y="13"/>
                </a:cubicBezTo>
                <a:cubicBezTo>
                  <a:pt x="0" y="31"/>
                  <a:pt x="12" y="29"/>
                  <a:pt x="30" y="31"/>
                </a:cubicBezTo>
                <a:cubicBezTo>
                  <a:pt x="38" y="35"/>
                  <a:pt x="45" y="40"/>
                  <a:pt x="52" y="45"/>
                </a:cubicBezTo>
                <a:cubicBezTo>
                  <a:pt x="55" y="44"/>
                  <a:pt x="59" y="45"/>
                  <a:pt x="62" y="43"/>
                </a:cubicBezTo>
                <a:cubicBezTo>
                  <a:pt x="64" y="42"/>
                  <a:pt x="62" y="37"/>
                  <a:pt x="64" y="37"/>
                </a:cubicBezTo>
                <a:cubicBezTo>
                  <a:pt x="78" y="34"/>
                  <a:pt x="92" y="42"/>
                  <a:pt x="106" y="41"/>
                </a:cubicBezTo>
                <a:cubicBezTo>
                  <a:pt x="120" y="44"/>
                  <a:pt x="129" y="40"/>
                  <a:pt x="144" y="41"/>
                </a:cubicBezTo>
                <a:cubicBezTo>
                  <a:pt x="151" y="45"/>
                  <a:pt x="153" y="51"/>
                  <a:pt x="160" y="55"/>
                </a:cubicBezTo>
                <a:cubicBezTo>
                  <a:pt x="174" y="63"/>
                  <a:pt x="199" y="70"/>
                  <a:pt x="214" y="75"/>
                </a:cubicBezTo>
                <a:cubicBezTo>
                  <a:pt x="215" y="72"/>
                  <a:pt x="215" y="72"/>
                  <a:pt x="214" y="69"/>
                </a:cubicBezTo>
                <a:cubicBezTo>
                  <a:pt x="213" y="65"/>
                  <a:pt x="199" y="38"/>
                  <a:pt x="194" y="35"/>
                </a:cubicBezTo>
                <a:cubicBezTo>
                  <a:pt x="189" y="28"/>
                  <a:pt x="185" y="18"/>
                  <a:pt x="178" y="13"/>
                </a:cubicBezTo>
                <a:cubicBezTo>
                  <a:pt x="173" y="14"/>
                  <a:pt x="164" y="19"/>
                  <a:pt x="164" y="19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Freeform 41"/>
          <p:cNvSpPr/>
          <p:nvPr/>
        </p:nvSpPr>
        <p:spPr>
          <a:xfrm>
            <a:off x="6629400" y="4495680"/>
            <a:ext cx="93600" cy="66960"/>
          </a:xfrm>
          <a:custGeom>
            <a:avLst/>
            <a:gdLst>
              <a:gd name="textAreaLeft" fmla="*/ 0 w 93600"/>
              <a:gd name="textAreaRight" fmla="*/ 93960 w 93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59" h="42">
                <a:moveTo>
                  <a:pt x="25" y="0"/>
                </a:moveTo>
                <a:cubicBezTo>
                  <a:pt x="11" y="2"/>
                  <a:pt x="11" y="5"/>
                  <a:pt x="7" y="18"/>
                </a:cubicBezTo>
                <a:cubicBezTo>
                  <a:pt x="8" y="24"/>
                  <a:pt x="0" y="33"/>
                  <a:pt x="3" y="38"/>
                </a:cubicBezTo>
                <a:cubicBezTo>
                  <a:pt x="5" y="42"/>
                  <a:pt x="15" y="24"/>
                  <a:pt x="15" y="24"/>
                </a:cubicBezTo>
                <a:cubicBezTo>
                  <a:pt x="30" y="21"/>
                  <a:pt x="44" y="35"/>
                  <a:pt x="59" y="32"/>
                </a:cubicBezTo>
                <a:cubicBezTo>
                  <a:pt x="56" y="22"/>
                  <a:pt x="52" y="21"/>
                  <a:pt x="45" y="14"/>
                </a:cubicBezTo>
                <a:cubicBezTo>
                  <a:pt x="41" y="2"/>
                  <a:pt x="37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Freeform 42"/>
          <p:cNvSpPr/>
          <p:nvPr/>
        </p:nvSpPr>
        <p:spPr>
          <a:xfrm>
            <a:off x="6553080" y="4114800"/>
            <a:ext cx="165240" cy="343080"/>
          </a:xfrm>
          <a:custGeom>
            <a:avLst/>
            <a:gdLst>
              <a:gd name="textAreaLeft" fmla="*/ 0 w 165240"/>
              <a:gd name="textAreaRight" fmla="*/ 165600 w 165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04" h="216">
                <a:moveTo>
                  <a:pt x="36" y="2"/>
                </a:moveTo>
                <a:cubicBezTo>
                  <a:pt x="15" y="9"/>
                  <a:pt x="5" y="32"/>
                  <a:pt x="0" y="52"/>
                </a:cubicBezTo>
                <a:cubicBezTo>
                  <a:pt x="2" y="66"/>
                  <a:pt x="4" y="68"/>
                  <a:pt x="8" y="80"/>
                </a:cubicBezTo>
                <a:cubicBezTo>
                  <a:pt x="7" y="104"/>
                  <a:pt x="2" y="129"/>
                  <a:pt x="16" y="150"/>
                </a:cubicBezTo>
                <a:cubicBezTo>
                  <a:pt x="19" y="163"/>
                  <a:pt x="20" y="178"/>
                  <a:pt x="30" y="188"/>
                </a:cubicBezTo>
                <a:cubicBezTo>
                  <a:pt x="35" y="193"/>
                  <a:pt x="48" y="202"/>
                  <a:pt x="48" y="202"/>
                </a:cubicBezTo>
                <a:cubicBezTo>
                  <a:pt x="52" y="208"/>
                  <a:pt x="64" y="216"/>
                  <a:pt x="64" y="216"/>
                </a:cubicBezTo>
                <a:cubicBezTo>
                  <a:pt x="61" y="186"/>
                  <a:pt x="48" y="182"/>
                  <a:pt x="42" y="156"/>
                </a:cubicBezTo>
                <a:cubicBezTo>
                  <a:pt x="39" y="144"/>
                  <a:pt x="29" y="124"/>
                  <a:pt x="36" y="120"/>
                </a:cubicBezTo>
                <a:cubicBezTo>
                  <a:pt x="43" y="116"/>
                  <a:pt x="76" y="127"/>
                  <a:pt x="86" y="130"/>
                </a:cubicBezTo>
                <a:cubicBezTo>
                  <a:pt x="90" y="131"/>
                  <a:pt x="95" y="139"/>
                  <a:pt x="98" y="136"/>
                </a:cubicBezTo>
                <a:cubicBezTo>
                  <a:pt x="104" y="130"/>
                  <a:pt x="82" y="115"/>
                  <a:pt x="80" y="112"/>
                </a:cubicBezTo>
                <a:cubicBezTo>
                  <a:pt x="76" y="106"/>
                  <a:pt x="68" y="94"/>
                  <a:pt x="68" y="94"/>
                </a:cubicBezTo>
                <a:cubicBezTo>
                  <a:pt x="72" y="83"/>
                  <a:pt x="79" y="82"/>
                  <a:pt x="88" y="76"/>
                </a:cubicBezTo>
                <a:cubicBezTo>
                  <a:pt x="92" y="71"/>
                  <a:pt x="96" y="58"/>
                  <a:pt x="96" y="58"/>
                </a:cubicBezTo>
                <a:cubicBezTo>
                  <a:pt x="91" y="44"/>
                  <a:pt x="96" y="47"/>
                  <a:pt x="86" y="44"/>
                </a:cubicBezTo>
                <a:cubicBezTo>
                  <a:pt x="81" y="44"/>
                  <a:pt x="70" y="42"/>
                  <a:pt x="64" y="48"/>
                </a:cubicBezTo>
                <a:cubicBezTo>
                  <a:pt x="58" y="54"/>
                  <a:pt x="55" y="71"/>
                  <a:pt x="48" y="78"/>
                </a:cubicBezTo>
                <a:cubicBezTo>
                  <a:pt x="37" y="95"/>
                  <a:pt x="45" y="91"/>
                  <a:pt x="22" y="88"/>
                </a:cubicBezTo>
                <a:cubicBezTo>
                  <a:pt x="24" y="72"/>
                  <a:pt x="22" y="67"/>
                  <a:pt x="36" y="62"/>
                </a:cubicBezTo>
                <a:cubicBezTo>
                  <a:pt x="44" y="51"/>
                  <a:pt x="44" y="46"/>
                  <a:pt x="40" y="30"/>
                </a:cubicBezTo>
                <a:cubicBezTo>
                  <a:pt x="39" y="24"/>
                  <a:pt x="32" y="12"/>
                  <a:pt x="32" y="12"/>
                </a:cubicBezTo>
                <a:cubicBezTo>
                  <a:pt x="39" y="7"/>
                  <a:pt x="44" y="3"/>
                  <a:pt x="34" y="0"/>
                </a:cubicBezTo>
                <a:cubicBezTo>
                  <a:pt x="29" y="8"/>
                  <a:pt x="28" y="7"/>
                  <a:pt x="36" y="2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Freeform 43"/>
          <p:cNvSpPr/>
          <p:nvPr/>
        </p:nvSpPr>
        <p:spPr>
          <a:xfrm>
            <a:off x="6781680" y="4191120"/>
            <a:ext cx="112680" cy="42840"/>
          </a:xfrm>
          <a:custGeom>
            <a:avLst/>
            <a:gdLst>
              <a:gd name="textAreaLeft" fmla="*/ 0 w 112680"/>
              <a:gd name="textAreaRight" fmla="*/ 113040 w 1126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1" h="27">
                <a:moveTo>
                  <a:pt x="55" y="4"/>
                </a:moveTo>
                <a:cubicBezTo>
                  <a:pt x="40" y="0"/>
                  <a:pt x="39" y="0"/>
                  <a:pt x="21" y="2"/>
                </a:cubicBezTo>
                <a:cubicBezTo>
                  <a:pt x="12" y="5"/>
                  <a:pt x="9" y="8"/>
                  <a:pt x="3" y="16"/>
                </a:cubicBezTo>
                <a:cubicBezTo>
                  <a:pt x="0" y="27"/>
                  <a:pt x="22" y="20"/>
                  <a:pt x="31" y="26"/>
                </a:cubicBezTo>
                <a:cubicBezTo>
                  <a:pt x="52" y="23"/>
                  <a:pt x="50" y="27"/>
                  <a:pt x="71" y="24"/>
                </a:cubicBezTo>
                <a:cubicBezTo>
                  <a:pt x="69" y="9"/>
                  <a:pt x="71" y="4"/>
                  <a:pt x="55" y="4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Freeform 44"/>
          <p:cNvSpPr/>
          <p:nvPr/>
        </p:nvSpPr>
        <p:spPr>
          <a:xfrm>
            <a:off x="6629400" y="4038480"/>
            <a:ext cx="52560" cy="65160"/>
          </a:xfrm>
          <a:custGeom>
            <a:avLst/>
            <a:gdLst>
              <a:gd name="textAreaLeft" fmla="*/ 0 w 52560"/>
              <a:gd name="textAreaRight" fmla="*/ 52920 w 525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3" h="41">
                <a:moveTo>
                  <a:pt x="25" y="1"/>
                </a:moveTo>
                <a:cubicBezTo>
                  <a:pt x="21" y="0"/>
                  <a:pt x="13" y="3"/>
                  <a:pt x="9" y="7"/>
                </a:cubicBezTo>
                <a:cubicBezTo>
                  <a:pt x="5" y="11"/>
                  <a:pt x="4" y="18"/>
                  <a:pt x="3" y="23"/>
                </a:cubicBezTo>
                <a:cubicBezTo>
                  <a:pt x="3" y="27"/>
                  <a:pt x="0" y="37"/>
                  <a:pt x="3" y="39"/>
                </a:cubicBezTo>
                <a:cubicBezTo>
                  <a:pt x="6" y="41"/>
                  <a:pt x="14" y="40"/>
                  <a:pt x="19" y="37"/>
                </a:cubicBezTo>
                <a:cubicBezTo>
                  <a:pt x="31" y="34"/>
                  <a:pt x="26" y="38"/>
                  <a:pt x="31" y="23"/>
                </a:cubicBezTo>
                <a:cubicBezTo>
                  <a:pt x="32" y="21"/>
                  <a:pt x="33" y="17"/>
                  <a:pt x="33" y="17"/>
                </a:cubicBezTo>
                <a:cubicBezTo>
                  <a:pt x="30" y="2"/>
                  <a:pt x="25" y="9"/>
                  <a:pt x="25" y="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46"/>
          <p:cNvSpPr/>
          <p:nvPr/>
        </p:nvSpPr>
        <p:spPr>
          <a:xfrm>
            <a:off x="228600" y="2895480"/>
            <a:ext cx="45720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48"/>
          <p:cNvSpPr/>
          <p:nvPr/>
        </p:nvSpPr>
        <p:spPr>
          <a:xfrm>
            <a:off x="228600" y="1600200"/>
            <a:ext cx="457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49"/>
          <p:cNvSpPr/>
          <p:nvPr/>
        </p:nvSpPr>
        <p:spPr>
          <a:xfrm>
            <a:off x="228600" y="2209680"/>
            <a:ext cx="4572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50"/>
          <p:cNvSpPr/>
          <p:nvPr/>
        </p:nvSpPr>
        <p:spPr>
          <a:xfrm>
            <a:off x="228600" y="3657600"/>
            <a:ext cx="457200" cy="2286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Freeform 52"/>
          <p:cNvSpPr/>
          <p:nvPr/>
        </p:nvSpPr>
        <p:spPr>
          <a:xfrm>
            <a:off x="3605040" y="4243320"/>
            <a:ext cx="142920" cy="92160"/>
          </a:xfrm>
          <a:custGeom>
            <a:avLst/>
            <a:gdLst>
              <a:gd name="textAreaLeft" fmla="*/ 0 w 142920"/>
              <a:gd name="textAreaRight" fmla="*/ 143280 w 1429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90" h="58">
                <a:moveTo>
                  <a:pt x="3" y="24"/>
                </a:moveTo>
                <a:cubicBezTo>
                  <a:pt x="7" y="13"/>
                  <a:pt x="12" y="9"/>
                  <a:pt x="24" y="6"/>
                </a:cubicBezTo>
                <a:cubicBezTo>
                  <a:pt x="34" y="4"/>
                  <a:pt x="54" y="0"/>
                  <a:pt x="54" y="0"/>
                </a:cubicBezTo>
                <a:cubicBezTo>
                  <a:pt x="71" y="4"/>
                  <a:pt x="75" y="16"/>
                  <a:pt x="84" y="30"/>
                </a:cubicBezTo>
                <a:cubicBezTo>
                  <a:pt x="88" y="35"/>
                  <a:pt x="90" y="48"/>
                  <a:pt x="90" y="48"/>
                </a:cubicBezTo>
                <a:cubicBezTo>
                  <a:pt x="83" y="49"/>
                  <a:pt x="76" y="49"/>
                  <a:pt x="69" y="51"/>
                </a:cubicBezTo>
                <a:cubicBezTo>
                  <a:pt x="63" y="52"/>
                  <a:pt x="51" y="57"/>
                  <a:pt x="51" y="57"/>
                </a:cubicBezTo>
                <a:cubicBezTo>
                  <a:pt x="44" y="56"/>
                  <a:pt x="36" y="58"/>
                  <a:pt x="30" y="54"/>
                </a:cubicBezTo>
                <a:cubicBezTo>
                  <a:pt x="11" y="42"/>
                  <a:pt x="22" y="34"/>
                  <a:pt x="0" y="27"/>
                </a:cubicBezTo>
                <a:cubicBezTo>
                  <a:pt x="3" y="18"/>
                  <a:pt x="22" y="5"/>
                  <a:pt x="3" y="2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Freeform 53"/>
          <p:cNvSpPr/>
          <p:nvPr/>
        </p:nvSpPr>
        <p:spPr>
          <a:xfrm>
            <a:off x="5715000" y="2133720"/>
            <a:ext cx="549360" cy="711000"/>
          </a:xfrm>
          <a:custGeom>
            <a:avLst/>
            <a:gdLst>
              <a:gd name="textAreaLeft" fmla="*/ 0 w 549360"/>
              <a:gd name="textAreaRight" fmla="*/ 549720 w 5493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346" h="448">
                <a:moveTo>
                  <a:pt x="172" y="12"/>
                </a:moveTo>
                <a:cubicBezTo>
                  <a:pt x="168" y="33"/>
                  <a:pt x="154" y="23"/>
                  <a:pt x="130" y="22"/>
                </a:cubicBezTo>
                <a:cubicBezTo>
                  <a:pt x="119" y="6"/>
                  <a:pt x="116" y="3"/>
                  <a:pt x="96" y="0"/>
                </a:cubicBezTo>
                <a:cubicBezTo>
                  <a:pt x="77" y="2"/>
                  <a:pt x="70" y="0"/>
                  <a:pt x="60" y="16"/>
                </a:cubicBezTo>
                <a:cubicBezTo>
                  <a:pt x="57" y="36"/>
                  <a:pt x="52" y="55"/>
                  <a:pt x="46" y="74"/>
                </a:cubicBezTo>
                <a:cubicBezTo>
                  <a:pt x="44" y="88"/>
                  <a:pt x="53" y="107"/>
                  <a:pt x="46" y="120"/>
                </a:cubicBezTo>
                <a:cubicBezTo>
                  <a:pt x="47" y="134"/>
                  <a:pt x="37" y="137"/>
                  <a:pt x="44" y="148"/>
                </a:cubicBezTo>
                <a:cubicBezTo>
                  <a:pt x="46" y="172"/>
                  <a:pt x="60" y="196"/>
                  <a:pt x="28" y="192"/>
                </a:cubicBezTo>
                <a:cubicBezTo>
                  <a:pt x="27" y="189"/>
                  <a:pt x="28" y="184"/>
                  <a:pt x="26" y="182"/>
                </a:cubicBezTo>
                <a:cubicBezTo>
                  <a:pt x="22" y="178"/>
                  <a:pt x="8" y="168"/>
                  <a:pt x="8" y="168"/>
                </a:cubicBezTo>
                <a:cubicBezTo>
                  <a:pt x="0" y="184"/>
                  <a:pt x="2" y="211"/>
                  <a:pt x="12" y="226"/>
                </a:cubicBezTo>
                <a:cubicBezTo>
                  <a:pt x="17" y="248"/>
                  <a:pt x="15" y="243"/>
                  <a:pt x="20" y="276"/>
                </a:cubicBezTo>
                <a:cubicBezTo>
                  <a:pt x="21" y="282"/>
                  <a:pt x="36" y="286"/>
                  <a:pt x="36" y="286"/>
                </a:cubicBezTo>
                <a:cubicBezTo>
                  <a:pt x="41" y="300"/>
                  <a:pt x="46" y="304"/>
                  <a:pt x="58" y="312"/>
                </a:cubicBezTo>
                <a:cubicBezTo>
                  <a:pt x="62" y="306"/>
                  <a:pt x="56" y="286"/>
                  <a:pt x="60" y="280"/>
                </a:cubicBezTo>
                <a:cubicBezTo>
                  <a:pt x="65" y="281"/>
                  <a:pt x="78" y="293"/>
                  <a:pt x="82" y="296"/>
                </a:cubicBezTo>
                <a:cubicBezTo>
                  <a:pt x="84" y="298"/>
                  <a:pt x="65" y="311"/>
                  <a:pt x="60" y="316"/>
                </a:cubicBezTo>
                <a:cubicBezTo>
                  <a:pt x="48" y="352"/>
                  <a:pt x="72" y="354"/>
                  <a:pt x="98" y="356"/>
                </a:cubicBezTo>
                <a:cubicBezTo>
                  <a:pt x="100" y="362"/>
                  <a:pt x="112" y="370"/>
                  <a:pt x="112" y="370"/>
                </a:cubicBezTo>
                <a:cubicBezTo>
                  <a:pt x="124" y="366"/>
                  <a:pt x="130" y="361"/>
                  <a:pt x="140" y="354"/>
                </a:cubicBezTo>
                <a:cubicBezTo>
                  <a:pt x="152" y="356"/>
                  <a:pt x="159" y="360"/>
                  <a:pt x="170" y="364"/>
                </a:cubicBezTo>
                <a:cubicBezTo>
                  <a:pt x="176" y="372"/>
                  <a:pt x="184" y="375"/>
                  <a:pt x="190" y="384"/>
                </a:cubicBezTo>
                <a:cubicBezTo>
                  <a:pt x="192" y="397"/>
                  <a:pt x="192" y="398"/>
                  <a:pt x="204" y="402"/>
                </a:cubicBezTo>
                <a:cubicBezTo>
                  <a:pt x="211" y="391"/>
                  <a:pt x="203" y="378"/>
                  <a:pt x="196" y="368"/>
                </a:cubicBezTo>
                <a:cubicBezTo>
                  <a:pt x="193" y="356"/>
                  <a:pt x="192" y="351"/>
                  <a:pt x="206" y="354"/>
                </a:cubicBezTo>
                <a:cubicBezTo>
                  <a:pt x="216" y="360"/>
                  <a:pt x="211" y="356"/>
                  <a:pt x="216" y="370"/>
                </a:cubicBezTo>
                <a:cubicBezTo>
                  <a:pt x="217" y="372"/>
                  <a:pt x="232" y="377"/>
                  <a:pt x="236" y="378"/>
                </a:cubicBezTo>
                <a:cubicBezTo>
                  <a:pt x="245" y="392"/>
                  <a:pt x="239" y="388"/>
                  <a:pt x="250" y="392"/>
                </a:cubicBezTo>
                <a:cubicBezTo>
                  <a:pt x="253" y="396"/>
                  <a:pt x="246" y="405"/>
                  <a:pt x="248" y="408"/>
                </a:cubicBezTo>
                <a:cubicBezTo>
                  <a:pt x="250" y="411"/>
                  <a:pt x="256" y="407"/>
                  <a:pt x="262" y="408"/>
                </a:cubicBezTo>
                <a:cubicBezTo>
                  <a:pt x="270" y="411"/>
                  <a:pt x="286" y="414"/>
                  <a:pt x="286" y="414"/>
                </a:cubicBezTo>
                <a:cubicBezTo>
                  <a:pt x="294" y="438"/>
                  <a:pt x="284" y="435"/>
                  <a:pt x="304" y="448"/>
                </a:cubicBezTo>
                <a:cubicBezTo>
                  <a:pt x="306" y="448"/>
                  <a:pt x="315" y="417"/>
                  <a:pt x="312" y="410"/>
                </a:cubicBezTo>
                <a:cubicBezTo>
                  <a:pt x="309" y="403"/>
                  <a:pt x="294" y="411"/>
                  <a:pt x="288" y="408"/>
                </a:cubicBezTo>
                <a:cubicBezTo>
                  <a:pt x="284" y="402"/>
                  <a:pt x="276" y="390"/>
                  <a:pt x="276" y="390"/>
                </a:cubicBezTo>
                <a:cubicBezTo>
                  <a:pt x="273" y="379"/>
                  <a:pt x="272" y="371"/>
                  <a:pt x="282" y="364"/>
                </a:cubicBezTo>
                <a:cubicBezTo>
                  <a:pt x="291" y="367"/>
                  <a:pt x="292" y="370"/>
                  <a:pt x="298" y="376"/>
                </a:cubicBezTo>
                <a:cubicBezTo>
                  <a:pt x="302" y="379"/>
                  <a:pt x="310" y="384"/>
                  <a:pt x="310" y="384"/>
                </a:cubicBezTo>
                <a:cubicBezTo>
                  <a:pt x="329" y="381"/>
                  <a:pt x="346" y="365"/>
                  <a:pt x="320" y="348"/>
                </a:cubicBezTo>
                <a:cubicBezTo>
                  <a:pt x="314" y="339"/>
                  <a:pt x="319" y="326"/>
                  <a:pt x="314" y="334"/>
                </a:cubicBezTo>
                <a:cubicBezTo>
                  <a:pt x="311" y="349"/>
                  <a:pt x="299" y="361"/>
                  <a:pt x="288" y="354"/>
                </a:cubicBezTo>
                <a:cubicBezTo>
                  <a:pt x="284" y="343"/>
                  <a:pt x="288" y="349"/>
                  <a:pt x="274" y="340"/>
                </a:cubicBezTo>
                <a:cubicBezTo>
                  <a:pt x="272" y="339"/>
                  <a:pt x="268" y="336"/>
                  <a:pt x="268" y="336"/>
                </a:cubicBezTo>
                <a:cubicBezTo>
                  <a:pt x="253" y="340"/>
                  <a:pt x="258" y="354"/>
                  <a:pt x="246" y="362"/>
                </a:cubicBezTo>
                <a:cubicBezTo>
                  <a:pt x="218" y="356"/>
                  <a:pt x="243" y="330"/>
                  <a:pt x="212" y="320"/>
                </a:cubicBezTo>
                <a:cubicBezTo>
                  <a:pt x="203" y="314"/>
                  <a:pt x="196" y="319"/>
                  <a:pt x="190" y="322"/>
                </a:cubicBezTo>
                <a:cubicBezTo>
                  <a:pt x="184" y="325"/>
                  <a:pt x="181" y="337"/>
                  <a:pt x="176" y="340"/>
                </a:cubicBezTo>
                <a:cubicBezTo>
                  <a:pt x="171" y="339"/>
                  <a:pt x="165" y="341"/>
                  <a:pt x="160" y="338"/>
                </a:cubicBezTo>
                <a:cubicBezTo>
                  <a:pt x="155" y="333"/>
                  <a:pt x="145" y="327"/>
                  <a:pt x="140" y="320"/>
                </a:cubicBezTo>
                <a:cubicBezTo>
                  <a:pt x="135" y="313"/>
                  <a:pt x="133" y="303"/>
                  <a:pt x="130" y="294"/>
                </a:cubicBezTo>
                <a:cubicBezTo>
                  <a:pt x="124" y="285"/>
                  <a:pt x="124" y="277"/>
                  <a:pt x="122" y="266"/>
                </a:cubicBezTo>
                <a:cubicBezTo>
                  <a:pt x="124" y="249"/>
                  <a:pt x="126" y="243"/>
                  <a:pt x="130" y="228"/>
                </a:cubicBezTo>
                <a:cubicBezTo>
                  <a:pt x="126" y="189"/>
                  <a:pt x="143" y="199"/>
                  <a:pt x="176" y="188"/>
                </a:cubicBezTo>
                <a:cubicBezTo>
                  <a:pt x="177" y="175"/>
                  <a:pt x="177" y="161"/>
                  <a:pt x="178" y="148"/>
                </a:cubicBezTo>
                <a:cubicBezTo>
                  <a:pt x="178" y="146"/>
                  <a:pt x="180" y="144"/>
                  <a:pt x="180" y="142"/>
                </a:cubicBezTo>
                <a:cubicBezTo>
                  <a:pt x="185" y="118"/>
                  <a:pt x="188" y="144"/>
                  <a:pt x="186" y="118"/>
                </a:cubicBezTo>
                <a:cubicBezTo>
                  <a:pt x="187" y="116"/>
                  <a:pt x="188" y="112"/>
                  <a:pt x="188" y="112"/>
                </a:cubicBezTo>
                <a:cubicBezTo>
                  <a:pt x="185" y="90"/>
                  <a:pt x="186" y="100"/>
                  <a:pt x="174" y="88"/>
                </a:cubicBezTo>
                <a:cubicBezTo>
                  <a:pt x="168" y="69"/>
                  <a:pt x="174" y="53"/>
                  <a:pt x="180" y="36"/>
                </a:cubicBezTo>
                <a:cubicBezTo>
                  <a:pt x="178" y="16"/>
                  <a:pt x="181" y="6"/>
                  <a:pt x="162" y="14"/>
                </a:cubicBezTo>
                <a:cubicBezTo>
                  <a:pt x="161" y="18"/>
                  <a:pt x="162" y="26"/>
                  <a:pt x="162" y="26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Freeform 54"/>
          <p:cNvSpPr/>
          <p:nvPr/>
        </p:nvSpPr>
        <p:spPr>
          <a:xfrm>
            <a:off x="6172200" y="2895480"/>
            <a:ext cx="109440" cy="84240"/>
          </a:xfrm>
          <a:custGeom>
            <a:avLst/>
            <a:gdLst>
              <a:gd name="textAreaLeft" fmla="*/ 0 w 109440"/>
              <a:gd name="textAreaRight" fmla="*/ 109800 w 109440"/>
              <a:gd name="textAreaTop" fmla="*/ 0 h 84240"/>
              <a:gd name="textAreaBottom" fmla="*/ 84240 h 84240"/>
            </a:gdLst>
            <a:ahLst/>
            <a:rect l="textAreaLeft" t="textAreaTop" r="textAreaRight" b="textAreaBottom"/>
            <a:pathLst>
              <a:path w="69" h="53">
                <a:moveTo>
                  <a:pt x="32" y="1"/>
                </a:moveTo>
                <a:cubicBezTo>
                  <a:pt x="27" y="0"/>
                  <a:pt x="17" y="1"/>
                  <a:pt x="12" y="7"/>
                </a:cubicBezTo>
                <a:cubicBezTo>
                  <a:pt x="7" y="13"/>
                  <a:pt x="0" y="29"/>
                  <a:pt x="4" y="35"/>
                </a:cubicBezTo>
                <a:cubicBezTo>
                  <a:pt x="14" y="32"/>
                  <a:pt x="29" y="35"/>
                  <a:pt x="38" y="41"/>
                </a:cubicBezTo>
                <a:cubicBezTo>
                  <a:pt x="44" y="45"/>
                  <a:pt x="56" y="53"/>
                  <a:pt x="56" y="53"/>
                </a:cubicBezTo>
                <a:cubicBezTo>
                  <a:pt x="69" y="50"/>
                  <a:pt x="67" y="37"/>
                  <a:pt x="60" y="27"/>
                </a:cubicBezTo>
                <a:cubicBezTo>
                  <a:pt x="56" y="21"/>
                  <a:pt x="42" y="17"/>
                  <a:pt x="42" y="17"/>
                </a:cubicBezTo>
                <a:cubicBezTo>
                  <a:pt x="40" y="12"/>
                  <a:pt x="40" y="9"/>
                  <a:pt x="36" y="5"/>
                </a:cubicBezTo>
                <a:cubicBezTo>
                  <a:pt x="32" y="1"/>
                  <a:pt x="27" y="1"/>
                  <a:pt x="32" y="1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Freeform 57"/>
          <p:cNvSpPr/>
          <p:nvPr/>
        </p:nvSpPr>
        <p:spPr>
          <a:xfrm>
            <a:off x="5943600" y="3200400"/>
            <a:ext cx="538200" cy="468360"/>
          </a:xfrm>
          <a:custGeom>
            <a:avLst/>
            <a:gdLst>
              <a:gd name="textAreaLeft" fmla="*/ 0 w 538200"/>
              <a:gd name="textAreaRight" fmla="*/ 538560 w 53820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339" h="295">
                <a:moveTo>
                  <a:pt x="260" y="2"/>
                </a:moveTo>
                <a:cubicBezTo>
                  <a:pt x="253" y="12"/>
                  <a:pt x="256" y="21"/>
                  <a:pt x="260" y="32"/>
                </a:cubicBezTo>
                <a:cubicBezTo>
                  <a:pt x="258" y="46"/>
                  <a:pt x="254" y="50"/>
                  <a:pt x="242" y="58"/>
                </a:cubicBezTo>
                <a:cubicBezTo>
                  <a:pt x="234" y="52"/>
                  <a:pt x="232" y="55"/>
                  <a:pt x="224" y="60"/>
                </a:cubicBezTo>
                <a:cubicBezTo>
                  <a:pt x="208" y="55"/>
                  <a:pt x="226" y="75"/>
                  <a:pt x="208" y="78"/>
                </a:cubicBezTo>
                <a:cubicBezTo>
                  <a:pt x="199" y="105"/>
                  <a:pt x="207" y="85"/>
                  <a:pt x="170" y="82"/>
                </a:cubicBezTo>
                <a:cubicBezTo>
                  <a:pt x="164" y="85"/>
                  <a:pt x="174" y="98"/>
                  <a:pt x="170" y="98"/>
                </a:cubicBezTo>
                <a:cubicBezTo>
                  <a:pt x="169" y="102"/>
                  <a:pt x="169" y="103"/>
                  <a:pt x="164" y="104"/>
                </a:cubicBezTo>
                <a:cubicBezTo>
                  <a:pt x="164" y="104"/>
                  <a:pt x="143" y="99"/>
                  <a:pt x="142" y="102"/>
                </a:cubicBezTo>
                <a:cubicBezTo>
                  <a:pt x="141" y="106"/>
                  <a:pt x="138" y="114"/>
                  <a:pt x="138" y="114"/>
                </a:cubicBezTo>
                <a:cubicBezTo>
                  <a:pt x="134" y="103"/>
                  <a:pt x="170" y="106"/>
                  <a:pt x="138" y="76"/>
                </a:cubicBezTo>
                <a:cubicBezTo>
                  <a:pt x="132" y="73"/>
                  <a:pt x="113" y="73"/>
                  <a:pt x="102" y="78"/>
                </a:cubicBezTo>
                <a:cubicBezTo>
                  <a:pt x="91" y="83"/>
                  <a:pt x="80" y="102"/>
                  <a:pt x="72" y="108"/>
                </a:cubicBezTo>
                <a:cubicBezTo>
                  <a:pt x="64" y="109"/>
                  <a:pt x="52" y="114"/>
                  <a:pt x="52" y="114"/>
                </a:cubicBezTo>
                <a:cubicBezTo>
                  <a:pt x="44" y="119"/>
                  <a:pt x="50" y="109"/>
                  <a:pt x="44" y="116"/>
                </a:cubicBezTo>
                <a:cubicBezTo>
                  <a:pt x="15" y="149"/>
                  <a:pt x="11" y="149"/>
                  <a:pt x="0" y="192"/>
                </a:cubicBezTo>
                <a:cubicBezTo>
                  <a:pt x="3" y="217"/>
                  <a:pt x="4" y="209"/>
                  <a:pt x="28" y="206"/>
                </a:cubicBezTo>
                <a:cubicBezTo>
                  <a:pt x="34" y="208"/>
                  <a:pt x="25" y="179"/>
                  <a:pt x="28" y="178"/>
                </a:cubicBezTo>
                <a:cubicBezTo>
                  <a:pt x="31" y="177"/>
                  <a:pt x="43" y="202"/>
                  <a:pt x="44" y="200"/>
                </a:cubicBezTo>
                <a:cubicBezTo>
                  <a:pt x="47" y="203"/>
                  <a:pt x="33" y="176"/>
                  <a:pt x="34" y="166"/>
                </a:cubicBezTo>
                <a:cubicBezTo>
                  <a:pt x="35" y="156"/>
                  <a:pt x="45" y="142"/>
                  <a:pt x="50" y="142"/>
                </a:cubicBezTo>
                <a:cubicBezTo>
                  <a:pt x="60" y="145"/>
                  <a:pt x="66" y="168"/>
                  <a:pt x="66" y="168"/>
                </a:cubicBezTo>
                <a:cubicBezTo>
                  <a:pt x="112" y="165"/>
                  <a:pt x="82" y="155"/>
                  <a:pt x="136" y="152"/>
                </a:cubicBezTo>
                <a:cubicBezTo>
                  <a:pt x="145" y="146"/>
                  <a:pt x="150" y="150"/>
                  <a:pt x="158" y="156"/>
                </a:cubicBezTo>
                <a:cubicBezTo>
                  <a:pt x="164" y="165"/>
                  <a:pt x="167" y="174"/>
                  <a:pt x="154" y="178"/>
                </a:cubicBezTo>
                <a:cubicBezTo>
                  <a:pt x="147" y="200"/>
                  <a:pt x="144" y="204"/>
                  <a:pt x="152" y="238"/>
                </a:cubicBezTo>
                <a:cubicBezTo>
                  <a:pt x="153" y="243"/>
                  <a:pt x="160" y="243"/>
                  <a:pt x="164" y="246"/>
                </a:cubicBezTo>
                <a:cubicBezTo>
                  <a:pt x="182" y="258"/>
                  <a:pt x="189" y="262"/>
                  <a:pt x="214" y="270"/>
                </a:cubicBezTo>
                <a:cubicBezTo>
                  <a:pt x="222" y="265"/>
                  <a:pt x="223" y="272"/>
                  <a:pt x="232" y="268"/>
                </a:cubicBezTo>
                <a:cubicBezTo>
                  <a:pt x="236" y="269"/>
                  <a:pt x="240" y="265"/>
                  <a:pt x="240" y="268"/>
                </a:cubicBezTo>
                <a:cubicBezTo>
                  <a:pt x="240" y="271"/>
                  <a:pt x="231" y="282"/>
                  <a:pt x="230" y="286"/>
                </a:cubicBezTo>
                <a:cubicBezTo>
                  <a:pt x="231" y="289"/>
                  <a:pt x="229" y="294"/>
                  <a:pt x="232" y="294"/>
                </a:cubicBezTo>
                <a:cubicBezTo>
                  <a:pt x="241" y="295"/>
                  <a:pt x="260" y="290"/>
                  <a:pt x="260" y="290"/>
                </a:cubicBezTo>
                <a:cubicBezTo>
                  <a:pt x="262" y="289"/>
                  <a:pt x="265" y="290"/>
                  <a:pt x="266" y="288"/>
                </a:cubicBezTo>
                <a:cubicBezTo>
                  <a:pt x="268" y="285"/>
                  <a:pt x="282" y="270"/>
                  <a:pt x="282" y="270"/>
                </a:cubicBezTo>
                <a:cubicBezTo>
                  <a:pt x="278" y="240"/>
                  <a:pt x="286" y="250"/>
                  <a:pt x="272" y="232"/>
                </a:cubicBezTo>
                <a:cubicBezTo>
                  <a:pt x="270" y="222"/>
                  <a:pt x="249" y="218"/>
                  <a:pt x="254" y="206"/>
                </a:cubicBezTo>
                <a:cubicBezTo>
                  <a:pt x="258" y="196"/>
                  <a:pt x="278" y="186"/>
                  <a:pt x="278" y="186"/>
                </a:cubicBezTo>
                <a:cubicBezTo>
                  <a:pt x="292" y="188"/>
                  <a:pt x="292" y="189"/>
                  <a:pt x="296" y="202"/>
                </a:cubicBezTo>
                <a:cubicBezTo>
                  <a:pt x="297" y="216"/>
                  <a:pt x="291" y="232"/>
                  <a:pt x="298" y="244"/>
                </a:cubicBezTo>
                <a:cubicBezTo>
                  <a:pt x="301" y="249"/>
                  <a:pt x="312" y="245"/>
                  <a:pt x="316" y="240"/>
                </a:cubicBezTo>
                <a:cubicBezTo>
                  <a:pt x="317" y="238"/>
                  <a:pt x="313" y="222"/>
                  <a:pt x="312" y="218"/>
                </a:cubicBezTo>
                <a:cubicBezTo>
                  <a:pt x="316" y="207"/>
                  <a:pt x="313" y="214"/>
                  <a:pt x="322" y="200"/>
                </a:cubicBezTo>
                <a:cubicBezTo>
                  <a:pt x="328" y="191"/>
                  <a:pt x="328" y="179"/>
                  <a:pt x="334" y="170"/>
                </a:cubicBezTo>
                <a:cubicBezTo>
                  <a:pt x="330" y="154"/>
                  <a:pt x="339" y="152"/>
                  <a:pt x="334" y="138"/>
                </a:cubicBezTo>
                <a:cubicBezTo>
                  <a:pt x="331" y="128"/>
                  <a:pt x="330" y="118"/>
                  <a:pt x="326" y="112"/>
                </a:cubicBezTo>
                <a:cubicBezTo>
                  <a:pt x="324" y="105"/>
                  <a:pt x="328" y="102"/>
                  <a:pt x="324" y="96"/>
                </a:cubicBezTo>
                <a:cubicBezTo>
                  <a:pt x="321" y="87"/>
                  <a:pt x="304" y="78"/>
                  <a:pt x="304" y="78"/>
                </a:cubicBezTo>
                <a:cubicBezTo>
                  <a:pt x="306" y="71"/>
                  <a:pt x="310" y="65"/>
                  <a:pt x="312" y="58"/>
                </a:cubicBezTo>
                <a:cubicBezTo>
                  <a:pt x="309" y="50"/>
                  <a:pt x="310" y="48"/>
                  <a:pt x="304" y="40"/>
                </a:cubicBezTo>
                <a:cubicBezTo>
                  <a:pt x="299" y="26"/>
                  <a:pt x="293" y="6"/>
                  <a:pt x="276" y="0"/>
                </a:cubicBezTo>
                <a:cubicBezTo>
                  <a:pt x="270" y="2"/>
                  <a:pt x="245" y="22"/>
                  <a:pt x="260" y="2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Freeform 58"/>
          <p:cNvSpPr/>
          <p:nvPr/>
        </p:nvSpPr>
        <p:spPr>
          <a:xfrm>
            <a:off x="6172200" y="3124080"/>
            <a:ext cx="85680" cy="201600"/>
          </a:xfrm>
          <a:custGeom>
            <a:avLst/>
            <a:gdLst>
              <a:gd name="textAreaLeft" fmla="*/ 0 w 85680"/>
              <a:gd name="textAreaRight" fmla="*/ 86040 w 8568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62" h="127">
                <a:moveTo>
                  <a:pt x="46" y="14"/>
                </a:moveTo>
                <a:cubicBezTo>
                  <a:pt x="44" y="32"/>
                  <a:pt x="45" y="29"/>
                  <a:pt x="32" y="38"/>
                </a:cubicBezTo>
                <a:cubicBezTo>
                  <a:pt x="31" y="40"/>
                  <a:pt x="30" y="46"/>
                  <a:pt x="30" y="48"/>
                </a:cubicBezTo>
                <a:cubicBezTo>
                  <a:pt x="29" y="53"/>
                  <a:pt x="29" y="57"/>
                  <a:pt x="28" y="62"/>
                </a:cubicBezTo>
                <a:cubicBezTo>
                  <a:pt x="25" y="72"/>
                  <a:pt x="14" y="79"/>
                  <a:pt x="10" y="92"/>
                </a:cubicBezTo>
                <a:cubicBezTo>
                  <a:pt x="8" y="99"/>
                  <a:pt x="0" y="110"/>
                  <a:pt x="0" y="110"/>
                </a:cubicBezTo>
                <a:cubicBezTo>
                  <a:pt x="2" y="121"/>
                  <a:pt x="0" y="127"/>
                  <a:pt x="12" y="124"/>
                </a:cubicBezTo>
                <a:cubicBezTo>
                  <a:pt x="18" y="120"/>
                  <a:pt x="28" y="87"/>
                  <a:pt x="36" y="78"/>
                </a:cubicBezTo>
                <a:cubicBezTo>
                  <a:pt x="44" y="69"/>
                  <a:pt x="55" y="72"/>
                  <a:pt x="58" y="68"/>
                </a:cubicBezTo>
                <a:cubicBezTo>
                  <a:pt x="62" y="64"/>
                  <a:pt x="54" y="62"/>
                  <a:pt x="54" y="56"/>
                </a:cubicBezTo>
                <a:cubicBezTo>
                  <a:pt x="54" y="50"/>
                  <a:pt x="56" y="38"/>
                  <a:pt x="56" y="30"/>
                </a:cubicBezTo>
                <a:cubicBezTo>
                  <a:pt x="55" y="23"/>
                  <a:pt x="57" y="16"/>
                  <a:pt x="54" y="10"/>
                </a:cubicBezTo>
                <a:cubicBezTo>
                  <a:pt x="50" y="0"/>
                  <a:pt x="46" y="30"/>
                  <a:pt x="46" y="14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Freeform 59"/>
          <p:cNvSpPr/>
          <p:nvPr/>
        </p:nvSpPr>
        <p:spPr>
          <a:xfrm>
            <a:off x="6019920" y="2971800"/>
            <a:ext cx="129960" cy="223920"/>
          </a:xfrm>
          <a:custGeom>
            <a:avLst/>
            <a:gdLst>
              <a:gd name="textAreaLeft" fmla="*/ 0 w 129960"/>
              <a:gd name="textAreaRight" fmla="*/ 130320 w 12996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2" h="141">
                <a:moveTo>
                  <a:pt x="63" y="5"/>
                </a:moveTo>
                <a:cubicBezTo>
                  <a:pt x="49" y="7"/>
                  <a:pt x="45" y="12"/>
                  <a:pt x="41" y="25"/>
                </a:cubicBezTo>
                <a:cubicBezTo>
                  <a:pt x="37" y="35"/>
                  <a:pt x="36" y="52"/>
                  <a:pt x="31" y="61"/>
                </a:cubicBezTo>
                <a:cubicBezTo>
                  <a:pt x="26" y="70"/>
                  <a:pt x="12" y="68"/>
                  <a:pt x="11" y="77"/>
                </a:cubicBezTo>
                <a:cubicBezTo>
                  <a:pt x="0" y="94"/>
                  <a:pt x="4" y="110"/>
                  <a:pt x="25" y="117"/>
                </a:cubicBezTo>
                <a:cubicBezTo>
                  <a:pt x="35" y="127"/>
                  <a:pt x="48" y="137"/>
                  <a:pt x="61" y="141"/>
                </a:cubicBezTo>
                <a:cubicBezTo>
                  <a:pt x="60" y="130"/>
                  <a:pt x="70" y="130"/>
                  <a:pt x="67" y="119"/>
                </a:cubicBezTo>
                <a:cubicBezTo>
                  <a:pt x="69" y="102"/>
                  <a:pt x="47" y="83"/>
                  <a:pt x="59" y="71"/>
                </a:cubicBezTo>
                <a:cubicBezTo>
                  <a:pt x="66" y="50"/>
                  <a:pt x="65" y="88"/>
                  <a:pt x="73" y="31"/>
                </a:cubicBezTo>
                <a:cubicBezTo>
                  <a:pt x="74" y="24"/>
                  <a:pt x="81" y="13"/>
                  <a:pt x="81" y="13"/>
                </a:cubicBezTo>
                <a:cubicBezTo>
                  <a:pt x="80" y="6"/>
                  <a:pt x="82" y="1"/>
                  <a:pt x="73" y="1"/>
                </a:cubicBezTo>
                <a:cubicBezTo>
                  <a:pt x="68" y="1"/>
                  <a:pt x="57" y="0"/>
                  <a:pt x="57" y="5"/>
                </a:cubicBezTo>
                <a:cubicBezTo>
                  <a:pt x="57" y="7"/>
                  <a:pt x="61" y="5"/>
                  <a:pt x="63" y="5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Freeform 60"/>
          <p:cNvSpPr/>
          <p:nvPr/>
        </p:nvSpPr>
        <p:spPr>
          <a:xfrm>
            <a:off x="5867280" y="3048120"/>
            <a:ext cx="142920" cy="260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90" h="164">
                <a:moveTo>
                  <a:pt x="26" y="34"/>
                </a:moveTo>
                <a:cubicBezTo>
                  <a:pt x="22" y="39"/>
                  <a:pt x="2" y="30"/>
                  <a:pt x="10" y="34"/>
                </a:cubicBezTo>
                <a:cubicBezTo>
                  <a:pt x="0" y="56"/>
                  <a:pt x="14" y="69"/>
                  <a:pt x="18" y="86"/>
                </a:cubicBezTo>
                <a:cubicBezTo>
                  <a:pt x="15" y="126"/>
                  <a:pt x="23" y="105"/>
                  <a:pt x="10" y="120"/>
                </a:cubicBezTo>
                <a:cubicBezTo>
                  <a:pt x="6" y="125"/>
                  <a:pt x="2" y="138"/>
                  <a:pt x="2" y="138"/>
                </a:cubicBezTo>
                <a:cubicBezTo>
                  <a:pt x="4" y="153"/>
                  <a:pt x="3" y="156"/>
                  <a:pt x="14" y="164"/>
                </a:cubicBezTo>
                <a:cubicBezTo>
                  <a:pt x="24" y="151"/>
                  <a:pt x="23" y="140"/>
                  <a:pt x="40" y="142"/>
                </a:cubicBezTo>
                <a:cubicBezTo>
                  <a:pt x="49" y="148"/>
                  <a:pt x="50" y="161"/>
                  <a:pt x="56" y="150"/>
                </a:cubicBezTo>
                <a:cubicBezTo>
                  <a:pt x="59" y="131"/>
                  <a:pt x="59" y="139"/>
                  <a:pt x="72" y="130"/>
                </a:cubicBezTo>
                <a:cubicBezTo>
                  <a:pt x="78" y="119"/>
                  <a:pt x="86" y="110"/>
                  <a:pt x="90" y="98"/>
                </a:cubicBezTo>
                <a:cubicBezTo>
                  <a:pt x="87" y="78"/>
                  <a:pt x="83" y="84"/>
                  <a:pt x="66" y="80"/>
                </a:cubicBezTo>
                <a:cubicBezTo>
                  <a:pt x="55" y="69"/>
                  <a:pt x="61" y="74"/>
                  <a:pt x="46" y="64"/>
                </a:cubicBezTo>
                <a:cubicBezTo>
                  <a:pt x="42" y="62"/>
                  <a:pt x="22" y="60"/>
                  <a:pt x="22" y="60"/>
                </a:cubicBezTo>
                <a:cubicBezTo>
                  <a:pt x="12" y="45"/>
                  <a:pt x="24" y="42"/>
                  <a:pt x="26" y="24"/>
                </a:cubicBezTo>
                <a:cubicBezTo>
                  <a:pt x="23" y="16"/>
                  <a:pt x="23" y="8"/>
                  <a:pt x="20" y="0"/>
                </a:cubicBezTo>
                <a:cubicBezTo>
                  <a:pt x="5" y="4"/>
                  <a:pt x="5" y="16"/>
                  <a:pt x="12" y="30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Freeform 61"/>
          <p:cNvSpPr/>
          <p:nvPr/>
        </p:nvSpPr>
        <p:spPr>
          <a:xfrm>
            <a:off x="5562720" y="2895480"/>
            <a:ext cx="264960" cy="349200"/>
          </a:xfrm>
          <a:custGeom>
            <a:avLst/>
            <a:gdLst>
              <a:gd name="textAreaLeft" fmla="*/ 0 w 264960"/>
              <a:gd name="textAreaRight" fmla="*/ 265320 w 264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67" h="220">
                <a:moveTo>
                  <a:pt x="146" y="8"/>
                </a:moveTo>
                <a:cubicBezTo>
                  <a:pt x="144" y="22"/>
                  <a:pt x="143" y="44"/>
                  <a:pt x="140" y="56"/>
                </a:cubicBezTo>
                <a:cubicBezTo>
                  <a:pt x="139" y="60"/>
                  <a:pt x="125" y="70"/>
                  <a:pt x="122" y="72"/>
                </a:cubicBezTo>
                <a:cubicBezTo>
                  <a:pt x="118" y="75"/>
                  <a:pt x="110" y="80"/>
                  <a:pt x="110" y="80"/>
                </a:cubicBezTo>
                <a:cubicBezTo>
                  <a:pt x="97" y="99"/>
                  <a:pt x="80" y="106"/>
                  <a:pt x="64" y="120"/>
                </a:cubicBezTo>
                <a:cubicBezTo>
                  <a:pt x="44" y="137"/>
                  <a:pt x="27" y="156"/>
                  <a:pt x="6" y="172"/>
                </a:cubicBezTo>
                <a:cubicBezTo>
                  <a:pt x="0" y="190"/>
                  <a:pt x="2" y="180"/>
                  <a:pt x="0" y="202"/>
                </a:cubicBezTo>
                <a:cubicBezTo>
                  <a:pt x="5" y="220"/>
                  <a:pt x="48" y="165"/>
                  <a:pt x="62" y="162"/>
                </a:cubicBezTo>
                <a:cubicBezTo>
                  <a:pt x="72" y="157"/>
                  <a:pt x="75" y="159"/>
                  <a:pt x="78" y="148"/>
                </a:cubicBezTo>
                <a:cubicBezTo>
                  <a:pt x="84" y="140"/>
                  <a:pt x="95" y="124"/>
                  <a:pt x="102" y="116"/>
                </a:cubicBezTo>
                <a:cubicBezTo>
                  <a:pt x="108" y="107"/>
                  <a:pt x="109" y="98"/>
                  <a:pt x="112" y="96"/>
                </a:cubicBezTo>
                <a:cubicBezTo>
                  <a:pt x="115" y="94"/>
                  <a:pt x="117" y="106"/>
                  <a:pt x="122" y="102"/>
                </a:cubicBezTo>
                <a:cubicBezTo>
                  <a:pt x="129" y="96"/>
                  <a:pt x="136" y="77"/>
                  <a:pt x="142" y="72"/>
                </a:cubicBezTo>
                <a:cubicBezTo>
                  <a:pt x="148" y="67"/>
                  <a:pt x="152" y="79"/>
                  <a:pt x="156" y="74"/>
                </a:cubicBezTo>
                <a:cubicBezTo>
                  <a:pt x="164" y="66"/>
                  <a:pt x="163" y="54"/>
                  <a:pt x="166" y="44"/>
                </a:cubicBezTo>
                <a:cubicBezTo>
                  <a:pt x="167" y="34"/>
                  <a:pt x="160" y="31"/>
                  <a:pt x="158" y="24"/>
                </a:cubicBezTo>
                <a:cubicBezTo>
                  <a:pt x="156" y="17"/>
                  <a:pt x="154" y="3"/>
                  <a:pt x="152" y="0"/>
                </a:cubicBezTo>
                <a:cubicBezTo>
                  <a:pt x="151" y="2"/>
                  <a:pt x="148" y="4"/>
                  <a:pt x="148" y="6"/>
                </a:cubicBezTo>
                <a:cubicBezTo>
                  <a:pt x="148" y="10"/>
                  <a:pt x="152" y="18"/>
                  <a:pt x="152" y="18"/>
                </a:cubicBezTo>
                <a:cubicBezTo>
                  <a:pt x="150" y="25"/>
                  <a:pt x="152" y="24"/>
                  <a:pt x="148" y="24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Freeform 62"/>
          <p:cNvSpPr/>
          <p:nvPr/>
        </p:nvSpPr>
        <p:spPr>
          <a:xfrm>
            <a:off x="5791320" y="2895480"/>
            <a:ext cx="152280" cy="76320"/>
          </a:xfrm>
          <a:custGeom>
            <a:avLst/>
            <a:gdLst>
              <a:gd name="textAreaLeft" fmla="*/ 0 w 152280"/>
              <a:gd name="textAreaRight" fmla="*/ 152640 w 152280"/>
              <a:gd name="textAreaTop" fmla="*/ 0 h 76320"/>
              <a:gd name="textAreaBottom" fmla="*/ 76320 h 76320"/>
            </a:gdLst>
            <a:ahLst/>
            <a:rect l="textAreaLeft" t="textAreaTop" r="textAreaRight" b="textAreaBottom"/>
            <a:pathLst>
              <a:path w="70" h="26">
                <a:moveTo>
                  <a:pt x="47" y="10"/>
                </a:moveTo>
                <a:cubicBezTo>
                  <a:pt x="46" y="8"/>
                  <a:pt x="47" y="5"/>
                  <a:pt x="45" y="4"/>
                </a:cubicBezTo>
                <a:cubicBezTo>
                  <a:pt x="42" y="2"/>
                  <a:pt x="33" y="0"/>
                  <a:pt x="33" y="0"/>
                </a:cubicBezTo>
                <a:cubicBezTo>
                  <a:pt x="0" y="7"/>
                  <a:pt x="46" y="15"/>
                  <a:pt x="55" y="16"/>
                </a:cubicBezTo>
                <a:cubicBezTo>
                  <a:pt x="70" y="26"/>
                  <a:pt x="62" y="9"/>
                  <a:pt x="61" y="8"/>
                </a:cubicBezTo>
                <a:cubicBezTo>
                  <a:pt x="55" y="4"/>
                  <a:pt x="44" y="2"/>
                  <a:pt x="37" y="2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Freeform 64"/>
          <p:cNvSpPr/>
          <p:nvPr/>
        </p:nvSpPr>
        <p:spPr>
          <a:xfrm>
            <a:off x="6324480" y="3048120"/>
            <a:ext cx="120600" cy="161640"/>
          </a:xfrm>
          <a:custGeom>
            <a:avLst/>
            <a:gdLst>
              <a:gd name="textAreaLeft" fmla="*/ 0 w 120600"/>
              <a:gd name="textAreaRight" fmla="*/ 120960 w 12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76" h="102">
                <a:moveTo>
                  <a:pt x="48" y="8"/>
                </a:moveTo>
                <a:cubicBezTo>
                  <a:pt x="40" y="11"/>
                  <a:pt x="34" y="13"/>
                  <a:pt x="26" y="10"/>
                </a:cubicBezTo>
                <a:cubicBezTo>
                  <a:pt x="25" y="8"/>
                  <a:pt x="26" y="5"/>
                  <a:pt x="24" y="4"/>
                </a:cubicBezTo>
                <a:cubicBezTo>
                  <a:pt x="21" y="2"/>
                  <a:pt x="12" y="0"/>
                  <a:pt x="12" y="0"/>
                </a:cubicBezTo>
                <a:cubicBezTo>
                  <a:pt x="0" y="18"/>
                  <a:pt x="11" y="41"/>
                  <a:pt x="30" y="44"/>
                </a:cubicBezTo>
                <a:cubicBezTo>
                  <a:pt x="34" y="53"/>
                  <a:pt x="37" y="41"/>
                  <a:pt x="38" y="44"/>
                </a:cubicBezTo>
                <a:cubicBezTo>
                  <a:pt x="39" y="47"/>
                  <a:pt x="37" y="52"/>
                  <a:pt x="38" y="62"/>
                </a:cubicBezTo>
                <a:cubicBezTo>
                  <a:pt x="36" y="76"/>
                  <a:pt x="29" y="98"/>
                  <a:pt x="46" y="102"/>
                </a:cubicBezTo>
                <a:cubicBezTo>
                  <a:pt x="53" y="101"/>
                  <a:pt x="55" y="98"/>
                  <a:pt x="60" y="92"/>
                </a:cubicBezTo>
                <a:cubicBezTo>
                  <a:pt x="63" y="88"/>
                  <a:pt x="74" y="84"/>
                  <a:pt x="74" y="84"/>
                </a:cubicBezTo>
                <a:cubicBezTo>
                  <a:pt x="71" y="76"/>
                  <a:pt x="76" y="72"/>
                  <a:pt x="70" y="66"/>
                </a:cubicBezTo>
                <a:cubicBezTo>
                  <a:pt x="64" y="52"/>
                  <a:pt x="60" y="32"/>
                  <a:pt x="56" y="16"/>
                </a:cubicBezTo>
                <a:cubicBezTo>
                  <a:pt x="55" y="13"/>
                  <a:pt x="39" y="12"/>
                  <a:pt x="36" y="10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Freeform 65"/>
          <p:cNvSpPr/>
          <p:nvPr/>
        </p:nvSpPr>
        <p:spPr>
          <a:xfrm>
            <a:off x="6019920" y="2743200"/>
            <a:ext cx="129960" cy="166680"/>
          </a:xfrm>
          <a:custGeom>
            <a:avLst/>
            <a:gdLst>
              <a:gd name="textAreaLeft" fmla="*/ 0 w 129960"/>
              <a:gd name="textAreaRight" fmla="*/ 130320 w 12996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82" h="105">
                <a:moveTo>
                  <a:pt x="0" y="7"/>
                </a:moveTo>
                <a:cubicBezTo>
                  <a:pt x="2" y="20"/>
                  <a:pt x="1" y="24"/>
                  <a:pt x="12" y="31"/>
                </a:cubicBezTo>
                <a:cubicBezTo>
                  <a:pt x="18" y="55"/>
                  <a:pt x="32" y="73"/>
                  <a:pt x="40" y="97"/>
                </a:cubicBezTo>
                <a:cubicBezTo>
                  <a:pt x="42" y="103"/>
                  <a:pt x="58" y="105"/>
                  <a:pt x="58" y="105"/>
                </a:cubicBezTo>
                <a:cubicBezTo>
                  <a:pt x="74" y="102"/>
                  <a:pt x="73" y="100"/>
                  <a:pt x="78" y="85"/>
                </a:cubicBezTo>
                <a:cubicBezTo>
                  <a:pt x="79" y="81"/>
                  <a:pt x="78" y="77"/>
                  <a:pt x="78" y="77"/>
                </a:cubicBezTo>
                <a:cubicBezTo>
                  <a:pt x="74" y="56"/>
                  <a:pt x="82" y="40"/>
                  <a:pt x="66" y="27"/>
                </a:cubicBezTo>
                <a:cubicBezTo>
                  <a:pt x="62" y="24"/>
                  <a:pt x="52" y="12"/>
                  <a:pt x="48" y="9"/>
                </a:cubicBezTo>
                <a:cubicBezTo>
                  <a:pt x="34" y="0"/>
                  <a:pt x="15" y="13"/>
                  <a:pt x="0" y="7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66"/>
          <p:cNvSpPr/>
          <p:nvPr/>
        </p:nvSpPr>
        <p:spPr>
          <a:xfrm>
            <a:off x="725040" y="1905120"/>
            <a:ext cx="22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деловой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шопинг-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67"/>
          <p:cNvSpPr/>
          <p:nvPr/>
        </p:nvSpPr>
        <p:spPr>
          <a:xfrm>
            <a:off x="685800" y="3581280"/>
            <a:ext cx="24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дайвинг-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68"/>
          <p:cNvSpPr/>
          <p:nvPr/>
        </p:nvSpPr>
        <p:spPr>
          <a:xfrm>
            <a:off x="730440" y="1523880"/>
            <a:ext cx="32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кологический 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70"/>
          <p:cNvSpPr/>
          <p:nvPr/>
        </p:nvSpPr>
        <p:spPr>
          <a:xfrm>
            <a:off x="5087880" y="57913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оставлено авто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1982160" y="6095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74"/>
          <p:cNvSpPr/>
          <p:nvPr/>
        </p:nvSpPr>
        <p:spPr>
          <a:xfrm>
            <a:off x="30481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75"/>
          <p:cNvSpPr/>
          <p:nvPr/>
        </p:nvSpPr>
        <p:spPr>
          <a:xfrm>
            <a:off x="3276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76"/>
          <p:cNvSpPr/>
          <p:nvPr/>
        </p:nvSpPr>
        <p:spPr>
          <a:xfrm>
            <a:off x="28195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77"/>
          <p:cNvSpPr/>
          <p:nvPr/>
        </p:nvSpPr>
        <p:spPr>
          <a:xfrm>
            <a:off x="25909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78"/>
          <p:cNvSpPr/>
          <p:nvPr/>
        </p:nvSpPr>
        <p:spPr>
          <a:xfrm>
            <a:off x="23623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79"/>
          <p:cNvSpPr/>
          <p:nvPr/>
        </p:nvSpPr>
        <p:spPr>
          <a:xfrm>
            <a:off x="2133720" y="6400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80"/>
          <p:cNvSpPr/>
          <p:nvPr/>
        </p:nvSpPr>
        <p:spPr>
          <a:xfrm>
            <a:off x="2133720" y="6553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Rectangle 81"/>
          <p:cNvSpPr/>
          <p:nvPr/>
        </p:nvSpPr>
        <p:spPr>
          <a:xfrm>
            <a:off x="228600" y="4191120"/>
            <a:ext cx="4572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Text Box 84"/>
          <p:cNvSpPr/>
          <p:nvPr/>
        </p:nvSpPr>
        <p:spPr>
          <a:xfrm>
            <a:off x="691560" y="274320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религиоз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 Box 85"/>
          <p:cNvSpPr/>
          <p:nvPr/>
        </p:nvSpPr>
        <p:spPr>
          <a:xfrm>
            <a:off x="787680" y="4038480"/>
            <a:ext cx="25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нически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лечебный туриз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Text Box 2121"/>
          <p:cNvSpPr/>
          <p:nvPr/>
        </p:nvSpPr>
        <p:spPr>
          <a:xfrm>
            <a:off x="326160" y="6248520"/>
            <a:ext cx="14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сштаб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2122"/>
          <p:cNvSpPr/>
          <p:nvPr/>
        </p:nvSpPr>
        <p:spPr>
          <a:xfrm>
            <a:off x="3252960" y="6095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00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Мариша</cp:lastModifiedBy>
  <cp:lastPrinted>2010-03-23T14:18:20Z</cp:lastPrinted>
  <dcterms:modified xsi:type="dcterms:W3CDTF">2012-09-25T13:17:59Z</dcterms:modified>
  <cp:revision>170</cp:revision>
  <dc:subject/>
  <dc:title>Заголовок слайда отсутствует</dc:title>
</cp:coreProperties>
</file>