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3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09F-4BC6-4922-A45A-A8AA5E8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4C7-34D7-47AB-A857-27CD45A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4C6-3B68-4692-899E-EDF966EC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600-1735-49FD-A338-0AFC6D5E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45F-4C97-4C9D-89A3-B023AEF3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A2E-36FC-490B-A611-6F8514AD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208-54B2-456C-A1CC-7AF0E00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EA3-CE7D-44DF-BAC5-D0BFD97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F96-E21F-4F62-9220-0179823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8CF-6A84-49AE-A218-396DB42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574-11F2-4C9E-99CF-E726EEE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8E5-753A-4A7A-BD2C-D19C949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4FFF-6015-4ED1-A326-D1BF963A2B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61057_800_600"/>
          <p:cNvPicPr/>
          <p:nvPr/>
        </p:nvPicPr>
        <p:blipFill>
          <a:blip r:embed="rId1">
            <a:lum contrast="-44000"/>
          </a:blip>
          <a:srcRect l="0" t="22993" r="28251" b="460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220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ЕКРЕАЦИОННО – ТУРИСТСКИЙ ПОТЕНЦИ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ТРАН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64680" y="4495680"/>
            <a:ext cx="62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дина Валерия Алекс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читель географии МКУ «СОШ №10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. Трехго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ИАГРАММА ПРИБЫТИЯ ТУРИСТОВ В ЮГО-ВОСТОЧНУЮ АЗИЮ ИЗ ДРУГИХ РЕГИОНОВ (млн.чел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19" name="Object 2048"/>
          <p:cNvGraphicFramePr/>
          <p:nvPr/>
        </p:nvGraphicFramePr>
        <p:xfrm>
          <a:off x="-228600" y="1600200"/>
          <a:ext cx="93726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600200"/>
                    <a:ext cx="9372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РОССКИЙСКИХ ГРАЖДАН В СТРАНЫ ЮГО-ВОСТОЧНОЙ АЗИИ С ЦЕЛЬЮ ТУРИЗМА (тыс.чел.)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22" name="Object 0"/>
          <p:cNvGraphicFramePr/>
          <p:nvPr/>
        </p:nvGraphicFramePr>
        <p:xfrm>
          <a:off x="0" y="1371600"/>
          <a:ext cx="88390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ЖИТЕЛЕЙ ЧЕЛЯБИНСКОЙ ОБЛАСТИ  В СТРАНЫ ЮГО-ВОСТОЧНОЙ АЗИИ С ЦЕЛЬЮ ТУРИЗМА (тыс.чел.)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5" name="Object 1024" descr=""/>
          <p:cNvPicPr/>
          <p:nvPr/>
        </p:nvPicPr>
        <p:blipFill>
          <a:blip r:embed="rId1"/>
          <a:stretch/>
        </p:blipFill>
        <p:spPr>
          <a:xfrm>
            <a:off x="-762120" y="1809720"/>
            <a:ext cx="9906120" cy="5048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5"/>
          <p:cNvSpPr/>
          <p:nvPr/>
        </p:nvSpPr>
        <p:spPr>
          <a:xfrm>
            <a:off x="997920" y="6095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004920" y="6095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ингапу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042160" y="60958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225920" y="6095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50"/>
          <p:cNvSpPr/>
          <p:nvPr/>
        </p:nvSpPr>
        <p:spPr>
          <a:xfrm>
            <a:off x="533520" y="6172200"/>
            <a:ext cx="4572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50"/>
          <p:cNvSpPr/>
          <p:nvPr/>
        </p:nvSpPr>
        <p:spPr>
          <a:xfrm>
            <a:off x="6781680" y="61722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4572000" y="617220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50"/>
          <p:cNvSpPr/>
          <p:nvPr/>
        </p:nvSpPr>
        <p:spPr>
          <a:xfrm>
            <a:off x="2514600" y="617220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ДОЛЯ СТРАН ЮГО-ВОСТОЧНОЙ АЗИИ В МИРОВОМ ЭКСПОРТЕ ТУРИСТИЧЕСКИХ УСЛУГ (%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5" name="Object 6144"/>
          <p:cNvGraphicFramePr/>
          <p:nvPr/>
        </p:nvGraphicFramePr>
        <p:xfrm>
          <a:off x="-361800" y="1181160"/>
          <a:ext cx="9505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1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1800" y="1181160"/>
                    <a:ext cx="9505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04920" y="1905120"/>
            <a:ext cx="883908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ОСОБЕННОСТИ ПРИРОДНЫХ УСЛО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КУЛЬТУРНО-ИСТОРИЧЕСКОЕ РАЗВИТИЕ СТ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ЫСОКИЙ УРОВЕНЬ СЕРВЕСНЫХ У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ГИОН ВКЛЮЧЕН В ТРАНСКОНТЕНТАЛЬНУЮ СИСТЕМУ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КРЕАЦИОННО-ТУРИСТСКИЙ ПОТЕНЦИАЛ СТРАН ВЫСОК, НО ОН НЕ ИСПОЛЬЗУЕТСЯ В ПОЛНОЙ М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Irian J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47_1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4564581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thailand6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82[1]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выявить специфику туристско-рекреационных ресурсов Юго-Восточной Аз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491920"/>
            <a:ext cx="8839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определить роль и значение стран региона в мировом туристическом бизне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:\азия\Asia_map1[1].jpg"/>
          <p:cNvPicPr/>
          <p:nvPr/>
        </p:nvPicPr>
        <p:blipFill>
          <a:blip r:embed="rId1"/>
          <a:stretch/>
        </p:blipFill>
        <p:spPr>
          <a:xfrm>
            <a:off x="0" y="-76320"/>
            <a:ext cx="929628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6"/>
          <p:cNvSpPr/>
          <p:nvPr/>
        </p:nvSpPr>
        <p:spPr>
          <a:xfrm>
            <a:off x="2895480" y="2408400"/>
            <a:ext cx="6123240" cy="4545000"/>
          </a:xfrm>
          <a:custGeom>
            <a:avLst/>
            <a:gdLst>
              <a:gd name="textAreaLeft" fmla="*/ 0 w 6123240"/>
              <a:gd name="textAreaRight" fmla="*/ 6123600 w 6123240"/>
              <a:gd name="textAreaTop" fmla="*/ 0 h 4545000"/>
              <a:gd name="textAreaBottom" fmla="*/ 4545360 h 4545000"/>
            </a:gdLst>
            <a:ahLst/>
            <a:rect l="textAreaLeft" t="textAreaTop" r="textAreaRight" b="textAreaBottom"/>
            <a:pathLst>
              <a:path w="3857" h="2863">
                <a:moveTo>
                  <a:pt x="1164" y="451"/>
                </a:moveTo>
                <a:cubicBezTo>
                  <a:pt x="1096" y="405"/>
                  <a:pt x="1027" y="345"/>
                  <a:pt x="948" y="319"/>
                </a:cubicBezTo>
                <a:lnTo>
                  <a:pt x="768" y="379"/>
                </a:lnTo>
                <a:cubicBezTo>
                  <a:pt x="768" y="379"/>
                  <a:pt x="768" y="379"/>
                  <a:pt x="768" y="379"/>
                </a:cubicBezTo>
                <a:cubicBezTo>
                  <a:pt x="744" y="387"/>
                  <a:pt x="696" y="403"/>
                  <a:pt x="696" y="403"/>
                </a:cubicBezTo>
                <a:cubicBezTo>
                  <a:pt x="685" y="419"/>
                  <a:pt x="656" y="468"/>
                  <a:pt x="636" y="475"/>
                </a:cubicBezTo>
                <a:cubicBezTo>
                  <a:pt x="624" y="479"/>
                  <a:pt x="612" y="467"/>
                  <a:pt x="600" y="463"/>
                </a:cubicBezTo>
                <a:cubicBezTo>
                  <a:pt x="569" y="417"/>
                  <a:pt x="542" y="404"/>
                  <a:pt x="492" y="379"/>
                </a:cubicBezTo>
                <a:cubicBezTo>
                  <a:pt x="484" y="367"/>
                  <a:pt x="478" y="353"/>
                  <a:pt x="468" y="343"/>
                </a:cubicBezTo>
                <a:cubicBezTo>
                  <a:pt x="458" y="333"/>
                  <a:pt x="441" y="330"/>
                  <a:pt x="432" y="319"/>
                </a:cubicBezTo>
                <a:cubicBezTo>
                  <a:pt x="366" y="236"/>
                  <a:pt x="487" y="328"/>
                  <a:pt x="384" y="259"/>
                </a:cubicBezTo>
                <a:cubicBezTo>
                  <a:pt x="341" y="130"/>
                  <a:pt x="362" y="212"/>
                  <a:pt x="348" y="7"/>
                </a:cubicBezTo>
                <a:cubicBezTo>
                  <a:pt x="324" y="11"/>
                  <a:pt x="298" y="9"/>
                  <a:pt x="276" y="19"/>
                </a:cubicBezTo>
                <a:cubicBezTo>
                  <a:pt x="222" y="43"/>
                  <a:pt x="173" y="0"/>
                  <a:pt x="144" y="43"/>
                </a:cubicBezTo>
                <a:cubicBezTo>
                  <a:pt x="112" y="91"/>
                  <a:pt x="152" y="223"/>
                  <a:pt x="120" y="271"/>
                </a:cubicBezTo>
                <a:cubicBezTo>
                  <a:pt x="3" y="447"/>
                  <a:pt x="173" y="266"/>
                  <a:pt x="60" y="379"/>
                </a:cubicBezTo>
                <a:cubicBezTo>
                  <a:pt x="40" y="439"/>
                  <a:pt x="20" y="415"/>
                  <a:pt x="0" y="475"/>
                </a:cubicBezTo>
                <a:cubicBezTo>
                  <a:pt x="10" y="556"/>
                  <a:pt x="15" y="623"/>
                  <a:pt x="60" y="691"/>
                </a:cubicBezTo>
                <a:cubicBezTo>
                  <a:pt x="78" y="783"/>
                  <a:pt x="85" y="877"/>
                  <a:pt x="108" y="967"/>
                </a:cubicBezTo>
                <a:cubicBezTo>
                  <a:pt x="98" y="1024"/>
                  <a:pt x="90" y="1080"/>
                  <a:pt x="72" y="1135"/>
                </a:cubicBezTo>
                <a:cubicBezTo>
                  <a:pt x="76" y="1203"/>
                  <a:pt x="78" y="1271"/>
                  <a:pt x="84" y="1339"/>
                </a:cubicBezTo>
                <a:cubicBezTo>
                  <a:pt x="86" y="1355"/>
                  <a:pt x="91" y="1371"/>
                  <a:pt x="96" y="1387"/>
                </a:cubicBezTo>
                <a:cubicBezTo>
                  <a:pt x="103" y="1411"/>
                  <a:pt x="120" y="1459"/>
                  <a:pt x="120" y="1459"/>
                </a:cubicBezTo>
                <a:cubicBezTo>
                  <a:pt x="139" y="1590"/>
                  <a:pt x="150" y="1745"/>
                  <a:pt x="264" y="1831"/>
                </a:cubicBezTo>
                <a:cubicBezTo>
                  <a:pt x="289" y="1880"/>
                  <a:pt x="309" y="1912"/>
                  <a:pt x="348" y="1951"/>
                </a:cubicBezTo>
                <a:cubicBezTo>
                  <a:pt x="382" y="2054"/>
                  <a:pt x="320" y="1885"/>
                  <a:pt x="444" y="2071"/>
                </a:cubicBezTo>
                <a:cubicBezTo>
                  <a:pt x="452" y="2083"/>
                  <a:pt x="457" y="2098"/>
                  <a:pt x="468" y="2107"/>
                </a:cubicBezTo>
                <a:cubicBezTo>
                  <a:pt x="493" y="2127"/>
                  <a:pt x="524" y="2139"/>
                  <a:pt x="552" y="2155"/>
                </a:cubicBezTo>
                <a:cubicBezTo>
                  <a:pt x="603" y="2333"/>
                  <a:pt x="676" y="2432"/>
                  <a:pt x="828" y="2527"/>
                </a:cubicBezTo>
                <a:cubicBezTo>
                  <a:pt x="845" y="2538"/>
                  <a:pt x="858" y="2555"/>
                  <a:pt x="876" y="2563"/>
                </a:cubicBezTo>
                <a:cubicBezTo>
                  <a:pt x="981" y="2607"/>
                  <a:pt x="1101" y="2616"/>
                  <a:pt x="1212" y="2635"/>
                </a:cubicBezTo>
                <a:cubicBezTo>
                  <a:pt x="1286" y="2684"/>
                  <a:pt x="1367" y="2727"/>
                  <a:pt x="1440" y="2779"/>
                </a:cubicBezTo>
                <a:cubicBezTo>
                  <a:pt x="1483" y="2810"/>
                  <a:pt x="1500" y="2849"/>
                  <a:pt x="1560" y="2851"/>
                </a:cubicBezTo>
                <a:cubicBezTo>
                  <a:pt x="1784" y="2858"/>
                  <a:pt x="2008" y="2859"/>
                  <a:pt x="2232" y="2863"/>
                </a:cubicBezTo>
                <a:cubicBezTo>
                  <a:pt x="2284" y="2859"/>
                  <a:pt x="2337" y="2861"/>
                  <a:pt x="2388" y="2851"/>
                </a:cubicBezTo>
                <a:cubicBezTo>
                  <a:pt x="2420" y="2845"/>
                  <a:pt x="2441" y="2812"/>
                  <a:pt x="2472" y="2803"/>
                </a:cubicBezTo>
                <a:cubicBezTo>
                  <a:pt x="2601" y="2764"/>
                  <a:pt x="2772" y="2764"/>
                  <a:pt x="2904" y="2755"/>
                </a:cubicBezTo>
                <a:cubicBezTo>
                  <a:pt x="3058" y="2704"/>
                  <a:pt x="2745" y="2804"/>
                  <a:pt x="3240" y="2731"/>
                </a:cubicBezTo>
                <a:cubicBezTo>
                  <a:pt x="3254" y="2729"/>
                  <a:pt x="3254" y="2705"/>
                  <a:pt x="3264" y="2695"/>
                </a:cubicBezTo>
                <a:cubicBezTo>
                  <a:pt x="3274" y="2685"/>
                  <a:pt x="3288" y="2679"/>
                  <a:pt x="3300" y="2671"/>
                </a:cubicBezTo>
                <a:cubicBezTo>
                  <a:pt x="3356" y="2675"/>
                  <a:pt x="3412" y="2675"/>
                  <a:pt x="3468" y="2683"/>
                </a:cubicBezTo>
                <a:cubicBezTo>
                  <a:pt x="3493" y="2687"/>
                  <a:pt x="3540" y="2707"/>
                  <a:pt x="3540" y="2707"/>
                </a:cubicBezTo>
                <a:cubicBezTo>
                  <a:pt x="3580" y="2747"/>
                  <a:pt x="3630" y="2773"/>
                  <a:pt x="3684" y="2791"/>
                </a:cubicBezTo>
                <a:cubicBezTo>
                  <a:pt x="3720" y="2787"/>
                  <a:pt x="3760" y="2796"/>
                  <a:pt x="3792" y="2779"/>
                </a:cubicBezTo>
                <a:cubicBezTo>
                  <a:pt x="3826" y="2761"/>
                  <a:pt x="3840" y="2706"/>
                  <a:pt x="3852" y="2671"/>
                </a:cubicBezTo>
                <a:cubicBezTo>
                  <a:pt x="3824" y="2192"/>
                  <a:pt x="3852" y="2787"/>
                  <a:pt x="3852" y="2179"/>
                </a:cubicBezTo>
                <a:cubicBezTo>
                  <a:pt x="3852" y="2123"/>
                  <a:pt x="3857" y="2065"/>
                  <a:pt x="3840" y="2011"/>
                </a:cubicBezTo>
                <a:cubicBezTo>
                  <a:pt x="3837" y="2002"/>
                  <a:pt x="3769" y="1978"/>
                  <a:pt x="3756" y="1975"/>
                </a:cubicBezTo>
                <a:cubicBezTo>
                  <a:pt x="3668" y="1953"/>
                  <a:pt x="3595" y="1918"/>
                  <a:pt x="3504" y="1903"/>
                </a:cubicBezTo>
                <a:cubicBezTo>
                  <a:pt x="3423" y="1849"/>
                  <a:pt x="3321" y="1842"/>
                  <a:pt x="3228" y="1819"/>
                </a:cubicBezTo>
                <a:cubicBezTo>
                  <a:pt x="3216" y="1807"/>
                  <a:pt x="3200" y="1798"/>
                  <a:pt x="3192" y="1783"/>
                </a:cubicBezTo>
                <a:cubicBezTo>
                  <a:pt x="3170" y="1745"/>
                  <a:pt x="3191" y="1698"/>
                  <a:pt x="3156" y="1663"/>
                </a:cubicBezTo>
                <a:cubicBezTo>
                  <a:pt x="3144" y="1651"/>
                  <a:pt x="3132" y="1639"/>
                  <a:pt x="3120" y="1627"/>
                </a:cubicBezTo>
                <a:cubicBezTo>
                  <a:pt x="3107" y="1588"/>
                  <a:pt x="3085" y="1558"/>
                  <a:pt x="3072" y="1519"/>
                </a:cubicBezTo>
                <a:cubicBezTo>
                  <a:pt x="3086" y="1449"/>
                  <a:pt x="3108" y="1385"/>
                  <a:pt x="3120" y="1315"/>
                </a:cubicBezTo>
                <a:cubicBezTo>
                  <a:pt x="3114" y="1203"/>
                  <a:pt x="3139" y="1008"/>
                  <a:pt x="3024" y="931"/>
                </a:cubicBezTo>
                <a:cubicBezTo>
                  <a:pt x="2960" y="835"/>
                  <a:pt x="3044" y="951"/>
                  <a:pt x="2964" y="871"/>
                </a:cubicBezTo>
                <a:cubicBezTo>
                  <a:pt x="2927" y="834"/>
                  <a:pt x="2913" y="793"/>
                  <a:pt x="2868" y="763"/>
                </a:cubicBezTo>
                <a:cubicBezTo>
                  <a:pt x="2833" y="711"/>
                  <a:pt x="2775" y="679"/>
                  <a:pt x="2724" y="643"/>
                </a:cubicBezTo>
                <a:cubicBezTo>
                  <a:pt x="2700" y="626"/>
                  <a:pt x="2652" y="595"/>
                  <a:pt x="2652" y="595"/>
                </a:cubicBezTo>
                <a:cubicBezTo>
                  <a:pt x="2558" y="454"/>
                  <a:pt x="2440" y="476"/>
                  <a:pt x="2292" y="439"/>
                </a:cubicBezTo>
                <a:cubicBezTo>
                  <a:pt x="2256" y="443"/>
                  <a:pt x="2218" y="439"/>
                  <a:pt x="2184" y="451"/>
                </a:cubicBezTo>
                <a:cubicBezTo>
                  <a:pt x="2158" y="461"/>
                  <a:pt x="2134" y="565"/>
                  <a:pt x="2124" y="595"/>
                </a:cubicBezTo>
                <a:cubicBezTo>
                  <a:pt x="2116" y="620"/>
                  <a:pt x="2063" y="652"/>
                  <a:pt x="2040" y="667"/>
                </a:cubicBezTo>
                <a:cubicBezTo>
                  <a:pt x="1983" y="753"/>
                  <a:pt x="2012" y="719"/>
                  <a:pt x="1956" y="775"/>
                </a:cubicBezTo>
                <a:cubicBezTo>
                  <a:pt x="1940" y="823"/>
                  <a:pt x="1924" y="871"/>
                  <a:pt x="1908" y="919"/>
                </a:cubicBezTo>
                <a:cubicBezTo>
                  <a:pt x="1903" y="933"/>
                  <a:pt x="1890" y="942"/>
                  <a:pt x="1884" y="955"/>
                </a:cubicBezTo>
                <a:cubicBezTo>
                  <a:pt x="1878" y="966"/>
                  <a:pt x="1881" y="982"/>
                  <a:pt x="1872" y="991"/>
                </a:cubicBezTo>
                <a:cubicBezTo>
                  <a:pt x="1863" y="1000"/>
                  <a:pt x="1848" y="999"/>
                  <a:pt x="1836" y="1003"/>
                </a:cubicBezTo>
                <a:cubicBezTo>
                  <a:pt x="1806" y="1025"/>
                  <a:pt x="1784" y="1057"/>
                  <a:pt x="1752" y="1075"/>
                </a:cubicBezTo>
                <a:cubicBezTo>
                  <a:pt x="1730" y="1087"/>
                  <a:pt x="1680" y="1099"/>
                  <a:pt x="1680" y="1099"/>
                </a:cubicBezTo>
                <a:cubicBezTo>
                  <a:pt x="1644" y="1095"/>
                  <a:pt x="1605" y="1101"/>
                  <a:pt x="1572" y="1087"/>
                </a:cubicBezTo>
                <a:cubicBezTo>
                  <a:pt x="1554" y="1079"/>
                  <a:pt x="1547" y="1055"/>
                  <a:pt x="1536" y="1039"/>
                </a:cubicBezTo>
                <a:cubicBezTo>
                  <a:pt x="1497" y="983"/>
                  <a:pt x="1455" y="938"/>
                  <a:pt x="1416" y="883"/>
                </a:cubicBezTo>
                <a:cubicBezTo>
                  <a:pt x="1382" y="835"/>
                  <a:pt x="1401" y="818"/>
                  <a:pt x="1344" y="799"/>
                </a:cubicBezTo>
                <a:cubicBezTo>
                  <a:pt x="1336" y="787"/>
                  <a:pt x="1331" y="772"/>
                  <a:pt x="1320" y="763"/>
                </a:cubicBezTo>
                <a:cubicBezTo>
                  <a:pt x="1298" y="744"/>
                  <a:pt x="1248" y="715"/>
                  <a:pt x="1248" y="715"/>
                </a:cubicBezTo>
                <a:cubicBezTo>
                  <a:pt x="1193" y="632"/>
                  <a:pt x="1209" y="670"/>
                  <a:pt x="1188" y="607"/>
                </a:cubicBezTo>
                <a:cubicBezTo>
                  <a:pt x="1173" y="458"/>
                  <a:pt x="1198" y="520"/>
                  <a:pt x="1128" y="415"/>
                </a:cubicBezTo>
                <a:cubicBezTo>
                  <a:pt x="1118" y="400"/>
                  <a:pt x="1093" y="404"/>
                  <a:pt x="1080" y="391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04920" y="4876920"/>
            <a:ext cx="319068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ИНДИЙСК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6781680" y="20574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ТИХ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ИЗИКО-ГЕОГРАФИЧЕСКОЕ ПОЛОЖЕНИЕ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ОЛЯ ЮГО-ВОСТОЧНОЙ АЗИИ В МИРОВОМ ТУРИСТИЧЕСКОМ БИЗНЕСЕ на 2010 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-2514600" y="1523880"/>
          <a:ext cx="14325480" cy="845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14600" y="1523880"/>
                    <a:ext cx="1432548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7"/>
          <p:cNvSpPr/>
          <p:nvPr/>
        </p:nvSpPr>
        <p:spPr>
          <a:xfrm>
            <a:off x="685800" y="579132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410080" y="62485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124080" y="6248520"/>
            <a:ext cx="457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124080" y="579132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85800" y="624852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175040" y="56386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Евро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149120" y="60958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ме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3592800" y="60958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ф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5993280" y="60958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лижний Вос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742920" y="56386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Юго-Восточная 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ИБОЛЕЕ ПОСЕЩАЕМЫЕ СТРАНЫ ЮГО-ВОСТОЧНОЙ АЗ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Freeform 1028"/>
          <p:cNvSpPr/>
          <p:nvPr/>
        </p:nvSpPr>
        <p:spPr>
          <a:xfrm>
            <a:off x="3429000" y="1752480"/>
            <a:ext cx="838080" cy="1727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reeform 1029"/>
          <p:cNvSpPr/>
          <p:nvPr/>
        </p:nvSpPr>
        <p:spPr>
          <a:xfrm>
            <a:off x="3276720" y="182880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reeform 1030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80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1031"/>
          <p:cNvSpPr/>
          <p:nvPr/>
        </p:nvSpPr>
        <p:spPr>
          <a:xfrm>
            <a:off x="2362320" y="1143000"/>
            <a:ext cx="1066680" cy="22096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reeform 1032"/>
          <p:cNvSpPr/>
          <p:nvPr/>
        </p:nvSpPr>
        <p:spPr>
          <a:xfrm>
            <a:off x="3505320" y="27432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reeform 1033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Freeform 1034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Freeform 1035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Freeform 1036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1037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Freeform 1038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Freeform 103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reeform 104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reeform 104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Freeform 1042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reeform 1043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reeform 1044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reeform 1045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reeform 104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reeform 1047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Freeform 104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reeform 1049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reeform 1050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Freeform 1051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Freeform 1052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053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reeform 1054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Freeform 1055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Freeform 105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reeform 1057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reeform 1058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Freeform 10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reeform 1060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reeform 1061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Freeform 1062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reeform 1063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reeform 1064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Freeform 1065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reeform 1066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reeform 1067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Freeform 106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reeform 1069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reeform 1070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Freeform 1071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reeform 10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reeform 1073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Freeform 107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reeform 1076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reeform 1077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Freeform 1078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Freeform 1079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Freeform 1080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Freeform 1081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reeform 1083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084"/>
          <p:cNvSpPr/>
          <p:nvPr/>
        </p:nvSpPr>
        <p:spPr>
          <a:xfrm>
            <a:off x="152280" y="2514600"/>
            <a:ext cx="457200" cy="228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085"/>
          <p:cNvSpPr/>
          <p:nvPr/>
        </p:nvSpPr>
        <p:spPr>
          <a:xfrm>
            <a:off x="152280" y="28954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1086"/>
          <p:cNvSpPr/>
          <p:nvPr/>
        </p:nvSpPr>
        <p:spPr>
          <a:xfrm>
            <a:off x="152280" y="3276720"/>
            <a:ext cx="457200" cy="228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1089"/>
          <p:cNvSpPr/>
          <p:nvPr/>
        </p:nvSpPr>
        <p:spPr>
          <a:xfrm>
            <a:off x="152280" y="3657600"/>
            <a:ext cx="457200" cy="228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1090"/>
          <p:cNvSpPr/>
          <p:nvPr/>
        </p:nvSpPr>
        <p:spPr>
          <a:xfrm>
            <a:off x="152280" y="4038480"/>
            <a:ext cx="457200" cy="22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1092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093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109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095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096"/>
          <p:cNvSpPr/>
          <p:nvPr/>
        </p:nvSpPr>
        <p:spPr>
          <a:xfrm>
            <a:off x="320040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097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098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099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100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103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104"/>
          <p:cNvSpPr/>
          <p:nvPr/>
        </p:nvSpPr>
        <p:spPr>
          <a:xfrm>
            <a:off x="703080" y="24382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gt;130 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105"/>
          <p:cNvSpPr/>
          <p:nvPr/>
        </p:nvSpPr>
        <p:spPr>
          <a:xfrm>
            <a:off x="726120" y="27432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30-100 тыс.чел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106"/>
          <p:cNvSpPr/>
          <p:nvPr/>
        </p:nvSpPr>
        <p:spPr>
          <a:xfrm>
            <a:off x="758520" y="39625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lt;15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07"/>
          <p:cNvSpPr/>
          <p:nvPr/>
        </p:nvSpPr>
        <p:spPr>
          <a:xfrm>
            <a:off x="723240" y="320040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00-60 тыс. 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108"/>
          <p:cNvSpPr/>
          <p:nvPr/>
        </p:nvSpPr>
        <p:spPr>
          <a:xfrm>
            <a:off x="702000" y="358128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60-20 тыс.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78"/>
          <p:cNvSpPr/>
          <p:nvPr/>
        </p:nvSpPr>
        <p:spPr>
          <a:xfrm>
            <a:off x="328320" y="617220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КЛАССИФИКАЦИЯ СТРА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ЮГО-ВОСТОЧНОЙ АЗИ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 ПРЕОБЛАДАЮЩИМ ТИПАМ ТУРИЗМ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Freeform 5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cc66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Freeform 1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Freeform 11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reeform 1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Freeform 1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Freeform 1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reeform 15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Freeform 16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reeform 18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reeform 19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Freeform 20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reeform 21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22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eform 23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reeform 24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reeform 25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Freeform 26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eform 27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reeform 30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reeform 31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32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reeform 33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reeform 34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Freeform 35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reeform 36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reeform 37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Freeform 38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reeform 39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Freeform 40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Freeform 41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reeform 42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Freeform 43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Freeform 44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46"/>
          <p:cNvSpPr/>
          <p:nvPr/>
        </p:nvSpPr>
        <p:spPr>
          <a:xfrm>
            <a:off x="228600" y="289548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48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9"/>
          <p:cNvSpPr/>
          <p:nvPr/>
        </p:nvSpPr>
        <p:spPr>
          <a:xfrm>
            <a:off x="228600" y="22096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0"/>
          <p:cNvSpPr/>
          <p:nvPr/>
        </p:nvSpPr>
        <p:spPr>
          <a:xfrm>
            <a:off x="228600" y="3657600"/>
            <a:ext cx="457200" cy="228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reeform 52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Freeform 53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Freeform 54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Freeform 57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Freeform 58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Freeform 59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Freeform 60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Freeform 62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Freeform 6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Freeform 65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725040" y="1905120"/>
            <a:ext cx="22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еловой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шоп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67"/>
          <p:cNvSpPr/>
          <p:nvPr/>
        </p:nvSpPr>
        <p:spPr>
          <a:xfrm>
            <a:off x="685800" y="3581280"/>
            <a:ext cx="24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айв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68"/>
          <p:cNvSpPr/>
          <p:nvPr/>
        </p:nvSpPr>
        <p:spPr>
          <a:xfrm>
            <a:off x="730440" y="15238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кологически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70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75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76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77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78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9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80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81"/>
          <p:cNvSpPr/>
          <p:nvPr/>
        </p:nvSpPr>
        <p:spPr>
          <a:xfrm>
            <a:off x="228600" y="41911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84"/>
          <p:cNvSpPr/>
          <p:nvPr/>
        </p:nvSpPr>
        <p:spPr>
          <a:xfrm>
            <a:off x="691560" y="27432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елигиоз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85"/>
          <p:cNvSpPr/>
          <p:nvPr/>
        </p:nvSpPr>
        <p:spPr>
          <a:xfrm>
            <a:off x="787680" y="4038480"/>
            <a:ext cx="25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ничес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ечебны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121"/>
          <p:cNvSpPr/>
          <p:nvPr/>
        </p:nvSpPr>
        <p:spPr>
          <a:xfrm>
            <a:off x="326160" y="62485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2122"/>
          <p:cNvSpPr/>
          <p:nvPr/>
        </p:nvSpPr>
        <p:spPr>
          <a:xfrm>
            <a:off x="3252960" y="6095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Мариша</cp:lastModifiedBy>
  <cp:lastPrinted>2010-03-23T14:18:20Z</cp:lastPrinted>
  <dcterms:modified xsi:type="dcterms:W3CDTF">2012-09-25T13:17:59Z</dcterms:modified>
  <cp:revision>170</cp:revision>
  <dc:subject/>
  <dc:title>Заголовок слайда отсутствует</dc:title>
</cp:coreProperties>
</file>