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73E-3EEC-49AE-900A-EB30CB90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272-31FC-4804-9B08-5A51D129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E6E-3ED9-4894-8CAC-F3EED16A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E22-84CF-4344-AC05-2C3333DB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4AD56-833D-44B9-8E28-0F998589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4D8C7-BF97-4EA0-BD2B-B7CE352E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936C7-8DFC-481A-A161-F2600368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CE90F-3181-475D-8F8C-9166F92E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C664B-22B7-45CA-925E-E0A4ECF9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A3112-DAF5-41C0-BE75-73FB8239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9F0DD-809F-4394-B775-D0B37E05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38A-A267-4927-842E-EF0C1192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3C589-AE3B-4461-8091-68468F6B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B6349-6F21-4B98-907B-D9A51359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1E35F-2F71-4267-839A-BCE7AE5C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0E98C-EBC1-479E-B798-B832B164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84C6D-B9A0-456E-9C6C-0B03D590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4B61-A5DA-43A0-8AEA-7C217191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8AFB-E70B-4777-BFB5-A44C1D07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1A2D5-2250-4F29-B333-A31A6CD5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4BE97-CE3B-4211-BE15-CC76DF7D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BF6E-C440-49E4-86C2-DA6F4D0F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EA7-07BA-4037-BBDB-A20FFE73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CA29-1C60-4266-91A6-0A1EE8BE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326A-E164-4BE8-97BB-298CE048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8E5C-674D-4880-81B2-CA7219D1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D6C7-461D-405D-9A45-D959C8A2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AA53-C1A7-4E8D-90CB-83648365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856B-E34C-4CEC-B42B-C2F6B1FB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6438-3E67-40BD-9816-CA8A829D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9B552E-2F36-4813-A89E-4891BCEB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D70711-8DF5-4A7D-AE19-2C95F686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ADFC0-700E-4D4F-AEC9-027311FC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2C9-856E-4611-8648-206161F1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742D41-9CF6-4256-A689-0078F333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F3E984-69F8-4D2E-BA5A-00EDF27C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4646C-C2AE-423B-8903-4679FCA1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725DE7-1EED-46CF-A982-3BF51962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C63FD-9CBC-4BF6-AA3F-4ECF4ACA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5E25D-8396-4FE7-92D9-0076607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3727B-C69A-42F6-A0CC-1B08E2C4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F0A36-93C6-4F99-9AD1-AA3D0141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08400-B040-4047-88C7-51C2D0D2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E1033-32E7-48E4-8ECD-99E07A46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1E5-C8DA-48DA-9B49-52A061F1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F0718-4185-4660-B33A-C3185384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92411-6AF4-4FEC-B445-847DF3D4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73F49-344F-4398-A166-79403F43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460E5-1F54-4817-B869-FC11989C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AAA18-BB68-4AB7-A29C-854E40F6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DC20A-92FD-4836-808C-CCA2E1B7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FAF45-737B-4431-BC1C-A8B74EBD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88555-4CE6-452A-915D-595F1F25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D5149-4576-4889-A79E-28949165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326FD-6EE6-47AC-AB41-4799371B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471-0BCF-4F63-8975-0CADF9F3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97E72-4F0F-4101-8795-7CB991A9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817EB2-B386-489A-8685-30E50C9B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ADF09-7A9F-439F-BE9D-6E70F3F4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420B3-B133-4CB5-B337-9F5BE891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E67D8-8884-4E94-97B2-C5F953EE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864B9-092A-4980-AA00-EF01BDBB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9B763D-07B2-4304-8AB8-200A89AF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30CCA-1B7C-4272-8BB3-A0E9F69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97C2B-C11B-4EF8-B8FC-29C1C432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B3BC1-785C-4626-BEDC-C6B67C02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893-4212-4DDD-ABC4-6AB2618C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F2A5B-24BF-41EF-91B9-5C32716F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27F40-4FF5-4E26-81F6-B009CE67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8739B-903F-437E-ADAF-982A2E3D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ECF-006A-4888-A61F-59BC7FDF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CEC-59C0-4BA1-8D58-DE48D236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D06B-11F3-4299-ABAC-6C4BC2E804B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DC68-83DA-42E7-B49E-23325281CCA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D0B3-D8AF-4B01-80E9-875844A969E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94E6-A098-41DB-9F13-8954466A869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FEB2-8377-4125-A78F-1E785A42DEB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8624-F9B3-491E-AD35-1C31D69A4FA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Valentina\Desktop\beglyi.jpg"/>
          <p:cNvPicPr/>
          <p:nvPr/>
        </p:nvPicPr>
        <p:blipFill>
          <a:blip r:embed="rId2"/>
          <a:stretch/>
        </p:blipFill>
        <p:spPr>
          <a:xfrm>
            <a:off x="539640" y="1628640"/>
            <a:ext cx="3867120" cy="4824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Valentina\Desktop\perov07.jpg"/>
          <p:cNvPicPr/>
          <p:nvPr/>
        </p:nvPicPr>
        <p:blipFill>
          <a:blip r:embed="rId3"/>
          <a:stretch/>
        </p:blipFill>
        <p:spPr>
          <a:xfrm>
            <a:off x="5148360" y="1628640"/>
            <a:ext cx="3254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2" name="Picture 2" descr="C:\Users\Valentina\Desktop\77759020_pisatel.jpg"/>
          <p:cNvPicPr/>
          <p:nvPr/>
        </p:nvPicPr>
        <p:blipFill>
          <a:blip r:embed="rId1"/>
          <a:stretch/>
        </p:blipFill>
        <p:spPr>
          <a:xfrm>
            <a:off x="1243080" y="333360"/>
            <a:ext cx="66578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Users\Valentina\Desktop\chayepitiye.jpg"/>
          <p:cNvPicPr/>
          <p:nvPr/>
        </p:nvPicPr>
        <p:blipFill>
          <a:blip r:embed="rId2"/>
          <a:stretch/>
        </p:blipFill>
        <p:spPr>
          <a:xfrm>
            <a:off x="324000" y="1773360"/>
            <a:ext cx="4346280" cy="431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Users\Valentina\Desktop\perov09.jpg"/>
          <p:cNvPicPr/>
          <p:nvPr/>
        </p:nvPicPr>
        <p:blipFill>
          <a:blip r:embed="rId3"/>
          <a:stretch/>
        </p:blipFill>
        <p:spPr>
          <a:xfrm>
            <a:off x="5076720" y="1557360"/>
            <a:ext cx="355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536400" y="18252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C:\Users\Valentina\Desktop\perov04.jpg"/>
          <p:cNvPicPr/>
          <p:nvPr/>
        </p:nvPicPr>
        <p:blipFill>
          <a:blip r:embed="rId2"/>
          <a:stretch/>
        </p:blipFill>
        <p:spPr>
          <a:xfrm>
            <a:off x="900000" y="134136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C:\Users\Valentina\Desktop\death.jpg"/>
          <p:cNvPicPr/>
          <p:nvPr/>
        </p:nvPicPr>
        <p:blipFill>
          <a:blip r:embed="rId2"/>
          <a:stretch/>
        </p:blipFill>
        <p:spPr>
          <a:xfrm>
            <a:off x="539640" y="1484280"/>
            <a:ext cx="79200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231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C:\Users\Valentina\Desktop\krestnyy_khod.jpg"/>
          <p:cNvPicPr/>
          <p:nvPr/>
        </p:nvPicPr>
        <p:blipFill>
          <a:blip r:embed="rId2"/>
          <a:stretch/>
        </p:blipFill>
        <p:spPr>
          <a:xfrm>
            <a:off x="684360" y="1268280"/>
            <a:ext cx="777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5" name="Picture 3" descr="C:\Users\Valentina\Desktop\nochlezhniki.jpg"/>
          <p:cNvPicPr/>
          <p:nvPr/>
        </p:nvPicPr>
        <p:blipFill>
          <a:blip r:embed="rId1"/>
          <a:stretch/>
        </p:blipFill>
        <p:spPr>
          <a:xfrm>
            <a:off x="1000080" y="1081080"/>
            <a:ext cx="71438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C:\Users\Valentina\Desktop\kartina_troyka.jpg"/>
          <p:cNvPicPr/>
          <p:nvPr/>
        </p:nvPicPr>
        <p:blipFill>
          <a:blip r:embed="rId1"/>
          <a:stretch/>
        </p:blipFill>
        <p:spPr>
          <a:xfrm>
            <a:off x="1042920" y="1484280"/>
            <a:ext cx="7274160" cy="5040360"/>
          </a:xfrm>
          <a:prstGeom prst="rect">
            <a:avLst/>
          </a:prstGeom>
          <a:ln w="0">
            <a:noFill/>
          </a:ln>
        </p:spPr>
      </p:pic>
      <p:pic>
        <p:nvPicPr>
          <p:cNvPr id="267" name="Заголовок 3" descr=""/>
          <p:cNvPicPr/>
          <p:nvPr/>
        </p:nvPicPr>
        <p:blipFill>
          <a:blip r:embed="rId2"/>
          <a:stretch/>
        </p:blipFill>
        <p:spPr>
          <a:xfrm>
            <a:off x="390600" y="60480"/>
            <a:ext cx="83026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C:\Users\Valentina\Desktop\prival.jpg"/>
          <p:cNvPicPr/>
          <p:nvPr/>
        </p:nvPicPr>
        <p:blipFill>
          <a:blip r:embed="rId2"/>
          <a:stretch/>
        </p:blipFill>
        <p:spPr>
          <a:xfrm>
            <a:off x="755640" y="1557360"/>
            <a:ext cx="770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89359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6:18:12Z</dcterms:created>
  <dc:creator>Valentina</dc:creator>
  <dc:description/>
  <dc:language>en-US</dc:language>
  <cp:lastModifiedBy>1</cp:lastModifiedBy>
  <dcterms:modified xsi:type="dcterms:W3CDTF">2012-02-27T07:02:16Z</dcterms:modified>
  <cp:revision>12</cp:revision>
  <dc:subject/>
  <dc:title>Русские художники  об униженных  и оскорбленных</dc:title>
</cp:coreProperties>
</file>