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377-095B-4DEB-A5FE-361DE505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F6F-CAEA-4E37-BDBE-24DB82DF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293-94DA-4439-BE31-21B85E75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46F-AE62-4DA6-AF08-E006A4DB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F5B4A-A0DB-4927-B085-B0F8B3AB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F76AE-E794-4240-AE47-9334E7F1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F15D8-B41D-479F-A311-14D2EE18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ABE89-E80F-4222-AF3F-C0E5F98C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DBC60-9875-4CE1-8C06-A619C498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AC8DC-26ED-471E-B5F1-4CBC44E1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04FBA-D96A-40D5-9BD7-D62297DF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24B-9940-492E-8E8A-1B5074D8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C393F-C8DF-4715-AF95-E61F5CCA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95291-4803-42DD-AC28-214AFC49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5B010-9493-4DC9-AB9E-8749C004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4058B-F0B9-4883-BDA6-E4F2C7BC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A0713-F499-4C90-BBAC-F8B7513C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073A-DFD3-4464-BCEB-85B576EF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E243-2F05-4DF2-9313-2DBCB52B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85AC-9D36-4F1A-889F-FFCB928E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3E61-6B9A-4B3C-96E5-D94F5575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8721-F9EE-4043-8508-AB088B23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76D-EAFE-48A2-B19F-838B725C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33CB-728A-4BB3-973C-FFD8DF89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1B826-73EC-47F7-8488-CBBD75B2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F64A6-3980-4AFF-81EF-527198E0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9AB7-F63F-4922-84A3-0B84BED7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A3C3-4EFA-4EBE-A11D-277EE42B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E1AE-4906-4BF1-9254-9DA4AE01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6CFC-DD63-4C93-9717-2D88FF6C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61003-EB75-41C8-8394-2F043D91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DC617-71D3-40CB-924C-A86BB032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2DD8C-38AA-4DA8-AE39-B774FC30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694-C49A-44D9-A50F-6ACA6E17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F1BE9-AD24-4DF9-8F15-8EA1B5CF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8E2FA-4C0D-4C21-B62C-CA4D4035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2E05F3-DCE0-45B5-AFA1-6C217641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A2053-76FB-423E-BED9-64089A94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A16D3-03FD-4E80-A48A-C68CD234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E6C4C-1B01-4166-BD5D-7B18C662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21721-579E-4DC1-AB2A-ADB0FDAD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490D59-B097-47FD-BAF2-E4F65BA6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4965B-FEAA-460D-AA34-E06B25EE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0E1CE-FEC0-4CA2-B0E8-82F7B086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B6C-A83E-4A26-95F3-4D14C1BA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F7602-9C0B-4630-A268-4E47E4C5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15894-AA32-4FC4-80B2-5B05DAD5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FA66A-E436-4CB6-8165-E8655418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CEA71-1C2B-4F84-9B3A-CA7E4F77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7E98F-05EF-4529-BBD0-CA3508A9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391BA-CAF8-419A-A244-9A51C37B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2F1B5-717A-4EBB-9D02-96A5EA7E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1BC5C-CDB0-4189-AEEC-D5D43F1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0833F-7254-4F87-8C99-6193751A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D6835-4CBE-4E03-869F-193E2635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7BF-EA30-473A-95B0-7F4B5BDC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50C7D-1C91-4E6E-8A86-F9DB4D4B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6C19E-86C9-4762-A597-F04A34D5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EC73E-10D5-4F61-8AAA-19AAA114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64AD9-5821-47A7-9981-FDE81AF8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6D284-D1B7-4379-8F45-A3C99A3B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6AEF3-C106-4C63-A362-6E7D5F2F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7CAE9-0B92-47F5-AD91-95B2477B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E21F0-7484-41A1-9274-8CDBF513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7E1D0-E070-4E87-9F8B-71134CB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5CD34B-C30B-4D29-82D7-36B7C9C3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006-5E55-4EAA-A527-65B90B22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D0FAA-201E-4E47-98BE-841237DC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47FAB-0366-40AD-9873-DF93D548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88A2D-46BF-4252-A7B0-A3DEE8F2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6B1-9DE7-4CEF-BD63-0452182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C06-498D-42BB-BA2D-2848FCEA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0D82-4A92-4115-BF3E-7BF42F708F1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4C97-31C8-4179-93AC-150156C15E5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60D6-C46D-4438-8CB9-49A58B9E84C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360E-B114-459F-B8CD-DC74D1EA70E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D73E-89F7-4F17-ABC5-02917991C04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3E27-C640-40B1-8EEF-8EA5C3A908B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Valentina\Desktop\beglyi.jpg"/>
          <p:cNvPicPr/>
          <p:nvPr/>
        </p:nvPicPr>
        <p:blipFill>
          <a:blip r:embed="rId2"/>
          <a:stretch/>
        </p:blipFill>
        <p:spPr>
          <a:xfrm>
            <a:off x="539640" y="1628640"/>
            <a:ext cx="3867120" cy="4824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Valentina\Desktop\perov07.jpg"/>
          <p:cNvPicPr/>
          <p:nvPr/>
        </p:nvPicPr>
        <p:blipFill>
          <a:blip r:embed="rId3"/>
          <a:stretch/>
        </p:blipFill>
        <p:spPr>
          <a:xfrm>
            <a:off x="5148360" y="1628640"/>
            <a:ext cx="3254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2" name="Picture 2" descr="C:\Users\Valentina\Desktop\77759020_pisatel.jpg"/>
          <p:cNvPicPr/>
          <p:nvPr/>
        </p:nvPicPr>
        <p:blipFill>
          <a:blip r:embed="rId1"/>
          <a:stretch/>
        </p:blipFill>
        <p:spPr>
          <a:xfrm>
            <a:off x="1243080" y="333360"/>
            <a:ext cx="66578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Users\Valentina\Desktop\chayepitiye.jpg"/>
          <p:cNvPicPr/>
          <p:nvPr/>
        </p:nvPicPr>
        <p:blipFill>
          <a:blip r:embed="rId2"/>
          <a:stretch/>
        </p:blipFill>
        <p:spPr>
          <a:xfrm>
            <a:off x="324000" y="1773360"/>
            <a:ext cx="4346280" cy="431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Users\Valentina\Desktop\perov09.jpg"/>
          <p:cNvPicPr/>
          <p:nvPr/>
        </p:nvPicPr>
        <p:blipFill>
          <a:blip r:embed="rId3"/>
          <a:stretch/>
        </p:blipFill>
        <p:spPr>
          <a:xfrm>
            <a:off x="5076720" y="1557360"/>
            <a:ext cx="355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536400" y="18252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C:\Users\Valentina\Desktop\perov04.jpg"/>
          <p:cNvPicPr/>
          <p:nvPr/>
        </p:nvPicPr>
        <p:blipFill>
          <a:blip r:embed="rId2"/>
          <a:stretch/>
        </p:blipFill>
        <p:spPr>
          <a:xfrm>
            <a:off x="900000" y="134136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C:\Users\Valentina\Desktop\death.jpg"/>
          <p:cNvPicPr/>
          <p:nvPr/>
        </p:nvPicPr>
        <p:blipFill>
          <a:blip r:embed="rId2"/>
          <a:stretch/>
        </p:blipFill>
        <p:spPr>
          <a:xfrm>
            <a:off x="539640" y="1484280"/>
            <a:ext cx="79200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231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C:\Users\Valentina\Desktop\krestnyy_khod.jpg"/>
          <p:cNvPicPr/>
          <p:nvPr/>
        </p:nvPicPr>
        <p:blipFill>
          <a:blip r:embed="rId2"/>
          <a:stretch/>
        </p:blipFill>
        <p:spPr>
          <a:xfrm>
            <a:off x="684360" y="1268280"/>
            <a:ext cx="777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5" name="Picture 3" descr="C:\Users\Valentina\Desktop\nochlezhniki.jpg"/>
          <p:cNvPicPr/>
          <p:nvPr/>
        </p:nvPicPr>
        <p:blipFill>
          <a:blip r:embed="rId1"/>
          <a:stretch/>
        </p:blipFill>
        <p:spPr>
          <a:xfrm>
            <a:off x="1000080" y="1081080"/>
            <a:ext cx="71438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C:\Users\Valentina\Desktop\kartina_troyka.jpg"/>
          <p:cNvPicPr/>
          <p:nvPr/>
        </p:nvPicPr>
        <p:blipFill>
          <a:blip r:embed="rId1"/>
          <a:stretch/>
        </p:blipFill>
        <p:spPr>
          <a:xfrm>
            <a:off x="1042920" y="1484280"/>
            <a:ext cx="7274160" cy="5040360"/>
          </a:xfrm>
          <a:prstGeom prst="rect">
            <a:avLst/>
          </a:prstGeom>
          <a:ln w="0">
            <a:noFill/>
          </a:ln>
        </p:spPr>
      </p:pic>
      <p:pic>
        <p:nvPicPr>
          <p:cNvPr id="267" name="Заголовок 3" descr=""/>
          <p:cNvPicPr/>
          <p:nvPr/>
        </p:nvPicPr>
        <p:blipFill>
          <a:blip r:embed="rId2"/>
          <a:stretch/>
        </p:blipFill>
        <p:spPr>
          <a:xfrm>
            <a:off x="390600" y="60480"/>
            <a:ext cx="83026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C:\Users\Valentina\Desktop\prival.jpg"/>
          <p:cNvPicPr/>
          <p:nvPr/>
        </p:nvPicPr>
        <p:blipFill>
          <a:blip r:embed="rId2"/>
          <a:stretch/>
        </p:blipFill>
        <p:spPr>
          <a:xfrm>
            <a:off x="755640" y="1557360"/>
            <a:ext cx="770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89359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18:12Z</dcterms:created>
  <dc:creator>Valentina</dc:creator>
  <dc:description/>
  <dc:language>en-US</dc:language>
  <cp:lastModifiedBy>1</cp:lastModifiedBy>
  <dcterms:modified xsi:type="dcterms:W3CDTF">2012-02-27T07:02:16Z</dcterms:modified>
  <cp:revision>12</cp:revision>
  <dc:subject/>
  <dc:title>Русские художники  об униженных  и оскорбленных</dc:title>
</cp:coreProperties>
</file>