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.png" ContentType="image/png"/>
  <Override PartName="/ppt/media/image25.jpeg" ContentType="image/jpeg"/>
  <Override PartName="/ppt/media/image10.png" ContentType="image/png"/>
  <Override PartName="/ppt/media/image26.jpeg" ContentType="image/jpeg"/>
  <Override PartName="/ppt/media/image22.png" ContentType="image/png"/>
  <Override PartName="/ppt/media/image5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18.gif" ContentType="image/gif"/>
  <Override PartName="/ppt/media/image23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AA94-590C-4B7B-AF32-34EAD202E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363D-76FB-4BFD-9EEB-A94BA8D1F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DC28-5AD7-42C3-BFA1-38382F4FD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B831-ABD6-4D24-9802-013003CD7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0766-4C63-4FFC-B7CC-3DA1C5E58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2ED1-D3DB-4696-B208-458CF4138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D2E4-EBD6-459D-A891-5CCBBFFE1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8D15-56C2-423E-9155-CB5EF830D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25AF-AE48-43F2-A977-269ECA26D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3387-42D2-4B3A-AF0E-1907A039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DF7E-1308-435D-B5CC-1F4B4BBD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F675-AEF5-479D-8723-2B2B2FE6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72AD-71C3-4711-AAFA-62ECBFADDDC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3" descr=""/>
          <p:cNvPicPr/>
          <p:nvPr/>
        </p:nvPicPr>
        <p:blipFill>
          <a:blip r:embed="rId1"/>
          <a:stretch/>
        </p:blipFill>
        <p:spPr>
          <a:xfrm>
            <a:off x="171360" y="1279440"/>
            <a:ext cx="8240760" cy="2006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3995280" y="3644640"/>
            <a:ext cx="377676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тор: Гаврилова Елена      Валерьевна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итель английского язык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ОУ СОШ №9 г. Борович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вгородской обла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4" descr="Idioms copy.jpg"/>
          <p:cNvPicPr/>
          <p:nvPr/>
        </p:nvPicPr>
        <p:blipFill>
          <a:blip r:embed="rId1"/>
          <a:stretch/>
        </p:blipFill>
        <p:spPr>
          <a:xfrm>
            <a:off x="-92160" y="384120"/>
            <a:ext cx="7284960" cy="64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Заголовок 16" descr=""/>
          <p:cNvPicPr/>
          <p:nvPr/>
        </p:nvPicPr>
        <p:blipFill>
          <a:blip r:embed="rId1"/>
          <a:stretch/>
        </p:blipFill>
        <p:spPr>
          <a:xfrm>
            <a:off x="171360" y="268200"/>
            <a:ext cx="8296200" cy="865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35040"/>
            <a:ext cx="4608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Текст 18" descr=""/>
          <p:cNvPicPr/>
          <p:nvPr/>
        </p:nvPicPr>
        <p:blipFill>
          <a:blip r:embed="rId2"/>
          <a:stretch/>
        </p:blipFill>
        <p:spPr>
          <a:xfrm>
            <a:off x="5310360" y="1676520"/>
            <a:ext cx="3949560" cy="4425840"/>
          </a:xfrm>
          <a:prstGeom prst="rect">
            <a:avLst/>
          </a:prstGeom>
          <a:ln w="0">
            <a:noFill/>
          </a:ln>
        </p:spPr>
      </p:pic>
      <p:pic>
        <p:nvPicPr>
          <p:cNvPr id="47" name="Содержимое 4" descr=""/>
          <p:cNvPicPr/>
          <p:nvPr/>
        </p:nvPicPr>
        <p:blipFill>
          <a:blip r:embed="rId3"/>
          <a:stretch/>
        </p:blipFill>
        <p:spPr>
          <a:xfrm>
            <a:off x="109440" y="1768320"/>
            <a:ext cx="4091040" cy="4772160"/>
          </a:xfrm>
          <a:prstGeom prst="rect">
            <a:avLst/>
          </a:prstGeom>
          <a:ln w="0">
            <a:noFill/>
          </a:ln>
        </p:spPr>
      </p:pic>
      <p:pic>
        <p:nvPicPr>
          <p:cNvPr id="48" name="Содержимое 6" descr="droppinglikeflies.jpeg"/>
          <p:cNvPicPr/>
          <p:nvPr/>
        </p:nvPicPr>
        <p:blipFill>
          <a:blip r:embed="rId4"/>
          <a:stretch/>
        </p:blipFill>
        <p:spPr>
          <a:xfrm>
            <a:off x="3486240" y="3340080"/>
            <a:ext cx="1708200" cy="13287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8" descr="horsing-around.jpg"/>
          <p:cNvPicPr/>
          <p:nvPr/>
        </p:nvPicPr>
        <p:blipFill>
          <a:blip r:embed="rId5"/>
          <a:stretch/>
        </p:blipFill>
        <p:spPr>
          <a:xfrm>
            <a:off x="3267000" y="5072040"/>
            <a:ext cx="1890720" cy="140796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0" descr="pigging-out.jpg"/>
          <p:cNvPicPr/>
          <p:nvPr/>
        </p:nvPicPr>
        <p:blipFill>
          <a:blip r:embed="rId6"/>
          <a:stretch/>
        </p:blipFill>
        <p:spPr>
          <a:xfrm>
            <a:off x="3486240" y="1542960"/>
            <a:ext cx="165888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Заголовок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8242560" cy="822240"/>
          </a:xfrm>
          <a:prstGeom prst="rect">
            <a:avLst/>
          </a:prstGeom>
          <a:ln w="0">
            <a:noFill/>
          </a:ln>
        </p:spPr>
      </p:pic>
      <p:pic>
        <p:nvPicPr>
          <p:cNvPr id="52" name="Содержимое 2" descr=""/>
          <p:cNvPicPr/>
          <p:nvPr/>
        </p:nvPicPr>
        <p:blipFill>
          <a:blip r:embed="rId2"/>
          <a:stretch/>
        </p:blipFill>
        <p:spPr>
          <a:xfrm>
            <a:off x="139680" y="1073160"/>
            <a:ext cx="4091040" cy="5529240"/>
          </a:xfrm>
          <a:prstGeom prst="rect">
            <a:avLst/>
          </a:prstGeom>
          <a:ln w="0">
            <a:noFill/>
          </a:ln>
        </p:spPr>
      </p:pic>
      <p:pic>
        <p:nvPicPr>
          <p:cNvPr id="53" name="Содержимое 3" descr=""/>
          <p:cNvPicPr/>
          <p:nvPr/>
        </p:nvPicPr>
        <p:blipFill>
          <a:blip r:embed="rId3"/>
          <a:stretch/>
        </p:blipFill>
        <p:spPr>
          <a:xfrm>
            <a:off x="4986360" y="1225440"/>
            <a:ext cx="4346640" cy="523584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7" descr="WhenPigsFly.jpg"/>
          <p:cNvPicPr/>
          <p:nvPr/>
        </p:nvPicPr>
        <p:blipFill>
          <a:blip r:embed="rId4"/>
          <a:stretch/>
        </p:blipFill>
        <p:spPr>
          <a:xfrm>
            <a:off x="3200400" y="1109520"/>
            <a:ext cx="1743120" cy="13096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1" descr="peaceofcake.jpg"/>
          <p:cNvPicPr/>
          <p:nvPr/>
        </p:nvPicPr>
        <p:blipFill>
          <a:blip r:embed="rId5"/>
          <a:stretch/>
        </p:blipFill>
        <p:spPr>
          <a:xfrm>
            <a:off x="3340080" y="2408400"/>
            <a:ext cx="1506600" cy="15732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2" descr="moneybox_008.jpg"/>
          <p:cNvPicPr/>
          <p:nvPr/>
        </p:nvPicPr>
        <p:blipFill>
          <a:blip r:embed="rId6"/>
          <a:stretch/>
        </p:blipFill>
        <p:spPr>
          <a:xfrm>
            <a:off x="3413160" y="5211720"/>
            <a:ext cx="1676520" cy="142092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13" descr="eggonherface.jpg"/>
          <p:cNvPicPr/>
          <p:nvPr/>
        </p:nvPicPr>
        <p:blipFill>
          <a:blip r:embed="rId7"/>
          <a:stretch/>
        </p:blipFill>
        <p:spPr>
          <a:xfrm>
            <a:off x="3486240" y="3846600"/>
            <a:ext cx="174456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Заголовок 1" descr=""/>
          <p:cNvPicPr/>
          <p:nvPr/>
        </p:nvPicPr>
        <p:blipFill>
          <a:blip r:embed="rId1"/>
          <a:stretch/>
        </p:blipFill>
        <p:spPr>
          <a:xfrm>
            <a:off x="324000" y="182520"/>
            <a:ext cx="8423280" cy="6714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50880" indent="-51444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00000"/>
                </a:solidFill>
                <a:latin typeface="Book Antiqua"/>
              </a:rPr>
              <a:t>1.  Every dog has its da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00000"/>
                </a:solidFill>
                <a:latin typeface="Book Antiqua"/>
              </a:rPr>
              <a:t>2.  Every dog is a lion at hom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00000"/>
                </a:solidFill>
                <a:latin typeface="Book Antiqua"/>
              </a:rPr>
              <a:t>3.  A good dog deserve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00000"/>
                </a:solidFill>
                <a:latin typeface="Book Antiqua"/>
              </a:rPr>
              <a:t>        </a:t>
            </a:r>
            <a:r>
              <a:rPr b="1" lang="en-US" sz="1900" spc="-1" strike="noStrike">
                <a:solidFill>
                  <a:srgbClr val="c00000"/>
                </a:solidFill>
                <a:latin typeface="Book Antiqua"/>
              </a:rPr>
              <a:t>a good bon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00000"/>
                </a:solidFill>
                <a:latin typeface="Book Antiqua"/>
              </a:rPr>
              <a:t>4.  A dog in the mang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00000"/>
                </a:solidFill>
                <a:latin typeface="Book Antiqua"/>
              </a:rPr>
              <a:t>5.  The dogs bark, but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00000"/>
                </a:solidFill>
                <a:latin typeface="Book Antiqua"/>
              </a:rPr>
              <a:t>         </a:t>
            </a:r>
            <a:r>
              <a:rPr b="1" lang="en-US" sz="1900" spc="-1" strike="noStrike">
                <a:solidFill>
                  <a:srgbClr val="c00000"/>
                </a:solidFill>
                <a:latin typeface="Book Antiqua"/>
              </a:rPr>
              <a:t>the caravan goes 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00000"/>
                </a:solidFill>
                <a:latin typeface="Book Antiqua"/>
              </a:rPr>
              <a:t>6.  Let sleeping dogs li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SzPct val="6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7030a0"/>
                </a:solidFill>
                <a:latin typeface="Times New Roman"/>
              </a:rPr>
              <a:t>Собака на сене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SzPct val="6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ru-RU" sz="1900" spc="-1" strike="noStrike">
                <a:solidFill>
                  <a:srgbClr val="7030a0"/>
                </a:solidFill>
                <a:latin typeface="Times New Roman"/>
              </a:rPr>
              <a:t>По заслугам и честь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SzPct val="6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7030a0"/>
                </a:solidFill>
                <a:latin typeface="Times New Roman"/>
              </a:rPr>
              <a:t>Будет и на вашей улице праздник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SzPct val="6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7030a0"/>
                </a:solidFill>
                <a:latin typeface="Times New Roman"/>
              </a:rPr>
              <a:t>Собака лает, ветер носит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SzPct val="6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7030a0"/>
                </a:solidFill>
                <a:latin typeface="Times New Roman"/>
              </a:rPr>
              <a:t>Не буди лихо, пока оно спит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SzPct val="6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7030a0"/>
                </a:solidFill>
                <a:latin typeface="Times New Roman"/>
              </a:rPr>
              <a:t>Всяк кулик в своём болоте велик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Рисунок 4" descr="собака.gif"/>
          <p:cNvPicPr/>
          <p:nvPr/>
        </p:nvPicPr>
        <p:blipFill>
          <a:blip r:embed="rId2"/>
          <a:stretch/>
        </p:blipFill>
        <p:spPr>
          <a:xfrm>
            <a:off x="6732720" y="4292640"/>
            <a:ext cx="1787400" cy="18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535 -0.23495 L 0.37535 -0.56828 E">
                                      <p:cBhvr>
                                        <p:cTn id="45" dur="2000" fill="hold"/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149 -0.31135 L 0.39149 -0.64468 E">
                                      <p:cBhvr>
                                        <p:cTn id="49" dur="2000" fill="hold"/>
                                        <p:tgtEl>
                                          <p:spTgt spid="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907 -0.04144 L 0.38907 -0.37477 E">
                                      <p:cBhvr>
                                        <p:cTn id="53" dur="2000" fill="hold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098 0.04676 L 0.39098 -0.28657 E">
                                      <p:cBhvr>
                                        <p:cTn id="57" dur="2000" fill="hold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792 0.00209 L 0.39792 -0.33125 E">
                                      <p:cBhvr>
                                        <p:cTn id="61" dur="2000" fill="hold"/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174 0.0081 L 0.40174 -0.32523 E">
                                      <p:cBhvr>
                                        <p:cTn id="65" dur="2000" fill="hold"/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Заголовок 1" descr=""/>
          <p:cNvPicPr/>
          <p:nvPr/>
        </p:nvPicPr>
        <p:blipFill>
          <a:blip r:embed="rId1"/>
          <a:stretch/>
        </p:blipFill>
        <p:spPr>
          <a:xfrm>
            <a:off x="304920" y="30240"/>
            <a:ext cx="8388360" cy="1049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250560" y="119700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5088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  <a:ea typeface="Arial"/>
              </a:rPr>
              <a:t>a) Very pleased about someth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  <a:ea typeface="Arial"/>
              </a:rPr>
              <a:t>b) To do something that makes people angr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  <a:ea typeface="Arial"/>
              </a:rPr>
              <a:t>c) Last your tongu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  <a:ea typeface="Arial"/>
              </a:rPr>
              <a:t>d) In a nervous or excited wa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  <a:ea typeface="Arial"/>
              </a:rPr>
              <a:t>e) Fighting bad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  <a:ea typeface="Arial"/>
              </a:rPr>
              <a:t>f) Somebody rich and powerfu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  <a:ea typeface="Arial"/>
              </a:rPr>
              <a:t>h) To tell people a secr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  <a:ea typeface="Arial"/>
              </a:rPr>
              <a:t>1.  A fat c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  <a:ea typeface="Arial"/>
              </a:rPr>
              <a:t>2.  To let the cat out of the b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  <a:ea typeface="Arial"/>
              </a:rPr>
              <a:t>3.  Like cat and do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  <a:ea typeface="Arial"/>
              </a:rPr>
              <a:t>4.  Like a cat on hot brick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  <a:ea typeface="Arial"/>
              </a:rPr>
              <a:t>5.  Like the cat that got the crea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  <a:ea typeface="Arial"/>
              </a:rPr>
              <a:t>6.  Put the cat among the pige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  <a:ea typeface="Arial"/>
              </a:rPr>
              <a:t>7.  Has the cat got your tongu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Рисунок 4" descr="2 кота.gif"/>
          <p:cNvPicPr/>
          <p:nvPr/>
        </p:nvPicPr>
        <p:blipFill>
          <a:blip r:embed="rId2"/>
          <a:stretch/>
        </p:blipFill>
        <p:spPr>
          <a:xfrm>
            <a:off x="5450040" y="3906720"/>
            <a:ext cx="2998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61 0.0095 L 0.55122 -0.20046 E">
                                      <p:cBhvr>
                                        <p:cTn id="71" dur="1000" fill="hold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6702 -0.19953 E">
                                      <p:cBhvr>
                                        <p:cTn id="75" dur="1000" fill="hold"/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556 -0.01273 L 0.55868 -0.33819 E">
                                      <p:cBhvr>
                                        <p:cTn id="79" dur="1000" fill="hold"/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208 0.00741 L 0.55434 -0.43356 E">
                                      <p:cBhvr>
                                        <p:cTn id="83" dur="500" fill="hold"/>
                                        <p:tgtEl>
                                          <p:spTgt spid="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865 -0.00371 L 0.54861 -0.63357 E">
                                      <p:cBhvr>
                                        <p:cTn id="87" dur="1000" fill="hold"/>
                                        <p:tgtEl>
                                          <p:spTgt spid="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434 -0.61967 E">
                                      <p:cBhvr>
                                        <p:cTn id="91" dur="1000" fill="hold"/>
                                        <p:tgtEl>
                                          <p:spTgt spid="6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278 -0.00509 L 0.55086 -0.60347 E">
                                      <p:cBhvr>
                                        <p:cTn id="95" dur="1000" fill="hold"/>
                                        <p:tgtEl>
                                          <p:spTgt spid="6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Заголовок 1" descr=""/>
          <p:cNvPicPr/>
          <p:nvPr/>
        </p:nvPicPr>
        <p:blipFill>
          <a:blip r:embed="rId1"/>
          <a:stretch/>
        </p:blipFill>
        <p:spPr>
          <a:xfrm>
            <a:off x="225360" y="19080"/>
            <a:ext cx="8467920" cy="914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5088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ell me ___________________    what he sa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’m a little _______________          to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____________________________, we w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______________________ to the teach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Book Antiqua"/>
              </a:rPr>
              <a:t>Don’t talk 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Book Antiqua"/>
              </a:rPr>
              <a:t>under the wea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Book Antiqua"/>
              </a:rPr>
              <a:t>word for w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Book Antiqua"/>
              </a:rPr>
              <a:t>To make a long story sh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Рисунок 3" descr="идиома.jpg"/>
          <p:cNvPicPr/>
          <p:nvPr/>
        </p:nvPicPr>
        <p:blipFill>
          <a:blip r:embed="rId2"/>
          <a:stretch/>
        </p:blipFill>
        <p:spPr>
          <a:xfrm>
            <a:off x="6645240" y="3743280"/>
            <a:ext cx="183348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8 -0.02917 L 0.26458 -0.52269 E">
                                      <p:cBhvr>
                                        <p:cTn id="101" dur="10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49 -0.03819 L 0.26979 -0.37431 E">
                                      <p:cBhvr>
                                        <p:cTn id="105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42 -0.04097 L 0.05642 -0.45047 E">
                                      <p:cBhvr>
                                        <p:cTn id="109" dur="10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17 -0.0581 L 0.08472 -0.15277 E">
                                      <p:cBhvr>
                                        <p:cTn id="113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Заголовок 1" descr=""/>
          <p:cNvPicPr/>
          <p:nvPr/>
        </p:nvPicPr>
        <p:blipFill>
          <a:blip r:embed="rId1"/>
          <a:stretch/>
        </p:blipFill>
        <p:spPr>
          <a:xfrm>
            <a:off x="244440" y="109440"/>
            <a:ext cx="8448840" cy="785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468360" y="1599840"/>
            <a:ext cx="66247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Book Antiqua"/>
              </a:rPr>
              <a:t>Illustrate one of the idioms. Write the situation with this idi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Рисунок 4" descr="тетя.jpeg"/>
          <p:cNvPicPr/>
          <p:nvPr/>
        </p:nvPicPr>
        <p:blipFill>
          <a:blip r:embed="rId2"/>
          <a:stretch/>
        </p:blipFill>
        <p:spPr>
          <a:xfrm>
            <a:off x="6443640" y="2205000"/>
            <a:ext cx="2421000" cy="402768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5" descr="дождь.jpg"/>
          <p:cNvPicPr/>
          <p:nvPr/>
        </p:nvPicPr>
        <p:blipFill>
          <a:blip r:embed="rId3"/>
          <a:srcRect l="6268" t="5719" r="9134" b="0"/>
          <a:stretch/>
        </p:blipFill>
        <p:spPr>
          <a:xfrm>
            <a:off x="3348000" y="3716280"/>
            <a:ext cx="1944720" cy="248436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6" descr="be_broke.jpg"/>
          <p:cNvPicPr/>
          <p:nvPr/>
        </p:nvPicPr>
        <p:blipFill>
          <a:blip r:embed="rId4"/>
          <a:stretch/>
        </p:blipFill>
        <p:spPr>
          <a:xfrm>
            <a:off x="539640" y="2708280"/>
            <a:ext cx="17431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Заголовок 1" descr=""/>
          <p:cNvPicPr/>
          <p:nvPr/>
        </p:nvPicPr>
        <p:blipFill>
          <a:blip r:embed="rId1"/>
          <a:stretch/>
        </p:blipFill>
        <p:spPr>
          <a:xfrm>
            <a:off x="225360" y="158760"/>
            <a:ext cx="8467920" cy="9316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5088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O.V.Afanasyeva, I.V.Mikheev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nglish 7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сква, «Просвещение»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O.V.Afanasyeva, I.V.Mikheev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«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nglish 7 Activity Book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сква, «Просвещение»,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http://www.sixthsense.ru/articles/?PAGEN 1=6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http://www.maru-english.ru/forum/26-100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http://www.volosovo-city.ru/2009/09/15/sbornik-reshebnikov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доф-10-11-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klassov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1T20:36:15Z</dcterms:created>
  <dc:creator>UserXP</dc:creator>
  <dc:description/>
  <dc:language>en-US</dc:language>
  <cp:lastModifiedBy>UserXP</cp:lastModifiedBy>
  <dcterms:modified xsi:type="dcterms:W3CDTF">2012-02-16T19:11:54Z</dcterms:modified>
  <cp:revision>41</cp:revision>
  <dc:subject/>
  <dc:title>Слайд 1</dc:title>
</cp:coreProperties>
</file>