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78B-D9EE-4804-B469-99461FEF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5E6-CE20-46C8-BCB9-FA36721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457-831B-4E79-A4B9-79DF04C3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59F-25AC-4A71-BBCC-398271AF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4C1-C5E1-4705-AD8C-7A934C05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A53-ABF5-43C6-A716-B62B635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5FB-790B-45E2-94FA-DE122550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D37-786E-4BBD-8C29-2033A23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B9F-1A2F-4F65-A9CF-8B41B0A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84D-F1DB-441B-8F26-E9215B8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372-4122-4E24-AF2C-EAFEBEA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838-659A-4428-9EB9-8A03B4B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D060-FB89-4D9C-BC2F-55CFA3F0C6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1360" y="1279440"/>
            <a:ext cx="824076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95280" y="3644640"/>
            <a:ext cx="37767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Гаврилова Елена      Валерь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СОШ №9 г. Борови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Idioms copy.jpg"/>
          <p:cNvPicPr/>
          <p:nvPr/>
        </p:nvPicPr>
        <p:blipFill>
          <a:blip r:embed="rId1"/>
          <a:stretch/>
        </p:blipFill>
        <p:spPr>
          <a:xfrm>
            <a:off x="-92160" y="384120"/>
            <a:ext cx="72849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6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296200" cy="86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Текст 18" descr=""/>
          <p:cNvPicPr/>
          <p:nvPr/>
        </p:nvPicPr>
        <p:blipFill>
          <a:blip r:embed="rId2"/>
          <a:stretch/>
        </p:blipFill>
        <p:spPr>
          <a:xfrm>
            <a:off x="5310360" y="1676520"/>
            <a:ext cx="3949560" cy="44258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"/>
          <p:cNvPicPr/>
          <p:nvPr/>
        </p:nvPicPr>
        <p:blipFill>
          <a:blip r:embed="rId3"/>
          <a:stretch/>
        </p:blipFill>
        <p:spPr>
          <a:xfrm>
            <a:off x="109440" y="1768320"/>
            <a:ext cx="4091040" cy="47721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droppinglikeflies.jpeg"/>
          <p:cNvPicPr/>
          <p:nvPr/>
        </p:nvPicPr>
        <p:blipFill>
          <a:blip r:embed="rId4"/>
          <a:stretch/>
        </p:blipFill>
        <p:spPr>
          <a:xfrm>
            <a:off x="3486240" y="3340080"/>
            <a:ext cx="1708200" cy="1328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horsing-around.jpg"/>
          <p:cNvPicPr/>
          <p:nvPr/>
        </p:nvPicPr>
        <p:blipFill>
          <a:blip r:embed="rId5"/>
          <a:stretch/>
        </p:blipFill>
        <p:spPr>
          <a:xfrm>
            <a:off x="3267000" y="5072040"/>
            <a:ext cx="1890720" cy="1407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pigging-out.jpg"/>
          <p:cNvPicPr/>
          <p:nvPr/>
        </p:nvPicPr>
        <p:blipFill>
          <a:blip r:embed="rId6"/>
          <a:stretch/>
        </p:blipFill>
        <p:spPr>
          <a:xfrm>
            <a:off x="3486240" y="1542960"/>
            <a:ext cx="1658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824256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2" descr=""/>
          <p:cNvPicPr/>
          <p:nvPr/>
        </p:nvPicPr>
        <p:blipFill>
          <a:blip r:embed="rId2"/>
          <a:stretch/>
        </p:blipFill>
        <p:spPr>
          <a:xfrm>
            <a:off x="139680" y="1073160"/>
            <a:ext cx="4091040" cy="552924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3" descr=""/>
          <p:cNvPicPr/>
          <p:nvPr/>
        </p:nvPicPr>
        <p:blipFill>
          <a:blip r:embed="rId3"/>
          <a:stretch/>
        </p:blipFill>
        <p:spPr>
          <a:xfrm>
            <a:off x="4986360" y="1225440"/>
            <a:ext cx="4346640" cy="5235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WhenPigsFly.jpg"/>
          <p:cNvPicPr/>
          <p:nvPr/>
        </p:nvPicPr>
        <p:blipFill>
          <a:blip r:embed="rId4"/>
          <a:stretch/>
        </p:blipFill>
        <p:spPr>
          <a:xfrm>
            <a:off x="3200400" y="1109520"/>
            <a:ext cx="1743120" cy="13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peaceofcake.jpg"/>
          <p:cNvPicPr/>
          <p:nvPr/>
        </p:nvPicPr>
        <p:blipFill>
          <a:blip r:embed="rId5"/>
          <a:stretch/>
        </p:blipFill>
        <p:spPr>
          <a:xfrm>
            <a:off x="3340080" y="2408400"/>
            <a:ext cx="1506600" cy="1573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moneybox_008.jpg"/>
          <p:cNvPicPr/>
          <p:nvPr/>
        </p:nvPicPr>
        <p:blipFill>
          <a:blip r:embed="rId6"/>
          <a:stretch/>
        </p:blipFill>
        <p:spPr>
          <a:xfrm>
            <a:off x="3413160" y="5211720"/>
            <a:ext cx="167652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eggonherface.jpg"/>
          <p:cNvPicPr/>
          <p:nvPr/>
        </p:nvPicPr>
        <p:blipFill>
          <a:blip r:embed="rId7"/>
          <a:stretch/>
        </p:blipFill>
        <p:spPr>
          <a:xfrm>
            <a:off x="3486240" y="3846600"/>
            <a:ext cx="1744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324000" y="182520"/>
            <a:ext cx="842328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1.  Every dog has its da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2.  Every dog is a lion at ho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3.  A good dog deserv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a good b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4.  A dog in the m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5.  The dogs bark, bu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the caravan goes 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6.  Let sleeping dogs l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на сене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По заслугам и чест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Будет и на вашей улице праздн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лает, ветер нос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Не буди лихо, пока оно сп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Всяк кулик в своём болоте вел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собака.gif"/>
          <p:cNvPicPr/>
          <p:nvPr/>
        </p:nvPicPr>
        <p:blipFill>
          <a:blip r:embed="rId2"/>
          <a:stretch/>
        </p:blipFill>
        <p:spPr>
          <a:xfrm>
            <a:off x="6732720" y="4292640"/>
            <a:ext cx="17874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35 -0.23495 L 0.37535 -0.56828 E">
                                      <p:cBhvr>
                                        <p:cTn id="45" dur="2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49 -0.31135 L 0.39149 -0.64468 E">
                                      <p:cBhvr>
                                        <p:cTn id="49" dur="20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07 -0.04144 L 0.38907 -0.37477 E">
                                      <p:cBhvr>
                                        <p:cTn id="53" dur="2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98 0.04676 L 0.39098 -0.28657 E">
                                      <p:cBhvr>
                                        <p:cTn id="57" dur="2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92 0.00209 L 0.39792 -0.33125 E">
                                      <p:cBhvr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4 0.0081 L 0.40174 -0.32523 E">
                                      <p:cBhvr>
                                        <p:cTn id="65" dur="20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388360" cy="104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a) Very pleased about some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) To do something that makes people ang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c) Last your tong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d) In a nervous or excited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e) Fighting bad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f) Somebody rich and power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h) To tell people a sec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1.  A fat 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2.  To let the cat out of the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3.  Like cat and d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4.  Like a cat on hot bri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5.  Like the cat that got the cr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6.  Put the cat among the pige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7.  Has the cat got your tong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4" descr="2 кота.gif"/>
          <p:cNvPicPr/>
          <p:nvPr/>
        </p:nvPicPr>
        <p:blipFill>
          <a:blip r:embed="rId2"/>
          <a:stretch/>
        </p:blipFill>
        <p:spPr>
          <a:xfrm>
            <a:off x="5450040" y="3906720"/>
            <a:ext cx="299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95 L 0.55122 -0.20046 E">
                                      <p:cBhvr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6702 -0.19953 E">
                                      <p:cBhvr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01273 L 0.55868 -0.33819 E">
                                      <p:cBhvr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0741 L 0.55434 -0.43356 E">
                                      <p:cBhvr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65 -0.00371 L 0.54861 -0.63357 E">
                                      <p:cBhvr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-0.61967 E">
                                      <p:cBhvr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78 -0.00509 L 0.55086 -0.60347 E">
                                      <p:cBhvr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46792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me ___________________    what he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’m a little _______________         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______, we w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 to the teac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Don’t talk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under the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word for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To make a long story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3" descr="идиома.jpg"/>
          <p:cNvPicPr/>
          <p:nvPr/>
        </p:nvPicPr>
        <p:blipFill>
          <a:blip r:embed="rId2"/>
          <a:stretch/>
        </p:blipFill>
        <p:spPr>
          <a:xfrm>
            <a:off x="6645240" y="3743280"/>
            <a:ext cx="18334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02917 L 0.26458 -0.52269 E">
                                      <p:cBhvr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3819 L 0.26979 -0.37431 E">
                                      <p:cBhvr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04097 L 0.05642 -0.45047 E">
                                      <p:cBhvr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581 L 0.08472 -0.15277 E">
                                      <p:cBhvr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448840" cy="7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1599840"/>
            <a:ext cx="662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Illustrate one of the idioms. Write the situation with this idi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тетя.jpeg"/>
          <p:cNvPicPr/>
          <p:nvPr/>
        </p:nvPicPr>
        <p:blipFill>
          <a:blip r:embed="rId2"/>
          <a:stretch/>
        </p:blipFill>
        <p:spPr>
          <a:xfrm>
            <a:off x="6443640" y="2205000"/>
            <a:ext cx="2421000" cy="4027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дождь.jpg"/>
          <p:cNvPicPr/>
          <p:nvPr/>
        </p:nvPicPr>
        <p:blipFill>
          <a:blip r:embed="rId3"/>
          <a:srcRect l="6268" t="5719" r="9134" b="0"/>
          <a:stretch/>
        </p:blipFill>
        <p:spPr>
          <a:xfrm>
            <a:off x="3348000" y="3716280"/>
            <a:ext cx="1944720" cy="2484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be_broke.jpg"/>
          <p:cNvPicPr/>
          <p:nvPr/>
        </p:nvPicPr>
        <p:blipFill>
          <a:blip r:embed="rId4"/>
          <a:stretch/>
        </p:blipFill>
        <p:spPr>
          <a:xfrm>
            <a:off x="539640" y="2708280"/>
            <a:ext cx="1743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93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 Activity Boo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sixthsense.ru/articles/?PAGEN 1=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maru-english.ru/forum/26-1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volosovo-city.ru/2009/09/15/sbornik-reshebnikov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оф-10-11-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lass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20:36:15Z</dcterms:created>
  <dc:creator>UserXP</dc:creator>
  <dc:description/>
  <dc:language>en-US</dc:language>
  <cp:lastModifiedBy>UserXP</cp:lastModifiedBy>
  <dcterms:modified xsi:type="dcterms:W3CDTF">2012-02-16T19:11:54Z</dcterms:modified>
  <cp:revision>41</cp:revision>
  <dc:subject/>
  <dc:title>Слайд 1</dc:title>
</cp:coreProperties>
</file>