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888-6F8B-476B-BE73-F3C99369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578-7D33-4E1D-9959-A7171649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F00-FD5A-46E6-81AE-304F0525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8C3-641D-46BB-B50E-7D0EF799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0736-BAE5-4487-AE4B-ABCE0DCD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59CE-B8C7-456A-B5F3-5C064EB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377-CCCF-4DCE-AB4C-E06C177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A589-2A73-4D38-A40C-09AFCC4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8D98-579F-411E-A7C3-0C7D316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A652-A3DA-4B23-B252-45DD36F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E716-412B-4205-BC24-DF80404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0C1-03D0-4047-9CF4-1C1192A5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98E-BDF2-423F-A673-23C8180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CACE-9637-4B2D-B084-E5E909E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DD1-0426-449C-80A0-B3C41C26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E77-A2E2-4E8C-AF8A-43520A33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8AF-8DD4-4850-B7CA-D1BFEE1C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C5C6-6F2A-4B79-82D8-904D1E65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D6AF-8EA8-46ED-A628-B382F81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7D1A-F656-400D-A2D5-AFD5ADEE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CCB1-E53A-4909-8037-6BCF118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2939-ACF9-4B71-84E5-35BD372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CF8-E352-440D-8431-DF785B1C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D01B-B303-4C3D-88C6-5A3BC3B1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B13C-E692-40E0-973C-AB0E83B9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712B-56F9-460C-B0DF-8B22A5E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75C0-594D-4AA1-A302-6377AE4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2E1E-E2CB-4302-ADED-604FC770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3A84-E189-4ED6-A721-3C7B6434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365C-E01C-4BB5-9D9D-2FD12406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87E5-2699-485A-B0B5-2559895E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00EF-7157-4AF3-A046-2DE6D86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AE2D-CC96-44FA-9DE3-E400A210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C9D-24C2-4CD0-AB7C-D66321E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A220-5955-4ED6-A924-6B15246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EE50-5BD8-4083-8906-68C5FA51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656E-FFDD-4929-935F-33142F2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A171-6A60-4DA5-95E0-D3E6DE0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8938-5482-4B3A-B2C7-532972E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5271-6B7D-42C9-9906-D40441D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7A22-FE57-4692-B99D-E7770881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8DA4-DED4-4344-AB80-AE150348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CCD8-7B47-4E1C-B16B-E43F0740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E466-CDC0-41D0-87F0-394CF220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FCC-D956-4012-B609-249EF56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2717-3966-451C-9C92-D012D29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A318-6521-429A-9689-7EDA7A1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63A7-9E9E-42C3-B2CB-C50D757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80BF-1556-4707-B0B1-341EB992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72FE-2435-47B4-94B0-A75A486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CE3F-1BED-4694-8AAA-22C0866B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FAD0-D4B2-4B21-9457-3FE4A19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58BC-153A-4D27-8C96-92641CC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5FCB-0232-4F61-85AD-777D2FB9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C447-E10D-4369-8825-5ED24DF5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E88-B5A9-4762-816E-08C33AD3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5A9C-5D94-42B8-96A8-5017877A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0C2-5A81-4DA2-A789-1A30B31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BEE-EC91-45E0-AA65-70BBE19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689-485C-4900-902F-0E83BB3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26F0-4383-45C6-99C5-5F28449A02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392-D5A3-4DF7-84B2-6D891801F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D53-07BC-4780-A436-2D6B1F52F7F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375-4DD6-47E6-9333-866394B81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2A6-9E96-4648-AF55-E21818F6E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6792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0" y="58680"/>
            <a:ext cx="9296280" cy="6799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805440" y="58680"/>
            <a:ext cx="2438640" cy="11718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-125280" y="355680"/>
            <a:ext cx="96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За семью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                 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печатями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2" descr="C:\Documents and Settings\Admin\Рабочий стол\6а.jpg"/>
          <p:cNvPicPr/>
          <p:nvPr/>
        </p:nvPicPr>
        <p:blipFill>
          <a:blip r:embed="rId1"/>
          <a:stretch/>
        </p:blipFill>
        <p:spPr>
          <a:xfrm>
            <a:off x="4724280" y="533520"/>
            <a:ext cx="4214880" cy="56052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"/>
          <p:cNvSpPr/>
          <p:nvPr/>
        </p:nvSpPr>
        <p:spPr>
          <a:xfrm>
            <a:off x="0" y="46080"/>
            <a:ext cx="47242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е образ извая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екрасного гер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Что ради подданных лишив себя пок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следний принял чин, и царствуя служи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вои законы сам примером утвердил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2" descr="C:\Documents and Settings\Admin\Рабочий стол\7.jpg"/>
          <p:cNvPicPr/>
          <p:nvPr/>
        </p:nvPicPr>
        <p:blipFill>
          <a:blip r:embed="rId1"/>
          <a:stretch/>
        </p:blipFill>
        <p:spPr>
          <a:xfrm>
            <a:off x="-476280" y="0"/>
            <a:ext cx="1032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C:\Documents and Settings\Admin\Рабочий стол\8.jpeg"/>
          <p:cNvPicPr/>
          <p:nvPr/>
        </p:nvPicPr>
        <p:blipFill>
          <a:blip r:embed="rId1"/>
          <a:stretch/>
        </p:blipFill>
        <p:spPr>
          <a:xfrm>
            <a:off x="304920" y="306360"/>
            <a:ext cx="3962160" cy="476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8ы.jpg"/>
          <p:cNvPicPr/>
          <p:nvPr/>
        </p:nvPicPr>
        <p:blipFill>
          <a:blip r:embed="rId2"/>
          <a:stretch/>
        </p:blipFill>
        <p:spPr>
          <a:xfrm>
            <a:off x="5105520" y="304920"/>
            <a:ext cx="3659040" cy="46958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5678640" y="499572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533520" y="5035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это все о нё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9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циклопед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оростро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Управляющая кнопка: справка 1"/>
          <p:cNvSpPr/>
          <p:nvPr/>
        </p:nvSpPr>
        <p:spPr>
          <a:xfrm>
            <a:off x="4800600" y="1523880"/>
            <a:ext cx="3581280" cy="4267440"/>
          </a:xfrm>
          <a:custGeom>
            <a:avLst/>
            <a:gdLst>
              <a:gd name="textAreaLeft" fmla="*/ 231840 w 3581280"/>
              <a:gd name="textAreaRight" fmla="*/ 3349440 w 3581280"/>
              <a:gd name="textAreaTop" fmla="*/ 231840 h 4267440"/>
              <a:gd name="textAreaBottom" fmla="*/ 4035600 h 4267440"/>
            </a:gdLst>
            <a:ahLst/>
            <a:rect l="textAreaLeft" t="textAreaTop" r="textAreaRight" b="textAreaBottom"/>
            <a:pathLst>
              <a:path w="21600" h="25738">
                <a:moveTo>
                  <a:pt x="0" y="0"/>
                </a:moveTo>
                <a:lnTo>
                  <a:pt x="21600" y="0"/>
                </a:lnTo>
                <a:lnTo>
                  <a:pt x="21600" y="25738"/>
                </a:lnTo>
                <a:lnTo>
                  <a:pt x="0" y="25738"/>
                </a:lnTo>
                <a:close/>
              </a:path>
              <a:path fill="lightenLess" w="21600" h="25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38">
                <a:moveTo>
                  <a:pt x="21600" y="0"/>
                </a:moveTo>
                <a:lnTo>
                  <a:pt x="21600" y="25738"/>
                </a:lnTo>
                <a:lnTo>
                  <a:pt x="20200" y="24338"/>
                </a:lnTo>
                <a:lnTo>
                  <a:pt x="20200" y="1400"/>
                </a:lnTo>
                <a:close/>
              </a:path>
              <a:path fill="darkenLess" w="21600" h="25738">
                <a:moveTo>
                  <a:pt x="21600" y="25738"/>
                </a:moveTo>
                <a:lnTo>
                  <a:pt x="0" y="25738"/>
                </a:lnTo>
                <a:lnTo>
                  <a:pt x="1400" y="24338"/>
                </a:lnTo>
                <a:lnTo>
                  <a:pt x="20200" y="24338"/>
                </a:lnTo>
                <a:close/>
              </a:path>
              <a:path fill="lighten" w="21600" h="25738">
                <a:moveTo>
                  <a:pt x="0" y="25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38"/>
                </a:lnTo>
                <a:close/>
              </a:path>
              <a:path fill="darken" w="21600" h="25738">
                <a:moveTo>
                  <a:pt x="10800" y="1687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738">
                <a:moveTo>
                  <a:pt x="11905" y="16351"/>
                </a:moveTo>
                <a:lnTo>
                  <a:pt x="11905" y="14392"/>
                </a:lnTo>
                <a:cubicBezTo>
                  <a:pt x="11905" y="13565"/>
                  <a:pt x="12236" y="12869"/>
                  <a:pt x="12837" y="12869"/>
                </a:cubicBezTo>
                <a:cubicBezTo>
                  <a:pt x="13968" y="12869"/>
                  <a:pt x="14865" y="11503"/>
                  <a:pt x="14865" y="9918"/>
                </a:cubicBezTo>
                <a:cubicBezTo>
                  <a:pt x="14865" y="7603"/>
                  <a:pt x="13011" y="5863"/>
                  <a:pt x="10800" y="5863"/>
                </a:cubicBezTo>
                <a:cubicBezTo>
                  <a:pt x="8589" y="5863"/>
                  <a:pt x="6918" y="7603"/>
                  <a:pt x="6918" y="9918"/>
                </a:cubicBezTo>
                <a:lnTo>
                  <a:pt x="8772" y="9918"/>
                </a:lnTo>
                <a:cubicBezTo>
                  <a:pt x="8772" y="8778"/>
                  <a:pt x="9695" y="7891"/>
                  <a:pt x="10800" y="7891"/>
                </a:cubicBezTo>
                <a:cubicBezTo>
                  <a:pt x="11905" y="7891"/>
                  <a:pt x="12837" y="8778"/>
                  <a:pt x="12837" y="9918"/>
                </a:cubicBezTo>
                <a:cubicBezTo>
                  <a:pt x="12837" y="10658"/>
                  <a:pt x="12367" y="11389"/>
                  <a:pt x="11905" y="11389"/>
                </a:cubicBezTo>
                <a:cubicBezTo>
                  <a:pt x="10800" y="11389"/>
                  <a:pt x="9695" y="12869"/>
                  <a:pt x="9695" y="14392"/>
                </a:cubicBezTo>
                <a:lnTo>
                  <a:pt x="9695" y="16351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nu_virgos_-_gaudeamus.mp3" descr=""/>
          <p:cNvPicPr/>
          <p:nvPr/>
        </p:nvPicPr>
        <p:blipFill>
          <a:blip r:embed="rId1"/>
          <a:stretch/>
        </p:blipFill>
        <p:spPr>
          <a:xfrm>
            <a:off x="8077320" y="573876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0992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0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1755 по инициативе нашего героя и по его проекту был основан Московский университет, «открытый для всех лиц, способных к наукам», а не только для дворян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489800" cy="406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46440" y="93996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Ломоносов был великим человеком. Он создал первый университ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лучше сказать, сам был первым нашим университетом».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С.Пушк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5" descr="1233594658_lomonosov"/>
          <p:cNvPicPr/>
          <p:nvPr/>
        </p:nvPicPr>
        <p:blipFill>
          <a:blip r:embed="rId1"/>
          <a:stretch/>
        </p:blipFill>
        <p:spPr>
          <a:xfrm>
            <a:off x="685800" y="914400"/>
            <a:ext cx="36003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419360" y="228240"/>
            <a:ext cx="4724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велико его значен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верный русскому у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оевал нам Просвещень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ас поработил ем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от борец ветхозаве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с силой незем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олся до звезды рассвет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стоял в борьбе но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.И. Тютч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5200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390840" y="20520"/>
            <a:ext cx="5753160" cy="69026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"/>
          <p:cNvSpPr/>
          <p:nvPr/>
        </p:nvSpPr>
        <p:spPr>
          <a:xfrm>
            <a:off x="0" y="1828800"/>
            <a:ext cx="339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ихаил Васильевич Ломоно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 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вы, которых ожид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чество из недр сво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идеть таковых жела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х зовёт от стран чужи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ваши дни благословен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зайте ныне одобрен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ченьем вашим показ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жет собственных Пла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быстрых разумом Нев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ая земля рожда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В. 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-1082520" y="-81000"/>
            <a:ext cx="10658160" cy="693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C:\Documents and Settings\Admin\Рабочий стол\2а.jpeg"/>
          <p:cNvPicPr/>
          <p:nvPr/>
        </p:nvPicPr>
        <p:blipFill>
          <a:blip r:embed="rId2"/>
          <a:stretch/>
        </p:blipFill>
        <p:spPr>
          <a:xfrm>
            <a:off x="-957240" y="1312920"/>
            <a:ext cx="7942320" cy="5519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"/>
          <p:cNvPicPr/>
          <p:nvPr/>
        </p:nvPicPr>
        <p:blipFill>
          <a:blip r:embed="rId3"/>
          <a:stretch/>
        </p:blipFill>
        <p:spPr>
          <a:xfrm>
            <a:off x="5308560" y="-152280"/>
            <a:ext cx="4267080" cy="3335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C:\Documents and Settings\Admin\Рабочий стол\2м.jpg"/>
          <p:cNvPicPr/>
          <p:nvPr/>
        </p:nvPicPr>
        <p:blipFill>
          <a:blip r:embed="rId4"/>
          <a:stretch/>
        </p:blipFill>
        <p:spPr>
          <a:xfrm>
            <a:off x="-1082520" y="-208080"/>
            <a:ext cx="7086600" cy="394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:\Documents and Settings\Admin\Рабочий стол\2ц.jpg"/>
          <p:cNvPicPr/>
          <p:nvPr/>
        </p:nvPicPr>
        <p:blipFill>
          <a:blip r:embed="rId5"/>
          <a:stretch/>
        </p:blipFill>
        <p:spPr>
          <a:xfrm>
            <a:off x="5334120" y="1214280"/>
            <a:ext cx="4268520" cy="5761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"/>
          <p:cNvSpPr/>
          <p:nvPr/>
        </p:nvSpPr>
        <p:spPr>
          <a:xfrm>
            <a:off x="25560" y="263520"/>
            <a:ext cx="8584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Times New Roman"/>
              </a:rPr>
              <a:t>18 век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Picture 8" descr="C:\Documents and Settings\Admin\Рабочий стол\EpoxaDvorPerevorotov.jpg"/>
          <p:cNvPicPr/>
          <p:nvPr/>
        </p:nvPicPr>
        <p:blipFill>
          <a:blip r:embed="rId6"/>
          <a:stretch/>
        </p:blipFill>
        <p:spPr>
          <a:xfrm>
            <a:off x="-85680" y="3692520"/>
            <a:ext cx="541980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Admin\Рабочий стол\0_25938_a0dbca9e_XL.jpeg"/>
          <p:cNvPicPr/>
          <p:nvPr/>
        </p:nvPicPr>
        <p:blipFill>
          <a:blip r:embed="rId1"/>
          <a:stretch/>
        </p:blipFill>
        <p:spPr>
          <a:xfrm>
            <a:off x="4187880" y="3192480"/>
            <a:ext cx="5337000" cy="3633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2" descr="C:\Documents and Settings\Admin\Рабочий стол\Kremlinroad.jpg"/>
          <p:cNvPicPr/>
          <p:nvPr/>
        </p:nvPicPr>
        <p:blipFill>
          <a:blip r:embed="rId2"/>
          <a:stretch/>
        </p:blipFill>
        <p:spPr>
          <a:xfrm>
            <a:off x="0" y="3200400"/>
            <a:ext cx="4835520" cy="3633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:\Documents and Settings\Admin\Рабочий стол\moskovsky-kreml.jpg"/>
          <p:cNvPicPr/>
          <p:nvPr/>
        </p:nvPicPr>
        <p:blipFill>
          <a:blip r:embed="rId3"/>
          <a:stretch/>
        </p:blipFill>
        <p:spPr>
          <a:xfrm>
            <a:off x="0" y="0"/>
            <a:ext cx="4835520" cy="3224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"/>
          <p:cNvPicPr/>
          <p:nvPr/>
        </p:nvPicPr>
        <p:blipFill>
          <a:blip r:embed="rId4"/>
          <a:stretch/>
        </p:blipFill>
        <p:spPr>
          <a:xfrm>
            <a:off x="4835520" y="-12600"/>
            <a:ext cx="466884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1676520" y="39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ть  в    Москв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6" descr="путь в москву"/>
          <p:cNvPicPr/>
          <p:nvPr/>
        </p:nvPicPr>
        <p:blipFill>
          <a:blip r:embed="rId1"/>
          <a:stretch/>
        </p:blipFill>
        <p:spPr>
          <a:xfrm>
            <a:off x="304920" y="914400"/>
            <a:ext cx="4103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5" name="Прямоугольник 9"/>
          <p:cNvSpPr/>
          <p:nvPr/>
        </p:nvSpPr>
        <p:spPr>
          <a:xfrm>
            <a:off x="167760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олмого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10"/>
          <p:cNvSpPr/>
          <p:nvPr/>
        </p:nvSpPr>
        <p:spPr>
          <a:xfrm>
            <a:off x="537480" y="617220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10"/>
          <p:cNvSpPr/>
          <p:nvPr/>
        </p:nvSpPr>
        <p:spPr>
          <a:xfrm rot="21102000">
            <a:off x="2998800" y="2939760"/>
            <a:ext cx="649440" cy="431640"/>
          </a:xfrm>
          <a:prstGeom prst="leftArrow">
            <a:avLst>
              <a:gd name="adj1" fmla="val 50000"/>
              <a:gd name="adj2" fmla="val 376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Прямоугольник 13"/>
          <p:cNvSpPr/>
          <p:nvPr/>
        </p:nvSpPr>
        <p:spPr>
          <a:xfrm>
            <a:off x="4668840" y="1042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Сын крестьянина-помора из деревни Денисовка, что около Холмогор  под Архангельском в устье северной Двины, он в 19 лет отправился пешком в Москву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5275440" y="3351240"/>
            <a:ext cx="33588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64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6" descr="Рисунок1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46084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2"/>
          <p:cNvSpPr/>
          <p:nvPr/>
        </p:nvSpPr>
        <p:spPr>
          <a:xfrm>
            <a:off x="304920" y="609480"/>
            <a:ext cx="4419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1730 году  наш герой поступи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Славяно-греко-латинскую академию в Москве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де он не только приобрёл вкус к научным занятиям, но изучил латинский язык, ознакомился с тогдашними науками и учебными дисципли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-127080" y="-380880"/>
            <a:ext cx="9425160" cy="72388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2"/>
          <p:cNvSpPr/>
          <p:nvPr/>
        </p:nvSpPr>
        <p:spPr>
          <a:xfrm>
            <a:off x="-101520" y="5791320"/>
            <a:ext cx="95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ОРМАНСКАЯ ТЕОР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Picture 2" descr="C:\Documents and Settings\Admin\Рабочий стол\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1650960" y="3689280"/>
            <a:ext cx="7924680" cy="49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Царей и царств земных отрада  возлюбленная тишина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Блаженство сел, градов ограда, коль ты полезна и красна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2" descr="C:\Documents and Settings\Admin\Рабочий стол\elisaveta13.jpg"/>
          <p:cNvPicPr/>
          <p:nvPr/>
        </p:nvPicPr>
        <p:blipFill>
          <a:blip r:embed="rId1"/>
          <a:stretch/>
        </p:blipFill>
        <p:spPr>
          <a:xfrm>
            <a:off x="-4680" y="14400"/>
            <a:ext cx="9758160" cy="72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4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-642960" y="0"/>
            <a:ext cx="100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48Z</dcterms:created>
  <dc:creator/>
  <dc:description/>
  <cp:keywords/>
  <dc:language>en-US</dc:language>
  <cp:lastModifiedBy>ПК</cp:lastModifiedBy>
  <dcterms:modified xsi:type="dcterms:W3CDTF">2012-03-29T20:52:5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40000000000010243100207f6000400038000</vt:lpwstr>
  </property>
  <property fmtid="{D5CDD505-2E9C-101B-9397-08002B2CF9AE}" pid="3" name="_TemplateID">
    <vt:lpwstr>TC010690591049</vt:lpwstr>
  </property>
</Properties>
</file>