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98D-E8F7-46F9-A1AF-DBA9ABC2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1E0-E282-4DB3-B8C5-850C65C2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BF4-3B4E-4497-87FC-93F11DEA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5FF-36A1-4581-B546-3820CB4C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A2A1-0724-4363-99AE-C8F2ECFA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D82A-D1A4-431F-A0CF-AC0082B9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DB7A-7744-4FBE-930F-FCB2BFCB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0E47-26BE-4500-BE38-4CF707BB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B67D-52AA-454D-B1A7-6B7FD31A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A6E2-CF27-4CFF-B808-1937A707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E325-64B5-4DF7-A8FD-6DD0D5A9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3E2-04C3-417E-8056-2096BDF3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9B13-E7F2-41DF-A28D-DA866ED5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1AEF-4297-4724-8543-49699E1F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137A-3BE5-49DF-9FCE-2A8A8384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0E03-5AE1-4D0C-AE03-5EB664DE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37F4-E5C9-4D6B-AB53-CBB64F58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CDEF-8714-4684-B8A9-B9E1ED00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3EC7-F574-463F-9E96-14CC2979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84E22-BD2F-4A0B-9400-20B29929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697CC-9338-432B-B07C-6B7102CA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F269-893E-4261-A052-354F72A6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118-A72B-48F3-AE89-46D32000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DEEF8-1AA9-4006-AF4F-48BC30C4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1CD3-C797-4263-ADA8-9E43DFCF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83DD-C985-432F-BBCD-F074596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B4E89-643C-4790-86E9-8C36D294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2B2C-68AB-4726-8724-83CD21DD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AF77F-2529-4D61-94BD-A8CF6BCE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DEAC4-51A6-4D47-8957-CD128173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81205-0F61-482A-B232-BC3175E6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0FE8-BDE8-4AC3-96A7-8AAC4763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68DAA-3B44-4621-8608-79BBE8DF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340-4845-4AA3-815C-A07F3DEB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8F48C-39B5-44A6-AD84-DB1A62D8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81AB-5562-47F4-BCB8-513D7844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98B9F-7874-4954-8CD1-7B4FC533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8F4C-0E49-4150-840C-FC45CBB9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BC9D6-69D4-4596-B283-F0B0A932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045F1-CA84-4874-AFB4-6944371F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DFDC9-B316-4B56-B0B4-E688FE6C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25C5-AE53-4589-9197-E56F3F0B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490B3-FC45-4D3D-AE30-349BEC28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FA803-F183-4F6C-98D2-C93081D6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6FA-E6C1-42D5-9719-DE08FD67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392AE-C2DF-49E1-A2E1-0E15FCF6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555E8-8799-48FC-9E89-81D0673C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163B5-57F9-4C43-A97C-D74C3FCB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8E687-99EE-4499-B3EF-FDA37161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1A1D8-A015-4F28-8212-B38B2FF1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AAD05-C705-4B37-B074-8CCC425D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991E4-B998-46F0-906C-D18AA56B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314F-D106-4CFC-BE99-8DF140C7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BA5E7-A7D2-4D7C-90B8-CD5E4538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04F10-68D5-48B0-8314-0AEF7D62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5DC-4F98-4FD9-BDD5-76CF73C5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DA9AD-3BEC-4300-A6A8-7E9A6854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6A8-C091-41F8-A8EF-70637F6C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24A-6C89-4485-8932-58620C2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1EA-CCE0-4876-871D-7E20CC61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6F71-6C95-420F-AB61-29C86B01D1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03B4-49F4-4E64-B34B-0832BD486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84A0-52D6-4791-B432-BB09BA72A97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5686-3BD3-456E-AD56-1B4C19254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444A-36BA-4D68-ADEA-C021AAC71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6792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0" y="58680"/>
            <a:ext cx="9296280" cy="67993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6805440" y="58680"/>
            <a:ext cx="2438640" cy="1171800"/>
          </a:xfrm>
          <a:prstGeom prst="rect">
            <a:avLst/>
          </a:prstGeom>
          <a:ln w="0">
            <a:noFill/>
          </a:ln>
        </p:spPr>
      </p:pic>
      <p:sp>
        <p:nvSpPr>
          <p:cNvPr id="510" name="TextBox 3"/>
          <p:cNvSpPr/>
          <p:nvPr/>
        </p:nvSpPr>
        <p:spPr>
          <a:xfrm>
            <a:off x="-125280" y="355680"/>
            <a:ext cx="96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c006e"/>
                </a:solidFill>
                <a:latin typeface="Times New Roman"/>
              </a:rPr>
              <a:t>   </a:t>
            </a:r>
            <a:r>
              <a:rPr b="1" lang="ru-RU" sz="7200" spc="-1" strike="noStrike">
                <a:solidFill>
                  <a:srgbClr val="1c006e"/>
                </a:solidFill>
                <a:latin typeface="Times New Roman"/>
              </a:rPr>
              <a:t>За семью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c006e"/>
                </a:solidFill>
                <a:latin typeface="Times New Roman"/>
              </a:rPr>
              <a:t>                       </a:t>
            </a:r>
            <a:r>
              <a:rPr b="1" lang="ru-RU" sz="7200" spc="-1" strike="noStrike">
                <a:solidFill>
                  <a:srgbClr val="1c006e"/>
                </a:solidFill>
                <a:latin typeface="Times New Roman"/>
              </a:rPr>
              <a:t>печатями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3" name="Picture 2" descr="C:\Documents and Settings\Admin\Рабочий стол\6а.jpg"/>
          <p:cNvPicPr/>
          <p:nvPr/>
        </p:nvPicPr>
        <p:blipFill>
          <a:blip r:embed="rId1"/>
          <a:stretch/>
        </p:blipFill>
        <p:spPr>
          <a:xfrm>
            <a:off x="4724280" y="533520"/>
            <a:ext cx="4214880" cy="5605200"/>
          </a:xfrm>
          <a:prstGeom prst="rect">
            <a:avLst/>
          </a:prstGeom>
          <a:ln w="0">
            <a:noFill/>
          </a:ln>
        </p:spPr>
      </p:pic>
      <p:sp>
        <p:nvSpPr>
          <p:cNvPr id="544" name="TextBox 1"/>
          <p:cNvSpPr/>
          <p:nvPr/>
        </p:nvSpPr>
        <p:spPr>
          <a:xfrm>
            <a:off x="0" y="46080"/>
            <a:ext cx="47242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Се образ изваян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екрасного геро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Что ради подданных лишив себя поко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оследний принял чин, и царствуя служи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Свои законы сам примером утвердил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2" descr="C:\Documents and Settings\Admin\Рабочий стол\7.jpg"/>
          <p:cNvPicPr/>
          <p:nvPr/>
        </p:nvPicPr>
        <p:blipFill>
          <a:blip r:embed="rId1"/>
          <a:stretch/>
        </p:blipFill>
        <p:spPr>
          <a:xfrm>
            <a:off x="-476280" y="0"/>
            <a:ext cx="10328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3" descr="C:\Documents and Settings\Admin\Рабочий стол\8.jpeg"/>
          <p:cNvPicPr/>
          <p:nvPr/>
        </p:nvPicPr>
        <p:blipFill>
          <a:blip r:embed="rId1"/>
          <a:stretch/>
        </p:blipFill>
        <p:spPr>
          <a:xfrm>
            <a:off x="304920" y="306360"/>
            <a:ext cx="3962160" cy="4762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C:\Documents and Settings\Admin\Рабочий стол\8ы.jpg"/>
          <p:cNvPicPr/>
          <p:nvPr/>
        </p:nvPicPr>
        <p:blipFill>
          <a:blip r:embed="rId2"/>
          <a:stretch/>
        </p:blipFill>
        <p:spPr>
          <a:xfrm>
            <a:off x="5105520" y="304920"/>
            <a:ext cx="3659040" cy="4695840"/>
          </a:xfrm>
          <a:prstGeom prst="rect">
            <a:avLst/>
          </a:prstGeom>
          <a:ln w="0">
            <a:noFill/>
          </a:ln>
        </p:spPr>
      </p:pic>
      <p:sp>
        <p:nvSpPr>
          <p:cNvPr id="549" name="TextBox 4"/>
          <p:cNvSpPr/>
          <p:nvPr/>
        </p:nvSpPr>
        <p:spPr>
          <a:xfrm>
            <a:off x="5678640" y="499572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ихаил Юрьевич Лермон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Box 5"/>
          <p:cNvSpPr/>
          <p:nvPr/>
        </p:nvSpPr>
        <p:spPr>
          <a:xfrm>
            <a:off x="533520" y="503568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это все о нём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95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гра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ллур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л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рон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нциклопеди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оростро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Управляющая кнопка: справка 1"/>
          <p:cNvSpPr/>
          <p:nvPr/>
        </p:nvSpPr>
        <p:spPr>
          <a:xfrm>
            <a:off x="4800600" y="1523880"/>
            <a:ext cx="3581280" cy="4267440"/>
          </a:xfrm>
          <a:custGeom>
            <a:avLst/>
            <a:gdLst>
              <a:gd name="textAreaLeft" fmla="*/ 231840 w 3581280"/>
              <a:gd name="textAreaRight" fmla="*/ 3349440 w 3581280"/>
              <a:gd name="textAreaTop" fmla="*/ 231840 h 4267440"/>
              <a:gd name="textAreaBottom" fmla="*/ 4035600 h 4267440"/>
            </a:gdLst>
            <a:ahLst/>
            <a:rect l="textAreaLeft" t="textAreaTop" r="textAreaRight" b="textAreaBottom"/>
            <a:pathLst>
              <a:path w="21600" h="25738">
                <a:moveTo>
                  <a:pt x="0" y="0"/>
                </a:moveTo>
                <a:lnTo>
                  <a:pt x="21600" y="0"/>
                </a:lnTo>
                <a:lnTo>
                  <a:pt x="21600" y="25738"/>
                </a:lnTo>
                <a:lnTo>
                  <a:pt x="0" y="25738"/>
                </a:lnTo>
                <a:close/>
              </a:path>
              <a:path fill="lightenLess" w="21600" h="257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38">
                <a:moveTo>
                  <a:pt x="21600" y="0"/>
                </a:moveTo>
                <a:lnTo>
                  <a:pt x="21600" y="25738"/>
                </a:lnTo>
                <a:lnTo>
                  <a:pt x="20200" y="24338"/>
                </a:lnTo>
                <a:lnTo>
                  <a:pt x="20200" y="1400"/>
                </a:lnTo>
                <a:close/>
              </a:path>
              <a:path fill="darkenLess" w="21600" h="25738">
                <a:moveTo>
                  <a:pt x="21600" y="25738"/>
                </a:moveTo>
                <a:lnTo>
                  <a:pt x="0" y="25738"/>
                </a:lnTo>
                <a:lnTo>
                  <a:pt x="1400" y="24338"/>
                </a:lnTo>
                <a:lnTo>
                  <a:pt x="20200" y="24338"/>
                </a:lnTo>
                <a:close/>
              </a:path>
              <a:path fill="lighten" w="21600" h="25738">
                <a:moveTo>
                  <a:pt x="0" y="257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38"/>
                </a:lnTo>
                <a:close/>
              </a:path>
              <a:path fill="darken" w="21600" h="25738">
                <a:moveTo>
                  <a:pt x="10800" y="1687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738">
                <a:moveTo>
                  <a:pt x="11905" y="16351"/>
                </a:moveTo>
                <a:lnTo>
                  <a:pt x="11905" y="14392"/>
                </a:lnTo>
                <a:cubicBezTo>
                  <a:pt x="11905" y="13565"/>
                  <a:pt x="12236" y="12869"/>
                  <a:pt x="12837" y="12869"/>
                </a:cubicBezTo>
                <a:cubicBezTo>
                  <a:pt x="13968" y="12869"/>
                  <a:pt x="14865" y="11503"/>
                  <a:pt x="14865" y="9918"/>
                </a:cubicBezTo>
                <a:cubicBezTo>
                  <a:pt x="14865" y="7603"/>
                  <a:pt x="13011" y="5863"/>
                  <a:pt x="10800" y="5863"/>
                </a:cubicBezTo>
                <a:cubicBezTo>
                  <a:pt x="8589" y="5863"/>
                  <a:pt x="6918" y="7603"/>
                  <a:pt x="6918" y="9918"/>
                </a:cubicBezTo>
                <a:lnTo>
                  <a:pt x="8772" y="9918"/>
                </a:lnTo>
                <a:cubicBezTo>
                  <a:pt x="8772" y="8778"/>
                  <a:pt x="9695" y="7891"/>
                  <a:pt x="10800" y="7891"/>
                </a:cubicBezTo>
                <a:cubicBezTo>
                  <a:pt x="11905" y="7891"/>
                  <a:pt x="12837" y="8778"/>
                  <a:pt x="12837" y="9918"/>
                </a:cubicBezTo>
                <a:cubicBezTo>
                  <a:pt x="12837" y="10658"/>
                  <a:pt x="12367" y="11389"/>
                  <a:pt x="11905" y="11389"/>
                </a:cubicBezTo>
                <a:cubicBezTo>
                  <a:pt x="10800" y="11389"/>
                  <a:pt x="9695" y="12869"/>
                  <a:pt x="9695" y="14392"/>
                </a:cubicBezTo>
                <a:lnTo>
                  <a:pt x="9695" y="16351"/>
                </a:lnTo>
                <a:close/>
              </a:path>
            </a:pathLst>
          </a:custGeom>
          <a:solidFill>
            <a:srgbClr val="9966ff"/>
          </a:solidFill>
          <a:ln w="25560">
            <a:solidFill>
              <a:srgbClr val="6f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4" name="nu_virgos_-_gaudeamus.mp3" descr=""/>
          <p:cNvPicPr/>
          <p:nvPr/>
        </p:nvPicPr>
        <p:blipFill>
          <a:blip r:embed="rId1"/>
          <a:stretch/>
        </p:blipFill>
        <p:spPr>
          <a:xfrm>
            <a:off x="8077320" y="5738760"/>
            <a:ext cx="890640" cy="89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00992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03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1755 по инициативе нашего героя и по его проекту был основан Московский университет, «открытый для всех лиц, способных к наукам», а не только для дворян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7489800" cy="406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46440" y="93996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Ломоносов был великим человеком. Он создал первый университет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, лучше сказать, сам был первым нашим университетом».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С.Пушки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Picture 5" descr="1233594658_lomonosov"/>
          <p:cNvPicPr/>
          <p:nvPr/>
        </p:nvPicPr>
        <p:blipFill>
          <a:blip r:embed="rId1"/>
          <a:stretch/>
        </p:blipFill>
        <p:spPr>
          <a:xfrm>
            <a:off x="685800" y="914400"/>
            <a:ext cx="36003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419360" y="228240"/>
            <a:ext cx="47242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велико его значен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, верный русскому ум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оевал нам Просвещень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нас поработил ем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тот борец ветхозавет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й с силой незем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ролся до звезды рассвет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стоял в борьбе ноч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.И. Тютч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Picture 9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810240" cy="5200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3390840" y="20520"/>
            <a:ext cx="5753160" cy="69026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1"/>
          <p:cNvSpPr/>
          <p:nvPr/>
        </p:nvSpPr>
        <p:spPr>
          <a:xfrm>
            <a:off x="0" y="1828800"/>
            <a:ext cx="3390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ихаил Васильевич Ломонос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00 л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вы, которых ожид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чество из недр сво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идеть таковых жела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х зовёт от стран чужих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, ваши дни благословен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зайте ныне одобрен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ченьем вашим показ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может собственных Плато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быстрых разумом Невто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ая земля рожда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 В. Ломон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-1082520" y="-81000"/>
            <a:ext cx="10658160" cy="6939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C:\Documents and Settings\Admin\Рабочий стол\2а.jpeg"/>
          <p:cNvPicPr/>
          <p:nvPr/>
        </p:nvPicPr>
        <p:blipFill>
          <a:blip r:embed="rId2"/>
          <a:stretch/>
        </p:blipFill>
        <p:spPr>
          <a:xfrm>
            <a:off x="-957240" y="1312920"/>
            <a:ext cx="7942320" cy="55195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"/>
          <p:cNvPicPr/>
          <p:nvPr/>
        </p:nvPicPr>
        <p:blipFill>
          <a:blip r:embed="rId3"/>
          <a:stretch/>
        </p:blipFill>
        <p:spPr>
          <a:xfrm>
            <a:off x="5308560" y="-152280"/>
            <a:ext cx="4267080" cy="33350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C:\Documents and Settings\Admin\Рабочий стол\2м.jpg"/>
          <p:cNvPicPr/>
          <p:nvPr/>
        </p:nvPicPr>
        <p:blipFill>
          <a:blip r:embed="rId4"/>
          <a:stretch/>
        </p:blipFill>
        <p:spPr>
          <a:xfrm>
            <a:off x="-1082520" y="-208080"/>
            <a:ext cx="7086600" cy="3942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C:\Documents and Settings\Admin\Рабочий стол\2ц.jpg"/>
          <p:cNvPicPr/>
          <p:nvPr/>
        </p:nvPicPr>
        <p:blipFill>
          <a:blip r:embed="rId5"/>
          <a:stretch/>
        </p:blipFill>
        <p:spPr>
          <a:xfrm>
            <a:off x="5334120" y="1214280"/>
            <a:ext cx="4268520" cy="57610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2"/>
          <p:cNvSpPr/>
          <p:nvPr/>
        </p:nvSpPr>
        <p:spPr>
          <a:xfrm>
            <a:off x="25560" y="263520"/>
            <a:ext cx="8584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0000"/>
                </a:solidFill>
                <a:latin typeface="Times New Roman"/>
              </a:rPr>
              <a:t>18 век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7" name="Picture 8" descr="C:\Documents and Settings\Admin\Рабочий стол\EpoxaDvorPerevorotov.jpg"/>
          <p:cNvPicPr/>
          <p:nvPr/>
        </p:nvPicPr>
        <p:blipFill>
          <a:blip r:embed="rId6"/>
          <a:stretch/>
        </p:blipFill>
        <p:spPr>
          <a:xfrm>
            <a:off x="-85680" y="3692520"/>
            <a:ext cx="541980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C:\Documents and Settings\Admin\Рабочий стол\0_25938_a0dbca9e_XL.jpeg"/>
          <p:cNvPicPr/>
          <p:nvPr/>
        </p:nvPicPr>
        <p:blipFill>
          <a:blip r:embed="rId1"/>
          <a:stretch/>
        </p:blipFill>
        <p:spPr>
          <a:xfrm>
            <a:off x="4187880" y="3192480"/>
            <a:ext cx="5337000" cy="36338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441936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Picture 2" descr="C:\Documents and Settings\Admin\Рабочий стол\Kremlinroad.jpg"/>
          <p:cNvPicPr/>
          <p:nvPr/>
        </p:nvPicPr>
        <p:blipFill>
          <a:blip r:embed="rId2"/>
          <a:stretch/>
        </p:blipFill>
        <p:spPr>
          <a:xfrm>
            <a:off x="0" y="3200400"/>
            <a:ext cx="4835520" cy="36338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C:\Documents and Settings\Admin\Рабочий стол\moskovsky-kreml.jpg"/>
          <p:cNvPicPr/>
          <p:nvPr/>
        </p:nvPicPr>
        <p:blipFill>
          <a:blip r:embed="rId3"/>
          <a:stretch/>
        </p:blipFill>
        <p:spPr>
          <a:xfrm>
            <a:off x="0" y="0"/>
            <a:ext cx="4835520" cy="32241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"/>
          <p:cNvPicPr/>
          <p:nvPr/>
        </p:nvPicPr>
        <p:blipFill>
          <a:blip r:embed="rId4"/>
          <a:stretch/>
        </p:blipFill>
        <p:spPr>
          <a:xfrm>
            <a:off x="4835520" y="-12600"/>
            <a:ext cx="466884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5"/>
          <p:cNvSpPr/>
          <p:nvPr/>
        </p:nvSpPr>
        <p:spPr>
          <a:xfrm>
            <a:off x="1676520" y="396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ть  в    Москв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icture 6" descr="путь в москву"/>
          <p:cNvPicPr/>
          <p:nvPr/>
        </p:nvPicPr>
        <p:blipFill>
          <a:blip r:embed="rId1"/>
          <a:stretch/>
        </p:blipFill>
        <p:spPr>
          <a:xfrm>
            <a:off x="304920" y="914400"/>
            <a:ext cx="4103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5" name="Прямоугольник 9"/>
          <p:cNvSpPr/>
          <p:nvPr/>
        </p:nvSpPr>
        <p:spPr>
          <a:xfrm>
            <a:off x="1677600" y="281952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олмогор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Прямоугольник 10"/>
          <p:cNvSpPr/>
          <p:nvPr/>
        </p:nvSpPr>
        <p:spPr>
          <a:xfrm>
            <a:off x="537480" y="617220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оск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AutoShape 10"/>
          <p:cNvSpPr/>
          <p:nvPr/>
        </p:nvSpPr>
        <p:spPr>
          <a:xfrm rot="21102000">
            <a:off x="2998800" y="2939760"/>
            <a:ext cx="649440" cy="431640"/>
          </a:xfrm>
          <a:prstGeom prst="leftArrow">
            <a:avLst>
              <a:gd name="adj1" fmla="val 50000"/>
              <a:gd name="adj2" fmla="val 3761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Прямоугольник 13"/>
          <p:cNvSpPr/>
          <p:nvPr/>
        </p:nvSpPr>
        <p:spPr>
          <a:xfrm>
            <a:off x="4668840" y="10429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05cb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</a:rPr>
              <a:t>Сын крестьянина-помора из деревни Денисовка, что около Холмогор  под Архангельском в устье северной Двины, он в 19 лет отправился пешком в Москву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2"/>
          <a:stretch/>
        </p:blipFill>
        <p:spPr>
          <a:xfrm>
            <a:off x="5275440" y="3351240"/>
            <a:ext cx="335880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6 0.037 C -0.04184 0.05596 -0.04341 0.06335 -0.03664 0.077 C -0.03612 0.07908 -0.03629 0.08185 -0.03507 0.08347 C -0.03386 0.08509 -0.03178 0.08439 -0.03021 0.08555 C -0.02691 0.08786 -0.02396 0.0911 -0.02084 0.09387 C -0.01806 0.09642 -0.01615 0.10104 -0.01441 0.10451 C -0.01146 0.11676 -0.01112 0.12994 -0.00973 0.14266 C -0.01094 0.1778 -0.00348 0.18844 -0.02553 0.1933 C -0.03212 0.1963 -0.03612 0.20301 -0.04306 0.20601 C -0.04896 0.21133 -0.0533 0.21711 -0.0573 0.22497 C -0.05921 0.2326 -0.0632 0.25734 -0.06841 0.26312 C -0.06945 0.26428 -0.07917 0.26705 -0.07952 0.26728 C -0.08264 0.27006 -0.08594 0.27306 -0.08907 0.27584 C -0.09046 0.277 -0.08994 0.28 -0.09063 0.28208 C -0.09341 0.28948 -0.09358 0.28833 -0.09862 0.29272 C -0.10539 0.32 -0.08698 0.37642 -0.10799 0.38567 C -0.11007 0.38983 -0.11164 0.39468 -0.11441 0.39838 C -0.11598 0.40046 -0.11771 0.40231 -0.1191 0.40463 C -0.12796 0.41989 -0.12119 0.41549 -0.13021 0.41942 C -0.13681 0.42821 -0.14254 0.43885 -0.14775 0.44902 C -0.14966 0.45272 -0.15105 0.45734 -0.15417 0.45965 C -0.15816 0.46266 -0.16962 0.46359 -0.17153 0.46382 C -0.17917 0.46752 -0.18716 0.47399 -0.19219 0.48301 C -0.19445 0.48717 -0.19862 0.49572 -0.19862 0.49572 E">
                                      <p:cBhvr>
                                        <p:cTn id="64" dur="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441936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1" name="Picture 6" descr="Рисунок1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46084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2"/>
          <p:cNvSpPr/>
          <p:nvPr/>
        </p:nvSpPr>
        <p:spPr>
          <a:xfrm>
            <a:off x="304920" y="609480"/>
            <a:ext cx="4419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1730 году  наш герой поступи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Славяно-греко-латинскую академию в Москве,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де он не только приобрёл вкус к научным занятиям, но изучил латинский язык, ознакомился с тогдашними науками и учебными дисциплин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-127080" y="-380880"/>
            <a:ext cx="9425160" cy="72388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2"/>
          <p:cNvSpPr/>
          <p:nvPr/>
        </p:nvSpPr>
        <p:spPr>
          <a:xfrm>
            <a:off x="-101520" y="5791320"/>
            <a:ext cx="957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НОРМАНСКАЯ ТЕОРИ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Picture 2" descr="C:\Documents and Settings\Admin\Рабочий стол\5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"/>
          <p:cNvSpPr/>
          <p:nvPr/>
        </p:nvSpPr>
        <p:spPr>
          <a:xfrm>
            <a:off x="1650960" y="3689280"/>
            <a:ext cx="7924680" cy="49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Царей и царств земных отрада  возлюбленная тишина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Блаженство сел, градов ограда, коль ты полезна и красна!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Picture 2" descr="C:\Documents and Settings\Admin\Рабочий стол\elisaveta13.jpg"/>
          <p:cNvPicPr/>
          <p:nvPr/>
        </p:nvPicPr>
        <p:blipFill>
          <a:blip r:embed="rId1"/>
          <a:stretch/>
        </p:blipFill>
        <p:spPr>
          <a:xfrm>
            <a:off x="-4680" y="14400"/>
            <a:ext cx="9758160" cy="7286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Picture 4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-642960" y="0"/>
            <a:ext cx="10085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2:25:48Z</dcterms:created>
  <dc:creator/>
  <dc:description/>
  <cp:keywords/>
  <dc:language>en-US</dc:language>
  <cp:lastModifiedBy>ПК</cp:lastModifiedBy>
  <dcterms:modified xsi:type="dcterms:W3CDTF">2012-03-29T20:52:53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40000000000010243100207f6000400038000</vt:lpwstr>
  </property>
  <property fmtid="{D5CDD505-2E9C-101B-9397-08002B2CF9AE}" pid="3" name="_TemplateID">
    <vt:lpwstr>TC010690591049</vt:lpwstr>
  </property>
</Properties>
</file>