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221-8AAA-4FCD-A0F8-C8A0A916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6D7-0051-4E82-B8D6-DDC3B3E9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37A-916B-49F3-AA6B-5FAB502A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A8F-0BF2-4340-98C1-F0AE389F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2A39-C300-4D47-8FBB-22F44A58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61B2-5578-48A6-94E0-E0BB8841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9018-B7B8-4805-96CA-CEC37B46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D293-D06C-4060-BB4E-1F92CCFA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157C-02F8-4879-B1AD-01E1CA6E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8488-09D4-420A-B0D4-5E60B728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94D7-881A-4329-B6D1-079CF104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039-A193-40D8-BD3C-982F6271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A47D-0A7D-4F10-A15A-75B856BB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9613-8A16-4842-A0E4-98551E7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1BDD-7F21-45AD-9E5B-B37ED533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9EE3-13DC-437E-A79A-D21042EE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16E5-158A-477D-AD06-BC93F5E3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CBFC-AB69-491F-B0D7-722FB254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5522-D7FD-4C4A-8C18-944690E5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72EA-2092-4A3D-9DCD-C1D25DAD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FA05-1039-43DC-9167-1DCF2AB3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D6CC-18C5-4289-BF41-F9915DC2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C7C-33CA-499F-A7B9-823B74E0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D47F-4F45-42CB-9C22-DC667366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E43C5-DF36-4C66-BE39-6067C3CE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E1A8-CA36-4E00-98B6-683BBAC2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9252-4CD3-44B1-893D-7598DDD4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47B0-4F06-4636-B119-A5B577D1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51F7-7431-4F85-BCEF-86F9F167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E60F6-5A6F-4C1D-BADD-97896386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C8C5-446F-47CC-A45B-8B2EF794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C2A52-1053-469A-BD40-CF34001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DCD9-1937-4FB7-A4DA-872B1A88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946-0975-46A6-83E9-023E6584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7C29-F43B-4612-B7C1-D83F2F2A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43C13-5A48-4BB1-9AA8-6AD4A221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6D56-0B88-4C6D-987C-CAC2E7C3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E524-2DBC-40AD-AAAA-31C0B7E1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6E21-EF8B-4FF2-B85F-A2B18516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9941-E8E3-4552-A0F5-A021604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E9350-D84B-4E1C-B1FB-8D8B52D6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815B-10EB-4E5E-96DE-0CDF6B8C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FE0B-99BF-44B6-AFAC-E545EF3A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9624-728A-413A-81BE-516B528B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5E9-2680-4797-A79A-981E1994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EAAB-80E0-4359-9683-2D65D0B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D6902-26C0-46B0-9AA1-879E9642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04D4-B5A5-4452-8985-8800B8FB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140DF-9107-432C-9569-1A5155CB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0E7E9-4A46-498E-892A-C7E74BC4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DEF2-5FE7-4EDD-800D-26036BA4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E29AC-397B-4049-BCDD-79FA6DE5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386E-E79E-45E0-B2C9-8E99CEEA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0FA8-F378-4FA5-A4B3-A9698D41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376F-7449-48DD-98DE-6833A951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2D7-9FFF-492C-9175-D8D75E92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7F9C-2C80-421A-B27B-D781BBCD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1F0-EB0C-42B9-9AF3-3F166DF3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591-7602-4E1A-94D0-CDC197CC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CEC-B004-49A9-9E8F-4120317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B2CC-B93A-4192-B96E-854298540E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002D-A77A-4E5C-9037-CB48A62F7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246B-E07C-4ED0-9F04-38C6A4A271B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04B2-FC6B-42EC-B2E0-FDE440BBC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F8C0-A987-4854-93C1-A871539F7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36792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0" y="58680"/>
            <a:ext cx="9296280" cy="67993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6805440" y="58680"/>
            <a:ext cx="2438640" cy="1171800"/>
          </a:xfrm>
          <a:prstGeom prst="rect">
            <a:avLst/>
          </a:prstGeom>
          <a:ln w="0">
            <a:noFill/>
          </a:ln>
        </p:spPr>
      </p:pic>
      <p:sp>
        <p:nvSpPr>
          <p:cNvPr id="510" name="TextBox 3"/>
          <p:cNvSpPr/>
          <p:nvPr/>
        </p:nvSpPr>
        <p:spPr>
          <a:xfrm>
            <a:off x="-125280" y="355680"/>
            <a:ext cx="96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   </a:t>
            </a: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За семью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                       </a:t>
            </a:r>
            <a:r>
              <a:rPr b="1" lang="ru-RU" sz="7200" spc="-1" strike="noStrike">
                <a:solidFill>
                  <a:srgbClr val="1c006e"/>
                </a:solidFill>
                <a:latin typeface="Times New Roman"/>
              </a:rPr>
              <a:t>печатями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3" name="Picture 2" descr="C:\Documents and Settings\Admin\Рабочий стол\6а.jpg"/>
          <p:cNvPicPr/>
          <p:nvPr/>
        </p:nvPicPr>
        <p:blipFill>
          <a:blip r:embed="rId1"/>
          <a:stretch/>
        </p:blipFill>
        <p:spPr>
          <a:xfrm>
            <a:off x="4724280" y="533520"/>
            <a:ext cx="4214880" cy="5605200"/>
          </a:xfrm>
          <a:prstGeom prst="rect">
            <a:avLst/>
          </a:prstGeom>
          <a:ln w="0">
            <a:noFill/>
          </a:ln>
        </p:spPr>
      </p:pic>
      <p:sp>
        <p:nvSpPr>
          <p:cNvPr id="544" name="TextBox 1"/>
          <p:cNvSpPr/>
          <p:nvPr/>
        </p:nvSpPr>
        <p:spPr>
          <a:xfrm>
            <a:off x="0" y="46080"/>
            <a:ext cx="4724280" cy="9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Се образ изваян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рекрасного геро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Что ради подданных лишив себя поко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следний принял чин, и царствуя служи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Свои законы сам примером утвердил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2" descr="C:\Documents and Settings\Admin\Рабочий стол\7.jpg"/>
          <p:cNvPicPr/>
          <p:nvPr/>
        </p:nvPicPr>
        <p:blipFill>
          <a:blip r:embed="rId1"/>
          <a:stretch/>
        </p:blipFill>
        <p:spPr>
          <a:xfrm>
            <a:off x="-476280" y="0"/>
            <a:ext cx="10328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3" descr="C:\Documents and Settings\Admin\Рабочий стол\8.jpeg"/>
          <p:cNvPicPr/>
          <p:nvPr/>
        </p:nvPicPr>
        <p:blipFill>
          <a:blip r:embed="rId1"/>
          <a:stretch/>
        </p:blipFill>
        <p:spPr>
          <a:xfrm>
            <a:off x="304920" y="306360"/>
            <a:ext cx="3962160" cy="4762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C:\Documents and Settings\Admin\Рабочий стол\8ы.jpg"/>
          <p:cNvPicPr/>
          <p:nvPr/>
        </p:nvPicPr>
        <p:blipFill>
          <a:blip r:embed="rId2"/>
          <a:stretch/>
        </p:blipFill>
        <p:spPr>
          <a:xfrm>
            <a:off x="5105520" y="304920"/>
            <a:ext cx="3659040" cy="469584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"/>
          <p:cNvSpPr/>
          <p:nvPr/>
        </p:nvSpPr>
        <p:spPr>
          <a:xfrm>
            <a:off x="5678640" y="499572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хаил Юрьевич Лермон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Box 5"/>
          <p:cNvSpPr/>
          <p:nvPr/>
        </p:nvSpPr>
        <p:spPr>
          <a:xfrm>
            <a:off x="533520" y="5035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И это все о нём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95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м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ллур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л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рон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нциклопеди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оростро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Управляющая кнопка: справка 1"/>
          <p:cNvSpPr/>
          <p:nvPr/>
        </p:nvSpPr>
        <p:spPr>
          <a:xfrm>
            <a:off x="4800600" y="1523880"/>
            <a:ext cx="3581280" cy="4267440"/>
          </a:xfrm>
          <a:custGeom>
            <a:avLst/>
            <a:gdLst>
              <a:gd name="textAreaLeft" fmla="*/ 231840 w 3581280"/>
              <a:gd name="textAreaRight" fmla="*/ 3349440 w 3581280"/>
              <a:gd name="textAreaTop" fmla="*/ 231840 h 4267440"/>
              <a:gd name="textAreaBottom" fmla="*/ 4035600 h 4267440"/>
            </a:gdLst>
            <a:ahLst/>
            <a:rect l="textAreaLeft" t="textAreaTop" r="textAreaRight" b="textAreaBottom"/>
            <a:pathLst>
              <a:path w="21600" h="25738">
                <a:moveTo>
                  <a:pt x="0" y="0"/>
                </a:moveTo>
                <a:lnTo>
                  <a:pt x="21600" y="0"/>
                </a:lnTo>
                <a:lnTo>
                  <a:pt x="21600" y="25738"/>
                </a:lnTo>
                <a:lnTo>
                  <a:pt x="0" y="25738"/>
                </a:lnTo>
                <a:close/>
              </a:path>
              <a:path fill="lightenLess" w="21600" h="257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738">
                <a:moveTo>
                  <a:pt x="21600" y="0"/>
                </a:moveTo>
                <a:lnTo>
                  <a:pt x="21600" y="25738"/>
                </a:lnTo>
                <a:lnTo>
                  <a:pt x="20200" y="24338"/>
                </a:lnTo>
                <a:lnTo>
                  <a:pt x="20200" y="1400"/>
                </a:lnTo>
                <a:close/>
              </a:path>
              <a:path fill="darkenLess" w="21600" h="25738">
                <a:moveTo>
                  <a:pt x="21600" y="25738"/>
                </a:moveTo>
                <a:lnTo>
                  <a:pt x="0" y="25738"/>
                </a:lnTo>
                <a:lnTo>
                  <a:pt x="1400" y="24338"/>
                </a:lnTo>
                <a:lnTo>
                  <a:pt x="20200" y="24338"/>
                </a:lnTo>
                <a:close/>
              </a:path>
              <a:path fill="lighten" w="21600" h="25738">
                <a:moveTo>
                  <a:pt x="0" y="257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338"/>
                </a:lnTo>
                <a:close/>
              </a:path>
              <a:path fill="darken" w="21600" h="25738">
                <a:moveTo>
                  <a:pt x="10800" y="1687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738">
                <a:moveTo>
                  <a:pt x="11905" y="16351"/>
                </a:moveTo>
                <a:lnTo>
                  <a:pt x="11905" y="14392"/>
                </a:lnTo>
                <a:cubicBezTo>
                  <a:pt x="11905" y="13565"/>
                  <a:pt x="12236" y="12869"/>
                  <a:pt x="12837" y="12869"/>
                </a:cubicBezTo>
                <a:cubicBezTo>
                  <a:pt x="13968" y="12869"/>
                  <a:pt x="14865" y="11503"/>
                  <a:pt x="14865" y="9918"/>
                </a:cubicBezTo>
                <a:cubicBezTo>
                  <a:pt x="14865" y="7603"/>
                  <a:pt x="13011" y="5863"/>
                  <a:pt x="10800" y="5863"/>
                </a:cubicBezTo>
                <a:cubicBezTo>
                  <a:pt x="8589" y="5863"/>
                  <a:pt x="6918" y="7603"/>
                  <a:pt x="6918" y="9918"/>
                </a:cubicBezTo>
                <a:lnTo>
                  <a:pt x="8772" y="9918"/>
                </a:lnTo>
                <a:cubicBezTo>
                  <a:pt x="8772" y="8778"/>
                  <a:pt x="9695" y="7891"/>
                  <a:pt x="10800" y="7891"/>
                </a:cubicBezTo>
                <a:cubicBezTo>
                  <a:pt x="11905" y="7891"/>
                  <a:pt x="12837" y="8778"/>
                  <a:pt x="12837" y="9918"/>
                </a:cubicBezTo>
                <a:cubicBezTo>
                  <a:pt x="12837" y="10658"/>
                  <a:pt x="12367" y="11389"/>
                  <a:pt x="11905" y="11389"/>
                </a:cubicBezTo>
                <a:cubicBezTo>
                  <a:pt x="10800" y="11389"/>
                  <a:pt x="9695" y="12869"/>
                  <a:pt x="9695" y="14392"/>
                </a:cubicBezTo>
                <a:lnTo>
                  <a:pt x="9695" y="16351"/>
                </a:lnTo>
                <a:close/>
              </a:path>
            </a:pathLst>
          </a:custGeom>
          <a:solidFill>
            <a:srgbClr val="9966ff"/>
          </a:solidFill>
          <a:ln w="25560">
            <a:solidFill>
              <a:srgbClr val="6f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nu_virgos_-_gaudeamus.mp3" descr=""/>
          <p:cNvPicPr/>
          <p:nvPr/>
        </p:nvPicPr>
        <p:blipFill>
          <a:blip r:embed="rId1"/>
          <a:stretch/>
        </p:blipFill>
        <p:spPr>
          <a:xfrm>
            <a:off x="8077320" y="5738760"/>
            <a:ext cx="890640" cy="89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0992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03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 1755 по инициативе нашего героя и по его проекту был основан Московский университет, «открытый для всех лиц, способных к наукам», а не только для дворян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6" name="Picture 6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7489800" cy="406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46440" y="93996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Ломоносов был великим человеком. Он создал первый университет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, лучше сказать, сам был первым нашим университетом».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С.Пушки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5" descr="1233594658_lomonosov"/>
          <p:cNvPicPr/>
          <p:nvPr/>
        </p:nvPicPr>
        <p:blipFill>
          <a:blip r:embed="rId1"/>
          <a:stretch/>
        </p:blipFill>
        <p:spPr>
          <a:xfrm>
            <a:off x="685800" y="914400"/>
            <a:ext cx="36003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419360" y="228240"/>
            <a:ext cx="47242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велико его значень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, верный русскому ум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оевал нам Просвещень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нас поработил ем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тот борец ветхозавет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орый с силой незем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ролся до звезды рассвет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стоял в борьбе ноч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.И. Тютче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810240" cy="5200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3390840" y="20520"/>
            <a:ext cx="5753160" cy="69026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1"/>
          <p:cNvSpPr/>
          <p:nvPr/>
        </p:nvSpPr>
        <p:spPr>
          <a:xfrm>
            <a:off x="0" y="1828800"/>
            <a:ext cx="3390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ихаил Васильевич Ломонос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00 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вы, которых ожида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чество из недр сво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идеть таковых жела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х зовёт от стран чужи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, ваши дни благословен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зайте ныне одобрен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ченьем вашим показ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ожет собственных Плат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быстрых разумом Невто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ая земля рожда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. В. Ломонос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-1082520" y="-81000"/>
            <a:ext cx="10658160" cy="6939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C:\Documents and Settings\Admin\Рабочий стол\2а.jpeg"/>
          <p:cNvPicPr/>
          <p:nvPr/>
        </p:nvPicPr>
        <p:blipFill>
          <a:blip r:embed="rId2"/>
          <a:stretch/>
        </p:blipFill>
        <p:spPr>
          <a:xfrm>
            <a:off x="-957240" y="1312920"/>
            <a:ext cx="7942320" cy="5519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"/>
          <p:cNvPicPr/>
          <p:nvPr/>
        </p:nvPicPr>
        <p:blipFill>
          <a:blip r:embed="rId3"/>
          <a:stretch/>
        </p:blipFill>
        <p:spPr>
          <a:xfrm>
            <a:off x="5308560" y="-152280"/>
            <a:ext cx="4267080" cy="3335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C:\Documents and Settings\Admin\Рабочий стол\2м.jpg"/>
          <p:cNvPicPr/>
          <p:nvPr/>
        </p:nvPicPr>
        <p:blipFill>
          <a:blip r:embed="rId4"/>
          <a:stretch/>
        </p:blipFill>
        <p:spPr>
          <a:xfrm>
            <a:off x="-1082520" y="-208080"/>
            <a:ext cx="7086600" cy="3942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C:\Documents and Settings\Admin\Рабочий стол\2ц.jpg"/>
          <p:cNvPicPr/>
          <p:nvPr/>
        </p:nvPicPr>
        <p:blipFill>
          <a:blip r:embed="rId5"/>
          <a:stretch/>
        </p:blipFill>
        <p:spPr>
          <a:xfrm>
            <a:off x="5334120" y="1214280"/>
            <a:ext cx="4268520" cy="57610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2"/>
          <p:cNvSpPr/>
          <p:nvPr/>
        </p:nvSpPr>
        <p:spPr>
          <a:xfrm>
            <a:off x="25560" y="263520"/>
            <a:ext cx="8584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Times New Roman"/>
              </a:rPr>
              <a:t>18 век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Picture 8" descr="C:\Documents and Settings\Admin\Рабочий стол\EpoxaDvorPerevorotov.jpg"/>
          <p:cNvPicPr/>
          <p:nvPr/>
        </p:nvPicPr>
        <p:blipFill>
          <a:blip r:embed="rId6"/>
          <a:stretch/>
        </p:blipFill>
        <p:spPr>
          <a:xfrm>
            <a:off x="-85680" y="3692520"/>
            <a:ext cx="541980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C:\Documents and Settings\Admin\Рабочий стол\0_25938_a0dbca9e_XL.jpeg"/>
          <p:cNvPicPr/>
          <p:nvPr/>
        </p:nvPicPr>
        <p:blipFill>
          <a:blip r:embed="rId1"/>
          <a:stretch/>
        </p:blipFill>
        <p:spPr>
          <a:xfrm>
            <a:off x="4187880" y="3192480"/>
            <a:ext cx="5337000" cy="36338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41936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Picture 2" descr="C:\Documents and Settings\Admin\Рабочий стол\Kremlinroad.jpg"/>
          <p:cNvPicPr/>
          <p:nvPr/>
        </p:nvPicPr>
        <p:blipFill>
          <a:blip r:embed="rId2"/>
          <a:stretch/>
        </p:blipFill>
        <p:spPr>
          <a:xfrm>
            <a:off x="0" y="3200400"/>
            <a:ext cx="4835520" cy="36338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C:\Documents and Settings\Admin\Рабочий стол\moskovsky-kreml.jpg"/>
          <p:cNvPicPr/>
          <p:nvPr/>
        </p:nvPicPr>
        <p:blipFill>
          <a:blip r:embed="rId3"/>
          <a:stretch/>
        </p:blipFill>
        <p:spPr>
          <a:xfrm>
            <a:off x="0" y="0"/>
            <a:ext cx="4835520" cy="32241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"/>
          <p:cNvPicPr/>
          <p:nvPr/>
        </p:nvPicPr>
        <p:blipFill>
          <a:blip r:embed="rId4"/>
          <a:stretch/>
        </p:blipFill>
        <p:spPr>
          <a:xfrm>
            <a:off x="4835520" y="-12600"/>
            <a:ext cx="466884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5"/>
          <p:cNvSpPr/>
          <p:nvPr/>
        </p:nvSpPr>
        <p:spPr>
          <a:xfrm>
            <a:off x="1676520" y="39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ть  в    Москв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icture 6" descr="путь в москву"/>
          <p:cNvPicPr/>
          <p:nvPr/>
        </p:nvPicPr>
        <p:blipFill>
          <a:blip r:embed="rId1"/>
          <a:stretch/>
        </p:blipFill>
        <p:spPr>
          <a:xfrm>
            <a:off x="304920" y="914400"/>
            <a:ext cx="410364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5" name="Прямоугольник 9"/>
          <p:cNvSpPr/>
          <p:nvPr/>
        </p:nvSpPr>
        <p:spPr>
          <a:xfrm>
            <a:off x="1677600" y="281952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Холмогор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Прямоугольник 10"/>
          <p:cNvSpPr/>
          <p:nvPr/>
        </p:nvSpPr>
        <p:spPr>
          <a:xfrm>
            <a:off x="537480" y="617220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оск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AutoShape 10"/>
          <p:cNvSpPr/>
          <p:nvPr/>
        </p:nvSpPr>
        <p:spPr>
          <a:xfrm rot="21102000">
            <a:off x="2998800" y="2939760"/>
            <a:ext cx="649440" cy="431640"/>
          </a:xfrm>
          <a:prstGeom prst="leftArrow">
            <a:avLst>
              <a:gd name="adj1" fmla="val 50000"/>
              <a:gd name="adj2" fmla="val 3761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Прямоугольник 13"/>
          <p:cNvSpPr/>
          <p:nvPr/>
        </p:nvSpPr>
        <p:spPr>
          <a:xfrm>
            <a:off x="4668840" y="1042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305cb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1305cb"/>
                </a:solidFill>
                <a:latin typeface="Times New Roman"/>
              </a:rPr>
              <a:t>Сын крестьянина-помора из деревни Денисовка, что около Холмогор  под Архангельском в устье северной Двины, он в 19 лет отправился пешком в Москву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>
            <a:off x="5275440" y="3351240"/>
            <a:ext cx="3358800" cy="346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0.037 C -0.04184 0.05596 -0.04341 0.06335 -0.03664 0.077 C -0.03612 0.07908 -0.03629 0.08185 -0.03507 0.08347 C -0.03386 0.08509 -0.03178 0.08439 -0.03021 0.08555 C -0.02691 0.08786 -0.02396 0.0911 -0.02084 0.09387 C -0.01806 0.09642 -0.01615 0.10104 -0.01441 0.10451 C -0.01146 0.11676 -0.01112 0.12994 -0.00973 0.14266 C -0.01094 0.1778 -0.00348 0.18844 -0.02553 0.1933 C -0.03212 0.1963 -0.03612 0.20301 -0.04306 0.20601 C -0.04896 0.21133 -0.0533 0.21711 -0.0573 0.22497 C -0.05921 0.2326 -0.0632 0.25734 -0.06841 0.26312 C -0.06945 0.26428 -0.07917 0.26705 -0.07952 0.26728 C -0.08264 0.27006 -0.08594 0.27306 -0.08907 0.27584 C -0.09046 0.277 -0.08994 0.28 -0.09063 0.28208 C -0.09341 0.28948 -0.09358 0.28833 -0.09862 0.29272 C -0.10539 0.32 -0.08698 0.37642 -0.10799 0.38567 C -0.11007 0.38983 -0.11164 0.39468 -0.11441 0.39838 C -0.11598 0.40046 -0.11771 0.40231 -0.1191 0.40463 C -0.12796 0.41989 -0.12119 0.41549 -0.13021 0.41942 C -0.13681 0.42821 -0.14254 0.43885 -0.14775 0.44902 C -0.14966 0.45272 -0.15105 0.45734 -0.15417 0.45965 C -0.15816 0.46266 -0.16962 0.46359 -0.17153 0.46382 C -0.17917 0.46752 -0.18716 0.47399 -0.19219 0.48301 C -0.19445 0.48717 -0.19862 0.49572 -0.19862 0.49572 E">
                                      <p:cBhvr>
                                        <p:cTn id="64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441936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1" name="Picture 6" descr="Рисунок1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46084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2"/>
          <p:cNvSpPr/>
          <p:nvPr/>
        </p:nvSpPr>
        <p:spPr>
          <a:xfrm>
            <a:off x="304920" y="609480"/>
            <a:ext cx="4419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1730 году  наш герой поступи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Славяно-греко-латинскую академию в Москве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де он не только приобрёл вкус к научным занятиям, но изучил латинский язык, ознакомился с тогдашними науками и учебными дисципли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-127080" y="-380880"/>
            <a:ext cx="9425160" cy="72388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2"/>
          <p:cNvSpPr/>
          <p:nvPr/>
        </p:nvSpPr>
        <p:spPr>
          <a:xfrm>
            <a:off x="-101520" y="5791320"/>
            <a:ext cx="95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НОРМАНСКАЯ ТЕОРИ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Picture 2" descr="C:\Documents and Settings\Admin\Рабочий стол\5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"/>
          <p:cNvSpPr/>
          <p:nvPr/>
        </p:nvSpPr>
        <p:spPr>
          <a:xfrm>
            <a:off x="1650960" y="3689280"/>
            <a:ext cx="7924680" cy="49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Царей и царств земных отрада  возлюбленная тишина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Блаженство сел, градов ограда, коль ты полезна и красна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Picture 2" descr="C:\Documents and Settings\Admin\Рабочий стол\elisaveta13.jpg"/>
          <p:cNvPicPr/>
          <p:nvPr/>
        </p:nvPicPr>
        <p:blipFill>
          <a:blip r:embed="rId1"/>
          <a:stretch/>
        </p:blipFill>
        <p:spPr>
          <a:xfrm>
            <a:off x="-4680" y="14400"/>
            <a:ext cx="9758160" cy="7286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67920" y="304560"/>
            <a:ext cx="8394840" cy="59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4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-642960" y="0"/>
            <a:ext cx="10085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2:25:48Z</dcterms:created>
  <dc:creator/>
  <dc:description/>
  <cp:keywords/>
  <dc:language>en-US</dc:language>
  <cp:lastModifiedBy>ПК</cp:lastModifiedBy>
  <dcterms:modified xsi:type="dcterms:W3CDTF">2012-03-29T20:52:53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40000000000010243100207f6000400038000</vt:lpwstr>
  </property>
  <property fmtid="{D5CDD505-2E9C-101B-9397-08002B2CF9AE}" pid="3" name="_TemplateID">
    <vt:lpwstr>TC010690591049</vt:lpwstr>
  </property>
</Properties>
</file>