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39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31.jpeg" ContentType="image/jpeg"/>
  <Override PartName="/ppt/media/image30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6.png" ContentType="image/png"/>
  <Override PartName="/ppt/media/image29.jpeg" ContentType="image/jpeg"/>
  <Override PartName="/ppt/media/image12.jpeg" ContentType="image/jpeg"/>
  <Override PartName="/ppt/media/image38.jpeg" ContentType="image/jpeg"/>
  <Override PartName="/ppt/media/image72.png" ContentType="image/png"/>
  <Override PartName="/ppt/media/image7.jpeg" ContentType="image/jpeg"/>
  <Override PartName="/ppt/media/image1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85.jpeg" ContentType="image/jpeg"/>
  <Override PartName="/ppt/media/image15.jpeg" ContentType="image/jpeg"/>
  <Override PartName="/ppt/media/image24.png" ContentType="image/png"/>
  <Override PartName="/ppt/media/image73.jpeg" ContentType="image/jpeg"/>
  <Override PartName="/ppt/media/image65.png" ContentType="image/png"/>
  <Override PartName="/ppt/media/image66.png" ContentType="image/png"/>
  <Override PartName="/ppt/media/image69.png" ContentType="image/png"/>
  <Override PartName="/ppt/media/image2.png" ContentType="image/png"/>
  <Override PartName="/ppt/media/image67.png" ContentType="image/png"/>
  <Override PartName="/ppt/media/image91.jpeg" ContentType="image/jpeg"/>
  <Override PartName="/ppt/media/image70.png" ContentType="image/png"/>
  <Override PartName="/ppt/media/image93.jpeg" ContentType="image/jpeg"/>
  <Override PartName="/ppt/media/image88.png" ContentType="image/png"/>
  <Override PartName="/ppt/media/image92.png" ContentType="image/png"/>
  <Override PartName="/ppt/media/image89.png" ContentType="image/png"/>
  <Override PartName="/ppt/media/image27.jpeg" ContentType="image/jpeg"/>
  <Override PartName="/ppt/media/image52.png" ContentType="image/png"/>
  <Override PartName="/ppt/media/image86.png" ContentType="image/png"/>
  <Override PartName="/ppt/media/image74.png" ContentType="image/png"/>
  <Override PartName="/ppt/media/image78.jpeg" ContentType="image/jpeg"/>
  <Override PartName="/ppt/media/image84.jpeg" ContentType="image/jpeg"/>
  <Override PartName="/ppt/media/image64.png" ContentType="image/png"/>
  <Override PartName="/ppt/media/image77.jpeg" ContentType="image/jpeg"/>
  <Override PartName="/ppt/media/image68.png" ContentType="image/png"/>
  <Override PartName="/ppt/media/image83.jpeg" ContentType="image/jpeg"/>
  <Override PartName="/ppt/media/image71.jpeg" ContentType="image/jpeg"/>
  <Override PartName="/ppt/media/image82.png" ContentType="image/png"/>
  <Override PartName="/ppt/media/image79.jpeg" ContentType="image/jpeg"/>
  <Override PartName="/ppt/media/image81.jpeg" ContentType="image/jpeg"/>
  <Override PartName="/ppt/media/image75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19.jpeg" ContentType="image/jpeg"/>
  <Override PartName="/ppt/media/image25.png" ContentType="image/png"/>
  <Override PartName="/ppt/media/image90.png" ContentType="image/png"/>
  <Override PartName="/ppt/media/image14.jpeg" ContentType="image/jpeg"/>
  <Override PartName="/ppt/media/image54.png" ContentType="image/png"/>
  <Override PartName="/ppt/media/image76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10.png" ContentType="image/png"/>
  <Override PartName="/ppt/media/image17.jpeg" ContentType="image/jpeg"/>
  <Override PartName="/ppt/media/image80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1.jpeg" ContentType="image/jpeg"/>
  <Override PartName="/ppt/media/image28.jpeg" ContentType="image/jpeg"/>
  <Override PartName="/ppt/media/image87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6BA-DD99-4CF2-80C1-C435F830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5E2-3516-471A-81EF-E8F210C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AA1-DB58-4388-B838-4A1BBAA2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F49-78FC-49EF-8389-735E1D58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C8E8-6522-4547-A2B2-60D45682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557-79CB-4AED-9ACF-2BF76A53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D1B4-72A6-4C16-9E1A-E888E2CD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B66-A37C-4596-98BC-0740D5EC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528-17AF-4222-B0B1-6516AE9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FBA-5868-4CEA-ADD8-A7A47356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5CA4-BE84-49DC-9252-1FC0DE9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D48-262D-4837-8F85-03E7861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3F7C-0769-4233-9955-6324A9EB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E96C-BFF2-4397-93D3-AEF2C790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BA7-1B5D-494E-AC47-1CC33799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5ED4-B432-4659-8A15-DEFB1C64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646-BBC7-4C51-B21A-69185701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C59-C837-494F-B710-13488C6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2CE-447F-4EDA-A877-4AE29F4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136-01BE-4DD8-97F3-A4538DC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D43-2A44-4682-A1BE-01AA949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DAD-04A6-4C9B-9D13-5ADF7593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470-0A32-44EE-AC36-6265461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D99-55AD-447E-9318-0B54048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1E7-E993-43EE-8B1D-6C3A8DF7A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a3f6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c47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66d3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1893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EBF-AAA0-462B-BA09-199970F8F8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" Target="slide36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pn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3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jpe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image" Target="../media/image93.jpeg"/><Relationship Id="rId5" Type="http://schemas.openxmlformats.org/officeDocument/2006/relationships/image" Target="../media/image93.jpeg"/><Relationship Id="rId6" Type="http://schemas.openxmlformats.org/officeDocument/2006/relationships/image" Target="../media/image93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0.png"/><Relationship Id="rId4" Type="http://schemas.openxmlformats.org/officeDocument/2006/relationships/image" Target="../media/image90.png"/><Relationship Id="rId5" Type="http://schemas.openxmlformats.org/officeDocument/2006/relationships/image" Target="../media/image90.png"/><Relationship Id="rId6" Type="http://schemas.openxmlformats.org/officeDocument/2006/relationships/image" Target="../media/image90.png"/><Relationship Id="rId7" Type="http://schemas.openxmlformats.org/officeDocument/2006/relationships/image" Target="../media/image94.jpe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9280" y="1628640"/>
            <a:ext cx="878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РИМИНАЛИСТИЧЕСКОЕ ПОЧЕРКОВЕДЕНИЕ                         И АВТОРО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676520" y="152280"/>
            <a:ext cx="8076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КАФЕДРА УГОЛОВНОГО ПРОЦЕССА И КРИМИНАЛ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0gerbTNU"/>
          <p:cNvPicPr/>
          <p:nvPr/>
        </p:nvPicPr>
        <p:blipFill>
          <a:blip r:embed="rId2"/>
          <a:stretch/>
        </p:blipFill>
        <p:spPr>
          <a:xfrm>
            <a:off x="395280" y="115920"/>
            <a:ext cx="1814400" cy="1338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3276720" y="4221000"/>
            <a:ext cx="5333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кция кандидата юридических наук, доц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ХАЙЛОВА МИХАИЛА АНАТОЛЬЕВИЧ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12536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ругие болезни, изменяющие почерк: опухоль мозга, болезнь Паркинсона, диффузный склероз головного мозга, прогрессивный паралич, маниакально-депрессивный психоз, шизофрения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600" y="3532320"/>
            <a:ext cx="2776680" cy="29210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987640" y="2451240"/>
            <a:ext cx="2405160" cy="40021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508720" y="3986280"/>
            <a:ext cx="3460680" cy="246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УМЫШЛЕННОЕ ИСКАЖЕНИЕ ПУТЕМ ПОДРАЖА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4470480" cy="5040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89000"/>
            <a:ext cx="8713800" cy="1191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ПИСЬМЕННАЯ РЕЧЬ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ображает смысловую сторону письма, раскрывает смысл написанного, т.е. отображает интеллектуальные навыки челов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557360"/>
            <a:ext cx="4535640" cy="431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155736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ИЗНАКИ ПИСЬМЕНН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540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ИЛИС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НЕРА ИЗЛОЖЕНИЯ МЫСЛЕЙ,ЯЗЫК,   АРХИТЕКТОНИК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4076640"/>
            <a:ext cx="2376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 СТИЛИ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- публицистический;  - технический;               - разговорный;                    - деловой;                    - научный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4200" y="2276640"/>
            <a:ext cx="3241800" cy="4464000"/>
          </a:xfrm>
          <a:custGeom>
            <a:avLst/>
            <a:gdLst>
              <a:gd name="textAreaLeft" fmla="*/ 712800 w 3241800"/>
              <a:gd name="textAreaRight" fmla="*/ 2529000 w 324180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8920" y="2421000"/>
            <a:ext cx="2952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 ЗНАНИЕ ИСПОЛНИТЕЛЕМ ОРФОГРАФИЧЕСКИХ И ГРАММАТИЧЕСКИХ ПРАВИЛ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437832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2276640"/>
            <a:ext cx="3241440" cy="4464000"/>
          </a:xfrm>
          <a:custGeom>
            <a:avLst/>
            <a:gdLst>
              <a:gd name="textAreaLeft" fmla="*/ 712800 w 3241440"/>
              <a:gd name="textAreaRight" fmla="*/ 2528640 w 3241440"/>
              <a:gd name="textAreaTop" fmla="*/ 981720 h 4464000"/>
              <a:gd name="textAreaBottom" fmla="*/ 348228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2421000"/>
            <a:ext cx="2952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С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БЩИЙ СЛОВАРНЫЙ ЗАПАС И УПОТРЕБЛЕНИЕ ТЕР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076640"/>
            <a:ext cx="2376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ионализмы -диалектизмы;               - варваризмы;                    - жаргонизмы;                          - архаизмы;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667640" y="1341360"/>
            <a:ext cx="1332000" cy="111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877080" y="63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1052640"/>
            <a:ext cx="3743280" cy="26712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арактеризующие почерк в целом как систему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1052640"/>
            <a:ext cx="4968720" cy="2875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А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ражающие особенности движений при написании отдельных букв, их частей и межбуквенных соеди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8000" y="4149720"/>
            <a:ext cx="3708360" cy="2185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84720" y="4221000"/>
            <a:ext cx="2857680" cy="7146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2857680" cy="50508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068720" y="5805360"/>
            <a:ext cx="2664000" cy="9590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341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ладение техникой письма в соответствии с общепринятой системой скоро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630600" cy="4941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176" name=""/>
          <p:cNvGrpSpPr/>
          <p:nvPr/>
        </p:nvGrpSpPr>
        <p:grpSpPr>
          <a:xfrm>
            <a:off x="4140360" y="2563920"/>
            <a:ext cx="4681440" cy="936360"/>
            <a:chOff x="4140360" y="2563920"/>
            <a:chExt cx="4681440" cy="936360"/>
          </a:xfrm>
        </p:grpSpPr>
        <p:sp>
          <p:nvSpPr>
            <p:cNvPr id="177" name=""/>
            <p:cNvSpPr/>
            <p:nvPr/>
          </p:nvSpPr>
          <p:spPr>
            <a:xfrm>
              <a:off x="4140360" y="25639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0" y="28526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ал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140360" y="4076640"/>
            <a:ext cx="4681440" cy="936360"/>
            <a:chOff x="4140360" y="4076640"/>
            <a:chExt cx="4681440" cy="936360"/>
          </a:xfrm>
        </p:grpSpPr>
        <p:sp>
          <p:nvSpPr>
            <p:cNvPr id="180" name=""/>
            <p:cNvSpPr/>
            <p:nvPr/>
          </p:nvSpPr>
          <p:spPr>
            <a:xfrm>
              <a:off x="4140360" y="4076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4365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редне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140360" y="5805360"/>
            <a:ext cx="4681440" cy="936360"/>
            <a:chOff x="4140360" y="5805360"/>
            <a:chExt cx="4681440" cy="936360"/>
          </a:xfrm>
        </p:grpSpPr>
        <p:sp>
          <p:nvSpPr>
            <p:cNvPr id="183" name=""/>
            <p:cNvSpPr/>
            <p:nvPr/>
          </p:nvSpPr>
          <p:spPr>
            <a:xfrm>
              <a:off x="4140360" y="5805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6094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ысоковыработанный почер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067280" y="1720800"/>
            <a:ext cx="52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ТЕПЕНЬ ВЫРАБОТАННОСТИ ПОЧЕРКА МОЖЕТ БЫТЬ ТОЛЬКО СНИЖЕНА ПИШУЩИМ, НАОБОРОТ-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ражающие степень сформированности и характер письменно-двигательного нав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578200" cy="492300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8" name=""/>
          <p:cNvSpPr/>
          <p:nvPr/>
        </p:nvSpPr>
        <p:spPr>
          <a:xfrm rot="10800000">
            <a:off x="178920" y="285264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31338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й по сложности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78920" y="4147920"/>
            <a:ext cx="3816360" cy="936360"/>
          </a:xfrm>
          <a:prstGeom prst="leftArrow">
            <a:avLst>
              <a:gd name="adj1" fmla="val 50000"/>
              <a:gd name="adj2" fmla="val 10189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78920" y="537372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5654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жн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4308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ощенн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1386000"/>
            <a:ext cx="38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ординация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мп пись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быстрый медленный сред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ложность дви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еобладающая форма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4222800"/>
            <a:ext cx="3384720" cy="21589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580000" y="4221000"/>
            <a:ext cx="3240000" cy="216072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506920" y="1628640"/>
            <a:ext cx="331308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179280" y="1628640"/>
            <a:ext cx="3384720" cy="2087640"/>
          </a:xfrm>
          <a:prstGeom prst="rect">
            <a:avLst/>
          </a:prstGeom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75564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ДУ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64468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ОЛИНЕЙНО-УГЛ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6446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ГООБРАЗН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8545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АТО-ПЕТ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79640" y="1125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правление дви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5300640"/>
            <a:ext cx="4295520" cy="1162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267080" cy="1200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295520" cy="2114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10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11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е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56000" y="3573360"/>
            <a:ext cx="4681440" cy="936360"/>
            <a:chOff x="4356000" y="3573360"/>
            <a:chExt cx="4681440" cy="936360"/>
          </a:xfrm>
        </p:grpSpPr>
        <p:sp>
          <p:nvSpPr>
            <p:cNvPr id="214" name=""/>
            <p:cNvSpPr/>
            <p:nvPr/>
          </p:nvSpPr>
          <p:spPr>
            <a:xfrm>
              <a:off x="4356000" y="357336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7640" y="386208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оокруж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62560" y="5373720"/>
            <a:ext cx="4681440" cy="936360"/>
            <a:chOff x="4462560" y="5373720"/>
            <a:chExt cx="4681440" cy="936360"/>
          </a:xfrm>
        </p:grpSpPr>
        <p:sp>
          <p:nvSpPr>
            <p:cNvPr id="217" name=""/>
            <p:cNvSpPr/>
            <p:nvPr/>
          </p:nvSpPr>
          <p:spPr>
            <a:xfrm>
              <a:off x="4462560" y="5373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94200" y="5662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мешанн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4428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81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почерка, определяется по средней высоте строчных бук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496040" cy="179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79280" y="4951440"/>
            <a:ext cx="4648320" cy="171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79280" y="3211560"/>
            <a:ext cx="4543560" cy="165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24" name=""/>
          <p:cNvGrpSpPr/>
          <p:nvPr/>
        </p:nvGrpSpPr>
        <p:grpSpPr>
          <a:xfrm>
            <a:off x="4284720" y="1700280"/>
            <a:ext cx="4681440" cy="936360"/>
            <a:chOff x="4284720" y="1700280"/>
            <a:chExt cx="4681440" cy="936360"/>
          </a:xfrm>
        </p:grpSpPr>
        <p:sp>
          <p:nvSpPr>
            <p:cNvPr id="225" name=""/>
            <p:cNvSpPr/>
            <p:nvPr/>
          </p:nvSpPr>
          <p:spPr>
            <a:xfrm>
              <a:off x="4284720" y="170028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16360" y="198900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 (высота букв до 2 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28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354560" y="5445000"/>
            <a:ext cx="4681440" cy="936360"/>
            <a:chOff x="4354560" y="5445000"/>
            <a:chExt cx="4681440" cy="936360"/>
          </a:xfrm>
        </p:grpSpPr>
        <p:sp>
          <p:nvSpPr>
            <p:cNvPr id="231" name=""/>
            <p:cNvSpPr/>
            <p:nvPr/>
          </p:nvSpPr>
          <p:spPr>
            <a:xfrm>
              <a:off x="4354560" y="54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6200" y="57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высота букв более 5м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гон почерка, определяется протяженностью движений по горизон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4105080" cy="1695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0920" y="3429000"/>
            <a:ext cx="4105080" cy="1544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50920" y="1484280"/>
            <a:ext cx="4105080" cy="1819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238" name=""/>
          <p:cNvGrpSpPr/>
          <p:nvPr/>
        </p:nvGrpSpPr>
        <p:grpSpPr>
          <a:xfrm>
            <a:off x="4284720" y="3645000"/>
            <a:ext cx="4681440" cy="936360"/>
            <a:chOff x="4284720" y="3645000"/>
            <a:chExt cx="4681440" cy="936360"/>
          </a:xfrm>
        </p:grpSpPr>
        <p:sp>
          <p:nvSpPr>
            <p:cNvPr id="239" name=""/>
            <p:cNvSpPr/>
            <p:nvPr/>
          </p:nvSpPr>
          <p:spPr>
            <a:xfrm>
              <a:off x="4284720" y="364500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6360" y="393372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ред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56000" y="1844640"/>
            <a:ext cx="4681440" cy="936360"/>
            <a:chOff x="4356000" y="1844640"/>
            <a:chExt cx="4681440" cy="936360"/>
          </a:xfrm>
        </p:grpSpPr>
        <p:sp>
          <p:nvSpPr>
            <p:cNvPr id="242" name=""/>
            <p:cNvSpPr/>
            <p:nvPr/>
          </p:nvSpPr>
          <p:spPr>
            <a:xfrm>
              <a:off x="4356000" y="184464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7640" y="213336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ольшой (размашис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211640" y="5589720"/>
            <a:ext cx="4681440" cy="936360"/>
            <a:chOff x="4211640" y="5589720"/>
            <a:chExt cx="4681440" cy="936360"/>
          </a:xfrm>
        </p:grpSpPr>
        <p:sp>
          <p:nvSpPr>
            <p:cNvPr id="245" name=""/>
            <p:cNvSpPr/>
            <p:nvPr/>
          </p:nvSpPr>
          <p:spPr>
            <a:xfrm>
              <a:off x="4211640" y="5589720"/>
              <a:ext cx="4681440" cy="936360"/>
            </a:xfrm>
            <a:prstGeom prst="leftArrow">
              <a:avLst>
                <a:gd name="adj1" fmla="val 50000"/>
                <a:gd name="adj2" fmla="val 12499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3280" y="5878440"/>
              <a:ext cx="41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лый (сжатый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71640" y="1700280"/>
            <a:ext cx="7515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риминалистическое исследование письма. Возможности почерковедческой эксперти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Порядок получения образцов почерка и подписи для сравнительно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Автороведческие исследования в уголовном и гражданск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kso"/>
          <p:cNvPicPr/>
          <p:nvPr/>
        </p:nvPicPr>
        <p:blipFill>
          <a:blip r:embed="rId2"/>
          <a:stretch/>
        </p:blipFill>
        <p:spPr>
          <a:xfrm>
            <a:off x="755640" y="189000"/>
            <a:ext cx="1895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1744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аклон по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1280" y="1557360"/>
            <a:ext cx="4572000" cy="18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716360" y="1557360"/>
            <a:ext cx="4429080" cy="1833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716360" y="4076640"/>
            <a:ext cx="442764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08000" y="4076640"/>
            <a:ext cx="4535280" cy="180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250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ешанн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22920" y="350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2920" y="6021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вый нак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59500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ак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9280" y="189000"/>
            <a:ext cx="878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структурные характеристики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17440"/>
            <a:ext cx="90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язность почер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но связана с выработанностью почерка и зависит от степени сформированности письменно-двигательного навыка. </a:t>
            </a:r>
            <a:r>
              <a:rPr b="1" lang="ru-RU" sz="1800" spc="-1" strike="noStrike">
                <a:solidFill>
                  <a:srgbClr val="f67676"/>
                </a:solidFill>
                <a:latin typeface="Arial"/>
              </a:rPr>
              <a:t>Это устойчивый признак и совершенствовать его не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3816360" cy="108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03640" y="2276640"/>
            <a:ext cx="3816360" cy="111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50920" y="2292480"/>
            <a:ext cx="3817800" cy="113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50920" y="3792600"/>
            <a:ext cx="3816360" cy="1076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50920" y="5259240"/>
            <a:ext cx="3889440" cy="11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826920" y="649116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645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редняя (от 4 до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пло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00" y="486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сокая (более 6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342900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трывистый поче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5013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алая (не более 3 зна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95280" y="1487520"/>
            <a:ext cx="3456000" cy="1749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3456000" cy="14637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395280" y="5084640"/>
            <a:ext cx="3456000" cy="1613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4" name=""/>
          <p:cNvSpPr/>
          <p:nvPr/>
        </p:nvSpPr>
        <p:spPr>
          <a:xfrm>
            <a:off x="4356000" y="2349360"/>
            <a:ext cx="46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арианты размещения даты и под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086200" cy="1266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227640" y="3213000"/>
            <a:ext cx="2057400" cy="1400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3419640" y="4653000"/>
            <a:ext cx="2199960" cy="13716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611280" y="1341360"/>
            <a:ext cx="2143080" cy="15145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59280" y="2637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ИГУРАЦИЯ ЛИНИИ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89000"/>
            <a:ext cx="8785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ОБЩИЕ ПРИЗНАКИ ПОЧЕРКА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тражающие пространственную ориентацию фрагментов рук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008600" cy="19033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3962160" cy="1933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484360" y="4437000"/>
            <a:ext cx="3962520" cy="18669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6" name=""/>
          <p:cNvSpPr/>
          <p:nvPr/>
        </p:nvSpPr>
        <p:spPr>
          <a:xfrm>
            <a:off x="1116000" y="350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ОЖЕНИЕ СТ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89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ЧАСТНЫЕ ПРИЗНАКИ ПОЧ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56000" y="907920"/>
            <a:ext cx="1199880" cy="1143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1638000" cy="11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4319280" cy="1949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076720" y="1341360"/>
            <a:ext cx="3706920" cy="5389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324000" y="2205000"/>
            <a:ext cx="1655640" cy="155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2556000" y="2349360"/>
            <a:ext cx="1224000" cy="1362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ИСПОЛЬЗОВАНИЕ ПОЧЕРКА ДЛЯ РОЗЫСКА И ИДЕНТИФИКАЦИИ ИСПОЛНИТЕЛЯ РУКОПИ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58840" y="1268280"/>
            <a:ext cx="2584440" cy="5329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71640" y="1700280"/>
            <a:ext cx="597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озыскная таблиц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 зарисовка наиболее характерных признаков почерка, которым исполнен документ. Составляется для розыска неизвестного исполнителя документа. Сравнение почерка осуществляет оперативный работник, следователь или по его поручению специалист-криминал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7676"/>
                </a:solidFill>
                <a:latin typeface="Calibri"/>
              </a:rPr>
              <a:t>2. Порядок получения образцов почерка и подписи для сравнительного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44720" cy="1865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9" name=""/>
          <p:cNvSpPr/>
          <p:nvPr/>
        </p:nvSpPr>
        <p:spPr>
          <a:xfrm>
            <a:off x="324000" y="220500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ОВЕДЧЕСКАЯ ЭКСПЕРТИЗ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ид криминалистической экспертизы, предметом которой служат факты, связанные с исполнением рукописных текстов, подписей, цифровых запис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 rot="20778000">
            <a:off x="395280" y="3573360"/>
            <a:ext cx="2422440" cy="296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 rot="1291800">
            <a:off x="5743080" y="4149360"/>
            <a:ext cx="3400560" cy="2266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809880" cy="190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411280" y="1268280"/>
            <a:ext cx="6659640" cy="5516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4920" y="124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ИДЕНТИФИКАЦИОННЫЕ, ДИАГНОСТИЧЕСКИЕ И КЛАССИФИКАЦИОННЫЕ ЗАДАЧИ, РАЗРЕШАЕМЫЕ         С ПОМОЩЬЮ ПОЧЕРКОВЕДЧЕСКОЙ ЭКСПЕРТИ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1484280"/>
            <a:ext cx="62643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ПОЛНЕН ЛИ ТЕКСТ ДАННЫМ ИЛИ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ЫПОЛНЕНА ПОДПИСЬ ОТ ИМЕНИ Н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ДНИМ ИЛИ РАЗНЫМИ ЛИЦАМИ ВЫПОЛНЕНЫ ТЕКСТЫ (ПОДПИСИ) В НЕСКОЛЬКИХ ДОКУМЕНТАХ ЛИБО ОТДЕЛЬНЫЕ ЧАСТИ ТЕКСТА В ОДНОМ ДОКУМЕН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НЕ ВЫПОЛНЕНА ЛИ ИССЛЕДУЕМАЯ РУКОПИСЬ (ПОДПИСЬ) НАМЕРЕННО ИСКАЖЕННЫМ ПОЧЕРКОМ, ИЛИ С ПОДРАЖАНИЕМ ПОЧЕРКУ ОПРЕДЕЛЕННОГО ЛИЦА, ИЛИ В НЕОБЫЧНОЙ ОБСТАНОВКЕ, ИЛИ В НЕОБЫЧНОМ СОСТОЯНИИ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 ДОПИСАНЫ ЛИ СЛОВА, ЦИФРЫ К ДАННОМУ ТЕКСТУ ДР. ЛИЦ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ЛИЦОМ КАКОГО ПОЛА НАПИСАН ТЕКС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ОВ ВОЗРАСТ ИСПОЛНИТЕЛЯ РУКОПИС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757080" y="2349360"/>
            <a:ext cx="3948120" cy="29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1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676"/>
                </a:solidFill>
                <a:latin typeface="Calibri"/>
              </a:rPr>
              <a:t>ВИДЫ ОБРАЗЦОВ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000" y="692280"/>
            <a:ext cx="4464000" cy="2303280"/>
            <a:chOff x="108000" y="692280"/>
            <a:chExt cx="4464000" cy="2303280"/>
          </a:xfrm>
        </p:grpSpPr>
        <p:sp>
          <p:nvSpPr>
            <p:cNvPr id="309" name=""/>
            <p:cNvSpPr/>
            <p:nvPr/>
          </p:nvSpPr>
          <p:spPr>
            <a:xfrm>
              <a:off x="108000" y="692280"/>
              <a:ext cx="4464000" cy="2303280"/>
            </a:xfrm>
            <a:prstGeom prst="beve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9280" y="1101600"/>
              <a:ext cx="42483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КСПЕРИМЕНТАЛЬНЫЕ ОБРАЗЦЫ –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 предложению следователя специально для сравнительного исследования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45080" y="4437000"/>
            <a:ext cx="4464000" cy="2303640"/>
            <a:chOff x="4645080" y="4437000"/>
            <a:chExt cx="4464000" cy="2303640"/>
          </a:xfrm>
        </p:grpSpPr>
        <p:sp>
          <p:nvSpPr>
            <p:cNvPr id="312" name=""/>
            <p:cNvSpPr/>
            <p:nvPr/>
          </p:nvSpPr>
          <p:spPr>
            <a:xfrm>
              <a:off x="4645080" y="4437000"/>
              <a:ext cx="4464000" cy="230364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32360" y="4797360"/>
              <a:ext cx="396072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УСЛОВНО-СВОБОДНЫЕ ОБРАЗЦЫ-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РУКОПИСИ И ПОДПИСИ, ВЫПОЛНЕННЫЕ ПОСЛЕ РАССЛЕДУЕМОГО СОБЫТИЯ И ВНЕ СВЯЗИ С Н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643280" y="1989000"/>
            <a:ext cx="4464360" cy="230364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67280" y="234936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БОДНЫЕ ОБРАЗЦЫ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УКОПИСИ И ПОДПИСИ, ВЫПОЛНЕННЫЕ                               ДО РАССЛЕДУЕМОГО СОБЫТИЯ    И ВНЕ СВЯЗИ С 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250920" y="3213000"/>
            <a:ext cx="4105080" cy="3173400"/>
          </a:xfrm>
          <a:prstGeom prst="rect">
            <a:avLst/>
          </a:prstGeom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f2f2f2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981000"/>
            <a:ext cx="79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О, средство запечатления мысли человека с помощью языка и специально созданной системы условных обозначений (письменных знаков, письменности). В криминалистике является объектом почерковедческой и автороведческой экспертиз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-612720" y="333360"/>
            <a:ext cx="102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КРИМИНАЛИСТИЧЕСКОЕ ИССЛЕДОВАНИЕ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20563200">
            <a:off x="0" y="4076280"/>
            <a:ext cx="2305080" cy="2082960"/>
          </a:xfrm>
          <a:prstGeom prst="rect">
            <a:avLst/>
          </a:prstGeom>
          <a:ln w="1260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20584800">
            <a:off x="6227640" y="3573000"/>
            <a:ext cx="3527640" cy="2646360"/>
          </a:xfrm>
          <a:prstGeom prst="rect">
            <a:avLst/>
          </a:prstGeom>
          <a:ln w="28440">
            <a:solidFill>
              <a:srgbClr val="e6a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rot="20240400">
            <a:off x="2771640" y="3635280"/>
            <a:ext cx="3426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55640" y="1414440"/>
            <a:ext cx="7777080" cy="4175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898560" y="1557360"/>
            <a:ext cx="75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ые образцы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окументы личной и служебной переписки, автобиографии, заявления, конспект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лжны соответствовать исследуемому тексту (подпис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 времени напис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темпу пись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условиям выполнения рукопис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 состоянию писа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м: не мене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-6 страниц рукописного текс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для свободных образцов подписи -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 менее 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выполненных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с разрывом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 rot="19816200">
            <a:off x="6876720" y="2276280"/>
            <a:ext cx="2592360" cy="194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50920" y="1557360"/>
            <a:ext cx="8642160" cy="4824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ТРЕБОВАНИЯ К ОБРАЗЦАМ ПОЧЕРКА И ПОДПИ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162864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ЭКСПЕРИМЕНТАЛЬНЫЕ ОБРАЗЦ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 должны бы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изки по содержанию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к исследуемому тексту и выполнены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огичных усло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путем самостоятельного(из головы) написания какого-либо текста. Составляется, специальный связный текст, в котором повторяются слова, имеющиеся в исследуемом докумен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сли лицо, у которого отбираются образцы почерка, старается изменить почерк, 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ускорить диктовку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еличить объем текс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явить переры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чтобы пишущий забыл, какие изменения он вносил в поче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ыполняются при помощ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ишущего прибора того же вид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и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маге того же ка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по плотности, цвету, размерам, линовке) , что и исследуемый документа не менее чем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15 листа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92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кспериментальные подписи выполняются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6 листах по 10-15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подписей на каж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297560" y="260280"/>
            <a:ext cx="1846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3. АВТОРОВЕДЧЕСКИЕ ИССЛЕДОВАНИЯ В УГОЛОВНОМ И ГРАЖДАНСК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5940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108000" y="314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0920" y="1197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ВТОРОВЕДЧЕСКАЯ ЭКСПЕРТИЗА, вид криминалистической экспертизы, исследование документов (рукописных, машинописных, полиграфических и др.) для установления автора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50920" y="2421000"/>
            <a:ext cx="6769080" cy="936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95640" y="2421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КТ АВТОРОВЕДЧЕСКОЙ ЭКСПЕРТИЗЫ                    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это проявляющиеся в письменной речи языковые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3573360"/>
            <a:ext cx="3240000" cy="5763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24360" y="3573360"/>
            <a:ext cx="3240360" cy="5763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71628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7905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6048360" y="3753000"/>
            <a:ext cx="2378160" cy="345744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3457440"/>
              <a:gd name="textAreaBottom" fmla="*/ 345780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1640" y="498780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ексико-фразеологические, синтаксические, стилистические, орфографические, пункту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0000" y="4726080"/>
            <a:ext cx="338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стойчивые языковые нарушения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определенных языковых 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ны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6360" y="1197000"/>
            <a:ext cx="5256000" cy="79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6360" y="1341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 ли определенное лиц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2767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395280" y="3141720"/>
            <a:ext cx="8209080" cy="934920"/>
            <a:chOff x="395280" y="3141720"/>
            <a:chExt cx="8209080" cy="934920"/>
          </a:xfrm>
        </p:grpSpPr>
        <p:sp>
          <p:nvSpPr>
            <p:cNvPr id="344" name=""/>
            <p:cNvSpPr/>
            <p:nvPr/>
          </p:nvSpPr>
          <p:spPr>
            <a:xfrm>
              <a:off x="395280" y="3141720"/>
              <a:ext cx="8209080" cy="93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335772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ВТОРОМ ОПРЕДЕЛЕННОГО ДОКУМЕН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68360" y="4292640"/>
            <a:ext cx="8209080" cy="93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2720" y="429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СООТВЕТСТВУЮЩЕГО ФРАГМЕНТА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5445000"/>
            <a:ext cx="8209080" cy="935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2720" y="544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ВТОРОМ НЕСКОЛЬКИХ РАЗНЫХ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ДИАГНОСТИЧЕСКИЕ И КЛАССИФИКАЦИОННЫЕ ЗАДАЧИ, РЕШАЕМЫЕ АВТОРОВЕДЧЕСКОЙ ЭКСПЕРТИ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0920" y="1557360"/>
            <a:ext cx="8785080" cy="503280"/>
            <a:chOff x="250920" y="1557360"/>
            <a:chExt cx="8785080" cy="503280"/>
          </a:xfrm>
        </p:grpSpPr>
        <p:sp>
          <p:nvSpPr>
            <p:cNvPr id="352" name=""/>
            <p:cNvSpPr/>
            <p:nvPr/>
          </p:nvSpPr>
          <p:spPr>
            <a:xfrm>
              <a:off x="250920" y="155736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2200" y="162864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920" y="162864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является ли язык исследуемого документа родным для его автор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50920" y="220500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200" y="2276640"/>
            <a:ext cx="864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0920" y="220500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осителем какого наречия (говора)  языка является автор доку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50920" y="2854440"/>
            <a:ext cx="8785080" cy="503280"/>
            <a:chOff x="250920" y="2854440"/>
            <a:chExt cx="8785080" cy="503280"/>
          </a:xfrm>
        </p:grpSpPr>
        <p:sp>
          <p:nvSpPr>
            <p:cNvPr id="359" name=""/>
            <p:cNvSpPr/>
            <p:nvPr/>
          </p:nvSpPr>
          <p:spPr>
            <a:xfrm>
              <a:off x="250920" y="2854440"/>
              <a:ext cx="8785080" cy="5032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200" y="2925720"/>
              <a:ext cx="864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0920" y="292572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каков образовательный уровень автора докумен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50920" y="3502080"/>
            <a:ext cx="8785080" cy="50328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2200" y="3573360"/>
            <a:ext cx="864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0920" y="3429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ладает ли автор документа навыками научного (публицистического, делового) стиля письменной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50920" y="4078440"/>
            <a:ext cx="8785080" cy="502920"/>
            <a:chOff x="250920" y="4078440"/>
            <a:chExt cx="8785080" cy="502920"/>
          </a:xfrm>
        </p:grpSpPr>
        <p:sp>
          <p:nvSpPr>
            <p:cNvPr id="366" name=""/>
            <p:cNvSpPr/>
            <p:nvPr/>
          </p:nvSpPr>
          <p:spPr>
            <a:xfrm>
              <a:off x="250920" y="4078440"/>
              <a:ext cx="8785080" cy="50292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200" y="4149360"/>
              <a:ext cx="8641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0920" y="4149360"/>
              <a:ext cx="87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составлен ли текст документа с намеренным искажением письменной реч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50920" y="4581360"/>
            <a:ext cx="1596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Я ГОТОВ ОТВЕТИТЬ НА ВАШИ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5435640" y="4005360"/>
            <a:ext cx="28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хайлов Михаил Анато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law@crime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0000gerbTNU"/>
          <p:cNvPicPr/>
          <p:nvPr/>
        </p:nvPicPr>
        <p:blipFill>
          <a:blip r:embed="rId2"/>
          <a:stretch/>
        </p:blipFill>
        <p:spPr>
          <a:xfrm>
            <a:off x="324000" y="4292640"/>
            <a:ext cx="181440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50920" y="189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ИКТАНТ ДЛЯ ПРОВЕРКИ УРОВНЯ ОРФОГРАФИЧЕСКИХ ЗНАНИЙ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9640" y="112536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щатой террасе близ цветущего конопляника  под аккомпанемент виолончели веснушчатая Агриппина Саввична, жена местного подьячего, потчевала коллежского асессора Филиппа Аполлоновича ветчиной и винегретом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9280" y="189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 ИСТОРИИ ПОЧЕРКОВЕДЕНИЯ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781200"/>
            <a:ext cx="4608360" cy="2287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5" name=""/>
          <p:cNvSpPr/>
          <p:nvPr/>
        </p:nvSpPr>
        <p:spPr>
          <a:xfrm>
            <a:off x="179280" y="3213000"/>
            <a:ext cx="46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ФОНС БЕРТИЛЬОН (1853-19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иметоописательного метода в графологической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5013360"/>
            <a:ext cx="1441440" cy="1433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973080" y="458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ело Дрейфуса (189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268360" y="5013360"/>
            <a:ext cx="1117800" cy="1440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716360" y="1125360"/>
            <a:ext cx="2873520" cy="2154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148360" y="6922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«Диплом рогоносца» и дуэль Пушкина (183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948360" y="1341360"/>
            <a:ext cx="1994040" cy="15066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020000" y="4915080"/>
            <a:ext cx="1973160" cy="1555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4140360" y="4941720"/>
            <a:ext cx="2319120" cy="1524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5364000" y="3573360"/>
            <a:ext cx="1046160" cy="1251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7020000" y="3573360"/>
            <a:ext cx="1944720" cy="1225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4859280" y="292428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мский странник Федор Кузьмич – это не Александр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?(18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5084640"/>
            <a:ext cx="8424720" cy="1584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8000" y="1413000"/>
            <a:ext cx="3095640" cy="3528720"/>
            <a:chOff x="108000" y="1413000"/>
            <a:chExt cx="3095640" cy="3528720"/>
          </a:xfrm>
        </p:grpSpPr>
        <p:sp>
          <p:nvSpPr>
            <p:cNvPr id="110" name=""/>
            <p:cNvSpPr/>
            <p:nvPr/>
          </p:nvSpPr>
          <p:spPr>
            <a:xfrm>
              <a:off x="10800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928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ХН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60720" y="1413000"/>
            <a:ext cx="3095640" cy="3528720"/>
            <a:chOff x="3060720" y="1413000"/>
            <a:chExt cx="3095640" cy="3528720"/>
          </a:xfrm>
        </p:grpSpPr>
        <p:sp>
          <p:nvSpPr>
            <p:cNvPr id="113" name=""/>
            <p:cNvSpPr/>
            <p:nvPr/>
          </p:nvSpPr>
          <p:spPr>
            <a:xfrm>
              <a:off x="306072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2000" y="155736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РАФИЧЕСКИЕ НАВЫ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67280" y="1413000"/>
            <a:ext cx="3095640" cy="3528720"/>
            <a:chOff x="5867280" y="1413000"/>
            <a:chExt cx="3095640" cy="3528720"/>
          </a:xfrm>
        </p:grpSpPr>
        <p:sp>
          <p:nvSpPr>
            <p:cNvPr id="116" name=""/>
            <p:cNvSpPr/>
            <p:nvPr/>
          </p:nvSpPr>
          <p:spPr>
            <a:xfrm>
              <a:off x="5867280" y="1413000"/>
              <a:ext cx="3095640" cy="3528720"/>
            </a:xfrm>
            <a:custGeom>
              <a:avLst/>
              <a:gdLst>
                <a:gd name="textAreaLeft" fmla="*/ 150840 w 3095640"/>
                <a:gd name="textAreaRight" fmla="*/ 2944800 w 3095640"/>
                <a:gd name="textAreaTop" fmla="*/ 150840 h 3528720"/>
                <a:gd name="textAreaBottom" fmla="*/ 3377880 h 3528720"/>
              </a:gdLst>
              <a:ahLst/>
              <a:rect l="textAreaLeft" t="textAreaTop" r="textAreaRight" b="textAreaBottom"/>
              <a:pathLst>
                <a:path w="21600" h="24621">
                  <a:moveTo>
                    <a:pt x="3600" y="0"/>
                  </a:moveTo>
                  <a:arcTo wR="3600" hR="3600" stAng="16200000" swAng="-5400000"/>
                  <a:lnTo>
                    <a:pt x="0" y="21021"/>
                  </a:lnTo>
                  <a:arcTo wR="3600" hR="3600" stAng="10800000" swAng="-5400000"/>
                  <a:lnTo>
                    <a:pt x="18000" y="246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560" y="15573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ВЫКИ ПИСЬМЕННОЙ РЕЧ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4920" y="2133720"/>
            <a:ext cx="3240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ПОСАДКА                     ПРИ ПИСЬ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РАСПОЛОЖЕНИ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4f81b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ДЕРЖАНИЕ ПИШУЩЕГО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87280" y="3897360"/>
            <a:ext cx="1306800" cy="103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692360" y="184464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59280" y="2060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7676"/>
                </a:solidFill>
                <a:latin typeface="Arial"/>
              </a:rPr>
              <a:t>ВОСПРОИЗВЕДЕНИЕ ПИСЬМЕННЫХ ЗНАКОВ И ИХ СОЧЕТ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04000" y="2276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СЛОВАРНЫЙ СОСТАВ, ПОСТРОЕНИЕ   ПРЕДЛО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492360" y="3284640"/>
            <a:ext cx="215928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877080" y="3141720"/>
            <a:ext cx="1163520" cy="17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5" name=""/>
          <p:cNvSpPr/>
          <p:nvPr/>
        </p:nvSpPr>
        <p:spPr>
          <a:xfrm>
            <a:off x="468360" y="522936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ОЧЕРК, индивидуальная и динамически устойчивая программа графической техники письма, в основе которой лежит зрительно-двигательный образ выполнения рукописи, реализуемая с помощью системы дви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ДЕНТИФИКАЦИОННЫЕ ПРИЗНАКИ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внешние проявления относительно устойчивых навыков письма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760" y="1440000"/>
            <a:ext cx="4322880" cy="2420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303640"/>
            <a:ext cx="3962520" cy="4365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4932360" y="141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следуемый текст, выполненный К., в состоянии алкогольного опья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93372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очерка К., выполненный в привычных услов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ОБЫЧНОЕ СОСТОЯНИЕ ПИШУШЕГО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7840" y="2349360"/>
            <a:ext cx="4681440" cy="35481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86360" y="1197000"/>
            <a:ext cx="3995640" cy="51116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"/>
          <p:cNvSpPr/>
          <p:nvPr/>
        </p:nvSpPr>
        <p:spPr>
          <a:xfrm>
            <a:off x="179280" y="170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разец письма Ж. в нормальном нервно-психическ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6453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редсмертная записка Ж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ОЗРАСТ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932360" y="3284640"/>
            <a:ext cx="3876840" cy="33224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2133720"/>
            <a:ext cx="3852720" cy="4548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144360" y="177336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ЗРЕЛ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85264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РК  Г. В ПРЕКЛОН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14468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кст, выполненный лицом, страдающим атеросклерозом:         1-извитость штрихов, 2- угловатость штри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8856720" cy="3255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4" name="Text Box 2"/>
          <p:cNvSpPr/>
          <p:nvPr/>
        </p:nvSpPr>
        <p:spPr>
          <a:xfrm>
            <a:off x="0" y="31284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ИЗМЕНЕНИЯ В ПОЧЕРКЕ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БОЛЕЗНЕННЫЕ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55:26Z</dcterms:created>
  <dc:creator>SOFIKO</dc:creator>
  <dc:description/>
  <dc:language>en-US</dc:language>
  <cp:lastModifiedBy>Mikhail</cp:lastModifiedBy>
  <dcterms:modified xsi:type="dcterms:W3CDTF">2012-11-06T05:48:13Z</dcterms:modified>
  <cp:revision>85</cp:revision>
  <dc:subject/>
  <dc:title>БРАЧНО – СЕМЕЙНОЕ ПРАВО</dc:title>
</cp:coreProperties>
</file>