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9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6.png" ContentType="image/png"/>
  <Override PartName="/ppt/media/image29.jpeg" ContentType="image/jpeg"/>
  <Override PartName="/ppt/media/image12.jpeg" ContentType="image/jpeg"/>
  <Override PartName="/ppt/media/image38.jpeg" ContentType="image/jpeg"/>
  <Override PartName="/ppt/media/image72.png" ContentType="image/png"/>
  <Override PartName="/ppt/media/image7.jpeg" ContentType="image/jpeg"/>
  <Override PartName="/ppt/media/image1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15.jpeg" ContentType="image/jpeg"/>
  <Override PartName="/ppt/media/image24.png" ContentType="image/png"/>
  <Override PartName="/ppt/media/image73.jpeg" ContentType="image/jpeg"/>
  <Override PartName="/ppt/media/image65.png" ContentType="image/png"/>
  <Override PartName="/ppt/media/image66.png" ContentType="image/png"/>
  <Override PartName="/ppt/media/image69.png" ContentType="image/png"/>
  <Override PartName="/ppt/media/image2.png" ContentType="image/png"/>
  <Override PartName="/ppt/media/image67.png" ContentType="image/png"/>
  <Override PartName="/ppt/media/image91.jpeg" ContentType="image/jpeg"/>
  <Override PartName="/ppt/media/image70.png" ContentType="image/png"/>
  <Override PartName="/ppt/media/image93.jpeg" ContentType="image/jpeg"/>
  <Override PartName="/ppt/media/image88.png" ContentType="image/png"/>
  <Override PartName="/ppt/media/image92.png" ContentType="image/png"/>
  <Override PartName="/ppt/media/image89.png" ContentType="image/png"/>
  <Override PartName="/ppt/media/image27.jpeg" ContentType="image/jpeg"/>
  <Override PartName="/ppt/media/image52.png" ContentType="image/png"/>
  <Override PartName="/ppt/media/image86.png" ContentType="image/png"/>
  <Override PartName="/ppt/media/image74.png" ContentType="image/png"/>
  <Override PartName="/ppt/media/image78.jpeg" ContentType="image/jpeg"/>
  <Override PartName="/ppt/media/image84.jpeg" ContentType="image/jpe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71.jpeg" ContentType="image/jpeg"/>
  <Override PartName="/ppt/media/image82.png" ContentType="image/png"/>
  <Override PartName="/ppt/media/image79.jpeg" ContentType="image/jpeg"/>
  <Override PartName="/ppt/media/image81.jpeg" ContentType="image/jpeg"/>
  <Override PartName="/ppt/media/image75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9.jpeg" ContentType="image/jpeg"/>
  <Override PartName="/ppt/media/image25.png" ContentType="image/png"/>
  <Override PartName="/ppt/media/image90.png" ContentType="image/png"/>
  <Override PartName="/ppt/media/image14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10.png" ContentType="image/png"/>
  <Override PartName="/ppt/media/image17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1.jpeg" ContentType="image/jpeg"/>
  <Override PartName="/ppt/media/image28.jpeg" ContentType="image/jpeg"/>
  <Override PartName="/ppt/media/image87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149-99F2-4C0C-84A4-F4CCC5A3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71B-E87D-4F4E-BF08-97AAF54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BDE-2A40-48CD-B921-A37B22A7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CEB-C526-4A09-A646-8E26EE0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F37D-BC9A-48B2-A446-210ECFE6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66B4-89E4-493B-8AFE-502904F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6AEA-A95F-4983-B273-CA20102D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C96-D375-486F-9FE5-1FB8F03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E286-B928-45B3-BFE9-9A64DE9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370-4BC0-42F6-83D2-90A8022A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11D-8AD3-4C33-A05E-F2A9D0A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276-91BD-4059-8769-B881531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23D-A1D5-4BFE-A9A6-677F139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6936-18EC-4CA9-A0B6-3D5C64F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ACC-7440-4603-88EA-49B334EE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F34D-309B-4006-94DC-89599644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EDC-143E-48D5-B674-7CD49626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0EF-E1C5-4561-86E3-43A86B0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D56-A7C8-46BD-A8A5-D5CAEB0E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50B-AA7F-41C6-8DCD-C83C81C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743-5104-4936-B248-FDB5C93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C0B-1F86-49AC-A453-6837DCA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97E-CAB2-41EE-80D7-F84AA18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D7B-0CD2-4B83-91FC-67FDB87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68A-DA33-4208-8FFC-F3FDB0361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443-8573-4F43-9BB0-3CF2A1D7E9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3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image" Target="../media/image93.jpeg"/><Relationship Id="rId5" Type="http://schemas.openxmlformats.org/officeDocument/2006/relationships/image" Target="../media/image93.jpeg"/><Relationship Id="rId6" Type="http://schemas.openxmlformats.org/officeDocument/2006/relationships/image" Target="../media/image93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4.jpe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628640"/>
            <a:ext cx="878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РИМИНАЛИСТИЧЕСКОЕ ПОЧЕРКОВЕДЕНИЕ                         И АВТОР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676520" y="152280"/>
            <a:ext cx="8076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КАФЕДРА УГОЛОВНОГО ПРОЦЕССА И КРИМИНА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0gerbTNU"/>
          <p:cNvPicPr/>
          <p:nvPr/>
        </p:nvPicPr>
        <p:blipFill>
          <a:blip r:embed="rId2"/>
          <a:stretch/>
        </p:blipFill>
        <p:spPr>
          <a:xfrm>
            <a:off x="395280" y="115920"/>
            <a:ext cx="1814400" cy="1338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76720" y="4221000"/>
            <a:ext cx="533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кция кандидата юридических наук, доц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ЙЛОВА МИХАИЛА АНАТОЛЬЕВИЧ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2536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ругие болезни, изменяющие почерк: опухоль мозга, болезнь Паркинсона, диффузный склероз головного мозга, прогрессивный паралич, маниакально-депрессивный психоз, шизофрени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600" y="3532320"/>
            <a:ext cx="2776680" cy="29210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987640" y="2451240"/>
            <a:ext cx="2405160" cy="40021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508720" y="3986280"/>
            <a:ext cx="3460680" cy="246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УМЫШЛЕННОЕ ИСКАЖЕНИЕ ПУТЕМ ПОДРАЖА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470480" cy="5040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89000"/>
            <a:ext cx="8713800" cy="1191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ПИСЬМЕННАЯ РЕЧЬ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ображает смысловую сторону письма, раскрывает смысл написанного, т.е. отображает интеллектуальные навыки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557360"/>
            <a:ext cx="4535640" cy="431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155736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ИЗНАКИ ПИСЬМЕН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40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ИЛИ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НЕРА ИЗЛОЖЕНИЯ МЫСЛЕЙ,ЯЗЫК,   АРХИТЕКТОНИК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4076640"/>
            <a:ext cx="2376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 СТИЛ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- публицистический;  - технический;               - разговорный;                    - деловой;                    - научный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4200" y="2276640"/>
            <a:ext cx="3241800" cy="4464000"/>
          </a:xfrm>
          <a:custGeom>
            <a:avLst/>
            <a:gdLst>
              <a:gd name="textAreaLeft" fmla="*/ 712800 w 3241800"/>
              <a:gd name="textAreaRight" fmla="*/ 2529000 w 324180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2421000"/>
            <a:ext cx="295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ЗНАНИЕ ИСПОЛНИТЕЛЕМ ОРФОГРАФИЧЕСКИХ И ГРАММАТИЧЕСКИХ ПРАВИЛ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37832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С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ЩИЙ СЛОВАРНЫЙ ЗАПАС И УПОТРЕБЛЕНИЕ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076640"/>
            <a:ext cx="237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онализмы -диалектизмы;               - варваризмы;                    - жаргонизмы;                          - архаизмы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667640" y="1341360"/>
            <a:ext cx="1332000" cy="111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87708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1052640"/>
            <a:ext cx="3743280" cy="26712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изующие почерк в целом как систему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052640"/>
            <a:ext cx="4968720" cy="2875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А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жающие особенности движений при написании отдельных букв, их частей и межбуквенных соеди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000" y="4149720"/>
            <a:ext cx="3708360" cy="2185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857680" cy="7146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2857680" cy="50508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068720" y="5805360"/>
            <a:ext cx="2664000" cy="9590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34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ладение техникой письма в соответствии с общепринятой системой скор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630600" cy="4941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176" name=""/>
          <p:cNvGrpSpPr/>
          <p:nvPr/>
        </p:nvGrpSpPr>
        <p:grpSpPr>
          <a:xfrm>
            <a:off x="4140360" y="2563920"/>
            <a:ext cx="4681440" cy="936360"/>
            <a:chOff x="4140360" y="2563920"/>
            <a:chExt cx="4681440" cy="936360"/>
          </a:xfrm>
        </p:grpSpPr>
        <p:sp>
          <p:nvSpPr>
            <p:cNvPr id="177" name=""/>
            <p:cNvSpPr/>
            <p:nvPr/>
          </p:nvSpPr>
          <p:spPr>
            <a:xfrm>
              <a:off x="4140360" y="25639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28526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л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40360" y="4076640"/>
            <a:ext cx="4681440" cy="936360"/>
            <a:chOff x="4140360" y="4076640"/>
            <a:chExt cx="4681440" cy="936360"/>
          </a:xfrm>
        </p:grpSpPr>
        <p:sp>
          <p:nvSpPr>
            <p:cNvPr id="180" name=""/>
            <p:cNvSpPr/>
            <p:nvPr/>
          </p:nvSpPr>
          <p:spPr>
            <a:xfrm>
              <a:off x="4140360" y="4076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4365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редне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140360" y="5805360"/>
            <a:ext cx="4681440" cy="936360"/>
            <a:chOff x="4140360" y="5805360"/>
            <a:chExt cx="4681440" cy="936360"/>
          </a:xfrm>
        </p:grpSpPr>
        <p:sp>
          <p:nvSpPr>
            <p:cNvPr id="183" name=""/>
            <p:cNvSpPr/>
            <p:nvPr/>
          </p:nvSpPr>
          <p:spPr>
            <a:xfrm>
              <a:off x="4140360" y="5805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6094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сок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067280" y="172080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ТЕПЕНЬ ВЫРАБОТАННОСТИ ПОЧЕРКА МОЖЕТ БЫТЬ ТОЛЬКО СНИЖЕНА ПИШУЩИМ, НАОБОРОТ-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578200" cy="49230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8" name=""/>
          <p:cNvSpPr/>
          <p:nvPr/>
        </p:nvSpPr>
        <p:spPr>
          <a:xfrm rot="10800000">
            <a:off x="178920" y="285264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31338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й по сложности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78920" y="4147920"/>
            <a:ext cx="3816360" cy="936360"/>
          </a:xfrm>
          <a:prstGeom prst="leftArrow">
            <a:avLst>
              <a:gd name="adj1" fmla="val 50000"/>
              <a:gd name="adj2" fmla="val 10189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78920" y="537372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654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жн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4308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ощ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1386000"/>
            <a:ext cx="38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ординация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мп пись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быстрый медленный сред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ожность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обладающая форма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4222800"/>
            <a:ext cx="3384720" cy="2158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240000" cy="2160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506920" y="1628640"/>
            <a:ext cx="331308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338472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75564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ДУ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64468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УГЛ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6446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ГООБРАЗН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АТ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е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4295520" cy="1162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267080" cy="1200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295520" cy="2114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10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11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56000" y="3573360"/>
            <a:ext cx="4681440" cy="936360"/>
            <a:chOff x="4356000" y="3573360"/>
            <a:chExt cx="4681440" cy="936360"/>
          </a:xfrm>
        </p:grpSpPr>
        <p:sp>
          <p:nvSpPr>
            <p:cNvPr id="214" name=""/>
            <p:cNvSpPr/>
            <p:nvPr/>
          </p:nvSpPr>
          <p:spPr>
            <a:xfrm>
              <a:off x="4356000" y="3573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7640" y="3862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62560" y="5373720"/>
            <a:ext cx="4681440" cy="936360"/>
            <a:chOff x="4462560" y="5373720"/>
            <a:chExt cx="4681440" cy="936360"/>
          </a:xfrm>
        </p:grpSpPr>
        <p:sp>
          <p:nvSpPr>
            <p:cNvPr id="217" name=""/>
            <p:cNvSpPr/>
            <p:nvPr/>
          </p:nvSpPr>
          <p:spPr>
            <a:xfrm>
              <a:off x="4462560" y="5373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94200" y="5662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мешан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428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1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почерка, определяется по средней высоте строчных бук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496040" cy="179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79280" y="4951440"/>
            <a:ext cx="4648320" cy="171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79280" y="3211560"/>
            <a:ext cx="4543560" cy="165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24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25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 (высота букв до 2 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28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354560" y="5445000"/>
            <a:ext cx="4681440" cy="936360"/>
            <a:chOff x="4354560" y="5445000"/>
            <a:chExt cx="4681440" cy="936360"/>
          </a:xfrm>
        </p:grpSpPr>
        <p:sp>
          <p:nvSpPr>
            <p:cNvPr id="231" name=""/>
            <p:cNvSpPr/>
            <p:nvPr/>
          </p:nvSpPr>
          <p:spPr>
            <a:xfrm>
              <a:off x="4354560" y="54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6200" y="57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высота букв более 5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гон почерка, определяется протяженностью движений по горизон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4105080" cy="1695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1544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1819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38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39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56000" y="1844640"/>
            <a:ext cx="4681440" cy="936360"/>
            <a:chOff x="4356000" y="1844640"/>
            <a:chExt cx="4681440" cy="936360"/>
          </a:xfrm>
        </p:grpSpPr>
        <p:sp>
          <p:nvSpPr>
            <p:cNvPr id="242" name=""/>
            <p:cNvSpPr/>
            <p:nvPr/>
          </p:nvSpPr>
          <p:spPr>
            <a:xfrm>
              <a:off x="4356000" y="1844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7640" y="2133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размашис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211640" y="5589720"/>
            <a:ext cx="4681440" cy="936360"/>
            <a:chOff x="4211640" y="5589720"/>
            <a:chExt cx="4681440" cy="936360"/>
          </a:xfrm>
        </p:grpSpPr>
        <p:sp>
          <p:nvSpPr>
            <p:cNvPr id="245" name=""/>
            <p:cNvSpPr/>
            <p:nvPr/>
          </p:nvSpPr>
          <p:spPr>
            <a:xfrm>
              <a:off x="4211640" y="5589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3280" y="5878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(сжа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71640" y="1700280"/>
            <a:ext cx="7515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риминалистическое исследование письма. Возможности почерковедческой эксперт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рядок получения образцов почерка и подписи для сравнитель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Автороведческие исследования в уголовном и граждан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kso"/>
          <p:cNvPicPr/>
          <p:nvPr/>
        </p:nvPicPr>
        <p:blipFill>
          <a:blip r:embed="rId2"/>
          <a:stretch/>
        </p:blipFill>
        <p:spPr>
          <a:xfrm>
            <a:off x="755640" y="189000"/>
            <a:ext cx="1895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клон по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1280" y="1557360"/>
            <a:ext cx="4572000" cy="18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429080" cy="1833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442764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08000" y="4076640"/>
            <a:ext cx="453528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50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шанн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22920" y="350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2920" y="6021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59500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17440"/>
            <a:ext cx="90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язность почер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а с выработанностью почерка и зависит от степени сформированности письменно-двигательного навыка. </a:t>
            </a:r>
            <a:r>
              <a:rPr b="1" lang="ru-RU" sz="1800" spc="-1" strike="noStrike">
                <a:solidFill>
                  <a:srgbClr val="f67676"/>
                </a:solidFill>
                <a:latin typeface="Arial"/>
              </a:rPr>
              <a:t>Это устойчивый признак и совершенствовать его не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816360" cy="10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03640" y="2276640"/>
            <a:ext cx="3816360" cy="11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50920" y="2292480"/>
            <a:ext cx="3817800" cy="113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50920" y="3792600"/>
            <a:ext cx="3816360" cy="107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50920" y="5259240"/>
            <a:ext cx="3889440" cy="11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826920" y="649116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645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редняя (от 4 до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пло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00" y="486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сокая (более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рывист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501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лая (не более 3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95280" y="1487520"/>
            <a:ext cx="3456000" cy="1749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456000" cy="1463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3456000" cy="1613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" name=""/>
          <p:cNvSpPr/>
          <p:nvPr/>
        </p:nvSpPr>
        <p:spPr>
          <a:xfrm>
            <a:off x="4356000" y="234936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арианты размещения даты и под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086200" cy="1266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057400" cy="1400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2199960" cy="137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11280" y="1341360"/>
            <a:ext cx="2143080" cy="1514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59280" y="2637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ИГУРАЦИЯ ЛИНИИ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008600" cy="19033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62160" cy="1933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484360" y="4437000"/>
            <a:ext cx="3962520" cy="18669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" name=""/>
          <p:cNvSpPr/>
          <p:nvPr/>
        </p:nvSpPr>
        <p:spPr>
          <a:xfrm>
            <a:off x="1116000" y="35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ОЖЕНИЕ СТ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ЧАСТНЫЕ 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56000" y="907920"/>
            <a:ext cx="1199880" cy="114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1638000" cy="11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4319280" cy="1949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706920" cy="5389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55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2556000" y="2349360"/>
            <a:ext cx="1224000" cy="1362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ИСПОЛЬЗОВАНИЕ ПОЧЕРКА ДЛЯ РОЗЫСКА И ИДЕНТИФИКАЦИИ ИСПОЛНИТЕЛЯ РУК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58840" y="1268280"/>
            <a:ext cx="2584440" cy="5329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71640" y="1700280"/>
            <a:ext cx="597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озыскная таблиц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 зарисовка наиболее характерных признаков почерка, которым исполнен документ. Составляется для розыска неизвестного исполнителя документа. Сравнение почерка осуществляет оперативный работник, следователь или по его поручению специалист-криминал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7676"/>
                </a:solidFill>
                <a:latin typeface="Calibri"/>
              </a:rPr>
              <a:t>2. Порядок получения образцов почерка и подписи для сравнительного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44720" cy="1865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9" name=""/>
          <p:cNvSpPr/>
          <p:nvPr/>
        </p:nvSpPr>
        <p:spPr>
          <a:xfrm>
            <a:off x="324000" y="220500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ОВЕДЧЕСКАЯ ЭКСПЕРТИ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ид криминалистической экспертизы, предметом которой служат факты, связанные с исполнением рукописных текстов, подписей, цифровых запи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20778000">
            <a:off x="395280" y="3573360"/>
            <a:ext cx="2422440" cy="296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1291800">
            <a:off x="5743080" y="4149360"/>
            <a:ext cx="3400560" cy="2266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80988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411280" y="1268280"/>
            <a:ext cx="6659640" cy="5516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4920" y="124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ИДЕНТИФИКАЦИОННЫЕ, ДИАГНОСТИЧЕСКИЕ И КЛАССИФИКАЦИОННЫЕ ЗАДАЧИ, РАЗРЕШАЕМЫЕ         С ПОМОЩЬЮ ПОЧЕРКОВЕДЧЕ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1484280"/>
            <a:ext cx="6264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ЕН ЛИ ТЕКСТ ДАННЫМ ИЛИ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ЕНА ПОДПИСЬ ОТ ИМЕНИ Н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ИМ ИЛИ РАЗНЫМИ ЛИЦАМИ ВЫПОЛНЕНЫ ТЕКСТЫ (ПОДПИСИ) В НЕСКОЛЬКИХ ДОКУМЕНТАХ ЛИБО ОТДЕЛЬНЫЕ ЧАСТИ ТЕКСТА В ОДНОМ ДОКУМЕН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 ВЫПОЛНЕНА ЛИ ИССЛЕДУЕМАЯ РУКОПИСЬ (ПОДПИСЬ) НАМЕРЕННО ИСКАЖЕННЫМ ПОЧЕРКОМ, ИЛИ С ПОДРАЖАНИЕМ ПОЧЕРКУ ОПРЕДЕЛЕННОГО ЛИЦА, ИЛИ В НЕОБЫЧНОЙ ОБСТАНОВКЕ, ИЛИ В НЕОБЫЧНОМ СОСТОЯНИИ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ДОПИСАНЫ ЛИ СЛОВА, ЦИФРЫ К ДАННОМУ ТЕКСТУ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ИЦОМ КАКОГО ПОЛА НАПИСАН ТЕКС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ОВ ВОЗРАСТ ИСПОЛНИТЕЛЯ РУКОПИС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757080" y="2349360"/>
            <a:ext cx="394812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676"/>
                </a:solidFill>
                <a:latin typeface="Calibri"/>
              </a:rPr>
              <a:t>ВИДЫ ОБРАЗЦОВ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000" y="692280"/>
            <a:ext cx="4464000" cy="2303280"/>
            <a:chOff x="108000" y="692280"/>
            <a:chExt cx="4464000" cy="2303280"/>
          </a:xfrm>
        </p:grpSpPr>
        <p:sp>
          <p:nvSpPr>
            <p:cNvPr id="309" name=""/>
            <p:cNvSpPr/>
            <p:nvPr/>
          </p:nvSpPr>
          <p:spPr>
            <a:xfrm>
              <a:off x="108000" y="692280"/>
              <a:ext cx="4464000" cy="230328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9280" y="1101600"/>
              <a:ext cx="42483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КСПЕРИМЕНТАЛЬНЫЕ ОБРАЗЦЫ –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 предложению следователя специально для сравнительного исследования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45080" y="4437000"/>
            <a:ext cx="4464000" cy="2303640"/>
            <a:chOff x="4645080" y="4437000"/>
            <a:chExt cx="4464000" cy="2303640"/>
          </a:xfrm>
        </p:grpSpPr>
        <p:sp>
          <p:nvSpPr>
            <p:cNvPr id="312" name=""/>
            <p:cNvSpPr/>
            <p:nvPr/>
          </p:nvSpPr>
          <p:spPr>
            <a:xfrm>
              <a:off x="4645080" y="4437000"/>
              <a:ext cx="4464000" cy="230364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32360" y="4797360"/>
              <a:ext cx="396072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СЛОВНО-СВОБОДНЫЕ ОБРАЗЦЫ-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СЛЕ РАССЛЕДУЕМОГО СОБЫТИЯ И ВНЕ СВЯЗИ С Н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643280" y="1989000"/>
            <a:ext cx="4464360" cy="23036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67280" y="234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БОДНЫЕ ОБРАЗЦЫ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УКОПИСИ И ПОДПИСИ, ВЫПОЛНЕННЫЕ                               ДО РАССЛЕДУЕМОГО СОБЫТИЯ    И ВНЕ СВЯЗИ С 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0920" y="3213000"/>
            <a:ext cx="4105080" cy="31734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f2f2f2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981000"/>
            <a:ext cx="79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, средство запечатления мысли человека с помощью языка и специально созданной системы условных обозначений (письменных знаков, письменности). В криминалистике является объектом почерковедческой и автороведческой эксперти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-612720" y="333360"/>
            <a:ext cx="102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КРИМИНАЛИСТИЧЕСКОЕ ИССЛЕДОВАНИЕ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0563200">
            <a:off x="0" y="4076280"/>
            <a:ext cx="2305080" cy="2082960"/>
          </a:xfrm>
          <a:prstGeom prst="rect">
            <a:avLst/>
          </a:prstGeom>
          <a:ln w="1260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20584800">
            <a:off x="6227640" y="3573000"/>
            <a:ext cx="3527640" cy="2646360"/>
          </a:xfrm>
          <a:prstGeom prst="rect">
            <a:avLst/>
          </a:prstGeom>
          <a:ln w="2844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rot="20240400">
            <a:off x="2771640" y="3635280"/>
            <a:ext cx="3426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55640" y="1414440"/>
            <a:ext cx="7777080" cy="417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898560" y="1557360"/>
            <a:ext cx="75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ые образцы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кументы личной и служебной переписки, автобиографии, заявления, конспек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жны соответствовать исследуемому тексту (подпис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 времени напис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темпу пись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условиям выполнения рукопис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состоянию писа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: не мене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-6 страниц рукописного текс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для свободных образцов подписи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 менее 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ыполненных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 разрывом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 rot="19816200">
            <a:off x="6876720" y="2276280"/>
            <a:ext cx="2592360" cy="19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62864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ЭКСПЕРИМЕНТАЛЬНЫЕ ОБРАЗЦ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должны бы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изки по содержан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 исследуемому тексту и выполнены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огичных усло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путем самостоятельного(из головы) написания какого-либо текста. Составляется, специальный связный текст, в котором повторяются слова, имеющиеся в исследуемом докумен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сли лицо, у которого отбираются образцы почерка, старается изменить почерк, 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ускорить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еличить объем текс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явить переры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чтобы пишущий забыл, какие изменения он вносил в поче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при помощ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шущего прибора того же ви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маге того же ка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по плотности, цвету, размерам, линовке) , что и исследуемый документа не менее чем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15 листа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кспериментальные подписи выполняются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6 листах по 10-15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подписей на каж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297560" y="260280"/>
            <a:ext cx="1846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3. АВТОРОВЕДЧЕСКИЕ ИССЛЕДОВАНИЯ В УГОЛОВНОМ И ГРАЖДАНСК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594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108000" y="31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0920" y="1197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ВТОРОВЕДЧЕСКАЯ ЭКСПЕРТИЗА, вид криминалистической экспертизы, исследование документов (рукописных, машинописных, полиграфических и др.) для установления автор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2421000"/>
            <a:ext cx="6769080" cy="936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95640" y="2421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КТ АВТОРОВЕДЧЕСКОЙ ЭКСПЕРТИЗЫ                    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то проявляющиеся в письменной речи языковые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573360"/>
            <a:ext cx="3240000" cy="576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24360" y="3573360"/>
            <a:ext cx="3240360" cy="576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71628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7905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60483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1640" y="498780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ексико-фразеологические, синтаксические, стилистические, орфографические, пункту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4726080"/>
            <a:ext cx="338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стойчивые языковые нарушения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определенных языков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ны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6360" y="1197000"/>
            <a:ext cx="5256000" cy="79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6360" y="1341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ли определенное лиц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2767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95280" y="3141720"/>
            <a:ext cx="8209080" cy="934920"/>
            <a:chOff x="395280" y="3141720"/>
            <a:chExt cx="8209080" cy="934920"/>
          </a:xfrm>
        </p:grpSpPr>
        <p:sp>
          <p:nvSpPr>
            <p:cNvPr id="344" name=""/>
            <p:cNvSpPr/>
            <p:nvPr/>
          </p:nvSpPr>
          <p:spPr>
            <a:xfrm>
              <a:off x="395280" y="3141720"/>
              <a:ext cx="8209080" cy="93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335772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ВТОРОМ ОПРЕДЕЛЕННОГО ДОКУМЕН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68360" y="4292640"/>
            <a:ext cx="8209080" cy="93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2720" y="429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СООТВЕТСТВУЮЩЕГО ФРАГМЕНТА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5445000"/>
            <a:ext cx="8209080" cy="93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272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НЕСКОЛЬКИХ РАЗ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ДИАГНОСТИЧЕСКИЕ И КЛАСС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0920" y="1557360"/>
            <a:ext cx="8785080" cy="503280"/>
            <a:chOff x="250920" y="1557360"/>
            <a:chExt cx="8785080" cy="503280"/>
          </a:xfrm>
        </p:grpSpPr>
        <p:sp>
          <p:nvSpPr>
            <p:cNvPr id="352" name=""/>
            <p:cNvSpPr/>
            <p:nvPr/>
          </p:nvSpPr>
          <p:spPr>
            <a:xfrm>
              <a:off x="250920" y="155736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2200" y="162864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920" y="162864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является ли язык исследуемого документа родным для его автор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0920" y="220500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200" y="2276640"/>
            <a:ext cx="864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220500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осителем какого наречия (говора)  языка является автор 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0920" y="2854440"/>
            <a:ext cx="8785080" cy="503280"/>
            <a:chOff x="250920" y="2854440"/>
            <a:chExt cx="8785080" cy="503280"/>
          </a:xfrm>
        </p:grpSpPr>
        <p:sp>
          <p:nvSpPr>
            <p:cNvPr id="359" name=""/>
            <p:cNvSpPr/>
            <p:nvPr/>
          </p:nvSpPr>
          <p:spPr>
            <a:xfrm>
              <a:off x="250920" y="285444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200" y="292572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0920" y="292572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каков образовательный уровень автора док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50920" y="350208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2200" y="3573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3429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ладает ли автор документа навыками научного (публицистического, делового) стиля письменной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50920" y="4078440"/>
            <a:ext cx="8785080" cy="502920"/>
            <a:chOff x="250920" y="4078440"/>
            <a:chExt cx="8785080" cy="502920"/>
          </a:xfrm>
        </p:grpSpPr>
        <p:sp>
          <p:nvSpPr>
            <p:cNvPr id="366" name=""/>
            <p:cNvSpPr/>
            <p:nvPr/>
          </p:nvSpPr>
          <p:spPr>
            <a:xfrm>
              <a:off x="250920" y="4078440"/>
              <a:ext cx="8785080" cy="50292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200" y="4149360"/>
              <a:ext cx="8641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0920" y="414936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составлен ли текст документа с намеренным искажением письменной реч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50920" y="4581360"/>
            <a:ext cx="1596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Я ГОТОВ ОТВЕТИТЬ НА ВАШИ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4005360"/>
            <a:ext cx="28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хайлов Михаил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0000gerbTNU"/>
          <p:cNvPicPr/>
          <p:nvPr/>
        </p:nvPicPr>
        <p:blipFill>
          <a:blip r:embed="rId2"/>
          <a:stretch/>
        </p:blipFill>
        <p:spPr>
          <a:xfrm>
            <a:off x="324000" y="4292640"/>
            <a:ext cx="18144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ИКТАНТ ДЛЯ ПРОВЕРКИ УРОВНЯ ОРФОГРАФИЧЕСКИХ ЗНАНИЙ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11253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щатой террасе близ цветущего конопляника  под аккомпанемент виолончели веснушчатая Агриппина Саввична, жена местного подьячего, потчевала коллежского асессора Филиппа Аполлоновича ветчиной и винегретом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928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 ИСТОРИИ ПОЧЕРКОВЕДЕ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781200"/>
            <a:ext cx="4608360" cy="228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179280" y="321300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ФОНС БЕРТИЛЬОН (1853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иметоописательного метода в графологической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1441440" cy="1433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97308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ло Дрейфуса (189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68360" y="5013360"/>
            <a:ext cx="1117800" cy="1440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2873520" cy="215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6922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Диплом рогоносца» и дуэль Пушкина (183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948360" y="1341360"/>
            <a:ext cx="1994040" cy="1506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020000" y="4915080"/>
            <a:ext cx="1973160" cy="1555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4140360" y="4941720"/>
            <a:ext cx="2319120" cy="1524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5364000" y="3573360"/>
            <a:ext cx="1046160" cy="1251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020000" y="3573360"/>
            <a:ext cx="1944720" cy="1225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4859280" y="2924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мский странник Федор Кузьмич – это не Александр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?(18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84640"/>
            <a:ext cx="8424720" cy="1584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8000" y="1413000"/>
            <a:ext cx="3095640" cy="3528720"/>
            <a:chOff x="108000" y="1413000"/>
            <a:chExt cx="3095640" cy="3528720"/>
          </a:xfrm>
        </p:grpSpPr>
        <p:sp>
          <p:nvSpPr>
            <p:cNvPr id="110" name=""/>
            <p:cNvSpPr/>
            <p:nvPr/>
          </p:nvSpPr>
          <p:spPr>
            <a:xfrm>
              <a:off x="10800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ХН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60720" y="1413000"/>
            <a:ext cx="3095640" cy="3528720"/>
            <a:chOff x="3060720" y="1413000"/>
            <a:chExt cx="3095640" cy="3528720"/>
          </a:xfrm>
        </p:grpSpPr>
        <p:sp>
          <p:nvSpPr>
            <p:cNvPr id="113" name=""/>
            <p:cNvSpPr/>
            <p:nvPr/>
          </p:nvSpPr>
          <p:spPr>
            <a:xfrm>
              <a:off x="306072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200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РАФ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67280" y="1413000"/>
            <a:ext cx="3095640" cy="3528720"/>
            <a:chOff x="5867280" y="1413000"/>
            <a:chExt cx="3095640" cy="3528720"/>
          </a:xfrm>
        </p:grpSpPr>
        <p:sp>
          <p:nvSpPr>
            <p:cNvPr id="116" name=""/>
            <p:cNvSpPr/>
            <p:nvPr/>
          </p:nvSpPr>
          <p:spPr>
            <a:xfrm>
              <a:off x="586728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560" y="15573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ВЫКИ ПИСЬМЕННОЙ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4920" y="2133720"/>
            <a:ext cx="324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ПОСАДКА                     ПРИ ПИС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РАСПОЛОЖЕНИ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ДЕРЖАНИЕ ПИШУЩЕГО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3897360"/>
            <a:ext cx="1306800" cy="103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59280" y="2060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7676"/>
                </a:solidFill>
                <a:latin typeface="Arial"/>
              </a:rPr>
              <a:t>ВОСПРОИЗВЕДЕНИЕ ПИСЬМЕННЫХ ЗНАКОВ И ИХ 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04000" y="2276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ЛОВАРНЫЙ СОСТАВ, ПОСТРОЕНИЕ  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92360" y="3284640"/>
            <a:ext cx="215928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877080" y="3141720"/>
            <a:ext cx="1163520" cy="17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468360" y="5229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, индивидуальная и динамически устойчивая программа графической техники письма, в основе которой лежит зрительно-двигательный образ выполнения рукописи, реализуемая с помощью системы дв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760" y="1440000"/>
            <a:ext cx="4322880" cy="242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303640"/>
            <a:ext cx="3962520" cy="4365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4932360" y="141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следуемый текст, выполненный К., в состоянии алкогольного опья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9337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очерка К., выполненный в привычных усло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7840" y="2349360"/>
            <a:ext cx="4681440" cy="3548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86360" y="1197000"/>
            <a:ext cx="3995640" cy="5111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179280" y="170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исьма Ж. в нормальном нервно-психическ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6453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едсмертная записка Ж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ОЗРАСТ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932360" y="3284640"/>
            <a:ext cx="3876840" cy="3322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3852720" cy="4548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144360" y="177336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ЗРЕЛ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85264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ПРЕКЛОН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4468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кст, выполненный лицом, страдающим атеросклерозом:         1-извитость штрихов, 2- угловатость штри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856720" cy="3255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55:26Z</dcterms:created>
  <dc:creator>SOFIKO</dc:creator>
  <dc:description/>
  <dc:language>en-US</dc:language>
  <cp:lastModifiedBy>Mikhail</cp:lastModifiedBy>
  <dcterms:modified xsi:type="dcterms:W3CDTF">2012-11-06T05:48:13Z</dcterms:modified>
  <cp:revision>85</cp:revision>
  <dc:subject/>
  <dc:title>БРАЧНО – СЕМЕЙНОЕ ПРАВО</dc:title>
</cp:coreProperties>
</file>