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3.png" ContentType="image/png"/>
  <Override PartName="/ppt/media/image11.wmf" ContentType="image/x-wmf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B24C-F381-452E-83F3-6E99FF5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5D9D-C34E-4593-B27C-4300A7FA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AF41-620D-44AC-AB39-2B309E7D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B726-86F5-4B10-83AD-B45F6A6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CAA5-AB90-4B4A-A9CD-A561A483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0B3-B98A-48C5-996D-E4EEB64D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C91-7663-4FAF-AFAF-6F37799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E3BD-4509-40B3-AF7F-FCCE2715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05A7-898B-447F-95B0-C0B6D055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D483-E7F4-4994-B44E-AA17C16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E0A2-3C96-4EAB-B870-0C3CDB5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31FC-D01D-439E-8635-4DD63169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E8F9-B6B7-4900-A83A-344DDA4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F2D0-29FD-4997-BBEF-A7BACC7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26AB-28A2-406A-972B-8CE9D585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3C6E-D02B-499E-9708-A2423C86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86B-403F-443B-82B2-39724930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1DF7-B9DE-41ED-A632-6D224EB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E9D9-6B39-41DB-A5DB-8102BCA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62E8-66CE-4326-A6B3-933150E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327B-19CA-4257-AA65-6D9A229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C854-5B36-4004-92B1-F9FEAFE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0FC9-3312-440E-9A93-594EC23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7AAC-5B13-4E40-BB84-F0CFDB6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36D7-6937-48F4-A061-2CB559DE9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011-B5E8-4E03-A08E-A3E860C320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ill Sans Ultra Bold Condensed"/>
              </a:rPr>
              <a:t>Экономика и государство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64000" y="508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8000" y="5373720"/>
            <a:ext cx="410508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к обществознания в 10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Брединская  СОШ №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слина С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нешние эффект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1773360"/>
            <a:ext cx="7848720" cy="5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ные с производством или потреблением благ издержки и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третьих 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9640" y="2997360"/>
            <a:ext cx="3168720" cy="208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ник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держек у других лиц ,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е произ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потребления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80000" y="2997360"/>
            <a:ext cx="2952720" cy="20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в случ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явления у эт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ц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Стабилизационное направлени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здоровление «заболевшей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3141720"/>
            <a:ext cx="287964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юджетно -  налог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фискаль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51640" y="3213000"/>
            <a:ext cx="2879640" cy="16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едитно-денеж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монетар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Структурное направ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е сбалансирован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Государственная поддержка особо важных для развития всей страны отрас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оизводство общественных б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Прив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йствие конкуренции  и ограничение монопол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Методы государственного воздействия на рынок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5640" y="1773360"/>
            <a:ext cx="2376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я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6720" y="1773360"/>
            <a:ext cx="244800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св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" y="3213000"/>
            <a:ext cx="259236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онодательная деятельность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24360" y="3141720"/>
            <a:ext cx="19429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ы денежно-кредит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84720" y="3213000"/>
            <a:ext cx="2087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юджетно-налоговая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63640" y="2349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003640" y="2349360"/>
            <a:ext cx="1368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72360" y="2349360"/>
            <a:ext cx="1079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260280"/>
            <a:ext cx="6553440" cy="1297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ханизмы государственного регул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ой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220500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скаль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16360" y="378936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27640" y="2276640"/>
            <a:ext cx="2519640" cy="93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62864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184464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948360" y="1700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ЫНОК и ГОСУДАРСТВО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Arial"/>
              </a:rPr>
              <a:t>Государст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Arial"/>
              <a:ea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ав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626" name="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Госзаказ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629" name="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6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налог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Финансов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денеж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исте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Экономическо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ограмм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16000" y="260280"/>
            <a:ext cx="6696000" cy="93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авления в экономической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6920" y="2133720"/>
            <a:ext cx="288144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51640" y="2060640"/>
            <a:ext cx="288108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йнсиаское 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0000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.Юм,М. Фрид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.Кей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1128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268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2997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4836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keynes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51468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9" name=""/>
          <p:cNvSpPr/>
          <p:nvPr/>
        </p:nvSpPr>
        <p:spPr>
          <a:xfrm>
            <a:off x="3924360" y="537372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бщая теория занятости, процента и денег» («Кейнсианская революция»). 1936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486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жон Кейн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83 – 194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40360" y="260280"/>
            <a:ext cx="3887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дающийся учёный-экономист соврем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ронник активного финансового вмешательства государства в экономику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функции выполняет государство в экономической жиз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существуют основные методы воздействия государства на экономик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- Должны ли существовать пределы вмешательства государства в экономику? Если да, то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68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68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" y="380880"/>
            <a:ext cx="8458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b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Роль государства в эконом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895480" y="2438280"/>
            <a:ext cx="3429000" cy="2210040"/>
            <a:chOff x="2895480" y="2438280"/>
            <a:chExt cx="3429000" cy="2210040"/>
          </a:xfrm>
        </p:grpSpPr>
        <p:sp>
          <p:nvSpPr>
            <p:cNvPr id="656" name=""/>
            <p:cNvSpPr/>
            <p:nvPr/>
          </p:nvSpPr>
          <p:spPr>
            <a:xfrm>
              <a:off x="3200400" y="2438280"/>
              <a:ext cx="2514600" cy="2210040"/>
            </a:xfrm>
            <a:prstGeom prst="sun">
              <a:avLst>
                <a:gd name="adj" fmla="val 25000"/>
              </a:avLst>
            </a:prstGeom>
            <a:solidFill>
              <a:srgbClr val="dfde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5480" y="32767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ОСУДАР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3429000" y="128268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510552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9920" y="5105520"/>
            <a:ext cx="259056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65760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365760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1295280"/>
            <a:ext cx="2971800" cy="1981440"/>
            <a:chOff x="228600" y="1295280"/>
            <a:chExt cx="2971800" cy="1981440"/>
          </a:xfrm>
        </p:grpSpPr>
        <p:sp>
          <p:nvSpPr>
            <p:cNvPr id="664" name=""/>
            <p:cNvSpPr/>
            <p:nvPr/>
          </p:nvSpPr>
          <p:spPr>
            <a:xfrm>
              <a:off x="22860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135900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щита механизма конкуренции от недобросовестной конкурен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19920" y="1295280"/>
            <a:ext cx="2971800" cy="1981440"/>
            <a:chOff x="6019920" y="1295280"/>
            <a:chExt cx="2971800" cy="1981440"/>
          </a:xfrm>
        </p:grpSpPr>
        <p:sp>
          <p:nvSpPr>
            <p:cNvPr id="667" name=""/>
            <p:cNvSpPr/>
            <p:nvPr/>
          </p:nvSpPr>
          <p:spPr>
            <a:xfrm>
              <a:off x="601992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9920" y="152388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стабильного законодатель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429000" y="1359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гулирование денежных средст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37036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мощь социально незащищен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38080" y="5105520"/>
            <a:ext cx="2590920" cy="1143000"/>
            <a:chOff x="838080" y="5105520"/>
            <a:chExt cx="2590920" cy="1143000"/>
          </a:xfrm>
        </p:grpSpPr>
        <p:sp>
          <p:nvSpPr>
            <p:cNvPr id="672" name=""/>
            <p:cNvSpPr/>
            <p:nvPr/>
          </p:nvSpPr>
          <p:spPr>
            <a:xfrm>
              <a:off x="838080" y="5105520"/>
              <a:ext cx="2590920" cy="1143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8080" y="51516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Охрана прав потребител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581280" y="51055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нтроль за качеством товар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19920" y="51055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щита экономических интересов стра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храна окружающей сре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гативные стороны рыночной экономик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пособствует сохранению невоспроизводимых ресурсов, не имеет экономического механизма защиты окружающей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тимулирует крупные проекты, не дающие быстрой выг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обеспечивает фундаментальные исследования в нау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вержен нестабильному развитию со спадами и инфля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сёт в себе опасность безрабо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ожет значительно усилить имущественную дифференци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Вывод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осударство долж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хранять экономические своб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мпенсировать слабости ры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пособствовать смягчению слишком больших различий в уровнях доходов и богатства гражд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68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68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2630520" cy="37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324000" y="69228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наменитый английский экономист, сторонник свободной развивающейся, основанной на конкурентных началах эконом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27813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отрицал регулирующую роль госуд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378936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Государство должно ограждать общество от насилия и внешней агрессии, защищать жизнь и имущество граждан, содержать армию, полицию, органы правосуд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8360" y="436572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дам См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23-17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0920" y="876240"/>
            <a:ext cx="8642160" cy="5238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32000" y="5445000"/>
            <a:ext cx="712764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веция  Бельгия  Великобр. Германия   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24000" y="2637000"/>
            <a:ext cx="503280" cy="273672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360" y="2565360"/>
            <a:ext cx="574920" cy="280836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32360" y="2924280"/>
            <a:ext cx="576360" cy="244944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72360" y="1844640"/>
            <a:ext cx="50472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40720" y="1844640"/>
            <a:ext cx="57636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4005360"/>
            <a:ext cx="576360" cy="13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16360" y="5157720"/>
            <a:ext cx="57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56000" y="4076640"/>
            <a:ext cx="576360" cy="1297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9600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1916280"/>
            <a:ext cx="576360" cy="288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87640" y="1916280"/>
            <a:ext cx="576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47640" y="1413000"/>
            <a:ext cx="79236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1413000"/>
            <a:ext cx="100800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71640" y="836640"/>
            <a:ext cx="446436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работица в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5373720"/>
            <a:ext cx="705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03280" y="1844640"/>
            <a:ext cx="0" cy="35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628640"/>
            <a:ext cx="1008000" cy="4353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1844640"/>
            <a:ext cx="6913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2421000"/>
            <a:ext cx="4969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77080" y="24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2997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6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0872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7708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2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872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414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27280" y="42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0872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7708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03280" y="4797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67280" y="4797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0872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7708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337440" cy="63374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851280" y="404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езработные  австралийки отыскивают съестное в отхо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26160" cy="65944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84360" y="549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98100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лаготворительные столовые для безработных.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72360" cy="4438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55640" y="5084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работные в ночлежках. США. 20-30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Экономическая политика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:1) обеспечить экономически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Создать условия экономической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Обеспечивать экономическую безопасность и эффект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Заботиться об обеспечении полной занят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Оказывать помощь тем, кто не может себя полностью обеспеч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59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Franklin Gothic Medium Cond"/>
              </a:rPr>
              <a:t>Экономические функции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052640"/>
            <a:ext cx="251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2060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1916280"/>
            <a:ext cx="2879640" cy="161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анение последствий, порождаемых несовершенствами ры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1916280"/>
            <a:ext cx="30970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распределение доходов и богат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0000" y="3429000"/>
            <a:ext cx="252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огообложение доходов и иму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429000"/>
            <a:ext cx="2016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е трансфер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4221000"/>
            <a:ext cx="2268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рьба с монополизацией рын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5445000"/>
            <a:ext cx="259056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общественных благ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создание армии, тамож. службы, «Скорой помощи»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4724280"/>
            <a:ext cx="3600720" cy="113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улирование конфликтов, порождаемых внешними эффектами или затратам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защита эколог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43280" y="1484280"/>
            <a:ext cx="93672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19640" y="1484280"/>
            <a:ext cx="108108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835280" y="3573360"/>
            <a:ext cx="72072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56000" y="357336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56000" y="3573360"/>
            <a:ext cx="1439640" cy="1150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643280" y="2637000"/>
            <a:ext cx="115416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4360" y="2565360"/>
            <a:ext cx="187200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68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68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6:31:36Z</dcterms:created>
  <dc:creator>Server1</dc:creator>
  <dc:description/>
  <dc:language>en-US</dc:language>
  <cp:lastModifiedBy>Кабинет истории</cp:lastModifiedBy>
  <dcterms:modified xsi:type="dcterms:W3CDTF">2010-01-29T07:25:24Z</dcterms:modified>
  <cp:revision>21</cp:revision>
  <dc:subject/>
  <dc:title>Экономическая политика государства</dc:title>
</cp:coreProperties>
</file>