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3.png" ContentType="image/png"/>
  <Override PartName="/ppt/media/image11.wmf" ContentType="image/x-wmf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F838-22FB-4147-B750-90D8EE6A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1CE4-BAC3-4FA7-B0D7-42DA2C44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17A1-CD20-4E7F-8EEE-68BE6C6E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1095-CFF3-4B43-8005-7E577429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905F-A58D-4C12-B459-01DAF050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3B6F-ACF4-41B1-AE18-C0F2205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B371-DF55-497A-A356-DC845F5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7FE0-8D26-4671-B5E1-C46B63A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EBC6-4F0E-473E-9AF9-8D7486F2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25FF-0C63-48E6-B6D4-24FBFCEA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58F5-DF22-4392-8576-241122D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756D-9828-4C4F-AE26-891D1A15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B1FA-7B81-4F1E-983E-AD23B2C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D987-9167-4BFE-9FAD-5820A3A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F2F5-072F-4C17-BC27-ED2991BC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00C4-47C8-4A50-9839-A9768E4A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E4FD-20DE-4371-AF95-7CBC1984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2C8A-EA14-4E94-88C7-A225394F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DAAB-F615-4B21-81B0-FDA63C66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2AC0-7863-4F81-9141-BE29151F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1860-FEA7-4EF0-B27E-9B18FDC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4D22-EF2D-4901-B82E-DB9068C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A4BE-BFBA-464E-8E4D-939B615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948F-71B1-4111-B6ED-2F31B58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57D4-F38C-4619-89DA-11A3A48C06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ED4E-01A1-4061-ACB7-17CDB6FACF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ill Sans Ultra Bold Condensed"/>
              </a:rPr>
              <a:t>Экономика и государство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64000" y="5084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88000" y="5373720"/>
            <a:ext cx="410508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ок обществознания в 10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Брединская  СОШ №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слина С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нешние эффект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9640" y="1773360"/>
            <a:ext cx="7848720" cy="57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язанные с производством или потреблением благ издержки и вы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третьих 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9640" y="2997360"/>
            <a:ext cx="3168720" cy="208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ник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держек у других лиц ,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е произво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потребления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80000" y="2997360"/>
            <a:ext cx="2952720" cy="20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в случа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явления у эт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ц вы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5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Стабилизационное направлени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а на оздоровление «заболевшей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3141720"/>
            <a:ext cx="287964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юджетно -  налог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фискальная)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651640" y="3213000"/>
            <a:ext cx="2879640" cy="16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едитно-денеж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монетарная)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Структурное направл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е сбалансированного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Государственная поддержка особо важных для развития всей страны отрас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оизводство общественных б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Приват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одействие конкуренции  и ограничение монопол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Методы государственного воздействия на рынок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5640" y="1773360"/>
            <a:ext cx="2376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я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76720" y="1773360"/>
            <a:ext cx="244800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св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4000" y="3213000"/>
            <a:ext cx="259236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онодательная деятельность госуда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24360" y="3141720"/>
            <a:ext cx="19429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ы денежно-кредит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84720" y="3213000"/>
            <a:ext cx="208764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юджетно-налоговая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63640" y="2349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003640" y="2349360"/>
            <a:ext cx="136872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72360" y="2349360"/>
            <a:ext cx="107928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87280" y="260280"/>
            <a:ext cx="6553440" cy="1297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ханизмы государственного регул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ой эконом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4000" y="2205000"/>
            <a:ext cx="2519280" cy="93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скальная пол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16360" y="3789360"/>
            <a:ext cx="2519280" cy="93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етарная пол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27640" y="2276640"/>
            <a:ext cx="2519640" cy="936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162864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1844640"/>
            <a:ext cx="432000" cy="1584360"/>
          </a:xfrm>
          <a:prstGeom prst="downArrow">
            <a:avLst>
              <a:gd name="adj1" fmla="val 50000"/>
              <a:gd name="adj2" fmla="val 9168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948360" y="1700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ЫНОК и ГОСУДАРСТВО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Arial"/>
              </a:rPr>
              <a:t>Государств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Arial"/>
              <a:ea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ав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регул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626" name="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Госзаказ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629" name="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6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налог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Финансов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едит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регул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634" name="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едитн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денеж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исте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637" name="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Экономическо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ограмм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16000" y="260280"/>
            <a:ext cx="6696000" cy="93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авления в экономической те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26920" y="2133720"/>
            <a:ext cx="288144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етари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51640" y="2060640"/>
            <a:ext cx="288108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йнсиаское на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00000" y="4005360"/>
            <a:ext cx="259236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.Юм,М. Фрид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005360"/>
            <a:ext cx="259236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.Кей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11280" y="1268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268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68360" y="2997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48360" y="2997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keynes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514680" cy="45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9" name=""/>
          <p:cNvSpPr/>
          <p:nvPr/>
        </p:nvSpPr>
        <p:spPr>
          <a:xfrm>
            <a:off x="3924360" y="537372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Общая теория занятости, процента и денег» («Кейнсианская революция»). 1936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4869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жон Кейн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883 – 1946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40360" y="260280"/>
            <a:ext cx="3887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дающийся учёный-экономист соврем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ронник активного финансового вмешательства государства в экономику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ие функции выполняет государство в экономической жиз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ие существуют основные методы воздействия государства на экономик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- Должны ли существовать пределы вмешательства государства в экономику? Если да, то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68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68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" y="380880"/>
            <a:ext cx="84582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b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Роль государства в экономи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895480" y="2438280"/>
            <a:ext cx="3429000" cy="2210040"/>
            <a:chOff x="2895480" y="2438280"/>
            <a:chExt cx="3429000" cy="2210040"/>
          </a:xfrm>
        </p:grpSpPr>
        <p:sp>
          <p:nvSpPr>
            <p:cNvPr id="656" name=""/>
            <p:cNvSpPr/>
            <p:nvPr/>
          </p:nvSpPr>
          <p:spPr>
            <a:xfrm>
              <a:off x="3200400" y="2438280"/>
              <a:ext cx="2514600" cy="2210040"/>
            </a:xfrm>
            <a:prstGeom prst="sun">
              <a:avLst>
                <a:gd name="adj" fmla="val 25000"/>
              </a:avLst>
            </a:prstGeom>
            <a:solidFill>
              <a:srgbClr val="dfde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95480" y="327672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ГОСУДАР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3429000" y="1282680"/>
            <a:ext cx="228600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5105520"/>
            <a:ext cx="22860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9920" y="5105520"/>
            <a:ext cx="259056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657600"/>
            <a:ext cx="22860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3657600"/>
            <a:ext cx="228600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8600" y="1295280"/>
            <a:ext cx="2971800" cy="1981440"/>
            <a:chOff x="228600" y="1295280"/>
            <a:chExt cx="2971800" cy="1981440"/>
          </a:xfrm>
        </p:grpSpPr>
        <p:sp>
          <p:nvSpPr>
            <p:cNvPr id="664" name=""/>
            <p:cNvSpPr/>
            <p:nvPr/>
          </p:nvSpPr>
          <p:spPr>
            <a:xfrm>
              <a:off x="228600" y="1295280"/>
              <a:ext cx="2971800" cy="19814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135900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Защита механизма конкуренции от недобросовестной конкурен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19920" y="1295280"/>
            <a:ext cx="2971800" cy="1981440"/>
            <a:chOff x="6019920" y="1295280"/>
            <a:chExt cx="2971800" cy="1981440"/>
          </a:xfrm>
        </p:grpSpPr>
        <p:sp>
          <p:nvSpPr>
            <p:cNvPr id="667" name=""/>
            <p:cNvSpPr/>
            <p:nvPr/>
          </p:nvSpPr>
          <p:spPr>
            <a:xfrm>
              <a:off x="6019920" y="1295280"/>
              <a:ext cx="2971800" cy="19814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19920" y="152388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оздание стабильного законодатель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3429000" y="13590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егулирование денежных средст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37036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мощь социально незащищенны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38080" y="5105520"/>
            <a:ext cx="2590920" cy="1143000"/>
            <a:chOff x="838080" y="5105520"/>
            <a:chExt cx="2590920" cy="1143000"/>
          </a:xfrm>
        </p:grpSpPr>
        <p:sp>
          <p:nvSpPr>
            <p:cNvPr id="672" name=""/>
            <p:cNvSpPr/>
            <p:nvPr/>
          </p:nvSpPr>
          <p:spPr>
            <a:xfrm>
              <a:off x="838080" y="5105520"/>
              <a:ext cx="2590920" cy="11430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8080" y="51516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Охрана прав потребител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581280" y="51055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нтроль за качеством товар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19920" y="510552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ащита экономических интересов стран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храна окружающей сре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Негативные стороны рыночной экономик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способствует сохранению невоспроизводимых ресурсов, не имеет экономического механизма защиты окружающей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стимулирует крупные проекты, не дающие быстрой выг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обеспечивает фундаментальные исследования в нау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вержен нестабильному развитию со спадами и инфля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сёт в себе опасность безработ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ожет значительно усилить имущественную дифференци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Вывод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осударство долж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Охранять экономические своб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омпенсировать слабости ры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пособствовать смягчению слишком больших различий в уровнях доходов и богатства гражд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68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68" fill="hold"/>
                                        <p:tgtEl>
                                          <p:spTgt spid="6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68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68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2630520" cy="374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324000" y="69228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наменитый английский экономист, сторонник свободной развивающейся, основанной на конкурентных началах эконом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278136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отрицал регулирующую роль госуда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378936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Государство должно ограждать общество от насилия и внешней агрессии, защищать жизнь и имущество граждан, содержать армию, полицию, органы правосуд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8360" y="436572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дам См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23-17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0920" y="876240"/>
            <a:ext cx="8642160" cy="5238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32000" y="5445000"/>
            <a:ext cx="712764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веция  Бельгия  Великобр. Германия   С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124000" y="2637000"/>
            <a:ext cx="503280" cy="273672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92360" y="2565360"/>
            <a:ext cx="574920" cy="280836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32360" y="2924280"/>
            <a:ext cx="576360" cy="244944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72360" y="1844640"/>
            <a:ext cx="504720" cy="352908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40720" y="1844640"/>
            <a:ext cx="576360" cy="352908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4005360"/>
            <a:ext cx="576360" cy="1368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16360" y="5157720"/>
            <a:ext cx="57600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56000" y="4076640"/>
            <a:ext cx="576360" cy="1297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96000" y="4292640"/>
            <a:ext cx="576360" cy="108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64360" y="4292640"/>
            <a:ext cx="576360" cy="108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1916280"/>
            <a:ext cx="576360" cy="288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87640" y="1916280"/>
            <a:ext cx="57636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47640" y="1413000"/>
            <a:ext cx="792360" cy="398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1413000"/>
            <a:ext cx="1008000" cy="398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71640" y="836640"/>
            <a:ext cx="446436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зработица в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5373720"/>
            <a:ext cx="705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03280" y="1844640"/>
            <a:ext cx="0" cy="352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1628640"/>
            <a:ext cx="1008000" cy="4353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03280" y="1844640"/>
            <a:ext cx="6913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03280" y="2421000"/>
            <a:ext cx="4969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77080" y="24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2997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6728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08720" y="29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77080" y="29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03280" y="36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627280" y="3645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67280" y="3645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872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708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403280" y="4149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27280" y="4221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0872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7708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03280" y="4797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67280" y="4797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508720" y="4797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77080" y="4797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337440" cy="63374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851280" y="404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Безработные  австралийки отыскивают съестное в отхо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626160" cy="65944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684360" y="549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98100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Благотворительные столовые для безработных. С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72360" cy="4438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55640" y="5084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зработные в ночлежках. США. 20-30 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Экономическая политика государ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:1) обеспечить экономически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Создать условия экономической 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Обеспечивать экономическую безопасность и эффектив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Заботиться об обеспечении полной занят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Оказывать помощь тем, кто не может себя полностью обеспеч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5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59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Franklin Gothic Medium Cond"/>
              </a:rPr>
              <a:t>Экономические функции государ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052640"/>
            <a:ext cx="251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206064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1916280"/>
            <a:ext cx="2879640" cy="161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ранение последствий, порождаемых несовершенствами ры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8000" y="1916280"/>
            <a:ext cx="30970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распределение доходов и богат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0000" y="3429000"/>
            <a:ext cx="2520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огообложение доходов и иму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429000"/>
            <a:ext cx="2016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циальные трансфер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4221000"/>
            <a:ext cx="2268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орьба с монополизацией рын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1280" y="5445000"/>
            <a:ext cx="259056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ние общественных благ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создание армии, тамож. службы, «Скорой помощи»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92360" y="4724280"/>
            <a:ext cx="3600720" cy="113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улирование конфликтов, порождаемых внешними эффектами или затратам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защита экологи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843280" y="1484280"/>
            <a:ext cx="93672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19640" y="1484280"/>
            <a:ext cx="108108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835280" y="3573360"/>
            <a:ext cx="72072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56000" y="357336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56000" y="3573360"/>
            <a:ext cx="1439640" cy="1150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4643280" y="2637000"/>
            <a:ext cx="115416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24360" y="2565360"/>
            <a:ext cx="187200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68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68" fill="hold"/>
                                        <p:tgtEl>
                                          <p:spTgt spid="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6:31:36Z</dcterms:created>
  <dc:creator>Server1</dc:creator>
  <dc:description/>
  <dc:language>en-US</dc:language>
  <cp:lastModifiedBy>Кабинет истории</cp:lastModifiedBy>
  <dcterms:modified xsi:type="dcterms:W3CDTF">2010-01-29T07:25:24Z</dcterms:modified>
  <cp:revision>21</cp:revision>
  <dc:subject/>
  <dc:title>Экономическая политика государства</dc:title>
</cp:coreProperties>
</file>