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3.png" ContentType="image/png"/>
  <Override PartName="/ppt/media/image11.wmf" ContentType="image/x-wmf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3411-0630-4646-A767-BEB11418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8F04-437A-492B-96A5-131B698D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F61D-4D2A-4FD4-B135-C0700954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35D7-B19D-4D35-818E-4A33B2C4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0017-99B0-44CF-B640-B4F2BFD9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9A27-C925-4148-A026-9ED9CCAA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2A6D-22CF-4D2B-A42C-0537479E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459F-4FE0-4BBB-8107-E645872D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53BA-E479-410F-B061-4A348CF3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C885-68E7-40E3-93F3-D4BD5062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FE8B-B7F4-4DF8-ACA6-BB82311C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15AB-AD50-4F51-853F-1C9208D4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8949-7A78-4055-9D58-B6CABD97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C86B-EB43-4A85-8BE2-AEEF9238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7AE8-E26C-4378-A7FA-5182918F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4BEF-3792-4269-BE3A-3FA8CFFB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F125-EC08-4A1B-AF91-6AFAEB25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238D-1836-4A43-9727-9D7C8346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9614-C425-4308-A436-2C38001A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347E-7869-4E1B-B1FC-7EB4A628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B6E8-B850-418D-9548-CD2C82CE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EAAE-2C12-47DD-9AAB-F9B2EC2E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ECF0-405F-411A-A191-A3159182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8684-54AB-45A3-99E5-13B54691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D02A-1A91-48D3-BCFB-F3C500A8AE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3C1F-A338-412F-94FA-91E18E89EE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ill Sans Ultra Bold Condensed"/>
              </a:rPr>
              <a:t>Экономика и государство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64000" y="5084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88000" y="5373720"/>
            <a:ext cx="410508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ок обществознания в 10кла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У Брединская  СОШ №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услина С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Внешние эффект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9640" y="1773360"/>
            <a:ext cx="7848720" cy="57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язанные с производством или потреблением благ издержки и вы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третьих  л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39640" y="2997360"/>
            <a:ext cx="3168720" cy="208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Отрицательные-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зник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держек у других лиц ,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е произво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и потребления тов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80000" y="2997360"/>
            <a:ext cx="2952720" cy="201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оложительны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в случа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явления у эт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ц выг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5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fdef6"/>
                </a:solidFill>
                <a:uFillTx/>
                <a:latin typeface="Arial"/>
              </a:rPr>
              <a:t>Стабилизационное направлени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авлена на оздоровление «заболевшей» эконом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" y="3141720"/>
            <a:ext cx="287964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юджетно -  налогов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фискальная) поли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651640" y="3213000"/>
            <a:ext cx="2879640" cy="165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едитно-денеж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монетарная) поли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Структурное направл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е сбалансированного 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Государственная поддержка особо важных для развития всей страны отрас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роизводство общественных бла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Приват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одействие конкуренции  и ограничение монопол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Методы государственного воздействия на рынок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55640" y="1773360"/>
            <a:ext cx="2376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ям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76720" y="1773360"/>
            <a:ext cx="244800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свен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4000" y="3213000"/>
            <a:ext cx="259236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конодательная деятельность госуда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24360" y="3141720"/>
            <a:ext cx="19429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ы денежно-кредитной поли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084720" y="3213000"/>
            <a:ext cx="208764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юджетно-налоговая поли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63640" y="234936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003640" y="2349360"/>
            <a:ext cx="1368720" cy="79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372360" y="2349360"/>
            <a:ext cx="107928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87280" y="260280"/>
            <a:ext cx="6553440" cy="1297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ханизмы государственного регул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ыночной эконом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4000" y="2205000"/>
            <a:ext cx="2519280" cy="936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скальная поли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16360" y="3789360"/>
            <a:ext cx="2519280" cy="936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етарная поли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227640" y="2276640"/>
            <a:ext cx="2519640" cy="936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979640" y="1628640"/>
            <a:ext cx="431640" cy="505080"/>
          </a:xfrm>
          <a:prstGeom prst="downArrow">
            <a:avLst>
              <a:gd name="adj1" fmla="val 50000"/>
              <a:gd name="adj2" fmla="val 29254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95640" y="1844640"/>
            <a:ext cx="432000" cy="1584360"/>
          </a:xfrm>
          <a:prstGeom prst="downArrow">
            <a:avLst>
              <a:gd name="adj1" fmla="val 50000"/>
              <a:gd name="adj2" fmla="val 91688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948360" y="170028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ЫНОК и ГОСУДАРСТВО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noFill/>
                <a:latin typeface="Arial"/>
              </a:rPr>
              <a:t>Государств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noFill/>
              <a:latin typeface="Arial"/>
              <a:ea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равов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регул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626" name="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Госзаказы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629" name="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6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налог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Финансов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редит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регул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634" name="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редитн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денеж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систем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637" name="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Экономическо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рограммиров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16000" y="260280"/>
            <a:ext cx="6696000" cy="93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авления в экономической те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26920" y="2133720"/>
            <a:ext cx="288144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етари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51640" y="2060640"/>
            <a:ext cx="288108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ейнсиаское напра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00000" y="4005360"/>
            <a:ext cx="259236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.Юм,М. Фридм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867280" y="4005360"/>
            <a:ext cx="259236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.Кей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11280" y="1268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59640" y="1268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268360" y="2997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948360" y="299736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keynes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514680" cy="45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9" name=""/>
          <p:cNvSpPr/>
          <p:nvPr/>
        </p:nvSpPr>
        <p:spPr>
          <a:xfrm>
            <a:off x="3924360" y="537372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Общая теория занятости, процента и денег» («Кейнсианская революция»). 1936 г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4869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жон Кейн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883 – 1946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140360" y="260280"/>
            <a:ext cx="3887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дающийся учёный-экономист соврем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оронник активного финансового вмешательства государства в экономику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Ответьте на вопрос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акие функции выполняет государство в экономической жиз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акие существуют основные методы воздействия государства на экономик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- Должны ли существовать пределы вмешательства государства в экономику? Если да, то поче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68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68" fill="hold"/>
                                        <p:tgtEl>
                                          <p:spTgt spid="6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68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68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28600" y="380880"/>
            <a:ext cx="84582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b5b8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Роль государства в экономи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895480" y="2438280"/>
            <a:ext cx="3429000" cy="2210040"/>
            <a:chOff x="2895480" y="2438280"/>
            <a:chExt cx="3429000" cy="2210040"/>
          </a:xfrm>
        </p:grpSpPr>
        <p:sp>
          <p:nvSpPr>
            <p:cNvPr id="656" name=""/>
            <p:cNvSpPr/>
            <p:nvPr/>
          </p:nvSpPr>
          <p:spPr>
            <a:xfrm>
              <a:off x="3200400" y="2438280"/>
              <a:ext cx="2514600" cy="2210040"/>
            </a:xfrm>
            <a:prstGeom prst="sun">
              <a:avLst>
                <a:gd name="adj" fmla="val 25000"/>
              </a:avLst>
            </a:prstGeom>
            <a:solidFill>
              <a:srgbClr val="dfdef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95480" y="327672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ГОСУДАР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3429000" y="1282680"/>
            <a:ext cx="2286000" cy="1143000"/>
          </a:xfrm>
          <a:prstGeom prst="foldedCorner">
            <a:avLst>
              <a:gd name="adj" fmla="val 125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5105520"/>
            <a:ext cx="2286000" cy="1143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19920" y="5105520"/>
            <a:ext cx="2590560" cy="1143000"/>
          </a:xfrm>
          <a:prstGeom prst="foldedCorner">
            <a:avLst>
              <a:gd name="adj" fmla="val 125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24480" y="3657600"/>
            <a:ext cx="2286000" cy="1143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3657600"/>
            <a:ext cx="2286000" cy="1143000"/>
          </a:xfrm>
          <a:prstGeom prst="foldedCorner">
            <a:avLst>
              <a:gd name="adj" fmla="val 125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28600" y="1295280"/>
            <a:ext cx="2971800" cy="1981440"/>
            <a:chOff x="228600" y="1295280"/>
            <a:chExt cx="2971800" cy="1981440"/>
          </a:xfrm>
        </p:grpSpPr>
        <p:sp>
          <p:nvSpPr>
            <p:cNvPr id="664" name=""/>
            <p:cNvSpPr/>
            <p:nvPr/>
          </p:nvSpPr>
          <p:spPr>
            <a:xfrm>
              <a:off x="228600" y="1295280"/>
              <a:ext cx="2971800" cy="198144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8600" y="135900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Защита механизма конкуренции от недобросовестной конкурен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019920" y="1295280"/>
            <a:ext cx="2971800" cy="1981440"/>
            <a:chOff x="6019920" y="1295280"/>
            <a:chExt cx="2971800" cy="1981440"/>
          </a:xfrm>
        </p:grpSpPr>
        <p:sp>
          <p:nvSpPr>
            <p:cNvPr id="667" name=""/>
            <p:cNvSpPr/>
            <p:nvPr/>
          </p:nvSpPr>
          <p:spPr>
            <a:xfrm>
              <a:off x="6019920" y="1295280"/>
              <a:ext cx="2971800" cy="198144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19920" y="152388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оздание стабильного законодательств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3429000" y="13590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егулирование денежных средст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370368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мощь социально незащищенны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38080" y="5105520"/>
            <a:ext cx="2590920" cy="1143000"/>
            <a:chOff x="838080" y="5105520"/>
            <a:chExt cx="2590920" cy="1143000"/>
          </a:xfrm>
        </p:grpSpPr>
        <p:sp>
          <p:nvSpPr>
            <p:cNvPr id="672" name=""/>
            <p:cNvSpPr/>
            <p:nvPr/>
          </p:nvSpPr>
          <p:spPr>
            <a:xfrm>
              <a:off x="838080" y="5105520"/>
              <a:ext cx="2590920" cy="114300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8080" y="515160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Охрана прав потребител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3581280" y="510552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онтроль за качеством товар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019920" y="510552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ащита экономических интересов стран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324480" y="36576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храна окружающей сред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Негативные стороны рыночной экономик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499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 способствует сохранению невоспроизводимых ресурсов, не имеет экономического механизма защиты окружающей ср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 стимулирует крупные проекты, не дающие быстрой выг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 обеспечивает фундаментальные исследования в нау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вержен нестабильному развитию со спадами и инфля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сёт в себе опасность безработ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ожет значительно усилить имущественную дифференци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68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68" fill="hold"/>
                                        <p:tgtEl>
                                          <p:spTgt spid="5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dfdef6"/>
                </a:solidFill>
                <a:uFillTx/>
                <a:latin typeface="Arial"/>
              </a:rPr>
              <a:t>Вывод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Государство долж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Охранять экономические своб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Компенсировать слабости ры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пособствовать смягчению слишком больших различий в уровнях доходов и богатства гражд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768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5" dur="768" fill="hold"/>
                                        <p:tgtEl>
                                          <p:spTgt spid="6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7" dur="768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9" dur="768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292720" y="404640"/>
            <a:ext cx="2630520" cy="374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21" name=""/>
          <p:cNvSpPr/>
          <p:nvPr/>
        </p:nvSpPr>
        <p:spPr>
          <a:xfrm>
            <a:off x="324000" y="692280"/>
            <a:ext cx="49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наменитый английский экономист, сторонник свободной развивающейся, основанной на конкурентных началах эконом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278136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отрицал регулирующую роль госуда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3789360"/>
            <a:ext cx="47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Государство должно ограждать общество от насилия и внешней агрессии, защищать жизнь и имущество граждан, содержать армию, полицию, органы правосуд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48360" y="4365720"/>
            <a:ext cx="266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дам См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23-17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50920" y="876240"/>
            <a:ext cx="8642160" cy="52387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32000" y="5445000"/>
            <a:ext cx="712764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веция  Бельгия  Великобр. Германия   С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124000" y="2637000"/>
            <a:ext cx="503280" cy="273672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92360" y="2565360"/>
            <a:ext cx="574920" cy="280836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32360" y="2924280"/>
            <a:ext cx="576360" cy="244944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372360" y="1844640"/>
            <a:ext cx="504720" cy="352908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40720" y="1844640"/>
            <a:ext cx="576360" cy="3529080"/>
          </a:xfrm>
          <a:prstGeom prst="rect">
            <a:avLst/>
          </a:prstGeom>
          <a:solidFill>
            <a:srgbClr val="fc33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4005360"/>
            <a:ext cx="576360" cy="1368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916360" y="5157720"/>
            <a:ext cx="576000" cy="21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56000" y="4076640"/>
            <a:ext cx="576360" cy="1297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96000" y="4292640"/>
            <a:ext cx="576360" cy="1081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64360" y="4292640"/>
            <a:ext cx="576360" cy="1081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1916280"/>
            <a:ext cx="576360" cy="288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987640" y="1916280"/>
            <a:ext cx="576360" cy="288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47640" y="1413000"/>
            <a:ext cx="792360" cy="398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3280" y="1413000"/>
            <a:ext cx="1008000" cy="398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71640" y="836640"/>
            <a:ext cx="446436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езработица в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5373720"/>
            <a:ext cx="705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03280" y="1844640"/>
            <a:ext cx="0" cy="352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1628640"/>
            <a:ext cx="1008000" cy="4353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03280" y="1844640"/>
            <a:ext cx="69138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03280" y="2421000"/>
            <a:ext cx="4969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77080" y="24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03280" y="2997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27280" y="29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067280" y="29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508720" y="299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77080" y="2997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03280" y="3645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627280" y="3645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67280" y="3645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0872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7708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403280" y="4149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627280" y="4221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067280" y="422100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50872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7708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403280" y="4797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9736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067280" y="479736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508720" y="4797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77080" y="4797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337440" cy="63374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851280" y="404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Безработные  австралийки отыскивают съестное в отход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626160" cy="65944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684360" y="54936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98100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Благотворительные столовые для безработных. СШ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72360" cy="44388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755640" y="5084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зработные в ночлежках. США. 20-30 г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Экономическая политика государст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и:1) обеспечить экономический 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Создать условия экономической своб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Обеспечивать экономическую безопасность и эффектив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Заботиться об обеспечении полной занят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Оказывать помощь тем, кто не может себя полностью обеспеч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5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596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Franklin Gothic Medium Cond"/>
              </a:rPr>
              <a:t>Экономические функции государст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1052640"/>
            <a:ext cx="2519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6920" y="206064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360" y="1916280"/>
            <a:ext cx="2879640" cy="1618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странение последствий, порождаемых несовершенствами ры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88000" y="1916280"/>
            <a:ext cx="309708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распределение доходов и богат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80000" y="3429000"/>
            <a:ext cx="2520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огообложение доходов и иму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43640" y="3429000"/>
            <a:ext cx="2016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циальные трансфер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79280" y="4221000"/>
            <a:ext cx="2268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орьба с монополизацией рын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1280" y="5445000"/>
            <a:ext cx="259056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здание общественных благ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создание армии, тамож. службы, «Скорой помощи»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92360" y="4724280"/>
            <a:ext cx="3600720" cy="113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гулирование конфликтов, порождаемых внешними эффектами или затратам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защита экологи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843280" y="1484280"/>
            <a:ext cx="93672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19640" y="1484280"/>
            <a:ext cx="108108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835280" y="3573360"/>
            <a:ext cx="72072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56000" y="357336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56000" y="3573360"/>
            <a:ext cx="1439640" cy="1150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4643280" y="2637000"/>
            <a:ext cx="115416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24360" y="2565360"/>
            <a:ext cx="1872000" cy="86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68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68" fill="hold"/>
                                        <p:tgtEl>
                                          <p:spTgt spid="5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68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68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6:31:36Z</dcterms:created>
  <dc:creator>Server1</dc:creator>
  <dc:description/>
  <dc:language>en-US</dc:language>
  <cp:lastModifiedBy>Кабинет истории</cp:lastModifiedBy>
  <dcterms:modified xsi:type="dcterms:W3CDTF">2010-01-29T07:25:24Z</dcterms:modified>
  <cp:revision>21</cp:revision>
  <dc:subject/>
  <dc:title>Экономическая политика государства</dc:title>
</cp:coreProperties>
</file>