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449-46F9-45AF-B395-449BD5DA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379-94C5-4556-A38B-20D00CE6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72FC-DA9C-4B21-BE46-C71A5BE8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A4E-7B00-47BD-9EB1-0CD37F2D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D14D-BD56-4B12-94E8-A6A7712C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DC43-6E6E-4A5A-8112-D607EB44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961F-9367-405B-98AE-88444B5E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4B08-889B-4A8C-ACD4-4523C45F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861D-8D01-48BE-A152-6429A5F8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1909-AA6D-4C6B-BFED-AFA14F5B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8747-DCBF-4144-9899-2E627A6E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A8E-B66F-473F-9C51-CB8243B6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6FC7-2186-4690-8E5C-5D83F424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6AB3-0FF6-41B4-A630-7062A0EE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575C-4F68-44BA-8CE5-618BA634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041E-398C-460A-BA1E-6B2A1756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9EA6-59CE-43B5-965C-31C104AA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A845-1F8D-490E-AC0C-FA839D7A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F51-A713-43B8-A15D-AF20A8C6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8E2-B415-4264-B460-8E218EFC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F4C-A834-49BF-A24F-CE8814F0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8DE-430B-4A62-BF3D-03ABE8B2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4FB-D0B2-4712-8AEF-B9C89D77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926-B7EF-4007-9CC9-CF7EF396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3C0F-26F8-437B-838B-2C7C6AC816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E252-7B5E-424F-A1D3-FDAEB072AEEE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7640" y="259920"/>
            <a:ext cx="87850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Карагандинский Государственный Медицинский университет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Кафедра нормальной анатоми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  <a:ea typeface="Calibri"/>
              </a:rPr>
              <a:t>C</a:t>
            </a:r>
            <a:r>
              <a:rPr b="0" lang="ru-RU" sz="5400" spc="-1" strike="noStrike">
                <a:solidFill>
                  <a:srgbClr val="ffffcc"/>
                </a:solidFill>
                <a:latin typeface="Times New Roman"/>
                <a:ea typeface="Calibri"/>
              </a:rPr>
              <a:t>РС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Calibri"/>
              </a:rPr>
              <a:t>На тему: «</a:t>
            </a:r>
            <a:r>
              <a:rPr b="0" lang="ru-MD" sz="2400" spc="-1" strike="noStrike">
                <a:solidFill>
                  <a:srgbClr val="ffffcc"/>
                </a:solidFill>
                <a:latin typeface="Times New Roman"/>
                <a:ea typeface="Calibri"/>
              </a:rPr>
              <a:t>Варианты расположения червеобразного отростка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Calibri"/>
              </a:rPr>
              <a:t>»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Выполнил</a:t>
            </a:r>
            <a:r>
              <a:rPr b="0" lang="kk-KZ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а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: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c</a:t>
            </a:r>
            <a:r>
              <a:rPr b="0" lang="kk-KZ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тудент 274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 гр.О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Токен А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.С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Calibri"/>
              </a:rPr>
              <a:t>Проверила:         Авдонина А.Г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  <a:ea typeface="Calibri"/>
              </a:rPr>
              <a:t>Караганда 201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4440240" cy="515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53_05"/>
          <p:cNvPicPr/>
          <p:nvPr/>
        </p:nvPicPr>
        <p:blipFill>
          <a:blip r:embed="rId2"/>
          <a:stretch/>
        </p:blipFill>
        <p:spPr>
          <a:xfrm>
            <a:off x="324000" y="1125360"/>
            <a:ext cx="424800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Брюшинный покров, брыжей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3640" y="2049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Слепая кишка и червеобразный отросток покрыты брюшиной со всех сторон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Он имеет свою брыжейку,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mesenteriolum appendicis vermiformis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, которая в большинстве случаев представляет собой дубликатуру брюшины треугольной формы. Брыжейка червеобразного отростка,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mesoappendix </a:t>
            </a: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может быть длинной или короткой, ширина ее у основания достигает 3—4 см., тянется обычно до самого конца его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4284720" y="1989000"/>
            <a:ext cx="470988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Кровоснабжение 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9640" y="1981080"/>
            <a:ext cx="79185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Варианты отхождения 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. 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appendicis vermiformi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1 — a. ileocolica; 2 — a. appendicis vermiformis; 3 — ileum; 4 — appendix vermiformis; 5 — caecum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Рисунок 3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56880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53_01"/>
          <p:cNvPicPr/>
          <p:nvPr/>
        </p:nvPicPr>
        <p:blipFill>
          <a:blip r:embed="rId1"/>
          <a:stretch/>
        </p:blipFill>
        <p:spPr>
          <a:xfrm>
            <a:off x="900000" y="387360"/>
            <a:ext cx="4751640" cy="63244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6227640" y="2349360"/>
            <a:ext cx="270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ровоснабжение илеоцекального угл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ЛИМФАТИЧЕСКАЯ СИСТЕМА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Лимфатические сосуды и узлы илеоцекального угла (вид сзади)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1 —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aecum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; 2 —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ppendix vermiformis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; 3 — лимфатические сосуды брыжейки червеобразного отростка; 4 —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leum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; 5 — илеоцекальные узлы; 6 —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leocolica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Рисунок 3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46213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ИННЕРВАЦИЯ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10920" y="1981080"/>
            <a:ext cx="78469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Иннервация илеоцекального угла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1 — a. ileocolica; 2 — 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нервные ветви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lexus mesenterici superioris; 3 — ileum; 4 — a. appendicis vermiformis; 5 — appendix vermiformis; 6 — caecum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Рисунок 4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399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Функции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аппендикс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1. рудимент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2. миндалина кишечника (барьер)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3. выработка лимфоцитов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4. влияет на рост организма через гипофиз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5. влияет на перистальтику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6. влияет на формирование скелета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7. влияет на функцию вегетативной нервной системы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8. "зрачок" брюшной полости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9. имеет мощную иннервацию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Список использованной литературы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Cинельников</a:t>
            </a:r>
            <a:r>
              <a:rPr b="0" lang="kk-KZ" sz="2400" spc="-1" strike="noStrike">
                <a:solidFill>
                  <a:srgbClr val="ffffcc"/>
                </a:solidFill>
                <a:latin typeface="Times New Roman"/>
              </a:rPr>
              <a:t> Р.Ф.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Атлас анатомии человека1990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айворонский И. В. Нормальная анатомия человека.2004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айворонский И. В. Нормальная анатомия человека.</a:t>
            </a:r>
            <a:r>
              <a:rPr b="0" lang="kk-KZ" sz="2400" spc="-1" strike="noStrike">
                <a:solidFill>
                  <a:srgbClr val="ffffcc"/>
                </a:solidFill>
                <a:latin typeface="Times New Roman"/>
              </a:rPr>
              <a:t>Т.1,2.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2004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апин М.Р. Анатомия человека. </a:t>
            </a:r>
            <a:r>
              <a:rPr b="0" lang="kk-KZ" sz="2400" spc="-1" strike="noStrike">
                <a:solidFill>
                  <a:srgbClr val="ffffcc"/>
                </a:solidFill>
                <a:latin typeface="Times New Roman"/>
              </a:rPr>
              <a:t>К-1,2. 2006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Синельников Р.Д. Атлас анатомии человека</a:t>
            </a:r>
            <a:r>
              <a:rPr b="0" lang="kk-KZ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2007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Содержание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Анатомия червеобразного отростк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оекция, положение, синтопия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Брюшинный покров, брыжейк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ровоснабжение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Лимфатическая система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Иннервация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писок использованной литературы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Анатомия червеобразного отростк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Червеобразный отросток, appendix vermiformis, отходит чаще всего от заднемедиальной стенки слепой кишки. Червеобразный отросток открывается в полость слепой кишки отверстием,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stium appendicis vermiformis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. Длина его непостоянна, она колеблется от 4 до 12 см, и наиболее часто бывает равна 8—10 см. Средняя толщина отростка 5-6 мм. Диаметр отростка достигает 0,4—1,2 см, в среднем — 0,7 см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9280" y="981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Слепая кишка (вскрыта) и червеобразный отросток. 1 - илеоцекальное отверстие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stium ileocaecale); 2 -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подвздошная кишка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leum); 3 -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отверстие червеобразного отростка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stium appendicis vermiformis); 4 -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червеобразный отросток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ppendix vermiformis); 5 -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слепая кишка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ecum); 6 -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илеоцекальный клапан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valva ileocaecali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4033800" y="836640"/>
            <a:ext cx="51008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роекция, положение, синтопия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505400" cy="388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Главные проекционные точки основания червеобразного отростка на переднюю брюшную стенку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 algn="just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 algn="just"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Проекция основания отростка на переднюю брюшную стенку весьма непостоянна. Наиболее часто основание проецируется на границе средней и правой трети lin. biiliaca (точка Ланца) или на границе нижней и средней трети линии, соединяющей пупок с передней верхней остью подвздошной кости (точка Мак Бурнея)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900000" y="5516640"/>
            <a:ext cx="3851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alibri"/>
                <a:ea typeface="Calibri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Calibri"/>
                <a:ea typeface="Calibri"/>
              </a:rPr>
              <a:t>1 — точка Мак Бурнея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Calibri"/>
                <a:ea typeface="Calibri"/>
              </a:rPr>
              <a:t>    </a:t>
            </a:r>
            <a:r>
              <a:rPr b="0" lang="ru-RU" sz="2400" spc="-1" strike="noStrike">
                <a:solidFill>
                  <a:srgbClr val="ffffcc"/>
                </a:solidFill>
                <a:latin typeface="Calibri"/>
                <a:ea typeface="Calibri"/>
              </a:rPr>
              <a:t>2 — точка Ланца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10920" y="404640"/>
            <a:ext cx="78469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арианты положения червеобразного отростка по отношению к слепой кишк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а — медиальное положение; б — нисходящее (тазовое положение); в — восходящее (ретроцекальное) положение; г — восходящее (переднее) положени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554364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94920" y="764640"/>
            <a:ext cx="38098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Варианты расположения червеобразного отростка по отношению к слепой кишке (вид спереди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1 — ретроцекальное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2 — заднее субцекальное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3 — заднее илеоцекальное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Первые три положения часто сочетаются с экстраперито-неальным расположением червеобразного отростк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4 — прецекальное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5 — переднее илеоцекальное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6 — тазовое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7— переднее субцекально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4356000" y="779400"/>
            <a:ext cx="47880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53_07"/>
          <p:cNvPicPr/>
          <p:nvPr/>
        </p:nvPicPr>
        <p:blipFill>
          <a:blip r:embed="rId1"/>
          <a:stretch/>
        </p:blipFill>
        <p:spPr>
          <a:xfrm>
            <a:off x="468360" y="0"/>
            <a:ext cx="571644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72000" y="609480"/>
            <a:ext cx="2771640" cy="598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Ретроперитонеальное размещение червеобразного отростка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53_04"/>
          <p:cNvPicPr/>
          <p:nvPr/>
        </p:nvPicPr>
        <p:blipFill>
          <a:blip r:embed="rId1"/>
          <a:stretch/>
        </p:blipFill>
        <p:spPr>
          <a:xfrm>
            <a:off x="-9360" y="0"/>
            <a:ext cx="65736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6732720" y="609480"/>
            <a:ext cx="1725480" cy="52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6877080" y="609480"/>
            <a:ext cx="158112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724360" y="609480"/>
            <a:ext cx="2733840" cy="49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6804000" y="981000"/>
            <a:ext cx="18702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5940360" y="825480"/>
            <a:ext cx="27338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48000" y="609120"/>
            <a:ext cx="2016360" cy="562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Левостороннее размещение червеобразного отростка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1:32:56Z</dcterms:created>
  <dc:creator>sergiy</dc:creator>
  <dc:description/>
  <dc:language>en-US</dc:language>
  <cp:lastModifiedBy>User</cp:lastModifiedBy>
  <dcterms:modified xsi:type="dcterms:W3CDTF">2012-12-27T19:08:08Z</dcterms:modified>
  <cp:revision>51</cp:revision>
  <dc:subject/>
  <dc:title>Презентация PowerPoint</dc:title>
</cp:coreProperties>
</file>