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A59-D133-45D9-9657-344F1721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B03-B213-49AF-A593-D326C9C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3B7-1F1A-422D-BF10-2FC18F83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56F-3446-4E80-BF0F-1485A22B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3533-C573-4E99-AECC-5BF194F5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E6DD-8A06-46A4-B4F7-AE3A0ED7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9148-B9F9-44DD-943F-DA5D4E54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211D-028A-4D64-AA0D-8E8ED463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C8FF-D3F2-4AC1-A215-859A2F5B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887-F464-40D9-9A88-4EC8D3AB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65D5-3182-4EE7-8D35-C1DF01D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66E-54F1-4FF3-8CE3-FB7EF639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D7A6-AE76-4531-80C9-79F70B5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B67D-6D8A-4523-86C1-9E06656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7B2-0826-4256-B7D3-CCD48EC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62D-D03D-4805-B6C6-68874C5C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2FE-FEEC-452D-AF11-CAA7FF0D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5E8-A3E0-46C7-B053-92A0CACE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D99-1255-4698-91A8-C887160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F94-C8AF-4310-B5F7-66770221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D1A-6468-496C-836E-C2D1B17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5AA-46C1-4B92-BDCB-E8E43ED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6D1-3D7A-4B22-BADF-5BE23B3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505-81C5-41A4-9A44-3E121FB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4CFC-7A78-42B2-9DD2-39EA356AAE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B69D-9E52-4AFB-A836-7212C2D6B1E9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7640" y="25992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рагандинский Государственный Медицинский университе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федра нормальной анатоми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Calibri"/>
              </a:rPr>
              <a:t>C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Calibri"/>
              </a:rPr>
              <a:t>РС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На тему: «</a:t>
            </a:r>
            <a:r>
              <a:rPr b="0" lang="ru-MD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Варианты расположения червеобразного отростк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Выполнил</a:t>
            </a: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c</a:t>
            </a: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тудент 274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 гр.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Токен 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.С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Проверила:         Авдонина А.Г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раганда 201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440240" cy="515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53_05"/>
          <p:cNvPicPr/>
          <p:nvPr/>
        </p:nvPicPr>
        <p:blipFill>
          <a:blip r:embed="rId2"/>
          <a:stretch/>
        </p:blipFill>
        <p:spPr>
          <a:xfrm>
            <a:off x="324000" y="1125360"/>
            <a:ext cx="424800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рюшинный покров, брыжей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3640" y="2049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Слепая кишка и червеобразный отросток покрыты брюшиной со всех сторон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Он имеет свою брыжейку,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esenteriolum appendicis vermiformis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, которая в большинстве случаев представляет собой дубликатуру брюшины треугольной формы. Брыжейка червеобразного отростка,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esoappendix 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жет быть длинной или короткой, ширина ее у основания достигает 3—4 см., тянется обычно до самого конца его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47098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Кровоснабжение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1981080"/>
            <a:ext cx="7918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Варианты отхождения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ppendicis vermiformi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 — a. ileocolica; 2 — a. appendicis vermiformis; 3 — ileum; 4 — appendix vermiformis; 5 — caecum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5688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53_01"/>
          <p:cNvPicPr/>
          <p:nvPr/>
        </p:nvPicPr>
        <p:blipFill>
          <a:blip r:embed="rId1"/>
          <a:stretch/>
        </p:blipFill>
        <p:spPr>
          <a:xfrm>
            <a:off x="900000" y="387360"/>
            <a:ext cx="47516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6227640" y="2349360"/>
            <a:ext cx="27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ровоснабжение илеоцекального угл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ИМФАТИЧЕСКАЯ СИСТЕМА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Лимфатические сосуды и узлы илеоцекального угла (вид сзади)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1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ecum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2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ppendix vermiformis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3 — лимфатические сосуды брыжейки червеобразного отростка; 4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eum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5 — илеоцекальные узлы; 6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eocolica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621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ННЕРВАЦИЯ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0920" y="1981080"/>
            <a:ext cx="7846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Иннервация илеоцекального угла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 — a. ileocolica; 2 —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нервные ветви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lexus mesenterici superioris; 3 — ileum; 4 — a. appendicis vermiformis; 5 — appendix vermiformis; 6 — caecum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39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Функции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ппендикс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. рудимент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. миндалина кишечника (барьер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3. выработка лимфоцитов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. влияет на рост организма через гипофиз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5. влияет на перистальтику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6. влияет на формирование скелета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7. влияет на функцию вегетативной нервной системы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8. "зрачок" брюшной полости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. имеет мощную иннерваци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писок использованной литературы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Cинельников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 Р.Ф.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Атлас анатомии человека1990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айворонский И. В. Нормальная анатомия человека.200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айворонский И. В. Нормальная анатомия человека.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Т.1,2.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00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апин М.Р. Анатомия человека. 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К-1,2. 2006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нельников Р.Д. Атлас анатомии человека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007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натомия червеобразного отрост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екция, положение, синтоп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рюшинный покров, брыжей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ровоснабжение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имфатическая систем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ннервац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писок использованной литератур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натомия червеобразного отрост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ервеобразный отросток, appendix vermiformis, отходит чаще всего от заднемедиальной стенки слепой кишки. Червеобразный отросток открывается в полость слепой кишки отверстием,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stium appendicis vermiformis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 Длина его непостоянна, она колеблется от 4 до 12 см, и наиболее часто бывает равна 8—10 см. Средняя толщина отростка 5-6 мм. Диаметр отростка достигает 0,4—1,2 см, в среднем — 0,7 см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9280" y="981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лепая кишка (вскрыта) и червеобразный отросток. 1 - илеоцекальное отверстие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tium ileocaecale); 2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одвздошная киш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eum); 3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отверстие червеобразного отрост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tium appendicis vermiformis); 4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червеобразный отросток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ppendix vermiformis); 5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лепая киш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ecum); 6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леоцекальный клапан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valva ileocaecali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033800" y="836640"/>
            <a:ext cx="5100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роекция, положение, синтопия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505400" cy="388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Главные проекционные точки основания червеобразного отростка на переднюю брюшную стенку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Проекция основания отростка на переднюю брюшную стенку весьма непостоянна. Наиболее часто основание проецируется на границе средней и правой трети lin. biiliaca (точка Ланца) или на границе нижней и средней трети линии, соединяющей пупок с передней верхней остью подвздошной кости (точка Мак Бурнея)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900000" y="5516640"/>
            <a:ext cx="3851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alibri"/>
                <a:ea typeface="Calibri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1 — точка Мак Бурнея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alibri"/>
                <a:ea typeface="Calibri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2 — точка Ланц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10920" y="404640"/>
            <a:ext cx="78469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арианты положения червеобразного отростка по отношению к слепой кишк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а — медиальное положение; б — нисходящее (тазовое положение); в — восходящее (ретроцекальное) положение; г — восходящее (переднее) положени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55436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4920" y="764640"/>
            <a:ext cx="3809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арианты расположения червеобразного отростка по отношению к слепой кишке (вид спереди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1 — ретро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2 — заднее суб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3 — заднее илеоцекальное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ервые три положения часто сочетаются с экстраперито-неальным расположением червеобразного отростк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4 — пре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5 — переднее илео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6 — тазов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7— переднее субцекально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356000" y="779400"/>
            <a:ext cx="4788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53_07"/>
          <p:cNvPicPr/>
          <p:nvPr/>
        </p:nvPicPr>
        <p:blipFill>
          <a:blip r:embed="rId1"/>
          <a:stretch/>
        </p:blipFill>
        <p:spPr>
          <a:xfrm>
            <a:off x="468360" y="0"/>
            <a:ext cx="57164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72000" y="609480"/>
            <a:ext cx="277164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Ретроперитонеальное размещение червеобразного отростка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53_04"/>
          <p:cNvPicPr/>
          <p:nvPr/>
        </p:nvPicPr>
        <p:blipFill>
          <a:blip r:embed="rId1"/>
          <a:stretch/>
        </p:blipFill>
        <p:spPr>
          <a:xfrm>
            <a:off x="-9360" y="0"/>
            <a:ext cx="65736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6732720" y="609480"/>
            <a:ext cx="172548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877080" y="609480"/>
            <a:ext cx="15811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24360" y="609480"/>
            <a:ext cx="273384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804000" y="981000"/>
            <a:ext cx="18702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940360" y="825480"/>
            <a:ext cx="27338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48000" y="609120"/>
            <a:ext cx="201636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Левостороннее размещение червеобразного отростка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1:32:56Z</dcterms:created>
  <dc:creator>sergiy</dc:creator>
  <dc:description/>
  <dc:language>en-US</dc:language>
  <cp:lastModifiedBy>User</cp:lastModifiedBy>
  <dcterms:modified xsi:type="dcterms:W3CDTF">2012-12-27T19:08:08Z</dcterms:modified>
  <cp:revision>51</cp:revision>
  <dc:subject/>
  <dc:title>Презентация PowerPoint</dc:title>
</cp:coreProperties>
</file>