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A83A-5F36-41AF-8D1B-BD6D85E98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C2EF-485F-4F1C-A264-1AB545AFE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4A61-F978-4B16-A6F5-51964E93E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D48E-F612-4A79-A13A-66C6CA6DE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DA5EB-DE54-4EDF-8B62-2BA74F7F4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160C5-F377-431A-BA56-57CA81004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6EFA2-B663-4DBB-8679-C09520DD8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9BB4E-9990-4E57-9570-215832FCE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51DE2-3890-44F8-98FC-4FBAD44D1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C9F41-E8FF-4D39-91E9-2CEB87B24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B13C5-89D2-44BC-9BE5-DC1243E55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CE2E-CA3C-4499-8272-91DBD50B7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CAC1A-CFE4-4E42-B669-232CF48F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23ED2-2090-4067-BE78-1F15C5E7E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3A407-DB1A-48FF-96A6-BBD416385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BB1A6-A333-48AC-9401-9BE5F8009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3E19D-BDF4-40DA-A95E-2B5C929F8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11D8-0723-4284-81AE-F88990304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9EC2-E544-400F-95D6-B79FF4C39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97E2-CDD8-47E5-918E-A4A1A89D1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FD83-3A5E-4115-947C-A93DAD382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BBD8-77BD-4EB6-BE92-C4ECF5D2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201A-7FB9-4ED2-B8A8-7AA77DB52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A601-1D35-408B-A1C5-F3B47FE6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EE66A-6EF5-4C97-96E4-06AC063A417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3CCE9-7182-4285-B287-DA0692472C6E}" type="slidenum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07640" y="259920"/>
            <a:ext cx="878508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imes New Roman"/>
                <a:ea typeface="Calibri"/>
              </a:rPr>
              <a:t>Карагандинский Государственный Медицинский университет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  <a:ea typeface="Calibri"/>
              </a:rPr>
              <a:t>Кафедра нормальной анатомии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imes New Roman"/>
                <a:ea typeface="Calibri"/>
              </a:rPr>
              <a:t>C</a:t>
            </a:r>
            <a:r>
              <a:rPr b="0" lang="ru-RU" sz="5400" spc="-1" strike="noStrike">
                <a:solidFill>
                  <a:srgbClr val="ffffcc"/>
                </a:solidFill>
                <a:latin typeface="Times New Roman"/>
                <a:ea typeface="Calibri"/>
              </a:rPr>
              <a:t>РС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  <a:ea typeface="Calibri"/>
              </a:rPr>
              <a:t>На тему: «</a:t>
            </a:r>
            <a:r>
              <a:rPr b="0" lang="ru-MD" sz="2400" spc="-1" strike="noStrike">
                <a:solidFill>
                  <a:srgbClr val="ffffcc"/>
                </a:solidFill>
                <a:latin typeface="Times New Roman"/>
                <a:ea typeface="Calibri"/>
              </a:rPr>
              <a:t>Варианты расположения червеобразного отростка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  <a:ea typeface="Calibri"/>
              </a:rPr>
              <a:t>»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  <a:ea typeface="Calibri"/>
              </a:rPr>
              <a:t>Выполнил</a:t>
            </a:r>
            <a:r>
              <a:rPr b="0" lang="kk-KZ" sz="2000" spc="-1" strike="noStrike">
                <a:solidFill>
                  <a:srgbClr val="ffffcc"/>
                </a:solidFill>
                <a:latin typeface="Times New Roman"/>
                <a:ea typeface="Calibri"/>
              </a:rPr>
              <a:t>а</a:t>
            </a:r>
            <a:r>
              <a:rPr b="0" lang="ru-RU" sz="2000" spc="-1" strike="noStrike">
                <a:solidFill>
                  <a:srgbClr val="ffffcc"/>
                </a:solidFill>
                <a:latin typeface="Times New Roman"/>
                <a:ea typeface="Calibri"/>
              </a:rPr>
              <a:t>: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Calibri"/>
              </a:rPr>
              <a:t>c</a:t>
            </a:r>
            <a:r>
              <a:rPr b="0" lang="kk-KZ" sz="2000" spc="-1" strike="noStrike">
                <a:solidFill>
                  <a:srgbClr val="ffffcc"/>
                </a:solidFill>
                <a:latin typeface="Times New Roman"/>
                <a:ea typeface="Calibri"/>
              </a:rPr>
              <a:t>тудент 274</a:t>
            </a:r>
            <a:r>
              <a:rPr b="0" lang="ru-RU" sz="2000" spc="-1" strike="noStrike">
                <a:solidFill>
                  <a:srgbClr val="ffffcc"/>
                </a:solidFill>
                <a:latin typeface="Times New Roman"/>
                <a:ea typeface="Calibri"/>
              </a:rPr>
              <a:t> гр.ОМ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cc"/>
                </a:solidFill>
                <a:latin typeface="Times New Roman"/>
                <a:ea typeface="Calibri"/>
              </a:rPr>
              <a:t>Токен А</a:t>
            </a:r>
            <a:r>
              <a:rPr b="0" lang="ru-RU" sz="2000" spc="-1" strike="noStrike">
                <a:solidFill>
                  <a:srgbClr val="ffffcc"/>
                </a:solidFill>
                <a:latin typeface="Times New Roman"/>
                <a:ea typeface="Calibri"/>
              </a:rPr>
              <a:t>.С.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  <a:ea typeface="Calibri"/>
              </a:rPr>
              <a:t>Проверила:         Авдонина А.Г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imes New Roman"/>
                <a:ea typeface="Calibri"/>
              </a:rPr>
              <a:t>Караганда 2012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4572000" y="1125360"/>
            <a:ext cx="4440240" cy="5156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53_05"/>
          <p:cNvPicPr/>
          <p:nvPr/>
        </p:nvPicPr>
        <p:blipFill>
          <a:blip r:embed="rId2"/>
          <a:stretch/>
        </p:blipFill>
        <p:spPr>
          <a:xfrm>
            <a:off x="324000" y="1125360"/>
            <a:ext cx="424800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Брюшинный покров, брыжейка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23640" y="2049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Times New Roman"/>
              </a:rPr>
              <a:t>Слепая кишка и червеобразный отросток покрыты брюшиной со всех сторон.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4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Times New Roman"/>
              </a:rPr>
              <a:t>Он имеет свою брыжейку, </a:t>
            </a: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mesenteriolum appendicis vermiformis</a:t>
            </a:r>
            <a:r>
              <a:rPr b="0" lang="ru-RU" sz="1600" spc="-1" strike="noStrike">
                <a:solidFill>
                  <a:srgbClr val="ffffcc"/>
                </a:solidFill>
                <a:latin typeface="Times New Roman"/>
              </a:rPr>
              <a:t>, которая в большинстве случаев представляет собой дубликатуру брюшины треугольной формы. Брыжейка червеобразного отростка, </a:t>
            </a: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mesoappendix </a:t>
            </a:r>
            <a:r>
              <a:rPr b="0" lang="ru-RU" sz="1600" spc="-1" strike="noStrike">
                <a:solidFill>
                  <a:srgbClr val="ffffcc"/>
                </a:solidFill>
                <a:latin typeface="Times New Roman"/>
              </a:rPr>
              <a:t>может быть длинной или короткой, ширина ее у основания достигает 3—4 см., тянется обычно до самого конца его.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"/>
          <p:cNvPicPr/>
          <p:nvPr/>
        </p:nvPicPr>
        <p:blipFill>
          <a:blip r:embed="rId2"/>
          <a:stretch/>
        </p:blipFill>
        <p:spPr>
          <a:xfrm>
            <a:off x="4284720" y="1989000"/>
            <a:ext cx="4709880" cy="41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1128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imes New Roman"/>
              </a:rPr>
              <a:t>Кровоснабжение </a:t>
            </a:r>
            <a:br>
              <a:rPr sz="3200"/>
            </a:br>
            <a:br>
              <a:rPr sz="2400"/>
            </a:b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9640" y="1981080"/>
            <a:ext cx="791856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Варианты отхождения </a:t>
            </a: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. </a:t>
            </a: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appendicis vermiformi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1 — a. ileocolica; 2 — a. appendicis vermiformis; 3 — ileum; 4 — appendix vermiformis; 5 — caecum.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3" name="Рисунок 3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568800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3" descr="53_01"/>
          <p:cNvPicPr/>
          <p:nvPr/>
        </p:nvPicPr>
        <p:blipFill>
          <a:blip r:embed="rId1"/>
          <a:stretch/>
        </p:blipFill>
        <p:spPr>
          <a:xfrm>
            <a:off x="900000" y="387360"/>
            <a:ext cx="4751640" cy="632448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4"/>
          <p:cNvSpPr/>
          <p:nvPr/>
        </p:nvSpPr>
        <p:spPr>
          <a:xfrm>
            <a:off x="6227640" y="2349360"/>
            <a:ext cx="270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Кровоснабжение илеоцекального угл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ЛИМФАТИЧЕСКАЯ СИСТЕМА 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Лимфатические сосуды и узлы илеоцекального угла (вид сзади).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1 —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caecum</a:t>
            </a: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; 2 —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appendix vermiformis</a:t>
            </a: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; 3 — лимфатические сосуды брыжейки червеобразного отростка; 4 —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ileum</a:t>
            </a: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; 5 — илеоцекальные узлы; 6 —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ileocolica</a:t>
            </a: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8" name="Рисунок 3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46213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ИННЕРВАЦИЯ 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10920" y="1981080"/>
            <a:ext cx="784692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Иннервация илеоцекального угла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1 — a. ileocolica; 2 — </a:t>
            </a: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нервные ветви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lexus mesenterici superioris; 3 — ileum; 4 — a. appendicis vermiformis; 5 — appendix vermiformis; 6 — caecum.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1" name="Рисунок 4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53992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Times New Roman"/>
              </a:rPr>
              <a:t>Функции</a:t>
            </a:r>
            <a:br>
              <a:rPr sz="4400"/>
            </a:br>
            <a:r>
              <a:rPr b="1" lang="ru-RU" sz="4400" spc="-1" strike="noStrike">
                <a:solidFill>
                  <a:srgbClr val="ffcc00"/>
                </a:solidFill>
                <a:latin typeface="Times New Roman"/>
              </a:rPr>
              <a:t>аппендикса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1. рудимент;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2. миндалина кишечника (барьер);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3. выработка лимфоцитов;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4. влияет на рост организма через гипофиз;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5. влияет на перистальтику;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6. влияет на формирование скелета;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7. влияет на функцию вегетативной нервной системы;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8. "зрачок" брюшной полости;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9. имеет мощную иннервацию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Список использованной литературы</a:t>
            </a:r>
            <a:br>
              <a:rPr sz="3200"/>
            </a:b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Cинельников</a:t>
            </a:r>
            <a:r>
              <a:rPr b="0" lang="kk-KZ" sz="2400" spc="-1" strike="noStrike">
                <a:solidFill>
                  <a:srgbClr val="ffffcc"/>
                </a:solidFill>
                <a:latin typeface="Times New Roman"/>
              </a:rPr>
              <a:t> Р.Ф.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Атлас анатомии человека1990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Гайворонский И. В. Нормальная анатомия человека.2004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Гайворонский И. В. Нормальная анатомия человека.</a:t>
            </a:r>
            <a:r>
              <a:rPr b="0" lang="kk-KZ" sz="2400" spc="-1" strike="noStrike">
                <a:solidFill>
                  <a:srgbClr val="ffffcc"/>
                </a:solidFill>
                <a:latin typeface="Times New Roman"/>
              </a:rPr>
              <a:t>Т.1,2. 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2004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Сапин М.Р. Анатомия человека. </a:t>
            </a:r>
            <a:r>
              <a:rPr b="0" lang="kk-KZ" sz="2400" spc="-1" strike="noStrike">
                <a:solidFill>
                  <a:srgbClr val="ffffcc"/>
                </a:solidFill>
                <a:latin typeface="Times New Roman"/>
              </a:rPr>
              <a:t>К-1,2. 2006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Синельников Р.Д. Атлас анатомии человека</a:t>
            </a:r>
            <a:r>
              <a:rPr b="0" lang="kk-KZ" sz="24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2007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imes New Roman"/>
              </a:rPr>
              <a:t>Содержание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981000"/>
            <a:ext cx="77724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Анатомия червеобразного отростк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Проекция, положение, синтопия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Брюшинный покров, брыжейк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Кровоснабжение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Лимфатическая система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Иннервация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Список использованной литературы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Анатомия червеобразного отростка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Червеобразный отросток, appendix vermiformis, отходит чаще всего от заднемедиальной стенки слепой кишки. Червеобразный отросток открывается в полость слепой кишки отверстием,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stium appendicis vermiformis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. Длина его непостоянна, она колеблется от 4 до 12 см, и наиболее часто бывает равна 8—10 см. Средняя толщина отростка 5-6 мм. Диаметр отростка достигает 0,4—1,2 см, в среднем — 0,7 см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79280" y="9810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Слепая кишка (вскрыта) и червеобразный отросток. 1 - илеоцекальное отверстие (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ostium ileocaecale); 2 - </a:t>
            </a: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подвздошная кишка (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ileum); 3 - </a:t>
            </a: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отверстие червеобразного отростка (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ostium appendicis vermiformis); 4 - </a:t>
            </a: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червеобразный отросток (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appendix vermiformis); 5 - </a:t>
            </a: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слепая кишка (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aecum); 6 - </a:t>
            </a: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илеоцекальный клапан (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valva ileocaecali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"/>
          <p:cNvPicPr/>
          <p:nvPr/>
        </p:nvPicPr>
        <p:blipFill>
          <a:blip r:embed="rId2"/>
          <a:stretch/>
        </p:blipFill>
        <p:spPr>
          <a:xfrm>
            <a:off x="4033800" y="836640"/>
            <a:ext cx="510084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Проекция, положение, синтопия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4505400" cy="388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Главные проекционные точки основания червеобразного отростка на переднюю брюшную стенку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 algn="just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 algn="just">
              <a:spcBef>
                <a:spcPts val="4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Times New Roman"/>
              </a:rPr>
              <a:t>Проекция основания отростка на переднюю брюшную стенку весьма непостоянна. Наиболее часто основание проецируется на границе средней и правой трети lin. biiliaca (точка Ланца) или на границе нижней и средней трети линии, соединяющей пупок с передней верхней остью подвздошной кости (точка Мак Бурнея)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Прямоугольник 3"/>
          <p:cNvSpPr/>
          <p:nvPr/>
        </p:nvSpPr>
        <p:spPr>
          <a:xfrm>
            <a:off x="900000" y="5516640"/>
            <a:ext cx="38512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alibri"/>
                <a:ea typeface="Calibri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Calibri"/>
                <a:ea typeface="Calibri"/>
              </a:rPr>
              <a:t>1 — точка Мак Бурнея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Calibri"/>
                <a:ea typeface="Calibri"/>
              </a:rPr>
              <a:t>    </a:t>
            </a:r>
            <a:r>
              <a:rPr b="0" lang="ru-RU" sz="2400" spc="-1" strike="noStrike">
                <a:solidFill>
                  <a:srgbClr val="ffffcc"/>
                </a:solidFill>
                <a:latin typeface="Calibri"/>
                <a:ea typeface="Calibri"/>
              </a:rPr>
              <a:t>2 — точка Ланца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10920" y="404640"/>
            <a:ext cx="784692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Варианты положения червеобразного отростка по отношению к слепой кишке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а — медиальное положение; б — нисходящее (тазовое положение); в — восходящее (ретроцекальное) положение; г — восходящее (переднее) положение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3" name="Рисунок 3" descr=""/>
          <p:cNvPicPr/>
          <p:nvPr/>
        </p:nvPicPr>
        <p:blipFill>
          <a:blip r:embed="rId1"/>
          <a:stretch/>
        </p:blipFill>
        <p:spPr>
          <a:xfrm>
            <a:off x="1403280" y="1341360"/>
            <a:ext cx="554364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94920" y="764640"/>
            <a:ext cx="380988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Варианты расположения червеобразного отростка по отношению к слепой кишке (вид спереди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1 — ретроцекальное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2 — заднее субцекальное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3 — заднее илеоцекальное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Первые три положения часто сочетаются с экстраперито-неальным расположением червеобразного отростка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4 — прецекальное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5 — переднее илеоцекальное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6 — тазовое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7— переднее субцекальное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5" name="Рисунок 3" descr=""/>
          <p:cNvPicPr/>
          <p:nvPr/>
        </p:nvPicPr>
        <p:blipFill>
          <a:blip r:embed="rId1"/>
          <a:stretch/>
        </p:blipFill>
        <p:spPr>
          <a:xfrm>
            <a:off x="4356000" y="779400"/>
            <a:ext cx="4788000" cy="53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53_07"/>
          <p:cNvPicPr/>
          <p:nvPr/>
        </p:nvPicPr>
        <p:blipFill>
          <a:blip r:embed="rId1"/>
          <a:stretch/>
        </p:blipFill>
        <p:spPr>
          <a:xfrm>
            <a:off x="468360" y="0"/>
            <a:ext cx="571644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372000" y="609480"/>
            <a:ext cx="2771640" cy="598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Ретроперитонеальное размещение червеобразного отростка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3" descr="53_04"/>
          <p:cNvPicPr/>
          <p:nvPr/>
        </p:nvPicPr>
        <p:blipFill>
          <a:blip r:embed="rId1"/>
          <a:stretch/>
        </p:blipFill>
        <p:spPr>
          <a:xfrm>
            <a:off x="-9360" y="0"/>
            <a:ext cx="65736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4"/>
          <p:cNvSpPr/>
          <p:nvPr/>
        </p:nvSpPr>
        <p:spPr>
          <a:xfrm>
            <a:off x="6732720" y="609480"/>
            <a:ext cx="1725480" cy="52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6877080" y="609480"/>
            <a:ext cx="1581120" cy="46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5724360" y="609480"/>
            <a:ext cx="2733840" cy="49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6804000" y="981000"/>
            <a:ext cx="187020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5940360" y="825480"/>
            <a:ext cx="2733840" cy="49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948000" y="609120"/>
            <a:ext cx="2016360" cy="562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Левостороннее размещение червеобразного отростка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3T11:32:56Z</dcterms:created>
  <dc:creator>sergiy</dc:creator>
  <dc:description/>
  <dc:language>en-US</dc:language>
  <cp:lastModifiedBy>User</cp:lastModifiedBy>
  <dcterms:modified xsi:type="dcterms:W3CDTF">2012-12-27T19:08:08Z</dcterms:modified>
  <cp:revision>51</cp:revision>
  <dc:subject/>
  <dc:title>Презентация PowerPoint</dc:title>
</cp:coreProperties>
</file>