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577-0D39-48F8-96D1-EEF98BE7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DF2-B98C-44F3-917D-3376C0F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7EB-352F-4059-9463-7492CB3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36C-B692-4F66-B6A1-5A998AC6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E2A-116F-461F-A1F0-2AB81079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DDA-79FB-4A4C-B787-1A4989BA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878F-E481-4970-92E0-311E501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52EB-7AAD-4FEB-92D8-DBA4560C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B21-7997-497F-8FB8-F29ACEB5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307-A43D-4C45-A928-3A8AF839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D579-B389-440A-9EE2-197560B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B2F-902D-46C1-91AB-CB820ABC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C61B-3B70-45BA-BDB5-EA04DA8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A75-A5A3-440A-8D93-1CD6A7D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976-E5CE-41A5-8AEC-FC63CC7E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1F6-38D2-4FD8-A38E-BA61B0D3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92A7-00BD-4D1F-A418-F80E9B10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DF5-517E-42F4-A0BB-749A3CC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92A-DD03-4D47-B51F-BC2F2F3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5A0-9890-4C53-9778-E10FAF96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383-78BA-498E-8716-3E26787A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32B-C120-4402-960B-CB05FCF3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7DC-E6C3-4EF5-BE1C-2D54504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159-4C80-4BAB-97A1-F710FCC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842-F008-4ADB-8BD7-2EC0E03AAC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E25E-8B40-4D7B-B2AC-474EA381C6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folog.ru/article.aspx?control=controls/article/article.ascx&amp;uid=3137" TargetMode="External"/><Relationship Id="rId2" Type="http://schemas.openxmlformats.org/officeDocument/2006/relationships/hyperlink" Target="http://www.ufolog.ru/article.aspx?control=controls/article/article.ascx&amp;uid=3137" TargetMode="External"/><Relationship Id="rId3" Type="http://schemas.openxmlformats.org/officeDocument/2006/relationships/hyperlink" Target="http://www.ufolog.ru/article.aspx?control=controls/article/article.ascx&amp;uid=3137" TargetMode="External"/><Relationship Id="rId4" Type="http://schemas.openxmlformats.org/officeDocument/2006/relationships/hyperlink" Target="http://www.ufolog.ru/article.aspx?control=controls/article/article.ascx&amp;uid=3137" TargetMode="External"/><Relationship Id="rId5" Type="http://schemas.openxmlformats.org/officeDocument/2006/relationships/hyperlink" Target="http://www.ufolog.ru/article.aspx?control=controls/article/article.ascx&amp;uid=3137" TargetMode="External"/><Relationship Id="rId6" Type="http://schemas.openxmlformats.org/officeDocument/2006/relationships/hyperlink" Target="http://www.ufolog.ru/article.aspx?control=controls/article/article.ascx&amp;uid=3137" TargetMode="External"/><Relationship Id="rId7" Type="http://schemas.openxmlformats.org/officeDocument/2006/relationships/hyperlink" Target="http://www.ufolog.ru/article.aspx?control=controls/article/article.ascx&amp;uid=3137" TargetMode="External"/><Relationship Id="rId8" Type="http://schemas.openxmlformats.org/officeDocument/2006/relationships/hyperlink" Target="http://www.ufolog.ru/article.aspx?control=controls/article/article.ascx&amp;uid=3137" TargetMode="External"/><Relationship Id="rId9" Type="http://schemas.openxmlformats.org/officeDocument/2006/relationships/hyperlink" Target="http://www.ufolog.ru/article.aspx?control=controls/article/article.ascx&amp;uid=3137" TargetMode="External"/><Relationship Id="rId10" Type="http://schemas.openxmlformats.org/officeDocument/2006/relationships/hyperlink" Target="http://www.ufolog.ru/article.aspx?control=controls/article/article.ascx&amp;uid=3137" TargetMode="External"/><Relationship Id="rId11" Type="http://schemas.openxmlformats.org/officeDocument/2006/relationships/hyperlink" Target="http://www.ufolog.ru/article.aspx?control=controls/article/article.ascx&amp;uid=3137" TargetMode="External"/><Relationship Id="rId12" Type="http://schemas.openxmlformats.org/officeDocument/2006/relationships/hyperlink" Target="http://www.ufolog.ru/article.aspx?control=controls/article/article.ascx&amp;uid=3137" TargetMode="External"/><Relationship Id="rId13" Type="http://schemas.openxmlformats.org/officeDocument/2006/relationships/hyperlink" Target="http://www.ufolog.ru/article.aspx?control=controls/article/article.ascx&amp;uid=3137" TargetMode="External"/><Relationship Id="rId14" Type="http://schemas.openxmlformats.org/officeDocument/2006/relationships/hyperlink" Target="http://www.ufolog.ru/article.aspx?control=controls/article/article.ascx&amp;uid=3137" TargetMode="External"/><Relationship Id="rId15" Type="http://schemas.openxmlformats.org/officeDocument/2006/relationships/hyperlink" Target="http://www.ufolog.ru/article.aspx?control=controls/article/article.ascx&amp;uid=3137" TargetMode="External"/><Relationship Id="rId16" Type="http://schemas.openxmlformats.org/officeDocument/2006/relationships/hyperlink" Target="http://www.ufolog.ru/article.aspx?control=controls/article/article.ascx&amp;uid=3137" TargetMode="External"/><Relationship Id="rId17" Type="http://schemas.openxmlformats.org/officeDocument/2006/relationships/hyperlink" Target="http://www.ufolog.ru/article.aspx?control=controls/article/article.ascx&amp;uid=3137" TargetMode="External"/><Relationship Id="rId18" Type="http://schemas.openxmlformats.org/officeDocument/2006/relationships/hyperlink" Target="http://www.ufolog.ru/article.aspx?control=controls/article/article.ascx&amp;uid=3137" TargetMode="External"/><Relationship Id="rId19" Type="http://schemas.openxmlformats.org/officeDocument/2006/relationships/hyperlink" Target="http://www.ufolog.ru/article.aspx?control=controls/article/article.ascx&amp;uid=3137" TargetMode="External"/><Relationship Id="rId20" Type="http://schemas.openxmlformats.org/officeDocument/2006/relationships/hyperlink" Target="http://www.ufolog.ru/article.aspx?control=controls/article/article.ascx&amp;uid=3137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СТРУКТУРА И ФУНКЦИИ ХРОМОС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6" descr="dnk"/>
          <p:cNvPicPr/>
          <p:nvPr/>
        </p:nvPicPr>
        <p:blipFill>
          <a:blip r:embed="rId1"/>
          <a:stretch/>
        </p:blipFill>
        <p:spPr>
          <a:xfrm>
            <a:off x="539640" y="2133720"/>
            <a:ext cx="2691000" cy="431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 греч.Гомос - одинаков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парные хромосомы, одинаковые по форме, размерам и набору ген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А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клетках тела двуполых животных и растений каждая хромосома представлена двумя гомологичными хромосомами, происходящими одна от материнского, а другая от отцовского организма. Такой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и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вой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овые клетки, образовавшиеся в результате мейоза, содержат только одну из двух гомологичных хромосом. Этот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а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динарны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ФУНКЦИИ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уществляют координацию и регуляцию процессов в клетке путем синтеза первичной структуры белка, информационной и рибосомальной РН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ны в некоторых клетках на определенных стадиях клеточного цик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в клетках некоторых тканей личинок двукрылых насеком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итенные хромос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в ооцитах различных позвоночных и беспозвоночн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нно на препаратах гигантских хромосом удалось выявить признаки активности ге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ig_chrom"/>
          <p:cNvPicPr/>
          <p:nvPr/>
        </p:nvPicPr>
        <p:blipFill>
          <a:blip r:embed="rId1"/>
          <a:stretch/>
        </p:blipFill>
        <p:spPr>
          <a:xfrm>
            <a:off x="324000" y="1700280"/>
            <a:ext cx="5832360" cy="483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97080" y="260280"/>
            <a:ext cx="834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300720" y="1773360"/>
            <a:ext cx="266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гантские хромосомы из клеток слюнной железы Drosophila melanogaster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фрами обозначены аутосомы, а буквами их плечи (R - правое плечо, L - левое плечо), X - X-хромосома 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(Мюнтцинг А. Генетические исследования, 1963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ПОЛИТЕННЫЕ ХРОМООС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первые обнаружены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Е.Г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Бальбиан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в 1881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однако их цитогенетическая роль была выявлена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остовым, Пайнтером, Гейтцем и Бауеро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Содержатся в клетках слюнных желез, кишечника, трахей, жирового тела и мальпигиевых сосудов личинок двукрыл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наружены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юккер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1892 го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длине превышают политенные хромосомы, наблюдаются в ооцитах на стадии первого деления мейоза, во время которой процессы синтеза, приводящие к образованию желтка, наиболее интенс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длина хромосомного набора в ооцитах некоторых хвостатых амфибий достигает 5900 мк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9640" y="1557360"/>
            <a:ext cx="4537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Х  -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НАЯ СМОРОДИНА –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ЗА –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ЖЕВЕЛЬНИК –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5219640" y="1484280"/>
            <a:ext cx="3529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УБ –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 –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ШНЯ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БЛОНЯ – 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СЕНЬ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ОФЕЛЬ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ПА - 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Р –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УНЬ –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ЧЕЛА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ИНЬЯ – 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КАК-РЕЗУС –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-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292720" y="1700280"/>
            <a:ext cx="367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–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ИМПАНЗЕ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АН –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ЕЛ –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ШАДЬ – 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РИЦА - 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оение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нкции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ичество хромосом у растений и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ушения структур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a - метафазная пластинк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4" descr="ris4a"/>
          <p:cNvPicPr/>
          <p:nvPr/>
        </p:nvPicPr>
        <p:blipFill>
          <a:blip r:embed="rId1"/>
          <a:stretch/>
        </p:blipFill>
        <p:spPr>
          <a:xfrm>
            <a:off x="1547640" y="404640"/>
            <a:ext cx="57992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b - pаскладка хромосом.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ris4b"/>
          <p:cNvPicPr/>
          <p:nvPr/>
        </p:nvPicPr>
        <p:blipFill>
          <a:blip r:embed="rId1"/>
          <a:stretch/>
        </p:blipFill>
        <p:spPr>
          <a:xfrm>
            <a:off x="1763640" y="476280"/>
            <a:ext cx="5850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СЕ ХРОМОСОМЫ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11280" y="1268280"/>
            <a:ext cx="799308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chrall"/>
          <p:cNvPicPr/>
          <p:nvPr/>
        </p:nvPicPr>
        <p:blipFill>
          <a:blip r:embed="rId1"/>
          <a:stretch/>
        </p:blipFill>
        <p:spPr>
          <a:xfrm>
            <a:off x="1116000" y="1600200"/>
            <a:ext cx="4784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3068280"/>
            <a:ext cx="391032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ариотип домашней кошк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Felis catus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( Брайен С. и др. Генетика кошки, 1993)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pics_p2"/>
          <p:cNvPicPr/>
          <p:nvPr/>
        </p:nvPicPr>
        <p:blipFill>
          <a:blip r:embed="rId1"/>
          <a:stretch/>
        </p:blipFill>
        <p:spPr>
          <a:xfrm>
            <a:off x="250920" y="260280"/>
            <a:ext cx="4487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КАРИОТИП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совокупность числа, величины и морфологии митотических хромосо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НАРУШЕНИЯ СТРУКТУР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структуры хромосом происходит в результате спонтанных или спровоцированных измен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Генные (точковые) мут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изменения на молекулярном уровне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Аберр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икроскопические изменения, различимые при помощи светового микроскопа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еле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упли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трансло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43280" y="836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Схема иллюстрирующая принцип делеции."/>
          <p:cNvPicPr/>
          <p:nvPr/>
        </p:nvPicPr>
        <p:blipFill>
          <a:blip r:embed="rId1"/>
          <a:stretch/>
        </p:blipFill>
        <p:spPr>
          <a:xfrm>
            <a:off x="539640" y="1557360"/>
            <a:ext cx="1978200" cy="3744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916360" y="2060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лат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deletio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— уничтожение —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хромосомная аберрац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перестройка)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и которой происходит потеря участка хромосо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быть следствием разрыва хромосомы или результатом неравного кроссингов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леции подразделя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интерстици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внутреннего участк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термин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концевого участ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843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ДЕЛЕ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леция белка CCR5-дельта32 приводит к невосприимчивости её носителя к ВИЧ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йчас к ВИЧ устойчиво в среднем 10 % европейцев, однако в Скандинавии эта доля достигает 14-15 %. У финнов и русских доля устойчивых людей еще выше — 16 %, а в Сардинии — всего 4 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УПЛИК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Схема иллюстрирующая принцип дупликации."/>
          <p:cNvPicPr/>
          <p:nvPr/>
        </p:nvPicPr>
        <p:blipFill>
          <a:blip r:embed="rId1"/>
          <a:stretch/>
        </p:blipFill>
        <p:spPr>
          <a:xfrm>
            <a:off x="324000" y="1268280"/>
            <a:ext cx="205884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360" y="1413000"/>
            <a:ext cx="583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лат.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duplicatio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— удвоение — структурная хромосомная мутация, заключающаяся в удвоении участка хромосо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ХРОМОСО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chromosome_real"/>
          <p:cNvPicPr/>
          <p:nvPr/>
        </p:nvPicPr>
        <p:blipFill>
          <a:blip r:embed="rId1"/>
          <a:stretch/>
        </p:blipFill>
        <p:spPr>
          <a:xfrm>
            <a:off x="468360" y="1557360"/>
            <a:ext cx="49546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867280" y="19162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греч. chroma — цвет, краска + soma — тело) — комплекс одной молекулы ДНК с бел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ТРАНСЛОК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хромосомных мут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ходе транслокации происходит обмен участками негомологичных хромосом, но общее число генов не изменя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ные транслокации приводят к развитию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имфом, сарком, заболеванию лейкемией, шизофре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изменение структуры хромосомы, вызванное поворотом на 180° одного из внутренних её участ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обная хромосомная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стройка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ледствие двух одновременных разрывов в одной хромосом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НФОРМАЦИОННЫЕ ИСТОЧН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ttp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ufolog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ru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aspx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?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control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=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5"/>
              </a:rPr>
              <a:t>controls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7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0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c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=3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ru.wikipedia.org/wiki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ики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schools.keldysh.ru/co1678/Project/Mixytkin/Sait/Chromosome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children.claw.ru/6_man/CONTENT/skan/38.htm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-Детск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bannikov.narod.ru/hro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www.everyday.com.ua/myplanet/chromosome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Рубцов  Н. Б., Карамышева  Т. В.  Вестн. ВОГиС,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hemgene.hoha.ru/HTML/chrall.htm - Хромосомы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Брайен С. и др. Генетика кошки, 199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ТРОЕНИЕ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19280" y="1412640"/>
            <a:ext cx="346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а строени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омосом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оздней профазе — метафазе мито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1—хроматид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—центроме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3—короткое плеч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4—длинное плеч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4000" y="1268280"/>
            <a:ext cx="4752720" cy="525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Схема строения хромосомы в поздней профазе — метафазе митоза. 1—хроматида; 2—центромера; 3—короткое плечо; 4—длинное плечо."/>
          <p:cNvPicPr/>
          <p:nvPr/>
        </p:nvPicPr>
        <p:blipFill>
          <a:blip r:embed="rId1"/>
          <a:stretch/>
        </p:blipFill>
        <p:spPr>
          <a:xfrm>
            <a:off x="469800" y="1341360"/>
            <a:ext cx="3411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НТРОМЕРА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от центр + греч. meros — часть) 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ециализированный участок ДНК, в районе которого в стадии профазы и метафазы деления клетки соединяются две хроматиды, образовавшиеся в результате дупликации хромосом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ЦЕНТРО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омера играет важную роль при расположении хромосом в виде метафазной плас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оцессе расхождения дочерних хромосом к полюсам клетки, так как при помощи центромеры каждая хроматида соединяется с нитями веретена д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центромера разделяет хромосому на два плеч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ХРОМАТИДА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от греч. chrom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цвет, краска + eidos - вид) — часть хромосомы от момента ее дупликации до разделения на две дочерние в анафазе, представляет собой нить молекулы ДНК соединенную с белк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роматиды образуются в результате дупликации хромосом в процессе деления клет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219280" y="620640"/>
            <a:ext cx="3467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мосомы имеются в ядрах всех клет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хромосома содержит наследственные инструкции - г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26"/>
          <p:cNvPicPr/>
          <p:nvPr/>
        </p:nvPicPr>
        <p:blipFill>
          <a:blip r:embed="rId1"/>
          <a:stretch/>
        </p:blipFill>
        <p:spPr>
          <a:xfrm>
            <a:off x="250920" y="333360"/>
            <a:ext cx="5064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МОРФОЛОГИЧЕСКИЕ ТИП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тел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центромерой, расположенной на проксимальном конце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акр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очень коротким, почти незаметным вторым плечом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субметацентрическ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с плечами неравной длины, напоминающие по форме букву L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та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V-образные хромосомы, обладающие плечами равной длины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9:42:46Z</dcterms:created>
  <dc:creator>Долгорукова</dc:creator>
  <dc:description/>
  <dc:language>en-US</dc:language>
  <cp:lastModifiedBy>COMP</cp:lastModifiedBy>
  <dcterms:modified xsi:type="dcterms:W3CDTF">2011-09-26T17:40:23Z</dcterms:modified>
  <cp:revision>32</cp:revision>
  <dc:subject/>
  <dc:title>СТРУКТУРА И ФУНКЦИИ ХРОМОСОМ</dc:title>
</cp:coreProperties>
</file>