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AE2-FEA8-4980-AC2D-F276E114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CA6-F180-4361-9F28-4EEC274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FF5-A058-4D54-8397-9F89676B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2753-41CB-4F22-9304-A9BC5893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85A7-2D6E-4C40-94F9-35B80DC3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480F-F992-4EDE-910B-483C6945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AF5F-4374-4E64-8C33-43E7D20A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AF9C-C3FB-42C2-8B5F-E4ADED0B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BE4-5DC8-4D99-8E95-4DD3FE69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AAFB-9BA1-48A6-8B16-7C1060C0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6F4E-1760-4EEB-A7CE-8A34DF4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ABC-912C-4223-BBC3-BF18B1F9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87B-038E-4301-B1C6-5E30B6E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08C3-F075-40B6-9F7E-76213329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2253-BA09-4B6D-9FC3-9676FF67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6011-B03C-4CCF-9D18-3CE97024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0FDC-8160-4FFB-AC88-5CB44314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1E3-FEC2-471D-8547-CF550CFF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C8C-9532-4104-A006-140B3A10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C15-062A-41B6-9291-8B51581B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676-3B06-4ED8-B075-366FB081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8C57-DDB9-46CE-89D7-76D22BF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1AA-2A8E-481B-AABF-02CC86D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35B-4C39-4004-B8BB-B7BA145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BBBF-54A5-4D6F-A18D-55CB27C6A5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54E7-B6D3-4A4B-A628-850F323E4F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ufolog.ru/article.aspx?control=controls/article/article.ascx&amp;uid=3137" TargetMode="External"/><Relationship Id="rId2" Type="http://schemas.openxmlformats.org/officeDocument/2006/relationships/hyperlink" Target="http://www.ufolog.ru/article.aspx?control=controls/article/article.ascx&amp;uid=3137" TargetMode="External"/><Relationship Id="rId3" Type="http://schemas.openxmlformats.org/officeDocument/2006/relationships/hyperlink" Target="http://www.ufolog.ru/article.aspx?control=controls/article/article.ascx&amp;uid=3137" TargetMode="External"/><Relationship Id="rId4" Type="http://schemas.openxmlformats.org/officeDocument/2006/relationships/hyperlink" Target="http://www.ufolog.ru/article.aspx?control=controls/article/article.ascx&amp;uid=3137" TargetMode="External"/><Relationship Id="rId5" Type="http://schemas.openxmlformats.org/officeDocument/2006/relationships/hyperlink" Target="http://www.ufolog.ru/article.aspx?control=controls/article/article.ascx&amp;uid=3137" TargetMode="External"/><Relationship Id="rId6" Type="http://schemas.openxmlformats.org/officeDocument/2006/relationships/hyperlink" Target="http://www.ufolog.ru/article.aspx?control=controls/article/article.ascx&amp;uid=3137" TargetMode="External"/><Relationship Id="rId7" Type="http://schemas.openxmlformats.org/officeDocument/2006/relationships/hyperlink" Target="http://www.ufolog.ru/article.aspx?control=controls/article/article.ascx&amp;uid=3137" TargetMode="External"/><Relationship Id="rId8" Type="http://schemas.openxmlformats.org/officeDocument/2006/relationships/hyperlink" Target="http://www.ufolog.ru/article.aspx?control=controls/article/article.ascx&amp;uid=3137" TargetMode="External"/><Relationship Id="rId9" Type="http://schemas.openxmlformats.org/officeDocument/2006/relationships/hyperlink" Target="http://www.ufolog.ru/article.aspx?control=controls/article/article.ascx&amp;uid=3137" TargetMode="External"/><Relationship Id="rId10" Type="http://schemas.openxmlformats.org/officeDocument/2006/relationships/hyperlink" Target="http://www.ufolog.ru/article.aspx?control=controls/article/article.ascx&amp;uid=3137" TargetMode="External"/><Relationship Id="rId11" Type="http://schemas.openxmlformats.org/officeDocument/2006/relationships/hyperlink" Target="http://www.ufolog.ru/article.aspx?control=controls/article/article.ascx&amp;uid=3137" TargetMode="External"/><Relationship Id="rId12" Type="http://schemas.openxmlformats.org/officeDocument/2006/relationships/hyperlink" Target="http://www.ufolog.ru/article.aspx?control=controls/article/article.ascx&amp;uid=3137" TargetMode="External"/><Relationship Id="rId13" Type="http://schemas.openxmlformats.org/officeDocument/2006/relationships/hyperlink" Target="http://www.ufolog.ru/article.aspx?control=controls/article/article.ascx&amp;uid=3137" TargetMode="External"/><Relationship Id="rId14" Type="http://schemas.openxmlformats.org/officeDocument/2006/relationships/hyperlink" Target="http://www.ufolog.ru/article.aspx?control=controls/article/article.ascx&amp;uid=3137" TargetMode="External"/><Relationship Id="rId15" Type="http://schemas.openxmlformats.org/officeDocument/2006/relationships/hyperlink" Target="http://www.ufolog.ru/article.aspx?control=controls/article/article.ascx&amp;uid=3137" TargetMode="External"/><Relationship Id="rId16" Type="http://schemas.openxmlformats.org/officeDocument/2006/relationships/hyperlink" Target="http://www.ufolog.ru/article.aspx?control=controls/article/article.ascx&amp;uid=3137" TargetMode="External"/><Relationship Id="rId17" Type="http://schemas.openxmlformats.org/officeDocument/2006/relationships/hyperlink" Target="http://www.ufolog.ru/article.aspx?control=controls/article/article.ascx&amp;uid=3137" TargetMode="External"/><Relationship Id="rId18" Type="http://schemas.openxmlformats.org/officeDocument/2006/relationships/hyperlink" Target="http://www.ufolog.ru/article.aspx?control=controls/article/article.ascx&amp;uid=3137" TargetMode="External"/><Relationship Id="rId19" Type="http://schemas.openxmlformats.org/officeDocument/2006/relationships/hyperlink" Target="http://www.ufolog.ru/article.aspx?control=controls/article/article.ascx&amp;uid=3137" TargetMode="External"/><Relationship Id="rId20" Type="http://schemas.openxmlformats.org/officeDocument/2006/relationships/hyperlink" Target="http://www.ufolog.ru/article.aspx?control=controls/article/article.ascx&amp;uid=3137" TargetMode="Externa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СТРУКТУРА И ФУНКЦИИ ХРОМОСОМ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6" descr="dnk"/>
          <p:cNvPicPr/>
          <p:nvPr/>
        </p:nvPicPr>
        <p:blipFill>
          <a:blip r:embed="rId1"/>
          <a:stretch/>
        </p:blipFill>
        <p:spPr>
          <a:xfrm>
            <a:off x="539640" y="2133720"/>
            <a:ext cx="2691000" cy="431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ОМОЛОГИЧНЫЕ ХРОМОСО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 греч.Гомос - одинаков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Гомологичные хромосомы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парные хромосомы, одинаковые по форме, размерам и набору ген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АПЛОИДНЫЙ НАБОР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клетках тела двуполых животных и растений каждая хромосома представлена двумя гомологичными хромосомами, происходящими одна от материнского, а другая от отцовского организма. Такой набор хромосом называют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иплоид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двой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овые клетки, образовавшиеся в результате мейоза, содержат только одну из двух гомологичных хромосом. Этот набор хромосом называют 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гаплоидным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одинарным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ФУНКЦИИ ХРОМОС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уществляют координацию и регуляцию процессов в клетке путем синтеза первичной структуры белка, информационной и рибосомальной РН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ВИДЫ ХРОМОСОМ:</a:t>
            </a:r>
            <a:br>
              <a:rPr sz="4000"/>
            </a:b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ГИГАНТСКИЕ ХРОМОСО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дны в некоторых клетках на определенных стадиях клеточного цик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в клетках некоторых тканей личинок двукрылых насекомых (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олитенные хромосом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и в ооцитах различных позвоночных и беспозвоночных (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хромосомы типа ламповых щето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нно на препаратах гигантских хромосом удалось выявить признаки активности ге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ig_chrom"/>
          <p:cNvPicPr/>
          <p:nvPr/>
        </p:nvPicPr>
        <p:blipFill>
          <a:blip r:embed="rId1"/>
          <a:stretch/>
        </p:blipFill>
        <p:spPr>
          <a:xfrm>
            <a:off x="324000" y="1700280"/>
            <a:ext cx="5832360" cy="4830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397080" y="260280"/>
            <a:ext cx="834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ВИДЫ ХРОМОСОМ:</a:t>
            </a:r>
            <a:br>
              <a:rPr sz="4400"/>
            </a:b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ГИГАНТСКИЕ ХРОМОСО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300720" y="1773360"/>
            <a:ext cx="266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игантские хромосомы из клеток слюнной железы Drosophila melanogaster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фрами обозначены аутосомы, а буквами их плечи (R - правое плечо, L - левое плечо), X - X-хромосома 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(Мюнтцинг А. Генетические исследования, 1963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ПОЛИТЕННЫЕ ХРОМООСМ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первые обнаружены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Е.Г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Бальбиан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в 1881г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однако их цитогенетическая роль была выявлена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Костовым, Пайнтером, Гейтцем и Бауером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Содержатся в клетках слюнных желез, кишечника, трахей, жирового тела и мальпигиевых сосудов личинок двукрыл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ХРОМОСОМЫ ТИПА ЛАМПОВЫХ ЩЕТО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наружены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Рюккер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в 1892 год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длине превышают политенные хромосомы, наблюдаются в ооцитах на стадии первого деления мейоза, во время которой процессы синтеза, приводящие к образованию желтка, наиболее интенс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длина хромосомного набора в ооцитах некоторых хвостатых амфибий достигает 5900 мк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 У РАСТЕ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9640" y="1557360"/>
            <a:ext cx="4537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РОХ  -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АСНАЯ СМОРОДИНА – 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ЗА –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ЖЕВЕЛЬНИК – 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5219640" y="1484280"/>
            <a:ext cx="3529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УБ –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ЕН –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ШНЯ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БЛОНЯ – 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СЕНЬ – 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ОФЕЛЬ – 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ПА - 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ДИПЛОИДНЫЙ НАБОР ХРОМОСОМ У ЖИВОТ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АР –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УНЬ – 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ЧЕЛА – 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ИНЬЯ – 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КАК-РЕЗУС –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ЛИК -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292720" y="1700280"/>
            <a:ext cx="3672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ОЛИК – 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– 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ИМПАНЗЕ – 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АН – 5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ЕЛ – 6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ОШАДЬ – 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РИЦА - 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оение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Функции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личество хромосом у растений и жив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ушения структуры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24-цветная FISH хромосом человека: </a:t>
            </a:r>
            <a:br>
              <a:rPr sz="3200"/>
            </a:b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a - метафазная пластинк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убцов  Н. Б., Карамышева  Т. В.  Вестн. ВОГиС, 2000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4" descr="ris4a"/>
          <p:cNvPicPr/>
          <p:nvPr/>
        </p:nvPicPr>
        <p:blipFill>
          <a:blip r:embed="rId1"/>
          <a:stretch/>
        </p:blipFill>
        <p:spPr>
          <a:xfrm>
            <a:off x="1547640" y="404640"/>
            <a:ext cx="579924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24-цветная FISH хромосом человека: </a:t>
            </a:r>
            <a:br>
              <a:rPr sz="3600"/>
            </a:b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b - pаскладка хромосом.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Рубцов  Н. Б., Карамышева  Т. В.  Вестн. ВОГиС, 2000)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ris4b"/>
          <p:cNvPicPr/>
          <p:nvPr/>
        </p:nvPicPr>
        <p:blipFill>
          <a:blip r:embed="rId1"/>
          <a:stretch/>
        </p:blipFill>
        <p:spPr>
          <a:xfrm>
            <a:off x="1763640" y="476280"/>
            <a:ext cx="58500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ВСЕ ХРОМОСОМЫ ЧЕЛО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11280" y="1268280"/>
            <a:ext cx="7993080" cy="482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chrall"/>
          <p:cNvPicPr/>
          <p:nvPr/>
        </p:nvPicPr>
        <p:blipFill>
          <a:blip r:embed="rId1"/>
          <a:stretch/>
        </p:blipFill>
        <p:spPr>
          <a:xfrm>
            <a:off x="1116000" y="1600200"/>
            <a:ext cx="4784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3640" y="3068280"/>
            <a:ext cx="3910320" cy="30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Кариотип домашней кошки</a:t>
            </a: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66"/>
                </a:solidFill>
                <a:latin typeface="Times New Roman"/>
              </a:rPr>
              <a:t>Felis catus</a:t>
            </a: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( Брайен С. и др. Генетика кошки, 1993)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pics_p2"/>
          <p:cNvPicPr/>
          <p:nvPr/>
        </p:nvPicPr>
        <p:blipFill>
          <a:blip r:embed="rId1"/>
          <a:stretch/>
        </p:blipFill>
        <p:spPr>
          <a:xfrm>
            <a:off x="250920" y="260280"/>
            <a:ext cx="44877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КАРИОТИП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Это совокупность числа, величины и морфологии митотических хромосо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НАРУШЕНИЯ СТРУКТУРЫ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структуры хромосом происходит в результате спонтанных или спровоцированных изменен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Генные (точковые) мут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изменения на молекулярном уровне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Аберр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микроскопические изменения, различимые при помощи светового микроскопа)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деле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дупли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транслок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инверс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43280" y="83664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Times New Roman"/>
              </a:rPr>
              <a:t>ДЕЛЕЦ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Схема иллюстрирующая принцип делеции."/>
          <p:cNvPicPr/>
          <p:nvPr/>
        </p:nvPicPr>
        <p:blipFill>
          <a:blip r:embed="rId1"/>
          <a:stretch/>
        </p:blipFill>
        <p:spPr>
          <a:xfrm>
            <a:off x="539640" y="1557360"/>
            <a:ext cx="1978200" cy="3744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916360" y="2060640"/>
            <a:ext cx="58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лат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deletio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— уничтожение —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хромосомная аберрац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(перестройка)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при которой происходит потеря участка хромосо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быть следствием разрыва хромосомы или результатом неравного кроссингове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леции подразделя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а интерстициальн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отеря внутреннего участк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терминальн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потеря концевого участк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0560" y="404640"/>
            <a:ext cx="5843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ЕЛЕ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ЗНАЧЕНИЕ ДЕЛЕ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елеция белка CCR5-дельта32 приводит к невосприимчивости её носителя к ВИЧ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йчас к ВИЧ устойчиво в среднем 10 % европейцев, однако в Скандинавии эта доля достигает 14-15 %. У финнов и русских доля устойчивых людей еще выше — 16 %, а в Сардинии — всего 4 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ДУПЛИК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Схема иллюстрирующая принцип дупликации."/>
          <p:cNvPicPr/>
          <p:nvPr/>
        </p:nvPicPr>
        <p:blipFill>
          <a:blip r:embed="rId1"/>
          <a:stretch/>
        </p:blipFill>
        <p:spPr>
          <a:xfrm>
            <a:off x="324000" y="1268280"/>
            <a:ext cx="2058840" cy="5329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360" y="1413000"/>
            <a:ext cx="583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лат. 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duplicatio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— удвоение — структурная хромосомная мутация, заключающаяся в удвоении участка хромосом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ХРОМОСОМ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chromosome_real"/>
          <p:cNvPicPr/>
          <p:nvPr/>
        </p:nvPicPr>
        <p:blipFill>
          <a:blip r:embed="rId1"/>
          <a:stretch/>
        </p:blipFill>
        <p:spPr>
          <a:xfrm>
            <a:off x="468360" y="1557360"/>
            <a:ext cx="49546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867280" y="1916280"/>
            <a:ext cx="288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греч. chroma — цвет, краска + soma — тело) — комплекс одной молекулы ДНК с бел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ТРАНСЛОК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хромосомных мута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ходе транслокации происходит обмен участками негомологичных хромосом, но общее число генов не изменяет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личные транслокации приводят к развитию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лимфом, сарком, заболеванию лейкемией, шизофре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ИНВЕР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Это изменение структуры хромосомы, вызванное поворотом на 180° одного из внутренних её участк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обная хромосомная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естройка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ледствие двух одновременных разрывов в одной хромосоме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ИНФОРМАЦИОННЫЕ ИСТОЧН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ttp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ufolog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ru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aspx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2"/>
              </a:rPr>
              <a:t>?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3"/>
              </a:rPr>
              <a:t>control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4"/>
              </a:rPr>
              <a:t>=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5"/>
              </a:rPr>
              <a:t>controls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6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7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18"/>
              </a:rPr>
              <a:t>/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imes New Roman"/>
                <a:hlinkClick r:id="rId19"/>
              </a:rPr>
              <a:t>article</a:t>
            </a:r>
            <a:r>
              <a:rPr b="0" lang="ru-RU" sz="2000" spc="-1" strike="noStrike" u="sng">
                <a:solidFill>
                  <a:srgbClr val="ffcc66"/>
                </a:solidFill>
                <a:uFillTx/>
                <a:latin typeface="Times New Roman"/>
                <a:hlinkClick r:id="rId20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cx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i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=3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http://ru.wikipedia.org/wiki</a:t>
            </a:r>
            <a:r>
              <a:rPr b="0" lang="ru-RU" sz="2000" spc="-1" strike="noStrike">
                <a:solidFill>
                  <a:srgbClr val="ffff66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ики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schools.keldysh.ru/co1678/Project/Mixytkin/Sait/Chromosome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children.claw.ru/6_man/CONTENT/skan/38.htm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-Детская энциклопе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bannikov.narod.ru/hro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http://www.everyday.com.ua/myplanet/chromosome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Рубцов  Н. Б., Карамышева  Т. В.  Вестн. ВОГиС, 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http://hemgene.hoha.ru/HTML/chrall.htm - Хромосомы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buClr>
                <a:srgbClr val="ffff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Брайен С. и др. Генетика кошки, 199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СТРОЕНИЕ ХРОМОСО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19280" y="1412640"/>
            <a:ext cx="3467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хема строения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омосом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поздней профазе — метафазе мито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1—хроматид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2—центромер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3—короткое плечо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4—длинное плеч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24000" y="1268280"/>
            <a:ext cx="4752720" cy="525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Схема строения хромосомы в поздней профазе — метафазе митоза. 1—хроматида; 2—центромера; 3—короткое плечо; 4—длинное плечо."/>
          <p:cNvPicPr/>
          <p:nvPr/>
        </p:nvPicPr>
        <p:blipFill>
          <a:blip r:embed="rId1"/>
          <a:stretch/>
        </p:blipFill>
        <p:spPr>
          <a:xfrm>
            <a:off x="469800" y="1341360"/>
            <a:ext cx="3411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НТРОМЕРА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 (от центр + греч. meros — часть) —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ециализированный участок ДНК, в районе которого в стадии профазы и метафазы деления клетки соединяются две хроматиды, образовавшиеся в результате дупликации хромосом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ЗНАЧЕНИЕ ЦЕНТРО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тромера играет важную роль при расположении хромосом в виде метафазной пластин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процессе расхождения дочерних хромосом к полюсам клетки, так как при помощи центромеры каждая хроматида соединяется с нитями веретена дел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центромера разделяет хромосому на два плеч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ХРОМАТИДА</a:t>
            </a: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(от греч. chrom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- цвет, краска + eidos - вид) — часть хромосомы от момента ее дупликации до разделения на две дочерние в анафазе, представляет собой нить молекулы ДНК соединенную с белка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Хроматиды образуются в результате дупликации хромосом в процессе деления клет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219280" y="620640"/>
            <a:ext cx="34671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мосомы имеются в ядрах всех клето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хромосома содержит наследственные инструкции - г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26"/>
          <p:cNvPicPr/>
          <p:nvPr/>
        </p:nvPicPr>
        <p:blipFill>
          <a:blip r:embed="rId1"/>
          <a:stretch/>
        </p:blipFill>
        <p:spPr>
          <a:xfrm>
            <a:off x="250920" y="333360"/>
            <a:ext cx="50641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Times New Roman"/>
              </a:rPr>
              <a:t>МОРФОЛОГИЧЕСКИЕ ТИПЫ ХРОМО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тело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алочковидные хромосомы с центромерой, расположенной на проксимальном конце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акро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алочковидные хромосомы с очень коротким, почти незаметным вторым плечом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субметацентрическ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с плечами неравной длины, напоминающие по форме букву L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тацентрические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V-образные хромосомы, обладающие плечами равной длины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9:42:46Z</dcterms:created>
  <dc:creator>Долгорукова</dc:creator>
  <dc:description/>
  <dc:language>en-US</dc:language>
  <cp:lastModifiedBy>COMP</cp:lastModifiedBy>
  <dcterms:modified xsi:type="dcterms:W3CDTF">2011-09-26T17:40:23Z</dcterms:modified>
  <cp:revision>32</cp:revision>
  <dc:subject/>
  <dc:title>СТРУКТУРА И ФУНКЦИИ ХРОМОСОМ</dc:title>
</cp:coreProperties>
</file>