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4EA-C51B-4FBE-9534-979D90FE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61C-005E-4C9D-988C-46F507B5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194-E3E9-4EC4-BCF1-F9FDB39D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B36-14E7-4E6F-9EF7-4C71C6CB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4A5B-BE00-4BD5-A308-DA949ADD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4550-BC37-4B55-9853-4A3EB425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9101-9AAB-4795-A9E3-F97DEB67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D8D1-636B-41A7-A650-BB4BBD70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15FC-5503-437F-8A8D-9C549F67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C8F4-CD00-490D-8702-2B634BAD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1827-29AB-419A-8AEC-B460831C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13E-DA08-4086-B674-2B3566EA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9EB6-2973-49C7-8FDB-90029E0F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BCF4-473E-4662-8008-A79900B4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50FE-A3C6-4C26-A700-4BB64EA5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E05F-CBCF-4A82-80D9-073CBEE4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D69A-4C65-4EC4-8E7A-22DCD057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590-6D59-49F1-80F7-41C0CA65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E4B-2F30-49A3-84BF-495C5CE3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2C1-FF2C-4FD9-9E72-8B611748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E50-D953-4CF6-B675-CCE936FF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2CC-D519-4AD5-8C27-3D3DB0B8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919-CF5B-40CC-8397-2E73B3E6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0EE-8844-4A79-BD95-4EF10B89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CD83-5E91-46C8-AF33-C9A8E7154C0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825B-4B96-4CB2-91F1-362D777D00F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ufolog.ru/article.aspx?control=controls/article/article.ascx&amp;uid=3137" TargetMode="External"/><Relationship Id="rId2" Type="http://schemas.openxmlformats.org/officeDocument/2006/relationships/hyperlink" Target="http://www.ufolog.ru/article.aspx?control=controls/article/article.ascx&amp;uid=3137" TargetMode="External"/><Relationship Id="rId3" Type="http://schemas.openxmlformats.org/officeDocument/2006/relationships/hyperlink" Target="http://www.ufolog.ru/article.aspx?control=controls/article/article.ascx&amp;uid=3137" TargetMode="External"/><Relationship Id="rId4" Type="http://schemas.openxmlformats.org/officeDocument/2006/relationships/hyperlink" Target="http://www.ufolog.ru/article.aspx?control=controls/article/article.ascx&amp;uid=3137" TargetMode="External"/><Relationship Id="rId5" Type="http://schemas.openxmlformats.org/officeDocument/2006/relationships/hyperlink" Target="http://www.ufolog.ru/article.aspx?control=controls/article/article.ascx&amp;uid=3137" TargetMode="External"/><Relationship Id="rId6" Type="http://schemas.openxmlformats.org/officeDocument/2006/relationships/hyperlink" Target="http://www.ufolog.ru/article.aspx?control=controls/article/article.ascx&amp;uid=3137" TargetMode="External"/><Relationship Id="rId7" Type="http://schemas.openxmlformats.org/officeDocument/2006/relationships/hyperlink" Target="http://www.ufolog.ru/article.aspx?control=controls/article/article.ascx&amp;uid=3137" TargetMode="External"/><Relationship Id="rId8" Type="http://schemas.openxmlformats.org/officeDocument/2006/relationships/hyperlink" Target="http://www.ufolog.ru/article.aspx?control=controls/article/article.ascx&amp;uid=3137" TargetMode="External"/><Relationship Id="rId9" Type="http://schemas.openxmlformats.org/officeDocument/2006/relationships/hyperlink" Target="http://www.ufolog.ru/article.aspx?control=controls/article/article.ascx&amp;uid=3137" TargetMode="External"/><Relationship Id="rId10" Type="http://schemas.openxmlformats.org/officeDocument/2006/relationships/hyperlink" Target="http://www.ufolog.ru/article.aspx?control=controls/article/article.ascx&amp;uid=3137" TargetMode="External"/><Relationship Id="rId11" Type="http://schemas.openxmlformats.org/officeDocument/2006/relationships/hyperlink" Target="http://www.ufolog.ru/article.aspx?control=controls/article/article.ascx&amp;uid=3137" TargetMode="External"/><Relationship Id="rId12" Type="http://schemas.openxmlformats.org/officeDocument/2006/relationships/hyperlink" Target="http://www.ufolog.ru/article.aspx?control=controls/article/article.ascx&amp;uid=3137" TargetMode="External"/><Relationship Id="rId13" Type="http://schemas.openxmlformats.org/officeDocument/2006/relationships/hyperlink" Target="http://www.ufolog.ru/article.aspx?control=controls/article/article.ascx&amp;uid=3137" TargetMode="External"/><Relationship Id="rId14" Type="http://schemas.openxmlformats.org/officeDocument/2006/relationships/hyperlink" Target="http://www.ufolog.ru/article.aspx?control=controls/article/article.ascx&amp;uid=3137" TargetMode="External"/><Relationship Id="rId15" Type="http://schemas.openxmlformats.org/officeDocument/2006/relationships/hyperlink" Target="http://www.ufolog.ru/article.aspx?control=controls/article/article.ascx&amp;uid=3137" TargetMode="External"/><Relationship Id="rId16" Type="http://schemas.openxmlformats.org/officeDocument/2006/relationships/hyperlink" Target="http://www.ufolog.ru/article.aspx?control=controls/article/article.ascx&amp;uid=3137" TargetMode="External"/><Relationship Id="rId17" Type="http://schemas.openxmlformats.org/officeDocument/2006/relationships/hyperlink" Target="http://www.ufolog.ru/article.aspx?control=controls/article/article.ascx&amp;uid=3137" TargetMode="External"/><Relationship Id="rId18" Type="http://schemas.openxmlformats.org/officeDocument/2006/relationships/hyperlink" Target="http://www.ufolog.ru/article.aspx?control=controls/article/article.ascx&amp;uid=3137" TargetMode="External"/><Relationship Id="rId19" Type="http://schemas.openxmlformats.org/officeDocument/2006/relationships/hyperlink" Target="http://www.ufolog.ru/article.aspx?control=controls/article/article.ascx&amp;uid=3137" TargetMode="External"/><Relationship Id="rId20" Type="http://schemas.openxmlformats.org/officeDocument/2006/relationships/hyperlink" Target="http://www.ufolog.ru/article.aspx?control=controls/article/article.ascx&amp;uid=3137" TargetMode="External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Times New Roman"/>
              </a:rPr>
              <a:t>СТРУКТУРА И ФУНКЦИИ ХРОМОСОМ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6" descr="dnk"/>
          <p:cNvPicPr/>
          <p:nvPr/>
        </p:nvPicPr>
        <p:blipFill>
          <a:blip r:embed="rId1"/>
          <a:stretch/>
        </p:blipFill>
        <p:spPr>
          <a:xfrm>
            <a:off x="539640" y="2133720"/>
            <a:ext cx="2691000" cy="431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ГОМОЛОГИЧНЫЕ ХРОМОСО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 греч.Гомос - одинаковы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Гомологичные хромосомы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- парные хромосомы, одинаковые по форме, размерам и набору генов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ГАПЛОИДНЫЙ НАБОР ХРОМОС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клетках тела двуполых животных и растений каждая хромосома представлена двумя гомологичными хромосомами, происходящими одна от материнского, а другая от отцовского организма. Такой набор хромосом называют 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диплоидным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 (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двойным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ДИПЛОИДНЫЙ НАБОР ХРОМОС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ловые клетки, образовавшиеся в результате мейоза, содержат только одну из двух гомологичных хромосом. Этот набор хромосом называют 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гаплоидным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 (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одинарным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ФУНКЦИИ ХРОМОСО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существляют координацию и регуляцию процессов в клетке путем синтеза первичной структуры белка, информационной и рибосомальной РН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ВИДЫ ХРОМОСОМ: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ГИГАНТСКИЕ ХРОМОСО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дны в некоторых клетках на определенных стадиях клеточного цик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ример, в клетках некоторых тканей личинок двукрылых насекомых (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олитенные хромосом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и в ооцитах различных позвоночных и беспозвоночных (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хромосомы типа ламповых щето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нно на препаратах гигантских хромосом удалось выявить признаки активности ге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big_chrom"/>
          <p:cNvPicPr/>
          <p:nvPr/>
        </p:nvPicPr>
        <p:blipFill>
          <a:blip r:embed="rId1"/>
          <a:stretch/>
        </p:blipFill>
        <p:spPr>
          <a:xfrm>
            <a:off x="324000" y="1700280"/>
            <a:ext cx="5832360" cy="4830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397080" y="260280"/>
            <a:ext cx="8349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ВИДЫ ХРОМОСОМ:</a:t>
            </a:r>
            <a:br>
              <a:rPr sz="4400"/>
            </a:b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ГИГАНТСКИЕ ХРОМОСО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300720" y="1773360"/>
            <a:ext cx="266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гантские хромосомы из клеток слюнной железы Drosophila melanogaster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ифрами обозначены аутосомы, а буквами их плечи (R - правое плечо, L - левое плечо), X - X-хромосома </a:t>
            </a:r>
            <a:r>
              <a:rPr b="0" lang="ru-RU" sz="2000" spc="-1" strike="noStrike">
                <a:solidFill>
                  <a:srgbClr val="ffff66"/>
                </a:solidFill>
                <a:latin typeface="Times New Roman"/>
              </a:rPr>
              <a:t>(Мюнтцинг А. Генетические исследования, 1963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ПОЛИТЕННЫЕ ХРОМООС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первые обнаружены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Е.Г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Бальбиан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в 1881г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, однако их цитогенетическая роль была выявлена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Костовым, Пайнтером, Гейтцем и Бауером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Содержатся в клетках слюнных желез, кишечника, трахей, жирового тела и мальпигиевых сосудов личинок двукрыл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ХРОМОСОМЫ ТИПА ЛАМПОВЫХ ЩЕТО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наружены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Рюккерто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в 1892 году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длине превышают политенные хромосомы, наблюдаются в ооцитах на стадии первого деления мейоза, во время которой процессы синтеза, приводящие к образованию желтка, наиболее интенсив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щая длина хромосомного набора в ооцитах некоторых хвостатых амфибий достигает 5900 мк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ДИПЛОИДНЫЙ НАБОР ХРОМОСОМ У РАСТЕН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9640" y="1557360"/>
            <a:ext cx="4537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ОХ  -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СНАЯ СМОРОДИНА – 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РЕЗА – 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ЖЕВЕЛЬНИК – 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5219640" y="1484280"/>
            <a:ext cx="35290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УБ – 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Н –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ШНЯ –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БЛОНЯ – 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СЕНЬ – 4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РТОФЕЛЬ – 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ПА - 8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ДИПЛОИДНЫЙ НАБОР ХРОМОСОМ У ЖИВОТНЫ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АР –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УНЬ – 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ЧЕЛА –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ИНЬЯ – 3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КАК-РЕЗУС –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ОЛИК - 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292720" y="1700280"/>
            <a:ext cx="3672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ОЛИК – 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ЛОВЕК – 4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ИМПАНЗЕ – 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АН –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ЕЛ – 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ОШАДЬ – 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РИЦА - 7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роение хромо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ункции хромо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ы хромо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личество хромосом у растений и жив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рушения структуры хромо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24-цветная FISH хромосом человека: 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a - метафазная пластинк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Рубцов  Н. Б., Карамышева  Т. В.  Вестн. ВОГиС, 2000)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Picture 4" descr="ris4a"/>
          <p:cNvPicPr/>
          <p:nvPr/>
        </p:nvPicPr>
        <p:blipFill>
          <a:blip r:embed="rId1"/>
          <a:stretch/>
        </p:blipFill>
        <p:spPr>
          <a:xfrm>
            <a:off x="1547640" y="404640"/>
            <a:ext cx="579924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46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24-цветная FISH хромосом человека: </a:t>
            </a:r>
            <a:br>
              <a:rPr sz="3600"/>
            </a:b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b - pаскладка хромосом.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Рубцов  Н. Б., Карамышева  Т. В.  Вестн. ВОГиС, 2000)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4" descr="ris4b"/>
          <p:cNvPicPr/>
          <p:nvPr/>
        </p:nvPicPr>
        <p:blipFill>
          <a:blip r:embed="rId1"/>
          <a:stretch/>
        </p:blipFill>
        <p:spPr>
          <a:xfrm>
            <a:off x="1763640" y="476280"/>
            <a:ext cx="58500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ВСЕ ХРОМОСОМЫ ЧЕЛО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11280" y="1268280"/>
            <a:ext cx="7993080" cy="482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8" descr="chrall"/>
          <p:cNvPicPr/>
          <p:nvPr/>
        </p:nvPicPr>
        <p:blipFill>
          <a:blip r:embed="rId1"/>
          <a:stretch/>
        </p:blipFill>
        <p:spPr>
          <a:xfrm>
            <a:off x="1116000" y="1600200"/>
            <a:ext cx="4784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3640" y="3068280"/>
            <a:ext cx="3910320" cy="30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Кариотип домашней кошки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66"/>
                </a:solidFill>
                <a:latin typeface="Times New Roman"/>
              </a:rPr>
              <a:t>Felis catus</a:t>
            </a:r>
            <a:r>
              <a:rPr b="0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( Брайен С. и др. Генетика кошки, 1993)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4" descr="pics_p2"/>
          <p:cNvPicPr/>
          <p:nvPr/>
        </p:nvPicPr>
        <p:blipFill>
          <a:blip r:embed="rId1"/>
          <a:stretch/>
        </p:blipFill>
        <p:spPr>
          <a:xfrm>
            <a:off x="250920" y="260280"/>
            <a:ext cx="44877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Times New Roman"/>
              </a:rPr>
              <a:t>КАРИОТИП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Это совокупность числа, величины и морфологии митотических хромосом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НАРУШЕНИЯ СТРУКТУРЫ ХРОМОС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структуры хромосом происходит в результате спонтанных или спровоцированных изменени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Генные (точковые) мут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изменения на молекулярном уровне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Аберр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микроскопические изменения, различимые при помощи светового микроскопа)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деле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дуплик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транслок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инверс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43280" y="836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Times New Roman"/>
              </a:rPr>
              <a:t>ДЕЛЕЦИ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Схема иллюстрирующая принцип делеции."/>
          <p:cNvPicPr/>
          <p:nvPr/>
        </p:nvPicPr>
        <p:blipFill>
          <a:blip r:embed="rId1"/>
          <a:stretch/>
        </p:blipFill>
        <p:spPr>
          <a:xfrm>
            <a:off x="539640" y="1557360"/>
            <a:ext cx="1978200" cy="3744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916360" y="2060640"/>
            <a:ext cx="58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 </a:t>
            </a:r>
            <a:r>
              <a:rPr b="0" lang="ru-RU" sz="36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лат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deletio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— уничтожение —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хромосомная аберрац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(перестройка)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при которой происходит потеря участка хромосом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быть следствием разрыва хромосомы или результатом неравного кроссингове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леции подразделяю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на интерстициальн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потеря внутреннего участка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терминальн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потеря концевого участк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050560" y="404640"/>
            <a:ext cx="5843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ДЕЛЕ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ЗНАЧЕНИЕ ДЕЛЕ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елеция белка CCR5-дельта32 приводит к невосприимчивости её носителя к ВИЧ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ейчас к ВИЧ устойчиво в среднем 10 % европейцев, однако в Скандинавии эта доля достигает 14-15 %. У финнов и русских доля устойчивых людей еще выше — 16 %, а в Сардинии — всего 4 %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ДУПЛИКА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4" descr="Схема иллюстрирующая принцип дупликации."/>
          <p:cNvPicPr/>
          <p:nvPr/>
        </p:nvPicPr>
        <p:blipFill>
          <a:blip r:embed="rId1"/>
          <a:stretch/>
        </p:blipFill>
        <p:spPr>
          <a:xfrm>
            <a:off x="324000" y="1268280"/>
            <a:ext cx="2058840" cy="53294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360" y="1413000"/>
            <a:ext cx="583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 лат.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duplicatio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— удвоение — структурная хромосомная мутация, заключающаяся в удвоении участка хромосом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ХРОМОСОМ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Picture 4" descr="chromosome_real"/>
          <p:cNvPicPr/>
          <p:nvPr/>
        </p:nvPicPr>
        <p:blipFill>
          <a:blip r:embed="rId1"/>
          <a:stretch/>
        </p:blipFill>
        <p:spPr>
          <a:xfrm>
            <a:off x="468360" y="1557360"/>
            <a:ext cx="4954680" cy="4495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867280" y="1916280"/>
            <a:ext cx="288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от греч. chroma — цвет, краска + soma — тело) — комплекс одной молекулы ДНК с белк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ТРАНСЛОК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хромосомных мутац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ходе транслокации происходит обмен участками негомологичных хромосом, но общее число генов не изменяетс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личные транслокации приводят к развитию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лимфом, сарком, заболеванию лейкемией, шизофрен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ИНВЕР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Это изменение структуры хромосомы, вызванное поворотом на 180° одного из внутренних её участк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обная хромосомная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ерестройка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ледствие двух одновременных разрывов в одной хромосом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ИНФОРМАЦИОННЫЕ ИСТОЧНИК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ttp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5"/>
              </a:rPr>
              <a:t>ufolog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7"/>
              </a:rPr>
              <a:t>ru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8"/>
              </a:rPr>
              <a:t>/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9"/>
              </a:rPr>
              <a:t>article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1"/>
              </a:rPr>
              <a:t>aspx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12"/>
              </a:rPr>
              <a:t>?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3"/>
              </a:rPr>
              <a:t>control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14"/>
              </a:rPr>
              <a:t>=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5"/>
              </a:rPr>
              <a:t>controls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16"/>
              </a:rPr>
              <a:t>/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7"/>
              </a:rPr>
              <a:t>article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18"/>
              </a:rPr>
              <a:t>/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9"/>
              </a:rPr>
              <a:t>article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20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cx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i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=313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http://ru.wikipedia.org/wiki</a:t>
            </a:r>
            <a:r>
              <a:rPr b="0" lang="ru-RU" sz="2000" spc="-1" strike="noStrike">
                <a:solidFill>
                  <a:srgbClr val="ffff66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икипе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http://schools.keldysh.ru/co1678/Project/Mixytkin/Sait/Chromosome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http://children.claw.ru/6_man/CONTENT/skan/38.htm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-Детская энциклопе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http://bannikov.narod.ru/hrom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http://www.everyday.com.ua/myplanet/chromosome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Рубцов  Н. Б., Карамышева  Т. В.  Вестн. ВОГиС, 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http://hemgene.hoha.ru/HTML/chrall.htm - Хромосомы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Брайен С. и др. Генетика кошки, 199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СТРОЕНИЕ ХРОМОСО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19280" y="1412640"/>
            <a:ext cx="3467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хема строения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хромосом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поздней профазе — метафазе митоз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1—хроматид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2—центромер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3—короткое плечо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4—длинное плеч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24000" y="1268280"/>
            <a:ext cx="4752720" cy="525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Схема строения хромосомы в поздней профазе — метафазе митоза. 1—хроматида; 2—центромера; 3—короткое плечо; 4—длинное плечо."/>
          <p:cNvPicPr/>
          <p:nvPr/>
        </p:nvPicPr>
        <p:blipFill>
          <a:blip r:embed="rId1"/>
          <a:stretch/>
        </p:blipFill>
        <p:spPr>
          <a:xfrm>
            <a:off x="469800" y="1341360"/>
            <a:ext cx="3411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ЦЕНТРОМЕРА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 (от центр + греч. meros — часть) —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пециализированный участок ДНК, в районе которого в стадии профазы и метафазы деления клетки соединяются две хроматиды, образовавшиеся в результате дупликации хромосом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ЗНАЧЕНИЕ ЦЕНТРОМЕ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тромера играет важную роль при расположении хромосом в виде метафазной пластин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роцессе расхождения дочерних хромосом к полюсам клетки, так как при помощи центромеры каждая хроматида соединяется с нитями веретена де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ая центромера разделяет хромосому на два плеч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ХРОМАТИДА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(от греч. chroma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- цвет, краска + eidos - вид) — часть хромосомы от момента ее дупликации до разделения на две дочерние в анафазе, представляет собой нить молекулы ДНК соединенную с белкам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Хроматиды образуются в результате дупликации хромосом в процессе деления клет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219280" y="620640"/>
            <a:ext cx="34671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ромосомы имеются в ядрах всех клето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ая хромосома содержит наследственные инструкции - г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26"/>
          <p:cNvPicPr/>
          <p:nvPr/>
        </p:nvPicPr>
        <p:blipFill>
          <a:blip r:embed="rId1"/>
          <a:stretch/>
        </p:blipFill>
        <p:spPr>
          <a:xfrm>
            <a:off x="250920" y="333360"/>
            <a:ext cx="50641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МОРФОЛОГИЧЕСКИЕ ТИПЫ ХРОМОС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телоцентрические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алочковидные хромосомы с центромерой, расположенной на проксимальном конце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акроцентрические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алочковидные хромосомы с очень коротким, почти незаметным вторым плечом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субметацентрическ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с плечами неравной длины, напоминающие по форме букву L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метацентрические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V-образные хромосомы, обладающие плечами равной длины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9:42:46Z</dcterms:created>
  <dc:creator>Долгорукова</dc:creator>
  <dc:description/>
  <dc:language>en-US</dc:language>
  <cp:lastModifiedBy>COMP</cp:lastModifiedBy>
  <dcterms:modified xsi:type="dcterms:W3CDTF">2011-09-26T17:40:23Z</dcterms:modified>
  <cp:revision>32</cp:revision>
  <dc:subject/>
  <dc:title>СТРУКТУРА И ФУНКЦИИ ХРОМОСОМ</dc:title>
</cp:coreProperties>
</file>