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6E1-A03D-4F0E-AA8D-BB612AB7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4D7-6CC2-41D2-92BD-EACFA990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6F0-FE06-4395-A5D7-AD4E2634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7BF-805C-458F-AB5D-AC3457FF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E04B-50B5-49DC-9E21-2B5A8362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31C5-420B-433C-BA68-A8275F1D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F527-C176-49C2-8D78-3F673D39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49BB-BB51-4802-922E-989BD09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7052-3FD7-4DF0-ADDC-B020313A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319A-6DD8-41E4-98ED-D22D032D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F0CB-1B33-4BE5-8E0A-41224C3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2E8-8067-4090-A1A7-0A5051C0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575F-922A-4D00-9BC2-4791F8C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BABD-5506-424D-8049-1640DB4F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4BF6-6979-419B-A368-6D4EB03F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06D4-3A39-4163-87DF-FBAF7790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5F53-A16E-4BFA-8727-D1A6897A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63C-977D-413A-9BF7-D8A81EDF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7F0-6716-42EF-AB4F-03333FCB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B2A-C1D8-4377-94F3-3170F5F3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F88-5B19-42AE-A64C-809C6F45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7AA-B474-4D1D-87AF-FC0FC39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FC6-96A1-46AF-875C-3A66B340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092-2DC3-45AF-BD5D-FED04273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07BC-69C3-45D3-B912-F4CD059834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2B87-6735-46DC-9756-29181DD6674D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username@server.ru" TargetMode="External"/><Relationship Id="rId2" Type="http://schemas.openxmlformats.org/officeDocument/2006/relationships/hyperlink" Target="mailto:username@server.r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перссы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235080"/>
            <a:ext cx="9144000" cy="647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33240" y="206280"/>
            <a:ext cx="80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2929"/>
                </a:solidFill>
                <a:latin typeface="Arial"/>
              </a:rPr>
              <a:t>Что такое гиперссылка?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916280"/>
            <a:ext cx="864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Гиперссылка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Verdana"/>
              </a:rPr>
              <a:t>(hyperlink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Verdana"/>
              </a:rPr>
              <a:t>указатель внутри гипертекстового документа, указывающий на другой документ (связывает с другим документом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48960" y="533160"/>
            <a:ext cx="7661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адрес перехода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текст-ссылка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48960" y="228600"/>
            <a:ext cx="7661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Если страница размешена на локальном компьютере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filename.htm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текст-ссылка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Если страница размешена в Интернете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ttp:// www.server.ru/Web-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сайт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/filename.htm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текст-ссылка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изображение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picture.jpg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изображение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звук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sound.wav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звук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48960" y="762120"/>
            <a:ext cx="7661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архив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Архив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.zip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скачать файл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адрес электронной почты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ADDRESS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ref=“mailto: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username@server.ru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”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username@server.ru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/ADDRESS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8-29T16:18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