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5D7-BD90-48CC-A920-A1AAEA5E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C9E-A8F9-46C4-8136-01627046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E6B-E9F0-4CD8-AA2B-6F542C0B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942-3989-4919-8F8D-13BAA203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1AB4-2E79-45D5-A89B-E27483CC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21A6-70A9-4209-80D4-50EB3C80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D1CF-7DEA-400E-A039-93E266DF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06C9-29FB-4191-B62C-761B3E27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8F63-AB31-448D-BBCC-9BF961BE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F197-99FC-4763-9BF1-A0A56BA9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5C3A-94BC-4EBC-96CB-B738451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BBE-1F8D-47EE-B856-22CDE29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2AAB-4FD7-4FA4-8F59-33B34F1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FBB0-75D0-4066-968F-C154F63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AE03-4CB7-4F24-B1C9-730A50AE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22D5-5FF1-4F1C-8B86-8D71E879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5F8E-DF9B-4898-8179-F5553E30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B3D-DBAD-4EB7-B343-899AC0F0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775-1EC7-4108-BFEF-10ACB67B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784-DFA6-447C-B14C-35D07B0B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1EF-EB35-4ACF-B20F-BAB9CF36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2A7-4E02-4B4B-947E-AB771A2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60B-515C-4A07-BC69-ECF2550E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271-A26D-4B63-9A7C-BF2FC495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C4A5-2DB7-44D6-96EC-C88D9FD8BC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4F3D-2F0A-4B0D-9DF6-137487EEA9D0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username@server.ru" TargetMode="External"/><Relationship Id="rId2" Type="http://schemas.openxmlformats.org/officeDocument/2006/relationships/hyperlink" Target="mailto:username@server.r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перссы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235080"/>
            <a:ext cx="9144000" cy="647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33240" y="206280"/>
            <a:ext cx="80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2929"/>
                </a:solidFill>
                <a:latin typeface="Arial"/>
              </a:rPr>
              <a:t>Что такое гиперссылка?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916280"/>
            <a:ext cx="864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Гиперссылка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Verdana"/>
              </a:rPr>
              <a:t>(hyperlink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Verdana"/>
              </a:rPr>
              <a:t>указатель внутри гипертекстового документа, указывающий на другой документ (связывает с другим документом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48960" y="533160"/>
            <a:ext cx="7661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адрес перехода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текст-ссылка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48960" y="228600"/>
            <a:ext cx="7661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Если страница размешена на локальном компьютере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filename.htm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текст-ссылка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Если страница размешена в Интернете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ttp:// www.server.ru/Web-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сайт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/filename.htm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текст-ссылка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изображение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picture.jpg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изображение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звук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sound.wav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звук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48960" y="762120"/>
            <a:ext cx="7661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архив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Архив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.zip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скачать файл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адрес электронной почты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ADDRESS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ref=“mailto: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username@server.ru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”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username@server.ru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/ADDRESS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8-29T16:18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