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5CA5-47CB-4E82-8F0C-79590FD1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75A3-A57C-47D1-8AAE-13746C41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DE1B-7509-4F69-AE97-A56F3974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A45D-8FF3-4F00-9D52-E789393F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AA50-2983-4A01-AFC5-8933196C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A9C9-BC4D-4208-81F4-9DC71751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5425-2BC5-4D12-96FB-0B9EA88B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E50F-A861-4EC4-9301-E026604C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67F2-DBF5-4AAF-B923-55B3723E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BF18-E7E1-4382-A636-5D224F4C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EC59-B4D9-4FB8-B9D3-76ABC566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D909-2285-4498-86C3-0FC2B18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470-4FFD-495C-9BC7-5E4C5243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B63B-C4C6-4FF5-A6C4-BF6DCDB5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4650-DFE3-40C7-B4DF-9F60CE0E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569E-2AB9-421E-ABDC-31FBDCAE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720D-0956-479D-8D63-C64062B8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DE7D-8700-43DB-8841-656C7CF7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6503-C460-4925-98CF-6BC7948F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8765-42BC-4BA3-9BE6-ED870B4A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5B0F-8A38-4C91-B0DA-2DC0E990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BC00-077C-4EB4-BB3F-A10125F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9E0A-1612-41DB-B466-E26620A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9D3D-2360-49FE-84BC-D51DEAD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93396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2FF9-A8E2-4047-85B2-C7C2A09784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50F-31CE-4265-9E25-D3895E4C7B82}" type="slidenum">
              <a:rPr b="0" lang="en-US" sz="12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2%E5%EB%E5%E2%E8%E7%EE%F0&amp;imsrc=http%3A%2F%2Fwww.nabook.com.ua%2Fimages%2Fnews%2FArmani_L45_600.jpg&amp;rch=e&amp;jsa=1&amp;sf=0&amp;cf=10&amp;is=0&amp;type=al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go.mail.ru/frame.html?q=%EA%EE%ED%E4%E8%F6%E8%EE%ED%E5%F0%FB%20%F4%EE%F2%EE&amp;imsrc=http%3A%2F%2Fmoroziholod.ru%2Fimages%2Findex_clip_image001_0000.jpg&amp;rch=e&amp;jsa=1&amp;sf=0&amp;cf=6&amp;is=0&amp;type=all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go.mail.ru/frame.html?q=%EC%E8%EA%F0%EE%E2%EE%EB%ED%EE%E2%E0%FF%20%EF%E5%F7%FC&amp;imsrc=http%3A%2F%2Fwww.ayurvedaru.ru%2Fwp-content%2Fuploads%2F2009%2F01%2Fmicrowa-595.jpg&amp;rch=e&amp;jsa=1&amp;sf=0&amp;cf=1&amp;is=0&amp;type=all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go.mail.ru/frame.html?q=%EF%FB%EB%E5%F1%EE%F1&amp;imsrc=http%3A%2F%2Fwww.mshop.kiev.ua%2Fpic%2Fcleaner_2.jpg&amp;rch=e&amp;jsa=1&amp;sf=0&amp;cf=0&amp;is=0&amp;type=all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go.mail.ru/frame.html?q=%FD%EB%E5%EA%F2%F0%EE%EF%EB%E8%F2%E0&amp;imsrc=http%3A%2F%2Fapplianceandmattresscenter.com%2Fimages%2Felectric_stove_k140.jpg&amp;rch=e&amp;jsa=1&amp;sf=0&amp;cf=9&amp;is=0&amp;type=all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go.mail.ru/frame.html?q=%F5%EE%EB%EE%E4%E8%EB%FC%ED%E8%EA&amp;imsrc=http%3A%2F%2Fwww.appliancist.com%2Fwhirlpool-super-premium-espresso-refrigerator-20ri-d4.jpg&amp;rch=e&amp;jsa=1&amp;sf=0&amp;cf=4&amp;is=0&amp;type=all" TargetMode="External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F%FB%EB%E5%F1%EE%F1%FB&amp;imsrc=http%3A%2F%2Fwww.techhome.ru%2Fupload%2F27022008164603.jpg&amp;rch=e&amp;jsa=1&amp;sf=0&amp;cf=4&amp;is=0&amp;type=al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go.mail.ru/frame.html?q=%FD%EB%E5%EA%F2%F0%EE%E1%F0%E8%F2%E2%FB&amp;imsrc=http%3A%2F%2Fwww.e-katalog.com.ua%2Fjpg_zoom1%2F45287.jpg&amp;rch=e&amp;jsa=1&amp;sf=0&amp;cf=0&amp;is=0&amp;type=al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go.mail.ru/frame.html?q=%FD%EB%E5%EA%F2%F0%EE%EF%E5%F7%E8&amp;imsrc=http%3A%2F%2Fpics.rbc.ru%2Fimg%2Fcnews%2F2008%2F07%2F04%2Frost4.jpg&amp;rch=e&amp;jsa=1&amp;sf=0&amp;cf=0&amp;is=0&amp;type=all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go.mail.ru/frame.html?q=%EA%EE%EC%EF%FC%FE%F2%E5%F0%FB&amp;imsrc=http%3A%2F%2Fwww.ktosdelal.ru%2Fwp-content%2Fuploads%2F1%2Fkomputer.jpg&amp;rch=e&amp;jsa=1&amp;sf=0&amp;cf=3&amp;is=0&amp;type=all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go.mail.ru/frame.html?q=%F2%E5%EB%E5%E2%E8%E7%EE%F0%FB&amp;imsrc=http%3A%2F%2Fwww.tvtown.ru%2Fimages%2Flcd.jpeg&amp;rch=e&amp;jsa=1&amp;sf=0&amp;cf=1&amp;is=0&amp;type=all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go.mail.ru/frame.html?q=%F3%F2%FE%E3%E8&amp;imsrc=http%3A%2F%2Fwww.tviydim.zp.ua%2Fimg%2Fkategory%2Futyug.jpg&amp;rch=e&amp;jsa=1&amp;sf=0&amp;cf=18&amp;is=0&amp;type=all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43040" y="3357360"/>
            <a:ext cx="5834160" cy="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f85"/>
                </a:solidFill>
                <a:latin typeface="Arial"/>
              </a:rPr>
              <a:t>Влияние электромагнитных излучений на здоровье человека</a:t>
            </a:r>
            <a:br>
              <a:rPr sz="3200"/>
            </a:b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99800" y="5135400"/>
            <a:ext cx="5327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оектная работа ученицы 7.2 класса Горбуновой Иоланты и ученика 8.5 класса Копылов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МАОУ  «Лицей» № 3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Учитель – Лушкова Татья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1_1_~1"/>
          <p:cNvPicPr/>
          <p:nvPr/>
        </p:nvPicPr>
        <p:blipFill>
          <a:blip r:embed="rId1"/>
          <a:stretch/>
        </p:blipFill>
        <p:spPr>
          <a:xfrm>
            <a:off x="1476360" y="1484280"/>
            <a:ext cx="7667640" cy="5373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Плотность потока мощности </a:t>
            </a:r>
            <a:r>
              <a:rPr b="1" i="1" lang="ru-RU" sz="3200" spc="-1" strike="noStrike">
                <a:solidFill>
                  <a:srgbClr val="0f3f85"/>
                </a:solidFill>
                <a:latin typeface="Arial"/>
              </a:rPr>
              <a:t>мкВт/кв.см 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ижний колонтитул 2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Безопасное расстояние от работающих приборов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6761160" y="3433680"/>
            <a:ext cx="162072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065560" y="3433680"/>
            <a:ext cx="161136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3382920" y="3433680"/>
            <a:ext cx="156384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1676520" y="3433680"/>
            <a:ext cx="162072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22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22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2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22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2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2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2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3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23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36" name="Rectangle 20"/>
            <p:cNvSpPr/>
            <p:nvPr/>
          </p:nvSpPr>
          <p:spPr>
            <a:xfrm rot="3418800">
              <a:off x="5205600" y="2011320"/>
              <a:ext cx="873000" cy="96696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3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23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4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243" name="Rectangle 27"/>
          <p:cNvSpPr/>
          <p:nvPr/>
        </p:nvSpPr>
        <p:spPr>
          <a:xfrm>
            <a:off x="20203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7159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52621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6" name="Rectangle 30"/>
          <p:cNvSpPr/>
          <p:nvPr/>
        </p:nvSpPr>
        <p:spPr>
          <a:xfrm>
            <a:off x="69577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Rectangle 31"/>
          <p:cNvSpPr/>
          <p:nvPr/>
        </p:nvSpPr>
        <p:spPr>
          <a:xfrm>
            <a:off x="1714680" y="3357720"/>
            <a:ext cx="150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Телевизор 1,5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8" name="Rectangle 32"/>
          <p:cNvSpPr/>
          <p:nvPr/>
        </p:nvSpPr>
        <p:spPr>
          <a:xfrm>
            <a:off x="3396960" y="335772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Кондиционер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6786720" y="3429000"/>
            <a:ext cx="15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Пылесос</a:t>
            </a:r>
            <a:r>
              <a:rPr b="0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6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250" name="Picture 5" descr="Armani_L45_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1857240"/>
            <a:ext cx="1571760" cy="135576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251" name="Picture 9" descr="index_clip_image001_0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1857240"/>
            <a:ext cx="1500120" cy="1359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252" name="Picture 11" descr="microwa-59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1857240"/>
            <a:ext cx="1523880" cy="13575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253" name="Picture 13" descr="cleaner_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15080" y="1714680"/>
            <a:ext cx="1500120" cy="163188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sp>
        <p:nvSpPr>
          <p:cNvPr id="254" name="AutoShape 3"/>
          <p:cNvSpPr/>
          <p:nvPr/>
        </p:nvSpPr>
        <p:spPr>
          <a:xfrm>
            <a:off x="6786720" y="6143760"/>
            <a:ext cx="162072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5" name="Rectangle 34"/>
          <p:cNvSpPr/>
          <p:nvPr/>
        </p:nvSpPr>
        <p:spPr>
          <a:xfrm>
            <a:off x="6715080" y="6072120"/>
            <a:ext cx="19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Посудомоечная машина 0.4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256" name="Picture 15" descr="electric_stove_k14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71760" y="4500720"/>
            <a:ext cx="1726920" cy="14284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7" name="Picture 17" descr="whirlpool-super-premium-espresso-refrigerator-20ri-d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643200" y="4500720"/>
            <a:ext cx="882720" cy="14540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8" name="Picture 19" descr="miele-w5748-washing-machine_0"/>
          <p:cNvPicPr/>
          <p:nvPr/>
        </p:nvPicPr>
        <p:blipFill>
          <a:blip r:embed="rId13"/>
          <a:stretch/>
        </p:blipFill>
        <p:spPr>
          <a:xfrm>
            <a:off x="4929120" y="4500720"/>
            <a:ext cx="1247760" cy="15238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9" name="Picture 21" descr="BOSCH_SGS09T06_c"/>
          <p:cNvPicPr/>
          <p:nvPr/>
        </p:nvPicPr>
        <p:blipFill>
          <a:blip r:embed="rId14"/>
          <a:stretch/>
        </p:blipFill>
        <p:spPr>
          <a:xfrm>
            <a:off x="6715080" y="4572000"/>
            <a:ext cx="1428840" cy="14288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260" name="AutoShape 3"/>
          <p:cNvSpPr/>
          <p:nvPr/>
        </p:nvSpPr>
        <p:spPr>
          <a:xfrm>
            <a:off x="5000760" y="6143760"/>
            <a:ext cx="162072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214800" y="6143760"/>
            <a:ext cx="162072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3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1500120" y="6143760"/>
            <a:ext cx="162108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4857840" y="6027840"/>
            <a:ext cx="19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Стиральная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машина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 0.6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Rectangle 34"/>
          <p:cNvSpPr/>
          <p:nvPr/>
        </p:nvSpPr>
        <p:spPr>
          <a:xfrm>
            <a:off x="3214800" y="607212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Холодильник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1506960" y="6072120"/>
            <a:ext cx="160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Электроплита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3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6" name="Прямоугольник 52"/>
          <p:cNvSpPr/>
          <p:nvPr/>
        </p:nvSpPr>
        <p:spPr>
          <a:xfrm>
            <a:off x="3500280" y="3571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1,5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7" name="Прямоугольник 53"/>
          <p:cNvSpPr/>
          <p:nvPr/>
        </p:nvSpPr>
        <p:spPr>
          <a:xfrm>
            <a:off x="4643280" y="335772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Микроволновая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печь</a:t>
            </a:r>
            <a:r>
              <a:rPr b="1" i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3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ндикатор ЭМИ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f64"/>
                </a:solidFill>
                <a:latin typeface="Arial"/>
              </a:rPr>
              <a:t>Электромагнитные волны возбуждают в антенне ток переменной частоты, который усиливается транзисторами и передается на телефон и превращаются в звук 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271" name="Рисунок 4" descr="E:\эл-маг.JPG"/>
          <p:cNvPicPr/>
          <p:nvPr/>
        </p:nvPicPr>
        <p:blipFill>
          <a:blip r:embed="rId1"/>
          <a:stretch/>
        </p:blipFill>
        <p:spPr>
          <a:xfrm>
            <a:off x="2700360" y="2932200"/>
            <a:ext cx="61149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99840" y="426960"/>
            <a:ext cx="7219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Меры безопасности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499760"/>
            <a:ext cx="7151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Учитывая, негативное влияние излучения бытовых приборов необходимо расставить их так, чтобы они находились как можно дальше (не ближе полутора метров) от мест длительного времяпровождения и отдыха,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особенно детей и пожилых людей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.</a:t>
            </a:r>
            <a:r>
              <a:rPr b="1" i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и этом следует знать, что ни стены, ни другие перегородки не защищают от воздействия электромагнитного излучения</a:t>
            </a:r>
            <a:r>
              <a:rPr b="1" i="1" lang="ru-RU" sz="1800" spc="-1" strike="noStrike">
                <a:solidFill>
                  <a:srgbClr val="0f3f85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 Поэтому, обратите внимание и на приборы, находящиеся в другой комнате или на кухне за сте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Не приобретайте и не используйте 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без нужды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мощные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 электроприборы. Чем меньше мощность электроприбора, тем слабее его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Не включайте 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одновременно несколько мощных электроприборов, например, стиральную машину, микроволновую печь и пылес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При пользовании мобильным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телефоном подносите его к уху после установления соединения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: в момент “дозвона” воздействие на мозг - максималь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Каждый человек обладает индивидуальной чувствительностью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 к электромагнитным излучениям. То, что не влияет на самочувствие у одного — может вызвать недомогание у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27160" y="285840"/>
            <a:ext cx="6688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Заключение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11360" y="1500120"/>
            <a:ext cx="75326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3f8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Человек не представляет свою жиз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без бытовых приборов. Для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людей –это в первую очер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комфорт, но нужно помн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что здоровье – это одно из са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главных ценностей человека. Т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что для вас важ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здоровье или комфор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img1361"/>
          <p:cNvPicPr/>
          <p:nvPr/>
        </p:nvPicPr>
        <p:blipFill>
          <a:blip r:embed="rId1"/>
          <a:stretch/>
        </p:blipFill>
        <p:spPr>
          <a:xfrm>
            <a:off x="1500120" y="785880"/>
            <a:ext cx="3714840" cy="29559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Энциклопедия Википе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Сайт «Электромагнитные излуч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Энциклопедия </a:t>
            </a:r>
            <a:r>
              <a:rPr b="0" lang="en-US" sz="1800" spc="-1" strike="noStrike">
                <a:solidFill>
                  <a:srgbClr val="0f3f85"/>
                </a:solidFill>
                <a:latin typeface="Arial"/>
              </a:rPr>
              <a:t>For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Arial"/>
              </a:rPr>
              <a:t>http://nsp-zdorovje.nsrod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Сайт «Здоровье и долголе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Электромагнитное излучение - 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3f85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это  электромагнитные волны, источниками, которых являются колеблющиеся заряженные частицы ( атомы, молекулы, электро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emi1"/>
          <p:cNvPicPr/>
          <p:nvPr/>
        </p:nvPicPr>
        <p:blipFill>
          <a:blip r:embed="rId1"/>
          <a:stretch/>
        </p:blipFill>
        <p:spPr>
          <a:xfrm>
            <a:off x="2529000" y="2571840"/>
            <a:ext cx="53290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3471"/>
                </a:solidFill>
                <a:latin typeface="Arial"/>
              </a:rPr>
              <a:t>Цель работы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43040" y="1571760"/>
            <a:ext cx="7151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Цель работы – показать негативное влияние на здоровье людей электромагнитного излучения бытовых электроприборов и познакомить с  доступными мерами безопасности, которые значительно снижают воздействие  излучения на  </a:t>
            </a:r>
            <a:r>
              <a:rPr b="1" lang="ru-RU" sz="1800" spc="-1" strike="noStrike">
                <a:solidFill>
                  <a:srgbClr val="0b3471"/>
                </a:solidFill>
                <a:latin typeface="Arial"/>
              </a:rPr>
              <a:t>организ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01" name="Picture 2" descr="C:\Documents and Settings\Владелец.KMI310XP.001\Рабочий стол\Катя\post-10294-1238402839.jpg"/>
          <p:cNvPicPr/>
          <p:nvPr/>
        </p:nvPicPr>
        <p:blipFill>
          <a:blip r:embed="rId1"/>
          <a:stretch/>
        </p:blipFill>
        <p:spPr>
          <a:xfrm>
            <a:off x="1428840" y="1428840"/>
            <a:ext cx="771516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344320" y="4921200"/>
            <a:ext cx="679932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Технический прогресс привёл в наш дом столь мощные электромагнитные поля, что  Всесоюзная Организация Здравоохранения выражает опасения о здоровье, человека, породившего этот прогресс. Общий уровень электромагнитных полей в жилых помещениях постоянно возрастает. И оказывает негативное влияние на здоровь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Мой дом – моя крепость?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76520" y="882720"/>
            <a:ext cx="472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05" name="Picture 4" descr="электромагнитные излучения"/>
          <p:cNvPicPr/>
          <p:nvPr/>
        </p:nvPicPr>
        <p:blipFill>
          <a:blip r:embed="rId1"/>
          <a:stretch/>
        </p:blipFill>
        <p:spPr>
          <a:xfrm>
            <a:off x="1428840" y="1500120"/>
            <a:ext cx="4572000" cy="319572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4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Oval 29"/>
          <p:cNvSpPr/>
          <p:nvPr/>
        </p:nvSpPr>
        <p:spPr>
          <a:xfrm>
            <a:off x="4356000" y="299736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6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7" name="Oval 31"/>
          <p:cNvSpPr/>
          <p:nvPr/>
        </p:nvSpPr>
        <p:spPr>
          <a:xfrm>
            <a:off x="4427640" y="328464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8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1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2" name="Oval 36"/>
          <p:cNvSpPr/>
          <p:nvPr/>
        </p:nvSpPr>
        <p:spPr>
          <a:xfrm>
            <a:off x="4716360" y="3357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4722120" y="364320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Бытовые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ибор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4" name="Picture 17" descr="270220081646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484280"/>
            <a:ext cx="1295640" cy="10526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5" name="Picture 21" descr="452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1484280"/>
            <a:ext cx="1079640" cy="10796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6" name="Picture 23" descr="rost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3213000"/>
            <a:ext cx="1524240" cy="109548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7" name="Picture 25" descr="komput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19640" y="5300640"/>
            <a:ext cx="1368360" cy="13683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8" name="Picture 29" descr="lc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67280" y="5373720"/>
            <a:ext cx="1181160" cy="126828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9" name="Picture 33" descr="utyu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020000" y="3141720"/>
            <a:ext cx="1224000" cy="122400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 rot="20241600">
            <a:off x="539640" y="2420640"/>
            <a:ext cx="6853320" cy="280332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320"/>
              <a:gd name="textAreaBottom" fmla="*/ 2803680 h 28033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deeee"/>
              </a:gs>
              <a:gs pos="100000">
                <a:srgbClr val="ea4a46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 rot="20056200">
            <a:off x="7391160" y="2895120"/>
            <a:ext cx="106668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 rot="20056200">
            <a:off x="5638320" y="5257440"/>
            <a:ext cx="106704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88080" cy="2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f85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971640" y="2133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2881e2"/>
              </a:gs>
              <a:gs pos="100000">
                <a:srgbClr val="0d2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1c244"/>
              </a:gs>
              <a:gs pos="100000">
                <a:srgbClr val="3843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372360" y="2492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c0c0"/>
                </a:solidFill>
                <a:latin typeface="Verdana"/>
              </a:rPr>
              <a:t>Трансформатор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242320" y="4797360"/>
            <a:ext cx="1032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c0c0"/>
                </a:solidFill>
                <a:latin typeface="Comic Sans MS"/>
              </a:rPr>
              <a:t>лифты</a:t>
            </a:r>
            <a:r>
              <a:rPr b="0" lang="ru-RU" sz="1800" spc="-1" strike="noStrike">
                <a:solidFill>
                  <a:srgbClr val="0f3f85"/>
                </a:solidFill>
                <a:latin typeface="Comic Sans MS"/>
              </a:rPr>
              <a:t>.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071880" y="3571920"/>
            <a:ext cx="27367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2627280" y="3429000"/>
            <a:ext cx="42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  <a:ea typeface="Arial"/>
              </a:rPr>
              <a:t>Электротехническое оборудование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250920" y="476280"/>
            <a:ext cx="76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3f85"/>
                </a:solidFill>
                <a:latin typeface="Comic Sans MS"/>
              </a:rPr>
              <a:t>                  </a:t>
            </a: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42" name="Picture 16" descr="elevator"/>
          <p:cNvPicPr/>
          <p:nvPr/>
        </p:nvPicPr>
        <p:blipFill>
          <a:blip r:embed="rId1"/>
          <a:stretch/>
        </p:blipFill>
        <p:spPr>
          <a:xfrm>
            <a:off x="5076720" y="4221000"/>
            <a:ext cx="1567080" cy="20876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43" name="Picture 17" descr="trans_tmg22"/>
          <p:cNvPicPr/>
          <p:nvPr/>
        </p:nvPicPr>
        <p:blipFill>
          <a:blip r:embed="rId2"/>
          <a:stretch/>
        </p:blipFill>
        <p:spPr>
          <a:xfrm>
            <a:off x="324000" y="1844640"/>
            <a:ext cx="2160360" cy="162072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44" name="Picture 18" descr="001"/>
          <p:cNvPicPr/>
          <p:nvPr/>
        </p:nvPicPr>
        <p:blipFill>
          <a:blip r:embed="rId3"/>
          <a:stretch/>
        </p:blipFill>
        <p:spPr>
          <a:xfrm>
            <a:off x="6372360" y="1989000"/>
            <a:ext cx="2520720" cy="16797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7075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2786040" y="2714760"/>
            <a:ext cx="595440" cy="852480"/>
          </a:xfrm>
          <a:custGeom>
            <a:avLst/>
            <a:gdLst>
              <a:gd name="textAreaLeft" fmla="*/ 0 w 595440"/>
              <a:gd name="textAreaRight" fmla="*/ 595800 w 59544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Freeform 10"/>
          <p:cNvSpPr/>
          <p:nvPr/>
        </p:nvSpPr>
        <p:spPr>
          <a:xfrm flipH="1">
            <a:off x="7214400" y="2786040"/>
            <a:ext cx="576360" cy="79236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3357720" y="1214280"/>
            <a:ext cx="4070880" cy="2299320"/>
            <a:chOff x="3357720" y="1214280"/>
            <a:chExt cx="4070880" cy="2299320"/>
          </a:xfrm>
        </p:grpSpPr>
        <p:grpSp>
          <p:nvGrpSpPr>
            <p:cNvPr id="150" name="Group 12"/>
            <p:cNvGrpSpPr/>
            <p:nvPr/>
          </p:nvGrpSpPr>
          <p:grpSpPr>
            <a:xfrm>
              <a:off x="3357720" y="1419480"/>
              <a:ext cx="4070880" cy="2094120"/>
              <a:chOff x="3357720" y="1419480"/>
              <a:chExt cx="4070880" cy="2094120"/>
            </a:xfrm>
          </p:grpSpPr>
          <p:sp>
            <p:nvSpPr>
              <p:cNvPr id="151" name="Oval 13"/>
              <p:cNvSpPr/>
              <p:nvPr/>
            </p:nvSpPr>
            <p:spPr>
              <a:xfrm>
                <a:off x="3402000" y="1486080"/>
                <a:ext cx="4026600" cy="202752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52" name="Oval 14"/>
              <p:cNvSpPr/>
              <p:nvPr/>
            </p:nvSpPr>
            <p:spPr>
              <a:xfrm>
                <a:off x="3357720" y="1419480"/>
                <a:ext cx="4026600" cy="202716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53" name="Oval 15"/>
            <p:cNvSpPr/>
            <p:nvPr/>
          </p:nvSpPr>
          <p:spPr>
            <a:xfrm>
              <a:off x="3549600" y="1214280"/>
              <a:ext cx="3645000" cy="192636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3597120" y="1225440"/>
              <a:ext cx="3556440" cy="187812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3633840" y="1244160"/>
              <a:ext cx="3384000" cy="175248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3812760" y="1282680"/>
              <a:ext cx="2978640" cy="14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3643200" y="1285920"/>
            <a:ext cx="3394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Работающие и неработающие,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но включённые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в розетку приборы создают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излуч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58" name="Picture 27" descr="1JU7NNCA0SG7HOCAH2P6CYCA9O92SQCAG22CRGCAUR62SKCAK3NBNJCA9PXDRXCA0086LTCAMPUFDSCAB63IWSCAQK2R1HCA2OCI23CAEIUKZXCA1OTKFFCAVBEZYYCAB34Z8YCAN282SNCAPFP4BNCABOXAP1"/>
          <p:cNvPicPr/>
          <p:nvPr/>
        </p:nvPicPr>
        <p:blipFill>
          <a:blip r:embed="rId1"/>
          <a:stretch/>
        </p:blipFill>
        <p:spPr>
          <a:xfrm>
            <a:off x="1547640" y="3573360"/>
            <a:ext cx="3527640" cy="25988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sp>
        <p:nvSpPr>
          <p:cNvPr id="159" name="AutoShape 28"/>
          <p:cNvSpPr/>
          <p:nvPr/>
        </p:nvSpPr>
        <p:spPr>
          <a:xfrm>
            <a:off x="3132000" y="501336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60" name="Picture 34" descr="CRT_monitor_3without_cover"/>
          <p:cNvPicPr/>
          <p:nvPr/>
        </p:nvPicPr>
        <p:blipFill>
          <a:blip r:embed="rId2"/>
          <a:stretch/>
        </p:blipFill>
        <p:spPr>
          <a:xfrm>
            <a:off x="5292720" y="3557520"/>
            <a:ext cx="3600360" cy="26402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Влияние электромагнитного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476360" y="1773360"/>
            <a:ext cx="4248000" cy="4054320"/>
          </a:xfrm>
          <a:prstGeom prst="rightArrow">
            <a:avLst>
              <a:gd name="adj1" fmla="val 79306"/>
              <a:gd name="adj2" fmla="val 25952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500120" y="2349360"/>
            <a:ext cx="3432240" cy="1351080"/>
          </a:xfrm>
          <a:prstGeom prst="roundRect">
            <a:avLst>
              <a:gd name="adj" fmla="val 9106"/>
            </a:avLst>
          </a:prstGeom>
          <a:solidFill>
            <a:srgbClr val="d4e6f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овоцируют рост клеток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тканей человека, так и раковых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клеток в его организме.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76360" y="3860640"/>
            <a:ext cx="3456000" cy="1406520"/>
          </a:xfrm>
          <a:prstGeom prst="roundRect">
            <a:avLst>
              <a:gd name="adj" fmla="val 9106"/>
            </a:avLst>
          </a:prstGeom>
          <a:solidFill>
            <a:srgbClr val="bed5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овышение температур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в зоне голов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140360" y="1052640"/>
            <a:ext cx="472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Мобильные телефон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67" name="Picture 10" descr="13162845"/>
          <p:cNvPicPr/>
          <p:nvPr/>
        </p:nvPicPr>
        <p:blipFill>
          <a:blip r:embed="rId1"/>
          <a:stretch/>
        </p:blipFill>
        <p:spPr>
          <a:xfrm>
            <a:off x="5724360" y="1844640"/>
            <a:ext cx="3276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Влияние</a:t>
            </a:r>
            <a:r>
              <a:rPr b="1" lang="ru-RU" sz="20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электромагнитного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1722600" y="1413000"/>
            <a:ext cx="2170080" cy="5111280"/>
            <a:chOff x="1722600" y="1413000"/>
            <a:chExt cx="2170080" cy="5111280"/>
          </a:xfrm>
        </p:grpSpPr>
        <p:sp>
          <p:nvSpPr>
            <p:cNvPr id="171" name="AutoShape 4"/>
            <p:cNvSpPr/>
            <p:nvPr/>
          </p:nvSpPr>
          <p:spPr>
            <a:xfrm>
              <a:off x="1722600" y="1802520"/>
              <a:ext cx="2163600" cy="361944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3619440"/>
                <a:gd name="textAreaBottom" fmla="*/ 3508560 h 3619440"/>
              </a:gdLst>
              <a:ahLst/>
              <a:rect l="textAreaLeft" t="textAreaTop" r="textAreaRight" b="textAreaBottom"/>
              <a:pathLst>
                <a:path w="21600" h="36132">
                  <a:moveTo>
                    <a:pt x="3782" y="0"/>
                  </a:moveTo>
                  <a:arcTo wR="3782" hR="3782" stAng="16200000" swAng="-5400000"/>
                  <a:lnTo>
                    <a:pt x="0" y="32350"/>
                  </a:lnTo>
                  <a:arcTo wR="3782" hR="3782" stAng="10800000" swAng="-5400000"/>
                  <a:lnTo>
                    <a:pt x="17818" y="3613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1756080" y="1813320"/>
              <a:ext cx="2098440" cy="3550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3550680"/>
                <a:gd name="textAreaBottom" fmla="*/ 3448440 h 3550680"/>
              </a:gdLst>
              <a:ahLst/>
              <a:rect l="textAreaLeft" t="textAreaTop" r="textAreaRight" b="textAreaBottom"/>
              <a:pathLst>
                <a:path w="21600" h="36546">
                  <a:moveTo>
                    <a:pt x="3600" y="0"/>
                  </a:moveTo>
                  <a:arcTo wR="3600" hR="3600" stAng="16200000" swAng="-5400000"/>
                  <a:lnTo>
                    <a:pt x="0" y="32946"/>
                  </a:lnTo>
                  <a:arcTo wR="3600" hR="3600" stAng="10800000" swAng="-5400000"/>
                  <a:lnTo>
                    <a:pt x="18000" y="36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1773360" y="4426920"/>
              <a:ext cx="2070000" cy="89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1773360" y="1841040"/>
              <a:ext cx="2070000" cy="89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5" name="AutoShape 8"/>
            <p:cNvSpPr/>
            <p:nvPr/>
          </p:nvSpPr>
          <p:spPr>
            <a:xfrm>
              <a:off x="1729080" y="5422320"/>
              <a:ext cx="2163600" cy="11019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1773360" y="5589000"/>
              <a:ext cx="2070000" cy="842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77" name="Group 10"/>
            <p:cNvGrpSpPr/>
            <p:nvPr/>
          </p:nvGrpSpPr>
          <p:grpSpPr>
            <a:xfrm>
              <a:off x="2467080" y="1413000"/>
              <a:ext cx="642960" cy="814320"/>
              <a:chOff x="2467080" y="1413000"/>
              <a:chExt cx="642960" cy="814320"/>
            </a:xfrm>
          </p:grpSpPr>
          <p:sp>
            <p:nvSpPr>
              <p:cNvPr id="178" name="Oval 11"/>
              <p:cNvSpPr/>
              <p:nvPr/>
            </p:nvSpPr>
            <p:spPr>
              <a:xfrm>
                <a:off x="2467080" y="1413000"/>
                <a:ext cx="642960" cy="814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2473560" y="1419120"/>
                <a:ext cx="621720" cy="788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0" name="Oval 13"/>
              <p:cNvSpPr/>
              <p:nvPr/>
            </p:nvSpPr>
            <p:spPr>
              <a:xfrm>
                <a:off x="2481480" y="1423800"/>
                <a:ext cx="607320" cy="76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1" name="Oval 14"/>
              <p:cNvSpPr/>
              <p:nvPr/>
            </p:nvSpPr>
            <p:spPr>
              <a:xfrm>
                <a:off x="2487960" y="1431360"/>
                <a:ext cx="577440" cy="717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2" name="Oval 15"/>
              <p:cNvSpPr/>
              <p:nvPr/>
            </p:nvSpPr>
            <p:spPr>
              <a:xfrm>
                <a:off x="2521800" y="1450800"/>
                <a:ext cx="513000" cy="58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83" name="Text Box 16"/>
            <p:cNvSpPr/>
            <p:nvPr/>
          </p:nvSpPr>
          <p:spPr>
            <a:xfrm>
              <a:off x="2607120" y="152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1798920" y="2277360"/>
              <a:ext cx="2057400" cy="30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Быстрая утомляемость,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 состояние апатии, 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общая слабость, 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 головные боли, 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 нарушение функционирования ослабленных органов, переходящее в постоянное болезненное состояние </a:t>
              </a:r>
              <a:br>
                <a:rPr sz="1400"/>
              </a:br>
              <a:endParaRPr b="1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185" name="Group 32"/>
          <p:cNvGrpSpPr/>
          <p:nvPr/>
        </p:nvGrpSpPr>
        <p:grpSpPr>
          <a:xfrm>
            <a:off x="6440400" y="836640"/>
            <a:ext cx="2170080" cy="5258520"/>
            <a:chOff x="6440400" y="836640"/>
            <a:chExt cx="2170080" cy="5258520"/>
          </a:xfrm>
        </p:grpSpPr>
        <p:sp>
          <p:nvSpPr>
            <p:cNvPr id="186" name="AutoShape 33"/>
            <p:cNvSpPr/>
            <p:nvPr/>
          </p:nvSpPr>
          <p:spPr>
            <a:xfrm>
              <a:off x="6446520" y="1237680"/>
              <a:ext cx="2163960" cy="372384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3723840"/>
                <a:gd name="textAreaBottom" fmla="*/ 3612960 h 3723840"/>
              </a:gdLst>
              <a:ahLst/>
              <a:rect l="textAreaLeft" t="textAreaTop" r="textAreaRight" b="textAreaBottom"/>
              <a:pathLst>
                <a:path w="21600" h="37168">
                  <a:moveTo>
                    <a:pt x="3782" y="0"/>
                  </a:moveTo>
                  <a:arcTo wR="3782" hR="3782" stAng="16200000" swAng="-5400000"/>
                  <a:lnTo>
                    <a:pt x="0" y="33386"/>
                  </a:lnTo>
                  <a:arcTo wR="3782" hR="3782" stAng="10800000" swAng="-5400000"/>
                  <a:lnTo>
                    <a:pt x="17818" y="3716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7" name="AutoShape 34"/>
            <p:cNvSpPr/>
            <p:nvPr/>
          </p:nvSpPr>
          <p:spPr>
            <a:xfrm>
              <a:off x="6443640" y="1213200"/>
              <a:ext cx="2098440" cy="36529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3652920"/>
                <a:gd name="textAreaBottom" fmla="*/ 3550680 h 3652920"/>
              </a:gdLst>
              <a:ahLst/>
              <a:rect l="textAreaLeft" t="textAreaTop" r="textAreaRight" b="textAreaBottom"/>
              <a:pathLst>
                <a:path w="21600" h="37598">
                  <a:moveTo>
                    <a:pt x="3600" y="0"/>
                  </a:moveTo>
                  <a:arcTo wR="3600" hR="3600" stAng="16200000" swAng="-5400000"/>
                  <a:lnTo>
                    <a:pt x="0" y="33998"/>
                  </a:lnTo>
                  <a:arcTo wR="3600" hR="3600" stAng="10800000" swAng="-5400000"/>
                  <a:lnTo>
                    <a:pt x="18000" y="375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8" name="AutoShape 35"/>
            <p:cNvSpPr/>
            <p:nvPr/>
          </p:nvSpPr>
          <p:spPr>
            <a:xfrm>
              <a:off x="6497280" y="3937680"/>
              <a:ext cx="2070360" cy="92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9" name="AutoShape 36"/>
            <p:cNvSpPr/>
            <p:nvPr/>
          </p:nvSpPr>
          <p:spPr>
            <a:xfrm>
              <a:off x="6497280" y="1276920"/>
              <a:ext cx="2070360" cy="92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90" name="Group 37"/>
            <p:cNvGrpSpPr/>
            <p:nvPr/>
          </p:nvGrpSpPr>
          <p:grpSpPr>
            <a:xfrm>
              <a:off x="7191000" y="836640"/>
              <a:ext cx="642960" cy="837720"/>
              <a:chOff x="7191000" y="836640"/>
              <a:chExt cx="642960" cy="837720"/>
            </a:xfrm>
          </p:grpSpPr>
          <p:sp>
            <p:nvSpPr>
              <p:cNvPr id="191" name="Oval 38"/>
              <p:cNvSpPr/>
              <p:nvPr/>
            </p:nvSpPr>
            <p:spPr>
              <a:xfrm>
                <a:off x="7191000" y="836640"/>
                <a:ext cx="642960" cy="837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2" name="Oval 39"/>
              <p:cNvSpPr/>
              <p:nvPr/>
            </p:nvSpPr>
            <p:spPr>
              <a:xfrm>
                <a:off x="7197480" y="843120"/>
                <a:ext cx="621720" cy="81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3" name="Oval 40"/>
              <p:cNvSpPr/>
              <p:nvPr/>
            </p:nvSpPr>
            <p:spPr>
              <a:xfrm>
                <a:off x="7205400" y="847800"/>
                <a:ext cx="607320" cy="791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4" name="Oval 41"/>
              <p:cNvSpPr/>
              <p:nvPr/>
            </p:nvSpPr>
            <p:spPr>
              <a:xfrm>
                <a:off x="7211880" y="855360"/>
                <a:ext cx="577440" cy="73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5" name="Oval 42"/>
              <p:cNvSpPr/>
              <p:nvPr/>
            </p:nvSpPr>
            <p:spPr>
              <a:xfrm>
                <a:off x="7245720" y="875520"/>
                <a:ext cx="513000" cy="600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96" name="Text Box 43"/>
            <p:cNvSpPr/>
            <p:nvPr/>
          </p:nvSpPr>
          <p:spPr>
            <a:xfrm>
              <a:off x="7331400" y="95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7" name="Text Box 44"/>
            <p:cNvSpPr/>
            <p:nvPr/>
          </p:nvSpPr>
          <p:spPr>
            <a:xfrm>
              <a:off x="6522840" y="1829520"/>
              <a:ext cx="20574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8" name="AutoShape 45"/>
            <p:cNvSpPr/>
            <p:nvPr/>
          </p:nvSpPr>
          <p:spPr>
            <a:xfrm>
              <a:off x="6440400" y="4961520"/>
              <a:ext cx="2163600" cy="1133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9" name="AutoShape 46"/>
            <p:cNvSpPr/>
            <p:nvPr/>
          </p:nvSpPr>
          <p:spPr>
            <a:xfrm>
              <a:off x="6484680" y="4992480"/>
              <a:ext cx="2070000" cy="100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200" name="Прямоугольник 68"/>
          <p:cNvSpPr/>
          <p:nvPr/>
        </p:nvSpPr>
        <p:spPr>
          <a:xfrm>
            <a:off x="6516720" y="1700280"/>
            <a:ext cx="194292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3f85"/>
                </a:solidFill>
                <a:latin typeface="Arial"/>
              </a:rPr>
              <a:t>Нарушаются процессы формирования иммунитета, чаще — в сторону их угнетения. Может происходить изменение белкового обмена, наблюдается определенное</a:t>
            </a:r>
            <a:r>
              <a:rPr b="1" lang="ru-RU" sz="20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f3f85"/>
                </a:solidFill>
                <a:latin typeface="Arial"/>
              </a:rPr>
              <a:t>изменение состава крови</a:t>
            </a:r>
            <a:endParaRPr b="1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201" name="Group 18"/>
          <p:cNvGrpSpPr/>
          <p:nvPr/>
        </p:nvGrpSpPr>
        <p:grpSpPr>
          <a:xfrm>
            <a:off x="4067280" y="981000"/>
            <a:ext cx="2233080" cy="4751280"/>
            <a:chOff x="4067280" y="981000"/>
            <a:chExt cx="2233080" cy="4751280"/>
          </a:xfrm>
        </p:grpSpPr>
        <p:sp>
          <p:nvSpPr>
            <p:cNvPr id="202" name="AutoShape 19"/>
            <p:cNvSpPr/>
            <p:nvPr/>
          </p:nvSpPr>
          <p:spPr>
            <a:xfrm>
              <a:off x="4067280" y="1343160"/>
              <a:ext cx="2226600" cy="3364560"/>
            </a:xfrm>
            <a:custGeom>
              <a:avLst/>
              <a:gdLst>
                <a:gd name="textAreaLeft" fmla="*/ 114120 w 2226600"/>
                <a:gd name="textAreaRight" fmla="*/ 2112480 w 2226600"/>
                <a:gd name="textAreaTop" fmla="*/ 114120 h 3364560"/>
                <a:gd name="textAreaBottom" fmla="*/ 3250440 h 3364560"/>
              </a:gdLst>
              <a:ahLst/>
              <a:rect l="textAreaLeft" t="textAreaTop" r="textAreaRight" b="textAreaBottom"/>
              <a:pathLst>
                <a:path w="21600" h="32637">
                  <a:moveTo>
                    <a:pt x="3782" y="0"/>
                  </a:moveTo>
                  <a:arcTo wR="3782" hR="3782" stAng="16200000" swAng="-5400000"/>
                  <a:lnTo>
                    <a:pt x="0" y="28855"/>
                  </a:lnTo>
                  <a:arcTo wR="3782" hR="3782" stAng="10800000" swAng="-5400000"/>
                  <a:lnTo>
                    <a:pt x="17818" y="3263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3" name="AutoShape 20"/>
            <p:cNvSpPr/>
            <p:nvPr/>
          </p:nvSpPr>
          <p:spPr>
            <a:xfrm>
              <a:off x="4140360" y="1382760"/>
              <a:ext cx="2160000" cy="3300840"/>
            </a:xfrm>
            <a:custGeom>
              <a:avLst/>
              <a:gdLst>
                <a:gd name="textAreaLeft" fmla="*/ 105120 w 2160000"/>
                <a:gd name="textAreaRight" fmla="*/ 2054880 w 2160000"/>
                <a:gd name="textAreaTop" fmla="*/ 105120 h 3300840"/>
                <a:gd name="textAreaBottom" fmla="*/ 3195720 h 3300840"/>
              </a:gdLst>
              <a:ahLst/>
              <a:rect l="textAreaLeft" t="textAreaTop" r="textAreaRight" b="textAreaBottom"/>
              <a:pathLst>
                <a:path w="21600" h="33006">
                  <a:moveTo>
                    <a:pt x="3600" y="0"/>
                  </a:moveTo>
                  <a:arcTo wR="3600" hR="3600" stAng="16200000" swAng="-5400000"/>
                  <a:lnTo>
                    <a:pt x="0" y="29406"/>
                  </a:lnTo>
                  <a:arcTo wR="3600" hR="3600" stAng="10800000" swAng="-5400000"/>
                  <a:lnTo>
                    <a:pt x="18000" y="330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4" name="AutoShape 21"/>
            <p:cNvSpPr/>
            <p:nvPr/>
          </p:nvSpPr>
          <p:spPr>
            <a:xfrm>
              <a:off x="4119480" y="3782520"/>
              <a:ext cx="2130120" cy="60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5" name="AutoShape 22"/>
            <p:cNvSpPr/>
            <p:nvPr/>
          </p:nvSpPr>
          <p:spPr>
            <a:xfrm>
              <a:off x="4119480" y="1378800"/>
              <a:ext cx="2130120" cy="83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6" name="Oval 23"/>
            <p:cNvSpPr/>
            <p:nvPr/>
          </p:nvSpPr>
          <p:spPr>
            <a:xfrm>
              <a:off x="4833360" y="981000"/>
              <a:ext cx="661680" cy="756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7" name="Oval 24"/>
            <p:cNvSpPr/>
            <p:nvPr/>
          </p:nvSpPr>
          <p:spPr>
            <a:xfrm>
              <a:off x="4839480" y="986400"/>
              <a:ext cx="640440" cy="732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8" name="Oval 25"/>
            <p:cNvSpPr/>
            <p:nvPr/>
          </p:nvSpPr>
          <p:spPr>
            <a:xfrm>
              <a:off x="4848120" y="990000"/>
              <a:ext cx="625320" cy="715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4854600" y="997920"/>
              <a:ext cx="594360" cy="667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0" name="Oval 27"/>
            <p:cNvSpPr/>
            <p:nvPr/>
          </p:nvSpPr>
          <p:spPr>
            <a:xfrm>
              <a:off x="4890240" y="1016280"/>
              <a:ext cx="527760" cy="54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4982400" y="108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4145400" y="1878120"/>
              <a:ext cx="21171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Негативно воздействуют на организм беременных женщин, могут быть причиной  различных врожденных патологий у детей </a:t>
              </a:r>
              <a:endParaRPr b="1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3" name="AutoShape 30"/>
            <p:cNvSpPr/>
            <p:nvPr/>
          </p:nvSpPr>
          <p:spPr>
            <a:xfrm>
              <a:off x="4070160" y="4708080"/>
              <a:ext cx="2226960" cy="10242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4" name="AutoShape 31"/>
            <p:cNvSpPr/>
            <p:nvPr/>
          </p:nvSpPr>
          <p:spPr>
            <a:xfrm>
              <a:off x="4115880" y="4735800"/>
              <a:ext cx="2130120" cy="91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5:22:32Z</dcterms:created>
  <dc:creator>ККК</dc:creator>
  <dc:description/>
  <dc:language>en-US</dc:language>
  <cp:lastModifiedBy>User</cp:lastModifiedBy>
  <dcterms:modified xsi:type="dcterms:W3CDTF">2011-04-27T17:25:11Z</dcterms:modified>
  <cp:revision>53</cp:revision>
  <dc:subject/>
  <dc:title>Электромагнитные излучения</dc:title>
</cp:coreProperties>
</file>