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png" ContentType="image/png"/>
  <Override PartName="/ppt/media/image12.png" ContentType="image/pn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9BEF-1398-4765-9277-6CEBB8D6E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07F4-C0C8-430C-8EA5-033B0714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1C8F-00E6-4AF0-9285-50B3C82CE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4AFB-50DE-4DC1-B579-0CF1FDE4B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69DF-75DD-40A3-99E7-028B44C6E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A3A9-A05B-40BF-9CDE-8ED03CD2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62327-1399-4CA4-857A-0AB9CC1C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39C7-DEAE-46E0-9B79-0559B58B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0433-40E4-4D1D-ABB6-6F1836A7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A834-08F1-4A24-B8ED-4DE2087C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464B-67B8-49F0-81AA-1651248D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29F7-870A-45DF-AA88-88AE6035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33D1-D2EF-45FA-A8E2-4E9CF490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E764-9E5F-4BFC-8C91-FBEBDAE6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983F-56D0-4930-A769-28131607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F3E16-90D5-4289-B107-5412F32FC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E9E7-E5F5-4D23-858C-4109724A3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C87D-6C6B-4F5D-8A30-85B8B5BD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03FE-44EF-494B-AD6E-94363489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4E96-37E2-4C43-A008-B4530B37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01C7-FD7F-4F67-8CA1-EE97B06B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FD0A-93E7-4122-B59A-93D2F729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13EC-D82F-462B-A557-A45A92AC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97BE-083B-4C21-B287-45605D3C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FEDE-66C7-4EA1-B36B-0EB6A249EF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07A7-30AC-408A-BF17-0BD62CDF50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519120" y="1197000"/>
            <a:ext cx="8105760" cy="38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кружающий мир 3 класс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ма:Земля  -  наш общий дом.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(к учебнику О.Т.Поглазовой, В.Д.Шилина) 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385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овторение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268280"/>
            <a:ext cx="80074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Животный ми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Насеком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тиц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Рыб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лекопитающ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Земновод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есмыкающиес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2133720"/>
            <a:ext cx="289080" cy="398520"/>
          </a:xfrm>
          <a:prstGeom prst="flowChartMerg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2708280"/>
            <a:ext cx="289080" cy="398520"/>
          </a:xfrm>
          <a:prstGeom prst="flowChartMerg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3429000"/>
            <a:ext cx="289080" cy="398520"/>
          </a:xfrm>
          <a:prstGeom prst="flowChartMerg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4149720"/>
            <a:ext cx="288720" cy="398520"/>
          </a:xfrm>
          <a:prstGeom prst="flowChartMerg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4724280"/>
            <a:ext cx="289080" cy="398520"/>
          </a:xfrm>
          <a:prstGeom prst="flowChartMerg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9640" y="5373720"/>
            <a:ext cx="289080" cy="398520"/>
          </a:xfrm>
          <a:prstGeom prst="flowChartMerg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26560" y="189000"/>
            <a:ext cx="8007480" cy="61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Животны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икие             домаш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626920" y="1341360"/>
            <a:ext cx="360360" cy="503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64000" y="1268280"/>
            <a:ext cx="360360" cy="503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784872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У всех нас </a:t>
            </a: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общий дом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– 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планета Земля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Равни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Хол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Го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Ре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Озё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ор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Океан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971640" y="1863720"/>
            <a:ext cx="7020000" cy="49942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свещает и обогревает               нашу планету Солнце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"/>
          <p:cNvSpPr/>
          <p:nvPr/>
        </p:nvSpPr>
        <p:spPr>
          <a:xfrm>
            <a:off x="1332000" y="198900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47840" y="1916280"/>
            <a:ext cx="687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оно создаёт условия для жизни растений, животных, люде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79280" y="384120"/>
            <a:ext cx="8964720" cy="64738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Работа выполнена учителем школы №323 Невского района города Санкт-Петербурга Т.В.Лопуха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30240"/>
            <a:ext cx="8964720" cy="68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от и прошло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замечательное лето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учше лета приятеля не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чень жалко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то завтра чуть св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дальний путь собирается лето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купаем на поезд билет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549000"/>
            <a:ext cx="8007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кажем лету, как доброму другу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ложи свой отъезд поутр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гуляй ещё с нами по луг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побегай с мячом по двору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ожет быть, уезжаешь не в пор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ы оставь на вокзале багаж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броди ещё с нами по бор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сходи хоть разочек на пляж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. Приходьк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755640" y="0"/>
            <a:ext cx="792000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угомонный школьный звонок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овь зовёт за парты,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тобы разгадывать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айны природы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0"/>
          <a:stretch/>
        </p:blipFill>
        <p:spPr>
          <a:xfrm>
            <a:off x="900000" y="0"/>
            <a:ext cx="223200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en-US" sz="6000" spc="-1" strike="noStrike">
                <a:solidFill>
                  <a:srgbClr val="ffffb7"/>
                </a:solidFill>
                <a:latin typeface="Arial Black"/>
              </a:rPr>
              <a:t>Советы ученику 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Наблюда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Размышля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Исследу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Анализиру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156360" y="1557360"/>
            <a:ext cx="2813040" cy="22622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26920" y="4869000"/>
            <a:ext cx="314496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овторение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бъекты окружающего ми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627280" y="2565360"/>
            <a:ext cx="504720" cy="576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003640" y="2492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948360" y="2492280"/>
            <a:ext cx="360360" cy="576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32360" y="2492280"/>
            <a:ext cx="0" cy="1728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6360" y="3213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живая прир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59640" y="3284640"/>
            <a:ext cx="216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Живая прир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56000" y="4292640"/>
            <a:ext cx="20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Творения (изделия) чело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овторение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Раст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916360" y="2637000"/>
            <a:ext cx="576000" cy="576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48360" y="2565360"/>
            <a:ext cx="718920" cy="647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58920" y="3573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Дикорастущ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51640" y="357336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Культурн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71640" y="4221000"/>
            <a:ext cx="2663640" cy="1997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003640" y="4184640"/>
            <a:ext cx="280836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7720" y="115560"/>
            <a:ext cx="8007480" cy="59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Раст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87280" y="4653000"/>
            <a:ext cx="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16000" y="4581360"/>
            <a:ext cx="3527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16000" y="3141720"/>
            <a:ext cx="3456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71640" y="1844640"/>
            <a:ext cx="3529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5445000"/>
            <a:ext cx="8497800" cy="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47640" y="4005360"/>
            <a:ext cx="29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трав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92360" y="249228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устар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24000" y="1197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деревь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00720" y="981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хвой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56000" y="134136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листве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79640" y="458136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348000" y="335772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40360" y="19162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851280" y="4581360"/>
            <a:ext cx="230328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14:28:17Z</dcterms:created>
  <dc:creator>Вова</dc:creator>
  <dc:description/>
  <dc:language>en-US</dc:language>
  <cp:lastModifiedBy>Вова</cp:lastModifiedBy>
  <dcterms:modified xsi:type="dcterms:W3CDTF">2010-07-06T16:36:07Z</dcterms:modified>
  <cp:revision>2</cp:revision>
  <dc:subject/>
  <dc:title>Слайд 1</dc:title>
</cp:coreProperties>
</file>