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CA6-3160-4B3C-9325-70F61357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397-46F3-4E04-9BD9-211B295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600-65EE-4031-B1CB-28CCA352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2D2-454A-4DB6-9AD2-B054060F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67DE-DA15-46C5-BDBF-FD11568E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ACC3-01B0-4739-9479-26D59D07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DEE-2779-41C9-88EB-FB9AE5D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0148-A590-49B8-8585-B24ACED4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D3DE-9F40-4BB6-914F-55599E00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36C0-932B-49CE-BF99-7381F2C9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201-2540-4285-A8F4-5894F09D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825-4346-4550-A5B0-E64D508F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1245-4D46-4C4C-AFA2-3BBA5906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00A6-D53B-4597-BF8C-7C702473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7A78-8BC7-4BD0-95F7-0C356CF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5043-DE8A-40CB-9E93-02908B41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DD8A-966A-4028-A665-FE90222F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395-C91D-43FD-9BFD-B96A1CA0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3BA-1E7E-4B16-B742-B2D27655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2F0-ED09-4893-9D20-080BAECD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B68-134C-45BF-9134-CF1F25A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B8C-23D3-4218-927D-7345B90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1E4-75C6-4D92-985D-C49AB22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D31-A8D0-4271-9BEC-8D9982F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B89-6FBB-4B93-A8AD-A6E3BB83F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1658-AAB3-4EC9-BC8B-371BB2539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9120" y="1197000"/>
            <a:ext cx="810576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ружающий мир 3 класс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ма:Земля  -  наш общий дом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к учебнику О.Т.Поглазовой, В.Д.Шилина)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38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Животный ми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секом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ц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ы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лекопит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емновод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смыкающие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13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08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42900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149720"/>
            <a:ext cx="28872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72428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5373720"/>
            <a:ext cx="289080" cy="398520"/>
          </a:xfrm>
          <a:prstGeom prst="flowChartMerg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26560" y="189000"/>
            <a:ext cx="80074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Животны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икие             домаш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26920" y="134136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1268280"/>
            <a:ext cx="36036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784872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 всех нас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общий до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ланета Земля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вн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Хол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Г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зё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ке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71640" y="1863720"/>
            <a:ext cx="7020000" cy="4994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свещает и обогревает               нашу планету Солнце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1989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47840" y="1916280"/>
            <a:ext cx="687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оно создаёт условия для жизни растений, животных, люд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384120"/>
            <a:ext cx="8964720" cy="6473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Работа выполнена учителем школы №323 Невского района города Санкт-Петербурга Т.В.Лопух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8964720" cy="68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т и прошло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замечательное лет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чше лета приятеля не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чень жал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завтра чуть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альний путь собирается лет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аем на поезд билет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жем лету, как доброму друг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ложи свой отъезд поут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уляй ещё с нами по л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побегай с мячом по двор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жет быть, уезжаешь не в п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ы оставь на вокзале бага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броди ещё с нами по 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ходи хоть разочек на пляж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. Приходьк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640" y="0"/>
            <a:ext cx="79200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угомонный школьный звоно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овь зовёт за парты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бы разгадыва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йны природы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900000" y="0"/>
            <a:ext cx="22320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оветы ученику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блюд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змышля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след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нализиру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813040" cy="2262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31449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ъекты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627280" y="2565360"/>
            <a:ext cx="504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2492280"/>
            <a:ext cx="3603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0" cy="172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3213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59640" y="328464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429264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Творения (изделия)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втор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16360" y="2637000"/>
            <a:ext cx="576000" cy="57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565360"/>
            <a:ext cx="71892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357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Дикорасту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573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Культу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003640" y="4184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15560"/>
            <a:ext cx="8007480" cy="59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65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4581360"/>
            <a:ext cx="352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3141720"/>
            <a:ext cx="3456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45000"/>
            <a:ext cx="849780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00536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4922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24000" y="119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98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1341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45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3357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9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51280" y="4581360"/>
            <a:ext cx="23032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8:17Z</dcterms:created>
  <dc:creator>Вова</dc:creator>
  <dc:description/>
  <dc:language>en-US</dc:language>
  <cp:lastModifiedBy>Вова</cp:lastModifiedBy>
  <dcterms:modified xsi:type="dcterms:W3CDTF">2010-07-06T16:36:07Z</dcterms:modified>
  <cp:revision>2</cp:revision>
  <dc:subject/>
  <dc:title>Слайд 1</dc:title>
</cp:coreProperties>
</file>