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B9D-CEEA-4112-8B6C-C1EB979C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B3-A947-4AFB-A95F-D69C2FE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E10-401B-4A5D-A907-EAA0E51A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5DF-802C-4458-8D94-7153828C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2F5-AFE4-46AA-966B-259CEEEB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1FC-5D9F-4CCA-B0CF-909E4B46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D2F-5966-40AF-BD08-B7C2A13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BBD4-17EB-42EC-BFBA-7AF0EF05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00A4-2DC6-4807-8C7B-8957428D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B76D-3F40-46A8-8A8F-B68994A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9ED1-6929-4A3B-A7C8-E737579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85C-38F9-44DE-9239-0CFD3D3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3EFA-FA7F-4B3B-B4F3-B657302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40C-91CD-4334-9AFD-2AEA959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3617-A048-44A3-B954-FAD7409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01AE-97CB-4078-89D0-43729BE1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83A4-E59E-4848-95FE-2AFF73D2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BA2-D805-46E6-BC86-0C6BEA8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C1F-7640-4A81-B5E7-131803A2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E28-17A3-4335-B1C6-5AF7544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3A2-8582-49C6-9DC7-2C7B6F9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E55-64BC-4FE9-9490-1C21125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2FB-B1B1-46F5-8757-BFEF41B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027-435D-439D-8387-5610BF1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25B-5DFE-4914-A291-593C26153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F6E7-CD12-459B-B574-5ADDB1946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197000"/>
            <a:ext cx="81057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Земля  -  наш общий дом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, В.Д.Шилина)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38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Живот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смыкающи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13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08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149720"/>
            <a:ext cx="28872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24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537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0074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икие             домаш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26920" y="134136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126828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848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всех нас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общий до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ланета Земл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Хол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зё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ке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1640" y="1863720"/>
            <a:ext cx="7020000" cy="4994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вещает и обогревает               нашу планету Солнц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198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47840" y="191628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оно создаёт условия для жизни растений, животных, люд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384120"/>
            <a:ext cx="8964720" cy="647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бота выполнена учителем школы №323 Невского района города Санкт-Петербурга Т.В.Лопух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89647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т и прошл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замечательное лет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чше лета приятеля 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ень жал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втра чуть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альний путь собирается ле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аем на поезд биле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жем лету, как доброму друг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ложи свой отъезд по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уляй ещё с нами по л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обегай с мячом по двор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быть, уезжаешь не в п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оставь на вокзале баг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броди ещё с нами по 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ходи хоть разочек на пляж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. Приходьк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640" y="0"/>
            <a:ext cx="7920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угомонный школьный звоно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овь зовёт за парты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бы разгадыва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йны природы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900000" y="0"/>
            <a:ext cx="2232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оветы ученику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блю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змышля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след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ализир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13040" cy="226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31449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ъекты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27280" y="2565360"/>
            <a:ext cx="504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492280"/>
            <a:ext cx="360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2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328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4292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ворения (изделия)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16360" y="2637000"/>
            <a:ext cx="576000" cy="57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565360"/>
            <a:ext cx="718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икорасту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ульту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4184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65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58136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314172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45000"/>
            <a:ext cx="8497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005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492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45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3357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9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230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8:17Z</dcterms:created>
  <dc:creator>Вова</dc:creator>
  <dc:description/>
  <dc:language>en-US</dc:language>
  <cp:lastModifiedBy>Вова</cp:lastModifiedBy>
  <dcterms:modified xsi:type="dcterms:W3CDTF">2010-07-06T16:36:07Z</dcterms:modified>
  <cp:revision>2</cp:revision>
  <dc:subject/>
  <dc:title>Слайд 1</dc:title>
</cp:coreProperties>
</file>