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6456-12D2-493C-AE29-8310AF96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2710-3156-4442-88D2-232D3417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29D-C6E5-4519-8F5D-AA0534DE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A027-1099-48FD-904D-92BB04B9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F17C-4002-48BD-A3A1-E1375987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534-AE8F-4D88-9A5C-4241CD45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4EF-674F-4732-82A8-A00D0119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9134-4768-46F7-816D-3DCBF538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7E4F-3294-45D6-90EC-6BD7898F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4D12-B185-47E5-BC11-D2DA5DC1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F26-0017-4D85-BAFF-8EC8524C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CC8-D002-4482-85F9-49CD8C10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3640-30AE-4832-AA98-C58FDA67A7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49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9144000" cy="3932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42920" y="18900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Arial"/>
              </a:rPr>
              <a:t>Природа Ур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573408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хеева В.Н.,                 МАОУ-Гимназия № 47,           г. Екатер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апф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ру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лександр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н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мет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5508720" cy="5445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63960" y="1413000"/>
            <a:ext cx="428004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рный хруст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6146640" cy="5516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931000" y="1341360"/>
            <a:ext cx="3213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зовый квар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397160"/>
            <a:ext cx="914400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амарск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дон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лах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56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03640" y="0"/>
            <a:ext cx="59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льские горы – горы средней высоты (1000-1500м) Наивысшая точка – г. Народная, 1895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692280"/>
            <a:ext cx="576108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высоте Урал разделен                                           на 5 природных район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2205000"/>
            <a:ext cx="363564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ный Урал – 500-6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Пайер – 1472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3213000"/>
            <a:ext cx="40338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полярный Урал – 1500-16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 Народная – 1895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221000"/>
            <a:ext cx="396072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ный Урал – 1000-15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Телпозиз – 1617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95640" y="5157720"/>
            <a:ext cx="40338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Урал – 500-7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Качканар – 878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6093000"/>
            <a:ext cx="396072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й Урал – 1000-15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Ямантау – 1638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1413000"/>
            <a:ext cx="0" cy="460836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1413000"/>
            <a:ext cx="0" cy="360036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716000" y="1413000"/>
            <a:ext cx="1800" cy="266364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1413000"/>
            <a:ext cx="0" cy="180000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1413000"/>
            <a:ext cx="0" cy="79200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г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433520"/>
            <a:ext cx="9144000" cy="54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ш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379520"/>
            <a:ext cx="9144000" cy="54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ко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дорок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01840"/>
            <a:ext cx="914400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ром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ё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ерл в сирицитовом сла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агон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40320" y="1484280"/>
            <a:ext cx="4603680" cy="5373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14836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м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434960"/>
            <a:ext cx="914400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6193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2592360" cy="6669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700360" y="3716280"/>
            <a:ext cx="201456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ур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3716280"/>
            <a:ext cx="187164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77080" y="3716280"/>
            <a:ext cx="22669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ур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4724280"/>
            <a:ext cx="2087640" cy="1441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ре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инент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избыточ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лажн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4724280"/>
            <a:ext cx="1871640" cy="1441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т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я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77080" y="4724280"/>
            <a:ext cx="2266920" cy="1441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инент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недостаточ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лаж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549360"/>
            <a:ext cx="597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Изменяется с севера на юг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баркт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ренно-континентальный с избыточным увлаж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инентальный с недостаточным увлаж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256536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Барьерная роль 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4365720"/>
            <a:ext cx="217800" cy="360360"/>
          </a:xfrm>
          <a:prstGeom prst="downArrow">
            <a:avLst>
              <a:gd name="adj1" fmla="val 50000"/>
              <a:gd name="adj2" fmla="val 4136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56720" y="4365720"/>
            <a:ext cx="217440" cy="360360"/>
          </a:xfrm>
          <a:prstGeom prst="downArrow">
            <a:avLst>
              <a:gd name="adj1" fmla="val 50000"/>
              <a:gd name="adj2" fmla="val 4143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4365720"/>
            <a:ext cx="217800" cy="360360"/>
          </a:xfrm>
          <a:prstGeom prst="downArrow">
            <a:avLst>
              <a:gd name="adj1" fmla="val 50000"/>
              <a:gd name="adj2" fmla="val 4136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3284640"/>
            <a:ext cx="651672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сотная поясность Ур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8713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тематические карты атласа  по населению региона (с.10-1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ыписать в тетрадь информац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естественного прироста населения (Р,С и Еп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вой и возрастной состав населения. Демографическая нагрузка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грации, уровень жизни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нический и религиозный соста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овать общие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669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3640" y="189000"/>
            <a:ext cx="370872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льеф Уральского экономиче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1557360"/>
            <a:ext cx="115272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96360" y="1557360"/>
            <a:ext cx="136836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а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би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1557360"/>
            <a:ext cx="144000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ль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907920"/>
            <a:ext cx="144360" cy="649440"/>
          </a:xfrm>
          <a:prstGeom prst="downArrow">
            <a:avLst>
              <a:gd name="adj1" fmla="val 50000"/>
              <a:gd name="adj2" fmla="val 112469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907920"/>
            <a:ext cx="144720" cy="649440"/>
          </a:xfrm>
          <a:prstGeom prst="downArrow">
            <a:avLst>
              <a:gd name="adj1" fmla="val 50000"/>
              <a:gd name="adj2" fmla="val 112189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101080" y="907920"/>
            <a:ext cx="142920" cy="649440"/>
          </a:xfrm>
          <a:prstGeom prst="downArrow">
            <a:avLst>
              <a:gd name="adj1" fmla="val 50000"/>
              <a:gd name="adj2" fmla="val 113602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5640" y="2492280"/>
            <a:ext cx="460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ая равни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ерхнекамская возвыше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угульминско-Белебеевская возвы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бщий Сы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5516640"/>
            <a:ext cx="388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падно-Сибирская равн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ондинская низм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шимская 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005360"/>
            <a:ext cx="37432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Уральские горы: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верный Урал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ий Ура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Южный Урал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669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003640" y="189000"/>
            <a:ext cx="370872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льеф Уральского экономиче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1700280"/>
            <a:ext cx="115272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96360" y="1700280"/>
            <a:ext cx="136836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а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би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1700280"/>
            <a:ext cx="143964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ль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6720" y="90792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90792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101080" y="90792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141720"/>
            <a:ext cx="1297080" cy="107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т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3141720"/>
            <a:ext cx="1584360" cy="107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ци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чат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67640" y="3141720"/>
            <a:ext cx="1297080" cy="107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а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бир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0720" y="4581360"/>
            <a:ext cx="1439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оп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лег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чех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т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581360"/>
            <a:ext cx="165600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оп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легают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мат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етаморф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ских го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96360" y="4581360"/>
            <a:ext cx="1547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оп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лег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чех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т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01080" y="256536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256536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59640" y="256536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4221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44000" y="422100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88000" y="4221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еральны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пливно-энергетические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фть, г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рф,каменный уго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дные (железные рулы, медно-никелевые, алюминиевые), но они истощ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Гидроэнергетические – Кама, Урал, Чусовая, Сосьва и другие (рек много, но большинство из них – это верховья р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ные ресурсы Пермской и Свердловской обл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венные ресурсы Бошкортостана, Оренбургской, Челябинской и Курганской обл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реационные ресурсы (минеральные воды, природа, археологические памятники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лм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умруд в сла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9:07:18Z</dcterms:created>
  <dc:creator>Miheeva</dc:creator>
  <dc:description/>
  <dc:language>en-US</dc:language>
  <cp:lastModifiedBy>Miheeva</cp:lastModifiedBy>
  <dcterms:modified xsi:type="dcterms:W3CDTF">2011-08-30T09:51:00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1f0000000000010243100207f6000400038000</vt:lpwstr>
  </property>
</Properties>
</file>