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D74-A710-4429-B340-D481FE5D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E9D-D01E-4851-B3A4-E235CAFF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56F-9466-43A6-BA32-6EBFF206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CCC-2EE1-4DFE-B0D9-2FDADB41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497-465B-4F2F-A638-827118A9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248-A486-41E0-95D8-B4B01744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BD6-134C-4F1B-A577-6BDABE5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67B-E45B-4EBE-9A14-6427AFC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060-F12B-46C7-BD0B-70D7261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BD15-0DFF-444A-BE3C-AC1243F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0DB-C2A8-4C10-9EB4-CA69AAE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216-5D13-4FE4-B6AD-7E6D10C8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94D8-2DB0-4202-8C4D-71038EDDD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849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93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4292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Природа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7340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хеева В.Н.,                 МАОУ-Гимназия № 47,           г. Екатер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апф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у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ександ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508720" cy="54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63960" y="1413000"/>
            <a:ext cx="428004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рный хруста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6146640" cy="5516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31000" y="1341360"/>
            <a:ext cx="3213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зовый к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арск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д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ах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03640" y="0"/>
            <a:ext cx="59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льские горы – горы средней высоты (1000-1500м) Наивысшая точка – г. Народная, 189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692280"/>
            <a:ext cx="57610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ысоте Урал разделен                                           на 5 природных район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205000"/>
            <a:ext cx="363564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ный Урал – 500-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Пайер – 1472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321300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олярный Урал – 1500-16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 Народная – 1895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221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Телпозиз – 1617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5157720"/>
            <a:ext cx="40338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Урал – 500-7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Качканар – 87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6093000"/>
            <a:ext cx="3960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Урал – 1000-1500м.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сота – г.Ямантау – 1638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413000"/>
            <a:ext cx="0" cy="4608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413000"/>
            <a:ext cx="0" cy="360036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716000" y="1413000"/>
            <a:ext cx="1800" cy="26636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413000"/>
            <a:ext cx="0" cy="1800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413000"/>
            <a:ext cx="0" cy="79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3352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ш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дорок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ом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8744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ё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 в сирицитовом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агон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40320" y="1484280"/>
            <a:ext cx="4603680" cy="537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14836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м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34960"/>
            <a:ext cx="91440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280" y="0"/>
            <a:ext cx="619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259236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00360" y="3716280"/>
            <a:ext cx="201456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3716280"/>
            <a:ext cx="187164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7080" y="3716280"/>
            <a:ext cx="22669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ур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4724280"/>
            <a:ext cx="2087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избыто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724280"/>
            <a:ext cx="187164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4724280"/>
            <a:ext cx="2266920" cy="1441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достаточ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549360"/>
            <a:ext cx="59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Изменяется с севера на юг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ар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ренно-континентальный с избы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инентальный с недостаточным увлаж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565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Барьерная роль 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436572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36572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7280" y="3284640"/>
            <a:ext cx="65167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сотная поясность Ур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7138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тематические карты атласа  по населению региона (с.10-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писать в тетрадь информац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естественного прироста населения (Р,С и Еп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вой и возрастной состав населения. Демографическая нагрузка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грации, уровень жизни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нический и религиозный соста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овать общ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55736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0360" y="1557360"/>
            <a:ext cx="144000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907920"/>
            <a:ext cx="144360" cy="649440"/>
          </a:xfrm>
          <a:prstGeom prst="downArrow">
            <a:avLst>
              <a:gd name="adj1" fmla="val 50000"/>
              <a:gd name="adj2" fmla="val 11246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907920"/>
            <a:ext cx="144720" cy="649440"/>
          </a:xfrm>
          <a:prstGeom prst="downArrow">
            <a:avLst>
              <a:gd name="adj1" fmla="val 50000"/>
              <a:gd name="adj2" fmla="val 112189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101080" y="907920"/>
            <a:ext cx="142920" cy="649440"/>
          </a:xfrm>
          <a:prstGeom prst="downArrow">
            <a:avLst>
              <a:gd name="adj1" fmla="val 50000"/>
              <a:gd name="adj2" fmla="val 113602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5640" y="2492280"/>
            <a:ext cx="4608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ая равн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ерхнекамская возвыш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угульминско-Белебеевская возвы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щий Сы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551664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падно-Сибирская равн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ондинская низм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Ишимск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005360"/>
            <a:ext cx="374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ральские горы: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Урал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ий Ура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Урал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66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3640" y="189000"/>
            <a:ext cx="3708720" cy="703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льеф Уральского экономиче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1700280"/>
            <a:ext cx="115272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96360" y="1700280"/>
            <a:ext cx="136836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1700280"/>
            <a:ext cx="1439640" cy="863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90792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141720"/>
            <a:ext cx="158436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ладч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7640" y="3141720"/>
            <a:ext cx="1297080" cy="1079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а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би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58136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4581360"/>
            <a:ext cx="165600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егают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ма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етаморф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ских го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4581360"/>
            <a:ext cx="1547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коп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лег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х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108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7672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2565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42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42210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еральн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е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фть,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рф,каменный уг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ные (железные рулы, медно-никелевые, алюминиевые), но они истощ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Гидроэнергетические – Кама, Урал, Чусовая, Сосьва и другие (рек много, но большинство из них – это верховья р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ые ресурсы Пермской и Свердлов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енные ресурсы Бошкортостана, Оренбургской, Челябинской и Курганской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реационные ресурсы (минеральные воды, природа, археологические памятни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лм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умруд в слан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09:07:18Z</dcterms:created>
  <dc:creator>Miheeva</dc:creator>
  <dc:description/>
  <dc:language>en-US</dc:language>
  <cp:lastModifiedBy>Miheeva</cp:lastModifiedBy>
  <dcterms:modified xsi:type="dcterms:W3CDTF">2011-08-30T09:51:0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f0000000000010243100207f6000400038000</vt:lpwstr>
  </property>
</Properties>
</file>